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684844-F186-4A74-B896-225B02871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your goals?  Why are you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you do with the information you get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your goals/objectives for the training.  How will you implement or practice what is discussed her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me one of your goals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6A3-88B3-45D9-B6FA-BE5211E6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15B-6C66-4F19-B652-9A865B04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8DB-5DB3-4400-8868-4D3DCEC7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A46-23D5-45BE-A226-DEF70C9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4FA-CA60-4FC4-8AA3-6C5F098B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F09E-3751-4F02-ABC1-2AA8D343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FEBD-391E-4D19-B072-023294E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37B3-C241-417F-BA71-F848641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A676-3A45-4333-AC6D-E5D695B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552-6DE1-4B5E-B113-734E5BC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5508-4225-4003-84D4-8764DB1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7AD-4B4D-46B7-8D93-B4553801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30D8-B135-4E8F-A935-B5790DC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F132-5DA6-4DC1-BE02-788D45F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2886-B8A5-47DE-B2D3-4EC3002B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BBC1-DC26-4F19-AF62-1B71FF8F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C0CF-0975-4209-9DFD-E6EEEB88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D53-2850-411A-AC75-1FF281BE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A65-089E-410F-AB57-C9E90A07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0AA-CBE6-4123-9BB2-4000095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A6D-0C01-4623-A250-19398E56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8BC-6C36-4FDA-9CA3-4520120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5D7-B1FA-4001-B002-21AACDF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C85-8730-4F39-B790-85425C9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C56B-7C83-4F7B-936F-C5CFE17CCB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37EA-4E4A-431A-ADFF-9E2EEE6AD7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sconsin Department of Health &amp; Family Ser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ureau of Quality Assura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Investigation Ski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54100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aining provided by:  Office of Legal Couns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enda ~ Day 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role as a regul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HFS’s authority to regu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idence and Burden of Pro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a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investigative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igative skill: 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~ Day Tw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178840" cy="38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igative Skill:  Note-T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igative Skill:  Interview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~ Day Thre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788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and record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making - When is enough enoug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 and report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eals and hea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ining 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efine Dept. staff’s role as regulators and investig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nable Dept. investigative staff to identify and use the components of a thorough investigation, including:  planning, interviewing, observing, reviewing documents, collecting evidence, and documenting evid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dentify the varying levels of proof needed at different stages of a case and in legal 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s, cont’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3881520" cy="4171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09720" y="4191120"/>
            <a:ext cx="32259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turn each and every one of you into ACE investigator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r goal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29368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t’s get started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50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20:47:50Z</dcterms:created>
  <dc:creator>DHFS</dc:creator>
  <dc:description/>
  <dc:language>en-US</dc:language>
  <cp:lastModifiedBy>CMS</cp:lastModifiedBy>
  <dcterms:modified xsi:type="dcterms:W3CDTF">2006-03-23T00:35:07Z</dcterms:modified>
  <cp:revision>8</cp:revision>
  <dc:subject/>
  <dc:title>General Investigation Skills</dc:title>
</cp:coreProperties>
</file>