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3F8CC5-0652-4280-BCEE-DB1B293C5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255E43-21FD-47DE-A79C-5C79F78DA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C03406-EE84-43FC-BBE5-3E8F67699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16AB34-7893-4C6D-BEBB-1D8ABC69E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53408C-7B93-427F-9E92-3F91A3261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B4D147-240C-4F3D-8914-AFDE20B54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76E485-651D-442F-8CA5-A88082BC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1AF8EB-CA2E-4B31-8F54-1E7ACA0EA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3E580A-44B1-4AA5-A809-5CD1A7EDA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76EFF1-7DA0-4787-82C3-F8170FA5C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045519-058D-4353-A311-99E2CFF4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691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387B-A733-47B2-8B17-ED0E6ED2C33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5361480" y="63673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977480" y="6367320"/>
            <a:ext cx="24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CH QRP TTT Conference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age of the JAVA logo and CMS logo and the text Long Term Care Hospital Assessment Submission Entry and Reporting."/>
          <p:cNvPicPr/>
          <p:nvPr/>
        </p:nvPicPr>
        <p:blipFill>
          <a:blip r:embed="rId1"/>
          <a:stretch/>
        </p:blipFill>
        <p:spPr>
          <a:xfrm>
            <a:off x="1066680" y="781200"/>
            <a:ext cx="701064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LASER CARE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LASER CARE items, as published i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qtso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LongTermCareHospital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s are applied as questions are ans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Care Hospital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LA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data set by selecting the Help Icon, Help Menu, or F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User Guide is included with the installation of LASE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Charles  Padgett</cp:lastModifiedBy>
  <cp:lastPrinted>2012-04-28T19:42:18Z</cp:lastPrinted>
  <dcterms:modified xsi:type="dcterms:W3CDTF">2012-07-24T13:50:16Z</dcterms:modified>
  <cp:revision>770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</Properties>
</file>