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D47F5-96B2-4320-8DB8-79F3020E0F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0F71A-EB85-4D1B-BC5D-252654A8F6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EAFBE-036B-4F2C-86B6-D6D8277DF1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A04DC-642B-40EC-AD95-22121F81C0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53F94-B1B5-4B67-A7B4-AC5174E50C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C49F7-CF97-47CD-A810-31C54F952E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C70E1-4587-4B24-9AC2-A8556CBA0D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3D736-886C-41E4-83C0-F03132BE40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25B83-37F3-4547-8278-45ED7B9347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va resident assessment validation and entry system, inpatient rehabilitation validation and entry system, HH assessment validation and entry system, LTCH Assessment Submission Entry and Repor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64355-6967-4F67-BF6E-3456B6B467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85E4-E660-4258-B70D-D1BE6A9AB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7BE3-E3BA-4FF5-9300-78B2FA32B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3140-112A-4499-8609-148B92167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2261-7879-4646-866B-3DDFB936B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85A0-DD28-4C41-BC90-56062A63F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E8D4-226E-4804-9CD8-742E31F84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3FCD-343F-46E1-ACAF-BF7017B08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A1EA-9D5A-4599-BC4F-C285E11A0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FCA4-C837-4604-A209-9500CADDD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9C60-9CE8-4443-9781-57F162E1D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B388-1C63-4EEF-81CE-A1FC14610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4FCB-D67C-4DF3-9120-C78F2C3CA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FE543-D8A6-436E-A3F1-584388F20E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HHS Logo"/>
          <p:cNvPicPr/>
          <p:nvPr/>
        </p:nvPicPr>
        <p:blipFill>
          <a:blip r:embed="rId2"/>
          <a:stretch/>
        </p:blipFill>
        <p:spPr>
          <a:xfrm>
            <a:off x="0" y="0"/>
            <a:ext cx="762120" cy="914400"/>
          </a:xfrm>
          <a:prstGeom prst="rect">
            <a:avLst/>
          </a:prstGeom>
          <a:ln w="0">
            <a:noFill/>
          </a:ln>
        </p:spPr>
      </p:pic>
      <p:pic>
        <p:nvPicPr>
          <p:cNvPr id="6" name="Picture 9" descr="CMS Identity Mark"/>
          <p:cNvPicPr/>
          <p:nvPr/>
        </p:nvPicPr>
        <p:blipFill>
          <a:blip r:embed="rId3"/>
          <a:stretch/>
        </p:blipFill>
        <p:spPr>
          <a:xfrm>
            <a:off x="7467480" y="0"/>
            <a:ext cx="1676520" cy="61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vision of National Sys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2590560"/>
            <a:ext cx="64008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rationalizing Data Submission for ACA Section 30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cy Mandl, R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vision of National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sessment Data Uses and Us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pending on the provider type, this data is used for  purposes such as payment, fraud investigation, quality measurement, and  survey and certification purposes, care planning, public reporting, and researc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ables CMS to monitor and report on the  quality and effectiveness and services provided to beneficiar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DB193-65D3-4311-9E53-49550E1000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 U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8580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ables consumers to make educated choices about providers (e.g., Nursing Home Compare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ables quality improvement within provid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rs include providers, CMS CO, State and Regional Survey and Certification, OIG, Ombudsmen, researchers, and oth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85E7F-1186-4ED1-AEAC-414EDBCF5C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r Partn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85800" y="19807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serve as liaison between policy staff and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 Survey Agen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al Off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MS Stakeholders (e.g., Office of Clinical Standards and Quality, Survey &amp; Certification, Centers for Medicare, Office of Information Syste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rs/ Suppli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26594-AF48-40A1-9B55-751F167350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r Partn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6858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ality Improvements Organiz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scal Intermediaries/ Medicare Administrative Contrac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al Home Health Intermedi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rediting Organiz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nd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rporations and Researc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Federal Agen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26498-EC88-49B6-AB88-2D3B4F7A8A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vider Stakehold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QIES supports data for over  291,100 providers/supplier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Hospital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s, e.g. acute, LTCHs, IRFs, CAHs, etc.: 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6,179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Skilled Nursing Facility (SNF)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15,104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Nursing Facility (NF)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609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ICF/MR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6,43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Home Health Agency (HHA)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11,556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Hospice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3,522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Outpatient Physical Therapy (OPT)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2,513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Comprehensive Outpatient Rehabilitation Facility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(CORF)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339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X-Ray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564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0AFF4-4483-40A5-9523-9E3217B63B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858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d-Stage Renal Dialysis Facility (ESRD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,65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ral  Health Clinics (RHC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,8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mbulatory Surgical Centers (ASC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,3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gan Procurement Organization (OPO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munity Mental Health Centers (CMHC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4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ederally Qualified Health Centers (FQHC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,8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sychiatric Residential Treatment Facilities (PRTF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6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nical Laboratory Improvement Amendments (CLIA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23,6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4030E-C1CB-49A1-933F-6778C86E04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bmis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e will now hear more about the QIES data submissions process as it relates to your data submission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BE292-D7D4-43B1-B897-00CFE43A4E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27B14-BC91-4169-A625-57A006DCC4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Are W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 Division of National Systems is located within the Data and Systems Group (DSG)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DSG is located within the Center for Medicaid and CHIP (Children’s Health Insurance Program) Services (CMCS) at CM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o We D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5800" y="17524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CMS’ fulfillment of statutory quality assurance responsibilities under the Social Security A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major initiatives, such as Home Health Compare and Nursing Home Comp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, evaluate and implement data syste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operations related to the submission of the data collected for CMS using specified assessment tools,  e.g., the IRF-PA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88021-D3C4-43EC-B2F7-4CFA6CB099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o We Do?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85440" y="17524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d collect quality data on certified providers /suppliers, e.g. Home Health Agenc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Survey &amp; Certification efforts, e.g. Skilled Nursing Facilit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 data system operations for data that is used to improve the quality and effectiveness of services provided by Medicare/ Medicaid/ CL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E0D95-AE07-4CF5-BAD5-343F232C68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o We Do?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NS supports the submission of data files to CMS system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ality Improvement and Evaluation System (QIES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 of QIES is the Assessment Submission and Processing (ASAP) System which will be used to collect LTCH submiss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data is stored in the QIES National Databa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CF661-2E5F-4EE4-9F63-081D55A87E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IES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at Is QIES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ality Improvement and Evaluation System (QIES) serves as the focal point for resident and patient assessments, quality indicators, survey and certification, complaint, and enforcement information concerning providers and suppli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QIES we maintain and collect quality data on certified providers/suppli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5FCFA-14F4-4546-AE62-160D4DF5A1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854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IES permits information to be shared quickly and conveniently between federal and state govern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IES users total over 100,0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ains data on 17 different types of providers/ suppliers totaling over 291,100 active facilities (as of 2/2011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4A148-790E-4F8D-95B2-9E4E9E5DF3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9A1E9-4A5B-497D-A4F1-C5671BA7A6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IES: The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IES already provides data submission for all Certified Inpatient Rehabilitation Facilities, Home Health Agencies, Skilled Nursing Facilities/ Nursing Facilities,  and Swing Bed uni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ginning October 1, 2012, QIES will also provide for data submission for all certified LTCHs as we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 Assessment To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85440" y="1981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essment Data instruments currently submitted by specific provider types a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atient Rehabilitation Facility Patient Assessment Instrument, IRF-P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imum Data Set,  MDS 3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come and Assessment Information Set, OASIS-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est: LTCH CARE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 free software for all of these sett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RAVEN, IRVEN, HAVEN, LA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DCCC2-498D-4F33-8017-7BBE93F1B8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4T19:04:58Z</dcterms:created>
  <dc:creator>CMS</dc:creator>
  <dc:description/>
  <dc:language>en-US</dc:language>
  <cp:lastModifiedBy>Jennifer Parrish</cp:lastModifiedBy>
  <cp:lastPrinted>2012-04-28T11:44:49Z</cp:lastPrinted>
  <dcterms:modified xsi:type="dcterms:W3CDTF">2012-05-21T14:31:36Z</dcterms:modified>
  <cp:revision>15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953846888</vt:r8>
  </property>
  <property fmtid="{D5CDD505-2E9C-101B-9397-08002B2CF9AE}" pid="3" name="_AuthorEmail">
    <vt:lpwstr>Caroline.Gallaher@cms.hhs.gov</vt:lpwstr>
  </property>
  <property fmtid="{D5CDD505-2E9C-101B-9397-08002B2CF9AE}" pid="4" name="_AuthorEmailDisplayName">
    <vt:lpwstr>Gallaher, Caroline D. (CMS/OCSQ)</vt:lpwstr>
  </property>
  <property fmtid="{D5CDD505-2E9C-101B-9397-08002B2CF9AE}" pid="5" name="_EmailSubject">
    <vt:lpwstr>Here are the Powerpoint slides and presentation handouts that I mentioned to you yesterday that ii will also need to have posted on the IRF QRP webpage</vt:lpwstr>
  </property>
  <property fmtid="{D5CDD505-2E9C-101B-9397-08002B2CF9AE}" pid="6" name="_NewReviewCycle">
    <vt:lpwstr/>
  </property>
</Properties>
</file>