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EDE-D575-4EE2-94EC-F6E632B64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3C0-D03C-4C47-82E8-0C98F6F67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39169-1493-458E-AB1D-F766D177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E0693-7B2C-47B5-9DF4-5EB6559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2B0F7-5F00-4E40-8622-F7C6EF4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1392BE-096F-4B2A-B169-5E3F1C1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274608-970D-4645-8A19-A3DAAAA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E1F8A4-D950-4B96-924A-1F54169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62121-6B9E-44C6-968B-22A08F9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7F531-0849-4C0A-B26E-7AB803CD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E5D25-C552-4F1D-BEBF-C8962669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33CC6-0104-4CC1-AE4E-C938ACB5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E8F13-CF65-4845-ADA5-23EBF9FE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353C74-E3DC-4B95-83B3-9E724E6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7DD391-CA75-4319-B150-CD6D454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090DC-1B3A-42B0-99BC-0A6BE85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A7D62A-3F83-4894-AF45-3C3F79D8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5E7014-4472-4E31-BC11-8990F568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5E39D-8BF1-49EA-87D9-2221F7F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C836DF-F5D6-4A3F-AC49-67A049E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01F29B-0521-485C-959D-90CC1A4B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200E7C-4126-4ECE-8BB1-70207819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C9348B-C61F-48D1-A122-FD8A767F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55150F-6D04-4AA6-8FA5-E4907290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130EE-F2FF-42EB-86F4-F69F00F9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32275B-AC5B-4F35-95B4-4D10270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D1948F-7F1F-4B24-9FB0-A8A4AFBA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E747D3-C4AC-4BD1-BD65-23D76B4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478C14-22B7-4C3D-9487-B3756177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8D6546-107E-469D-85F0-A4FFA44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2AD0DE-3AD2-403E-AA1C-0CD0E8B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3AD215-3DEA-407F-8E4C-95B9A7B6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3297-F0CD-4830-8BAF-1724A3F0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64755-3466-45A8-A7A6-7D451D78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38F41-2D19-4AAB-88B2-18D1DCB7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9080F1-05E3-439C-B738-046AD35F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ED5B11-321D-4A87-B70E-BAFF751F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EA3AEE-BB8B-46CF-AD8C-1082B5D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337DA8-A254-4A7D-A177-6AC5F91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1CD4F7-320D-4A8A-9A99-D968E228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AC2CB9-164E-47A1-86E9-67DA948E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C8E380-8D30-4AA9-BF99-01D58B09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CA804D-27CC-435F-90CE-86FB157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2520F-3270-4923-9E3D-030E00F2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C008A6-74E8-44F4-A995-7132371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61EC25-BD3E-412F-B851-C670F19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0B61C2-1895-4104-92C4-40351B20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B105FD-9BA5-4EBE-BEBA-62EEF35A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5A0515-B4B5-4D02-BD14-E58068B6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7989-FCF2-4563-83F9-1199344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F0319-0A9A-4007-BEB7-9DDD7E07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62811-0657-415A-BF55-4F66422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2575-EA7D-46CF-9744-7638FFCF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D7AB7-1AEE-43E5-9295-E579A2EE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E090D-E544-4B5E-8465-32F869C0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7809F-49C1-4497-BEEE-32D1AED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F0F4-5988-4903-9BCB-C3492C4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FB8B-74AE-44BD-B0ED-DC37F30B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AA593-0592-4BB1-8745-94E9BF8F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97403-9DD7-44A3-BA25-A652EEE3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B1319-AEB3-40B5-842F-5F682A8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8099D-87DC-45DE-87D2-D58BA7AB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7D5EE-86EF-4E6B-AA53-636B1CCA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8403A-CD64-4604-88D0-62E94249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9E64E-BB74-4F7B-9758-3F432EE6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A8DD2-ED22-4FC5-9A68-85AE4D1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E868E-9508-4AC1-AC8F-D4816E2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8DD61-55E0-4679-8544-7955EEC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67781-16E4-455E-A17B-94D37F0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9B4F8-A548-4695-BE80-4C2C4A74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25815-E08C-4805-B547-444DA504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C5595-B936-4D5F-B762-60D5AA0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C4DF9-13A1-4AD8-991C-ACAFCABC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213E0-07C3-4E7E-8FF7-DED4D6F8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6598C-9A64-490C-AD77-35F1F58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83978-103B-4423-B4C6-F9C6DA2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B6939-B6E4-4B70-9C6F-582C427C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02854-EAB5-4CF5-991E-8C9FCC4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FCB1B-4325-4BEA-A202-9BF2D2D9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3A046-4405-4A9B-BB5B-4BD86E3F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4BA69-F433-4C2E-85AB-AD6E461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4F4E9-81F6-46DE-AFDC-DC1AEB28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CFCF6-E81A-4CB0-B428-56ECEB4B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758D0-1569-4BD1-B0F8-83217CF7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4AA12-C82F-40AC-A484-D71E6FD0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21A5C-440B-42AA-90AF-D7440705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7B5EF-44D8-4D7B-9582-7635578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568B8-429E-4E11-A9AE-A8C83A2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02CDE-2349-4D34-9F5B-E03F398B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7ADE4-4444-45A3-9A5C-EB8A5AE4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CD017-360D-4082-A4F3-548BE57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15B07-9C32-456A-8B0A-17400BD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C7EB5-D6A8-4605-AA91-DF41387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D4C05-18D2-4F3F-A68D-59C882EB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D2D38-6D7D-4A22-9EE8-B044B2F0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AEE7C-8A9C-4A5F-B17C-189B0508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2ED22-C741-4B83-B5EB-427BE637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2E41D-55F7-4DB3-AD77-B8E4147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2D4A5-FD92-448B-B283-CD3D55F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FB509-01DB-480F-84DA-1C46544B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7F227-71B3-4830-B446-E2910D6C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8CD3D-64C6-4F50-BE49-088DD2A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46EBF-7BD1-4BBF-BACC-3FFEA94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36D6A-116F-49C3-A9BB-E1AFEF4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7983A-6DF6-4E5F-B6F7-EFA10635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4090A-A766-4F88-BE14-E7097C24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A21B8-728D-42D5-B7DC-F1FE3FD4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E16EA-C78B-4A5D-92E4-F0C56C68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B1A08-4BE6-48FA-9C2A-43D80CDA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2EC15-89A9-4148-8B6A-FBD836A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DE78A-024A-4497-987C-35CE5B6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6BD5C-5A26-4C8F-B2D5-E4E45BB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7537B-B5A8-4F8F-B0A9-F8D3F313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4AE35-BB20-41C0-979B-55D888B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85C33-F5D8-4790-8F78-066A6CC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5162D-79F3-49CF-A605-F8171CC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CB31C-DE21-40DF-AFED-16119F9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EE415-A024-4C76-8FF2-59279B8C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4D8CF-FF3F-4534-817A-13B40196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F867D-0631-43F7-A8AB-76B947E2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B7454F-96F4-400C-BBA6-9B11ADB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18720-892D-4C8C-993B-2AEA10BB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19430-0634-4749-B15C-DF24CAEC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5BD8A-5494-4233-A01C-3B9D3A77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2C0A9-59E2-4F2D-80A7-7FF78FCE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71EFA-904E-4D01-BFE7-F4C22D2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F78A1-0546-4FF6-993F-76E0390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399C1-71E1-4278-9DF9-5D242191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568DA-56D7-46CA-9062-FB54197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C3A4C-20E0-400C-9E2F-9D4FEC30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56E45-4B42-4646-BB75-71728141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9A4A5-559C-43CF-B83D-271E68F6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1612E-F93F-48CD-A57C-949CC47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4D7013-690C-4B82-B9B6-CEEA6EE3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12 MDS Natio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CF78-FFBB-4756-AFB4-EFA5C2A48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76A-6F4D-4968-A949-37841F43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2DA7-CCFA-42DF-87D3-9E002412C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E535-395F-4B0D-9771-084C102F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40E1-2971-4CA0-B608-44B6DE31C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38A9-10D9-400A-ACDD-F46064C05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D7A0-E9DF-40B3-9AD6-8E1E574966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781-43F4-45AE-A914-14CF517647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3D5-7B82-4511-918C-E62D8E3F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C4C9-CBC4-49AB-91AE-E19C0F235B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AD9-3A25-4163-85A9-C31FF724B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639-81DD-4386-B127-440D661067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2497-1FE4-474C-914E-3D6D9E8E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CB5D-706C-4F11-8F7A-A5FE43F90F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DAB-AEE1-4E6D-8533-A14B33F6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257-CE23-4749-AA7D-CC1D06790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5CF6-D1A5-44B7-A4A2-53C028E30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5B7F-DEA9-43B2-9397-C87DB1802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6BA6-01D9-4604-8FF8-899C6AE1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8F8B-555D-4FE1-A6DD-08AE8F4E30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A4D-BFD2-4109-928F-6B33D3347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C079-0C7E-4B11-8780-8EE1AB708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cms.gov/nursinghomequalityinits/30_nhqimds30technicalinformation.asp" TargetMode="External"/><Relationship Id="rId2" Type="http://schemas.openxmlformats.org/officeDocument/2006/relationships/hyperlink" Target="https://www.qtso.com/mds30.html" TargetMode="Externa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s://www.qtso.com/mds30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MDS 3.0 Errors and Reports – Don’t Let Them Trip You Up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Date/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r User ID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Fil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ode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ID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ompletion Date/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in Submiss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valid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Processed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Accep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Production Records Rejected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Duplicate Records: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Without Facility Authority: (user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But Not Allowed   (subre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Messages for Production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Submission &amp; Facility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2 14:0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mplet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1215:1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File Status:                     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 User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EST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Processing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in Submission Fi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valid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Proces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Accep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Rejec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Duplicate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Facility Author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low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f Messag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processing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(last,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_In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050 (type of transaction) – changed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200 (type of provider co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Subset Code (I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A (OB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B (PPS R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C (PPS OM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D (SB clinical 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E (first assessm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F (entry/discharg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G (type of discharge) – new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100E (attestation date) Data Spec Version 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: 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Recor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mt_ID:  31714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Name:  TEST1, MDSname1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_Int_ID:  1576613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SSN:  899741056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200:      1   A0310A: 99    Target Date:  04/14/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B: 01   A0310C:    0    Production/Test Indicator:  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D:   ^   A0310E:    1    Attestation Date (X1100E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F: 99   A0310G:    ^    Type of Transaction (A0050):  NEW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em Subset Code:  NP         Data Specs Version #:  1.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 File Name:                     IN_FAC11940000_RES09434_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20729_A00_NP199990_01.xm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Detai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5"/>
          <p:cNvSpPr/>
          <p:nvPr/>
        </p:nvSpPr>
        <p:spPr>
          <a:xfrm>
            <a:off x="4724280" y="1752480"/>
            <a:ext cx="685800" cy="8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9999"/>
          </a:solidFill>
          <a:ln w="381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6"/>
          <p:cNvSpPr/>
          <p:nvPr/>
        </p:nvSpPr>
        <p:spPr>
          <a:xfrm>
            <a:off x="6629400" y="2209680"/>
            <a:ext cx="304920" cy="619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19200"/>
              <a:gd name="textAreaBottom" fmla="*/ 611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3"/>
                  <a:pt x="10800" y="886"/>
                </a:cubicBezTo>
                <a:lnTo>
                  <a:pt x="10800" y="9914"/>
                </a:lnTo>
                <a:cubicBezTo>
                  <a:pt x="10800" y="10357"/>
                  <a:pt x="16200" y="10800"/>
                  <a:pt x="21600" y="10800"/>
                </a:cubicBezTo>
                <a:cubicBezTo>
                  <a:pt x="16200" y="10800"/>
                  <a:pt x="10800" y="11243"/>
                  <a:pt x="10800" y="11686"/>
                </a:cubicBezTo>
                <a:lnTo>
                  <a:pt x="10800" y="20714"/>
                </a:lnTo>
                <a:cubicBezTo>
                  <a:pt x="10800" y="211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4920" y="2971800"/>
            <a:ext cx="8534160" cy="243828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8"/>
          <p:cNvCxnSpPr/>
          <p:nvPr/>
        </p:nvCxnSpPr>
        <p:spPr>
          <a:xfrm>
            <a:off x="4343040" y="5410080"/>
            <a:ext cx="1080" cy="35496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items to which the error message per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the submitted values of the items listed in the MDS 3.0 Item(s)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unique message number and type of message (fatal/warning)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ext of th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, A0050, Z050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21/2011, 1, 01/2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    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ubmitted Late: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 is more than 14 days after Z0500B on this new (A0050 equals 1)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0100A, RECALCULATED_Z010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160, BA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a       WARNING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HIPPS/RUG Value: 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Various Destinat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record is edited for potential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  -  “Really B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not accepted into ASAP system, i.e. rej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correct record and submit ‘new’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 -  “Issue” to  “Information Al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accepted into ASAP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determine if need to address/fix some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he Itinera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Statu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P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unctionality Iss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software should be ensuring that the data entered is compliant with the Dat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llowing submission of a record, the software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active items ar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the data is compliant with all 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errors/messages to the user for missing items and failed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low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Warn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and Sequenc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7 Duplicat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record is a duplicate of a previously submitted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0 Missing I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Item Subset Code (ISC) submitted in this record, this item is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76 Invalid Valu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this item is not an accepta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573a Inconsistent 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ate listed must be prior to or the same as the second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93a Invalid FAC_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_ID submitted in this file does not identify a valid provider in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93b Unauthorized Submit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r's User ID is not authorized to submit data on behalf of the provider identified by the FAC ID in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58 No Authority to Collec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rights require federal and/or state authority to collect MDS data.  There is no authority to collect the data submitted.  Data was not accep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4 Invalid XML File Form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mitted file is not structured properly or contains tags longer than 30 characters and cannot be proces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68b Inconsistent O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2300 minus A1600 is less than or equal to 13 days, then items O0100A1 through O0100Z1 in Column 1 must equal 0, 1, or dash (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783 Inconsistent X0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modification value submitted in X0800 is not incremented by one (1) from the previously submitted modification value for this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Work Flow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Record (-1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does not know which files were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ing validation report(s)/activity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in original rather than a modificatio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submitter (corporate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)      (-3693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hority to collect (sub-req) (-36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User/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value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nderstood the question/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tr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ignored/overrode the issued softwar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answer (code) required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idn’t issue error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User/Software Fatal Error Exampl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es (dat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573a, -3573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Ski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04b, -3612a, -3528c, -3779a, -3809, -377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668b, -3752, -3608, -3752, -3559b, -3557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691, -3676,  -36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zipping the submiss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record format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ing required contro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curate calculation of Item Subse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ormatting of date or ICD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lanning the Journe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inal Validation Report (FF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ection 5 of the Provider User’s Guide h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intimi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MDS 3.0 reports,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 Exam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file not zipped (-1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not in correct XML format (-1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ed all required control items (-1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_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_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 code does not match A0310 values (-37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Format (dates, ICD codes, text values, numbers) (-3677, -3591, -3570, -3688,-37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0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6 Inconsistent A0100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A0100C (State Provider Number) does not match the State Provider Number in the QIES ASAP System for the provider identified by the FAC_ID in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1 Resident Information Upd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dentifying data submitted in this item is not the same as the data previously submitted for this resident.  Verify that the new informa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32 Resident Provider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cords indicated that a different provider previously cared for this resident.  The provider associated with this resident was updated.  Please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 Medicare FY2011 RUG IV Transition RUG Calcul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dicare FY2011 Transition RUG IV was calculated for this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b Incorrect RUG Logic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tted value of the RUG version code does not match the value calculated by the QIES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8 Missing/Invali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d Section S item is either missing or contains invalid data. Number fields must be un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16a Incorrect HIPPS/RUG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Record Submit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ssion date is more than 14 days after Z0500B on this new (X0100 equals 1)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18 Inconsistent Record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MS sequencing guidelines, the type of assessment in this record does not logically follow the type of assessment in the record received prior to this 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49a Assessment Comple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500B (assessment completion date) is more than 14 days after A2300 (assessment reference 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iming and Sequencing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ssessment (-3759a-e, -3810a-e, -10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bmitted and accepted within 14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Record Sequence (-1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 an entry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discharge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required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ident and not an entry record (-10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Information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resident information (-10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o make sure new resident information is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code doesn’t match (-361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the ASAP recalculat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version doesn’t match (-361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oftware using different RUGS (logic) version of the RUGS than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iscal Year RUG code calculated  (-105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unication Erro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A0100C  (-380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Provi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ubmitted a blank in th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did not enter number in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and facility have a different number of leading zeros on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numbers do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tate - 4963, facility – 000496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from the database is displayed in the error message (Current Value).  If facility thinks the number is wrong, then they should contact their state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Supplemental Excurs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r Vali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dmission/Re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ssessments with Error Number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Detail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Number Summary by Facility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Beginning the Journey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s by Field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Missing OBRA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NH Assessment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FA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Submission Statistics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Vend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tter Validation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need to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ould be on FFV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when FFVR for the submission lists fewer records than were submitted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read missing record.  (-1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identify facility of recor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un by submitter of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ctivity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265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dmission/Reent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5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3088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Assessments with Error Number XXXX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s the assessments submitted with a specified error for a facility during a specified time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ssessments with certain fatal errors that were submitted that need to be corrected and resubmit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determine which assessments were not completed under CMS timing rules (i.e., OBRA quarterly and yearly ru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 pattern with coding or an area in need of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software-related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Dischar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residents discharged (A0310F = 10, 11, or 12) from a facility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discharged resident appears on the MDS 3.0 Roster report, use this report to determine if discharge was accepte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rive a list of all residents discharged since the last survey or other ti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nthly or mor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 Detail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433440" y="1163520"/>
            <a:ext cx="843588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Error Number Summary by Facility by Vendo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errors encountered on assessments submitted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vendor specif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s by Field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errors encountered in the fields of successful submissions made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training needs within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identify potential softwa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MDS 3.0 Missing OBRA Assessment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the residents in select facilities for whom the target date of the most recent OBRA assessment (other than a discharge or death record) is more than 138 days prior to the report run 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also includes residents for whom no OBRA record was submitted for a current episode that began more than 60 days prior to the report ru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assessment have been successfully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ssion Statu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all files submitted by the user logged into the submission statu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ontent Placeholder 8" descr="Image of List of My Submissions page.  The columns titled Total Record Count and Status are highlighted.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NH Assessment Prin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assessment items submitted on the assessment with the selected Assessment 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problem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FA Statistic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for a facility the reasons for assessment for accepted assessments submitted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monitor /evaluate workload during an ident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ost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residents of a facility for whom the latest accepted, federally required assessment is not a Discharge assessment. (A0310F = 10, 11, o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 list of all current residents at time of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current residents have an entry record and all discharge residents have a discharge recor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Submission Statistics by Facilit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submissions made by or on behalf of a facility during a specified time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rmine workload during a spec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Vendor Li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current vendors for selec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ctive vendors within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Home Stretch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ata Submission Specifications on the CMS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www.cms.gov/nursinghomequalityinits/30_nhqimds30technicalinformation.as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Set (MDS) 3.0 Provider User’s Guide on the QTSO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5 contains the error and warning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ER Reporting User’s Guide for MDS Providers at       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 contains MDS 3.0 NH provider reports (section 8 is swing bed provider re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 contains the MDS 3.0 NH final validation report (section 9 is swing bed final validation repor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 contains MDS 3.0 submitter validation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Zero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FILE - Fatal F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annot b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in ZIP file can b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not per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One or More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  (FF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into CASPER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ewed by anyone with a submitter user ID for that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ach record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or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inal Validation Report Loc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CASPER, go to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LTC fac_id V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tains facility validation r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mmddyyyyhhmmss.submiss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ddyyyy is the submiss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mmss is the submission time (24 hour time: hour, minutes,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is the submission ID of the submiss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01132012142046.26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01/13/2012 at 14:20:46 (2:20 pm), ID = 262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FVR Repor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Messag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6:59Z</dcterms:created>
  <dc:creator>Mary Sowers</dc:creator>
  <dc:description/>
  <dc:language>en-US</dc:language>
  <cp:lastModifiedBy>Jennifer Parrish</cp:lastModifiedBy>
  <cp:lastPrinted>2012-02-16T20:10:47Z</cp:lastPrinted>
  <dcterms:modified xsi:type="dcterms:W3CDTF">2012-03-19T02:55:14Z</dcterms:modified>
  <cp:revision>55</cp:revision>
  <dc:subject/>
  <dc:title>Functions in Support of Self-Di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7827630</vt:r8>
  </property>
  <property fmtid="{D5CDD505-2E9C-101B-9397-08002B2CF9AE}" pid="3" name="_AuthorEmail">
    <vt:lpwstr>Renee.Henry@cms.hhs.gov</vt:lpwstr>
  </property>
  <property fmtid="{D5CDD505-2E9C-101B-9397-08002B2CF9AE}" pid="4" name="_AuthorEmailDisplayName">
    <vt:lpwstr>Henry, Renee G (CMS/OCSQ)</vt:lpwstr>
  </property>
  <property fmtid="{D5CDD505-2E9C-101B-9397-08002B2CF9AE}" pid="5" name="_EmailSubject">
    <vt:lpwstr>Update for the training page</vt:lpwstr>
  </property>
  <property fmtid="{D5CDD505-2E9C-101B-9397-08002B2CF9AE}" pid="6" name="_NewReviewCycle">
    <vt:lpwstr/>
  </property>
</Properties>
</file>