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8CF87-BB4E-440B-AD9E-9F94E54A8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5715B-BA13-4139-89FA-A4F1DED4A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5ED9C-B7FD-435C-81BD-40511CDD5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92D6C-EA29-4A51-9D05-8B4FFFAB3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82772-A9EC-4AB9-924B-4EEFB3D4A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1F27C-CA95-464B-B5B6-D07EBBB13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D3875-91BF-4BC4-801C-23D6105A6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4855A-DA3B-4BAD-93A2-1ED9E73A0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091CA-8979-4352-AAC2-C4C795142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D90D8-0EB8-4E6B-A1CA-CFE919BD2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70040-0ABA-4149-8E3E-80F94EB71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F41AA-3AF9-4778-9701-72389E373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CF82D-D113-4D5F-906D-2B3906657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2C245-D3C7-4559-8BA9-BB058F645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655C9-E30A-4CE3-909C-F83EA9C9D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A5583-2293-4C82-AEE4-B96A5672F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CE85A-62A6-495C-8410-90768A4D0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BB7FE-C3DB-4377-8307-81304A0A0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4CB38-E387-44BC-B54C-82A106B3F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D5C48-34A1-4961-9B07-ED5859939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079AD-9203-4927-9919-5816B9878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16A6-8AA3-41F0-B07B-934186FE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DDECB-4B0F-49FA-8C39-B8E9303BD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6C1D-1C71-4823-9A36-B74C4F036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9881-BB6B-4F16-AD02-82442994F3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246F-B6CE-490A-A0F6-6E8E77342B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Medicare Part D NPRM: Employer Forum</a:t>
            </a:r>
            <a:endParaRPr b="0" lang="en-US" sz="3600" spc="-1" strike="noStrike">
              <a:solidFill>
                <a:srgbClr val="660066"/>
              </a:solidFill>
              <a:latin typeface="Tahoma"/>
            </a:endParaRPr>
          </a:p>
        </p:txBody>
      </p:sp>
      <p:sp>
        <p:nvSpPr>
          <p:cNvPr id="209" name="PlaceHolder 2"/>
          <p:cNvSpPr>
            <a:spLocks noGrp="1"/>
          </p:cNvSpPr>
          <p:nvPr>
            <p:ph type="subTitle"/>
          </p:nvPr>
        </p:nvSpPr>
        <p:spPr>
          <a:xfrm>
            <a:off x="990720" y="3047760"/>
            <a:ext cx="6400800" cy="3429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vember 9, 2006</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y is CMS publishing this rule?</a:t>
            </a:r>
            <a:br>
              <a:rPr sz="4000"/>
            </a:br>
            <a:endParaRPr b="0" lang="en-US" sz="40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MS published the NPRM to request comments on our proposed use of Part D claims data for research, analysis, reporting, and public health functions.</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MS believes that research using the Part D claims data would allow studies that will:</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valuate rates of Medicare spending and spending growth,</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sess the impact of drugs and procedures on health outcomes, and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dentify the extent to which practice parallels evidence based standards.</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64831572-A5E3-4CDD-933F-3C2D7F30E0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does the NPRM cover?</a:t>
            </a:r>
            <a:endParaRPr b="0" lang="en-US" sz="3600" spc="-1" strike="noStrike">
              <a:solidFill>
                <a:srgbClr val="660066"/>
              </a:solidFill>
              <a:latin typeface="Tahoma"/>
            </a:endParaRPr>
          </a:p>
        </p:txBody>
      </p:sp>
      <p:sp>
        <p:nvSpPr>
          <p:cNvPr id="2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S published the NPRM on Oct 18, 2006 with a 60 day comment perio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ments are due by Dec 18, 2006.</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NPRM covers Part D claims data and its use by HHS agencies and external researchers.  </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9C8853C1-E07F-4222-BE41-75834F3EE4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Who can use Part D claims data under the NPRM?</a:t>
            </a:r>
            <a:endParaRPr b="0" lang="en-US" sz="40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Franklin Gothic Book"/>
              </a:rPr>
              <a:t>HHS Agencies including CMS, NIH, FDA, AHRQ </a:t>
            </a:r>
            <a:endParaRPr b="0" lang="en-US" sz="2800" spc="-1" strike="noStrike">
              <a:solidFill>
                <a:srgbClr val="40458c"/>
              </a:solidFill>
              <a:latin typeface="Tahoma"/>
            </a:endParaRPr>
          </a:p>
          <a:p>
            <a:pPr marL="329040" indent="-3290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Franklin Gothic Book"/>
              </a:rPr>
              <a:t>FDA wants to conduct post-market surveillance studies</a:t>
            </a:r>
            <a:endParaRPr b="0" lang="en-US" sz="2800" spc="-1" strike="noStrike">
              <a:solidFill>
                <a:srgbClr val="40458c"/>
              </a:solidFill>
              <a:latin typeface="Tahoma"/>
            </a:endParaRPr>
          </a:p>
          <a:p>
            <a:pPr marL="329040" indent="-32904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Franklin Gothic Book"/>
              </a:rPr>
              <a:t>NIH wants to study a number of health conditions.  (Elderly and disabled often aren’t included in clinical trials.)</a:t>
            </a:r>
            <a:endParaRPr b="0" lang="en-US" sz="2800" spc="-1" strike="noStrike">
              <a:solidFill>
                <a:srgbClr val="40458c"/>
              </a:solidFill>
              <a:latin typeface="Tahoma"/>
            </a:endParaRPr>
          </a:p>
          <a:p>
            <a:pPr marL="329040" indent="-32904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Franklin Gothic Book"/>
              </a:rPr>
              <a:t>AHRQ wants to study effectiveness.</a:t>
            </a:r>
            <a:endParaRPr b="0" lang="en-US" sz="2800" spc="-1" strike="noStrike">
              <a:solidFill>
                <a:srgbClr val="40458c"/>
              </a:solidFill>
              <a:latin typeface="Tahoma"/>
            </a:endParaRPr>
          </a:p>
          <a:p>
            <a:pPr marL="329040" indent="-32904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Franklin Gothic Book"/>
              </a:rPr>
              <a:t>External researchers such as those based in universities</a:t>
            </a:r>
            <a:endParaRPr b="0" lang="en-US" sz="2800" spc="-1" strike="noStrike">
              <a:solidFill>
                <a:srgbClr val="40458c"/>
              </a:solidFill>
              <a:latin typeface="Tahoma"/>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A4CC77AA-5FEE-43D3-9F92-C3E3570A83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How is Part D claims data treated?</a:t>
            </a:r>
            <a:r>
              <a:rPr b="1" lang="en-US" sz="3600" spc="-1" strike="noStrike">
                <a:solidFill>
                  <a:srgbClr val="660066"/>
                </a:solidFill>
                <a:latin typeface="Tahoma"/>
              </a:rPr>
              <a:t> </a:t>
            </a:r>
            <a:endParaRPr b="0" lang="en-US" sz="36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lnSpc>
                <a:spcPct val="80000"/>
              </a:lnSpc>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2800" spc="-1" strike="noStrike">
                <a:solidFill>
                  <a:srgbClr val="40458c"/>
                </a:solidFill>
                <a:latin typeface="Tahoma"/>
              </a:rPr>
              <a:t>The NPRM proposes that Part D data be treated the same way as Medicare Parts A and B data (hospital and physician claims).  </a:t>
            </a:r>
            <a:endParaRPr b="0" lang="en-US" sz="2800" spc="-1" strike="noStrike">
              <a:solidFill>
                <a:srgbClr val="40458c"/>
              </a:solidFill>
              <a:latin typeface="Tahoma"/>
            </a:endParaRPr>
          </a:p>
          <a:p>
            <a:pPr marL="343080" indent="-3430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neficiary specific information would continue to be protected under the Privacy Act.</a:t>
            </a:r>
            <a:endParaRPr b="0" lang="en-US" sz="2800" spc="-1" strike="noStrike">
              <a:solidFill>
                <a:srgbClr val="40458c"/>
              </a:solidFill>
              <a:latin typeface="Tahoma"/>
            </a:endParaRPr>
          </a:p>
          <a:p>
            <a:pPr marL="343080" indent="-343080">
              <a:lnSpc>
                <a:spcPct val="8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 are seeking comment on what, if any, additional protections we should adopt to safeguard sensitive data.</a:t>
            </a:r>
            <a:endParaRPr b="0" lang="en-US" sz="28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173525C-AF66-421F-AB3A-F1BD61A88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How is beneficiary identifiable data protected?</a:t>
            </a:r>
            <a:endParaRPr b="0" lang="en-US" sz="40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ust as with the release of beneficiary identifiable data under Parts A and B now, CMS proposes to  release Part D data only when:</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timate research project pursued by a qualified investigator at a reputable organization.</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nimum data necessary for the project is released.</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ata must be returned to CMS or destroyed at completion of project.</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vestigator signs a Data Use Agreement with CMS which includes notice that Privacy Act violations are subject to criminal penalties and fine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MS monitors compliance with data use agreement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commercial products or proprietary use.</a:t>
            </a:r>
            <a:endParaRPr b="0" lang="en-US" sz="2000" spc="-1" strike="noStrike">
              <a:solidFill>
                <a:srgbClr val="40458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1C5131C9-16AB-4C32-9889-47BC68EC02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Tahoma"/>
              </a:rPr>
              <a:t>Why should employers care?</a:t>
            </a:r>
            <a:endParaRPr b="0" lang="en-US" sz="4200" spc="-1" strike="noStrike">
              <a:solidFill>
                <a:srgbClr val="660066"/>
              </a:solidFill>
              <a:latin typeface="Tahoma"/>
            </a:endParaRPr>
          </a:p>
        </p:txBody>
      </p:sp>
      <p:sp>
        <p:nvSpPr>
          <p:cNvPr id="2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In 2006, we estimate that Medicare will account for more than 27% of the nation’s drug spending.  Private health insurance covers an additional 40% of the nation’s drug spending.</a:t>
            </a:r>
            <a:endParaRPr b="0" lang="en-US" sz="1800" spc="-1" strike="noStrike">
              <a:solidFill>
                <a:srgbClr val="40458c"/>
              </a:solidFill>
              <a:latin typeface="Tahoma"/>
            </a:endParaRPr>
          </a:p>
          <a:p>
            <a:pPr marL="343080" indent="-343080">
              <a:lnSpc>
                <a:spcPct val="80000"/>
              </a:lnSpc>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CMS will have Medicare drug claims for more than 22 million beneficiaries that will be available for research purposes.  </a:t>
            </a:r>
            <a:endParaRPr b="0" lang="en-US" sz="1800" spc="-1" strike="noStrike">
              <a:solidFill>
                <a:srgbClr val="40458c"/>
              </a:solidFill>
              <a:latin typeface="Tahoma"/>
            </a:endParaRPr>
          </a:p>
          <a:p>
            <a:pPr marL="343080" indent="-343080">
              <a:lnSpc>
                <a:spcPct val="80000"/>
              </a:lnSpc>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The Medicare retiree drug subsidy will cover an additional nearly 7 million beneficiaries, though claim-specific drug data is not collected through the RDS program and thus will not be available from CMS for research.</a:t>
            </a:r>
            <a:endParaRPr b="0" lang="en-US" sz="1800" spc="-1" strike="noStrike">
              <a:solidFill>
                <a:srgbClr val="40458c"/>
              </a:solidFill>
              <a:latin typeface="Tahoma"/>
            </a:endParaRPr>
          </a:p>
          <a:p>
            <a:pPr marL="343080" indent="-343080">
              <a:lnSpc>
                <a:spcPct val="80000"/>
              </a:lnSpc>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NPRM is consistent with the President’s transparency executive order.</a:t>
            </a:r>
            <a:endParaRPr b="0" lang="en-US" sz="1800" spc="-1" strike="noStrike">
              <a:solidFill>
                <a:srgbClr val="40458c"/>
              </a:solidFill>
              <a:latin typeface="Tahoma"/>
            </a:endParaRPr>
          </a:p>
          <a:p>
            <a:pPr marL="343080" indent="-343080">
              <a:lnSpc>
                <a:spcPct val="80000"/>
              </a:lnSpc>
              <a:spcBef>
                <a:spcPts val="451"/>
              </a:spcBef>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Using Medicare claims to learn more about how well drugs work in different populations, how they can reduce complications, and monitoring adverse drug events, has implications for public health more broadly.</a:t>
            </a:r>
            <a:endParaRPr b="0" lang="en-US" sz="1800" spc="-1" strike="noStrike">
              <a:solidFill>
                <a:srgbClr val="40458c"/>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
        <p:nvSpPr>
          <p:cNvPr id="4" name="PlaceHolder 3"/>
          <p:cNvSpPr>
            <a:spLocks noGrp="1"/>
          </p:cNvSpPr>
          <p:nvPr>
            <p:ph type="sldNum" idx="3"/>
          </p:nvPr>
        </p:nvSpPr>
        <p:spPr/>
        <p:txBody>
          <a:bodyPr/>
          <a:p>
            <a:fld id="{1C7F3945-BF9E-4C66-855C-6BD408E094CA}"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19:29:33Z</dcterms:created>
  <dc:creator>CMS</dc:creator>
  <dc:description/>
  <dc:language>en-US</dc:language>
  <cp:lastModifiedBy>CMS</cp:lastModifiedBy>
  <dcterms:modified xsi:type="dcterms:W3CDTF">2006-11-02T18:35:18Z</dcterms:modified>
  <cp:revision>1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8288037</vt:r8>
  </property>
  <property fmtid="{D5CDD505-2E9C-101B-9397-08002B2CF9AE}" pid="3" name="_AuthorEmail">
    <vt:lpwstr>Spencer.Schron@cms.hhs.gov</vt:lpwstr>
  </property>
  <property fmtid="{D5CDD505-2E9C-101B-9397-08002B2CF9AE}" pid="4" name="_AuthorEmailDisplayName">
    <vt:lpwstr>Schron, Spencer R. (CMS/OEA)</vt:lpwstr>
  </property>
  <property fmtid="{D5CDD505-2E9C-101B-9397-08002B2CF9AE}" pid="5" name="_EmailSubject">
    <vt:lpwstr>November 9th Employer Forum</vt:lpwstr>
  </property>
  <property fmtid="{D5CDD505-2E9C-101B-9397-08002B2CF9AE}" pid="6" name="_NewReviewCycle">
    <vt:lpwstr/>
  </property>
</Properties>
</file>