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4546A-3540-4385-A56B-2E7E55E7C7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4034A-122E-4DCA-A87F-D2D7623066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C2C98-BD4B-4802-9155-D8E2BC1CAB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EF0DB-961C-436E-9691-29F7DD36F0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2F8AC-0BD0-47CC-ABCE-7F9AEB3D49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F63CB-D5E6-4DD2-BD4A-2FA9B4EB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5358D-9522-4BC4-AA44-43531266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E4285-A190-4635-8506-A55A3BE0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EADEF-C34F-4037-A99F-28294AB2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35C19-4A7A-4CC9-A67A-70B66277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E5B3A-760D-4C75-959E-50084D1E3D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F1165-C2A9-4F81-98A5-E1B795C5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AF1D4-0BE2-4E11-97E4-F7ED450F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D00D9-FCFB-44A1-BFC2-D091EBC0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7748B-A8E7-421D-BDD7-C0C86DBA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F76A0-A0D8-40A1-8401-9E49521E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35952-F0B5-4860-91B1-9879927D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842B7-D85E-4CBF-9113-62DEF74B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9449B8-4A9D-43C0-BE1A-DE8EB603D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40CE3F-A4E2-4D6F-93CE-B5C2131A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07B71A-B539-4D37-8309-8845AC88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8A415-6EAF-4717-96E0-F05FB9CC80C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E5C34F-883A-4F7F-8DCF-F2655452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605F73-439E-45A3-AA7D-2AFB1618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B42AAB-EA0C-4724-996B-748FD153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4526AC-245B-4016-8847-2AA7EFE0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A10892-B32A-414F-B10F-2E55F46B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5E4DEB-EEC2-48D9-A0AB-CDD34F6C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B950E8-2094-4A95-A086-C3DFE459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1B141F-1A3C-4E30-96DB-DF0BEFE57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8867A7-660B-4374-98C4-06032AC3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1F9EA-AA2C-4EF6-8C83-BB486711F2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53067-A69B-42CA-80F8-0EE8894F5A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1264F-18A1-48AC-99C7-B5273F0448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A346B-0E36-4C2E-8692-E262A7FF2E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C3C97-35FF-4BA1-AE65-F31CA4D4A7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http://rds.yahoo.com/S=96062857/K=medical/v=2/SID=e/l=II/R=397/SS=i/OID=68c644398765b1b0/SIG=1hr2p4h9p/EXP=1104428561/*-http%3A//images.search.yahoo.com/search/images/view?back=http%3A%2F%2Fimages.search.yahoo.com%2Fsearch%2Fimages%3Fp%3Dmedical%26toggle%3D1%26ei%3DUTF-8%26imgsz%3Dall%26fr%3DFP-tab-img-t-192%26b%3D381&amp;h=193&amp;w=206&amp;imgcurl=www.workpartners.com%2Fimages%2Fphoto-medical-services.jpg&amp;imgurl=www.workpartners.com%2Fimages%2Fphoto-medical-services.jpg&amp;size=11.0kB&amp;name=photo-medical-services.jpg&amp;rcurl=http%3A%2F%2Fwww.workpartners.com%2Fmedical-services.htm&amp;rurl=http%3A%2F%2Fwww.workpartners.com%2Fmedical-services.htm&amp;p=medical&amp;type=jpeg&amp;no=397&amp;tt=1,483,666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933960" y="6343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6388-AA64-4F49-A2F8-361ECA387FAF}" type="slidenum">
              <a:rPr b="0" lang="en-US" sz="9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486080" y="1219320"/>
            <a:ext cx="727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228600"/>
            <a:ext cx="73152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1371600"/>
            <a:ext cx="0" cy="510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52280" y="1295280"/>
            <a:ext cx="0" cy="457200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09480"/>
            <a:ext cx="137160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1371600" cy="6094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67200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76320" y="434880"/>
            <a:ext cx="1066680" cy="327240"/>
          </a:xfrm>
          <a:prstGeom prst="rect">
            <a:avLst/>
          </a:prstGeom>
          <a:ln w="0">
            <a:noFill/>
          </a:ln>
        </p:spPr>
      </p:pic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05120" y="3200400"/>
            <a:ext cx="7238880" cy="19810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92a7d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447920"/>
            <a:ext cx="9144000" cy="17524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738fc6"/>
              </a:gs>
              <a:gs pos="100000">
                <a:srgbClr val="00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1905120" cy="1981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2005 Medicare Managed Care RO/CO Annual Con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1676520"/>
            <a:ext cx="602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Low Income Subsidy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181480"/>
            <a:ext cx="27432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8160" y="5638680"/>
            <a:ext cx="1714320" cy="766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38480" y="5181480"/>
            <a:ext cx="5105520" cy="13716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5120" y="5181480"/>
            <a:ext cx="2133360" cy="1676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057400" y="4648320"/>
            <a:ext cx="6934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Daniell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HHS bird logo"/>
          <p:cNvPicPr/>
          <p:nvPr/>
        </p:nvPicPr>
        <p:blipFill>
          <a:blip r:embed="rId6"/>
          <a:stretch/>
        </p:blipFill>
        <p:spPr>
          <a:xfrm>
            <a:off x="8477280" y="5829480"/>
            <a:ext cx="51444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8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EB5F-B442-4EE2-B9D5-45691A6F1E4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43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C14E-9CFB-4400-A426-6A82C3A534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ms.hhs.gov/" TargetMode="External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Enrollment Overview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andy Brauer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ision of Enrollment &amp; Eligibility Policy, Medicare Enrollment &amp; Appeals Grou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eptember 14, 200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Century Gothic"/>
              </a:rPr>
              <a:t>Where To Get More Information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DP Enrollment/Disenrollment Guida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 MA &amp; MA-PD  - Chapter 2 of Medicare Managed Care Manu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n the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ww.cms.hhs.gov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 websit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pen Q &amp; 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scussion Poin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nrollment opportuni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nrollment mechanis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ssons learn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cess for recertification of extra hel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nrolling for Plan Year 2007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nual Coordinated Election Period (AEP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vember 15 – December 31, 2006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ll people with Medicar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join, switch, or drop coverag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ffective January 1, 2007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EP each yea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pecial Enrollment Periods (SEP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re are several SEPs including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eople with Medicare &amp; Medicai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hange in residen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ve into or out of a long-term care facilit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lso, the Employer Group Health Plan (EGHP) SEP – which we will focus on toda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CMS and PDP enrollment guidance for most up-to-date li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GHP SEP – more detail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igned to be flexibl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ividuals may enroll in or disenroll from Medicare health pla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t times the union/employer allow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nrollment Mechanism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oup Enrollment/Disenrollment Process for Employer/union sponsored pla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rnet – op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 &amp; PDP may develop their ow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MS Online Enrollment Center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lephonic Enrollment - op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est Practi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derstand the 3-way relationshi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derstand the rules unique to union/employer sponsored Medicare pla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n communication between Plans and union/employer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 -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IS Redeterminations for People Who Automatically Qualify in 2006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arting August 2006, CMS will redetermine LID eligibility for calendar year 2007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MS will mail letters to peopl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o no longer automatically qualify in 2007, 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ose co-payment level will chang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hanges become effective January 1, 2007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IS Redeterminations for People Who Applied and Qualified in 2006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ligibility redetermined by agency that made initial decisio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SA sets its redetermination timefram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tates’ timeframes based on Medicaid rul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cisions can be appeal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ni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ffective da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ubsidy amou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7T22:33:36Z</dcterms:created>
  <dc:creator>Alex Peralta</dc:creator>
  <dc:description/>
  <dc:language>en-US</dc:language>
  <cp:lastModifiedBy>CMS</cp:lastModifiedBy>
  <dcterms:modified xsi:type="dcterms:W3CDTF">2006-09-05T17:38:23Z</dcterms:modified>
  <cp:revision>4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53761594</vt:r8>
  </property>
  <property fmtid="{D5CDD505-2E9C-101B-9397-08002B2CF9AE}" pid="3" name="_AuthorEmail">
    <vt:lpwstr>Spencer.Schron@cms.hhs.gov</vt:lpwstr>
  </property>
  <property fmtid="{D5CDD505-2E9C-101B-9397-08002B2CF9AE}" pid="4" name="_AuthorEmailDisplayName">
    <vt:lpwstr>Schron, Spencer R. (CMS/CBC)</vt:lpwstr>
  </property>
  <property fmtid="{D5CDD505-2E9C-101B-9397-08002B2CF9AE}" pid="5" name="_EmailSubject">
    <vt:lpwstr>September 14th CMS Employer Forum</vt:lpwstr>
  </property>
  <property fmtid="{D5CDD505-2E9C-101B-9397-08002B2CF9AE}" pid="6" name="_NewReviewCycle">
    <vt:lpwstr/>
  </property>
  <property fmtid="{D5CDD505-2E9C-101B-9397-08002B2CF9AE}" pid="7" name="_PreviousAdHocReviewCycleID">
    <vt:r8>1685060860</vt:r8>
  </property>
</Properties>
</file>