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589A-C313-4568-A8B8-9A8D512A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84B-F6E4-431F-AB2D-AF3A618C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7ED-9F46-4700-AF63-4A7BE181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3C6-0475-401E-A676-C1DD11B6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824-E704-492E-AE7D-6B696DD8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DDB-DEFC-41F3-A02C-028551D2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9AF-DB05-4138-BD8E-D35BE092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48F-DB6A-4DB0-BFB2-5270284F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D72-E26A-4E46-9013-4B9F5F7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64B-E113-4212-A1B3-02EC909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252-EE8C-4C5A-9AFC-9D265701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E65-3AD7-49FE-9E16-68C48545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00D-5373-4D3C-AF32-3AD0EDE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50A9-8F67-4BD0-A0BE-A90B66969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sa.gov/history/lbjsm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re and Prevention—Challenges and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ine J. Lapin, M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Research, Development,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EFA-1D97-4D56-BB60-20B2BB44C2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private sector programs to reduce risk factors and manage health be adapted for the Medicare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se programs refer people to national and community resources for behavior change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91520" y="3581280"/>
            <a:ext cx="1396800" cy="30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68E-F49A-498B-BB2D-71FAC0B602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ior Risk Reduction Demonstration (SRRD)--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duce health risk factors, improve health behaviors and functioning, and prevent disabil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whether a risk reduction service provided by Medicare will be accepted by beneficiaries, achieve high participation rates, and be viewed positively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whether this approach is budget neutral—does it save Medicare mon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AA3-3526-46E4-BCD6-C2189567B1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iteria: Beneficiaries who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67-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art A &amp; B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-for-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iteria: Beneficiaries who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enrollment in Medicare before age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ed in managed care, hospice, or Medicare Health Suppor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ble to perform self-care activities due to severe dementia or other serious mental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DD7-C4CC-431C-B636-969C40EDEB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isk factors, includ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inactivity/lack of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or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moking/tobacc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alcohol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total 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overweight/ob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appropriate use of clinical prevent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general well-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egiving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lls (preventable accid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motor vehicle/home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212-181B-4D97-93F3-D1CA59AD0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RRD—Design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invites eligible beneficiaries to complete an H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ies who choose to return the HRA are randomly assign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 1--Standard intervention (HRA + tailored feedback &amp; interven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 2--Enhanced intervention (+ coaching or counseling + additional sup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 3--HRA + generic health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 &amp; interventions may be delivered by mail, telephone, or Internet (based on pre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AB4-95EB-439A-B376-D6D905EDA0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vs. Local Compon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Component (SRRD-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 representative sample of target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als to national resources and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cal Component (SRRD-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the incremental effects of using the SRRD along with best practice local refer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conducted in communities with best practice systems as identified by the Administration on Aging and National Council on A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ocal referral programs/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D56-BBAA-4DFE-B605-418A875EBC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 &amp; Budget Neu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will be paid a PPPM rate based on the number of participants who complete the HRA each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ill withhold 10% of their fees each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months into the demo, we will compare Medicare expenditures for the intervention and control group. If not budget neutral, we will offer the vendor 2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 at 2 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withhold to 20% for the remainder of the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88F-5A4A-4565-B81B-69002BC4CA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comprehensive set of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status and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care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individual vendors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national to local component to examine marginal impacts of adding local referral organizations to the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ABF-0838-4D04-884B-C28DCC71F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06 Articl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urnal of Occupational and Environmental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9,324 retirees and their aged depen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are services from 1996-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dical costs were between $101-$648 less for Medicare recipients who participated in an employer-sponsored wellness program and used a health risk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A + 1 HPP = annual savings of $4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A + 2HPPs = annual savings of $56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RA + HPP = annual savings of $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967-9E8E-4223-81AE-F3EEDB045D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S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medicare.gov  =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Medicare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mymedicare.g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ve servic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medicare.gov/Health/Overview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8B0-C2B9-47AD-90BF-7560B5E015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revention is a Priority for Med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 im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den of chronic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solv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evidence of what 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255-C6D2-4E23-9879-CC23AA32CC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S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cms.hhs.gov  = Providers, Partners, Health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LN preventive services educational products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cms.hhs.gov/MLNProducts/35_PreventiveService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www.cms.hhs.gov/Partnership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 websi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Medicare, click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sections for each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Coming soon—Prevention Data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497-1C1D-4965-8836-679966FCB6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28800" y="2590920"/>
            <a:ext cx="60199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pauline.lapin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96D-8A01-41D8-BBD7-B0CA39CB17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65560" y="4267080"/>
            <a:ext cx="49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sa.gov/history/lbjsm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oto courtesy of LBJ Presidential Libr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0292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60s, the impact of lifestyle changes and preventive services, even when initiated later in life, was not well-under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6CB-1245-498B-82CF-B88CF4B57C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care Cover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Medicare”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ococ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patiti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ngles (Part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ic Disea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es self-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nutri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shoes, supplies,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king cessation counseling &amp;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280" y="1295280"/>
            <a:ext cx="3810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eening &amp;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mmograp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 test &amp; pelvic 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n cancer screening t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A test &amp; rectal 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density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ucoma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es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ovascular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rasound screening for abdominal aortic aneury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A5F-AE85-414C-B655-FB6976E07C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care Preventive Benefits--The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use of Medicare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appropriate use of Medicare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sustained use of Medicare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6760" y="5054760"/>
            <a:ext cx="64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asy in a health care system tha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ed and reactive, and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with patients is lim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62920" y="3809880"/>
            <a:ext cx="162216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BE2-4DA6-4344-A04B-A7537C4743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ectal Cancer Scre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betes Scre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come to Medicare” vi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EF2-C352-46FD-B1FA-DC8D11F5F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Demonstration Auth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402, Social Security Act of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reta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ed to conduct demonstrations to test whether changes in payment and reimbursement rates and methods or changes in coverage increase efficiency and reduc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ive compliance with payment and reimbursemen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ay for service not normally covered in Med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btain advice and recommendations of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5F9-B00C-4147-B414-92150C575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e Do Demonst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development and implementation of Medicare policy changes prior to enacting such changes on a national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finements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payment alternative or new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EBB-E5B7-440B-B1D1-A2DE05A5E4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33920" y="0"/>
            <a:ext cx="5410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reduction/health management programs using HRAs, tailored feedback,  and ongoing interve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health and well being of participants (e.g., improve blood pressure, control weight, promote physical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significant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lessons/models for CMS on population-based health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Design of Senior Risk     Reduction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609480"/>
          <a:ext cx="335304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33530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465-18DD-44A4-A126-C671446114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0:29:40Z</dcterms:created>
  <dc:creator>CMS</dc:creator>
  <dc:description/>
  <dc:language>en-US</dc:language>
  <cp:lastModifiedBy>CMS</cp:lastModifiedBy>
  <dcterms:modified xsi:type="dcterms:W3CDTF">2007-09-06T16:03:48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2994991</vt:r8>
  </property>
  <property fmtid="{D5CDD505-2E9C-101B-9397-08002B2CF9AE}" pid="3" name="_AuthorEmail">
    <vt:lpwstr>Robert.Boggio@cms.hhs.gov</vt:lpwstr>
  </property>
  <property fmtid="{D5CDD505-2E9C-101B-9397-08002B2CF9AE}" pid="4" name="_AuthorEmailDisplayName">
    <vt:lpwstr>Boggio, Robert C. (CMS/OEA)</vt:lpwstr>
  </property>
  <property fmtid="{D5CDD505-2E9C-101B-9397-08002B2CF9AE}" pid="5" name="_EmailSubject">
    <vt:lpwstr>CMS Employer Forum for Tuesday, September 11, 2007</vt:lpwstr>
  </property>
  <property fmtid="{D5CDD505-2E9C-101B-9397-08002B2CF9AE}" pid="6" name="_NewReviewCycle">
    <vt:lpwstr/>
  </property>
  <property fmtid="{D5CDD505-2E9C-101B-9397-08002B2CF9AE}" pid="7" name="_PreviousAdHocReviewCycleID">
    <vt:r8>-636794710</vt:r8>
  </property>
</Properties>
</file>