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351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35160" y="881856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67707E1-CA3F-48C8-8351-D21166A9E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935160" y="881856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4F515FF-18B6-4700-ADE1-5DD7FA979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81856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351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5200" y="4409640"/>
            <a:ext cx="509580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674-11F7-46ED-87FF-579E989E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2A6-6D04-4EB7-828E-D6DB6F60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0B2-6D60-46EF-8673-343C8563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9DD-6B2E-4AF7-BDAC-75702AA7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79BD-F7FA-4DDA-8EBD-E01F76AE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3D04-1B53-4539-928C-527F9223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F407-B721-4836-A88B-07C26C76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94DE-193D-4A9A-91C5-9F90287C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43E3-F6D0-47F3-9DCF-59D13C90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2EBC-1C54-4A34-A1DC-FA7BB3E7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8D3E-0E91-44FE-9F2B-C9C5A5A0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4C4-E3B1-4E15-82AA-EA763BD3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A190-BD0C-471F-BD06-C6958DAA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6BE2-12B1-44A0-A2C0-9BB83B4B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75B2-936E-4921-ACBB-3D514A06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9F20-D6CC-4810-AA61-200AFB6A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768A-7EE7-4BC5-82DC-54C090ED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456-1F68-4A28-B795-5ED85341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11D-F986-46E3-9276-39A009D4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08C-1A45-4DCA-A319-ACEE64B6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C86-2F19-4AA1-965E-40373F15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EE5-7E0D-4889-9726-EA55EB2B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941-11E7-4016-A009-F699BB76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032-408F-4D04-A2F3-703057B2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-810" r="0" b="0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F068-67E5-4495-B71E-DCB755B67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1855800" cy="68580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DF4E-6785-4CBF-8650-334E5EDBD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edicare.gov/" TargetMode="External"/><Relationship Id="rId2" Type="http://schemas.openxmlformats.org/officeDocument/2006/relationships/hyperlink" Target="http://my.medicare.gov/" TargetMode="External"/><Relationship Id="rId3" Type="http://schemas.openxmlformats.org/officeDocument/2006/relationships/hyperlink" Target="http://my.medicare.gov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Opportunities—and Challenges—in Medi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NursingWorld"/>
          <p:cNvPicPr/>
          <p:nvPr/>
        </p:nvPicPr>
        <p:blipFill>
          <a:blip r:embed="rId1"/>
          <a:srcRect l="0" t="0" r="0" b="-4648"/>
          <a:stretch/>
        </p:blipFill>
        <p:spPr>
          <a:xfrm>
            <a:off x="3048120" y="5334120"/>
            <a:ext cx="5181480" cy="106668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0000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New Focus on Prevention in Medic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e disease early when it is most trea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disease so complications can be avo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Medicare’s financial outl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206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reventive Servic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osing the Benefit G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Medicare” physical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vascular screening bloo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screening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ing and tobacco use cessation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self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ucoma screening for Hispanic Americans age 65 or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Preventive Benefits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re Advantag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“risk adjustment” leading to enhanced benefits; special needs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re Health Suppor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se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cer Prevention  Demonstra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over 13,000 minority Medicare beneficiaries navigate the healthca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2007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Ultrasound screening for abdominal aortic aneurysms; no deductible for colorectal cancer 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3657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G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838080"/>
          <a:ext cx="7620120" cy="5415120"/>
        </p:xfrm>
        <a:graphic>
          <a:graphicData uri="http://schemas.openxmlformats.org/drawingml/2006/table">
            <a:tbl>
              <a:tblPr/>
              <a:tblGrid>
                <a:gridCol w="2563920"/>
                <a:gridCol w="2492280"/>
                <a:gridCol w="2563920"/>
              </a:tblGrid>
              <a:tr h="37944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ed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Benefic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 Test and Pelvic Ex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women, every 2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men at high risk, every 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eening Mamm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women age 40 or older, once every 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ate Cancer Scree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 over age 50, once every 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 Sho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eople, once a flu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vascular screen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eople with Medicare, every 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ococcal Sh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eople, generally only needed once in life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520" rIns="128520" tIns="65160" bIns="65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8520" marR="128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685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sing Grassroots Networ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684440"/>
            <a:ext cx="914400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S Prevention Partner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A Aging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Heart Association, the American Cancer Society, and the American Diabetes Assoc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outreach with African-American, Hispanic, American Indian, Asian-American and Pacific Islander communities. This includes culturally and language-appropriate materials and specialized paid media campaig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me CMS Beneficiary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edicare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Compare tool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800-MEDI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&amp; You 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y.Medicare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holder for screen s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ed Steps 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on-Centered Ca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t, accessible information 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and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entury Medic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drug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eventiv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owering benefic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evidence on wha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Drug Benefit Is 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co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cost with greater opportunities for sav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illion prescriptions filled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 D Enrollment is Str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38 million Medicare beneficiaries—over 90%—now have prescription cover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with Part D enrolled in plans other than the standard benefit designed by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nsified Efforts to Provide Extra Hel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cedented grassroots partnerships enabled close to 10 million people with limited incomes to have drug cove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D outreach spurred enrollment in other low-income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stimated 3.2 million low-income beneficiaries still need to enro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ching Low-Income People is a Chall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467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 perc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eniors eligible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enrolled in the program now, 40 years l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3 perc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oll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MB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began in 198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 prescription assis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s enrolled on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mall f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igible in their first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nsified Effor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 Enroll L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S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ed education and application events, direct mailings, and follow-up phone cal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CO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MS grant, providing tailored, list-driven interventions to identify and enroll eligible beneficia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nsified Efforts—C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-eligible people do not have to wait for open enroll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-driven, to identify eligible people at state, county, community and individual leve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pronged education and outreach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itiatives for minority and rural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array of partnershi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ortant Research Topic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124080"/>
            <a:ext cx="7772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effective strategies to reach LIS-eligible beneficia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15:47:42Z</dcterms:created>
  <dc:creator>CMS</dc:creator>
  <dc:description/>
  <dc:language>en-US</dc:language>
  <cp:lastModifiedBy>CMS</cp:lastModifiedBy>
  <dcterms:modified xsi:type="dcterms:W3CDTF">2006-06-22T18:35:33Z</dcterms:modified>
  <cp:revision>57</cp:revision>
  <dc:subject/>
  <dc:title>21st Century Medicine: Higher Quality at Lower Cos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87450694</vt:r8>
  </property>
  <property fmtid="{D5CDD505-2E9C-101B-9397-08002B2CF9AE}" pid="3" name="_AuthorEmail">
    <vt:lpwstr>Robert.Boggio@cms.hhs.gov</vt:lpwstr>
  </property>
  <property fmtid="{D5CDD505-2E9C-101B-9397-08002B2CF9AE}" pid="4" name="_AuthorEmailDisplayName">
    <vt:lpwstr>Boggio, Robert C. (CMS/CBC)</vt:lpwstr>
  </property>
  <property fmtid="{D5CDD505-2E9C-101B-9397-08002B2CF9AE}" pid="5" name="_EmailSubject">
    <vt:lpwstr>Employer and Union Forum Webpage Downloads</vt:lpwstr>
  </property>
  <property fmtid="{D5CDD505-2E9C-101B-9397-08002B2CF9AE}" pid="6" name="_NewReviewCycle">
    <vt:lpwstr/>
  </property>
  <property fmtid="{D5CDD505-2E9C-101B-9397-08002B2CF9AE}" pid="7" name="_PreviousAdHocReviewCycleID">
    <vt:r8>-1475847408</vt:r8>
  </property>
</Properties>
</file>