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9C54-2C37-4BCD-A0A3-4C602D23E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6336-758D-4D1D-A39B-7E83559E5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40BE-9B5C-44ED-8A6F-19869C50C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40EC-070F-45A5-BAF7-241AE71D3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A22E-658B-4610-B9CC-0CB6118D9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3C030-5009-416C-AFCC-E235AE91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A649C-3084-4F8E-BCDC-241F2FF7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614D0-6046-4866-A7AD-1E12080F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F7DDC-901B-47B1-B2A5-AF02E2BA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57AC5-6EE2-4F05-830F-53C47C96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EAB1-E8FA-4872-AF2F-7AE0201013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5550B-EE86-41A3-9F22-BB8332F4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A653C-A2D0-4856-9CD6-CDDB21C4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34BDD-2C2A-44A8-8812-B4D6AC95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7806B-F016-4CEC-B3C9-186A8E44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8F6EA-E8B5-4E6C-B738-D0F0A9EE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B6317-6B63-4FE2-A209-A95B9553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88D6F-7BD8-445B-A150-4EE5768B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3966A2-74EE-48B1-90D5-DC2AF0B5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094341-705F-4519-A5E5-84606044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999FC8-39FA-431C-ACE7-CC677D48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B3E0-91DC-466A-80F3-751445FA83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7BBFA4-AF95-4C12-A18F-6A2C2BFB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666DE-744A-4C57-A2FB-DCEBBDE7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30DC1B-5726-4354-9538-A594AD0A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F4CA7F-D025-4C0B-AD88-7D09881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70123-48C0-4D20-B815-30722806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0495E8-0BDD-4C2F-939E-F9D5F9F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3257BA-96E0-425B-8916-4893BDC8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0D223C-CA14-4174-9BA4-0554CFF5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9CA2E0-DD08-4205-AFC8-2AA42D14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D9EC-3413-4C68-860D-E93261262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0FCE-92CC-4D11-8208-3021AF630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A515-C28C-46A4-9294-5F0D86862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9199-FFE0-4562-81BE-02EFA9BBD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438C-917C-4B90-8563-288BDF89F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E32-1836-4658-A7AB-D7AEB623D70E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2005 Medicare Managed Care RO/CO Annual Con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Low Income Subsidy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Daniell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98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4E42-FEF6-45C0-8051-650896D634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3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59B8-73AF-459A-A141-B4828CFC64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ms.hhs.gov/" TargetMode="External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nrollment Overview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ndy Brauer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 of Enrollment &amp; Eligibility Policy, Medicare Enrollment &amp; Appeals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ptember 14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Century Gothic"/>
              </a:rPr>
              <a:t>Where To Get More Inform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DP Enrollment/Disenrollment Guida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MA &amp; MA-PD  - Chapter 2 of Medicare Managed Care Manu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cms.hhs.gov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websi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pen Q &amp; 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cussion Poi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rollment opportun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rollment mechanis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ssons lear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 for recertification of extra hel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rolling for Plan Year 2007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nual Coordinated Election Period (AEP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vember 15 – December 31, 20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people with Medi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join, switch, or drop cover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ive January 1, 200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EP each y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al Enrollment Periods (SEP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are several SEPs including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ople with Medicare &amp; Medicai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ange in reside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 into or out of a long-term care facili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so, the Employer Group Health Plan (EGHP) SEP – which we will focus on tod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CMS and PDP enrollment guidance for most up-to-dat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GHP SEP – more detail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igned to be flexibl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ividuals may enroll in or disenroll from Medicare health pl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 times the union/employer allow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rollment Mechanis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 Enrollment/Disenrollment Process for Employer/union sponsored pl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net – o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 &amp; PDP may develop their ow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MS Online Enrollment Cente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lephonic Enrollment - op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t Pract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the 3-way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the rules unique to union/employer sponsored Medicare pl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n communication between Plans and union/employe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 -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S Redeterminations for People Who Automatically Qualify in 200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rting August 2006, CMS will redetermine LID eligibility for calendar year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MS will mail letters to peopl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o no longer automatically qualify in 2007, 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ose co-payment level will chan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anges become effective January 1,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IS Redeterminations for People Who Applied and Qualified in 2006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ligibility redetermined by agency that made initial decis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SA sets its redetermination timefram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ates’ timeframes based on Medicaid rul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cisions can be appeal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n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ffective d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bsidy amou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22:33:36Z</dcterms:created>
  <dc:creator>Alex Peralta</dc:creator>
  <dc:description/>
  <dc:language>en-US</dc:language>
  <cp:lastModifiedBy>CMS</cp:lastModifiedBy>
  <dcterms:modified xsi:type="dcterms:W3CDTF">2006-09-05T17:38:23Z</dcterms:modified>
  <cp:revision>4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3761594</vt:r8>
  </property>
  <property fmtid="{D5CDD505-2E9C-101B-9397-08002B2CF9AE}" pid="3" name="_AuthorEmail">
    <vt:lpwstr>Spencer.Schron@cms.hhs.gov</vt:lpwstr>
  </property>
  <property fmtid="{D5CDD505-2E9C-101B-9397-08002B2CF9AE}" pid="4" name="_AuthorEmailDisplayName">
    <vt:lpwstr>Schron, Spencer R. (CMS/CBC)</vt:lpwstr>
  </property>
  <property fmtid="{D5CDD505-2E9C-101B-9397-08002B2CF9AE}" pid="5" name="_EmailSubject">
    <vt:lpwstr>September 14th CMS Employer Forum</vt:lpwstr>
  </property>
  <property fmtid="{D5CDD505-2E9C-101B-9397-08002B2CF9AE}" pid="6" name="_NewReviewCycle">
    <vt:lpwstr/>
  </property>
  <property fmtid="{D5CDD505-2E9C-101B-9397-08002B2CF9AE}" pid="7" name="_PreviousAdHocReviewCycleID">
    <vt:r8>1685060860</vt:r8>
  </property>
</Properties>
</file>