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ADC-CC5F-4CFD-B5E3-9FE93283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72C-377D-4092-A268-9E4E0F4B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3C9-DC88-46DA-8DC9-AD3BA8F1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79D-5B55-4F7E-8ADC-39B32202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093-638D-49CE-AFF7-9D825B19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04B-3A33-4C3E-9B65-D574784D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002-6B4E-41B7-BE57-50875522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E24-68FD-47E7-9DAC-EE116356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9A3-DE8F-4D26-B957-2181206E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4FC-7E49-4639-B0AD-E3B2EE1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7AE-7D63-4805-9847-C5BE375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362-6FDB-4B10-AD15-961E274E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7157-7524-4278-BA85-E0A97297B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re Prevention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38095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t Haywood, M.D., J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uty Chief Medical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of Clinical Standards an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care Co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4920" y="2438280"/>
          <a:ext cx="8229600" cy="197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8088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ed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Benefic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to Medicare” physical ex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new enrollees in Medicare Par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 must be completed within the first 6 months of Part B co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-time review of person’s health; education and counseling; certain screenings and shots; referrals for other care if 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686160" y="609480"/>
            <a:ext cx="9372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eventive Benefits i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January 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und screening for abdominal aortic aneury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ductible for colorectal cancer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subject to Part B de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care Consumer – Prevention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eb sites  - enhance user friendly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ed approaches for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28600" y="609480"/>
            <a:ext cx="86868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nowledge, Skills, a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ge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highest on Medicare knowledge and understandability, most likely to make own healthcare decisions, and most likely to be in action stage for making a health plan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on Medicare knowledge and understandability, least likely to make own healthcare decisions, and most likely to be in precontemplation or contempl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Eff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lower than Complacent on Medicare understa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a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higher than High Effort on Medicare understa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Analysi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 Cluster Se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76520" y="1600200"/>
          <a:ext cx="618156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61815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umer Tai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tempt to (1) segment the consumer market and (2) tailor messaging and intervention based upon consume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is concept for quality improvement purp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nering with C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Diabetes Awareness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upermarket T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iabetic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t T. Haywood, MD, J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t.haywood@cms.hhs.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ventive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-covered preventive service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disease early when it is most tre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disease so complications can be avo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the Prevention 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people with Medicare take full advantage of preventiv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prevention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the gap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people take advantage of thes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many thousands of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illions of dollars in medical expenses for preventable medic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ven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828800"/>
          <a:ext cx="8610120" cy="5028840"/>
        </p:xfrm>
        <a:graphic>
          <a:graphicData uri="http://schemas.openxmlformats.org/drawingml/2006/table">
            <a:tbl>
              <a:tblPr/>
              <a:tblGrid>
                <a:gridCol w="3300840"/>
                <a:gridCol w="1469160"/>
                <a:gridCol w="1180800"/>
                <a:gridCol w="1302120"/>
                <a:gridCol w="1357200"/>
              </a:tblGrid>
              <a:tr h="617760">
                <a:tc gridSpan="3"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MEDICARE PAYMENTS FOR PQI HOSPITALIZATIONS, 1995 AND 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y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 Sav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Sav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 Sav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GESTIVE HEART FAIL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9,131,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,456,5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2,913,1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5,826,2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CTERIAL PNEUMO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83,086,3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,154,3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8,308,6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6,617,2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67,023,9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,351,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,702,3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3,404,7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BETES LONG TERM COMPLI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,957,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397,8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,795,7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,591,4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INARY INF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9,616,0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480,8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,961,6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,923,2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HYD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5,833,8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791,6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,583,3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,166,7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ER EXTREMITY AMPU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3,469,3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173,4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346,9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,693,8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ULT ASTH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8,802,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440,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880,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760,4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ATED APPENDI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,726,4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486,3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972,6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945,2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G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,711,6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35,5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071,1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142,3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PERTEN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,096,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04,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009,6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019,3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BETES SHORT TERM COMPLI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,323,9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66,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32,3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864,7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BETES UNCONTROLL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,422,5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71,1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742,2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484,5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762,201,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,110,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76,220,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52,440,2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5">
                  <a:txBody>
                    <a:bodyPr lIns="90360" rIns="90360" tIns="44280" bIns="4428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 Includes hospitalizations among FFS Medicare beneficiaries for AHRQ PQI measures. Dollars are nominal dollar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05280" y="274320"/>
            <a:ext cx="9448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conomic Costs of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 of Diabetes: $131.7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due to health expenditures: $91.9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due to lost productivity: $39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Productivity represents 30% of total cost of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work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ed activity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betes Care, Volume 26, Number 3, March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81240" y="7617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ivity and Medical Costs of Diabetes to Emplo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costs for diabete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7 to 2.2 times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a disability claim higher for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loss days 60% higher for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disability 86% higher for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betes Care, Volume 25, Number 1, Januar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CMS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is committed to promoting the appropriate use of Medicare preventive bene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materials for educating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dvantage Special Needs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re Health 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e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li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ke a Loved One for a Checkup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research and demon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ng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rt Association (A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ancer Society (A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Diabetes Association (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eventive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ast 2 years, Medicare ha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Medicare Ex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reventive physical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vascular screening bloo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creening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 and tobacco use cessation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elf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ucoma screening for Hispanic Americans age 65 or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vention 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371600"/>
          <a:ext cx="8153280" cy="5570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666880"/>
              </a:tblGrid>
              <a:tr h="37476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ed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Benefic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 Test and Pelvic Ex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men, every 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men at high risk,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ate Cancer Scre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 over age 50, once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ing Mamm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men age 40 or older, once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 S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, generally only needed once in life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h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, once a flu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vascular screen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 with Medicare, every 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B deductible and coinsurance do not ap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8:17:13Z</dcterms:created>
  <dc:creator>CMS</dc:creator>
  <dc:description/>
  <dc:language>en-US</dc:language>
  <cp:lastModifiedBy>Teresa Nguyen Clark</cp:lastModifiedBy>
  <dcterms:modified xsi:type="dcterms:W3CDTF">2006-06-06T20:23:4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8371662</vt:r8>
  </property>
  <property fmtid="{D5CDD505-2E9C-101B-9397-08002B2CF9AE}" pid="3" name="_AuthorEmail">
    <vt:lpwstr>Teresa.Clark@cms.hhs.gov</vt:lpwstr>
  </property>
  <property fmtid="{D5CDD505-2E9C-101B-9397-08002B2CF9AE}" pid="4" name="_AuthorEmailDisplayName">
    <vt:lpwstr>Clark, Teresa N. (CMS/OCSQ)</vt:lpwstr>
  </property>
  <property fmtid="{D5CDD505-2E9C-101B-9397-08002B2CF9AE}" pid="5" name="_EmailSubject">
    <vt:lpwstr>UPDATED PPT</vt:lpwstr>
  </property>
  <property fmtid="{D5CDD505-2E9C-101B-9397-08002B2CF9AE}" pid="6" name="_NewReviewCycle">
    <vt:lpwstr/>
  </property>
</Properties>
</file>