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7B47-F0C0-454A-8DBF-CEE2C512F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-adjusted ESRD capita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s may propose risk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-for-servic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yment rate for dialysis services plus fixed payment for additional services (drugs, labs) plus diseas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ysis facilities responsible for managing care, reducing total Medicare costs for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from ESRD Clinical Performance Measures projec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dequacy of dialysis, anemia management, serum albumin, vascular access, bo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Bonus payment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Adopting information technology to support an electronic patien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Achieving benchmarks in quality for patients with chronic conditions – will also use Doctors Office Quality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BAAA-AECA-418D-AEF8-70EBB451B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7680" y="69372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rbedor 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Bonus payment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Adopting information technology to support an electronic patien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Achieving benchmarks in quality for patients with chronic conditions – will also use Doctors Office Quality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C3E-2FA8-43B3-8DE0-3837B91D4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7680" y="69372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Very open-ended in terms of how broad or narrow our scope will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Multipl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rbedor T"/>
              </a:rPr>
              <a:t>Will be working with contractor on demonstration design work later this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A9D6-8E6E-4B61-B538-6F19851C6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3364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9E5-E6A4-49E4-BA47-AA7E1DD3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08E-A077-4115-9CD7-39A3C5F1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F69-5FCC-45BE-81A4-8BC4885B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E85-CBBE-476E-A896-66A79E8F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9727-6F73-4F57-AB61-19ADBEEF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227B-662E-460B-ACD6-EB5276AE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0D6C-B7F6-47BD-A41E-D712F12B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A490-3F64-4646-ADE6-8CC22F53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781F-C3CB-4E04-9CEB-8F76EBF7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502B-CEE9-4946-BBF5-2C4FD455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6434-D69B-4530-BA22-8433B2EE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AEE-7683-4CAB-867E-8A4AA5C5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CF1E-4498-4CF3-86F4-AFCC2FF6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FC85-6A93-440F-AAAA-420A517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8E0A-5D22-4B12-B3B5-94227E62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E3D8-994A-4C8E-BC16-C8C587F4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5F2F-B6D6-47D9-996E-F5534B36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5DD-60D1-4C21-A339-99A28123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BE6-1C6F-4B48-9F8C-1C405542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067-0EBB-4463-A424-EDB8DCB1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0A5-B23F-4941-9053-6DE11F36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EF6-62CE-483C-9E97-D7417870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028-B80A-4153-8F02-77732E53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652-C9D9-49D0-916E-B7F26319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ad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ad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581B-C8F5-4E8B-AFCF-EAAC1AD3F44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84600" y="6323760"/>
            <a:ext cx="33876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edicare P4P Demonstr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DBE0-8BB1-4D98-A0DC-8EFB92F135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" name=""/>
          <p:cNvGraphicFramePr/>
          <p:nvPr/>
        </p:nvGraphicFramePr>
        <p:xfrm>
          <a:off x="7010280" y="6161040"/>
          <a:ext cx="1905120" cy="62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6161040"/>
                    <a:ext cx="1905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ad7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C1D3-C21D-4CA7-B056-7FDD908AF72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AC7F-E302-404A-B8A5-EC09B35ECE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629400" y="6172200"/>
          <a:ext cx="1905120" cy="62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172200"/>
                    <a:ext cx="1905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6e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36ea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cms.hhs.gov/DemoProjectsEvalRpts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6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 for Performance –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ving the Path to Qu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6e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6e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36ea"/>
                </a:solidFill>
                <a:latin typeface="Arial"/>
              </a:rPr>
              <a:t>Linda Magno</a:t>
            </a:r>
            <a:endParaRPr b="0" lang="en-US" sz="1400" spc="-1" strike="noStrike">
              <a:solidFill>
                <a:srgbClr val="1236e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36ea"/>
                </a:solidFill>
                <a:latin typeface="Arial"/>
              </a:rPr>
              <a:t>Medicare Demonstrations Program Group</a:t>
            </a:r>
            <a:endParaRPr b="0" lang="en-US" sz="1400" spc="-1" strike="noStrike">
              <a:solidFill>
                <a:srgbClr val="1236e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36ea"/>
                </a:solidFill>
                <a:latin typeface="Arial"/>
              </a:rPr>
              <a:t>Office of Research, Development, and Information</a:t>
            </a:r>
            <a:endParaRPr b="0" lang="en-US" sz="1400" spc="-1" strike="noStrike">
              <a:solidFill>
                <a:srgbClr val="1236ea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36ea"/>
                </a:solidFill>
                <a:latin typeface="Arial"/>
              </a:rPr>
              <a:t>February 9, 2006</a:t>
            </a:r>
            <a:endParaRPr b="0" lang="en-US" sz="14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5A4F-C243-469D-9961-1A5A0381B68C}" type="slidenum">
              <a:t>1</a:t>
            </a:fld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First Year Result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rom Year 1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 median scores 87% to 9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F 65% to 7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eumonia 69% to 7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G 85% to 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 and knee replacement 85% to 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5B1-D797-4C40-A5C2-3DD3511A2EB5}" type="slidenum">
              <a:t>10</a:t>
            </a:fld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4840" y="228600"/>
            <a:ext cx="8939160" cy="59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427-BE56-4D86-BD21-82C8CC3DFD40}" type="slidenum">
              <a:t>11</a:t>
            </a:fld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Quality Score Must Exceed Baseline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thresholds set at year one threshold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erformance in year 3 does not exceed year 1 baseline, hospital will receive payment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 lower DRG payment for conditions below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le base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% lower DRG payment for conditions below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le base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401-D988-48CF-9C52-2876A8AC7F56}" type="slidenum">
              <a:t>12</a:t>
            </a:fld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ossible Payment Scenario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99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47656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53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2228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5451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5680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40798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3851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6226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622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547056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61360" y="31431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3320" y="26668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85640" y="22860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369576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36ea"/>
                </a:solidFill>
                <a:latin typeface="Arial"/>
              </a:rPr>
              <a:t>Top Performance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" y="50673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99"/>
                </a:solidFill>
                <a:latin typeface="Arial"/>
              </a:rPr>
              <a:t>Payment Adjustment 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881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nd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4110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rd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43387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4552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48117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50403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268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4817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7103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358128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5992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5992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ar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388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ar 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44956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49528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5181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8098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581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33526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31240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3382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nd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6115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rd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8401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40543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3131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45417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7703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49831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181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403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38098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3581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44956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33526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2895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26668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26668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257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nd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31543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rd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15200" y="3382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15200" y="3597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3855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4084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43131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4525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47545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th Dec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312408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4095720"/>
            <a:ext cx="1524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771-1EF4-4553-A79B-7D3CFF0D3D07}" type="slidenum">
              <a:t>13</a:t>
            </a:fld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hysician Group Practice Demonstration Overview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12 of BIPA 2000 (P.L. 106-55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FFS Payments + Performance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Payments Derived from Enhanced Quality of Care &amp; Improved Patient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Payment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0F1-D1B3-4816-B1E1-01D66E4E51FC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GP Goals &amp; Objective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Coordination of Medicare Part A    &amp; Part 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 Physicians for Improving Quality an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Efficiency through Investment in Administrative Structure an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B43-03B9-4C38-94D8-AA9CA65F0876}" type="slidenum">
              <a:t>15</a:t>
            </a:fld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erformance Payment Methodology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FFS + Performance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isk, Not Insuranc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Performance Targets Established for Each Physicia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Base Year Medicare FFS Spending x (1 + Local Market Medicare FFS Growth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Part A &amp; Part B Expendi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Payments Earned I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Medicare FFS Spending for Beneficiaries Assigned to the Group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SS TH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up’s Annual Performanc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% Savings Threshold Must Be Exc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8CC-7094-4712-A5B8-105292D2F4B8}" type="slidenum">
              <a:t>16</a:t>
            </a:fld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Shares Saving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Retains 20% of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May Earn up to 80% of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Payments Earned for Efficiency &amp;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Percentage of Performance Payments Linked to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Annual Performance Payment Capped at 5% of Medicare Part A &amp; Part B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915080" y="2362320"/>
          <a:ext cx="39240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5080" y="2362320"/>
                    <a:ext cx="39240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5B7-093D-4FD6-A770-30B1BEE7B70C}" type="slidenum">
              <a:t>17</a:t>
            </a:fld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Financial Measurement Issues 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spectiv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ust Provide Plurality of Outpatient E&amp;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ck-in, No Enrol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 Measured on Actual Claims Experience of Physician Group &amp; Loca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Year Performanc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nnual Reb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ADD-FB9C-45D2-923A-338E92631807}" type="slidenum">
              <a:t>18</a:t>
            </a:fld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rocess &amp; Outcome Measure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ve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B99-7B83-4AC8-9E3D-B9952C88E5F3}" type="slidenum">
              <a:t>19</a:t>
            </a:fld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P4P Initiative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Quality Incentiv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Group Practi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Care Management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 Care Qualit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DF2-CF43-4504-8558-E91ACA7CA16F}" type="slidenum">
              <a:t>2</a:t>
            </a:fld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Quality Measurement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Developed with AMA &amp; NC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QF Review &amp; Consensu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1 – Dia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2 – Year 1 + CHF &amp; C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3 – Year 2 + Hypertension &amp; Cancer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Based &amp; Clinical Record Base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Abstraction &amp; Repor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EC9-18B6-4B12-8D2F-599EE68C6225}" type="slidenum">
              <a:t>20</a:t>
            </a:fld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rocess &amp; Outcome Measure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2362320"/>
          <a:ext cx="7391520" cy="3733560"/>
        </p:xfrm>
        <a:graphic>
          <a:graphicData uri="http://schemas.openxmlformats.org/drawingml/2006/table">
            <a:tbl>
              <a:tblPr/>
              <a:tblGrid>
                <a:gridCol w="1868400"/>
                <a:gridCol w="1704960"/>
                <a:gridCol w="1727280"/>
                <a:gridCol w="209088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iabetes Melli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ongestive Heart Fail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oronary Artery 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Hypertension &amp; Cancer Scree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HbA1c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eft Ventricular Function Asses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ntiplatelet Therap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lood Pressure Scree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HbA1c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eft Ventricular Ejection Fraction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rug Therapy for Lowering LDL Choleste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lood Pressure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lood Pressure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Weight Measu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eta-Blocker Therapy – Prior 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lan of C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ipid Measu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lood Pressure Scree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lood Press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reast Cancer Scree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DL Cholesterol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atient Edu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ipid Pro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olorectal Cancer Scree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Urine Protein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eta-Blocker Therap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LDL Cholesterol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ye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ce Inhibitor Therap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ce Inhibitor Therap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Foot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Warfarin Therapy for Patients H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Influenza Vacc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Influenza Vacc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neumonia Vacc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neumonia Vacc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2D0-AB94-44B1-9C14-DD65FDD2004A}" type="slidenum">
              <a:t>21</a:t>
            </a:fld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erformance Threshold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 High Quality 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of 75% Compliance or the Medicare HEDI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10% Reduction in Gap Between Administrative Baseline and 100%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of Medicare HEDI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Performance Payment Based on Total Points 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Earned for Each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98E-C3C5-43AB-BA91-5AAF11C4CC76}" type="slidenum">
              <a:t>22</a:t>
            </a:fld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Beneficiary Protection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s Clinical Decision Makers for High Qualit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nrollment Model, No Lock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enefi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ciaries Continue to See Any FFS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ciary Not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Selected Based on Leadership Commitment, QA/QI Programs &amp; Care Managemen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ulatory Care Qualit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403-6F86-4E5D-9DB7-9EC9CDD60623}" type="slidenum">
              <a:t>23</a:t>
            </a:fld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Eligible Organization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Ca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Specialty, 200+ FTE phys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liated Hospital and/or Othe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gible Organization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Specialty Group Practices, Faculty Group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Ss, IPAs, P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Developed Clinical and Management Information Systems and/or Access to Capital to Acq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2FB-3C21-41A3-A270-477DD6EC2F6C}" type="slidenum">
              <a:t>24</a:t>
            </a:fld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hysician Group Practice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41320" y="2901960"/>
          <a:ext cx="7400880" cy="27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901960"/>
                    <a:ext cx="740088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219320" y="2408040"/>
            <a:ext cx="67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~5,000 Physicians &amp; Over 200,000 Medicare FFS Beneficiari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BEF-F8A3-4FCB-B7DE-EE4058BABA46}" type="slidenum">
              <a:t>25</a:t>
            </a:fld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GP Site Characteristic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ease Management, Case Management, Transition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e Call Lines, Same-day Scheduling, Telephonic Home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Quality Through Evidence-Based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Decision Support, Disease Registries, Population Health Management, Electronic Medical Records, Redesigned Clinical Car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386-ED57-4CC5-A6DB-4E1AE29F7568}" type="slidenum">
              <a:t>26</a:t>
            </a:fld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ESRD Disease Management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initiative to test effectiveness of disease management models for ESR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tion model (“specialty plan”) – organizations may propose risk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ncentive (5% withhold) – performance on measures from ESRD Clinical Performance Measure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AFB-7E48-4D69-9173-649B4CC383E1}" type="slidenum">
              <a:t>27</a:t>
            </a:fld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ESRD Demo Characteristic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ta, Evercare, Fresen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for Medicare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Car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ed Enrollment   -- 2,000 First Year,  4,000 Event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in Service Areas Began January 20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6CC-D75A-4E51-965F-3A2DD42D2811}" type="slidenum">
              <a:t>28</a:t>
            </a:fld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ESRD Quality Incentive Payment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ercent of Capitation Payment Reserved for Incentive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Use Indicators Profiled in the ESRD Clinical Performance Measures (CPM)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cy of Di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emi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Access (AV Fistulas and Cath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Disease (Serum Phosphorous and Serum Calc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7FF-EE6D-4502-A857-93BFFF38299D}" type="slidenum">
              <a:t>29</a:t>
            </a:fld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remier Hospital Quality Incentive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demonstration with Premier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36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onwide organization of not-for-profit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36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er Perspective is an ORYX quality measurement system ven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financial incentives as a reward for superior performance on certain measures of inpatien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the quality data on the CMS websi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cms.hh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8E3-CC78-4E92-9DA1-2283085D5D44}" type="slidenum">
              <a:t>3</a:t>
            </a:fld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ESRD Quality Incentive Payment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Kinds of Quality Outcom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Over Time (Beating Own Perform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ting a National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58E-0384-4020-94AB-5577B59EBCA3}" type="slidenum">
              <a:t>30</a:t>
            </a:fld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Care Management Performance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Modernization Act (Sec. 64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and coordination of care for chronically ill Medicare FFS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doption and use of information technology by small to medium-sized physician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health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ies, rem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0CA-591B-4923-8742-5D134222380F}" type="slidenum">
              <a:t>31</a:t>
            </a:fld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Care Management Performance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es for physicians wh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quality benchmarks for chronically ill Medicare beneficiaries – diabetes, heart failure, coronary arte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clinical quality data to CMS electronically from an 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or collecting data from electronic health records for use in 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C43-5309-4BF3-938C-58E2C0741414}" type="slidenum">
              <a:t>32</a:t>
            </a:fld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Care Management Performance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800 practices (~2,800 doctors) from among participants in DOQ-IT project in fou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ka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ssistance to physician practices by quality improvement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708-E371-4C15-90F5-F3D2F283B331}" type="slidenum">
              <a:t>33</a:t>
            </a:fld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Care Management Performance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564-6630-415D-80B4-FB6B356D4AB7}" type="slidenum">
              <a:t>34</a:t>
            </a:fld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Health Care Quality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Modernization Act of 2003 (Sec. 64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/payment models incorporating incentives to improve quality, safety,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 (evidence-based guidelines, best practices, shared decision-making) to eliminate scientific uncertainty and unwarranted variation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3F4-B8C2-4ABE-A8F9-4E56FF3731DE}" type="slidenum">
              <a:t>35</a:t>
            </a:fld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Health Care Quality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hardwire quality into delivery system – make it easy to do the right thing for the right patient at the 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along IOM’s six dimensions of quality: safety, effectiveness, efficiency, timeliness, patient-centeredness,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health information technology into clinic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2B5-0171-4BC7-BFD2-93FF75F4E6D9}" type="slidenum">
              <a:t>36</a:t>
            </a:fld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Health Care Quality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waiver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le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delivery systems (IDS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alitions of physician groups or IDS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EBD-0831-424E-A0C9-6F1F25210196}" type="slidenum">
              <a:t>37</a:t>
            </a:fld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Medicare Health Care Quality Demonstr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tion or Partial Ca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Member Per Month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ed Fee-for-Service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Global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budget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99E-5E73-4044-963A-7A4DF448AFAD}" type="slidenum">
              <a:t>38</a:t>
            </a:fld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For Additional Inform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cc"/>
                </a:solidFill>
                <a:uFillTx/>
                <a:latin typeface="Arial"/>
                <a:hlinkClick r:id="rId1"/>
              </a:rPr>
              <a:t>http://www.cms.hhs.gov/DemoProjectsEvalRpt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Linda.Magno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C1D-08A7-4E7E-B676-688752A1473A}" type="slidenum">
              <a:t>39</a:t>
            </a:fld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Hospital Participation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: Hospitals in Premier Perspective system as of March 31, 200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2 hospitals particip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Project: Pilot test of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F7E-1270-461C-B53C-652702762596}" type="slidenum">
              <a:t>4</a:t>
            </a:fld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Project Expectation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outcomes for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setting cost red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read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ength of stay due to fewer adverse events, complications, hospital acquired infection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 effect, all hospitals in demo will improve quality, bonuses to only top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336-06EE-4FC5-BE1B-1AD0D692DFB3}" type="slidenum">
              <a:t>5</a:t>
            </a:fld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Quality Measurement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s will receive bonuses based on clinical qualit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linical conditions (34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Myocardial Infar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Acquired P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ary Artery Bypass Graft (CAB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 and Knee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71F-FFB5-4F5A-A62E-9B213323AE1B}" type="slidenum">
              <a:t>6</a:t>
            </a:fld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Example: AMI Measure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in at arri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in prescribed at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I for L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ing cessation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blockers prescribed at arr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blocker prescribed at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mbolytic within 30 min. of arr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I within 120 min. of arr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ed inpatient mor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531-F367-41C3-8DCD-E19EA09783C5}" type="slidenum">
              <a:t>7</a:t>
            </a:fld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Recognition &amp;</a:t>
            </a:r>
            <a:r>
              <a:rPr b="1" i="1" lang="en-US" sz="3600" spc="-1" strike="noStrike">
                <a:solidFill>
                  <a:srgbClr val="1236e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Financial</a:t>
            </a:r>
            <a:r>
              <a:rPr b="1" i="1" lang="en-US" sz="3600" spc="-1" strike="noStrike">
                <a:solidFill>
                  <a:srgbClr val="1236e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Reward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es for top 2 deciles for eac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decile given 2% bonus of their Medicare DRG payments for th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decile given a 1% bo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50% of hospitals in each clinical area publicly acknowledged on CM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135-F84E-4FA7-BB8F-47F1CE9DC1EB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236ea"/>
                </a:solidFill>
                <a:latin typeface="Arial"/>
              </a:rPr>
              <a:t>HQID Year 1 –Results</a:t>
            </a:r>
            <a:endParaRPr b="1" lang="en-US" sz="3600" spc="-1" strike="noStrike">
              <a:solidFill>
                <a:srgbClr val="1236e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d November 14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.85 million awarded to 123 top perfo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performers represented large and small facilities across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349-56CF-4641-98CD-5D82092DE557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8:32:02Z</dcterms:created>
  <dc:creator>CMS</dc:creator>
  <dc:description/>
  <dc:language>en-US</dc:language>
  <cp:lastModifiedBy>CMS</cp:lastModifiedBy>
  <dcterms:modified xsi:type="dcterms:W3CDTF">2006-02-03T13:04:36Z</dcterms:modified>
  <cp:revision>68</cp:revision>
  <dc:subject/>
  <dc:title>Physician Group Practice Demon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923521</vt:r8>
  </property>
  <property fmtid="{D5CDD505-2E9C-101B-9397-08002B2CF9AE}" pid="3" name="_AuthorEmail">
    <vt:lpwstr>Robert.Boggio@cms.hhs.gov</vt:lpwstr>
  </property>
  <property fmtid="{D5CDD505-2E9C-101B-9397-08002B2CF9AE}" pid="4" name="_AuthorEmailDisplayName">
    <vt:lpwstr>Boggio, Robert C. (CMS/CBC)</vt:lpwstr>
  </property>
  <property fmtid="{D5CDD505-2E9C-101B-9397-08002B2CF9AE}" pid="5" name="_EmailSubject">
    <vt:lpwstr>Employer Forum Agendas and Materials</vt:lpwstr>
  </property>
  <property fmtid="{D5CDD505-2E9C-101B-9397-08002B2CF9AE}" pid="6" name="_NewReviewCycle">
    <vt:lpwstr/>
  </property>
</Properties>
</file>