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B2E-8D6E-489A-B0B9-9DC70EC40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of you will know this, but want to set the groundwor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 D enrollment is modeled on Part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only enroll certain times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first time Part D elig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/15/05 – 5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new to Medicare after that, 3 months before, month of, and 3 months after first Part D elig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every year – Annual Coordinated Enrollment Period (Nov 15 – Dec 3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ck-in – can only change for “good caus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o in the general population does NOT have to take any action to get Part D benefi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MA dee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current MA plan will convert to MA-P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current MA plan won’t convert, but does offer drugs now, so plan will switch you to MA-PD in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notified by plans in October of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- most MA enrollees will be “deemed” (including duals), so won’t need to be auto- or facilitated enro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AC2-34ED-4602-9A26-16793DC6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9AB-F880-44EF-A58C-A79355A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9EE-F795-4856-B6EC-853ABFF8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95D-6921-47DB-A94A-66A849AF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618B-9ED2-4B48-9B68-F5EC3A03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522-7DDE-4BAF-B402-294463D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4FA-678E-425E-B9D8-E7E7143E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A11C-E9C7-4318-96A8-2BE2574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2440-584A-4809-A6E0-FF476DF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4C01-2139-4F95-95D3-B6EF4A3B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0C9E-305C-40B3-9478-0DD5669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FBE-9824-4C57-9BAE-787A4618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CDE-26FE-4985-9C29-CC3B865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02F8-EB33-457C-AE63-A839CA5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864-8A72-43F3-AF35-8F2A3E1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AAA2-D776-44CF-A60A-98C2173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397-27E0-49C3-B64E-5DABD0E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BBC-4131-4C6B-9156-CD70272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15A-D437-47FC-83E4-613D1C3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28F-C576-4322-8E54-46E0247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E66-C725-43EF-9316-F98BFC4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B17-04A1-4584-9D27-76CC374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9DC-D1A7-40FC-B96E-4D9AA62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B83-DE5F-4DD9-9247-67DE4EE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9B7-B441-46AF-83CF-5E7BE9E4B7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3AE6-2853-4C49-ADA6-E6C8397484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rt D: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uto-Enroll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19520"/>
            <a:ext cx="7467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on Donov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sion of Enrollment and Eligibilit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 for Beneficiary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s for Medicare &amp; Medicaid Servic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ssign Beneficiary to PD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 to PDP in region with premium at or below LIS premium subsidy amount for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A and cost plan enrollees, plan auto-enrolls them into MA-PD plan or into cost plan optional supplemental benefit with lowest Part D prem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ffective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ull duals identified in 2005, effective date is 1/1/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id prescription drug coverage ends 12/31/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events coverage g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ffective Date in Fu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ing 2006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id-eligible first, then Medi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day of Part D elig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result in retroactive effective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re-eligible first, then Medic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pective – first day of second month after person included in auto-enrollment r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MS Notice to Beneficiar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MS will notify each beneficiary about where they will be auto-enro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cited comments from industry, advocates, and states in early Ju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ed with consum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cms.hhs.gov/medicarereform/Enrollment-Q&amp;A-10-20-05-with-cover-sheet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MS Notifies Sta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MS will notify State Medicaid Agencies where their full dual eligibles are auto-enro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 Responsibil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 confirmation notice within 7 business days after receiving Transaction Reply Report (TR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also get supplemental address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 modified version of pre- and post-enrollment mate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idence of health insurance coverage, so they can begin using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ges for which they will be l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ive date of cove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o obtain services prior to receiving ID c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y of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ciary Next Ste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beneficiaries receive CMS notice of auto-enrollment, they may affirmatively de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-out of auto-enroll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do so prior to auto-enrollment effective date, or even after they are auto-enro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contact 1-800-MEDI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contact PD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ciary Next Steps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on affirmatively declining (opt ou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 does not surrender eligibility for, or right to enroll in, a Part D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ensures they are not included in future monthly auto-enroll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btain benefits in the future, simply enrolls with a plan (normal prospective effective d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ciary Next Steps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06480" y="1981080"/>
            <a:ext cx="68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are not full dual do not need to affirmatively dec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imply do not enroll, or if they have, simply disenro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duals have an S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enroll, disenroll, or change plans at any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ilitated Enroll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to auto-enroll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non-full duals eligible for L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later, in Spring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round effective date is 6/1/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rollment 10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general Medicare popul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certain times they can en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k-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ctively enroll in plan to get bene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tions (for general popul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 “deeming”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44480" y="304560"/>
            <a:ext cx="6065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….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uto-Enroll – Who Do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MS auto-enrolls into PDPs, if beneficiary i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l Medi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-PFFS with no Part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plan with no Part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organizations and cost plans (if latter offers Part D optional supplemental benefit) facilitate enrollment for full duals enrolled in thos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October – start first r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benefici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ssig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ing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o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 mail file to print contra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-time notification to State Medicaid A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/cost plans send ANOC to benefici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Ps send passive enrollment notices to full d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ing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Nov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S mails notices to beneficia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-enrolled into PD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mber 1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EP/AEP st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ing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mber – Dec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Medicaid Agencies send Notice of Action to full duals (that Medicaid coverage is ending for prescription dru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ember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 chance to change before auto-enrollment takes eff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uary 1, 2006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-enrollment eff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Beneficiar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31960" y="1981080"/>
            <a:ext cx="68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 of data – monthly State Medicaid Agency state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 tho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50 states/D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f they have employer subsidy claimed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dentifying Beneficiaries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lude those w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in 5 US territories or in foreign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mates in correctional fac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irmatively decline auto-enroll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PACE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ready have to get all Medicare benefits through PACE organization, so don’t need to auto-enro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3:31:35Z</dcterms:created>
  <dc:creator>CMS</dc:creator>
  <dc:description/>
  <dc:language>en-US</dc:language>
  <cp:lastModifiedBy>Sharon</cp:lastModifiedBy>
  <dcterms:modified xsi:type="dcterms:W3CDTF">2005-12-02T15:51:43Z</dcterms:modified>
  <cp:revision>177</cp:revision>
  <dc:subject/>
  <dc:title>Medicare Prescription Drug, Improvement, and Modernization Act of 2003 Impact on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6579</vt:r8>
  </property>
  <property fmtid="{D5CDD505-2E9C-101B-9397-08002B2CF9AE}" pid="3" name="_AuthorEmail">
    <vt:lpwstr>Robert.Boggio@cms.hhs.gov</vt:lpwstr>
  </property>
  <property fmtid="{D5CDD505-2E9C-101B-9397-08002B2CF9AE}" pid="4" name="_AuthorEmailDisplayName">
    <vt:lpwstr>Boggio, Robert C. (CMS/CBC)</vt:lpwstr>
  </property>
  <property fmtid="{D5CDD505-2E9C-101B-9397-08002B2CF9AE}" pid="5" name="_EmailSubject">
    <vt:lpwstr>Employer Forum Agendas and Materials</vt:lpwstr>
  </property>
  <property fmtid="{D5CDD505-2E9C-101B-9397-08002B2CF9AE}" pid="6" name="_NewReviewCycle">
    <vt:lpwstr/>
  </property>
  <property fmtid="{D5CDD505-2E9C-101B-9397-08002B2CF9AE}" pid="7" name="_PreviousAdHocReviewCycleID">
    <vt:r8>1218983213</vt:r8>
  </property>
</Properties>
</file>