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351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3516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D34F66-592D-4294-A3D7-9A183C50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3516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AFB2638-6975-4546-9C93-920DD406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351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5200" y="4409640"/>
            <a:ext cx="509580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707-FFD5-4698-897C-88E97141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15E-FDFE-4D4F-9694-4CE218ED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720-A6D4-4E4F-B6A5-008BE541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0D6-6E1E-426A-BCC3-B831B108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DCF3-D611-4760-A2C1-948F7DDC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8394-8094-4D28-BC1F-E74F5D3B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14B4-E6D3-4755-A8C9-AEC3899D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066D-B935-4CFB-86EE-944A5C19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0A1F-EA09-4721-BE1E-92DE5640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5208-B3D2-4CEA-8593-FEF1DFB8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C4BA-9B86-46E1-A632-4375C62E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9F5-7F6A-49D8-9689-8FA93759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DFFD-A9EF-4E61-BD79-28786470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4285-FA8F-4787-AE21-D1C72963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DB83-8C05-49D2-843B-EE412A8E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8C10-D95F-41A8-86B2-60FE4139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FE0C-94B4-487C-8E91-7A43D36A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6C9-6576-432E-BAC1-7BF4CB79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5ED-537A-4C02-952F-DF4FDC38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BE6-CB59-4BAB-9BEC-7F460A2E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874-BEDC-484E-8F08-F3FF05EE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AF8-65AD-481E-92DA-80C6DD34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901-0F3D-422C-9972-C5F0E2CD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51B-B790-45F4-BC33-D383402E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-810" r="0" b="0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91F5-6405-447F-A6D8-87690D4AE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1855800" cy="6858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4BEB-033E-4CD0-AEDF-6AD77B8A4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hyperlink" Target="http://my.medicare.gov/" TargetMode="External"/><Relationship Id="rId3" Type="http://schemas.openxmlformats.org/officeDocument/2006/relationships/hyperlink" Target="http://my.medicare.gov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Opportunities—and Challenges—in Medi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NursingWorld"/>
          <p:cNvPicPr/>
          <p:nvPr/>
        </p:nvPicPr>
        <p:blipFill>
          <a:blip r:embed="rId1"/>
          <a:srcRect l="0" t="0" r="0" b="-4648"/>
          <a:stretch/>
        </p:blipFill>
        <p:spPr>
          <a:xfrm>
            <a:off x="3048120" y="5334120"/>
            <a:ext cx="5181480" cy="106668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0000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New Focus on Prevention in Medi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disease early when it is most trea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disease so complications can be avo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Medicare’s financial outl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20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reventive Servic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osing the Benefit G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Medicare” physical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vascular screening bloo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screening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 and tobacco use cessation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self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ucoma screening for Hispanic Americans age 65 or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Preventive Benefits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dvantag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“risk adjustment” leading to enhanced benefits; special needs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Health Suppor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se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cer Prevention  Demonstra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over 13,000 minority Medicare beneficiaries navigate the healthc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200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ltrasound screening for abdominal aortic aneurysms; no deductible for colorectal cancer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3657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G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838080"/>
          <a:ext cx="7620120" cy="5415120"/>
        </p:xfrm>
        <a:graphic>
          <a:graphicData uri="http://schemas.openxmlformats.org/drawingml/2006/table">
            <a:tbl>
              <a:tblPr/>
              <a:tblGrid>
                <a:gridCol w="2563920"/>
                <a:gridCol w="2492280"/>
                <a:gridCol w="2563920"/>
              </a:tblGrid>
              <a:tr h="3794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ed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Benefic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 Test and Pelvic Ex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women, every 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men at high risk,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eening Mamm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women age 40 or older, once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ate Cancer Scre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 over age 50, once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h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, once a flu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vascular screen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 with Medicare, every 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coccal S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, generally only needed once in life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85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sing Grassroots Networ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84440"/>
            <a:ext cx="91440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S Prevention Partner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A Aging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Heart Association, the American Cancer Society, and the American Diabetes Assoc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outreach with African-American, Hispanic, American Indian, Asian-American and Pacific Islander communities. This includes culturally and language-appropriate materials and specialized paid media campaig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CMS Beneficiary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edicare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Compare tool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00-MED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&amp; You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y.Medicare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holder for screen s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ed Steps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on-Centered Ca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, accessible information 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and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entury Medi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rug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eventiv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ing benefic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evidence on wha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Drug Benefit Is 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co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 with greater opportunities for sav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illion prescriptions filled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 D Enrollment is Str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38 million Medicare beneficiaries—over 90%—now have prescription cover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with Part D enrolled in plans other than the standard benefit designed by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nsified Efforts to Provide Extra Hel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cedented grassroots partnerships enabled close to 10 million people with limited incomes to have drug cove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D outreach spurred enrollment in other low-income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stimated 3.2 million low-income beneficiaries still need to enro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ching Low-Income People is a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467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 per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eniors eligible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nrolled in the program now, 40 years l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3 per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oll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MB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began in 198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prescription assis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s enrolled on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mall f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igible in their first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nsified Effor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 Enroll L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ed education and application events, direct mailings, and follow-up phone ca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CO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MS grant, providing tailored, list-driven interventions to identify and enroll eligible beneficia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nsified Efforts—C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-eligible people do not have to wait for open enroll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-driven, to identify eligible people at state, county, community and individual lev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pronged education and outreach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itiatives for minority and rural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array of partnershi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ortant Research Topic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124080"/>
            <a:ext cx="77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effective strategies to reach LIS-eligible beneficia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5:47:42Z</dcterms:created>
  <dc:creator>CMS</dc:creator>
  <dc:description/>
  <dc:language>en-US</dc:language>
  <cp:lastModifiedBy>CMS</cp:lastModifiedBy>
  <dcterms:modified xsi:type="dcterms:W3CDTF">2006-06-22T18:35:33Z</dcterms:modified>
  <cp:revision>57</cp:revision>
  <dc:subject/>
  <dc:title>21st Century Medicine: Higher Quality at Lower Cos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87450694</vt:r8>
  </property>
  <property fmtid="{D5CDD505-2E9C-101B-9397-08002B2CF9AE}" pid="3" name="_AuthorEmail">
    <vt:lpwstr>Robert.Boggio@cms.hhs.gov</vt:lpwstr>
  </property>
  <property fmtid="{D5CDD505-2E9C-101B-9397-08002B2CF9AE}" pid="4" name="_AuthorEmailDisplayName">
    <vt:lpwstr>Boggio, Robert C. (CMS/CBC)</vt:lpwstr>
  </property>
  <property fmtid="{D5CDD505-2E9C-101B-9397-08002B2CF9AE}" pid="5" name="_EmailSubject">
    <vt:lpwstr>Employer and Union Forum Webpage Downloads</vt:lpwstr>
  </property>
  <property fmtid="{D5CDD505-2E9C-101B-9397-08002B2CF9AE}" pid="6" name="_NewReviewCycle">
    <vt:lpwstr/>
  </property>
  <property fmtid="{D5CDD505-2E9C-101B-9397-08002B2CF9AE}" pid="7" name="_PreviousAdHocReviewCycleID">
    <vt:r8>-1475847408</vt:r8>
  </property>
</Properties>
</file>