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B3E-CA6D-48C8-8671-1CDD7C52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AE5-CFC0-4390-BA36-36807D52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E7C-5A90-4D74-A89F-A044039B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116-E4B4-40C4-AE32-A020F9DE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E087-F990-44DC-93AE-56374E41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C786-B7F2-4903-9AC5-EF7B3EC8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1BC5-3DA3-44FA-A85A-0F51B139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EC56-935E-4B26-9DA3-61BE1F7D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C08E-9FAB-4A3E-9FE7-A2D0E481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BE70-2283-4922-B52C-07093B5D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4C02-9259-46CE-B3DE-1169C056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AB0-8173-4C37-B995-9BF37D23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3FAB-18DF-4078-999B-9CD32CC4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4F38-1920-4127-A6EB-EF529D53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7B8F-D67F-45F9-8AE5-1BB4A019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537A-E0F6-4D27-BEE1-9041AC17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A7CB-B0EB-4F2B-AEDE-F2C3D4CC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87AC-FD26-4FCD-8314-B22BE9CD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56A1-D223-49FF-8CC0-5B7E300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7561-1EA2-430F-80D7-7DD0CB66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D5F2C-FA68-4BB2-B0DB-EDCFC36E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B194-ECD1-40FE-B7C1-18333369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51C-814B-4E24-B367-3043181F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203B-78F3-43D8-8F42-D0E67590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A16B-441A-400A-8D4F-5AE9A8C1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0F94A-4EE7-445A-9825-2E2865B2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88802-2101-497A-849F-D4EE068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3076-CA2A-43BA-B341-FBCCE1E4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8F9D-9B73-4C09-AE8C-09BEECD9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4F3A2-D96F-4CFC-8E30-33FAC9B9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664D8-66C2-4FF2-A902-4F718D60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508A7-3DEE-46E7-BC52-3F2F456C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FAC58-6FC4-4AD3-8331-33812ABF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3EF-ADE6-4C97-A304-4DCA8256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F4A2-02FC-4B52-BFE6-E95F7095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2DD64-3B55-4B53-8D6B-7FB138F4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4D59-2400-404F-A18C-AA576151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C67E4-5743-4C42-9B9A-986F23B6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A6EAD-306D-40D8-BE6A-E02B9F36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F991-54C9-4925-9B80-79A35A9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D6AF-69DD-4A50-A04F-7B878B8A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7EED9-F051-4E69-85B5-499F8675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46CA-B539-4794-A966-10CF0978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C1A9E-07C9-4B85-95E9-85A501BB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32E-DF2C-4424-B590-07C63333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4CB69-4D4D-4C78-B6CE-B50D8E28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0EF5E-6B31-4D34-BD87-F43EF7D0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7CBC-D5D8-49CD-810D-62A10DF2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1E8B0-D39D-42D6-995A-EDD9D314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C305-2C97-433C-A01D-927D156C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F2862-68F9-458D-92B2-5DFA7F2E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6047-F8C9-45F5-91E7-4DDD30A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D88B-BB54-40CF-AA03-641DD2EC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A9FE-59C3-4FBE-9AA8-9F42830A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D3A95-22F1-450D-97CF-3803F592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B62-6F14-4075-BBEA-DD63D3C1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59E8F-0CC8-4C1E-AE9C-263DC48C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C57-6AF4-4606-A7CB-1FB815B1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8A4-8B5D-40DA-9CC8-D2B13E3D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A66-0921-4304-9E57-56810A18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828440"/>
            <a:ext cx="7162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99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76F1-EBFD-417C-9BE1-25E325BB0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23520" y="1828440"/>
            <a:ext cx="7162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99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8F46-6E97-40B1-9224-2EFE6F84C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600200"/>
          </a:xfrm>
          <a:prstGeom prst="bevel">
            <a:avLst>
              <a:gd name="adj" fmla="val 6944"/>
            </a:avLst>
          </a:prstGeom>
          <a:solidFill>
            <a:srgbClr val="008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99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8D49-046A-4B54-B124-5CBB95155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23520" y="1828440"/>
            <a:ext cx="7162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99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7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4771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5778-7A9C-4F2F-8075-1A4AAF180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1600200"/>
          </a:xfrm>
          <a:prstGeom prst="bevel">
            <a:avLst>
              <a:gd name="adj" fmla="val 6944"/>
            </a:avLst>
          </a:prstGeom>
          <a:solidFill>
            <a:srgbClr val="006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8025-B2F1-4746-9FB1-DBA3DCB65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ms.hhs.gov/PrescriptionDrugCovContra/Downloads/PDP_EnrollmentGuidance_08.29.05.pdf" TargetMode="External"/><Relationship Id="rId2" Type="http://schemas.openxmlformats.org/officeDocument/2006/relationships/hyperlink" Target="http://www.cms.hhs.gov/PrescriptionDrugCovContra/Downloads/PDP_EnrollmentGuidance_08.29.05.pdf" TargetMode="External"/><Relationship Id="rId3" Type="http://schemas.openxmlformats.org/officeDocument/2006/relationships/hyperlink" Target="http://www.medicare.gov/Publications/Pubs/pdf/11105.pdf" TargetMode="External"/><Relationship Id="rId4" Type="http://schemas.openxmlformats.org/officeDocument/2006/relationships/hyperlink" Target="http://www.medicare.gov/Publications/Pubs/pdf/11111.pdf" TargetMode="External"/><Relationship Id="rId5" Type="http://schemas.openxmlformats.org/officeDocument/2006/relationships/hyperlink" Target="http://www.cms.hhs.gov/partnerships/downloads/reimbursement4-18-06.pdf" TargetMode="External"/><Relationship Id="rId6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ms.hhs.gov/NationalMedicareYouTrain" TargetMode="External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28600" y="2568600"/>
            <a:ext cx="8610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4038480"/>
            <a:ext cx="601992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 Nationa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care &amp; Y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n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ff Ma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y Pokrzy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in Press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0520" y="2743200"/>
            <a:ext cx="818496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down to May 15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rolling in Medicare Prescription Drug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293F4-EDB5-461B-8BAB-1A4B59CDFF4E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Eligibility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Part A and/or Par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live in plan’s servi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Medicare mus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a Medicare drug plan to get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0964-9AD6-49D5-B407-7188CA09E5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Enrollment Periods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Enrollmen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Coordinated Election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Open Enrollmen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Enrollment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F715-16BA-409F-8985-AF9B26E144E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b011"/>
                </a:solidFill>
                <a:latin typeface="Verdana"/>
              </a:rPr>
              <a:t>2006 Enrollment Periods*</a:t>
            </a:r>
            <a:endParaRPr b="1" lang="en-US" sz="38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371600"/>
            <a:ext cx="8147160" cy="4653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3880" y="1371600"/>
            <a:ext cx="57636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81400" y="1371600"/>
            <a:ext cx="57600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68560" y="1371600"/>
            <a:ext cx="57636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57520" y="1371600"/>
            <a:ext cx="57312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5040" y="1371600"/>
            <a:ext cx="57456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32200" y="1371600"/>
            <a:ext cx="57492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18280" y="1371600"/>
            <a:ext cx="57600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07240" y="1371600"/>
            <a:ext cx="57600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94400" y="1371600"/>
            <a:ext cx="57636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1920" y="1371600"/>
            <a:ext cx="57636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70880" y="1371600"/>
            <a:ext cx="57456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58040" y="1371600"/>
            <a:ext cx="574920" cy="452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836720"/>
            <a:ext cx="815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74920" y="1836720"/>
            <a:ext cx="144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62440" y="1830240"/>
            <a:ext cx="144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49600" y="1830240"/>
            <a:ext cx="180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38560" y="1830240"/>
            <a:ext cx="180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26080" y="1836720"/>
            <a:ext cx="144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13240" y="1830240"/>
            <a:ext cx="180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02200" y="1830240"/>
            <a:ext cx="180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89720" y="1830240"/>
            <a:ext cx="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75440" y="1830240"/>
            <a:ext cx="180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62960" y="1830240"/>
            <a:ext cx="144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51920" y="1830240"/>
            <a:ext cx="144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5040" y="1914480"/>
            <a:ext cx="3600360" cy="981000"/>
          </a:xfrm>
          <a:prstGeom prst="rightArrow">
            <a:avLst>
              <a:gd name="adj1" fmla="val 66898"/>
              <a:gd name="adj2" fmla="val 3298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itial Enrollmen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I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73320" y="1371600"/>
            <a:ext cx="573120" cy="4557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62280" y="1836720"/>
            <a:ext cx="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73320" y="1836720"/>
            <a:ext cx="1440" cy="41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2971800"/>
            <a:ext cx="3600360" cy="971640"/>
          </a:xfrm>
          <a:prstGeom prst="rightArrow">
            <a:avLst>
              <a:gd name="adj1" fmla="val 66898"/>
              <a:gd name="adj2" fmla="val 3329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nual Coord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ion Period (A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58160" y="5016600"/>
            <a:ext cx="880920" cy="930240"/>
          </a:xfrm>
          <a:prstGeom prst="rightArrow">
            <a:avLst>
              <a:gd name="adj1" fmla="val 66898"/>
              <a:gd name="adj2" fmla="val 8986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371600"/>
            <a:ext cx="573120" cy="4557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73080" y="4114800"/>
            <a:ext cx="3429000" cy="838080"/>
          </a:xfrm>
          <a:prstGeom prst="rightArrow">
            <a:avLst>
              <a:gd name="adj1" fmla="val 75417"/>
              <a:gd name="adj2" fmla="val 36558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 Open Enrol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iod (O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095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*Does not reflect S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B2CE-02EA-46E1-91EB-EA491CB881F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b011"/>
                </a:solidFill>
                <a:latin typeface="Verdana"/>
              </a:rPr>
              <a:t>Initial Enrollment Period</a:t>
            </a:r>
            <a:endParaRPr b="1" lang="en-US" sz="38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4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Enrollment Period (I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 effective first day of following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early-in-month enroll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143000" y="2362320"/>
          <a:ext cx="6705720" cy="2444760"/>
        </p:xfrm>
        <a:graphic>
          <a:graphicData uri="http://schemas.openxmlformats.org/drawingml/2006/table">
            <a:tbl>
              <a:tblPr/>
              <a:tblGrid>
                <a:gridCol w="3809880"/>
                <a:gridCol w="2895840"/>
              </a:tblGrid>
              <a:tr h="1225800">
                <a:tc>
                  <a:txBody>
                    <a:bodyPr lIns="128160" rIns="128160" tIns="64080" bIns="6408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people entitled to Medicare before February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5, 2005, through   May 15,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128160" rIns="128160" tIns="64080" bIns="6408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people entitled to Medicare on February 1, 2006, or l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month 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3878-7EC6-433A-B046-B5B1671E20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b011"/>
                </a:solidFill>
                <a:latin typeface="Verdana"/>
              </a:rPr>
              <a:t>Annual Coordinated Election Period (AEP)</a:t>
            </a:r>
            <a:endParaRPr b="1" lang="en-US" sz="38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join or switch during A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Advantag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Advantage plans with prescription drug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ption dru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edicare Health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A96B-C5EE-483E-A084-A083AA092C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b011"/>
                </a:solidFill>
                <a:latin typeface="Verdana"/>
              </a:rPr>
              <a:t>Annual Coordinated Election Period (AEP)</a:t>
            </a:r>
            <a:endParaRPr b="1" lang="en-US" sz="38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5, 2005 – May 15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yea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with I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effective first day of following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5 – December 31 eve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effective January 1 of follow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ED8C-EEBA-4602-8A14-BD5680ACBE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b011"/>
                </a:solidFill>
                <a:latin typeface="Verdana"/>
              </a:rPr>
              <a:t>MA Open Enrollment Period (OEP)</a:t>
            </a:r>
            <a:endParaRPr b="1" lang="en-US" sz="38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Advantage Open Enrollmen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6: January 1 – June 30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7 and beyond: January 1 – March 31 eac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llment is limited during the O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ABCD-BA57-4EB2-8289-802B0A8418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Open Enrollment Limit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MA Open Enrollm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28600" y="2286000"/>
          <a:ext cx="8839080" cy="39067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971800"/>
              </a:tblGrid>
              <a:tr h="4356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coverag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an use OEP to g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Cannot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use OEP to g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re Advantage with prescription drug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age (MAPD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P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Original Medicare and PD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-on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iginal Medicare on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re Advantage with no prescription drug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age (MA-onl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-on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Original Medicare on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P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iginal Medicare and PD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Medicare and a prescription drug plan (PDP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P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-on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different PDP to use with Original Medi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Medicare on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-on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P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iginal Medicare and PD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2438280" y="3352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128520" rIns="128520" tIns="-64800" bIns="-64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128520" rIns="128520" tIns="-64800" bIns="-64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128520" rIns="128520" tIns="-64800" bIns="-64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5943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128520" rIns="128520" tIns="-64800" bIns="-64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248520"/>
            <a:ext cx="30481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5160" bIns="651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re &amp; You 200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pg. 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CC60B-42E3-4887-A9CE-3B0D20EACC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b011"/>
                </a:solidFill>
                <a:latin typeface="Verdana"/>
              </a:rPr>
              <a:t>Special Populations</a:t>
            </a:r>
            <a:endParaRPr b="1" lang="en-US" sz="38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both Medicare and Medicaid can join or switch plan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benefit dual elig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Saving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reside in a long-term care facility can join or switch plan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C8FC-0F46-40CA-A294-1416848F40A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b011"/>
                </a:solidFill>
                <a:latin typeface="Verdana"/>
              </a:rPr>
              <a:t>Special Enrollment Period (SEP)</a:t>
            </a:r>
            <a:endParaRPr b="1" lang="en-US" sz="38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can grant a SEP under exceptional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ffected by Hurricane Kat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change residence during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lose their creditable coverage involunta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2A392-D9D2-43DE-8E18-E1B40242C5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CMS Prepares for Final Enrollment Push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7CBF1-CC0B-4B81-8F1A-5ECED37DD9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Enrollment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use a paper enrollment form to enroll in a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lans allow enrollment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th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ing pla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1-800-MED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ing www.medicare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22E5-5DB2-4650-8A88-E10B2F0AD7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Disenrollment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disenroll from a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 in another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nrollment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1-800-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D88F-A76F-4766-8223-5D9F504A21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Applying for Extra Help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for Low Income Subsidy (LIS) through 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t www.socialsecurity.gov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canable form, no photo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rough State Medical Assistance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nied, can app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al letter will include appe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00D7-78A7-46A1-A4F3-13C36947BE6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b011"/>
                </a:solidFill>
                <a:latin typeface="Verdana"/>
              </a:rPr>
              <a:t>Waiting for Decision </a:t>
            </a:r>
            <a:br>
              <a:rPr sz="3800"/>
            </a:br>
            <a:r>
              <a:rPr b="1" lang="en-US" sz="3800" spc="-1" strike="noStrike">
                <a:solidFill>
                  <a:srgbClr val="ffb011"/>
                </a:solidFill>
                <a:latin typeface="Verdana"/>
              </a:rPr>
              <a:t>on Extra Help</a:t>
            </a:r>
            <a:endParaRPr b="1" lang="en-US" sz="38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a Medicare drug plan by May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qualify for extra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n will re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get SEP to switch once before the end of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it until after May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qualify for extra help, will get SEP to en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84E4-6899-40EB-91CD-A4BAF05B5FD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Applying for Extra Help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 eligibility redetermined by S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nformation available to 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 eligibility redetermined by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manner and frequency as redeterminations made under the state’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no need to reapply for 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eed to apply for LIS if beneficiary loses deeme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109B-6833-40CD-A9FA-F0F239AE04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28600" y="29714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mium Pa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8067-D3A8-436E-B49F-6B7BE406F48C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Premium Payment Options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in options for paying Medicare drug plan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533520">
              <a:spcBef>
                <a:spcPts val="700"/>
              </a:spcBef>
              <a:buClr>
                <a:srgbClr val="99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electronic withdrawal from checking or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533520">
              <a:spcBef>
                <a:spcPts val="700"/>
              </a:spcBef>
              <a:buClr>
                <a:srgbClr val="99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bill from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533520">
              <a:spcBef>
                <a:spcPts val="700"/>
              </a:spcBef>
              <a:buClr>
                <a:srgbClr val="99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deduction from monthly Social Security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19A9-CAC7-447C-848B-ECE5FBDC6E4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b011"/>
                </a:solidFill>
                <a:latin typeface="Verdana"/>
              </a:rPr>
              <a:t>Social Security Benefit Withhold</a:t>
            </a:r>
            <a:br>
              <a:rPr sz="3500"/>
            </a:br>
            <a:r>
              <a:rPr b="1" lang="en-US" sz="3500" spc="-1" strike="noStrike">
                <a:solidFill>
                  <a:srgbClr val="ffb011"/>
                </a:solidFill>
                <a:latin typeface="Verdana"/>
              </a:rPr>
              <a:t>How it Works</a:t>
            </a:r>
            <a:endParaRPr b="1" lang="en-US" sz="35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takes about two months to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ime plan submits requ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onthly premium payments withheld the firs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monthly premium payment withheld there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pay premium before automatic deduction st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quest processed, all premiums owed will be withheld from next Social Security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7565-8C34-4DC8-BC7B-1B9C6458A1B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onthly Social Security benefit is not enough to cover multiple premium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will not be deducted from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ee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with plan to be direct billed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remium withdrawn from checking or savings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b011"/>
                </a:solidFill>
                <a:latin typeface="Verdana"/>
              </a:rPr>
              <a:t>Social Security Benefit Withhold</a:t>
            </a:r>
            <a:br>
              <a:rPr sz="3500"/>
            </a:br>
            <a:r>
              <a:rPr b="1" lang="en-US" sz="3500" spc="-1" strike="noStrike">
                <a:solidFill>
                  <a:srgbClr val="ffb011"/>
                </a:solidFill>
                <a:latin typeface="Verdana"/>
              </a:rPr>
              <a:t>How it Works</a:t>
            </a:r>
            <a:endParaRPr b="1" lang="en-US" sz="35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8F230-E5A6-4301-AD37-4FCD70C733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nroll in new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stops current plan premium d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takes 1 to 2 months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SA withheld the pre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 will refund in separate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get refund within 8 weeks after enrolling in new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b011"/>
                </a:solidFill>
                <a:latin typeface="Verdana"/>
              </a:rPr>
              <a:t>Social Security Benefit Withhold</a:t>
            </a:r>
            <a:br>
              <a:rPr sz="3500"/>
            </a:br>
            <a:r>
              <a:rPr b="1" lang="en-US" sz="3500" spc="-1" strike="noStrike">
                <a:solidFill>
                  <a:srgbClr val="ffb011"/>
                </a:solidFill>
                <a:latin typeface="Verdana"/>
              </a:rPr>
              <a:t>How it Works</a:t>
            </a:r>
            <a:endParaRPr b="1" lang="en-US" sz="35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71A9-F4E5-4FC2-87C0-05A90AA47E2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Telephone Assistance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800-MED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000 CSRs available to take calls in 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emporary call center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rough the May 15 enrollment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 866# pharmacy support l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lso remain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u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encourag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5D1DF-CB12-4A34-A775-A376B0A7FD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Premium Overpayments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ium Over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premium amount ded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ccur if person changes premium payment option to direct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ium payment change doesn’t immediately go into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curity will automatically refund the over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will receive a refund check separate from regular monthly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2–3 months to receive a re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7B1B-1754-4F02-883B-36E08F19E9E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Enroll by May 15, 2006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ll by May 15,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peace of m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D921-AE63-4C64-AAA9-D564DC2C5D9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Joining a Plan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 directly with plan spo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601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mu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lete application by May 15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to 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601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www.medicare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601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601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or fax to plan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in early May to ensure timely rece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2792-6EF9-4F06-B7DD-26FC2771686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Resources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P Guidanc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igibility, Enrollment, and Disenroll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pplying for Extra Help (Pub 111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ow to Join (Pub 111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e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1D458-A9D0-4B42-B5BC-2D7336B2917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For More Information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752480"/>
            <a:ext cx="7391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www.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1-800-MEDI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State Health Insurance Assistance Program (SH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601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1-800-MEDICARE (1-800-633-4227) for SHIP tele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601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Y users should call 1-877-486-20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57B5-82A3-48C9-A368-025AF3537D4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Thank You for Your Attention!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ording of this training will be available after May 4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601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Medicare &amp; You Training websi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ms.hhs.gov/NationalMedicareYou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dicare Rx Conference C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menu in left 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5414-1B55-468B-A25D-37B89DCB69F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b011"/>
                </a:solidFill>
                <a:latin typeface="Verdana"/>
              </a:rPr>
              <a:t>www.medicare.gov</a:t>
            </a:r>
            <a:endParaRPr b="1" lang="en-US" sz="48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Finder Web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to help make a plan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ment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nd print out current dru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one-page summary of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entry of drug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capacity has more than quadrup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A0EB-D481-4652-A4ED-B694628339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SHIPs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ing up for a last-minute surge in counseling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staffing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capacity of hotlin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ing counselors for events hosted by CMS partn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eminat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nearly 12,000 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1D88-406D-426A-9A21-0C770B58FC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MOT and Media Campaign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bile Office Tour (M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continue to tour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ng enrollment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media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on African American, Asian and Hispani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continue through mid-May in print and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coordinated at the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4AAB-E6C7-42D0-A106-B4F5B59727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Grassroots Outreach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2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s schedu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spons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-spons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d through May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9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nrollment-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E529-FB31-4B6F-AA5F-011E2E94D4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011"/>
                </a:solidFill>
                <a:latin typeface="Verdana"/>
              </a:rPr>
              <a:t>Training</a:t>
            </a:r>
            <a:endParaRPr b="1" lang="en-US" sz="4200" spc="-1" strike="noStrike">
              <a:solidFill>
                <a:srgbClr val="ffb011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National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more multimedia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99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training on curren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asts and webin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national audi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d on the CMS websit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NationalMedicareYouT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d training for specific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2493-0E07-414E-B9C2-D298335127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28600" y="2514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rolling in Medicare Prescription Drug Co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1E40-3886-4C10-B3FF-9BAC96814C0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pril 2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4:24:56Z</dcterms:created>
  <dc:creator>Lonni Kint</dc:creator>
  <dc:description/>
  <dc:language>en-US</dc:language>
  <cp:lastModifiedBy>CMS</cp:lastModifiedBy>
  <dcterms:modified xsi:type="dcterms:W3CDTF">2006-04-25T15:18:27Z</dcterms:modified>
  <cp:revision>1575</cp:revision>
  <dc:subject/>
  <dc:title>Medicare Prescription Drug P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5045830</vt:r8>
  </property>
  <property fmtid="{D5CDD505-2E9C-101B-9397-08002B2CF9AE}" pid="3" name="_AuthorEmail">
    <vt:lpwstr>Amy.Larrick@cms.hhs.gov</vt:lpwstr>
  </property>
  <property fmtid="{D5CDD505-2E9C-101B-9397-08002B2CF9AE}" pid="4" name="_AuthorEmailDisplayName">
    <vt:lpwstr>Larrick, Amy (CMS/CBC)</vt:lpwstr>
  </property>
  <property fmtid="{D5CDD505-2E9C-101B-9397-08002B2CF9AE}" pid="5" name="_EmailSubject">
    <vt:lpwstr>Wednesday's 4-26 Conference Call Training </vt:lpwstr>
  </property>
  <property fmtid="{D5CDD505-2E9C-101B-9397-08002B2CF9AE}" pid="6" name="_NewReviewCycle">
    <vt:lpwstr/>
  </property>
  <property fmtid="{D5CDD505-2E9C-101B-9397-08002B2CF9AE}" pid="7" name="_PreviousAdHocReviewCycleID">
    <vt:r8>1606442578</vt:r8>
  </property>
</Properties>
</file>