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360"/>
            <a:ext cx="2971800" cy="46044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16"/>
          </p:nvPr>
        </p:nvSpPr>
        <p:spPr>
          <a:xfrm>
            <a:off x="3884400" y="-360"/>
            <a:ext cx="2971800" cy="46044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2860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Click to move the slide</a:t>
            </a:r>
            <a:endParaRPr b="1" lang="en-US" sz="4200" spc="-1" strike="noStrike">
              <a:solidFill>
                <a:srgbClr val="ffb011"/>
              </a:solidFill>
              <a:latin typeface="Verdana"/>
            </a:endParaRPr>
          </a:p>
        </p:txBody>
      </p:sp>
      <p:sp>
        <p:nvSpPr>
          <p:cNvPr id="213" name="PlaceHolder 4"/>
          <p:cNvSpPr>
            <a:spLocks noGrp="1"/>
          </p:cNvSpPr>
          <p:nvPr>
            <p:ph type="body"/>
          </p:nvPr>
        </p:nvSpPr>
        <p:spPr>
          <a:xfrm>
            <a:off x="685800" y="4370400"/>
            <a:ext cx="5486400" cy="413856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17"/>
          </p:nvPr>
        </p:nvSpPr>
        <p:spPr>
          <a:xfrm>
            <a:off x="-360" y="8737200"/>
            <a:ext cx="2971800" cy="46044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18"/>
          </p:nvPr>
        </p:nvSpPr>
        <p:spPr>
          <a:xfrm>
            <a:off x="3884400" y="8737200"/>
            <a:ext cx="2971800" cy="46044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D64F07-8612-4D2E-8933-A0738BF68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28600" y="690480"/>
            <a:ext cx="4602240" cy="3451320"/>
          </a:xfrm>
          <a:prstGeom prst="rect">
            <a:avLst/>
          </a:prstGeom>
          <a:ln w="0">
            <a:noFill/>
          </a:ln>
        </p:spPr>
      </p:sp>
      <p:sp>
        <p:nvSpPr>
          <p:cNvPr id="258" name="PlaceHolder 2"/>
          <p:cNvSpPr>
            <a:spLocks noGrp="1"/>
          </p:cNvSpPr>
          <p:nvPr>
            <p:ph type="body"/>
          </p:nvPr>
        </p:nvSpPr>
        <p:spPr>
          <a:xfrm>
            <a:off x="685800" y="4370400"/>
            <a:ext cx="5486400" cy="413856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Hello and welcome to today’s training session on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Charlotte Newman, and I work for the Centers for Medicare &amp; Medicaid Services.  Joining me are: Randy Brauer, Sharon Donovan, and Jeff Gra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last training call, we discussed coverage determinations and the appeals process for Medicare prescription drug coverage.  Today we will be talking about how CMS is facilitating enrollment of people who are not dual-eligibles but who do qualify for the extra help.</a:t>
            </a:r>
            <a:r>
              <a:rPr b="0" i="1" lang="en-US" sz="1200" spc="-1" strike="noStrike">
                <a:solidFill>
                  <a:srgbClr val="000000"/>
                </a:solidFill>
                <a:latin typeface="Times New Roman"/>
              </a:rPr>
              <a:t> </a:t>
            </a:r>
            <a:r>
              <a:rPr b="0" lang="en-US" sz="1200" spc="-1" strike="noStrike">
                <a:solidFill>
                  <a:srgbClr val="000000"/>
                </a:solidFill>
                <a:latin typeface="Times New Roman"/>
              </a:rPr>
              <a:t>We will cover full and partial subsidies; the notices CMS is sending; how facilitated enrollment works; and beneficiary options, including special enrollment periods.  We will also discuss the reconciliation process and notice for affected enroll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training module was developed and approved by the Centers for Medicare &amp; Medicaid Services (CMS), the Federal agency that administers Medicare and Medicai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formation in this module was correct as of April 7,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amp; You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28600" y="690480"/>
            <a:ext cx="4602240" cy="3451320"/>
          </a:xfrm>
          <a:prstGeom prst="rect">
            <a:avLst/>
          </a:prstGeom>
          <a:ln w="0">
            <a:noFill/>
          </a:ln>
        </p:spPr>
      </p:sp>
      <p:sp>
        <p:nvSpPr>
          <p:cNvPr id="262" name="PlaceHolder 2"/>
          <p:cNvSpPr>
            <a:spLocks noGrp="1"/>
          </p:cNvSpPr>
          <p:nvPr>
            <p:ph type="body"/>
          </p:nvPr>
        </p:nvSpPr>
        <p:spPr>
          <a:xfrm>
            <a:off x="685800" y="4370400"/>
            <a:ext cx="5486400" cy="413856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People with a Medicare-approved drug discount card</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e any remaining transitional assistance once enrolled in a Medicare drug pla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lides and recordings from the last training sessions in this series, covering transition supplies, coverage determinations, exceptions, and appeals, are available on the CMS website at the partner center under “Spotlight” at http://www.cms.hhs.gov/center/partner.as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28600" y="690480"/>
            <a:ext cx="4602240" cy="3451320"/>
          </a:xfrm>
          <a:prstGeom prst="rect">
            <a:avLst/>
          </a:prstGeom>
          <a:ln w="0">
            <a:noFill/>
          </a:ln>
        </p:spPr>
      </p:sp>
      <p:sp>
        <p:nvSpPr>
          <p:cNvPr id="264" name="PlaceHolder 2"/>
          <p:cNvSpPr>
            <a:spLocks noGrp="1"/>
          </p:cNvSpPr>
          <p:nvPr>
            <p:ph type="body"/>
          </p:nvPr>
        </p:nvSpPr>
        <p:spPr>
          <a:xfrm>
            <a:off x="685800" y="4370400"/>
            <a:ext cx="5486400" cy="413856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400,000 to 500,000 nationwide, many of them dual-eligible who were auto-enrolled, then switched plans early in program. Letters sent no later than March 2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28600" y="690480"/>
            <a:ext cx="4602240" cy="3451320"/>
          </a:xfrm>
          <a:prstGeom prst="rect">
            <a:avLst/>
          </a:prstGeom>
          <a:ln w="0">
            <a:noFill/>
          </a:ln>
        </p:spPr>
      </p:sp>
      <p:sp>
        <p:nvSpPr>
          <p:cNvPr id="260" name="PlaceHolder 2"/>
          <p:cNvSpPr>
            <a:spLocks noGrp="1"/>
          </p:cNvSpPr>
          <p:nvPr>
            <p:ph type="body"/>
          </p:nvPr>
        </p:nvSpPr>
        <p:spPr>
          <a:xfrm>
            <a:off x="685800" y="4370400"/>
            <a:ext cx="5486400" cy="413856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people with other plans, including</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and retiree plans not receiving the retiree drug subsidy</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gap policies with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e enrolled unless they opt ou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FE49-2219-4586-A79D-D64BE4C2C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28"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B500-9893-4DAF-96DD-A668D36C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A35B5-A9AB-4B42-96D7-D93E7F4AF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6"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1BFF-1993-4357-B3D6-9DDF7B6B8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35D52-BC9E-4379-82C9-D2F6C6E3B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48"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CCBE1-FEEF-4283-8365-40A053A20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5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3CF3-4E69-4259-9385-A96682087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5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2181E-0230-4E8A-8A8D-FF5F9394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B7D9F-FCF0-4506-BF09-59F08652F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94B0D-EC5E-47AA-A5BB-0668E26E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5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FF2DA-89D0-4048-8339-DDE9DA8C2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7"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8BE1E-C53B-4303-829B-2013BAFE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6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442A9-0471-4D39-97FF-302B418CA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6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B0923-F4C7-4218-9B19-3780E5404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69"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9FC48-7B42-46E4-B37B-47C7E3685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7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4001C-45F5-4686-80E6-685568CFD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77"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7BB6D-8AB0-4819-9C3B-1B58BBC0E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A026C-0C3E-4201-95B1-8A9AF90BD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91"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55E20-1276-4A4E-94B6-FF3082FBF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9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7F862C-7832-4FD0-8728-CF322031C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9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DD29D-999D-49F6-9108-489CBB112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ADE49-7D34-4471-AEEE-17881F5DC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2DB7-1E4A-4E0D-9836-419EBB8DF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D87210-421B-4B6E-BC16-69C21E6D1C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0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2A56B-182C-4FB2-9AF6-96B514950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0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7B1AB-AE63-4524-87A2-B5A49847F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0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63257-2D6A-4E3A-A27E-F35CB238D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12"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35A822-B2BF-4D4B-979B-E21D6D6ED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1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12F84-3F0F-46E6-B335-0F8261DAF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20"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7C2DF0-0F4A-4E5E-9E73-291A6221F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F48D31-BB14-4479-85DF-0E2D0C742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32"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64183-54B0-4A81-BF43-F47DEA1DA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3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506DC-24B3-4917-8D13-1BFD7BB6E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4BED-FD5A-4FB2-8ACB-12B8320E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3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FCD3B-1A08-41F2-A032-C0C679F05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DA36E-AEED-4076-8F01-7029BB027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0906A-1B9D-4C35-B603-F3D99A516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4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4BF20-95BB-409F-8741-A1629A9A4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4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85E62-C1CD-4881-8DEC-978891A5D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4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1F596-8850-4FDB-B65B-A640BD883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53"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112E7-C56C-4877-B645-EC6891E82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5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F3BE68-F7F8-4B32-9CCC-B9105E64FE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61"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1DA7F8-9106-4287-A2E8-D15AFB7AA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A22B6-F6BB-4260-AF1C-F981B6036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729B5-007A-4060-B7DB-A4AE4917B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74"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1C2F1-D98E-43C7-B1FC-3F89DE0EB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7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32C58-76FC-4CC0-927C-1E2A26442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7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FCCEC-7B3E-40F4-B0A4-831201DB9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B0292-B786-48FF-B7DB-A3302F0AA1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2E3A3-B01F-46C9-9DFA-78F5FB81A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8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02B6E-410D-4BEA-80DF-BA3A9AC2E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8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A6B56-59E2-409B-9161-D38F1458C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9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CACB2-0E9E-4092-B451-9F00E25AF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95"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48183-43A1-4CF3-A876-EF130E3E7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9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7231A0-1994-49AA-9FB2-3524CF1E7F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20F1-0AF5-4E0B-B183-CA6DD9051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203"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BDFBFD-102A-4177-82D0-EDA64D36A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1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342E-8221-4FEA-978E-B14D61BF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2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B787-5CFF-495F-94C7-6E278B2F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b011"/>
              </a:solidFill>
              <a:latin typeface="Verdana"/>
            </a:endParaRPr>
          </a:p>
        </p:txBody>
      </p:sp>
      <p:sp>
        <p:nvSpPr>
          <p:cNvPr id="2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7DAC-7C8D-41C9-BF48-818C6E26F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5876-4087-487C-A643-36333B246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3"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899A-45C8-4A00-86DA-EBB8BBBE9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83" name=""/>
          <p:cNvSpPr/>
          <p:nvPr/>
        </p:nvSpPr>
        <p:spPr>
          <a:xfrm>
            <a:off x="0" y="0"/>
            <a:ext cx="9144000" cy="1600200"/>
          </a:xfrm>
          <a:prstGeom prst="bevel">
            <a:avLst>
              <a:gd name="adj" fmla="val 6944"/>
            </a:avLst>
          </a:prstGeom>
          <a:solidFill>
            <a:srgbClr val="0084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Click to edit the title text format</a:t>
            </a:r>
            <a:endParaRPr b="1" lang="en-US" sz="4200" spc="-1" strike="noStrike">
              <a:solidFill>
                <a:srgbClr val="ffb011"/>
              </a:solidFill>
              <a:latin typeface="Verdana"/>
            </a:endParaRPr>
          </a:p>
        </p:txBody>
      </p:sp>
      <p:sp>
        <p:nvSpPr>
          <p:cNvPr id="85"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571464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0289-9C15-44A2-8F2B-90D887A6F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
          <p:cNvSpPr/>
          <p:nvPr/>
        </p:nvSpPr>
        <p:spPr>
          <a:xfrm>
            <a:off x="0" y="6705720"/>
            <a:ext cx="9144000" cy="1522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27"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837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64771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279A-3870-4F34-A089-09039B2BC7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167" name=""/>
          <p:cNvSpPr/>
          <p:nvPr/>
        </p:nvSpPr>
        <p:spPr>
          <a:xfrm>
            <a:off x="0" y="0"/>
            <a:ext cx="9144000" cy="1600200"/>
          </a:xfrm>
          <a:prstGeom prst="bevel">
            <a:avLst>
              <a:gd name="adj" fmla="val 6944"/>
            </a:avLst>
          </a:prstGeom>
          <a:solidFill>
            <a:srgbClr val="006b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Click to edit the title text format</a:t>
            </a:r>
            <a:endParaRPr b="1" lang="en-US" sz="4200" spc="-1" strike="noStrike">
              <a:solidFill>
                <a:srgbClr val="ffcc66"/>
              </a:solidFill>
              <a:latin typeface="Verdan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26DB-2C9E-4561-A337-8FEC826D0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228600" y="2568600"/>
            <a:ext cx="86104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28600" y="4038480"/>
            <a:ext cx="6019920" cy="2566440"/>
          </a:xfrm>
          <a:prstGeom prst="rect">
            <a:avLst/>
          </a:prstGeom>
          <a:noFill/>
          <a:ln w="0">
            <a:noFill/>
          </a:ln>
        </p:spPr>
        <p:style>
          <a:lnRef idx="0"/>
          <a:fillRef idx="0"/>
          <a:effectRef idx="0"/>
          <a:fontRef idx="minor"/>
        </p:style>
        <p:txBody>
          <a:bodyPr lIns="128520" rIns="12852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 National </a:t>
            </a:r>
            <a:r>
              <a:rPr b="1" i="1" lang="en-US" sz="1800" spc="-1" strike="noStrike">
                <a:solidFill>
                  <a:srgbClr val="000000"/>
                </a:solidFill>
                <a:latin typeface="Arial"/>
              </a:rPr>
              <a:t>Medicare &amp; You </a:t>
            </a:r>
            <a:r>
              <a:rPr b="1" lang="en-US" sz="1800" spc="-1" strike="noStrike">
                <a:solidFill>
                  <a:srgbClr val="000000"/>
                </a:solidFill>
                <a:latin typeface="Arial"/>
              </a:rPr>
              <a:t>Trainin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s for Medicare &amp; Medicaid Ser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7, 200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600" spc="-1" strike="noStrike">
                <a:solidFill>
                  <a:srgbClr val="000000"/>
                </a:solidFill>
                <a:latin typeface="Arial"/>
              </a:rPr>
              <a:t>Panel:</a:t>
            </a:r>
            <a:r>
              <a:rPr b="1" lang="en-US" sz="1600" spc="-1" strike="noStrike">
                <a:solidFill>
                  <a:srgbClr val="000000"/>
                </a:solidFill>
                <a:latin typeface="Arial"/>
              </a:rPr>
              <a:t>	</a:t>
            </a:r>
            <a:r>
              <a:rPr b="1" lang="en-US" sz="1600" spc="-1" strike="noStrike">
                <a:solidFill>
                  <a:srgbClr val="000000"/>
                </a:solidFill>
                <a:latin typeface="Arial"/>
              </a:rPr>
              <a:t>Randy Braue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haron Donovan</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Jeff Grant</a:t>
            </a:r>
            <a:r>
              <a:rPr b="1" i="1" lang="en-US" sz="1600" spc="-1" strike="noStrike">
                <a:solidFill>
                  <a:srgbClr val="ff0000"/>
                </a:solidFill>
                <a:latin typeface="Arial"/>
              </a:rPr>
              <a:t>	</a:t>
            </a:r>
            <a:endParaRPr b="0" lang="en-US" sz="1600" spc="-1" strike="noStrike">
              <a:solidFill>
                <a:srgbClr val="000000"/>
              </a:solidFill>
              <a:latin typeface="Arial"/>
            </a:endParaRPr>
          </a:p>
        </p:txBody>
      </p:sp>
      <p:sp>
        <p:nvSpPr>
          <p:cNvPr id="219" name=""/>
          <p:cNvSpPr/>
          <p:nvPr/>
        </p:nvSpPr>
        <p:spPr>
          <a:xfrm>
            <a:off x="560520" y="2743200"/>
            <a:ext cx="8184960" cy="983880"/>
          </a:xfrm>
          <a:prstGeom prst="rect">
            <a:avLst/>
          </a:prstGeom>
          <a:noFill/>
          <a:ln w="0">
            <a:noFill/>
          </a:ln>
        </p:spPr>
        <p:style>
          <a:lnRef idx="0"/>
          <a:fillRef idx="0"/>
          <a:effectRef idx="0"/>
          <a:fontRef idx="minor"/>
        </p:style>
        <p:txBody>
          <a:bodyPr lIns="128520" rIns="12852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ated Enrollment an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rollment Reconciliation</a:t>
            </a:r>
            <a:endParaRPr b="0" lang="en-US" sz="2800" spc="-1" strike="noStrike">
              <a:solidFill>
                <a:srgbClr val="000000"/>
              </a:solidFill>
              <a:latin typeface="Arial"/>
            </a:endParaRPr>
          </a:p>
        </p:txBody>
      </p:sp>
      <p:sp>
        <p:nvSpPr>
          <p:cNvPr id="2" name="PlaceHolder 1"/>
          <p:cNvSpPr>
            <a:spLocks noGrp="1"/>
          </p:cNvSpPr>
          <p:nvPr>
            <p:ph type="sldNum" idx="9"/>
          </p:nvPr>
        </p:nvSpPr>
        <p:spPr/>
        <p:txBody>
          <a:bodyPr/>
          <a:p>
            <a:fld id="{FB02C2C5-7630-4C3E-9839-8A82B85EC6FC}" type="slidenum">
              <a:t>1</a:t>
            </a:fld>
          </a:p>
        </p:txBody>
      </p:sp>
      <p:sp>
        <p:nvSpPr>
          <p:cNvPr id="3" name="PlaceHolder 2"/>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What to Expect</a:t>
            </a:r>
            <a:endParaRPr b="1" lang="en-US" sz="4200" spc="-1" strike="noStrike">
              <a:solidFill>
                <a:srgbClr val="ffb011"/>
              </a:solidFill>
              <a:latin typeface="Verdana"/>
            </a:endParaRPr>
          </a:p>
        </p:txBody>
      </p:sp>
      <p:sp>
        <p:nvSpPr>
          <p:cNvPr id="23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97440" indent="-39744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will send </a:t>
            </a:r>
            <a:endParaRPr b="0" lang="en-US" sz="28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 letter</a:t>
            </a:r>
            <a:endParaRPr b="0" lang="en-US" sz="24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materials, including card</a:t>
            </a:r>
            <a:endParaRPr b="0" lang="en-US" sz="24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l-free phone number and website for more information</a:t>
            </a:r>
            <a:endParaRPr b="0" lang="en-US" sz="2400" spc="-1" strike="noStrike">
              <a:solidFill>
                <a:srgbClr val="000000"/>
              </a:solidFill>
              <a:latin typeface="Arial"/>
            </a:endParaRPr>
          </a:p>
          <a:p>
            <a:pPr marL="397440" indent="-39744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 can get transition supply </a:t>
            </a:r>
            <a:endParaRPr b="0" lang="en-US" sz="28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rug not covered by plan</a:t>
            </a:r>
            <a:endParaRPr b="0" lang="en-US" sz="24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30 days</a:t>
            </a:r>
            <a:endParaRPr b="0" lang="en-US" sz="24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physician to find a drug that is covered</a:t>
            </a:r>
            <a:endParaRPr b="0" lang="en-US" sz="2400" spc="-1" strike="noStrike">
              <a:solidFill>
                <a:srgbClr val="000000"/>
              </a:solidFill>
              <a:latin typeface="Arial"/>
            </a:endParaRPr>
          </a:p>
          <a:p>
            <a:pPr marL="397440" indent="-39744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 has the right to ask for </a:t>
            </a:r>
            <a:endParaRPr b="0" lang="en-US" sz="28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ception (type of coverage determination)</a:t>
            </a:r>
            <a:endParaRPr b="0" lang="en-US" sz="2400" spc="-1" strike="noStrike">
              <a:solidFill>
                <a:srgbClr val="000000"/>
              </a:solidFill>
              <a:latin typeface="Arial"/>
            </a:endParaRPr>
          </a:p>
          <a:p>
            <a:pPr lvl="1" marL="793440" indent="-28296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 if exception not granted by plan</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75098A89-22D9-4314-891C-E32B6B79BA1B}" type="slidenum">
              <a:t>10</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Switching Plans</a:t>
            </a:r>
            <a:endParaRPr b="1" lang="en-US" sz="4200" spc="-1" strike="noStrike">
              <a:solidFill>
                <a:srgbClr val="ffb011"/>
              </a:solidFill>
              <a:latin typeface="Verdana"/>
            </a:endParaRPr>
          </a:p>
        </p:txBody>
      </p:sp>
      <p:sp>
        <p:nvSpPr>
          <p:cNvPr id="238" name="PlaceHolder 2"/>
          <p:cNvSpPr>
            <a:spLocks noGrp="1"/>
          </p:cNvSpPr>
          <p:nvPr>
            <p:ph/>
          </p:nvPr>
        </p:nvSpPr>
        <p:spPr>
          <a:xfrm>
            <a:off x="456840" y="1752480"/>
            <a:ext cx="84582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eligibles and MSP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continuous Special Enrollment Period</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witch plans once/month</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33C56C1D-B2D6-410B-931D-A82F617726AA}" type="slidenum">
              <a:t>11</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Switching Plans</a:t>
            </a:r>
            <a:br>
              <a:rPr sz="4200"/>
            </a:br>
            <a:r>
              <a:rPr b="1" i="1" lang="en-US" sz="3600" spc="-1" strike="noStrike">
                <a:solidFill>
                  <a:srgbClr val="ffb011"/>
                </a:solidFill>
                <a:latin typeface="Verdana"/>
              </a:rPr>
              <a:t>(cont’d)</a:t>
            </a:r>
            <a:endParaRPr b="1" lang="en-US" sz="3600" spc="-1" strike="noStrike">
              <a:solidFill>
                <a:srgbClr val="ffb011"/>
              </a:solidFill>
              <a:latin typeface="Verdana"/>
            </a:endParaRPr>
          </a:p>
        </p:txBody>
      </p:sp>
      <p:sp>
        <p:nvSpPr>
          <p:cNvPr id="240" name="PlaceHolder 2"/>
          <p:cNvSpPr>
            <a:spLocks noGrp="1"/>
          </p:cNvSpPr>
          <p:nvPr>
            <p:ph/>
          </p:nvPr>
        </p:nvSpPr>
        <p:spPr>
          <a:xfrm>
            <a:off x="304920" y="1752480"/>
            <a:ext cx="86868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CMS facilitates into a plan May 1</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and SSI-only</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ho apply and qualify for extra help</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hange until May 15, 2006, and</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pecial Enrollment Period</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witch plans once before end of 2006</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B81F59C6-1E06-4BA4-9581-B2878AD7EF27}" type="slidenum">
              <a:t>12</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Enrolling for Plan Year 2007</a:t>
            </a:r>
            <a:endParaRPr b="1" lang="en-US" sz="4200" spc="-1" strike="noStrike">
              <a:solidFill>
                <a:srgbClr val="ffb011"/>
              </a:solidFill>
              <a:latin typeface="Verdana"/>
            </a:endParaRPr>
          </a:p>
        </p:txBody>
      </p:sp>
      <p:sp>
        <p:nvSpPr>
          <p:cNvPr id="24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Coordinated Election Period</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5 – December 31, 2006</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eople with Medicare </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join or choose new plan</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January 1, 2007</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e an Annual Coordinated Election Period each year</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4422DB0-CA9C-4BB0-A919-A0EEA87DFE9D}" type="slidenum">
              <a:t>13</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017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rollment Reconciliation</a:t>
            </a:r>
            <a:endParaRPr b="0" lang="en-US" sz="4000" spc="-1" strike="noStrike">
              <a:solidFill>
                <a:srgbClr val="000000"/>
              </a:solidFill>
              <a:latin typeface="Arial"/>
            </a:endParaRPr>
          </a:p>
          <a:p>
            <a:pPr marL="401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ecial Notice To Confirm Medicare Plan Choice</a:t>
            </a: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970E774C-8905-4687-A702-A8DD6135C511}" type="slidenum">
              <a:t>14</a:t>
            </a:fld>
          </a:p>
        </p:txBody>
      </p:sp>
      <p:sp>
        <p:nvSpPr>
          <p:cNvPr id="4" name="PlaceHolder 3"/>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Enrollment Reconciliation</a:t>
            </a:r>
            <a:endParaRPr b="1" lang="en-US" sz="4200" spc="-1" strike="noStrike">
              <a:solidFill>
                <a:srgbClr val="ffb011"/>
              </a:solidFill>
              <a:latin typeface="Verdana"/>
            </a:endParaRPr>
          </a:p>
        </p:txBody>
      </p:sp>
      <p:sp>
        <p:nvSpPr>
          <p:cNvPr id="24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s logic error early in implementation</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some plans not to be notified that a plan member had enrolled in a different plan</a:t>
            </a:r>
            <a:endParaRPr b="0" lang="en-US" sz="24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sent letters on CMS letterhead </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eople affected by this error</a:t>
            </a:r>
            <a:endParaRPr b="0" lang="en-US" sz="24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a:t>
            </a:r>
            <a:endParaRPr b="0" lang="en-US" sz="24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affected</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continue to have uninterrupted access to  Medicare drug coverage</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9DB7441A-0ACA-4062-921B-6814C0D2B630}" type="slidenum">
              <a:t>15</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Enrollment Reconciliation</a:t>
            </a:r>
            <a:endParaRPr b="1" lang="en-US" sz="4200" spc="-1" strike="noStrike">
              <a:solidFill>
                <a:srgbClr val="ffb011"/>
              </a:solidFill>
              <a:latin typeface="Verdana"/>
            </a:endParaRPr>
          </a:p>
        </p:txBody>
      </p:sp>
      <p:sp>
        <p:nvSpPr>
          <p:cNvPr id="2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enrollment reconciliation</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people are enrolled in the plan they want</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asks recipients to confirm choice of Medicare drug plan</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ant to stay in Medicare plan of record, they do not have to do anything</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4EF1E213-7F01-429B-857F-386A89889A30}" type="slidenum">
              <a:t>16</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b011"/>
                </a:solidFill>
                <a:latin typeface="Verdana"/>
              </a:rPr>
              <a:t>People Enrolling In Initial Plan</a:t>
            </a:r>
            <a:endParaRPr b="1" lang="en-US" sz="3800" spc="-1" strike="noStrike">
              <a:solidFill>
                <a:srgbClr val="ffb011"/>
              </a:solidFill>
              <a:latin typeface="Verdana"/>
            </a:endParaRPr>
          </a:p>
        </p:txBody>
      </p:sp>
      <p:sp>
        <p:nvSpPr>
          <p:cNvPr id="24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ant to stay in initial plan</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plan and enroll in that plan</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be automatically disenrolled from the current plan once this enrollment is processed</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have until April 15 to submit enrollment transactions to CM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s received by April 15 will be retroactive to date person first enrolled in a Part D plan</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s received April 16 - April 30 will be effective May 1, 2006</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00FC3C16-BF6B-44DB-ACD1-03B24133372D}" type="slidenum">
              <a:t>17</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Resources</a:t>
            </a:r>
            <a:endParaRPr b="1" lang="en-US" sz="4200" spc="-1" strike="noStrike">
              <a:solidFill>
                <a:srgbClr val="ffb011"/>
              </a:solidFill>
              <a:latin typeface="Verdana"/>
            </a:endParaRPr>
          </a:p>
        </p:txBody>
      </p:sp>
      <p:sp>
        <p:nvSpPr>
          <p:cNvPr id="251" name="PlaceHolder 2"/>
          <p:cNvSpPr>
            <a:spLocks noGrp="1"/>
          </p:cNvSpPr>
          <p:nvPr>
            <p:ph/>
          </p:nvPr>
        </p:nvSpPr>
        <p:spPr>
          <a:xfrm>
            <a:off x="304920" y="1752480"/>
            <a:ext cx="8686800" cy="4525920"/>
          </a:xfrm>
          <a:prstGeom prst="rect">
            <a:avLst/>
          </a:prstGeom>
          <a:noFill/>
          <a:ln w="0">
            <a:noFill/>
          </a:ln>
        </p:spPr>
        <p:txBody>
          <a:bodyPr lIns="90000" rIns="90000" tIns="46800" bIns="46800" anchor="t">
            <a:normAutofit/>
          </a:bodyPr>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 Enrollment</a:t>
            </a:r>
            <a:endParaRPr b="0" lang="en-US" sz="24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 sheet</a:t>
            </a:r>
            <a:endParaRPr b="0" lang="en-US" sz="20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apps/media/press/release.asp?Counter=1806</a:t>
            </a:r>
            <a:endParaRPr b="0" lang="en-US" sz="18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Full Subsidy Version</a:t>
            </a:r>
            <a:endParaRPr b="0" lang="en-US" sz="20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partnerships/Downloads/11186.Full.pdf</a:t>
            </a:r>
            <a:endParaRPr b="0" lang="en-US" sz="18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Partial Subsidy Version</a:t>
            </a:r>
            <a:endParaRPr b="0" lang="en-US" sz="20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partnerships/Downloads/11191.PARTIAL.pdf</a:t>
            </a:r>
            <a:endParaRPr b="0" lang="en-US" sz="1800" spc="-1" strike="noStrike">
              <a:solidFill>
                <a:srgbClr val="000000"/>
              </a:solidFill>
              <a:latin typeface="Arial"/>
            </a:endParaRPr>
          </a:p>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 Reconciliation</a:t>
            </a:r>
            <a:endParaRPr b="0" lang="en-US" sz="24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 sheet</a:t>
            </a:r>
            <a:endParaRPr b="0" lang="en-US" sz="20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partnerships/20_ER.asp</a:t>
            </a:r>
            <a:endParaRPr b="0" lang="en-US" sz="18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notices</a:t>
            </a:r>
            <a:endParaRPr b="0" lang="en-US" sz="20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partnerships/downloads/planchoice.pdf </a:t>
            </a:r>
            <a:endParaRPr b="0" lang="en-US" sz="18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ms.hhs.gov/partnerships/downloads/planchoicemapd.pdf</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9AF00612-FEF9-4791-A6F7-2CCBE9C19501}" type="slidenum">
              <a:t>18</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For More Information</a:t>
            </a:r>
            <a:endParaRPr b="1" lang="en-US" sz="4200" spc="-1" strike="noStrike">
              <a:solidFill>
                <a:srgbClr val="ffb011"/>
              </a:solidFill>
              <a:latin typeface="Verdana"/>
            </a:endParaRPr>
          </a:p>
        </p:txBody>
      </p:sp>
      <p:sp>
        <p:nvSpPr>
          <p:cNvPr id="253" name="PlaceHolder 2"/>
          <p:cNvSpPr>
            <a:spLocks noGrp="1"/>
          </p:cNvSpPr>
          <p:nvPr>
            <p:ph/>
          </p:nvPr>
        </p:nvSpPr>
        <p:spPr>
          <a:xfrm>
            <a:off x="457200" y="1752480"/>
            <a:ext cx="8686800" cy="4525920"/>
          </a:xfrm>
          <a:prstGeom prst="rect">
            <a:avLst/>
          </a:prstGeom>
          <a:noFill/>
          <a:ln w="0">
            <a:noFill/>
          </a:ln>
        </p:spPr>
        <p:txBody>
          <a:bodyPr lIns="90000" rIns="90000" tIns="46800" bIns="46800" anchor="t">
            <a:normAutofit/>
          </a:bodyPr>
          <a:p>
            <a:pPr marL="4017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17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
          <p:cNvSpPr/>
          <p:nvPr/>
        </p:nvSpPr>
        <p:spPr>
          <a:xfrm>
            <a:off x="380880" y="1752480"/>
            <a:ext cx="7391520" cy="429732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www.cms.hhs.gov</a:t>
            </a:r>
            <a:endParaRPr b="0" lang="en-US" sz="28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1-800-MEDICARE </a:t>
            </a:r>
            <a:endParaRPr b="0" lang="en-US" sz="28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State Health Insurance Assistance Program (SHIP)</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1-800-MEDICARE (1-800-633-4227) for SHIP telephone number</a:t>
            </a:r>
            <a:endParaRPr b="0" lang="en-US" sz="24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Y users should call 1-877-486-2048</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D2FF5940-75A8-4ECF-AAE1-E454EDE732A8}" type="slidenum">
              <a:t>19</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017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017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ilitated Enrollment</a:t>
            </a:r>
            <a:endParaRPr b="0" lang="en-US" sz="4000" spc="-1" strike="noStrike">
              <a:solidFill>
                <a:srgbClr val="000000"/>
              </a:solidFill>
              <a:latin typeface="Arial"/>
            </a:endParaRPr>
          </a:p>
        </p:txBody>
      </p:sp>
      <p:sp>
        <p:nvSpPr>
          <p:cNvPr id="3" name="PlaceHolder 2"/>
          <p:cNvSpPr>
            <a:spLocks noGrp="1"/>
          </p:cNvSpPr>
          <p:nvPr>
            <p:ph type="sldNum" idx="9"/>
          </p:nvPr>
        </p:nvSpPr>
        <p:spPr/>
        <p:txBody>
          <a:bodyPr/>
          <a:p>
            <a:fld id="{E26DE9E0-BB7B-4D66-B389-98333F2F2AA4}" type="slidenum">
              <a:t>2</a:t>
            </a:fld>
          </a:p>
        </p:txBody>
      </p:sp>
      <p:sp>
        <p:nvSpPr>
          <p:cNvPr id="4" name="PlaceHolder 3"/>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Thank You for Your Attention!</a:t>
            </a:r>
            <a:endParaRPr b="1" lang="en-US" sz="4200" spc="-1" strike="noStrike">
              <a:solidFill>
                <a:srgbClr val="ffb011"/>
              </a:solidFill>
              <a:latin typeface="Verdana"/>
            </a:endParaRPr>
          </a:p>
        </p:txBody>
      </p:sp>
      <p:sp>
        <p:nvSpPr>
          <p:cNvPr id="25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cording of this training will be available after April 12</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media.cms.hhs.gov/cms/partner04072006.wma</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10B32C3D-11A3-43F1-AC8C-1BBB6BD958FE}" type="slidenum">
              <a:t>20</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Facilitated Enrollment</a:t>
            </a:r>
            <a:endParaRPr b="1" lang="en-US" sz="4200" spc="-1" strike="noStrike">
              <a:solidFill>
                <a:srgbClr val="ffb011"/>
              </a:solidFill>
              <a:latin typeface="Verdana"/>
            </a:endParaRPr>
          </a:p>
        </p:txBody>
      </p:sp>
      <p:sp>
        <p:nvSpPr>
          <p:cNvPr id="222" name="PlaceHolder 2"/>
          <p:cNvSpPr>
            <a:spLocks noGrp="1"/>
          </p:cNvSpPr>
          <p:nvPr>
            <p:ph/>
          </p:nvPr>
        </p:nvSpPr>
        <p:spPr>
          <a:xfrm>
            <a:off x="304920" y="1752480"/>
            <a:ext cx="86868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will facilitate the enrollment of people who qualify for extra help but have not yet enrolled </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t>
            </a:r>
            <a:r>
              <a:rPr b="1" lang="en-US" sz="2800" spc="-1" strike="noStrike">
                <a:solidFill>
                  <a:srgbClr val="000000"/>
                </a:solidFill>
                <a:latin typeface="Arial"/>
              </a:rPr>
              <a:t>May 1, 2006</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set for June 1, 2006</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s people who qualify for extra help</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ccess the drug benefit sooner</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FBC5FC4A-EE6D-4FC2-BA73-87C0B283029E}" type="slidenum">
              <a:t>3</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Who Is Affected?</a:t>
            </a:r>
            <a:endParaRPr b="1" lang="en-US" sz="4200" spc="-1" strike="noStrike">
              <a:solidFill>
                <a:srgbClr val="ffb011"/>
              </a:solidFill>
              <a:latin typeface="Verdana"/>
            </a:endParaRPr>
          </a:p>
        </p:txBody>
      </p:sp>
      <p:sp>
        <p:nvSpPr>
          <p:cNvPr id="224" name="PlaceHolder 2"/>
          <p:cNvSpPr>
            <a:spLocks noGrp="1"/>
          </p:cNvSpPr>
          <p:nvPr>
            <p:ph/>
          </p:nvPr>
        </p:nvSpPr>
        <p:spPr>
          <a:xfrm>
            <a:off x="380520" y="1752480"/>
            <a:ext cx="861084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1 million people</a:t>
            </a:r>
            <a:endParaRPr b="0" lang="en-US" sz="32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group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Savings Program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ied Medicare Beneficiary (QMB)</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d Low-income Medicare Beneficiary (SLMB)</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ying Individual (QI)</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I-only</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apply and qualify for extra help</a:t>
            </a:r>
            <a:endParaRPr b="0" lang="en-US" sz="2800" spc="-1" strike="noStrike">
              <a:solidFill>
                <a:srgbClr val="000000"/>
              </a:solidFill>
              <a:latin typeface="Arial"/>
            </a:endParaRPr>
          </a:p>
          <a:p>
            <a:pPr marL="401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6F7C45D-04FF-48B4-A4FF-022A4B22B6D9}" type="slidenum">
              <a:t>4</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How Are Plans Chosen?</a:t>
            </a:r>
            <a:endParaRPr b="1" lang="en-US" sz="4200" spc="-1" strike="noStrike">
              <a:solidFill>
                <a:srgbClr val="ffb011"/>
              </a:solidFill>
              <a:latin typeface="Verdana"/>
            </a:endParaRPr>
          </a:p>
        </p:txBody>
      </p:sp>
      <p:sp>
        <p:nvSpPr>
          <p:cNvPr id="22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are randomly assigned</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ased on person’s prescriptions</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ased on pharmacy preference</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ums at/below regional benchmark</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ries with full subsidy pay no premium</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ries with partial subsidy pay reduced or no premium</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758A41DC-0CFF-42C6-82F6-4BF786E3106D}" type="slidenum">
              <a:t>5</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b011"/>
                </a:solidFill>
                <a:latin typeface="Verdana"/>
              </a:rPr>
              <a:t>Facilitated Enrollment Notices</a:t>
            </a:r>
            <a:endParaRPr b="1" lang="en-US" sz="3800" spc="-1" strike="noStrike">
              <a:solidFill>
                <a:srgbClr val="ffb011"/>
              </a:solidFill>
              <a:latin typeface="Verdana"/>
            </a:endParaRPr>
          </a:p>
        </p:txBody>
      </p:sp>
      <p:sp>
        <p:nvSpPr>
          <p:cNvPr id="228" name="PlaceHolder 2"/>
          <p:cNvSpPr>
            <a:spLocks noGrp="1"/>
          </p:cNvSpPr>
          <p:nvPr>
            <p:ph/>
          </p:nvPr>
        </p:nvSpPr>
        <p:spPr>
          <a:xfrm>
            <a:off x="304560" y="1752120"/>
            <a:ext cx="8762760" cy="480060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is sending notices to people in Original Medicare Plan </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2 weeks of April 2006</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paper</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ersion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ubsidy</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ubsidy</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list of plans in that region at/below benchmark premium</a:t>
            </a:r>
            <a:endParaRPr b="0" lang="en-US" sz="2800" spc="-1" strike="noStrike">
              <a:solidFill>
                <a:srgbClr val="000000"/>
              </a:solidFill>
              <a:latin typeface="Arial"/>
            </a:endParaRPr>
          </a:p>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D2C1D97-95D2-424E-9BBE-2400D212A7A1}" type="slidenum">
              <a:t>6</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Advantage plan member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notice by April 10, 2006</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receive green notice</a:t>
            </a:r>
            <a:endParaRPr b="0" lang="en-US" sz="2800" spc="-1" strike="noStrike">
              <a:solidFill>
                <a:srgbClr val="000000"/>
              </a:solidFill>
              <a:latin typeface="Arial"/>
            </a:endParaRPr>
          </a:p>
        </p:txBody>
      </p:sp>
      <p:sp>
        <p:nvSpPr>
          <p:cNvPr id="230" name="PlaceHolder 2"/>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b011"/>
                </a:solidFill>
                <a:latin typeface="Verdana"/>
              </a:rPr>
              <a:t>Facilitated Enrollment Notices</a:t>
            </a:r>
            <a:endParaRPr b="1" lang="en-US" sz="3800" spc="-1" strike="noStrike">
              <a:solidFill>
                <a:srgbClr val="ffb011"/>
              </a:solidFill>
              <a:latin typeface="Verdana"/>
            </a:endParaRPr>
          </a:p>
        </p:txBody>
      </p:sp>
      <p:sp>
        <p:nvSpPr>
          <p:cNvPr id="4" name="PlaceHolder 3"/>
          <p:cNvSpPr>
            <a:spLocks noGrp="1"/>
          </p:cNvSpPr>
          <p:nvPr>
            <p:ph type="sldNum" idx="9"/>
          </p:nvPr>
        </p:nvSpPr>
        <p:spPr/>
        <p:txBody>
          <a:bodyPr/>
          <a:p>
            <a:fld id="{0BD5030C-A3D6-4C52-8219-4DF7920D4D63}" type="slidenum">
              <a:t>7</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Who Will Not Be Enrolled?</a:t>
            </a:r>
            <a:endParaRPr b="1" lang="en-US" sz="4200" spc="-1" strike="noStrike">
              <a:solidFill>
                <a:srgbClr val="ffb011"/>
              </a:solidFill>
              <a:latin typeface="Verdana"/>
            </a:endParaRPr>
          </a:p>
        </p:txBody>
      </p:sp>
      <p:sp>
        <p:nvSpPr>
          <p:cNvPr id="23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in employer plans receiving the retiree drug subsidy</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receive green notice</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be facilitated into a plan</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in some State Pharmacy Assistance Programs </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Y, NJ, CT, PA, and IL</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be enrolled by CMS at this time</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7372AE0D-12B5-4048-B531-CCBAD75A641A}" type="slidenum">
              <a:t>8</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b011"/>
                </a:solidFill>
                <a:latin typeface="Verdana"/>
              </a:rPr>
              <a:t>Beneficiary Options</a:t>
            </a:r>
            <a:endParaRPr b="1" lang="en-US" sz="4200" spc="-1" strike="noStrike">
              <a:solidFill>
                <a:srgbClr val="ffb011"/>
              </a:solidFill>
              <a:latin typeface="Verdana"/>
            </a:endParaRPr>
          </a:p>
        </p:txBody>
      </p:sp>
      <p:sp>
        <p:nvSpPr>
          <p:cNvPr id="234" name="PlaceHolder 2"/>
          <p:cNvSpPr>
            <a:spLocks noGrp="1"/>
          </p:cNvSpPr>
          <p:nvPr>
            <p:ph/>
          </p:nvPr>
        </p:nvSpPr>
        <p:spPr>
          <a:xfrm>
            <a:off x="304920" y="1752480"/>
            <a:ext cx="8610480" cy="4525920"/>
          </a:xfrm>
          <a:prstGeom prst="rect">
            <a:avLst/>
          </a:prstGeom>
          <a:noFill/>
          <a:ln w="0">
            <a:noFill/>
          </a:ln>
        </p:spPr>
        <p:txBody>
          <a:bodyPr lIns="90000" rIns="90000" tIns="46800" bIns="46800" anchor="t">
            <a:normAutofit/>
          </a:bodyPr>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 assigned plan</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hing and allow the facilitated enrollment to take effect</a:t>
            </a:r>
            <a:endParaRPr b="0" lang="en-US" sz="24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 in another plan of their choice </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pril 30, 2006</a:t>
            </a:r>
            <a:endParaRPr b="0" lang="en-US" sz="2400" spc="-1" strike="noStrike">
              <a:solidFill>
                <a:srgbClr val="000000"/>
              </a:solidFill>
              <a:latin typeface="Arial"/>
            </a:endParaRPr>
          </a:p>
          <a:p>
            <a:pPr marL="401760" indent="-40176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 to be enrolled in a plan</a:t>
            </a:r>
            <a:endParaRPr b="0" lang="en-US" sz="28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1-800-Medicare or</a:t>
            </a:r>
            <a:endParaRPr b="0" lang="en-US" sz="24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he plan named in the notice, and</a:t>
            </a:r>
            <a:endParaRPr b="0" lang="en-US" sz="2400" spc="-1" strike="noStrike">
              <a:solidFill>
                <a:srgbClr val="000000"/>
              </a:solidFill>
              <a:latin typeface="Arial"/>
            </a:endParaRPr>
          </a:p>
          <a:p>
            <a:pPr lvl="1" marL="801720" indent="-285840">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o disenroll from plan AND not be enrolled again by Medicare</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7C44A03E-98D7-4A7C-97E2-C7EAC8678A3F}" type="slidenum">
              <a:t>9</a:t>
            </a:fld>
          </a:p>
        </p:txBody>
      </p:sp>
      <p:sp>
        <p:nvSpPr>
          <p:cNvPr id="5" name="PlaceHolder 4"/>
          <p:cNvSpPr>
            <a:spLocks noGrp="1"/>
          </p:cNvSpPr>
          <p:nvPr>
            <p:ph type="dt" idx="7"/>
          </p:nvPr>
        </p:nvSpPr>
        <p:spPr/>
        <p:txBody>
          <a:bodyPr/>
          <a:p>
            <a:r>
              <a:rPr lang="en-US"/>
              <a:t>April 7,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4:24:56Z</dcterms:created>
  <dc:creator>Lonni Kint</dc:creator>
  <dc:description/>
  <dc:language>en-US</dc:language>
  <cp:lastModifiedBy>CMS</cp:lastModifiedBy>
  <dcterms:modified xsi:type="dcterms:W3CDTF">2006-04-05T11:36:33Z</dcterms:modified>
  <cp:revision>1500</cp:revision>
  <dc:subject/>
  <dc:title>Medicare Prescription Drug Pla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5531736</vt:r8>
  </property>
  <property fmtid="{D5CDD505-2E9C-101B-9397-08002B2CF9AE}" pid="3" name="_AuthorEmail">
    <vt:lpwstr>Brenda.Stup@cms.hhs.gov</vt:lpwstr>
  </property>
  <property fmtid="{D5CDD505-2E9C-101B-9397-08002B2CF9AE}" pid="4" name="_AuthorEmailDisplayName">
    <vt:lpwstr>Stup, Brenda D. (CMS/CBC)</vt:lpwstr>
  </property>
  <property fmtid="{D5CDD505-2E9C-101B-9397-08002B2CF9AE}" pid="5" name="_EmailSubject">
    <vt:lpwstr>PPt for Friday</vt:lpwstr>
  </property>
  <property fmtid="{D5CDD505-2E9C-101B-9397-08002B2CF9AE}" pid="6" name="_NewReviewCycle">
    <vt:lpwstr/>
  </property>
  <property fmtid="{D5CDD505-2E9C-101B-9397-08002B2CF9AE}" pid="7" name="_PreviousAdHocReviewCycleID">
    <vt:r8>-626649277</vt:r8>
  </property>
  <property fmtid="{D5CDD505-2E9C-101B-9397-08002B2CF9AE}" pid="8" name="_ReviewingToolsShownOnce">
    <vt:lpwstr/>
  </property>
</Properties>
</file>