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97188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34560" y="4389120"/>
            <a:ext cx="5140440" cy="4235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97188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DC45-2E85-45D7-84DD-228625AFF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34560" y="4389120"/>
            <a:ext cx="51404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97188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8C67-6848-49C2-AA2D-3C5936583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4560" y="4389120"/>
            <a:ext cx="51404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7188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A11B-6123-4357-93BC-079DAC695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4560" y="4389120"/>
            <a:ext cx="51404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7188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B6DA-DEFD-498B-B7B6-763868215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4560" y="4389120"/>
            <a:ext cx="51404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7188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4247-BB34-426D-9EB1-0E53021F5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4560" y="4389120"/>
            <a:ext cx="51404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7188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D9BA-DFF2-4162-A8EA-682589274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4560" y="4389120"/>
            <a:ext cx="51404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7188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79E8-B553-4F3C-82E1-E11DCE2DF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4560" y="4389120"/>
            <a:ext cx="51404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7188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EADD-7F4D-4B73-BF6B-D4C99B1B2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34560" y="4389120"/>
            <a:ext cx="51404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97188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AD28-BD71-4C52-B895-43AEDDBCA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4560" y="4389120"/>
            <a:ext cx="51404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7188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B534-5D34-49C1-9362-A04D0C1E5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4560" y="4389120"/>
            <a:ext cx="51404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7188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BB1F-C7CD-40C3-9BE5-3C7EF13AD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4560" y="4389120"/>
            <a:ext cx="5140440" cy="4235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7188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9B7D-F6C6-49B4-AC8D-967B52E2E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4560" y="4389120"/>
            <a:ext cx="51404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7188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7A01-E5F2-4209-ADAE-C3D1035F2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4560" y="4389120"/>
            <a:ext cx="51404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7188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C0D8-6A07-4E96-BD0C-67B54B621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4560" y="4389120"/>
            <a:ext cx="51404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7188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5805-F710-465E-B6C6-825C17C13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95560" y="69372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4560" y="4389120"/>
            <a:ext cx="51404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71880" y="8854920"/>
            <a:ext cx="3038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DED1-138C-41DC-B792-E84794296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1388F-6014-4E53-8B4D-4C924F497A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20E64-2231-4941-8065-0899F958C5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8FB05-D44C-4D38-B4DA-AB205836A7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7A02E-D58B-4243-878D-E762AA11E9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D2533-389C-4DFE-BA5A-A1C00FC3B9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DFB80-1DB1-4950-B78C-7E158DAAB3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EAFEA-FEE3-4F5B-97B9-12D6E2D704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AC67C-86D4-4790-A394-D0A7311C60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D6AEC-D991-4E5E-A035-6597C5148E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EB73A-4184-4BAD-A065-97B2519693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56262-77BA-4F41-AB0D-412512B778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11FFE-10C4-47E1-8D4B-97EBE97E31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53416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778E-902F-48AA-AF21-51A797229014}" type="slidenum"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Helaine.Fingold@CMS.HHS.GOV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1752480"/>
            <a:ext cx="73915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MA and Part D Marketing –</a:t>
            </a:r>
            <a:br>
              <a:rPr sz="3600"/>
            </a:b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Looking Forward to 2012 </a:t>
            </a:r>
            <a:endParaRPr b="1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Subtitle 2"/>
          <p:cNvSpPr/>
          <p:nvPr/>
        </p:nvSpPr>
        <p:spPr>
          <a:xfrm>
            <a:off x="2971800" y="3733920"/>
            <a:ext cx="5334120" cy="1447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aine I. Fingold, J.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sion of Surveillance, Compliance &amp;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ubtitle 2"/>
          <p:cNvSpPr/>
          <p:nvPr/>
        </p:nvSpPr>
        <p:spPr>
          <a:xfrm>
            <a:off x="2286000" y="556272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&amp; Use Retrospective Review 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320" y="20570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 monitors compliance with File &amp; Use requirements through retrospective re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 has conducted three targeted retrospective reviews, which has helped understand resources and process required to enhance the process to substantiate marketing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2019-7FB7-4FCD-9FD2-41737BA322B7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&amp; Use Retrospective Review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66320" y="159984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from retrospective reviews show preventable deficiencies, such as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ssion err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ssing requirements (e.g., contracting statem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ssing langu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 will provide more targeted training to Regional Office and Plan sponsors, to ensure compliance with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E59D-8114-44D4-A4D9-A791B4053301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&amp; Use Retrospective Review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2012, CMS will develop a robust periodic review pilot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pilot will create partnership with Plans to ensure appropriate training and move towards compliance actions for repeated non-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ic reviews will be Plan-foc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 will proactively engage in Plans that have been identified as egregious violators for the File &amp; Us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5027-72D5-45A0-8DA3-69E2EE45A664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2828880"/>
            <a:ext cx="742788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"/>
              </a:rPr>
              <a:t>Review of Third Party Materials</a:t>
            </a:r>
            <a:endParaRPr b="1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F383-4230-43B2-ACDE-CEB14F8C7476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hird Party Marketing Material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66320" y="167616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ed HPMS marketing module enhancements to accommodate the submission of third-party marke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and process enhancements will allow for a single review of the model/template third party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s disparate findings on same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ment is scheduled for September 2011 release via HP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 is currently working on an interim process until the rel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3625-A245-46F9-862D-752D799CED54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2828880"/>
            <a:ext cx="742788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"/>
              </a:rPr>
              <a:t>Questions?</a:t>
            </a:r>
            <a:endParaRPr b="1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5" name="Slide Number Placeholder 2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99A5-E516-4338-B431-DE2CB045B454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2295360"/>
            <a:ext cx="7427880" cy="18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Arial"/>
              </a:rPr>
              <a:t>Helaine Fingold</a:t>
            </a:r>
            <a:br>
              <a:rPr sz="3600"/>
            </a:b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elaine.Fingold@cms.hhs.gov</a:t>
            </a:r>
            <a:br>
              <a:rPr sz="3600"/>
            </a:br>
            <a:r>
              <a:rPr b="0" lang="en-US" sz="3600" spc="-1" strike="noStrike">
                <a:solidFill>
                  <a:srgbClr val="006699"/>
                </a:solidFill>
                <a:latin typeface="Arial"/>
              </a:rPr>
              <a:t>410-786-5014</a:t>
            </a:r>
            <a:endParaRPr b="1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B8F0-385C-41F9-B96E-E427A0FB6563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verview of Train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updates for 2012 Medicare Marketing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and Use Retrospective Re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Party Marke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Broker Training and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71F8-B125-4E1C-B64B-46D10358EA1B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2828880"/>
            <a:ext cx="742788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"/>
              </a:rPr>
              <a:t>2012 Proposed Marketing Guideline Updates </a:t>
            </a:r>
            <a:endParaRPr b="1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3" name="Slide Number Placeholder 2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887F-6479-418D-ACEF-761102CE085B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rketing Guideline Revisions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ions were made to do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rify existing poli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orporate recent policy cha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minor editorial cha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comments 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MS received approximately 857 comments from 83 organiz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2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4737-35F3-44ED-BE3F-C59F29435122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gulatory Chang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66320" y="167616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al Training Requirements extended to all agents and bro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Center Customer Service Requirements and Internet Website Requirements extended to MA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nsors required to notify beneficiaries of enrollments by unqualified agents or bro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3E41-30F9-4EF2-9C49-0C769933BE49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ther Proposed Changes </a:t>
            </a: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o Guidelin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320" y="159984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regarding limited English proficient benefici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al Notice of Change/Evidence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 of Template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Call Center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 to Beneficiaries of Non-renewing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 of Web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Election Period for 5 Star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Needs Federal contracting disclai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spcBef>
                <a:spcPts val="550"/>
              </a:spcBef>
              <a:buClr>
                <a:srgbClr val="000000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8E5C-CAB3-4847-B86D-41BC0A49BDEC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2828880"/>
            <a:ext cx="742788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"/>
              </a:rPr>
              <a:t>Agent Broker Training and Testing</a:t>
            </a:r>
            <a:endParaRPr b="1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32A6-C5A3-4C17-A235-23C5A2B4DAE6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gent Broker Training and Test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66320" y="167616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 Year 2012 – CMS will provide guidelines on agent broker training and testing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 Year 2013 – CMS will move to ensure agents/broker training is approached in a consistent man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 will be releasing an announcement requesting for proposals to develop an “Approved” training and testing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0799-678A-4B4E-BEBA-4642AD144FBC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2828880"/>
            <a:ext cx="742788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"/>
              </a:rPr>
              <a:t>File and Use Retrospective Review</a:t>
            </a:r>
            <a:endParaRPr b="1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06EA-D82B-41B2-96E1-9F93DA2BB277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8T15:41:31Z</dcterms:created>
  <dc:creator>Jill</dc:creator>
  <dc:description/>
  <dc:language>en-US</dc:language>
  <cp:lastModifiedBy>dschulte</cp:lastModifiedBy>
  <dcterms:modified xsi:type="dcterms:W3CDTF">2011-04-06T10:44:37Z</dcterms:modified>
  <cp:revision>650</cp:revision>
  <dc:subject/>
  <dc:title>ENTERPRISE DATA CENTER TRANSITION STRATE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E442592BA9214F408D74D67A79216543</vt:lpwstr>
  </property>
</Properties>
</file>