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92400" y="0"/>
            <a:ext cx="30528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01680" y="69804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902440"/>
            <a:ext cx="30528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92400" y="8902440"/>
            <a:ext cx="30528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56B-11DB-4250-9100-73863A0E5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FCD-69CD-4A53-9710-D5132D90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7875-6D1C-4EB6-9313-1C9690080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2955-A21E-4666-A540-6670FBBEB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7C7-F28E-478D-97E5-2C750F92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EC7-BE0C-4E8B-8B42-0BCCD5B1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F605-0AE6-47DB-BA5F-E7AA0B29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354C-8B10-4859-B2F5-ABD660571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507-C919-4B29-AD65-EFD114B9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BE8-9957-4116-85CE-855AE283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7D9-A50E-4680-AA05-C119F7DE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54C0-37B0-4604-B959-7F757D51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D394-AC87-47DD-B24B-D2A89608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DA4-026A-48C3-9FCC-5AA11452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0D4E-CDF6-4488-BA5E-9C201228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9AD-4865-41E3-BF0D-6E4F3D688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D70-1C3F-43B6-B0F4-662BF878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383-A2CD-4B87-A954-3357CB35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937-A08C-4112-838F-637645AA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16CC-1E16-4A7F-9423-CCB756C1E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F6D-D62A-440F-A8B2-464C1785A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1680" y="69840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9600" y="4411440"/>
            <a:ext cx="5165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92400" y="8902800"/>
            <a:ext cx="3052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8B9-3B79-48B9-BA3D-86395E211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1CDE-E610-4544-9D00-3F21EF382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92DF-3230-44F3-AA9C-FCB0FE2F3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BBE8-5154-4A33-A71F-CCB9FF9F3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6D75-C35F-424D-9A47-8EAF8FF5F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FA91-E800-42AC-9086-A65FE0016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E97C-03C0-4ACA-90B3-AF3E49E6B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958D-468A-4911-BB40-DEC7D18A2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DFC8-64CE-4B8E-9003-79CD867DC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E6B9-BF80-4041-B7B5-67B55E5EE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547B-C595-4CF4-8175-94D9EAFF3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ED8E-6264-480E-98E4-DAC13EF4D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F3BE-CF7F-4A1F-A79C-B6231CB34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3CE-52DA-4CB3-8736-F499210862EF}" type="slidenum"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76212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416400" y="2058840"/>
            <a:ext cx="3657600" cy="181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Overview of CMS–4144-F: Contract Year 2012 Parts C and Part D Final Rule</a:t>
            </a:r>
            <a:br>
              <a:rPr sz="3200"/>
            </a:br>
            <a:br>
              <a:rPr sz="2200"/>
            </a:br>
            <a:r>
              <a:rPr b="1" lang="en-US" sz="2200" spc="-1" strike="noStrike">
                <a:solidFill>
                  <a:srgbClr val="006698"/>
                </a:solidFill>
                <a:latin typeface="Arial"/>
              </a:rPr>
              <a:t>Vanessa Duran</a:t>
            </a:r>
            <a:br>
              <a:rPr sz="2200"/>
            </a:br>
            <a:r>
              <a:rPr b="1" lang="en-US" sz="2200" spc="-1" strike="noStrike">
                <a:solidFill>
                  <a:srgbClr val="006698"/>
                </a:solidFill>
                <a:latin typeface="Arial"/>
              </a:rPr>
              <a:t>Director, Division of Policy, Analysis, and Planning</a:t>
            </a:r>
            <a:br>
              <a:rPr sz="2200"/>
            </a:br>
            <a:r>
              <a:rPr b="1" lang="en-US" sz="2200" spc="-1" strike="noStrike">
                <a:solidFill>
                  <a:srgbClr val="006698"/>
                </a:solidFill>
                <a:latin typeface="Arial"/>
              </a:rPr>
              <a:t>Medicare Drug &amp; Health Plan Contract Administration Group</a:t>
            </a:r>
            <a:br>
              <a:rPr sz="3600"/>
            </a:br>
            <a:endParaRPr b="1" lang="en-US" sz="2200" spc="-1" strike="noStrike">
              <a:solidFill>
                <a:srgbClr val="0066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8"/>
                </a:solidFill>
                <a:latin typeface="Arial"/>
              </a:rPr>
              <a:t>Clarifying Program Participation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F59-5D86-4AFF-AD34-9BB70DB9466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Clarifying Program Participation Requirement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5235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4440" indent="-24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s Part C and D program participation by MA organizations and Part D sponsors, whose owners or directors served in a similar capacity with another organization that terminated its Medicare contract within the previous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s payment rules for non-contrac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imely transfer of data and files when CMS terminates a contract with a Part D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440" indent="-24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9B28-816F-453D-AE3A-C2E80A86EC4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Clarifying Program Participation Requirement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8288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at Part C and D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ilize physicians or other appropriate health care professionals with sufficient medical and other expertise, including knowledge of Medicare coverage rules, to review adverse organization and coverage determinations involving medical necessity; 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 a Medical Director who is responsible for ensuring the clinical accuracy of all medical necessity deci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7D0-8BFC-4017-AD85-3F488DE5B0A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8"/>
                </a:solidFill>
                <a:latin typeface="Arial"/>
              </a:rPr>
              <a:t>Strengthening Beneficiary Protections</a:t>
            </a:r>
            <a:endParaRPr b="1" lang="en-US" sz="36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610480" y="6384960"/>
            <a:ext cx="533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D45B-2BB8-4D3A-A12A-6A8D582389A3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Strengthening Beneficiary Protection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44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that MA organizations and Part 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sors provide interpreters in their customer call centers for non-English speaking and limited English proficient call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es new authority for CMS to require Plans to periodically mail enrollees an explanation of their health care usage and out-of-pocket costs. CMS will implement a pilot program in 20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s the mandatory maximum out-of-pocket limit requirements to Regional Preferred Provider Organizations (RPP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8800" indent="-24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468C-35A1-4A5B-AD3E-88D673CF0FE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Strengthening Beneficiary Protection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pharmacies to provide a printed notice at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of-sale to an enrollee explaining how to contact the Plan to request a coverage determination if the prescription can’t be filled as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A organizations’ and Part D sponsors’ agents and brokers to receive training and testing, via a CMS-endorsed or approved train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s requirements for translating key marketing materials in service areas with a large percentage of limited-English-proficient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reinstatement of enrollment in an MA or Part D Plan when the individual was involuntarily disenrolled for failur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 plan premiums, but subsequently demonstrated g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 for failing to submit the premium payment tim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428-7230-40F1-9DA5-AB6A65B66D2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8"/>
                </a:solidFill>
                <a:latin typeface="Arial"/>
              </a:rPr>
              <a:t>Strengthening CMS’ Ability to Identify Stronger Applicants and Remove Consistently Poor Performers</a:t>
            </a:r>
            <a:endParaRPr b="1" lang="en-US" sz="36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610480" y="6384960"/>
            <a:ext cx="533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5FAA-EBBE-4530-93CC-5D2AB5FBDE4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Identify Stronger Applicants &amp; Remove Consistently Poor Performer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22093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ablishes fiscal solvency requir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mits CMS to deny a new application or service area expansion request in the absence of 14 months of performance hist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D7B-A3A4-4AB7-A457-EED55CB0A11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8"/>
                </a:solidFill>
                <a:latin typeface="Arial"/>
              </a:rPr>
              <a:t>Clarifications and Technical Changes</a:t>
            </a:r>
            <a:endParaRPr b="1" lang="en-US" sz="36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610480" y="6384960"/>
            <a:ext cx="533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43D-FC46-4A8D-9B12-A5B44906C7D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Clarifications and Technical Change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21337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ifies Cost Plan enrollment mechanisms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ifies Part D transition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es the definition of dispensing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BD81-6644-485F-B37F-37F6B5FD4CD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annual Parts C and 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hanges to implement the Affordable Care Act of 2010 (ACA) and include other changes to reflect our experience in administrating the Medicare Parts C and D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d on April 5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effective June 6, 2011.  Most changes are applicable for the 2012 contrac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137-5A83-4D2F-A7EB-4B8ADC1538E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22860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regulation is available on the CMS website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ms.gov/HealthPlansGenInf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862-86E3-4923-B4A0-51E31F4E83F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26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Questions About the Reg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opher McClintick – 410-786-468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C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ather Rudo – 410-786-762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opher McClintick – 410-786-468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D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ian Bauer – 410-786-604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 Larwood – 410-786-95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ondra Moseley – 410-786-457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rollment and Appeals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risty Nishimoto – 410-786-851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AF1B-96F9-4B13-9395-61FC7AFDD4E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391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8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0480" y="6384960"/>
            <a:ext cx="533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505-340A-4577-97D4-3E6B7F9B9DF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Overview (cont.)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nal rule includes provisions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provisions of the Affordable Care Act (A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various sponsor program participa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beneficiar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our ability to identify stronger applicants for Part C and D program participation, and remove consistently poor per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corrections and techn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B4A2-C299-4408-8E89-52AE1D91506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98"/>
                </a:solidFill>
                <a:latin typeface="Arial"/>
              </a:rPr>
              <a:t>Implementing the Provisions of the 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CB77-CF86-48E7-A471-A9E8747003A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Implementing Provisions of the ACA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360" y="14475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cost-sharing under MA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876 cost plans for specifi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to Original Medicare (OM)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ministration of chemotherapy servi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nal dialysis servi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killed nursing ca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ts MA and Section 1876 cost Plans from charging cost-sharing for in-network preventive services, for which there is no OM cost-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E84-112B-4D6B-A0B4-C0DEFC94AC9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Implementing Provisions of the ACA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600200"/>
            <a:ext cx="7239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ifies that the Secretar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 not required to accept all Part C and D bid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y deny bids that propose significant increases in cost-sharing or decreases in benefi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ifies the new beneficiary election periods, including the new Annual Election Perio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AE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w AEP is October 15 to December 7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w Medicare Annual Disenrollment Period (MADP) occurs annually from January 1 through February 14, where an MA enrollee may drop the MA coverage and have Original Medicare f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ir health covera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4CF6-DE37-4531-A6C1-CB0281E4355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Implementing Provisions of the ACA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fies the voluntary de minimis policy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y-eligible individuals enrolled in MA-PD Plans and stand alone P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fies the new requirement that higher income Part D beneficiaries pay an income related monthly adjustmen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fies changes to close the Part D coverage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Part D cost-sharing for Medicare beneficiaries eligible for full Medicaid benefits and who are receiving home and community-based services instead of being institutio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E055-866F-4688-B8E5-E2F976DA591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Implementing Provisions of the ACA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s the methodology for using quality rating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termine MA bonus pay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an administrative review process for quality bonus payment and rebate retention determi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fies changes to the MA benchmark calculation and rebate amou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 policies to reduce wasteful dispensing of Part D drugs for beneficiaries in long-term care 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policies to implement the ACA’s requirement for a more uniform Part D exceptions and appeals process, including providing enrollees with insta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these processes via Plan web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F11-BAD9-434B-8D5F-291D5320198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8"/>
                </a:solidFill>
                <a:latin typeface="Arial"/>
              </a:rPr>
              <a:t>Implementing Provisions of the ACA</a:t>
            </a:r>
            <a:endParaRPr b="1" lang="en-US" sz="3200" spc="-1" strike="noStrike">
              <a:solidFill>
                <a:srgbClr val="00669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Needs Plan (SNP) provis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ends the authority for SNPs to operate through 201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s fully integrated, dual-eligible SN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ends to December 31, 2012 the deadline by which dual SNPs, not seeking to expand their service areas, can operate without a contract with the St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quires that the National Committee for Quality Assurance (NCQA) approve all SNPs using standards established by C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560-2074-4C63-8E77-00C8521ACD4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1:36:07Z</dcterms:created>
  <dc:creator>PRI</dc:creator>
  <dc:description/>
  <cp:keywords/>
  <dc:language>en-US</dc:language>
  <cp:lastModifiedBy>Terry Mackey</cp:lastModifiedBy>
  <dcterms:modified xsi:type="dcterms:W3CDTF">2011-04-06T18:52:55Z</dcterms:modified>
  <cp:revision>690</cp:revision>
  <dc:subject/>
  <dc:title>ENTERPRISE DATA CENTER TRANSITION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B34E9C0CDEE2F441B5E57AF2A174586F</vt:lpwstr>
  </property>
  <property fmtid="{D5CDD505-2E9C-101B-9397-08002B2CF9AE}" pid="7" name="Keywords">
    <vt:lpwstr/>
  </property>
  <property fmtid="{D5CDD505-2E9C-101B-9397-08002B2CF9AE}" pid="8" name="Slides">
    <vt:lpwstr>28</vt:lpwstr>
  </property>
  <property fmtid="{D5CDD505-2E9C-101B-9397-08002B2CF9AE}" pid="9" name="Subject">
    <vt:lpwstr/>
  </property>
  <property fmtid="{D5CDD505-2E9C-101B-9397-08002B2CF9AE}" pid="10" name="_Author">
    <vt:lpwstr>PR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