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6960"/>
            <a:ext cx="4653000" cy="348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56A-03DC-4031-97D2-89364C401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2CCD-DAEF-47EB-808F-E4976B812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546-8278-4422-B8C9-B9D12106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4330-923C-41F7-8CDF-F8793BE6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E3E-3442-42EB-990A-55F74F39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78E0-7177-4C12-983D-F8A81F1F8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27FC-E09C-4A27-AA28-3F838E345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3147-4570-459B-B50E-2A1FD4D7C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4C66-BDF7-4E00-8626-6F870D0D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AF6B-5853-4E65-A16A-C22AFAAE9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419-619B-4366-A9CA-F0D03774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E50-3245-4812-8110-8CA5CCC7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6A6-8727-4396-A50E-821B2CCB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DDF-4C41-4043-A208-712EFA2D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886D-AA9B-403C-82A0-944702BF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61AB-0681-4306-8C60-4857404E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025B-74A9-4175-9339-59922E2C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2F33-351D-4E4F-8462-A777D4DA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47B8-2E0B-48ED-B68A-5633D7FB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AC1B-9EB2-4795-9ADD-9ED9E4C9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30A0-E41F-44FD-8FD0-AC7B87B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853-DC49-4A9E-A524-4F550095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727-F1AB-4FE0-9976-3F60F01E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1273-F94D-471E-989B-1B830041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0689-89FF-4F77-852F-1C5554D5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7DB6-2DFF-4514-8855-2A6249FC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3E02-301C-4530-A172-533E501E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90A-941D-45FE-AA82-966E936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AB6-F77A-438D-BDF8-FEF1EA42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E13-8D7B-4861-8036-211599DB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D93-3946-48B6-B66A-46C980A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CFC-D34D-48DD-A0C2-9E2F1DFC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CEE-93A4-4E78-AC8C-DA4F0B2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14D-6F19-4F02-AAFE-2693B4DB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4AA6-D009-4D7F-BE6C-CA649E17FC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lide ‹#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CBC1-5F3D-44EC-8205-19B167D79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7C79-DAB0-4757-A328-291D9D66B97D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E4D7-A1D9-4AE3-9B46-5CBF739903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4F48-B1F9-4FE5-A90C-5506BB37B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E44A-1BD2-4BF8-8C7A-7338642B6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Michelle.turano@cms.hhs.gov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S 201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formance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00200" y="32767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helle G. Tur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uty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 Compliance and Oversigh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er For Medi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ril 13,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rective Action Proc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Diagram 3" descr="60 Calendar Days to Correct from Date Report was issued.&#13;&#10;Attestation from CEO:&#13;&#10;* All audit report deficiencies corrected and not likely to recur&#13;&#10;* Compliance program modified to correct all deficiencies and complies with all CMS requirements&#13;&#10;Board of Directors Resolution&#13;&#10;*Required to adopt resolution re: at least quarterly meetings to conduct review and oversight of Medicare compliance obligations/operations&#13;&#10;"/>
          <p:cNvPicPr/>
          <p:nvPr/>
        </p:nvPicPr>
        <p:blipFill>
          <a:blip r:embed="rId1"/>
          <a:stretch/>
        </p:blipFill>
        <p:spPr>
          <a:xfrm>
            <a:off x="1060560" y="1427040"/>
            <a:ext cx="6949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lid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42640" y="17524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793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evidence of correction and quantifiable, observable measurement of compliant outcomes (e.g., review of period of rejected pharmacy clai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793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sors conduct self-validation process at same time with a particular universe and attests to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793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hresholds and validation process given to spons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7932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ess Impr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2640" y="15998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ening sessions held with industry associations and spons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HIP and BCBS Associ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advance notice and response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transparency and inform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garding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asier electronic exchange of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Audit gui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bility to respond/dispu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ess Improvement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1 audit planning in 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isk assessment used to select aud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rovements and learning incorporated into audit and validation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e Diligence” conducted proces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or to aud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of self-assessment evaluation too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6858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or to aud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52C2-0203-4303-86AA-99371893AFAC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2189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CO has indirect or infrequent reporting relationship to CEO/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CO has direct reporting relationship to legal counsel or performs dual roles (conflict of inter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ufficient leadership level/Board level involvement, awareness, oversight and support of compliance fun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enior management involvement in review and endorsement of standards of conduct  and compliance/FWA policies and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ensure receipt of comprehensive, up to date policies and procedures and standards of conduct (including to FDRs) and/or to implement mechanisms for ensuring adherence to them (e.g., reporting mechanisms, non-retaliation, disciplinary guidelines for failing to report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awareness of confidential, anonymous reporting mechanisms (including by FDRs, beneficiarie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iance and/or FWA training not up to date and targeted to individual job duties/risks and not tracked and/or measured to determine whether timely received/eff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219320"/>
            <a:ext cx="7239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ack of organizational compliance and FWA risk assess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jor functions are delegated to outside entities (e.g., PBMs) without exercising proper monitoring, oversight, and auditing to ensure compliance/detect FW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implement systems for tracking and ensuring prompt response to detec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compliance and F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ying compliance models/processes that do not meet Medicare requirements (e.g., using commercial business compliance mod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 Deficiency Findings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implement and oversee OIG provider exclusion and GSA debarment lists processes to screen out providers/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pecific mechanisms targeted to FWA (e.g., monitoring/auditing in high fraud geographic areas, provider types, operations, etc.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report FWA to CMS MED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day’s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 Up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Audits &amp; Key find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Effective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est Pract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Effec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1447560"/>
            <a:ext cx="7391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cators that you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ffective progr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 does not report to the Board/Chief Executi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Compliance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 confidential / anonymous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ees afraid to report up their ch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regards monitoring data; no or infrequent audit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rther indicators that you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ffective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ds to incident but no systemic fi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or negative recognition for compliance reports, compl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ipline inadequate /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egations not effectively investig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ystematic efforts to build a strong ethical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2E11-22A8-48D1-8627-DBE3989220D5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Effectivenes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iance Officer Bes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89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 with managers and attend business operations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e operations personnel doing their jobs (e.g., sit in at Call Center; visit FM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rvey employees about attitudes towards compliance; conduct foc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 with HR for exit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ebrate improvements with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ational Bes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18960" y="1523520"/>
            <a:ext cx="69339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compliance expertise on Board/audit or compliance committee of the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ard Agenda includes compliance as standing agenda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ard minutes detailed and reflect discussion and resolution of compliance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ularly educate Board on compliance program/risks in order to properly exercise independent judgment and overs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1426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 does not report to GC/C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ize (de-identified) disciplinary actions (transparency changes behavi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fiable effectiveness measurement (where you are and whether improvements mad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leaders held accountable for compliance results (performance evaluations, incentive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C6C-610A-4406-A3B7-0FD457E2570C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ational Best Practice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ational Best Practices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15998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aints (employees, beneficiaries, providers, FDRs) taken seriously and are analyzed for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cation is not enough to change behavior – also need incentives and/or disciplinary consequ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DRs - centralized contracting oversight operations and insert compliance terms with monetary consequences for vio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430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Michelle.Turano@cms.hh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410) 786-34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2193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ent organization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risk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-design from 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entralized strategy and execu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ary focus on drug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come ori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assurance and quality improvement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2193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3 on-site audits condu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vered approximately 60% of all enrolled in MA  and P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 compliance plan-only aud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-audits or other bases for compliance plan only audi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s issued January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2 performance + compliance plan aud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s issued February 20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2193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0 Enforcement Actions Utilized Audit Resul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62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62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Marketing/Enroll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62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ffective compliance programs at all sanctioned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 4" descr="Diagram showing Entity Types at the center.  Radiating off it are Publicly Traded, Privately Held, For Profit, Not-for-Profit, Large organizations, Medium organizations, and Small organizations."/>
          <p:cNvPicPr/>
          <p:nvPr/>
        </p:nvPicPr>
        <p:blipFill>
          <a:blip r:embed="rId1"/>
          <a:stretch/>
        </p:blipFill>
        <p:spPr>
          <a:xfrm>
            <a:off x="1189080" y="1365120"/>
            <a:ext cx="68454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963D-EAC4-4FFA-ACA7-EFFFDC3DA79F}" type="slidenum">
              <a:rPr b="0" lang="en-US" sz="1200" spc="-1" strike="noStrike">
                <a:solidFill>
                  <a:srgbClr val="898989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Diagram 5" descr="Diagram showing Entity Types (continued) at center.  Radiating off it are Experienced plans, New plans, Local community health plans, Staff model HMOs, PBMs sponsoring a Drug plan, Federal programs only business, and Mixed federal/commercial business."/>
          <p:cNvPicPr/>
          <p:nvPr/>
        </p:nvPicPr>
        <p:blipFill>
          <a:blip r:embed="rId1"/>
          <a:stretch/>
        </p:blipFill>
        <p:spPr>
          <a:xfrm>
            <a:off x="1047600" y="1212840"/>
            <a:ext cx="7285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3712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dit Review Are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mulary Administration (Transition, Utilization Management, Protected Class Drug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scription Drug Coverage Determinations, Appeals, Grieva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mium Bi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rollment/Disenroll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liance Plan (always audited along with other programmatic are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10 On-Site Audits -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Diagram 3" descr="Required senior level engagement during audit and corrective action process.&#13;&#10;Use of probe via data samples (e.g., rejected pharmacy claims).&#13;&#10;Further data requests on-site (e.g., when serious problems detected or to determine scope of beneficiaries affected).&#13;&#10;Immediate corrective action for any access issues detected.&#13;&#10;"/>
          <p:cNvPicPr/>
          <p:nvPr/>
        </p:nvPicPr>
        <p:blipFill>
          <a:blip r:embed="rId1"/>
          <a:stretch/>
        </p:blipFill>
        <p:spPr>
          <a:xfrm>
            <a:off x="1030320" y="1432080"/>
            <a:ext cx="6761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Jim</dc:creator>
  <dc:description/>
  <dc:language>en-US</dc:language>
  <cp:lastModifiedBy>Terry Mackey</cp:lastModifiedBy>
  <cp:lastPrinted>2007-05-20T22:53:41Z</cp:lastPrinted>
  <dcterms:modified xsi:type="dcterms:W3CDTF">2011-04-11T16:20:43Z</dcterms:modified>
  <cp:revision>146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036422</vt:r8>
  </property>
  <property fmtid="{D5CDD505-2E9C-101B-9397-08002B2CF9AE}" pid="3" name="_AuthorEmail">
    <vt:lpwstr>Abraham.Hollander@cms.hhs.gov</vt:lpwstr>
  </property>
  <property fmtid="{D5CDD505-2E9C-101B-9397-08002B2CF9AE}" pid="4" name="_AuthorEmailDisplayName">
    <vt:lpwstr>Hollander, Abraham (CMS/CPC)</vt:lpwstr>
  </property>
  <property fmtid="{D5CDD505-2E9C-101B-9397-08002B2CF9AE}" pid="5" name="_EmailSubject">
    <vt:lpwstr>Michelle Turano - 2010 Performance and Compliance Audits 04 04 2011.pptx</vt:lpwstr>
  </property>
  <property fmtid="{D5CDD505-2E9C-101B-9397-08002B2CF9AE}" pid="6" name="_NewReviewCycle">
    <vt:lpwstr/>
  </property>
</Properties>
</file>