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955680" y="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36800" cy="348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98040" y="4405320"/>
            <a:ext cx="5588280" cy="4170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80416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955680" y="880416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C7B57-EB62-443F-8E17-C1CD7CA8F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956040" y="880416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D8A0B-0EF2-4911-A301-055901E42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36800" cy="348012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98040" y="4405320"/>
            <a:ext cx="558828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36800" cy="34801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98040" y="4405320"/>
            <a:ext cx="558828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956040" y="880416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70271-8DAB-4EE1-B055-5926EA518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 Rounded MT Bol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36800" cy="34801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98040" y="4405320"/>
            <a:ext cx="558828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956040" y="880416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6454E-3200-4A83-95A1-CD228D7A2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 Rounded MT Bold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36800" cy="348012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98040" y="4405320"/>
            <a:ext cx="558828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956040" y="880416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6CD40-EC45-4A08-8367-9E84024FF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 Rounded MT Bold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36800" cy="34801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98040" y="4405320"/>
            <a:ext cx="558828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956040" y="880416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F5BFB-BA00-4D8D-90AD-0093DF7AD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 Rounded MT Bol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36800" cy="34801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98040" y="4405320"/>
            <a:ext cx="558828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956040" y="880416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CFEAB-AD20-48C9-BD2A-FCDD29A19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 Rounded MT Bol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81CC-734A-47A3-AED5-BBF91CB1E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799E-EDE4-417F-A95C-6DEEE3AAF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A101-8C95-4567-9185-89E7ADC6C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2515-3283-4799-8AC1-A89F04B9E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D3CD8-83B5-4F4C-998D-576C125AF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75A86-9E00-4512-ADC5-FF12171D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2C8AC-CB39-4EF9-8F9F-CFCBBD1D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55E6F-ED0D-4F16-B8EB-8431A2848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D7A20-DAF7-4786-925C-4CF79C7D0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1CA1E-A041-40EA-A16A-EC1021466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1065D-CFAF-43BD-B483-DEED6762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3B38-65C5-4374-841A-8B0B92546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CC298-68DD-4BC9-AD8D-84AD079C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DCE40-4956-484E-A0F5-40134F77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C145F-184B-42B2-9C41-CBA14754D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235A9-4FCA-40FC-9304-95712B4E7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ACE52-A342-47A7-A24A-994842989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6AB7-88DD-4DB6-AB99-7F06B7325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A402-7358-44C2-86EF-474F61F6D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877F-D0E4-484D-B43A-55458C832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AC6C-5FEA-44D8-B9AF-DFC9C8322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5FF8-7B3E-4A3E-9CF7-CE5DF803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3A5E-CAC1-4E7B-BD44-1C313677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F76C-B24B-4082-8978-C6508126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4CD5-B379-4B68-BDCB-9D602A54006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Slide ‹#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C8EDD-DD48-49CE-8F6D-DCE7E06476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9" descr="CMS HHS Bckgr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CMS HHS Bckgr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8763120" y="6553080"/>
            <a:ext cx="380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7519E-008F-403D-B190-FDBA038922A0}" type="slidenum">
              <a:rPr b="0" lang="en-US" sz="1200" spc="-1" strike="noStrike">
                <a:solidFill>
                  <a:srgbClr val="898989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1C209-3487-4B91-8FBA-1535AD4DBA0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57178-3DB0-4F47-8827-BB3E9E5B61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15F79-64B5-4FE3-A4B6-CC67FC21D5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mailto:Michelle.turano@cms.hhs.gov" TargetMode="Externa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15238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S 2010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erformance an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pliance Aud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600200" y="327672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ichelle G. Turan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puty Direc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gram Compliance and Oversight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enter For Medica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ril 13, 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4"/>
          <p:cNvSpPr/>
          <p:nvPr/>
        </p:nvSpPr>
        <p:spPr>
          <a:xfrm>
            <a:off x="8763120" y="6553080"/>
            <a:ext cx="380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010 On-Site Aud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143000" y="1523520"/>
            <a:ext cx="7391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y preliminary findings for sponsors audite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0% - failed to ensure meaningful formulary trans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4% - failed to timely forward coverage determinations to I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8% - failed to timely process coverage determin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8% - failed to categorize complaints as grievances and to properly resol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3% - failed to timely resolve grievances and notify beneficiaries re: resolu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4% - failed to properly administer protected class drugs, including imposing improper UM require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8% - failed to timely process redetermin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8% - failed to apply approved ST and PA in POS edi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3% - failed to timely forward redetermination to I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rrective Action Proces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Diagram 3" descr="60 Calendar Days to Correct from Date of Report&#10;Attestation from CEO&#10; All audit report deficiencies corrected and not likely to recur&#10; Compliance program modified to correct all deficiencies and complies with all CMS requirements&#10;Board of Directors Resolution&#10; Required to adopt resolution re: at least quarterly meetings to conduct review and oversight of Medicare  compliance obligations/operations"/>
          <p:cNvPicPr/>
          <p:nvPr/>
        </p:nvPicPr>
        <p:blipFill>
          <a:blip r:embed="rId1"/>
          <a:stretch/>
        </p:blipFill>
        <p:spPr>
          <a:xfrm>
            <a:off x="1060560" y="1427040"/>
            <a:ext cx="6949800" cy="45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alidation 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142640" y="1447560"/>
            <a:ext cx="7086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67932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quires evidence of correction and quantifiable, observable measurement of compliant outcomes (e.g., review of period of rejected pharmacy claim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67932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onsors conduct self-validation process at same time with a particular universe and attests to resul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67932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ilure thresholds and validation process given to sponso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67932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14300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46044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ities required to conduct parallel validation activities with CMS and results compa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46044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udit results posted on CMS we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27EF1-8840-4E04-BF7F-1CA1F8766F6E}" type="slidenum">
              <a:rPr b="0" lang="en-US" sz="1200" spc="-1" strike="noStrike">
                <a:solidFill>
                  <a:srgbClr val="898989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cess Impro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142640" y="1599840"/>
            <a:ext cx="6705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stening sessions held with industry associations and sponsors (AHIP and BCBS Associ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91764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ore advance notice and response ti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91764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ore transparency and informatio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regarding expect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91764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asier electronic exchange of inform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91764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vailability of Audit guid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91764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bility to respond/dispu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91764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cess Improvements c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06668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011 audit planning in proces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6858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Risk assessment used to select audit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6858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mprovements and learning incorporated into audit and validation process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6858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ue Diligence” conducted process prior to audi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6858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ormulary, CDAG, Marketing, Compliance pla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6858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Use of self-assessment evaluation tools prior to audi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AF112-7F18-43FB-9BBF-D14F30DD13FC}" type="slidenum">
              <a:rPr b="0" lang="en-US" sz="1200" spc="-1" strike="noStrike">
                <a:solidFill>
                  <a:srgbClr val="898989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059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pliance Plan Audits -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ey Deficiency Finding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121896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CO has indirect or infrequent reporting relationship to CEO/Boa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CO has direct reporting relationship to legal counsel or performs dual roles (conflict of interest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ck of sufficient leadership level/Board level involvement, awareness, oversight and support of compliance functio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059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pliance Plan Audits -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ey Deficiency Findings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1218960"/>
            <a:ext cx="7391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ck of senior management involvement in review and endorsement of standards of conduct  and compliance/FWA policies and proced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ilure to ensure receipt of comprehensive, up to date, policies and procedures and standards of conduct (including to FDRs) and/or to implement mechanisms for ensuring adherence to them (e.g., reporting mechanisms, non-retaliation, disciplinary guidelines for failing to report, etc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pliance Plan Audits –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ey Deficiency Findings c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12193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ck of awareness of confidential, anonymous reporting mechanisms (including by FDRs, beneficiaries, etc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liance and/or FWA training not up to date and targeted to individual job duties/risks and not tracked and/or measured to determine whether timely received/effec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pliance Plan Audit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ey Deficiency Findings c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12193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4480" indent="-287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ck of organizational compliance and FWA risk assess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4480" indent="-287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jor functions are delegated to outside entities (e.g., PBMs) without exercising proper monitoring, oversight and auditing to ensure compliance/detect FW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4480" indent="-287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day’s Pres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38080" y="12193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2010 On-Site Audits Upd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ompliance Plan Audits &amp; Key finding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ompliance Plan Effectivene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pliance Plan Audits –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ey Deficiency Findings c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838080" y="12193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ilure to implement systems for tracking and ensuring prompt response to detected non-compliance and FW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lying compliance models/processes that do not meet Medicare requirements (e.g., using commercial business compliance model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pliance Plan Audit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ey Deficiency Findings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121932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ilure to implement and oversee OIG provider exclusion and GSA debarment lists processes to screen out providers/suppli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ck of specific mechanisms targeted to FWA (e.g., monitoring/auditing in high fraud geographic areas, provider types, operations, etc.)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ilure to report FWA to CMS MED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pliance Plan Effectiv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066680" y="1447560"/>
            <a:ext cx="739152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dicators that you d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ave an effectiv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 does not report to the Board/Chief Executiv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Compliance Committe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 confidential / anonymous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ployees afraid to report up their ch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regards monitoring data; no or infrequent audits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rther indicators that you d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ave an effectiv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ponds to incident but no systemic fix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or negative recognition for compliance reports, complai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cipline inadequate / inconsist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egations not effectively investiga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systematic efforts to build a strong ethical cul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FF45C-0B10-4DB5-93D8-C13614EDFA5D}" type="slidenum">
              <a:rPr b="0" lang="en-US" sz="1200" spc="-1" strike="noStrike">
                <a:solidFill>
                  <a:srgbClr val="898989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pliance Plan Effectiveness c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14300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tact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Michelle.Turano@cms.hhs.g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410) 786-341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010 On-Site Aud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12193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ackgroun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ent organization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based on risk assess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olesale re-design and execution from 2009 (centralized strategy and execu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mary focus on drug ac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utcome orien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y assurance and quality improvement go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010 On-Site Aud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38080" y="12193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umber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3 on-site audits conduc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vered approximately 60% of all enrolled in MA  and PD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1 compliance plan-only aud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-audits or other bases for compliance plan only audits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ports issued January 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2 performance + compliance plan aud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ports issued February 2011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010 On-Site Aud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38080" y="12193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010 Enforcement Actions Utilized Audit Result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62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 Termin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62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 Marketing/Enroll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62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effective compliance programs at all sanctioned organiz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010 On-Site Aud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Diagram 4" descr="Entity Types diagram.  Radiating from the center are these entity types: Publicy Traded, Privately Held, For Profit,  Not-for-Profit, Large organizations, Medium organization, Small organization"/>
          <p:cNvPicPr/>
          <p:nvPr/>
        </p:nvPicPr>
        <p:blipFill>
          <a:blip r:embed="rId1"/>
          <a:stretch/>
        </p:blipFill>
        <p:spPr>
          <a:xfrm>
            <a:off x="1189080" y="1365120"/>
            <a:ext cx="6845400" cy="45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996C2-9F41-4D0A-9B01-C8375A2BAB6F}" type="slidenum">
              <a:rPr b="0" lang="en-US" sz="1200" spc="-1" strike="noStrike">
                <a:solidFill>
                  <a:srgbClr val="898989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010 On-Site Aud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Diagram 5" descr="Continuation of Entity Types diagram.  This diagram has the following entity types: Long Term Plans, New Plans, Local  Community Health plans, Staff Model HMOs, PBMs Sponsoring a Drug Plan, Federal Programs Only Business, Mixed  Federal/Commercial Business."/>
          <p:cNvPicPr/>
          <p:nvPr/>
        </p:nvPicPr>
        <p:blipFill>
          <a:blip r:embed="rId1"/>
          <a:stretch/>
        </p:blipFill>
        <p:spPr>
          <a:xfrm>
            <a:off x="1017720" y="1212840"/>
            <a:ext cx="732132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010 On-Site Aud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8080" y="137124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udit Review Are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ormulary Administration (Transition, Utilization Management (UM), Protected Class Drug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rescription Drug Coverage Determinations, Appeals, Grievan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remium Bill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nrollment/Disenroll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ompliance Plan (always audited along with other programmatic area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010 On-Site Audits - 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Diagram 3" descr="Required senior level engagement during audit and corrective action process leads to:&#10;Use of probe via data samples (e.g., rejected pharmacy claims), which leads to:&#10;Further data requests on-site (e.g., when serious problems detected or to determine scope of beneficiaries affected);  which leads to&#10;Immediate corrective action for any access issues detected"/>
          <p:cNvPicPr/>
          <p:nvPr/>
        </p:nvPicPr>
        <p:blipFill>
          <a:blip r:embed="rId1"/>
          <a:stretch/>
        </p:blipFill>
        <p:spPr>
          <a:xfrm>
            <a:off x="1030320" y="1432080"/>
            <a:ext cx="67611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19:19:05Z</dcterms:created>
  <dc:creator>Jim</dc:creator>
  <dc:description/>
  <dc:language>en-US</dc:language>
  <cp:lastModifiedBy>dschulte</cp:lastModifiedBy>
  <cp:lastPrinted>2007-05-20T22:53:41Z</cp:lastPrinted>
  <dcterms:modified xsi:type="dcterms:W3CDTF">2011-04-05T00:55:03Z</dcterms:modified>
  <cp:revision>145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B34E9C0CDEE2F441B5E57AF2A174586F</vt:lpwstr>
  </property>
  <property fmtid="{D5CDD505-2E9C-101B-9397-08002B2CF9AE}" pid="3" name="_AdHocReviewCycleID">
    <vt:r8>-945622127</vt:r8>
  </property>
  <property fmtid="{D5CDD505-2E9C-101B-9397-08002B2CF9AE}" pid="4" name="_AuthorEmail">
    <vt:lpwstr>Michelle.Turano@cms.hhs.gov</vt:lpwstr>
  </property>
  <property fmtid="{D5CDD505-2E9C-101B-9397-08002B2CF9AE}" pid="5" name="_AuthorEmailDisplayName">
    <vt:lpwstr>Turano, Michelle G. (CMS/CPC)</vt:lpwstr>
  </property>
  <property fmtid="{D5CDD505-2E9C-101B-9397-08002B2CF9AE}" pid="6" name="_EmailSubject">
    <vt:lpwstr>Spring 2011 Conference - presentation deck edits</vt:lpwstr>
  </property>
  <property fmtid="{D5CDD505-2E9C-101B-9397-08002B2CF9AE}" pid="7" name="_NewReviewCycle">
    <vt:lpwstr/>
  </property>
</Properties>
</file>