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D094-ACE7-4378-B6A7-1057CDA52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5560" y="693720"/>
            <a:ext cx="4619520" cy="3463920"/>
          </a:xfrm>
          <a:prstGeom prst="rect">
            <a:avLst/>
          </a:prstGeom>
          <a:ln w="0">
            <a:noFill/>
          </a:ln>
        </p:spPr>
      </p:sp>
      <p:sp>
        <p:nvSpPr>
          <p:cNvPr id="15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2699-B149-43FC-830B-9074C1CA87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5560" y="693720"/>
            <a:ext cx="4619520" cy="3463920"/>
          </a:xfrm>
          <a:prstGeom prst="rect">
            <a:avLst/>
          </a:prstGeom>
          <a:ln w="0">
            <a:noFill/>
          </a:ln>
        </p:spPr>
      </p:sp>
      <p:sp>
        <p:nvSpPr>
          <p:cNvPr id="15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6CD0-EDE1-4844-B393-2DC678F24C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5560" y="693720"/>
            <a:ext cx="4619520" cy="3463920"/>
          </a:xfrm>
          <a:prstGeom prst="rect">
            <a:avLst/>
          </a:prstGeom>
          <a:ln w="0">
            <a:noFill/>
          </a:ln>
        </p:spPr>
      </p:sp>
      <p:sp>
        <p:nvSpPr>
          <p:cNvPr id="158" name="PlaceHolder 2"/>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D7E7-EDEE-4F01-BBE8-B333672AD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5560" y="693720"/>
            <a:ext cx="4619520" cy="3463920"/>
          </a:xfrm>
          <a:prstGeom prst="rect">
            <a:avLst/>
          </a:prstGeom>
          <a:ln w="0">
            <a:noFill/>
          </a:ln>
        </p:spPr>
      </p:sp>
      <p:sp>
        <p:nvSpPr>
          <p:cNvPr id="16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5CFC-A375-4520-B9FC-3066C08BF0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5560" y="693720"/>
            <a:ext cx="4619520" cy="3463920"/>
          </a:xfrm>
          <a:prstGeom prst="rect">
            <a:avLst/>
          </a:prstGeom>
          <a:ln w="0">
            <a:noFill/>
          </a:ln>
        </p:spPr>
      </p:sp>
      <p:sp>
        <p:nvSpPr>
          <p:cNvPr id="16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CBE0-850D-4784-BF92-283395DBF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BD0E3B-C91E-4122-9A7F-4E9996657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F2A0A-543A-4EB4-AF1C-B252CC7534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0D8837-9E50-4127-AE85-9BE9400F5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820A6A-9E86-46E0-8AA9-B10CB995BF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919009-3B5F-487C-A487-3FBE8849F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4BA85-A94B-44F0-834B-228C5148AB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AD673-A1B5-4161-B034-E86CB9EDCD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8B9A4-BEC2-4342-8989-85DB865D90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80F62-2575-44C4-8653-5DF5D855B6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95446-2A5A-4FE0-9B1B-2866811E83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77C01E-DE14-420C-BC63-5A372C0976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238D9-28DD-468B-BBAA-9A5B49F23A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BCE40-A78D-4907-BD47-17739BDCD2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BC29C-8623-4EF9-96E6-DE5AB3F80E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E5F20-3245-4DC5-AC6A-FEA891F4EE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E4B62-58C3-47BA-A057-827CDD465A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1ACFA-C1D8-40CD-A9EF-4481B890CE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7ECAA8-6172-4270-AB6C-9B7B543A6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10C240-70BB-43AC-9191-1602F0E24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D97A78-6102-49F4-9C92-EF7FBEB18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CB8EB-BA0C-4922-863E-5435C18BA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387D1E-C002-4085-AE7A-8B3EB254C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529C6-F471-4484-9028-6CB38E5E1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F541FA-4EA7-4D28-A353-B464FA3FB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0317-EDBA-438F-BC0C-125CCDDC2D0C}"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E322-8BDB-4A80-8FAE-DF779C69492B}"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752480"/>
            <a:ext cx="73915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Web Phase II</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urrent ECRS Web</a:t>
            </a:r>
            <a:endParaRPr b="1" lang="en-US" sz="3200" spc="-1" strike="noStrike">
              <a:solidFill>
                <a:srgbClr val="000066"/>
              </a:solidFill>
              <a:latin typeface="Constantia"/>
            </a:endParaRPr>
          </a:p>
        </p:txBody>
      </p:sp>
      <p:sp>
        <p:nvSpPr>
          <p:cNvPr id="13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C709-60E2-4785-A532-E7E446A2B90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32" name=""/>
          <p:cNvSpPr txBox="1"/>
          <p:nvPr/>
        </p:nvSpPr>
        <p:spPr>
          <a:xfrm>
            <a:off x="1066320" y="1828440"/>
            <a:ext cx="762012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 D integrated with CWF Assistance Request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s coverage changes to hospital, medical,  drug</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es not support requests for updates to other drug coverage that is supplemental to Part D</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s users to submit unnecessary MSP information to pass front-end edits when requesting a change to a drug occurrenc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3416400" y="2058840"/>
            <a:ext cx="3657600" cy="181080"/>
          </a:xfrm>
          <a:prstGeom prst="rect">
            <a:avLst/>
          </a:prstGeom>
          <a:ln w="0">
            <a:noFill/>
          </a:ln>
        </p:spPr>
      </p:pic>
      <p:sp>
        <p:nvSpPr>
          <p:cNvPr id="135"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urrent ECRS Web</a:t>
            </a:r>
            <a:endParaRPr b="1" lang="en-US" sz="3200" spc="-1" strike="noStrike">
              <a:solidFill>
                <a:srgbClr val="000066"/>
              </a:solidFill>
              <a:latin typeface="Constantia"/>
            </a:endParaRPr>
          </a:p>
        </p:txBody>
      </p:sp>
      <p:sp>
        <p:nvSpPr>
          <p:cNvPr id="137"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77DC-5B95-4CB2-8814-60583E7A971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38" name=""/>
          <p:cNvSpPr txBox="1"/>
          <p:nvPr/>
        </p:nvSpPr>
        <p:spPr>
          <a:xfrm>
            <a:off x="1219320" y="1828800"/>
            <a:ext cx="6858000" cy="320040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rrent processes accepts 3 types of transactions</a:t>
            </a:r>
            <a:endParaRPr b="0" lang="en-US" sz="28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Inquiry – add new MSP Occurrence</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cription Coverage Inquiry – add Prescription Drug Occurrence</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WF Assistance Request – change/delete existing MSP Occurrence and OHI Occurrenc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Web Phase II</a:t>
            </a:r>
            <a:endParaRPr b="1" lang="en-US" sz="3200" spc="-1" strike="noStrike">
              <a:solidFill>
                <a:srgbClr val="000066"/>
              </a:solidFill>
              <a:latin typeface="Constantia"/>
            </a:endParaRPr>
          </a:p>
        </p:txBody>
      </p:sp>
      <p:sp>
        <p:nvSpPr>
          <p:cNvPr id="14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E40B-16D6-4F3E-8486-91E22B3D826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41"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CRS will be enhanced to provide users </a:t>
            </a:r>
            <a:endParaRPr b="0" lang="en-US" sz="2800" spc="-1" strike="noStrike">
              <a:solidFill>
                <a:srgbClr val="000000"/>
              </a:solidFill>
              <a:latin typeface="Constanti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ility to make modifications to existing drug occurrences using a new transaction designed for this purpo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72A1-7C6B-412C-98BA-0225A11CA49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in Menu</a:t>
            </a:r>
            <a:endParaRPr b="1" lang="en-US" sz="3200" spc="-1" strike="noStrike">
              <a:solidFill>
                <a:srgbClr val="000066"/>
              </a:solidFill>
              <a:latin typeface="Constantia"/>
            </a:endParaRPr>
          </a:p>
        </p:txBody>
      </p:sp>
      <p:sp>
        <p:nvSpPr>
          <p:cNvPr id="144" name=""/>
          <p:cNvSpPr txBox="1"/>
          <p:nvPr/>
        </p:nvSpPr>
        <p:spPr>
          <a:xfrm>
            <a:off x="1066320" y="1752120"/>
            <a:ext cx="7620120" cy="4038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l include selection for new ‘drug’ assistance request option</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drug coverage data will be require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be used to update either supplemental drug coverage or coverage that is primary to Part 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include all fields in the Prescription Coverage Inquir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694D-4388-4FBF-BC39-3E54CFB66CC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ew Action Codes for OHI Records</a:t>
            </a:r>
            <a:endParaRPr b="1" lang="en-US" sz="3200" spc="-1" strike="noStrike">
              <a:solidFill>
                <a:srgbClr val="000066"/>
              </a:solidFill>
              <a:latin typeface="Constantia"/>
            </a:endParaRPr>
          </a:p>
        </p:txBody>
      </p:sp>
      <p:sp>
        <p:nvSpPr>
          <p:cNvPr id="147" name=""/>
          <p:cNvSpPr txBox="1"/>
          <p:nvPr/>
        </p:nvSpPr>
        <p:spPr>
          <a:xfrm>
            <a:off x="1066320" y="1447920"/>
            <a:ext cx="7620120" cy="45720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following Actions will be added:</a:t>
            </a:r>
            <a:endParaRPr b="0" lang="en-US" sz="26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N-Develop for Rx BIN</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R-Develop for group number</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N-Develop for or add PCN</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P- Delete Rx Primary record</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S-Delete Rx Supplemental record</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P-Terminate Rx Primary record</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S-Terminate Supplemental Record</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C-Update Rx Person code</a:t>
            </a:r>
            <a:endParaRPr b="0" lang="en-US" sz="2200" spc="-1" strike="noStrike">
              <a:solidFill>
                <a:srgbClr val="000000"/>
              </a:solidFill>
              <a:latin typeface="Constantia"/>
            </a:endParaRPr>
          </a:p>
          <a:p>
            <a:pPr lvl="1" marL="743040" indent="-285840">
              <a:lnSpc>
                <a:spcPct val="114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nge Rx values (BIN, Group, PCN)</a:t>
            </a:r>
            <a:endParaRPr b="0" lang="en-US" sz="2200" spc="-1" strike="noStrike">
              <a:solidFill>
                <a:srgbClr val="000000"/>
              </a:solidFill>
              <a:latin typeface="Constantia"/>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Web Phase II</a:t>
            </a:r>
            <a:endParaRPr b="1" lang="en-US" sz="3200" spc="-1" strike="noStrike">
              <a:solidFill>
                <a:srgbClr val="000066"/>
              </a:solidFill>
              <a:latin typeface="Constantia"/>
            </a:endParaRPr>
          </a:p>
        </p:txBody>
      </p:sp>
      <p:sp>
        <p:nvSpPr>
          <p:cNvPr id="149" name=""/>
          <p:cNvSpPr txBox="1"/>
          <p:nvPr/>
        </p:nvSpPr>
        <p:spPr>
          <a:xfrm>
            <a:off x="1066320" y="1980720"/>
            <a:ext cx="7620120" cy="40388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ggested additional enhancements?</a:t>
            </a:r>
            <a:endParaRPr b="0" lang="en-US" sz="3200" spc="-1" strike="noStrike">
              <a:solidFill>
                <a:srgbClr val="000000"/>
              </a:solidFill>
              <a:latin typeface="Constantia"/>
            </a:endParaRPr>
          </a:p>
        </p:txBody>
      </p:sp>
      <p:sp>
        <p:nvSpPr>
          <p:cNvPr id="15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16A9-A23E-48AA-AB3E-D2AC7515053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Harry;Mary</dc:creator>
  <dc:description/>
  <dc:language>en-US</dc:language>
  <cp:lastModifiedBy>Terry Mackey</cp:lastModifiedBy>
  <dcterms:modified xsi:type="dcterms:W3CDTF">2011-04-03T11:46:01Z</dcterms:modified>
  <cp:revision>321</cp:revision>
  <dc:subject>MAPD Spring Conference</dc:subject>
  <dc:title>ECRS Phase 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34E9C0CDEE2F441B5E57AF2A174586F</vt:lpwstr>
  </property>
  <property fmtid="{D5CDD505-2E9C-101B-9397-08002B2CF9AE}" pid="3" name="_NewReviewCycle">
    <vt:lpwstr/>
  </property>
</Properties>
</file>