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7BF-B250-4044-8C88-2A0D0482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BB0-67BB-4F57-B45B-3DC29FEB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D1C-3E42-4086-AD4F-7504D9FE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0BB-3AF6-4AA7-A07F-9FE2C4B2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F26-694B-484E-A1D7-848E3FE4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A94-0C29-426A-BE0E-5778A5ED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D15-F589-40E8-A9F2-3747A20F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282-1960-4E67-8A92-53B1EFB2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AD9-12EC-4D19-80CD-1FBEB837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25E-12B7-4A0D-A757-4AA422E6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168-51DB-4F73-8B91-78992AF6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011-7A4C-4E70-B405-2E8C74C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6BA0-DC9A-4145-843B-3A204C601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981080"/>
            <a:ext cx="167652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981080"/>
            <a:ext cx="167652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utc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1981080"/>
            <a:ext cx="182880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st-Effect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53440" y="45720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Figure 1.  Section 641 Demonstration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47520" y="914400"/>
            <a:ext cx="6636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port to Congress shall include an evaluation of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atient access to c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atient outcomes under the project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 as well as an analysis of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the cost-effec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of the project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 including an evaluation of the costs savings (if any) to the Medicare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ttributable to reduced physicians’ services and hospital outpatient departments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administration of the biolog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29680" y="2057400"/>
            <a:ext cx="87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ti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3120" y="2971800"/>
            <a:ext cx="121896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39240" y="3048120"/>
            <a:ext cx="104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nefic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rvey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971800"/>
            <a:ext cx="16002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971800"/>
            <a:ext cx="152388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9680" y="3048120"/>
            <a:ext cx="154152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nefic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ce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rve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nefits of sel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se of comp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tisfaction wi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nge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alth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600" y="27432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048120"/>
            <a:ext cx="134784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rov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rv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se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O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nthesis of clinical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PCs for s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27432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971800"/>
            <a:ext cx="129564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05640" y="2971800"/>
            <a:ext cx="1600200" cy="316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0574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848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3124080"/>
            <a:ext cx="12193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 cost to Medi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aly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al with support from BOA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c 8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2971800"/>
            <a:ext cx="1295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kely cost-effec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f new trea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al Review of CEA literature and modeling for selected 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PC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705720" y="27432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27432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6400800"/>
            <a:ext cx="1524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 – EP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6381720"/>
            <a:ext cx="144792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S – EP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705360" y="6095880"/>
            <a:ext cx="1447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53280" y="6172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6203880"/>
            <a:ext cx="297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OL – quality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EA – cost effectiveness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PCs – Evidence-based practic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629400" y="594324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5:28:27Z</dcterms:created>
  <dc:creator>CMS</dc:creator>
  <dc:description/>
  <dc:language>en-US</dc:language>
  <cp:lastModifiedBy>CMS</cp:lastModifiedBy>
  <dcterms:modified xsi:type="dcterms:W3CDTF">2004-07-08T20:00:24Z</dcterms:modified>
  <cp:revision>10</cp:revision>
  <dc:subject/>
  <dc:title>PowerPoint Presentation</dc:title>
</cp:coreProperties>
</file>