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4134960" y="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5"/>
          </p:nvPr>
        </p:nvSpPr>
        <p:spPr>
          <a:xfrm>
            <a:off x="-36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6"/>
          </p:nvPr>
        </p:nvSpPr>
        <p:spPr>
          <a:xfrm>
            <a:off x="4134960" y="9129600"/>
            <a:ext cx="317988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65C84A-845C-44F2-B2AF-F99BA1FF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NCQA; currently listed as used in PGP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ed by NCQA as an Alliance member; currently listed as used in the PGP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54000" y="4563720"/>
            <a:ext cx="5407200" cy="4329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ed by NCQA as an Alliance member; currently listed as used in the PGP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C484-D459-4BAE-A2D1-024615DCC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30FE-A12A-47E6-B397-BF75B3F6A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2AD3-818A-4D9C-AB5B-7AF73C1D8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24DF-2972-463F-8D84-EFB4F19E0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5405-A856-4DB4-98EC-5080E4C12A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4D10-B04A-4D54-BFD0-C89892AFE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B27B-1A85-402B-8E80-59319CCCB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6743-91E2-4A87-92E9-AABBA8E0F9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9C8A-7D4E-4930-9EB2-1D87C8F1F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35A3-6FC6-463D-8DCB-E90A1F312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BC15-A11C-412C-A18B-2245305DC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7BDC-7E06-439B-B671-A7F261896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FB79-F918-4842-A2F5-D96F36CB56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C201-BCA2-4532-902D-3970E5A42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113E-035B-4A61-8299-D843A8AA8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F59C-C468-4454-B3DC-153877A564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99E2-11EB-4662-88A3-FF01428637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BEF-BDBC-407B-B40D-D64C2C014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E0B-FC40-4893-89A5-ABCFA30CAB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10F-CCEB-44DA-BC35-92CCF402E6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0BE-909C-4C12-A2FD-30E334456A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228-7695-4178-B5F0-481A44753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C33D-F751-4C21-9494-F17EEF2AF6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11E-EECD-4EEE-A554-03A9D24BC2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6F1-DD8A-4E08-B32F-E5BCDBCDDC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680-1F4C-4F8C-B941-CDE9D79505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938-02DB-4DA3-A17B-86FCAA617A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33A-37AB-46D7-8448-9673CABD0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FC6-DA29-4CB4-9180-3EB6DD631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194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4840" y="22093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0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194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4840" y="42393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0E1-8964-4E4F-8343-A51D4F225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DED3-A592-4E3A-8E77-00303D211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CAD4-3DD8-4031-B200-74A3B4585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DA23-D513-4440-A463-10D087EF8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AE33-3E27-46A7-A0CD-E4B23DF27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2393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03AB-32D0-4D21-99D0-1F7DF6667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2093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393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F68F-1155-4145-B766-39DC7A865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057400"/>
            <a:ext cx="7391520" cy="76320"/>
            <a:chOff x="228600" y="2057400"/>
            <a:chExt cx="7391520" cy="76320"/>
          </a:xfrm>
        </p:grpSpPr>
        <p:sp>
          <p:nvSpPr>
            <p:cNvPr id="1" name=""/>
            <p:cNvSpPr/>
            <p:nvPr/>
          </p:nvSpPr>
          <p:spPr>
            <a:xfrm>
              <a:off x="609480" y="2057400"/>
              <a:ext cx="7010640" cy="75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228600" y="2057400"/>
              <a:ext cx="393840" cy="7632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582040" y="6364440"/>
          <a:ext cx="271440" cy="2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82040" y="6364440"/>
                    <a:ext cx="2714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914400" y="63241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715-DEAA-4318-8896-113D6DFF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26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DFF8-0679-4D38-B210-454F2C480196}" type="slidenum">
              <a:rPr b="1" sz="26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572000" cy="4138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895480"/>
            <a:ext cx="41148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934320" y="5867280"/>
          <a:ext cx="19144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67280"/>
                    <a:ext cx="1914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3"/>
          </p:nvPr>
        </p:nvSpPr>
        <p:spPr>
          <a:xfrm>
            <a:off x="914400" y="63241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BF2-7E5D-4D2A-9E91-FF97891F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ms.hhs.gov/DemoProjectsEvalRpts/downloads/MMA649_SlidesCompliance.pdf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mailto:Sgrund@ifmc.org" TargetMode="External"/><Relationship Id="rId2" Type="http://schemas.openxmlformats.org/officeDocument/2006/relationships/hyperlink" Target="mailto:Flandiza@ifmc.org" TargetMode="External"/><Relationship Id="rId3" Type="http://schemas.openxmlformats.org/officeDocument/2006/relationships/hyperlink" Target="mailto:mschrade@ifmc.org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are Care Management Performance (MCMP) Demonst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dor Con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723920" y="3123720"/>
            <a:ext cx="4241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rry Gr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Projects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ancis Land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ry Schr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Projects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04920"/>
            <a:ext cx="83055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an accessible version of this document, please click here:</a:t>
            </a:r>
            <a:br>
              <a:rPr sz="1400"/>
            </a:br>
            <a:r>
              <a:rPr b="0" lang="en-US" sz="1400" spc="-1" strike="noStrike" u="sng">
                <a:solidFill>
                  <a:srgbClr val="777777"/>
                </a:solidFill>
                <a:uFillTx/>
                <a:latin typeface="Times New Roman"/>
                <a:hlinkClick r:id="rId1"/>
              </a:rPr>
              <a:t>http://www.cms.hhs.gov/DemoProjectsEvalRpts/downloads/MMA649_SlidesCompliance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DBA2-BC8A-40C1-BE46-716863B2A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with CA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 who received at least one lipid profile (or all component t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8100-3FFA-418A-A616-8888FC38B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DL Cholestero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with CA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 years of age and at least one LDL cholestero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 with most recent LDL cholesterol &lt; 100 mg/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6D3D-7D85-4908-B53F-4C8FE20A7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 Inhibitor or ARB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tients with CA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8 years of age who also have diabetes and/or LV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s who were prescribed ACE inhibitor or ARB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nominator I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s with CAD who also have diabetes and/or LVSD (LVEF &lt; 40% or moderately or severely depressed left ventricular systolic fun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R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Rea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D454-23D0-4185-9E69-C453E5D87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1: HbA1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Hemoglobin A1c (HbA1c)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2: HbA1c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HbA1c in poor control (&gt;9.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A389-B3A6-46F5-8535-9813EFD81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3: Blood Pressur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a blood pressure &lt;140/80 mmH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4: Lipi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LDL-C screening perfor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696B-4699-4F5D-BE94-069AC8931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5: LDL Cholestero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LDL-C testing &lt;100 mg/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6: Urine Protei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medical attention for nephropa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726C-5569-4908-AE22-AFA1278A9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7: Eye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an eye exam (retinal) perfor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-8: Foot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18-75 years of age with diabetes (type 1 or type 2) who had a foot exam (visual inspection, sensory exam with monofilament, or pulse ex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5DA2-69FE-424B-8B51-ECAB8970DD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-1: Left Ventricular Function (LVF)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ith quantitative or qualitative results for LVF assess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F-2: Left Ventricular Ejection Fraction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ith LVF testing during the current year for patients hospitalized with a principal diagnosis of HF during the measurement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DC7C-BAF7-4F73-A600-CFB7D0FB1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F-3: Weigh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 visits with weight measurement recor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F-5: 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ho were provided with patient education on disease management and health behavior changes during one or more visit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895C-724B-43C0-8053-59C2008B1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F-6: Beta-Blocker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ho were prescribed beta-blocker thera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F-7: ACE Inhibitor or ARB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 patients who were prescribed ACE Inhibitor or ARB thera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8639-11F2-4752-88E3-C7A82CB198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s IFMC Provid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packet if attending in-per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ing of Measures (IDs claims-based meas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for Measures Calculation-EH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RS to MCMP-PAT MA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File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on CMS’ website (in addition to abov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bstraction Definition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 Flowchart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Tab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able Resource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reated for paper medical recor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1606-D749-4A95-A009-99D14ED00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F-8: Warfarin Therapy for Patients with Atrial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ith paroxysmal or chronic atrial fibrillation who were prescribed warfarin thera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237B-DF84-4F80-9EB5-1B9EC08413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ve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-1: Blood Pressure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 visits with blood pressure (BP) measurement recor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-5: Breast Canc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women 40-69 years of age who had a mammogram to screen for breast can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88F1-275B-4113-9A06-5FB562994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ve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6: Colorectal Cancer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screened for colorectal cancer during the one-year measurement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-7: Influenza Vacc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patients who received an influenza vaccination during the one-year measurement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7283-D245-4E75-A929-49540660E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ve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-8: Pneumonia 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ercentage of patients 65 years or older who ever received a pneumococcal vacc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ECE3-83EF-48B2-A78B-F0FC7BF6E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2860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istribution &amp;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MP-PA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Fil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5E13-4CF3-4299-BD23-3167CE46BD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Distrib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51460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76720"/>
            <a:ext cx="1600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495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IO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4495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IO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2" idx="2"/>
            <a:endCxn id="189" idx="0"/>
          </p:cNvCxnSpPr>
          <p:nvPr/>
        </p:nvCxnSpPr>
        <p:spPr>
          <a:xfrm rot="5400000">
            <a:off x="1904400" y="4762440"/>
            <a:ext cx="838800" cy="9151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8" name=""/>
          <p:cNvCxnSpPr>
            <a:stCxn id="192" idx="2"/>
            <a:endCxn id="193" idx="0"/>
          </p:cNvCxnSpPr>
          <p:nvPr/>
        </p:nvCxnSpPr>
        <p:spPr>
          <a:xfrm flipH="1" rot="16200000">
            <a:off x="2781360" y="4800240"/>
            <a:ext cx="838800" cy="8388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 rot="5400000">
            <a:off x="5523840" y="4800600"/>
            <a:ext cx="838800" cy="8388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94" idx="2"/>
            <a:endCxn id="196" idx="0"/>
          </p:cNvCxnSpPr>
          <p:nvPr/>
        </p:nvCxnSpPr>
        <p:spPr>
          <a:xfrm flipH="1" rot="16200000">
            <a:off x="6400800" y="4762080"/>
            <a:ext cx="838800" cy="9151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1" idx="2"/>
            <a:endCxn id="192" idx="0"/>
          </p:cNvCxnSpPr>
          <p:nvPr/>
        </p:nvCxnSpPr>
        <p:spPr>
          <a:xfrm rot="5400000">
            <a:off x="3237840" y="3124080"/>
            <a:ext cx="915120" cy="182952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1" idx="2"/>
            <a:endCxn id="194" idx="0"/>
          </p:cNvCxnSpPr>
          <p:nvPr/>
        </p:nvCxnSpPr>
        <p:spPr>
          <a:xfrm flipH="1" rot="16200000">
            <a:off x="5029200" y="3161880"/>
            <a:ext cx="915120" cy="175320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90" idx="2"/>
            <a:endCxn id="191" idx="0"/>
          </p:cNvCxnSpPr>
          <p:nvPr/>
        </p:nvCxnSpPr>
        <p:spPr>
          <a:xfrm flipV="1" rot="10800000">
            <a:off x="4609440" y="2819160"/>
            <a:ext cx="108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E5F6-E9A5-4148-AB2B-2276CD101B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251460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276720"/>
            <a:ext cx="1600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495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IO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495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IO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5638680"/>
            <a:ext cx="1600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 #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2"/>
            <a:endCxn id="205" idx="0"/>
          </p:cNvCxnSpPr>
          <p:nvPr/>
        </p:nvCxnSpPr>
        <p:spPr>
          <a:xfrm rot="5400000">
            <a:off x="1904400" y="4762440"/>
            <a:ext cx="838800" cy="9151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4" name=""/>
          <p:cNvCxnSpPr>
            <a:stCxn id="208" idx="2"/>
            <a:endCxn id="209" idx="0"/>
          </p:cNvCxnSpPr>
          <p:nvPr/>
        </p:nvCxnSpPr>
        <p:spPr>
          <a:xfrm flipH="1" rot="16200000">
            <a:off x="2781360" y="4800240"/>
            <a:ext cx="838800" cy="8388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5" name=""/>
          <p:cNvCxnSpPr>
            <a:stCxn id="210" idx="2"/>
            <a:endCxn id="211" idx="0"/>
          </p:cNvCxnSpPr>
          <p:nvPr/>
        </p:nvCxnSpPr>
        <p:spPr>
          <a:xfrm rot="5400000">
            <a:off x="5523840" y="4800600"/>
            <a:ext cx="838800" cy="8388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6" name=""/>
          <p:cNvCxnSpPr>
            <a:stCxn id="210" idx="2"/>
            <a:endCxn id="212" idx="0"/>
          </p:cNvCxnSpPr>
          <p:nvPr/>
        </p:nvCxnSpPr>
        <p:spPr>
          <a:xfrm flipH="1" rot="16200000">
            <a:off x="6400800" y="4762080"/>
            <a:ext cx="838800" cy="9151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7" name=""/>
          <p:cNvCxnSpPr>
            <a:stCxn id="207" idx="2"/>
            <a:endCxn id="208" idx="0"/>
          </p:cNvCxnSpPr>
          <p:nvPr/>
        </p:nvCxnSpPr>
        <p:spPr>
          <a:xfrm rot="5400000">
            <a:off x="3237840" y="3124080"/>
            <a:ext cx="915120" cy="182952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8" name=""/>
          <p:cNvCxnSpPr>
            <a:stCxn id="207" idx="2"/>
            <a:endCxn id="210" idx="0"/>
          </p:cNvCxnSpPr>
          <p:nvPr/>
        </p:nvCxnSpPr>
        <p:spPr>
          <a:xfrm flipH="1" rot="16200000">
            <a:off x="5029200" y="3161880"/>
            <a:ext cx="915120" cy="175320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9" name=""/>
          <p:cNvCxnSpPr>
            <a:stCxn id="206" idx="2"/>
            <a:endCxn id="207" idx="0"/>
          </p:cNvCxnSpPr>
          <p:nvPr/>
        </p:nvCxnSpPr>
        <p:spPr>
          <a:xfrm flipV="1" rot="10800000">
            <a:off x="4609440" y="2819160"/>
            <a:ext cx="108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2FEC-27E3-4094-966C-58CB66D8C4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771480"/>
            <a:ext cx="7010280" cy="5446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on Scr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0BA-CD2B-4532-BD0C-4772C9868E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21320" cy="5491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4876920"/>
            <a:ext cx="23619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19B-A217-4EFD-9220-E230E3D83B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21320" cy="549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1905120"/>
            <a:ext cx="24382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F77-478D-4E7B-BF8C-3935602F43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Discussion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reporting/performance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data distribution &amp; collec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MCMP-Performance Assessment Tool 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through of import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fil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purpose of mapping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through of mapping and EHRS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32D9-DBC7-4D6D-AA46-6885ABAC9E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21320" cy="5491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648320"/>
            <a:ext cx="5257800" cy="144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D15-203B-4F26-92E6-B07D040A50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21320" cy="54914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1600200"/>
            <a:ext cx="3808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4191120"/>
            <a:ext cx="243864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C08-B55C-4042-9EF3-1B438B6B94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21320" cy="54914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ve Care – Blood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3886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5105520"/>
            <a:ext cx="175284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261-69ED-4A6F-96CE-AADB2519E0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ve Care – Other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01804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B93-8B17-4F4A-9580-7182CA3179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tion of 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39152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F7F-ECC4-480F-A58D-135CFAA7F6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MP-PAT Ex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07664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429000" y="4419720"/>
            <a:ext cx="5343480" cy="197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48320" y="3429000"/>
            <a:ext cx="91440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ED2-7E9C-421E-83F8-97A12E1EF6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63868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457200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MP-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50532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-de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243828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H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2"/>
            <a:endCxn id="250" idx="0"/>
          </p:cNvCxnSpPr>
          <p:nvPr/>
        </p:nvCxnSpPr>
        <p:spPr>
          <a:xfrm flipV="1" rot="10800000">
            <a:off x="4419000" y="3123720"/>
            <a:ext cx="108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3" name=""/>
          <p:cNvCxnSpPr>
            <a:stCxn id="250" idx="2"/>
            <a:endCxn id="249" idx="0"/>
          </p:cNvCxnSpPr>
          <p:nvPr/>
        </p:nvCxnSpPr>
        <p:spPr>
          <a:xfrm flipV="1" rot="10800000">
            <a:off x="4419000" y="4190760"/>
            <a:ext cx="1080" cy="381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9" idx="2"/>
            <a:endCxn id="248" idx="0"/>
          </p:cNvCxnSpPr>
          <p:nvPr/>
        </p:nvCxnSpPr>
        <p:spPr>
          <a:xfrm flipV="1" rot="10800000">
            <a:off x="4419000" y="5257440"/>
            <a:ext cx="1080" cy="381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381E-45B6-4B34-B9D6-8E834ACB64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81984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316-10A8-4BA9-ACA4-824A7A2CDB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HI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121520" cy="54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DCC-13E1-432A-800F-717E30D1BB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2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6D5-54B7-47F0-BCDF-E804D2046F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CMP Measure S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Disease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Mellitus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Failure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ve Care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C29E-23B4-4E91-BC23-76E06EE91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121520" cy="54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D6E-FABD-4DAE-8AEB-312F08F14C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required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values in require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values in require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ritic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existing H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 Values (non-numeric, values outside of r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53CE-1549-4B2D-9896-5CA59A452F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Specifications – Patients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572320" cy="2495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7232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FCD-9405-425C-990D-73A93877FE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Patient Import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850000" cy="5131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324480" y="1676520"/>
            <a:ext cx="1295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ken into 2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720" y="990720"/>
            <a:ext cx="5473800" cy="2768400"/>
          </a:xfrm>
          <a:custGeom>
            <a:avLst/>
            <a:gdLst/>
            <a:ahLst/>
            <a:rect l="l" t="t" r="r" b="b"/>
            <a:pathLst>
              <a:path w="3448" h="1744">
                <a:moveTo>
                  <a:pt x="3448" y="0"/>
                </a:moveTo>
                <a:lnTo>
                  <a:pt x="3448" y="1512"/>
                </a:lnTo>
                <a:lnTo>
                  <a:pt x="0" y="1520"/>
                </a:lnTo>
                <a:lnTo>
                  <a:pt x="8" y="1744"/>
                </a:lnTo>
                <a:lnTo>
                  <a:pt x="168" y="1736"/>
                </a:lnTo>
              </a:path>
            </a:pathLst>
          </a:custGeom>
          <a:noFill/>
          <a:ln w="284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300-752F-4DFF-B564-EE5A56287E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Specifications and Sample – Patient Vis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96360" cy="1695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547524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095-075F-450D-BC72-17E7BF12AB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tic Docu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 for Measures Calculation-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able Resourc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HRS to MCMP-PA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1D9A-CE8A-4F19-8991-311F48CF3B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Measures Calculation-EH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C08-C5AE-41BC-A2E1-F909FFE114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2760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5429520" cy="1047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able Resource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B50-5D63-43CF-953F-9FB1C1DB1A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HRS to MCMP-PAT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cise version of the algorithm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guide data extraction from EH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: data is stored using standard coding systems (e.g., CPT, ICD-9, SNOMED, LOINC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data definition document should be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E023-B5F7-4EF7-94BD-3D5CD0AE121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0960" y="1252440"/>
            <a:ext cx="8723520" cy="43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2C8-4FB3-453B-B6EC-3F1E7C34AB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-convened Physician Consortium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for 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who have pilot tested the collection of MCMP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A32A-4931-47C9-B84C-C421101277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00160" y="1623960"/>
            <a:ext cx="8745480" cy="36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B67-CCA9-4DD2-A915-AAB3426A68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16000" y="542880"/>
            <a:ext cx="871380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C17-8C69-4981-A0FD-81B005FC5D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0720" y="22860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7200" y="2624040"/>
            <a:ext cx="8771040" cy="16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C52-D8FC-43CF-9351-8BCD955CDF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362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0160" y="523800"/>
            <a:ext cx="8745480" cy="581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6B3-5986-495A-9292-82668E3006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rry Grund, Director Speci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7777"/>
                </a:solidFill>
                <a:uFillTx/>
                <a:latin typeface="Arial"/>
                <a:hlinkClick r:id="rId1"/>
              </a:rPr>
              <a:t>sgrund@ifm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5-223-2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Landiza, Programmer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flandiza@ifm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5-440-8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Schrader, Special Projects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77777"/>
                </a:solidFill>
                <a:uFillTx/>
                <a:latin typeface="Arial"/>
                <a:hlinkClick r:id="rId3"/>
              </a:rPr>
              <a:t>mschrade@ifm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5-223-28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5867280"/>
            <a:ext cx="7010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E864-D9D9-4918-91EF-055D1FCC21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 Structure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minator 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indications to use/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, Patient, and System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or i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clude if therapy received or test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ly, look for reasons why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vs. time period (patient level)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of data – ti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BDBD-BB79-4B86-B0B4-56A2D2A7C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platelet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with CA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 who were prescribed antiplatele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Reas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A04D-1DFF-4E53-B31E-4EE7C78D5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 Therapy for Lowering LD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atients with CA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 years of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who were prescribed lipid-lowering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 cholesterol &lt; 130 mg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Rea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Rea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resources to perform the services not available, insurance coverage/payor-related limitations, other reasons attributable to health care delivery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242E-588B-4E1F-8709-207398953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onary Artery Disease: CAD-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 Blocker Therapy – Prior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nominator Statemen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 patients with CAD who also have prior MI at any tim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18 years of 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Numerator Statemen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ients who were prescribed beta blocker therap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nominator Inclus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ients with CAD and prior M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nominator Exclusio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cal Reason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ient Reas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stem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105F-5C19-4C83-90CD-61EF9A81B8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9:14:23Z</dcterms:created>
  <dc:creator>SDPS</dc:creator>
  <dc:description/>
  <dc:language>en-US</dc:language>
  <cp:lastModifiedBy>CMS</cp:lastModifiedBy>
  <dcterms:modified xsi:type="dcterms:W3CDTF">2008-08-25T14:01:34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