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C739-DB3F-45D9-AF81-0851655C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1AB0-B9E0-4BD3-9338-45D00722E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C23-85C6-4444-BE73-4C92A503E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956-6E19-4C06-AB08-2114F7526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3836-65AC-4BBB-A73A-091D6603C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7408-D21A-4E33-AA99-54B5EE146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D0D-E15A-41ED-8F9C-47D8A738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94FA-EDFA-43D2-A1D0-B8DD64C6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C59-C89B-41CB-A534-F3FD0CBE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367-17C5-489A-BD78-16E039A6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E95-D32B-4C64-B773-D44616651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342B-B2C9-4FA1-A683-E82EA3793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81B-95E0-4EEB-AF09-8F8A0BC3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A2AD-DA59-4333-B337-F4482089A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A20-2902-43FA-BAB5-89473584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CD8-E972-426A-83CC-A63BF2AD4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62E-A881-405C-8323-4E6E3C5A4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08C-80B3-4C68-870D-002DE2FE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6D0D-9FBB-41EC-955C-F282386B9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6076-215D-4222-B083-098EE60B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CC1E-B846-482D-A6AC-062D62014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0128-11EE-453D-8178-469EB6311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285-D595-4EDC-86E6-FC4E3AD15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0268-4E58-49C6-8A9D-6CAA290AA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8AE0-8E98-41D6-A33B-61C3B586F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62C2-D72C-48B4-B2C6-15175254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82D-7B86-4C91-A75D-97A3C87F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28D6-BC42-44A6-8162-198B11582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3F3A-88F6-4E60-B24C-7960334F1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82A9-07A5-4FFF-A2E2-9022DFC14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86D9-F1C6-48E3-A391-C224D4FA2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77C6-780B-40D3-A1F7-AABE94226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8B6E-77B2-4FE0-9EB7-2B4BDC475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2405-94AA-46B5-B46C-135F6CF1B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71E0-6484-4D2F-8387-4905738B8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9669-9480-4448-8D67-22A66E251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07A8-B32C-4E35-860B-416C34124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3CDD-4E2D-4BBB-826B-5A8A7E3A9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9042-7FEB-41AD-B9BB-91611B390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04B4-B2CE-4C2C-9BEF-3A473114E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frwebgate1.access.gpo.gov/cgi-bin/waisgate.cgi?WAISdocID=259024345809+9+0+0&amp;WAISaction=retrieve" TargetMode="External"/><Relationship Id="rId2" Type="http://schemas.openxmlformats.org/officeDocument/2006/relationships/hyperlink" Target="http://frwebgate2.access.gpo.gov/cgi-bin/waisgate.cgi?WAISdocID=259065493307+1+0+0&amp;WAISaction=retrieve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880" y="1752120"/>
            <a:ext cx="73137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4831cf"/>
                </a:solidFill>
                <a:latin typeface="Georgia"/>
              </a:rPr>
              <a:t>Revisions to the Hospital </a:t>
            </a:r>
            <a:br>
              <a:rPr sz="3200"/>
            </a:br>
            <a:r>
              <a:rPr b="1" lang="en-US" sz="3200" spc="-1" strike="noStrike">
                <a:solidFill>
                  <a:srgbClr val="4831cf"/>
                </a:solidFill>
                <a:latin typeface="Georgia"/>
              </a:rPr>
              <a:t>Conditions of Participation (CoPs) 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7313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annie Miller, RN, MPH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, Division of Institutional Quality Standar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G/OCSQ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nie.miller@cms.hhs.gov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0-786-3164 ph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0-786-8532 f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General Requirements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057400"/>
            <a:ext cx="723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has right to be free from unnecessary restraint or se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restraint for convenience, discipline, retaliation or coercion is “never accep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tient should be treated with respect and dig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aint or seclusion may only be imposed to ensure “immediate physical safety” of the patients, a staff member or others and must be discontinued “at the earliest possible ti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General Requirement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13372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when less restrictive interventions have been determined ineffective to protect patient, staff or others from 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r technique must be least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ccord with written modification to patient’s plan of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in accordance with safe and appropriate techniques as per hospital policy in accord with St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Orders for Seclusion or Restraint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67652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Must be in accord with order of a physician or other Licensed Independent Practitioner (LIP) responsible for the patient’s care and authorized to order restraint or seclusion by hospital policy in accordance with State la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Must “never be written” as a standing order or on an as needed basis (PR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Attending physician must be consulted “as soon as possible” if he/she did not order the seclusion or restra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바탕"/>
              </a:rPr>
              <a:t>Seclusion or restraint “must be discontinued at the earliest possible time,” regardless of order’s length of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Orders for Seclusion or Restraint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67652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or “management of violent or self-destructive behavior that jeopardizes the immediate physical safety of the patient, a staff member or others”, th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only be renewed up to total of 24 hours, unless superseded by more restrictive State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24 hours, before writing new order, Physician or LIP must see and assess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must be seen “face-to-face” within 1 hour after intervention is init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Restraint and Seclusion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228456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-to face evaluation mu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ducted by physician or other LIP or trained RN or 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evalu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’s immediat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’s reaction to the inter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’s medical and behaviora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to continue or terminate the seclusion or re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Restraint and Seclusion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28456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ace-to-face evaluation is conducted by a trained RN or PA, he/she must consult the attending physician or other LIP responsible for the patient’s care “as soon as possible” after completion of the 1 hour face-to-face eval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estraint and Seclusion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8456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use of restraint and seclusion is only permitted if the patient is “continually monitored,” ei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-to-face by assigned, trained staff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rained staff using “both video and audio equipment” in close proximity to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Restraint and Seclusion</a:t>
            </a:r>
            <a:br>
              <a:rPr sz="2000"/>
            </a:b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05740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 mu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 of patient’s behavior and intervention us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or other less restrictive interventions attempted (as appli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’s condition or symptoms that warranted the use of the seclusion or re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’s response to the interven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nale for continued use of the inter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hour face-to-face “medical and behavioral evaluation” if seclusion or restraint used to manage violent or self-destruct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Restraint and Seclusion 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286000"/>
            <a:ext cx="800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pital polices should inclu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restraint and seclusion techniques, in accordance with Stat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authorized to order seclusions or restraint, in accordance with Stat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time periods for restraint order for non-violent and non-self-destructive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s for monitoring the patient’s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face-to-face monitoring will be docu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requirements, including intervals for periodic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raining Requirement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209680"/>
            <a:ext cx="716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participating in applying restraints and implementing seclusion the staff must be trained and able to demonstrate competency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re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se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care to a patient in seclusion or restra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380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831cf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Re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in the Federal Register 11/27/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ive 1/26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y and physic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order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 for drugs and biologic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esthesia evalu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raining Requirement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5146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must occur as part of orientation and on a periodic basis consistent with hospit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must document in the staff personnel records that the training and demonstrated competency were successfully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raining Requirements</a:t>
            </a: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905120"/>
            <a:ext cx="7315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staff must have “education, training and demonstrated knowledge” based on the specific needs of the patient population in “at least”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identify staff and patient behaviors, events and environmental factors which may trigger use of seclusion or re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nonphysical intervention 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of least restrictive intervention based on individualized assessment of patient’s condition, medical/behavioral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first aid and CPR certification, including required periodic recer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raining Requiremen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147760"/>
            <a:ext cx="746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application and use “of all types of restraint or seclusion used in the hospital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n how to recognize and respond to patient signs of physical and psychological distress (e.g., asphyx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identification of specific behavioral changes indicating seclusion or restraint is no longer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Training Requirements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s providing training to staff must be qualified, as “evidenced by” their education, training, and experience in techniques used to address patient behavi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Death Reporting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13372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s must report the following deaths to C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occurs while patient is in seclusion or re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occurs within 24 hours after patient has been removed from seclusion or re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is known to the hospital that occurs within 1 week after seclusion or restraint, where “reasonable to assume that use of restraint or placement in seclusion contributed directly or indirectly to a patient’s dea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eath Reporting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362320"/>
            <a:ext cx="76197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Must Report  “By telephone no later than the close of business the next business day following knowledge of the patient’s dea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Resourc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36232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Batang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6071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Conditions of Participation: Patients' Rights; Final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://frwebgate1.access.gpo.gov/cgi-bin/waisgate.cgi?WAISdocID=259024345809+9+0+0&amp;WAISaction=retr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for History and Physical Examinations; Authentication of Verbal Orders; Securing Medications; and Postanesthesia Evaluation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frwebgate2.access.gpo.gov/cgi-bin/waisgate.cgi?WAISdocID=259065493307+1+0+0&amp;WAISaction=retr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905120"/>
            <a:ext cx="65530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Staff bylaws must include requirement for completion of H&amp;P 30 days before or 24 hours after admission by physician, oromaxillofacial surgeon, or other qualified individual in accordance with state law and hospital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&amp; P must be placed in the medical record within 24 hours after ad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&amp;Ps done before admission, there must be an updated exam and note within 24 hours after admission</a:t>
            </a:r>
            <a:r>
              <a:rPr b="0" lang="en-US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04920"/>
            <a:ext cx="33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l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1905120"/>
            <a:ext cx="6553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304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523880"/>
            <a:ext cx="59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must be documented and signed by practitioners authorized by state law and hospital policy to write orders and who is responsible for the care of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orders should be infrequent and accepted only by authorized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1905120"/>
            <a:ext cx="6553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765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775160"/>
            <a:ext cx="66294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must be dated, timed, and authenticated promptly by the ordering practitioner or another practitioner responsible for the care of the patient authorized to write orders (five yea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tate law imposing a timeframe, authentication must be within 48 hours</a:t>
            </a:r>
            <a:r>
              <a:rPr b="1" lang="en-US" sz="2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560" y="3049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905120"/>
            <a:ext cx="6553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304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1798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752480"/>
            <a:ext cx="6019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nd biologicals must be kept secure, locked when appropr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substances must be locked and only authorized personnel may have access to locked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905120"/>
            <a:ext cx="6553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80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esthesia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31798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1600200"/>
            <a:ext cx="66294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t-anesthesia evaluations must be completed within 48 hours after surgery by any individual qualified to administer anesth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eclusion and Restraint Rule</a:t>
            </a: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ed in the Federal Register on 12/8/06; effective 1/8/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s Patients’ Rights CoP which applies to all patients in Medicare and Medicaid participating hospit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s to comments received on the Interim Final Rule published 7/2/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Restraint and Seclusion Rule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447920"/>
            <a:ext cx="6629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former standards (e) and (f) of    §482.13 into one standard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separate sections for “acute medical and surgical care” and “behavior manage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standards for training an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requirements if seclusion or restraint used to manage violent or self-destructiv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3-20T17:13:22Z</dcterms:modified>
  <cp:revision>168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2995388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PPAC</vt:lpwstr>
  </property>
  <property fmtid="{D5CDD505-2E9C-101B-9397-08002B2CF9AE}" pid="6" name="_NewReviewCycle">
    <vt:lpwstr/>
  </property>
  <property fmtid="{D5CDD505-2E9C-101B-9397-08002B2CF9AE}" pid="7" name="_PreviousAdHocReviewCycleID">
    <vt:r8>-2047830849</vt:r8>
  </property>
</Properties>
</file>