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4F4E6E1-FE06-4CE7-965E-2655AE9B2E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8" name="PlaceHolder 2"/>
          <p:cNvSpPr>
            <a:spLocks noGrp="1"/>
          </p:cNvSpPr>
          <p:nvPr>
            <p:ph/>
          </p:nvPr>
        </p:nvSpPr>
        <p:spPr>
          <a:xfrm>
            <a:off x="1066680" y="198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1066680" y="405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DA774A-8154-4CE8-9E9F-D362395DE3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1"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106668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85424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4C44ACB-EE04-4193-AB84-CAEA77E8A7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6" name="PlaceHolder 2"/>
          <p:cNvSpPr>
            <a:spLocks noGrp="1"/>
          </p:cNvSpPr>
          <p:nvPr>
            <p:ph/>
          </p:nvPr>
        </p:nvSpPr>
        <p:spPr>
          <a:xfrm>
            <a:off x="106668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56616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6528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106668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56616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6528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BD40E0D-F5A2-4ACE-89E2-ECAC4AD125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7" name="PlaceHolder 2"/>
          <p:cNvSpPr>
            <a:spLocks noGrp="1"/>
          </p:cNvSpPr>
          <p:nvPr>
            <p:ph type="subTitle"/>
          </p:nvPr>
        </p:nvSpPr>
        <p:spPr>
          <a:xfrm>
            <a:off x="1066680" y="1980720"/>
            <a:ext cx="7391520" cy="3962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FF1BD1-CC9F-4284-AC2C-DB671516B6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9"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EA5B61-DA7C-4B91-B7AD-E5F9B95B51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1" name="PlaceHolder 2"/>
          <p:cNvSpPr>
            <a:spLocks noGrp="1"/>
          </p:cNvSpPr>
          <p:nvPr>
            <p:ph/>
          </p:nvPr>
        </p:nvSpPr>
        <p:spPr>
          <a:xfrm>
            <a:off x="106668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85424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ADDD3B-F059-45BE-934C-A10F4C2620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E9626F-A8E8-4273-BDDF-448A5D704F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231C39-8D2E-42EE-A2AB-B238EC7B8A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6"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5424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106668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87E003-7936-49E1-A4C0-8F12369F29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0" name="PlaceHolder 2"/>
          <p:cNvSpPr>
            <a:spLocks noGrp="1"/>
          </p:cNvSpPr>
          <p:nvPr>
            <p:ph/>
          </p:nvPr>
        </p:nvSpPr>
        <p:spPr>
          <a:xfrm>
            <a:off x="106668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85424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29EA06-77F6-4ADF-889F-5681F7BE91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4"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1066680" y="405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A89A9F-CBAD-4B19-BC87-826507CD2F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Click to edit the title text format</a:t>
            </a:r>
            <a:endParaRPr b="0" lang="en-US" sz="3600" spc="-1" strike="noStrike">
              <a:solidFill>
                <a:srgbClr val="000066"/>
              </a:solidFill>
              <a:latin typeface="Arial Rounded MT Bold"/>
            </a:endParaRPr>
          </a:p>
        </p:txBody>
      </p:sp>
      <p:sp>
        <p:nvSpPr>
          <p:cNvPr id="2" name="PlaceHolder 2"/>
          <p:cNvSpPr>
            <a:spLocks noGrp="1"/>
          </p:cNvSpPr>
          <p:nvPr>
            <p:ph type="body"/>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2819520" y="6248520"/>
            <a:ext cx="4038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7777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777777"/>
                </a:solidFill>
                <a:latin typeface="Arial"/>
              </a:rPr>
              <a:t>Procurement Sensitive</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8705880" y="6496200"/>
            <a:ext cx="38088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8DE17-6FEE-4FD9-B5BD-5ABA2C4093C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mailto:William.Rogers@cms.hhs.gov" TargetMode="External"/><Relationship Id="rId2" Type="http://schemas.openxmlformats.org/officeDocument/2006/relationships/hyperlink" Target="mailto:PRIT@cms.hhs.gov" TargetMode="External"/><Relationship Id="rId3" Type="http://schemas.openxmlformats.org/officeDocument/2006/relationships/hyperlink" Target="http://www.cms.hhs.gov/PRIT" TargetMode="External"/><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mailto:PRIT@cms.hhs.gov"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066680" y="31240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 </a:t>
            </a:r>
            <a:r>
              <a:rPr b="0" lang="en-US" sz="3600" spc="-1" strike="noStrike">
                <a:solidFill>
                  <a:srgbClr val="003399"/>
                </a:solidFill>
                <a:latin typeface="Berlin Sans FB"/>
              </a:rPr>
              <a:t>PRIT update</a:t>
            </a:r>
            <a:br>
              <a:rPr sz="4400"/>
            </a:br>
            <a:r>
              <a:rPr b="0" lang="en-US" sz="2000" spc="-1" strike="noStrike">
                <a:solidFill>
                  <a:srgbClr val="003399"/>
                </a:solidFill>
                <a:latin typeface="Berlin Sans FB"/>
              </a:rPr>
              <a:t>William Rogers, MD FACE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
          <p:cNvSpPr/>
          <p:nvPr/>
        </p:nvSpPr>
        <p:spPr>
          <a:xfrm>
            <a:off x="1752480" y="4419720"/>
            <a:ext cx="6400800" cy="1371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Arial"/>
              </a:rPr>
              <a:t>Practicing Physicians Advisory Council</a:t>
            </a: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44" name=""/>
          <p:cNvGraphicFramePr/>
          <p:nvPr/>
        </p:nvGraphicFramePr>
        <p:xfrm>
          <a:off x="3416400" y="2058840"/>
          <a:ext cx="3657600" cy="181080"/>
        </p:xfrm>
        <a:graphic>
          <a:graphicData uri="http://schemas.openxmlformats.org/presentationml/2006/ole">
            <p:oleObj r:id="rId1" spid="">
              <p:embed/>
              <p:pic>
                <p:nvPicPr>
                  <p:cNvPr id="45" name="" descr=""/>
                  <p:cNvPicPr/>
                  <p:nvPr/>
                </p:nvPicPr>
                <p:blipFill>
                  <a:blip r:embed="rId2"/>
                  <a:stretch/>
                </p:blipFill>
                <p:spPr>
                  <a:xfrm>
                    <a:off x="3416400" y="2058840"/>
                    <a:ext cx="3657600" cy="181080"/>
                  </a:xfrm>
                  <a:prstGeom prst="rect">
                    <a:avLst/>
                  </a:prstGeom>
                  <a:ln w="0">
                    <a:noFill/>
                  </a:ln>
                </p:spPr>
              </p:pic>
            </p:oleObj>
          </a:graphicData>
        </a:graphic>
      </p:graphicFrame>
      <p:graphicFrame>
        <p:nvGraphicFramePr>
          <p:cNvPr id="46" name=""/>
          <p:cNvGraphicFramePr/>
          <p:nvPr/>
        </p:nvGraphicFramePr>
        <p:xfrm>
          <a:off x="6781680" y="5791320"/>
          <a:ext cx="1676520" cy="811080"/>
        </p:xfrm>
        <a:graphic>
          <a:graphicData uri="http://schemas.openxmlformats.org/presentationml/2006/ole">
            <p:oleObj r:id="rId3" spid="">
              <p:embed/>
              <p:pic>
                <p:nvPicPr>
                  <p:cNvPr id="47" name="" descr=""/>
                  <p:cNvPicPr/>
                  <p:nvPr/>
                </p:nvPicPr>
                <p:blipFill>
                  <a:blip r:embed="rId4"/>
                  <a:stretch/>
                </p:blipFill>
                <p:spPr>
                  <a:xfrm>
                    <a:off x="6781680" y="5791320"/>
                    <a:ext cx="1676520" cy="811080"/>
                  </a:xfrm>
                  <a:prstGeom prst="rect">
                    <a:avLst/>
                  </a:prstGeom>
                  <a:ln w="0">
                    <a:noFill/>
                  </a:ln>
                </p:spPr>
              </p:pic>
            </p:oleObj>
          </a:graphicData>
        </a:graphic>
      </p:graphicFrame>
      <p:sp>
        <p:nvSpPr>
          <p:cNvPr id="4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MEDICARE</a:t>
            </a:r>
            <a:endParaRPr b="0" lang="en-US" sz="3600" spc="-1" strike="noStrike">
              <a:solidFill>
                <a:srgbClr val="000066"/>
              </a:solidFill>
              <a:latin typeface="Arial Rounded MT Bold"/>
            </a:endParaRPr>
          </a:p>
        </p:txBody>
      </p:sp>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F70C64E2-C0FC-4164-92D5-C54F1CBAB7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PRIT issues</a:t>
            </a:r>
            <a:endParaRPr b="0" lang="en-US" sz="3600" spc="-1" strike="noStrike">
              <a:solidFill>
                <a:srgbClr val="000066"/>
              </a:solidFill>
              <a:latin typeface="Arial Rounded MT Bold"/>
            </a:endParaRPr>
          </a:p>
        </p:txBody>
      </p:sp>
      <p:sp>
        <p:nvSpPr>
          <p:cNvPr id="68" name="PlaceHolder 2"/>
          <p:cNvSpPr>
            <a:spLocks noGrp="1"/>
          </p:cNvSpPr>
          <p:nvPr>
            <p:ph/>
          </p:nvPr>
        </p:nvSpPr>
        <p:spPr>
          <a:xfrm>
            <a:off x="1066680" y="1447560"/>
            <a:ext cx="7925040" cy="51814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Use of DEA numbers by Prescription Drug Plan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ssue:  The American Optometric Association reported to the PRIT that some PDPs require that  prescribers write their DEA numbers on the prescription even for non controlled substances.  Because some practitioners do not have DEA numbers, this requirement prevents the patient from filling their prescriptio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tatus:  CMS and the Drug Enforcement Administration agree that DEA numbers should only be required for controlled substances.  PDPs should not require the DEA number on a prescription unless the prescription is for a controlled substance.  If a provider encounters a DEA number request from a PDP for a non controlled substance, the PRIT would like to know the drug, the plan’s name, and the date this occurred.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February 7: Plans should accept the state license number in lieu of the DEA number.  The PRIT would like to hear from providers who experience denied prescriptions by plans unwilling to accept the state license number.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February 15: We have gotten a few reports from providers who have been asked for DEA numbers, we have been able to resolve those problems with the PDP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E5EFD4E3-C3E0-49B5-9932-86B315FECC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PRIT issues</a:t>
            </a:r>
            <a:endParaRPr b="0" lang="en-US" sz="3600" spc="-1" strike="noStrike">
              <a:solidFill>
                <a:srgbClr val="000066"/>
              </a:solidFill>
              <a:latin typeface="Arial Rounded MT Bold"/>
            </a:endParaRPr>
          </a:p>
        </p:txBody>
      </p:sp>
      <p:sp>
        <p:nvSpPr>
          <p:cNvPr id="70" name="PlaceHolder 2"/>
          <p:cNvSpPr>
            <a:spLocks noGrp="1"/>
          </p:cNvSpPr>
          <p:nvPr>
            <p:ph/>
          </p:nvPr>
        </p:nvSpPr>
        <p:spPr>
          <a:xfrm>
            <a:off x="1066680" y="1447560"/>
            <a:ext cx="7925040" cy="51814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ctive Military Physicians' Ability to Bill Government Payer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ssue: We received a call from an active duty Air Force Emergency Physician who is working on weekends at a local civilian hospital where the acuity is higher than the military hospital to which he is assigned. He has been told by the billing company that they are not sure it is appropriate for them to bill other government payers for his servic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tatus: We are getting more details from the physician and his civilian employe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1/3: We have had several conversations with OGC and expect an opinion soo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February 8: Attorneys from the Veteran’s Administration, the Department of Health and Human Services, and the Department of Defense are continuing to work on a resolutio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Simplifying the Work of Enrollme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ssue: The 855 form is now available on the CMS website in a form that can be filled out but we have learned that unless the doctor has the full Adobe suite the completed form can not be saved.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tatus: We are working on a fix for this proble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November 9: CMS is in discussion with Adobe with the intentions of allowing physicians to save completed 855s even if they do not own the full Adobe suit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January 22: We expect to have a form which physicians can complete and save even if they do not own the full Adobe suite within 90 day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February 13: An 855 form which can be filled out and saved on any computer should be available by late April at the lates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72FC3C39-5803-4D75-B036-3EDB2E4F13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PRIT issues</a:t>
            </a:r>
            <a:endParaRPr b="0" lang="en-US" sz="3600" spc="-1" strike="noStrike">
              <a:solidFill>
                <a:srgbClr val="000066"/>
              </a:solidFill>
              <a:latin typeface="Arial Rounded MT Bold"/>
            </a:endParaRPr>
          </a:p>
        </p:txBody>
      </p:sp>
      <p:sp>
        <p:nvSpPr>
          <p:cNvPr id="72" name="PlaceHolder 2"/>
          <p:cNvSpPr>
            <a:spLocks noGrp="1"/>
          </p:cNvSpPr>
          <p:nvPr>
            <p:ph/>
          </p:nvPr>
        </p:nvSpPr>
        <p:spPr>
          <a:xfrm>
            <a:off x="990360" y="1371240"/>
            <a:ext cx="7924680" cy="51814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Definition of Consulta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ssue: The Indiana State Medical Association and others feel confused by the definition of Transfer of Care found in transmittal 788.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tatus: the PRIT is facilitating dialog between CMS staff, providers, and carrier staff to clarify this defini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July 10: The PRIT has been contacted by the Infectious Disease Society of America, the American College of Physicians, the American Medical Association and several other specialty societies about clarifying the definition of a consult in transmittal 788. We are working with them to address the issu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ugust 28: This issue was discussed at the August 28 2006 meeting of the Practicing Physician’s Advisory Council.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Oct 23: A letter signed by 51 medical associations and societies was sent to the CMS administration requesting clarification on this issu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Jan 11.  There are instances of a “shared care” scenario which do meet the intent of a consultation.  For example, a primary care physician consults with a specialist for a specific problem. The specialists evaluates the patient and continues to manage that aspect of the patient’s care while the primary care physician continues to manage the overall patient care guided by the information from the specialis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February 21: The CPT editorial panel was not able to develop clarifying language concerning the consult issue during their final meeting in February.</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B413C224-C3AE-4DF1-9B73-2DE0BC650B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PRIT issues</a:t>
            </a:r>
            <a:endParaRPr b="0" lang="en-US" sz="3600" spc="-1" strike="noStrike">
              <a:solidFill>
                <a:srgbClr val="000066"/>
              </a:solidFill>
              <a:latin typeface="Arial Rounded MT Bold"/>
            </a:endParaRPr>
          </a:p>
        </p:txBody>
      </p:sp>
      <p:sp>
        <p:nvSpPr>
          <p:cNvPr id="74" name="PlaceHolder 2"/>
          <p:cNvSpPr>
            <a:spLocks noGrp="1"/>
          </p:cNvSpPr>
          <p:nvPr>
            <p:ph/>
          </p:nvPr>
        </p:nvSpPr>
        <p:spPr>
          <a:xfrm>
            <a:off x="1066680" y="1447560"/>
            <a:ext cx="7925040" cy="51814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Nurse Practitioner Services Billed in the Hospit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ssue:  The carrier manual (Section 120.1 "Direct Billing and Payment" under "Nurse Practitioner (NP) and Clinical Nurse Specialist (CNS) Services.") says that Nurse Practitioner services can not be billed by the Nurse Practitioner when provided in the hospital but should be billed by the facilit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tatus:   We are working to change the manual and remove this passag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June 15: The revised instruction is in the final approval process and should be approved soo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January 5: Approval of the corrected manual has been delayed but should be released so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January 26: CMS released Transmittal 1168, accessible at the link below, which corrects the carrier manual to allow NPs and CNSs to bill for services provided in the hospital directly.  CMS also created a MLN article, accessible at the link below, to describe this correction.</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231B0E43-E73D-4D54-9363-9B6578F555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PRIT issues</a:t>
            </a:r>
            <a:endParaRPr b="0" lang="en-US" sz="3600" spc="-1" strike="noStrike">
              <a:solidFill>
                <a:srgbClr val="000066"/>
              </a:solidFill>
              <a:latin typeface="Arial Rounded MT Bold"/>
            </a:endParaRPr>
          </a:p>
        </p:txBody>
      </p:sp>
      <p:sp>
        <p:nvSpPr>
          <p:cNvPr id="76" name="PlaceHolder 2"/>
          <p:cNvSpPr>
            <a:spLocks noGrp="1"/>
          </p:cNvSpPr>
          <p:nvPr>
            <p:ph/>
          </p:nvPr>
        </p:nvSpPr>
        <p:spPr>
          <a:xfrm>
            <a:off x="1066680" y="1447560"/>
            <a:ext cx="7925040" cy="51814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Public availability of NPI number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0" lang="en-US" sz="1600" spc="-1" strike="noStrike">
                <a:solidFill>
                  <a:srgbClr val="003399"/>
                </a:solidFill>
                <a:latin typeface="Arial"/>
              </a:rPr>
              <a:t>Issue:  Will there be an online directory for NPI?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Status: Regulation had to be cleared to allow the UPIN directory to be available to the public. Similar legislation has not been passed for the NPI directory. Currently payers and providers will have to obtain NPI from referring physician which is burdensome for provider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Feb 6: A notice describing the rules concerning NPI dissemination is in the clearance proces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May 17: We expect the NPI data dissemination notice to be published so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May 22: The PPAC emphasized the importance of making NPIs available to physicians and their office staff in an online databas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ugust 28: The PPAC strongly endorsed the proposal to develop this directory and make it available to physicians and their office staff.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January 5: The NPI dissemination policy will be released very soon. The MGMA and others have made it very clear how important it is for physician staff to be able to look up NPI numbers of other providers so that they can code and bill efficientl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7FA20CD9-304F-44D2-97A3-9AB05B2833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PRIT issues</a:t>
            </a:r>
            <a:endParaRPr b="0" lang="en-US" sz="3600" spc="-1" strike="noStrike">
              <a:solidFill>
                <a:srgbClr val="000066"/>
              </a:solidFill>
              <a:latin typeface="Arial Rounded MT Bold"/>
            </a:endParaRPr>
          </a:p>
        </p:txBody>
      </p:sp>
      <p:sp>
        <p:nvSpPr>
          <p:cNvPr id="78" name="PlaceHolder 2"/>
          <p:cNvSpPr>
            <a:spLocks noGrp="1"/>
          </p:cNvSpPr>
          <p:nvPr>
            <p:ph/>
          </p:nvPr>
        </p:nvSpPr>
        <p:spPr>
          <a:xfrm>
            <a:off x="1066680" y="1447560"/>
            <a:ext cx="7925040" cy="51814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an hospitals provide Continuing Medical Educa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ssue:  A member of the Practicing Physicians Advisory Council asked the PRIT whether hospitals can provide free CME to members of their medical staf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tatus:  The Stark rule addresses hospital services to physicians in section 411.357(m) and 411.357(k).  If CMS can create an exception for CME, hospitals would be more likely to provide this important service.  CMS is exploring various option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June 29: The AMA has written a letter to Dr. McClellan expressing their concerns about this issu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July 15: Staff is preparing a response to the AMA letter.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October 25: Final response to the AMA is still in internal review.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pril 6:  We are currently preparing a final rule in response to the interim final rule published in 2004 (69 CFR 16054) to clarify that traditional on-site hospital grand rounds and other in-house educational programs provided by hospitals are valuable and should be easily structured to avoid conflict with Stark.</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December 18: Per BBA, this final rule will be released no later then March 24, 200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97300606-12F3-44DA-968D-6DE0FC85E0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PRIT issues</a:t>
            </a:r>
            <a:endParaRPr b="0" lang="en-US" sz="3600" spc="-1" strike="noStrike">
              <a:solidFill>
                <a:srgbClr val="000066"/>
              </a:solidFill>
              <a:latin typeface="Arial Rounded MT Bold"/>
            </a:endParaRPr>
          </a:p>
        </p:txBody>
      </p:sp>
      <p:sp>
        <p:nvSpPr>
          <p:cNvPr id="80" name="PlaceHolder 2"/>
          <p:cNvSpPr>
            <a:spLocks noGrp="1"/>
          </p:cNvSpPr>
          <p:nvPr>
            <p:ph/>
          </p:nvPr>
        </p:nvSpPr>
        <p:spPr>
          <a:xfrm>
            <a:off x="1066680" y="1371240"/>
            <a:ext cx="7925040" cy="51814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larifying the rules concerning volunteer Graduate Medical Educa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ssue: Teaching physicians feel that the rules concerning the use of volunteer faculties are unclear and difficult to impleme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tatus: Dr. McClellan met this week with a group of teaching physicians and encouraged them to provide specific examples so that we can clarify CMS polic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June 29, 2005: 112 members of Congress sent a letter to Dr. McClellan about this issue.  In his letter of reply, he committed to a new set of FAQs and an in depth review of our audit procedures concerning teaching physician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June 14: The American Academy of Family Physicians, Society of Teachers of Family Medicine, Association of Departments of Family Medicine, Association of Family Practice Residency Directors, North American Primary Care Research Group, and the American Osteopathic Association met today with CMS administrator Mark McClellan, MD PhD about this issue.  A proposed resolution was drafted and is being fast tracke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January 25: CMS released the 2008 Long Term Care Hospital proposed rule.  Volunteer faculty and GME are addressed in this proposed rule as an unrelated issue. The proposed rule contains a formula which can be used to determine that a particular practice does not need to be paid by the teaching program in order to meet the “all or substantially all” requirement imposed by Section 1886(h)(4)(E) of the Social Security Act. The proposed rule can be found at the link below.  Providers have until March 25, 2007 to submit comments to CMS on this formula and other provisions relating to volunteer GME.  </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5C999705-E3D8-492C-B6E3-AD0D68D259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PRIT issues</a:t>
            </a:r>
            <a:endParaRPr b="0" lang="en-US" sz="3600" spc="-1" strike="noStrike">
              <a:solidFill>
                <a:srgbClr val="000066"/>
              </a:solidFill>
              <a:latin typeface="Arial Rounded MT Bold"/>
            </a:endParaRPr>
          </a:p>
        </p:txBody>
      </p:sp>
      <p:sp>
        <p:nvSpPr>
          <p:cNvPr id="82" name="PlaceHolder 2"/>
          <p:cNvSpPr>
            <a:spLocks noGrp="1"/>
          </p:cNvSpPr>
          <p:nvPr>
            <p:ph/>
          </p:nvPr>
        </p:nvSpPr>
        <p:spPr>
          <a:xfrm>
            <a:off x="1066680" y="1371240"/>
            <a:ext cx="7925040" cy="51814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Recovery Audit Contracts  </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Issue: The American College of Physicians is concerned that the Recovery Audit Contracts (RACs) initiative has potential to be burdensome and intrusive to provider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tatus: February 7: This initiative is slated to start in 3 states in May 2005. Physicians will be able to appeal to their carriers any overpayments the contractors may find. The contractors will also pass along underpayment information to the carrier so the carrier can appropriately pay the money to the physicians. More information can be found at this Medlearn Matters article: SE0469 (pdf 272KB)</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March 7: CMS has modified the RAC contracts to pay RACs the same contingency fee for finding underpayments as they get for finding overpayment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May 11: A Florida physician contacted the PRIT because claims which had been reviewed a few years before by the carrier had been pulled for review by the Recovery Audit Contractor. The contractor, on hearing of this, suspended the review and is working on a system to prevent this from happening to other physicians in all 3 RAC states in the futur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November 20: The December 4th meeting of the Practicing Physician’s Advisory Council will review the RACs’ performanc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December 20:  Section 302 of the Tax Relief and Health Care Act of 2006 signed by the president on December 20, 2006 makes the Recovery Audit Contractor program permanent and requires that the program be expanded nationwide by January 1, 2010.  Further it requires the Secretary to submit an annual report to Congress on the use of Recovery Audit Contractors, including information regarding contractor performance and savings to the Medicare program. It also requires the Secretary to provide Recovery Audit Contractors with access to the database of the Centers for Medicare &amp; Medicaid Services’ (CMS) Coordination of Benefits Contractor. The PRIT has worked with the RAC contractor in California to make the letter they send to physicians more clear as to exactly which office records the physician needed to submi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85ECAB31-5B34-4559-A23F-99404ECFE6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84"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5" name="" descr=""/>
          <p:cNvPicPr/>
          <p:nvPr/>
        </p:nvPicPr>
        <p:blipFill>
          <a:blip r:embed="rId1"/>
          <a:stretch/>
        </p:blipFill>
        <p:spPr>
          <a:xfrm>
            <a:off x="3241800" y="1523880"/>
            <a:ext cx="4378320" cy="4800600"/>
          </a:xfrm>
          <a:prstGeom prst="rect">
            <a:avLst/>
          </a:prstGeom>
          <a:ln w="0">
            <a:noFill/>
          </a:ln>
        </p:spPr>
      </p:pic>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6475B77B-D764-4AF3-AB15-1691CBE733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Contact Information</a:t>
            </a:r>
            <a:endParaRPr b="0" lang="en-US" sz="3600" spc="-1" strike="noStrike">
              <a:solidFill>
                <a:srgbClr val="000066"/>
              </a:solidFill>
              <a:latin typeface="Arial Rounded MT Bold"/>
            </a:endParaRPr>
          </a:p>
        </p:txBody>
      </p:sp>
      <p:sp>
        <p:nvSpPr>
          <p:cNvPr id="87"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lliam Rogers</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02-260-7153 desk</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02-236-3338 mobile</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ff"/>
                </a:solidFill>
                <a:uFillTx/>
                <a:latin typeface="Arial"/>
                <a:hlinkClick r:id="rId1"/>
              </a:rPr>
              <a:t>William.Rogers@cms.hhs.gov</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ff"/>
                </a:solidFill>
                <a:uFillTx/>
                <a:latin typeface="Arial"/>
                <a:hlinkClick r:id="rId2"/>
              </a:rPr>
              <a:t>PRIT@cms.hhs.gov</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ff"/>
                </a:solidFill>
                <a:uFillTx/>
                <a:latin typeface="Arial"/>
                <a:hlinkClick r:id="rId3"/>
              </a:rPr>
              <a:t>www.cms.hhs.gov/PR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88" name=""/>
          <p:cNvGraphicFramePr/>
          <p:nvPr/>
        </p:nvGraphicFramePr>
        <p:xfrm>
          <a:off x="6781680" y="5791320"/>
          <a:ext cx="1676520" cy="811080"/>
        </p:xfrm>
        <a:graphic>
          <a:graphicData uri="http://schemas.openxmlformats.org/presentationml/2006/ole">
            <p:oleObj r:id="rId4" spid="">
              <p:embed/>
              <p:pic>
                <p:nvPicPr>
                  <p:cNvPr id="89" name="" descr=""/>
                  <p:cNvPicPr/>
                  <p:nvPr/>
                </p:nvPicPr>
                <p:blipFill>
                  <a:blip r:embed="rId5"/>
                  <a:stretch/>
                </p:blipFill>
                <p:spPr>
                  <a:xfrm>
                    <a:off x="6781680" y="5791320"/>
                    <a:ext cx="1676520" cy="811080"/>
                  </a:xfrm>
                  <a:prstGeom prst="rect">
                    <a:avLst/>
                  </a:prstGeom>
                  <a:ln w="0">
                    <a:noFill/>
                  </a:ln>
                </p:spPr>
              </p:pic>
            </p:oleObj>
          </a:graphicData>
        </a:graphic>
      </p:graphicFrame>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F01C5F0F-6A75-4B68-9055-1165EF7D4C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50"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1" name="" descr=""/>
          <p:cNvPicPr/>
          <p:nvPr/>
        </p:nvPicPr>
        <p:blipFill>
          <a:blip r:embed="rId1"/>
          <a:stretch/>
        </p:blipFill>
        <p:spPr>
          <a:xfrm>
            <a:off x="2362320" y="1447920"/>
            <a:ext cx="5257800" cy="4952880"/>
          </a:xfrm>
          <a:prstGeom prst="rect">
            <a:avLst/>
          </a:prstGeom>
          <a:ln w="0">
            <a:noFill/>
          </a:ln>
        </p:spPr>
      </p:pic>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5BD7C3FE-3C42-4177-BE5E-F5D7F1EE581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PRIT issues</a:t>
            </a:r>
            <a:endParaRPr b="0" lang="en-US" sz="3600" spc="-1" strike="noStrike">
              <a:solidFill>
                <a:srgbClr val="000066"/>
              </a:solidFill>
              <a:latin typeface="Arial Rounded MT Bold"/>
            </a:endParaRPr>
          </a:p>
        </p:txBody>
      </p:sp>
      <p:sp>
        <p:nvSpPr>
          <p:cNvPr id="53" name="PlaceHolder 2"/>
          <p:cNvSpPr>
            <a:spLocks noGrp="1"/>
          </p:cNvSpPr>
          <p:nvPr>
            <p:ph/>
          </p:nvPr>
        </p:nvSpPr>
        <p:spPr>
          <a:xfrm>
            <a:off x="1066680" y="1447560"/>
            <a:ext cx="7925040" cy="51814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Deemin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ssue: Physicians from the American Academy of Dermatology recently asked the PRIT to help them clarify CMS policy concerning 'deeming' by Medicare private fee for service plan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tatus: It is very important that physicians be able to determine if a Medicare patient is enrolled in a PFFS program. Because patients who have recently enrolled in a PFFS plan may not be carrying the new plans card it is important that physicians be able to verify the type of coverage the patient has through the Common Working File. Currently the CWF identifies PFFS plans as “HMO” CMS is working on an update to the CWF which will identify PFFS patients more precisely. An MLN article was just released that describes this initiative and PFFS in more detai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February 21: Medicare rules allow Private Fee for Service (PFFS) Plans to operate entirely through deemed providers if their payment rates are at or above original Medicare. If a PFFS plan establishes payment rates which are discounted from original Medicare for one or more categories of providers (i.e. hospital, physician, SNF, etc) then it must have that category or categories of providers under direct contract. In other words a physician can not be paid at less than the Medicare fee schedule by a PFFS plan unless he or she has signed a contract with that plan or accepted a discounted fee schedule and by doing so has become a deemed provide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7B27CDDE-86DE-4AAF-8452-F21C28F7C1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PRIT issues</a:t>
            </a:r>
            <a:endParaRPr b="0" lang="en-US" sz="3600" spc="-1" strike="noStrike">
              <a:solidFill>
                <a:srgbClr val="000066"/>
              </a:solidFill>
              <a:latin typeface="Arial Rounded MT Bold"/>
            </a:endParaRPr>
          </a:p>
        </p:txBody>
      </p:sp>
      <p:sp>
        <p:nvSpPr>
          <p:cNvPr id="55" name="PlaceHolder 2"/>
          <p:cNvSpPr>
            <a:spLocks noGrp="1"/>
          </p:cNvSpPr>
          <p:nvPr>
            <p:ph/>
          </p:nvPr>
        </p:nvSpPr>
        <p:spPr>
          <a:xfrm>
            <a:off x="990360" y="1371240"/>
            <a:ext cx="7924680" cy="51814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Professional component payment for CPT code 7609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ssue: CPT code 76090 (Mammography; unilateral) payment for the professional component in 2006 was $36.38.  This code was replaced in 2007 to CPT 77055.  The 2007 RVU file posted on the CMS website for 77055 does not list the proper professional component, which resulted in payment error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tatus:   CMS is aware of this error and is preparing a correction notice.  The professional component for 77055 is actually $33.35.  We will announce on this website when the correction notice is release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January 24: CMS published Change Request 5498 which corrects the professional components for 77055.  This code now has a professional component of 0.70.  This change request can be found at the link below.</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Tissue Ablation CPT cod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ssue: The 2006 CPT codes 76362 and 76394 were replaced in 2007 with 77013 and 77022.  The Professional Component RVUs for the 2007 codes were mistakenly listed as 0.00 by the local carrier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tatus:  CMS is aware of this error and a correction notice should be sent soon with the corrected PC RVU.</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January 24: CMS published Change Request 5498 which corrects the professional components for these two CPT codes.  77013 now has a professional component of 3.99 and 77022 now has a professional component of 4.24.  This change request can be found at the link below.  </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508AFFC2-058E-45C5-9EBF-E9783196C8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PRIT issues</a:t>
            </a:r>
            <a:endParaRPr b="0" lang="en-US" sz="3600" spc="-1" strike="noStrike">
              <a:solidFill>
                <a:srgbClr val="000066"/>
              </a:solidFill>
              <a:latin typeface="Arial Rounded MT Bold"/>
            </a:endParaRPr>
          </a:p>
        </p:txBody>
      </p:sp>
      <p:sp>
        <p:nvSpPr>
          <p:cNvPr id="57" name="PlaceHolder 2"/>
          <p:cNvSpPr>
            <a:spLocks noGrp="1"/>
          </p:cNvSpPr>
          <p:nvPr>
            <p:ph/>
          </p:nvPr>
        </p:nvSpPr>
        <p:spPr>
          <a:xfrm>
            <a:off x="1066680" y="1447560"/>
            <a:ext cx="7925040" cy="51814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Part D Prior Authorizations for Antiretroviral Medication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ssue: With the exception of Fuzeon, HIV medication prescriptions should be filled under Part D without the need for prior authorizations as long as the dosage is within FDA guidelin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tatus: If a physician is required to obtain prior authorization for an antiretroviral for any reason other than to verify that a high prescribed dose is the intended dose, the Physician’s Regulatory Issues Team would like to hear about it.  Please report to </a:t>
            </a:r>
            <a:r>
              <a:rPr b="0" lang="en-US" sz="1600" spc="-1" strike="noStrike" u="sng">
                <a:solidFill>
                  <a:srgbClr val="3333ff"/>
                </a:solidFill>
                <a:uFillTx/>
                <a:latin typeface="Arial"/>
                <a:hlinkClick r:id="rId1"/>
              </a:rPr>
              <a:t>PRIT@cms.hhs.gov</a:t>
            </a:r>
            <a:r>
              <a:rPr b="0" lang="en-US" sz="1600" spc="-1" strike="noStrike" u="sng">
                <a:solidFill>
                  <a:srgbClr val="003399"/>
                </a:solidFill>
                <a:uFillTx/>
                <a:latin typeface="Arial"/>
              </a:rPr>
              <a:t> the name of the plan, the name of the drug(s), the dose of the drug and the date that the drug was prescribed.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January 1: An infectious disease specialist contacted us because a plan formulary only listed a few statins, none of which were safe for use by patients on a protease inhibitor. We contacted the plan and they have amended their formulary to allow the safer statins to be covered under these circumstanc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8058F82F-152F-4244-B035-074EFECFFE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PRIT issues</a:t>
            </a:r>
            <a:endParaRPr b="0" lang="en-US" sz="3600" spc="-1" strike="noStrike">
              <a:solidFill>
                <a:srgbClr val="000066"/>
              </a:solidFill>
              <a:latin typeface="Arial Rounded MT Bold"/>
            </a:endParaRPr>
          </a:p>
        </p:txBody>
      </p:sp>
      <p:sp>
        <p:nvSpPr>
          <p:cNvPr id="59" name="PlaceHolder 2"/>
          <p:cNvSpPr>
            <a:spLocks noGrp="1"/>
          </p:cNvSpPr>
          <p:nvPr>
            <p:ph/>
          </p:nvPr>
        </p:nvSpPr>
        <p:spPr>
          <a:xfrm>
            <a:off x="1066680" y="1447560"/>
            <a:ext cx="7925040" cy="51814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NCD manual wording for PET scans for restaging of Thyroid Cance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ssue: The Nuclear Medicine physicians requested that we review the wording of the Medicare New Coverage Decision Manual concerning coverage of PET scans for restaging of Thyroid Cance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tatus:  There is a typographical error in the second of the two charts shown on pages 24-27 of our Medicare NCD Manual addressing Medicare-covered uses of PET scans.  It is correctly stated in the first chart (consistent with our decision memo) that there is Medicare coverage effective October 1, 2003 only for those thyroid cancer patients who hav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99"/>
                </a:solidFill>
                <a:latin typeface="Arial"/>
              </a:rPr>
              <a:t>	</a:t>
            </a:r>
            <a:r>
              <a:rPr b="0" i="1" lang="en-US" sz="1600" spc="-1" strike="noStrike">
                <a:solidFill>
                  <a:srgbClr val="003399"/>
                </a:solidFill>
                <a:latin typeface="Arial"/>
              </a:rPr>
              <a:t>	</a:t>
            </a:r>
            <a:r>
              <a:rPr b="0" i="1" lang="en-US" sz="1600" spc="-1" strike="noStrike">
                <a:solidFill>
                  <a:srgbClr val="003399"/>
                </a:solidFill>
                <a:latin typeface="Arial"/>
              </a:rPr>
              <a:t>“</a:t>
            </a:r>
            <a:r>
              <a:rPr b="0" i="1" lang="en-US" sz="1600" spc="-1" strike="noStrike">
                <a:solidFill>
                  <a:srgbClr val="003399"/>
                </a:solidFill>
                <a:latin typeface="Arial"/>
              </a:rPr>
              <a:t>Restaging of recurrent or residual thyroid cancers of follicular cell origin </a:t>
            </a:r>
            <a:r>
              <a:rPr b="0" i="1" lang="en-US" sz="1600" spc="-1" strike="noStrike">
                <a:solidFill>
                  <a:srgbClr val="003399"/>
                </a:solidFill>
                <a:latin typeface="Arial"/>
              </a:rPr>
              <a:t>	</a:t>
            </a:r>
            <a:r>
              <a:rPr b="0" i="1" lang="en-US" sz="1600" spc="-1" strike="noStrike">
                <a:solidFill>
                  <a:srgbClr val="003399"/>
                </a:solidFill>
                <a:latin typeface="Arial"/>
              </a:rPr>
              <a:t>previously treated by thyroidectomy and radioiodine ablation and have a </a:t>
            </a:r>
            <a:r>
              <a:rPr b="0" i="1" lang="en-US" sz="1600" spc="-1" strike="noStrike">
                <a:solidFill>
                  <a:srgbClr val="003399"/>
                </a:solidFill>
                <a:latin typeface="Arial"/>
              </a:rPr>
              <a:t>	</a:t>
            </a:r>
            <a:r>
              <a:rPr b="0" i="1" lang="en-US" sz="1600" spc="-1" strike="noStrike">
                <a:solidFill>
                  <a:srgbClr val="003399"/>
                </a:solidFill>
                <a:latin typeface="Arial"/>
              </a:rPr>
              <a:t>serum thyroglobulin &gt;10ng/ml and negative I-131 whole body scan </a:t>
            </a:r>
            <a:r>
              <a:rPr b="0" i="1" lang="en-US" sz="1600" spc="-1" strike="noStrike">
                <a:solidFill>
                  <a:srgbClr val="003399"/>
                </a:solidFill>
                <a:latin typeface="Arial"/>
              </a:rPr>
              <a:t>	</a:t>
            </a:r>
            <a:r>
              <a:rPr b="0" i="1" lang="en-US" sz="1600" spc="-1" strike="noStrike">
                <a:solidFill>
                  <a:srgbClr val="003399"/>
                </a:solidFill>
                <a:latin typeface="Arial"/>
              </a:rPr>
              <a:t>performed.”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The second chart effective January 28, 2005 contains the typo and errantly says “staging” rather than “restaging”.  We will correct the NCD manual.</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D9B9D8C5-A490-4960-BD4B-0C3096F31A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PRIT issues</a:t>
            </a:r>
            <a:endParaRPr b="0" lang="en-US" sz="3600" spc="-1" strike="noStrike">
              <a:solidFill>
                <a:srgbClr val="000066"/>
              </a:solidFill>
              <a:latin typeface="Arial Rounded MT Bold"/>
            </a:endParaRPr>
          </a:p>
        </p:txBody>
      </p:sp>
      <p:sp>
        <p:nvSpPr>
          <p:cNvPr id="61" name="PlaceHolder 2"/>
          <p:cNvSpPr>
            <a:spLocks noGrp="1"/>
          </p:cNvSpPr>
          <p:nvPr>
            <p:ph/>
          </p:nvPr>
        </p:nvSpPr>
        <p:spPr>
          <a:xfrm>
            <a:off x="990360" y="1371240"/>
            <a:ext cx="7924680" cy="51814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Humira and FDA warning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ssue: The Texas Medical Association asked us why their rheumatologist members are required by some Part D plans to sign a form stating that the doctor is aware of the serious side effects associated  the use of the Tumor Necrosis Factor antagonists like Humira before the plan will allow the prescription to be fille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tatus: It is not unreasonable for a plan to verify once that a prescribing rheumatologist is aware of FDA warnings concerning Humira and other TNFAs however to require a duplicate form for every prescription is unreasonable. We will work with the plans to see if there is a way just wanted to see if you proofread this before you cut and paste it to satisfy this requirement with one form per prescribe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January 22: We are attempting to determine precisely how much of a burden these forms represent to the average rheumatologist. We would appreciate emails from rheumatologist telling us how many Humira letters they are required to sign per year.</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9DDDD28A-0008-4BF5-91EF-C6B46D5B3C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63"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4" name="" descr=""/>
          <p:cNvPicPr/>
          <p:nvPr/>
        </p:nvPicPr>
        <p:blipFill>
          <a:blip r:embed="rId1"/>
          <a:stretch/>
        </p:blipFill>
        <p:spPr>
          <a:xfrm>
            <a:off x="3071880" y="1523880"/>
            <a:ext cx="4624200" cy="4800600"/>
          </a:xfrm>
          <a:prstGeom prst="rect">
            <a:avLst/>
          </a:prstGeom>
          <a:ln w="0">
            <a:noFill/>
          </a:ln>
        </p:spPr>
      </p:pic>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557A718E-0DDF-41EA-A956-E1E95D0FBF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PRIT issues</a:t>
            </a:r>
            <a:endParaRPr b="0" lang="en-US" sz="3600" spc="-1" strike="noStrike">
              <a:solidFill>
                <a:srgbClr val="000066"/>
              </a:solidFill>
              <a:latin typeface="Arial Rounded MT Bold"/>
            </a:endParaRPr>
          </a:p>
        </p:txBody>
      </p:sp>
      <p:sp>
        <p:nvSpPr>
          <p:cNvPr id="66" name="PlaceHolder 2"/>
          <p:cNvSpPr>
            <a:spLocks noGrp="1"/>
          </p:cNvSpPr>
          <p:nvPr>
            <p:ph/>
          </p:nvPr>
        </p:nvSpPr>
        <p:spPr>
          <a:xfrm>
            <a:off x="1218960" y="1447560"/>
            <a:ext cx="7924680" cy="51814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PQRI Group Enrollment</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ssue: Large groups participating in the PQRI would like to be able to identify the performance of their individual physicians on the PQRI quality repor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tatus: Physicians in a large group who bill using there own tax ID numbers will be individually identified on the PQRI report but physicians who bill using the group’s tax ID can not be individually identified. A large medical group in California has asked that the software be enhanced so that it can identify physicians by their UPIN/NPI so that groups that use the group tax ID will be able to get physician specific quality dat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February 12: CMS is investigating the possibility of updating the software to allow reporting by individual NPI number rather then by the Group tax ID number.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onsult Codes and 2006 PVR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ssue:  The PRIT was asked by a physician's office why the 2006 PVRP hypertension measure can be reported with consult codes 99241 through 99215 but the practice can not report the lipid and A1C measures with a consul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tatus:  The PRIT has asked the CMS Office of Clinical Standards and Quality why the consult CPT codes are listed for any of these three measur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February 12: The codes for the 2007 PQRI have been carefully reviewed and these issues have been addresse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221C0C27-A679-43F0-A690-CAA82ECFE5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3T15:25:08Z</dcterms:created>
  <dc:creator>CMS</dc:creator>
  <dc:description/>
  <dc:language>en-US</dc:language>
  <cp:lastModifiedBy>CMS</cp:lastModifiedBy>
  <dcterms:modified xsi:type="dcterms:W3CDTF">2007-03-20T20:07:05Z</dcterms:modified>
  <cp:revision>168</cp:revision>
  <dc:subject/>
  <dc:title>Medicare Contracting Reform:  Report to Congr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95509124</vt:r8>
  </property>
  <property fmtid="{D5CDD505-2E9C-101B-9397-08002B2CF9AE}" pid="3" name="_AuthorEmail">
    <vt:lpwstr>Kelly.Buchanan@cms.hhs.gov</vt:lpwstr>
  </property>
  <property fmtid="{D5CDD505-2E9C-101B-9397-08002B2CF9AE}" pid="4" name="_AuthorEmailDisplayName">
    <vt:lpwstr>Buchanan, Kelly (CMS/CMM)</vt:lpwstr>
  </property>
  <property fmtid="{D5CDD505-2E9C-101B-9397-08002B2CF9AE}" pid="5" name="_EmailSubject">
    <vt:lpwstr>PPAC</vt:lpwstr>
  </property>
  <property fmtid="{D5CDD505-2E9C-101B-9397-08002B2CF9AE}" pid="6" name="_NewReviewCycle">
    <vt:lpwstr/>
  </property>
  <property fmtid="{D5CDD505-2E9C-101B-9397-08002B2CF9AE}" pid="7" name="_PreviousAdHocReviewCycleID">
    <vt:r8>-2147391324</vt:r8>
  </property>
</Properties>
</file>