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1BEA-6F08-49C3-9E4B-E2F5CC926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4D81-96C7-4E38-A79C-375773F6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62080" y="47512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59880" y="4220640"/>
            <a:ext cx="54882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4CED-3E52-434B-8C53-866211952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AEA6-B468-4D12-A09A-1B88D7AC0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B742-B36B-4997-9BA5-C1BA046D8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258E-394C-4072-A598-3FAE3E191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3226-0098-44DA-9CDF-756BB397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3A1-2EEB-41BC-A29F-CBDDCD4DC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8A85-5965-4422-945C-4F3CBFCD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0728-3D04-49CC-A86C-2DE37620E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8DF6-6438-48DD-8A51-B126D824B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E920-33AB-4A50-B7D5-8B53FFF8A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FE5-53A9-4795-ADE6-F7A95068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0EE-D1B4-4A4A-B5A5-A3D0AE088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098-02BA-4F35-BE77-3B797941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52E6-B911-46ED-B6C4-800755603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CB98-2EB5-46A3-A067-7CFD0BFDC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EF95-662A-47E6-B02F-9F8C152CA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FD72-CD4F-439A-8F91-7092940C1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80C7-1266-4BDD-845B-33B5E481A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23C6-3F7B-4F3E-874F-70047708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9A11-65AF-488F-ADE3-0A43995D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EB7-3BD6-44DC-B5CF-542B3A888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6945-F0AB-4525-B11E-6FEA39C10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78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D69F-3366-43B8-8DD8-9E818C437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C72F-4B87-46AD-B564-A65B46E0C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CEAD-897C-4835-AB48-1C53769B6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69C4-752F-48FE-825F-3D9B549AE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A685-9D6D-4BF4-865F-A908BCACF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9434-CFE2-4D35-8C7D-830B10105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3D83-97D0-4711-B127-B4804F195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3910-2AF7-4778-9B79-1A7AD14BC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FC59-3A38-4C7C-8B3B-AE79129CE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BA7E-F3F1-472A-A336-8699A5B18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CEA4-05B6-421E-B0F8-A417F801E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73CF-6E8F-473D-A6E5-0AC4AF2F8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820-F453-499B-8167-A6C44240E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hs.gov/transparency/employers" TargetMode="External"/><Relationship Id="rId2" Type="http://schemas.openxmlformats.org/officeDocument/2006/relationships/hyperlink" Target="http://www.hhs.gov/transparency/employers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0"/>
            <a:ext cx="8686800" cy="41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Better Care, Lower Cos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Value-Driven Health Ca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Verdana"/>
              </a:rPr>
              <a:t>Andrew Crosh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Director, Value-Drive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Health and Huma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5E2A-2B99-4C1F-B7D5-E54BEE9DC7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ht care for every person every time” – CMS’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quality measurement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MS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Alliance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ssible to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Understanding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9A7D-F58F-4954-8825-6F6C0CD06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ealth IT can provide an underlying infrastructure, delivering knowledge to decision makers at all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hange clinical data, streamline payments, empower consumers and provide incentives to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operability standards will allow systems to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Health Information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8CC4-3F1F-42F3-9A82-025ABCD346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3915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 = Quality /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 on developing episode based measures for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Government and partners committing to making price information wide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Alliance Steering Committee Cost/Price Workgroup – working on costs of care and reporting cost/price to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Understanding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0DAA-E2E6-442C-895C-35DC8BC5CA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value can be measured, it can inform paymen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more effectiv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more appropriate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more proactive trea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quality care rewarded</a:t>
            </a: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—not higher quant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Value-driven Pay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77A7-0CA3-4A8B-ABCA-5A0D00E182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213372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3809880"/>
            <a:ext cx="7086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Aft>
                <a:spcPts val="1250"/>
              </a:spcAft>
              <a:buClr>
                <a:srgbClr val="8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 to using interoperable Health IT 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250"/>
              </a:spcAft>
              <a:buClr>
                <a:srgbClr val="8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 and publish qualit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asure and publish pric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ovide incentives for quality and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447920"/>
            <a:ext cx="769608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sident’s Executive Or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sued on August 22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mitted Federal government agencies tha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onsor health insurance programs (Medicare, DoD, Tricare) to the four Cornerstones of value-driven health c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39960" y="30492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Pursu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E8AE-4E6C-47C9-83C7-8B23DA83C0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Pursu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46483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efforts alone are not enough to tip the market toward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90920" y="1447920"/>
          <a:ext cx="4952880" cy="33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447920"/>
                    <a:ext cx="495288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7F8C-A424-4301-8C65-D9AEC2DFE8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ing on the efforts of the private sector and partnerships, the Secretary is encouraging employers and other purchasers to commit to the four cornerston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value-driven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retary has developed an Employer Toolkit to aid employers and other purchasers to show thei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ment of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ple R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13372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Pursu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AD89-6AB7-48F2-BDB1-534D0FD780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Statement of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6400" y="167652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at it i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682280" y="3314880"/>
            <a:ext cx="6432840" cy="4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388620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a lega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648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it now -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mplement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9973-5406-4865-BC19-CEBBC7184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Statement of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47920" y="23619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ine submission is availabl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3040" y="3808440"/>
            <a:ext cx="5034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Health and Huma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-Driven Health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 Independence Avenue,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m 738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ington, D.C.  20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h) 202.205.5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x)  202.205.78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driven@hhs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0080" y="137160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claring your suppor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3840" y="2819520"/>
            <a:ext cx="5328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hhs.gov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/transparency/emplo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2767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l or F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99B42-57F0-4AFF-BE89-BE60965172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Sample R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447920"/>
            <a:ext cx="31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y an RFI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71160" y="2114280"/>
            <a:ext cx="6434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 current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59092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 dialogue and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1713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3840" indent="-17136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unnecessary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3429000"/>
            <a:ext cx="31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is I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411480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s the four corner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lects types of questions in use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inforces use of 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9972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CHIT Certification and AQA/HQA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es information needs for purchasers  and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5B28-230F-497C-89EF-31C92310B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nxiety About Health C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600200"/>
            <a:ext cx="7620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Aft>
                <a:spcPts val="1250"/>
              </a:spcAft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Employer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emiums growing at 2-3x wages; affecting profits and competi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1250"/>
              </a:spcAft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onsumer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igher out-of-pocket costs keeping real wage growth down; fear of losing insurance; lack of information for confident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1250"/>
              </a:spcAft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Insurer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essure from employer customers to control rising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1250"/>
              </a:spcAft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octors and Hospitals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care reimbursement rates; administrative challenges of data collection, performance measurement and 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1250"/>
              </a:spcAft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116C-FD6B-4F3F-83CB-4E5DF5D28A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dditi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47920" y="2133720"/>
            <a:ext cx="64324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tly Ask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7432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site: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Verdana"/>
              </a:rPr>
              <a:t>www.hhs.gov/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3505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160" indent="-10260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ph) 202.205.5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160" indent="-10260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fx)  202.205.78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160" indent="-10260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driven@hhs.g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7CB0-0663-4D07-B497-FCB8E6AF3A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30492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Local Collaboration is K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2286000"/>
          <a:ext cx="7086600" cy="1185840"/>
        </p:xfrm>
        <a:graphic>
          <a:graphicData uri="http://schemas.openxmlformats.org/drawingml/2006/table">
            <a:tbl>
              <a:tblPr/>
              <a:tblGrid>
                <a:gridCol w="2209680"/>
                <a:gridCol w="48769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788"/>
                        </a:spcAft>
                        <a:buClr>
                          <a:srgbClr val="800000"/>
                        </a:buClr>
                        <a:buSzPct val="85000"/>
                        <a:buFont typeface="Verdana"/>
                        <a:buChar char="•"/>
                        <a:tabLst>
                          <a:tab algn="l" pos="406440"/>
                          <a:tab algn="l" pos="52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85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anapo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85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d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85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neapo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85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en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800000"/>
                        </a:buClr>
                        <a:buSzPct val="85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ern California/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 flipV="1" rot="10800000">
            <a:off x="1143000" y="3577680"/>
            <a:ext cx="77724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 how to aggregate and share multi-payor data sources in a manner that protects privacy and enables care measurement and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676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x Medicare Pilot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34DB-39CD-4DAF-8E74-AB727030F9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1800" y="30492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Local Collaboration is Key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 rot="10800000">
            <a:off x="1064880" y="4147200"/>
            <a:ext cx="80802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OAL: Expand and 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and number of regional collaboratives over next two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ster multi-stakeholder commitment to local health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 State and Local HIT efforts with local quality improvement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mmunity Leader Designations (Tier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743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Value Exchanges (Ti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133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get Sound Health Al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er Detroit Area Health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2133720"/>
            <a:ext cx="4038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eveland Health Action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more to com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352680"/>
            <a:ext cx="5791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igibility criteria in final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s to CMS data under certain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6400-34A8-414F-9F34-A1D832E705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The Fu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1200240"/>
            <a:ext cx="7839360" cy="51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0AFB-5A55-4FA5-852C-5DFD091821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Our Society’s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5280" y="1828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or not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aqu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aligned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5354A-2141-4E45-9395-17F95B6BD6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Our Society’s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or not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691920" cy="133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Motorola's RAZR Cell Phone"/>
          <p:cNvPicPr/>
          <p:nvPr/>
        </p:nvPicPr>
        <p:blipFill>
          <a:blip r:embed="rId2"/>
          <a:stretch/>
        </p:blipFill>
        <p:spPr>
          <a:xfrm>
            <a:off x="1066680" y="2743200"/>
            <a:ext cx="1273320" cy="119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09680" y="312408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ATM and accepted ATM cards"/>
          <p:cNvPicPr/>
          <p:nvPr/>
        </p:nvPicPr>
        <p:blipFill>
          <a:blip r:embed="rId3"/>
          <a:stretch/>
        </p:blipFill>
        <p:spPr>
          <a:xfrm>
            <a:off x="5562720" y="2451240"/>
            <a:ext cx="167616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924680" y="2971800"/>
            <a:ext cx="838440" cy="52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312408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971800" y="4440240"/>
            <a:ext cx="2819520" cy="1884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DCBF-5962-4C0F-A6B6-35D3449E91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Our Society’s Challenge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3880" y="1600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19320" y="2514600"/>
          <a:ext cx="7238880" cy="2496960"/>
        </p:xfrm>
        <a:graphic>
          <a:graphicData uri="http://schemas.openxmlformats.org/drawingml/2006/table">
            <a:tbl>
              <a:tblPr/>
              <a:tblGrid>
                <a:gridCol w="2087280"/>
                <a:gridCol w="2714760"/>
                <a:gridCol w="2436840"/>
              </a:tblGrid>
              <a:tr h="109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health spending per ca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lth spending as percent of G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ted St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$5,6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ECD 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$2,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66760" y="6537240"/>
            <a:ext cx="550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rce: Organization for Economic Cooperation and Development, </a:t>
            </a: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OECD Health Data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144E-10FF-40BC-BDA4-861B98A422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Our Society’s Challenge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ver Rising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HE projected to hit 20% by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53080"/>
            <a:ext cx="53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Source: Centers for Medicare &amp; Medicaid Services, Office of the Actuary, National Health Statistics Group; and U.S. Department of Commerce, Bureau of Economic Analysis and Bureau of the Cens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2057400"/>
          <a:ext cx="838188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838188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F417-CCB9-4960-B499-D7780B6518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Our Society’s Challenge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447920" y="144756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aqu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2205000"/>
            <a:ext cx="6476760" cy="4195440"/>
            <a:chOff x="152280" y="2205000"/>
            <a:chExt cx="6476760" cy="41954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52280" y="2205000"/>
              <a:ext cx="6476760" cy="41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49240" y="3322080"/>
              <a:ext cx="4169880" cy="2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68960" y="1143000"/>
            <a:ext cx="2746440" cy="5257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248520" y="236232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5D0E-BDBA-435A-A208-1B8CD99E0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Our Society’s Challenge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057400" y="1828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aligned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41920" indent="-85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1920" indent="-85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1920" indent="-856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4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3E45-80F8-4C93-8B0A-FB99C749C1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1522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440" y="152280"/>
            <a:ext cx="873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328680"/>
            <a:ext cx="873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Our Society’s Challenge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5280" y="16761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S. health care market l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8560" indent="-313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ystem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ope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560" indent="-313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frien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pisodes &amp; individu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560" indent="-313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lit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idely accep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friend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560" indent="-313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centives to seek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6360" indent="-2484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8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FE73-4E08-4076-9F30-18EA9CAF38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3-20T17:11:28Z</dcterms:modified>
  <cp:revision>171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28893722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PPAC</vt:lpwstr>
  </property>
  <property fmtid="{D5CDD505-2E9C-101B-9397-08002B2CF9AE}" pid="6" name="_NewReviewCycle">
    <vt:lpwstr/>
  </property>
  <property fmtid="{D5CDD505-2E9C-101B-9397-08002B2CF9AE}" pid="7" name="_PreviousAdHocReviewCycleID">
    <vt:r8>-1071595951</vt:r8>
  </property>
</Properties>
</file>