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A88A13-3F8E-449A-B433-5E72296241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8"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ED585F-8BF6-4B23-8B25-8C048E34AC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1"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775778-7D2F-466F-8A3D-F59D8A4A7C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6"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86744B-CF07-4F99-8327-0DCD55BFB1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7"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43038C-A57D-4150-A831-5FE17F0548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CB9CC4-64F9-477C-945F-C2891EE41F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1"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B668FC-FE66-4B9D-9B3C-6A60D07250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BBA899-1E25-4104-A7DA-A1C8E70046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FC87F9-3A57-4978-A1E4-E3BA350964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6"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B02E07-CF8E-4E5B-A2C0-6283333BAB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2902F9-EEC6-4CD1-9DF5-D921791A37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4"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E82908-8C62-45BD-B629-BAEFBC1F1A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7777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77777"/>
                </a:solidFill>
                <a:latin typeface="Arial"/>
              </a:rPr>
              <a:t>Procurement Sensitive</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0D91-AF1C-40B4-8A84-EAF9952C6CA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care Fee For Service National Provider Identifier (NPI) Implementation Initiative</a:t>
            </a:r>
            <a:r>
              <a:rPr b="1" lang="en-US" sz="1400" spc="-1" strike="noStrike">
                <a:solidFill>
                  <a:srgbClr val="ff0000"/>
                </a:solidFill>
                <a:latin typeface="Arial"/>
              </a:rPr>
              <a:t> </a:t>
            </a:r>
            <a:br>
              <a:rPr sz="4400"/>
            </a:br>
            <a:r>
              <a:rPr b="1" lang="en-US" sz="2000" spc="-1" strike="noStrike">
                <a:solidFill>
                  <a:srgbClr val="003399"/>
                </a:solidFill>
                <a:latin typeface="Berlin Sans FB"/>
              </a:rPr>
              <a:t>Cathy Car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Berlin Sans FB"/>
              </a:rPr>
              <a:t>March 5, 2007</a:t>
            </a:r>
            <a:endParaRPr b="0" lang="en-US" sz="2000" spc="-1" strike="noStrike">
              <a:solidFill>
                <a:srgbClr val="000000"/>
              </a:solidFill>
              <a:latin typeface="Times New Roman"/>
            </a:endParaRPr>
          </a:p>
        </p:txBody>
      </p:sp>
      <p:sp>
        <p:nvSpPr>
          <p:cNvPr id="43"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4" name=""/>
          <p:cNvGraphicFramePr/>
          <p:nvPr/>
        </p:nvGraphicFramePr>
        <p:xfrm>
          <a:off x="3416400" y="2058840"/>
          <a:ext cx="3657600" cy="181080"/>
        </p:xfrm>
        <a:graphic>
          <a:graphicData uri="http://schemas.openxmlformats.org/presentationml/2006/ole">
            <p:oleObj r:id="rId1" spid="">
              <p:embed/>
              <p:pic>
                <p:nvPicPr>
                  <p:cNvPr id="45" name="" descr=""/>
                  <p:cNvPicPr/>
                  <p:nvPr/>
                </p:nvPicPr>
                <p:blipFill>
                  <a:blip r:embed="rId2"/>
                  <a:stretch/>
                </p:blipFill>
                <p:spPr>
                  <a:xfrm>
                    <a:off x="3416400" y="2058840"/>
                    <a:ext cx="3657600" cy="181080"/>
                  </a:xfrm>
                  <a:prstGeom prst="rect">
                    <a:avLst/>
                  </a:prstGeom>
                  <a:ln w="0">
                    <a:noFill/>
                  </a:ln>
                </p:spPr>
              </p:pic>
            </p:oleObj>
          </a:graphicData>
        </a:graphic>
      </p:graphicFrame>
      <p:graphicFrame>
        <p:nvGraphicFramePr>
          <p:cNvPr id="46" name=""/>
          <p:cNvGraphicFramePr/>
          <p:nvPr/>
        </p:nvGraphicFramePr>
        <p:xfrm>
          <a:off x="6781680" y="5791320"/>
          <a:ext cx="1676520" cy="811080"/>
        </p:xfrm>
        <a:graphic>
          <a:graphicData uri="http://schemas.openxmlformats.org/presentationml/2006/ole">
            <p:oleObj r:id="rId3" spid="">
              <p:embed/>
              <p:pic>
                <p:nvPicPr>
                  <p:cNvPr id="47" name="" descr=""/>
                  <p:cNvPicPr/>
                  <p:nvPr/>
                </p:nvPicPr>
                <p:blipFill>
                  <a:blip r:embed="rId4"/>
                  <a:stretch/>
                </p:blipFill>
                <p:spPr>
                  <a:xfrm>
                    <a:off x="6781680" y="5791320"/>
                    <a:ext cx="1676520" cy="811080"/>
                  </a:xfrm>
                  <a:prstGeom prst="rect">
                    <a:avLst/>
                  </a:prstGeom>
                  <a:ln w="0">
                    <a:noFill/>
                  </a:ln>
                </p:spPr>
              </p:pic>
            </p:oleObj>
          </a:graphicData>
        </a:graphic>
      </p:graphicFrame>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MEDICARE</a:t>
            </a: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B64CC3F6-6F6B-4406-810D-4EBD812E55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NPI Claim Statistics</a:t>
            </a:r>
            <a:endParaRPr b="0" lang="en-US" sz="3600" spc="-1" strike="noStrike">
              <a:solidFill>
                <a:srgbClr val="000066"/>
              </a:solidFill>
              <a:latin typeface="Arial Rounded MT Bold"/>
            </a:endParaRPr>
          </a:p>
        </p:txBody>
      </p:sp>
      <p:graphicFrame>
        <p:nvGraphicFramePr>
          <p:cNvPr id="68" name=""/>
          <p:cNvGraphicFramePr/>
          <p:nvPr/>
        </p:nvGraphicFramePr>
        <p:xfrm>
          <a:off x="1295280" y="1600200"/>
          <a:ext cx="6934320" cy="4113360"/>
        </p:xfrm>
        <a:graphic>
          <a:graphicData uri="http://schemas.openxmlformats.org/drawingml/2006/table">
            <a:tbl>
              <a:tblPr/>
              <a:tblGrid>
                <a:gridCol w="1143000"/>
                <a:gridCol w="1219320"/>
                <a:gridCol w="1371600"/>
                <a:gridCol w="1143000"/>
                <a:gridCol w="1143000"/>
                <a:gridCol w="914400"/>
              </a:tblGrid>
              <a:tr h="1359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ek End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lai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ims with Legacy Onl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ims with NPI Onl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ims with both NPI &amp; Legac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 of Claims with NPI</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23/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16/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791,8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435,91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7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97,29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8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09/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617,19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219,15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86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4,46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6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02/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947,11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598,33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6,48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87,3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26/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672,83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639,98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9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79,79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9/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086,89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216,12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23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39,67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2/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030,75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168,3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63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12,29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5/0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903,04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612,77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89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70,95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2%</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BF0641E3-BAD3-4E62-9277-AC971FACB2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NPI to Legacy Match</a:t>
            </a:r>
            <a:endParaRPr b="0" lang="en-US" sz="3600" spc="-1" strike="noStrike">
              <a:solidFill>
                <a:srgbClr val="000066"/>
              </a:solidFill>
              <a:latin typeface="Arial Rounded MT Bold"/>
            </a:endParaRPr>
          </a:p>
        </p:txBody>
      </p:sp>
      <p:sp>
        <p:nvSpPr>
          <p:cNvPr id="7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000" spc="-1" strike="noStrike">
                <a:solidFill>
                  <a:srgbClr val="000000"/>
                </a:solidFill>
                <a:latin typeface="Arial"/>
              </a:rPr>
              <a:t>The following chart and graph represent the number of Medicare legacy provider numbers that have been matched to an NPI.  It is not related to the claims.  It is possible that providers with unmatched legacy numbers have not yet received an NPI, or that the information supplied in NPPES and in the legacy systems is different and not easily match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1C50E051-FB6F-4C8A-A357-6F48253723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NPI Crosswalk Matches</a:t>
            </a:r>
            <a:br>
              <a:rPr sz="2400"/>
            </a:br>
            <a:endParaRPr b="0" lang="en-US" sz="3200" spc="-1" strike="noStrike">
              <a:solidFill>
                <a:srgbClr val="000066"/>
              </a:solidFill>
              <a:latin typeface="Arial Rounded MT Bold"/>
            </a:endParaRPr>
          </a:p>
        </p:txBody>
      </p:sp>
      <p:graphicFrame>
        <p:nvGraphicFramePr>
          <p:cNvPr id="72" name=""/>
          <p:cNvGraphicFramePr/>
          <p:nvPr/>
        </p:nvGraphicFramePr>
        <p:xfrm>
          <a:off x="1066680" y="1981080"/>
          <a:ext cx="7391520" cy="1981440"/>
        </p:xfrm>
        <a:graphic>
          <a:graphicData uri="http://schemas.openxmlformats.org/drawingml/2006/table">
            <a:tbl>
              <a:tblPr/>
              <a:tblGrid>
                <a:gridCol w="1478520"/>
                <a:gridCol w="1478520"/>
                <a:gridCol w="1477080"/>
                <a:gridCol w="1478520"/>
                <a:gridCol w="1478880"/>
              </a:tblGrid>
              <a:tr h="990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cy Provider Numb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que Crosswalk Match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ique Matche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matched Legacy Numb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match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0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28,00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17,94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1.6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10,05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3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 name=""/>
          <p:cNvSpPr/>
          <p:nvPr/>
        </p:nvSpPr>
        <p:spPr>
          <a:xfrm>
            <a:off x="1066680" y="4495680"/>
            <a:ext cx="685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osswalk uses data from the National Provider and Plan Enumeration System data and Medicare legacy identifier systems (UPIN, OSCAR, PINs, and NSC) to match NPI to the correct legacy number</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E4BD0944-7669-473A-8781-5E73A736D8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NPI to Legacy Match</a:t>
            </a:r>
            <a:br>
              <a:rPr sz="3200"/>
            </a:br>
            <a:endParaRPr b="0" lang="en-US" sz="3200" spc="-1" strike="noStrike">
              <a:solidFill>
                <a:srgbClr val="000066"/>
              </a:solidFill>
              <a:latin typeface="Arial Rounded MT Bold"/>
            </a:endParaRPr>
          </a:p>
        </p:txBody>
      </p:sp>
      <p:graphicFrame>
        <p:nvGraphicFramePr>
          <p:cNvPr id="75" name=""/>
          <p:cNvGraphicFramePr/>
          <p:nvPr/>
        </p:nvGraphicFramePr>
        <p:xfrm>
          <a:off x="380880" y="1371600"/>
          <a:ext cx="8763120" cy="4572000"/>
        </p:xfrm>
        <a:graphic>
          <a:graphicData uri="http://schemas.openxmlformats.org/presentationml/2006/ole">
            <p:oleObj progId="Excel.Sheet.12" r:id="rId1" spid="">
              <p:embed/>
              <p:pic>
                <p:nvPicPr>
                  <p:cNvPr id="76" name="" descr=""/>
                  <p:cNvPicPr/>
                  <p:nvPr/>
                </p:nvPicPr>
                <p:blipFill>
                  <a:blip r:embed="rId2"/>
                  <a:stretch/>
                </p:blipFill>
                <p:spPr>
                  <a:xfrm>
                    <a:off x="380880" y="1371600"/>
                    <a:ext cx="8763120" cy="4572000"/>
                  </a:xfrm>
                  <a:prstGeom prst="rect">
                    <a:avLst/>
                  </a:prstGeom>
                  <a:ln w="0">
                    <a:noFill/>
                  </a:ln>
                </p:spPr>
              </p:pic>
            </p:oleObj>
          </a:graphicData>
        </a:graphic>
      </p:graphicFrame>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36CBBBE1-53AB-4879-A4AB-427F6BEB9D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676520"/>
            <a:ext cx="8229600" cy="358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Questions?</a:t>
            </a: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B35C86FD-1420-41E0-A0C1-EAEC9CDE167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Outline</a:t>
            </a:r>
            <a:endParaRPr b="0" lang="en-US" sz="3600" spc="-1" strike="noStrike">
              <a:solidFill>
                <a:srgbClr val="000066"/>
              </a:solidFill>
              <a:latin typeface="Arial Rounded MT Bold"/>
            </a:endParaRPr>
          </a:p>
        </p:txBody>
      </p:sp>
      <p:sp>
        <p:nvSpPr>
          <p:cNvPr id="5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ssuance of NPI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edicare’s Implementation Strategy</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edicare NPI Contingency</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PI Claim Statistic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PI Crosswalk Matches</a:t>
            </a:r>
            <a:endParaRPr b="0" lang="en-US" sz="2800" spc="-1" strike="noStrike">
              <a:solidFill>
                <a:srgbClr val="000000"/>
              </a:solidFill>
              <a:latin typeface="Arial"/>
            </a:endParaRPr>
          </a:p>
        </p:txBody>
      </p:sp>
      <p:graphicFrame>
        <p:nvGraphicFramePr>
          <p:cNvPr id="51" name=""/>
          <p:cNvGraphicFramePr/>
          <p:nvPr/>
        </p:nvGraphicFramePr>
        <p:xfrm>
          <a:off x="6781680" y="5791320"/>
          <a:ext cx="1676520" cy="811080"/>
        </p:xfrm>
        <a:graphic>
          <a:graphicData uri="http://schemas.openxmlformats.org/presentationml/2006/ole">
            <p:oleObj r:id="rId1" spid="">
              <p:embed/>
              <p:pic>
                <p:nvPicPr>
                  <p:cNvPr id="52"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B6F886BC-11FF-453D-B3EB-98CBA5CB05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Issuance of NPIs</a:t>
            </a:r>
            <a:endParaRPr b="0" lang="en-US" sz="3600" spc="-1" strike="noStrike">
              <a:solidFill>
                <a:srgbClr val="000066"/>
              </a:solidFill>
              <a:latin typeface="Arial Rounded MT Bold"/>
            </a:endParaRPr>
          </a:p>
        </p:txBody>
      </p:sp>
      <p:sp>
        <p:nvSpPr>
          <p:cNvPr id="5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began accepting applications and issuing NPIs on May 23, 2005</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endorses the WEDI NPI implementation strategy of dual use of NPI and legacy identifi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the health plan to be capable of receiving both NPI and legacy as well as just legacy prior to the deadline of May 23, 2007</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rely on the legacy identifier to identify the provider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65C7149F-EDF8-463C-875C-ADEA799F1D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Medicare’s Implementation Strategy</a:t>
            </a:r>
            <a:endParaRPr b="0" lang="en-US" sz="3200" spc="-1" strike="noStrike">
              <a:solidFill>
                <a:srgbClr val="000066"/>
              </a:solidFill>
              <a:latin typeface="Arial Rounded MT Bold"/>
            </a:endParaRPr>
          </a:p>
        </p:txBody>
      </p:sp>
      <p:sp>
        <p:nvSpPr>
          <p:cNvPr id="5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 NPI in 4 stag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ge 1 effective January 2006</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NPI on electronic claims, claim status inquiry and eligibility inquiry transactions as long as a legacy identifier is presen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Is are edited to verify they meet the basic structure requirement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to accept legacy only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legacy only on paper claims until new versions are in effect</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 2, 2006 CMS-1500</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1, 2007 UB-04</a:t>
            </a:r>
            <a:endParaRPr b="0" lang="en-US" sz="16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to send legacy and NPI on remittance advice  </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3E2BCA79-34E2-4A13-BF68-8584F5F71C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Medicare’s Implementation Strategy</a:t>
            </a:r>
            <a:endParaRPr b="0" lang="en-US" sz="3200" spc="-1" strike="noStrike">
              <a:solidFill>
                <a:srgbClr val="000066"/>
              </a:solidFill>
              <a:latin typeface="Arial Rounded MT Bold"/>
            </a:endParaRPr>
          </a:p>
        </p:txBody>
      </p:sp>
      <p:sp>
        <p:nvSpPr>
          <p:cNvPr id="5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2 effective October 2006</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n NPI to Medicare legacy identifier crosswalk</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 means for the FFS claims processing systems to convert an NPI to a legacy provider identifie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walk is able to search from a Medicare legacy identifier to NPI and NPI to legacy identifier</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transactions may be submitted with an NPI only, although we encourage submitters to continue to submit their legacy identifier as wel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remittance advices, paper remittance advices, and coordination of benefits electronic transactions will contain both the NPI (if available) and legacy identifier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57436BF7-7540-42F6-B3EF-BA981D82A9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Medicare’s Implementation Strategy</a:t>
            </a:r>
            <a:endParaRPr b="0" lang="en-US" sz="3200" spc="-1" strike="noStrike">
              <a:solidFill>
                <a:srgbClr val="000066"/>
              </a:solidFill>
              <a:latin typeface="Arial Rounded MT Bold"/>
            </a:endParaRPr>
          </a:p>
        </p:txBody>
      </p:sp>
      <p:sp>
        <p:nvSpPr>
          <p:cNvPr id="6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3 effective May 23, 2007</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to full and exclusive use of the NPI on all electronic transactions, except coordination of benefits (small health plans have an extra year to implement), paper claims and paper remittance advic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4 effective May 22, 2008</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 legacy identifiers no longer sent on coordination of benefits transaction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43F434BF-807A-45D3-91FA-FA8ABF9CBD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Rounded MT Bold"/>
              </a:rPr>
              <a:t>Controlled Testing of the Medicare NPI Crosswalk Process</a:t>
            </a:r>
            <a:endParaRPr b="0" lang="en-US" sz="3200" spc="-1" strike="noStrike">
              <a:solidFill>
                <a:srgbClr val="000066"/>
              </a:solidFill>
              <a:latin typeface="Arial Rounded MT Bold"/>
            </a:endParaRPr>
          </a:p>
        </p:txBody>
      </p:sp>
      <p:sp>
        <p:nvSpPr>
          <p:cNvPr id="62"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s with NPI on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y Utilize the crosswalk logic and proces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s with NPI and legac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esting the crosswalk logic and process; incrementally implement the crosswalk throughout the transi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ims with legacy on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y-pass the crosswalk logic</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082F6F7-DF34-4BA7-A9C9-E14CF4B4EB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Focused Testing with Contractors</a:t>
            </a:r>
            <a:endParaRPr b="0" lang="en-US" sz="3600" spc="-1" strike="noStrike">
              <a:solidFill>
                <a:srgbClr val="000066"/>
              </a:solidFill>
              <a:latin typeface="Arial Rounded MT Bold"/>
            </a:endParaRPr>
          </a:p>
        </p:txBody>
      </p:sp>
      <p:sp>
        <p:nvSpPr>
          <p:cNvPr id="6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is working with a few contractors to fully test crosswalk pro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GNA B</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nessee and Idaho reg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Government Services (NGS) Part B</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ana and Kentucky reg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Government Services (NGS) Part 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sconsin regio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A76F47A4-4618-40BC-80C1-8FED4C54B6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Provider Outreach Message</a:t>
            </a:r>
            <a:endParaRPr b="0" lang="en-US" sz="3600" spc="-1" strike="noStrike">
              <a:solidFill>
                <a:srgbClr val="000066"/>
              </a:solidFill>
              <a:latin typeface="Arial Rounded MT Bold"/>
            </a:endParaRPr>
          </a:p>
        </p:txBody>
      </p:sp>
      <p:sp>
        <p:nvSpPr>
          <p:cNvPr id="6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claims submitted, electronically AND on paper, contain a valid NP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at all information in the National Plan and Provider Enumeration System (NPPES) is correct, such as date of birth and social security number, and that  Medicare legacy identifier(s) are present and that they are associated with the correct NP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ll information is correct, but problems are being encountered with claims that contain a valid NPI, contact your contractor prior to submitting a CMS-855.    </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1DA67FEE-197F-4436-B32F-8CAFA02521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7-03-20T17:12:10Z</dcterms:modified>
  <cp:revision>171</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27805671</vt:r8>
  </property>
  <property fmtid="{D5CDD505-2E9C-101B-9397-08002B2CF9AE}" pid="3" name="_AuthorEmail">
    <vt:lpwstr>Kelly.Buchanan@cms.hhs.gov</vt:lpwstr>
  </property>
  <property fmtid="{D5CDD505-2E9C-101B-9397-08002B2CF9AE}" pid="4" name="_AuthorEmailDisplayName">
    <vt:lpwstr>Buchanan, Kelly (CMS/CMM)</vt:lpwstr>
  </property>
  <property fmtid="{D5CDD505-2E9C-101B-9397-08002B2CF9AE}" pid="5" name="_EmailSubject">
    <vt:lpwstr>PPAC</vt:lpwstr>
  </property>
  <property fmtid="{D5CDD505-2E9C-101B-9397-08002B2CF9AE}" pid="6" name="_NewReviewCycle">
    <vt:lpwstr/>
  </property>
  <property fmtid="{D5CDD505-2E9C-101B-9397-08002B2CF9AE}" pid="7" name="_PreviousAdHocReviewCycleID">
    <vt:r8>848296900</vt:r8>
  </property>
</Properties>
</file>