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DBFA-FDFE-485D-8DBA-5005BEA87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3403-330F-48BF-ACD5-5B0CCA497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9672-E774-401B-800C-65323F5EA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7CC5-C0AB-470B-A455-0D6ED262D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957FB-2A6D-4102-904B-8C4F9663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88C8B-452A-4621-B63D-2ECC1B9F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E0702-3D34-4546-9314-1A79DF3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DA12E-CE95-4C42-AE33-15AAFC90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455E8-86DA-4B22-8A83-2EFF9297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7FB35-2EC7-4F3D-978E-25819300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4AAEB-CE74-4263-ACD1-170C9A67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1F56-0432-4BFC-9FAD-378186D61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1D053-D21A-424E-9FE7-E9F83E3D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2EEBC-532E-4826-AEB6-60D203A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8A6D7-15FC-449C-858B-0EF62F96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BD979-0D86-4AA4-8B32-5DC9558A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85401-47C6-4044-A495-60E43BBB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F840-7C94-4C9B-835B-540CD2FDD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24B3-35A6-4495-A3F5-B6D12F78A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0E67-AFE2-4BFA-9523-64CA8A5FB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53B3-CAE7-4ABC-8CCC-81B112E43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9D0C-5F98-4A5E-950A-3BD053A92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CD9E-7551-4DC1-8028-43A14B128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E2BE0-B5EB-48ED-ADC5-1C0DF77DB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5CEC-34B0-4A1D-B848-BF6D52E10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0ABF-08FA-4401-9964-D9D974239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cms.hhs.gov/PQRI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ms.hhs.gov/PQRI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-15228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Centers for Medicare &amp; Medicaid Services</a:t>
            </a:r>
            <a:br>
              <a:rPr sz="3200"/>
            </a:br>
            <a:br>
              <a:rPr sz="3200"/>
            </a:br>
            <a:br>
              <a:rPr sz="2800"/>
            </a:br>
            <a:r>
              <a:rPr b="0" lang="en-US" sz="4400" spc="-1" strike="noStrike">
                <a:solidFill>
                  <a:srgbClr val="000066"/>
                </a:solidFill>
                <a:latin typeface="Arial Rounded MT Bold"/>
              </a:rPr>
              <a:t>2007 Physician Quality Reporting Initiative (PQRI)</a:t>
            </a:r>
            <a:endParaRPr b="0" lang="en-US" sz="4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7720" y="40384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ing Physicians Advisor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4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B. Valuck, MD, J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or, Special Program Offic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-Based Purch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4811-33D3-4F26-B2DE-08025D5B5A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us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may apply when relatively few instances of quality measures ar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 calculatio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’s instances of reporting quality data)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00%)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ational average per measure payment am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average per measure payment amoun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tional charges associated with quality measures)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ational instances of repor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E705-9C11-4205-8749-EBC15D28E8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CA requires CMS to use sampling or other means to validate whether quality measures applicable to the services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plan und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tions are excluded from formal administrative or judicial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will establish an informal inquir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6C86-D08B-4512-A00F-D09D7967CA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ial Feedbac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 PQRI quality data will not be publicly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will be available at or near the time of the bonus payments i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im reports du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are expected to include reporting and performanc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204F6-BA51-4545-A064-03F0353949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must be established through rule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by August 15, 2007; finalized by November 15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tory requirements for 2008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or endorsed by a consensus organization, such as the AQA Alliance or National Quality Forum (NQ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measures that have been submitted by a physician specia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 consensus-based process fo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structural measures, such as the use of electronic health records or electronic prescribing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8F70-921D-4ACF-A328-DBE2C848A6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ry-based and electronic record-base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lead time for implementation precludes using these channels for 2007 PQ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is working toward opening these channels for 2008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specifications for centralized reporting could reduce the burden of reporting for participants and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89A5-3DFD-44F2-A49A-9C267D3D51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ment through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 at: 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cms.hhs.gov/PQ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re Carrier/Medicare Administrative Contractor (MAC) inqui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s’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for participants and their office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to support successful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E197-76D2-44ED-B97B-8AEDA2F9F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Arial Rounded MT Bold"/>
              </a:rPr>
              <a:t>Thank You</a:t>
            </a:r>
            <a:endParaRPr b="0" lang="en-US" sz="4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B. Valuck, MD, 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, Special Program Office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e-Based Purch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46DB-27CD-4F3C-8D60-927DE24959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167616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Relief and Healthcare Act (TRHC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01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le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 and Manner of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Successful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us 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 Feedback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 and Edu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BE2E-A57D-497B-978A-DCA5F2497A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gible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physician, as defined in Social Security Act (SSA) Section 1861(r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 of Oste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 of Podiatric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 of Opt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 of Oral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tor of Dental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ropr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B0D0F-C5E9-4D66-9505-5FFCCE8494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le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tioners described in Social Security Act (SSA) Section 1842(b)(18)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ian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e Practitio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Nurse Specia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ed Registered Nurse Anesthet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ed Nurse-Midw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Social Wor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Psych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ed Dietit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rition Profes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43D1-7D21-4C37-BD6A-8DB4329CC2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le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Therap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al Therap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ied Speech-Language Path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dicare-enrolled eligible professionals may participate, regardless of whether they have signed a Medicare participation agreement to accept assignment on all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49C5-1CD8-4206-8BD8-AA9FF35D86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“2007 PVRP” quality measures posted on December 5, 2006 adopted in sta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additional measures added, as allowed by sta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list of 74 PQRI quality measures posted at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cms.hhs.gov/PQ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as a download on the Measures/Codes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measure specifications will be posted well in advance of July 1 statutory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315A-4C69-4B2D-AE43-7A9CB13382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d Manner of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-base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T Category II codes (or temporary G-codes where CPT Category II codes are not yet available) for reporting qualit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codes may be reported on paper-based CMS 1500 claims or electronic 837-P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codes, which supply the measure numerator, must be reported on the same claims as the payment codes, which supply the measure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gistration or enrollment is required to particip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A9AA-AA13-4B4D-9F8F-A807316C14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Successful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re are no more than 3 measures that apply, each measure must be reported for at least 80% of the cases in which a measure was re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4 or more measures apply, at least 3 measures must be reported for at least 80% of the cases in which the measure was repo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is expected to be performed at the individu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ccurate and consistent use of individual National Provider Identifier (NPI) on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74FD-4D75-436E-8EA2-0247C2159F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hysician Quality Reporting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Initiative (PQRI)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ng eligible professionals who successfully report may earn a 1.5% bonus, subject to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% bonus calculation based on total allowed charges during the reporting period for professional services billed under the Physician Fee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s must reach the National Claims History (NCH) file by February 29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 payments will be made in a lump sum in mid-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 payments will be made to the holder of record of the Taxpayer Identification Number (T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eneficiary co-payment or notice to the benefic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51957-00C8-4136-94BF-7048EEE55B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 </dc:creator>
  <dc:description/>
  <dc:language>en-US</dc:language>
  <cp:lastModifiedBy>CMS</cp:lastModifiedBy>
  <dcterms:modified xsi:type="dcterms:W3CDTF">2007-03-20T17:07:56Z</dcterms:modified>
  <cp:revision>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88710123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PPAC</vt:lpwstr>
  </property>
  <property fmtid="{D5CDD505-2E9C-101B-9397-08002B2CF9AE}" pid="6" name="_NewReviewCycle">
    <vt:lpwstr/>
  </property>
  <property fmtid="{D5CDD505-2E9C-101B-9397-08002B2CF9AE}" pid="7" name="_PreviousAdHocReviewCycleID">
    <vt:r8>1148716597</vt:r8>
  </property>
</Properties>
</file>