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6"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8"/>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6"/>
          <p:cNvSpPr>
            <a:spLocks noGrp="1"/>
          </p:cNvSpPr>
          <p:nvPr>
            <p:ph type="sldNum" idx="9"/>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A1A8-13BF-476E-9860-C188D12FC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mailto:joanna.baldwin@cms.hhs.gov" TargetMode="External"/><Relationship Id="rId2" Type="http://schemas.openxmlformats.org/officeDocument/2006/relationships/hyperlink" Target="mailto:sarah.mcclain@cms.hhs.gov"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30400" y="690480"/>
            <a:ext cx="4599000" cy="3449880"/>
          </a:xfrm>
          <a:prstGeom prst="rect">
            <a:avLst/>
          </a:prstGeom>
          <a:ln w="0">
            <a:noFill/>
          </a:ln>
        </p:spPr>
      </p:sp>
      <p:sp>
        <p:nvSpPr>
          <p:cNvPr id="1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 Acquisition Amy Bassano will be giving an update at 15:0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30400" y="690480"/>
            <a:ext cx="4599000" cy="3449880"/>
          </a:xfrm>
          <a:prstGeom prst="rect">
            <a:avLst/>
          </a:prstGeom>
          <a:ln w="0">
            <a:noFill/>
          </a:ln>
        </p:spPr>
      </p:sp>
      <p:sp>
        <p:nvSpPr>
          <p:cNvPr id="1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cted NCA Completion Date</a:t>
            </a:r>
            <a:r>
              <a:rPr b="0" lang="en-US" sz="1200" spc="-1" strike="noStrike">
                <a:solidFill>
                  <a:srgbClr val="000000"/>
                </a:solidFill>
                <a:latin typeface="Times New Roman"/>
              </a:rPr>
              <a:t>3/29/2006</a:t>
            </a:r>
            <a:r>
              <a:rPr b="1" lang="en-US" sz="1200" spc="-1" strike="noStrike">
                <a:solidFill>
                  <a:srgbClr val="000000"/>
                </a:solidFill>
                <a:latin typeface="Times New Roman"/>
              </a:rPr>
              <a:t>Proposed Decision Memo Due Date</a:t>
            </a:r>
            <a:r>
              <a:rPr b="0" lang="en-US" sz="1200" spc="-1" strike="noStrike">
                <a:solidFill>
                  <a:srgbClr val="000000"/>
                </a:solidFill>
                <a:latin typeface="Times New Roman"/>
              </a:rPr>
              <a:t>12/29/2005</a:t>
            </a:r>
            <a:r>
              <a:rPr b="1" lang="en-US" sz="1200" spc="-1" strike="noStrike">
                <a:solidFill>
                  <a:srgbClr val="000000"/>
                </a:solidFill>
                <a:latin typeface="Times New Roman"/>
              </a:rPr>
              <a:t>Lead Analyst(s)</a:t>
            </a:r>
            <a:r>
              <a:rPr b="0" lang="en-US" sz="1200" spc="-1" strike="noStrike">
                <a:solidFill>
                  <a:srgbClr val="000000"/>
                </a:solidFill>
                <a:latin typeface="Times New Roman"/>
              </a:rPr>
              <a:t>JoAnna Baldwin</a:t>
            </a:r>
            <a:br>
              <a:rPr sz="1200"/>
            </a:br>
            <a:r>
              <a:rPr b="0" lang="en-US" sz="1200" spc="-1" strike="noStrike" u="sng">
                <a:solidFill>
                  <a:srgbClr val="ccccff"/>
                </a:solidFill>
                <a:uFillTx/>
                <a:latin typeface="Times New Roman"/>
                <a:hlinkClick r:id="rId1"/>
              </a:rPr>
              <a:t>joanna.baldwin@cms.hhs.gov</a:t>
            </a:r>
            <a:br>
              <a:rPr sz="1200"/>
            </a:br>
            <a:r>
              <a:rPr b="0" lang="en-US" sz="1200" spc="-1" strike="noStrike">
                <a:solidFill>
                  <a:srgbClr val="000000"/>
                </a:solidFill>
                <a:latin typeface="Times New Roman"/>
              </a:rPr>
              <a:t>1-410-786-7205</a:t>
            </a:r>
            <a:br>
              <a:rPr sz="1200"/>
            </a:br>
            <a:r>
              <a:rPr b="0" lang="en-US" sz="1200" spc="-1" strike="noStrike">
                <a:solidFill>
                  <a:srgbClr val="000000"/>
                </a:solidFill>
                <a:latin typeface="Times New Roman"/>
              </a:rPr>
              <a:t>Sarah McClain</a:t>
            </a:r>
            <a:br>
              <a:rPr sz="1200"/>
            </a:br>
            <a:r>
              <a:rPr b="0" lang="en-US" sz="1200" spc="-1" strike="noStrike" u="sng">
                <a:solidFill>
                  <a:srgbClr val="ccccff"/>
                </a:solidFill>
                <a:uFillTx/>
                <a:latin typeface="Times New Roman"/>
                <a:hlinkClick r:id="rId2"/>
              </a:rPr>
              <a:t>sarah.mcclain@cms.hhs.gov</a:t>
            </a:r>
            <a:br>
              <a:rPr sz="1200"/>
            </a:br>
            <a:r>
              <a:rPr b="0" lang="en-US" sz="1200" spc="-1" strike="noStrike">
                <a:solidFill>
                  <a:srgbClr val="000000"/>
                </a:solidFill>
                <a:latin typeface="Times New Roman"/>
              </a:rPr>
              <a:t>1-410-786-2994</a:t>
            </a:r>
            <a:br>
              <a:rPr sz="1200"/>
            </a:br>
            <a:r>
              <a:rPr b="1" lang="en-US" sz="1200" spc="-1" strike="noStrike">
                <a:solidFill>
                  <a:srgbClr val="000000"/>
                </a:solidFill>
                <a:latin typeface="Times New Roman"/>
              </a:rPr>
              <a:t>Lead Medical Officer(s)</a:t>
            </a:r>
            <a:r>
              <a:rPr b="0" lang="en-US" sz="1200" spc="-1" strike="noStrike">
                <a:solidFill>
                  <a:srgbClr val="000000"/>
                </a:solidFill>
                <a:latin typeface="Times New Roman"/>
              </a:rPr>
              <a:t>Lawrence Schott, MD</a:t>
            </a:r>
            <a:br>
              <a:rPr sz="1200"/>
            </a:br>
            <a:r>
              <a:rPr b="0" lang="en-US" sz="1200" spc="-1" strike="noStrike">
                <a:solidFill>
                  <a:srgbClr val="000000"/>
                </a:solidFill>
                <a:latin typeface="Times New Roman"/>
              </a:rPr>
              <a:t>Joseph Chin, MD</a:t>
            </a:r>
            <a:br>
              <a:rPr sz="1200"/>
            </a:br>
            <a:r>
              <a:rPr b="1" lang="en-US" sz="1200" spc="-1" strike="noStrike">
                <a:solidFill>
                  <a:srgbClr val="000000"/>
                </a:solidFill>
                <a:latin typeface="Times New Roman"/>
              </a:rPr>
              <a:t>Actions Taken</a:t>
            </a:r>
            <a:r>
              <a:rPr b="0" lang="en-US" sz="1200" spc="-1" strike="noStrike">
                <a:solidFill>
                  <a:srgbClr val="000000"/>
                </a:solidFill>
                <a:latin typeface="Times New Roman"/>
              </a:rPr>
              <a:t>June 29, 2005CMS has closed the previous reconsideration for cardiac rehabilitation programs and is opening a new reconsideration to review seven clinical indications and additional policy concerns. CMS requests that the public comment on the following question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ersons age 65 years and older, what is the clinical evidence for a net health benefit from cardiac rehabilitation for the seven indication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ppropriate level of physician supervision for these service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ich physician (referring or hospital-clinic) should the cardiac rehabilitation services be “incident to”?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individual components that comprise a cardiac rehabilitation program?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ppropriate number of cardiac rehabilitation sessions needed to achieve a net health benefi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690480"/>
            <a:ext cx="4599000" cy="344988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are being paid to educate residents and they must pay all or subtantially all. We have a meeting to discuss have been in dialog with AAM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30400" y="690480"/>
            <a:ext cx="4599000" cy="3449880"/>
          </a:xfrm>
          <a:prstGeom prst="rect">
            <a:avLst/>
          </a:prstGeom>
          <a:ln w="0">
            <a:noFill/>
          </a:ln>
        </p:spPr>
      </p:sp>
      <p:sp>
        <p:nvSpPr>
          <p:cNvPr id="1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crosses over in units, Indiana processes those claims as minutes leading to underpayment. We told them on a week ago that we could not change the way Medicare crossed over clai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30400" y="690480"/>
            <a:ext cx="4599000" cy="3449880"/>
          </a:xfrm>
          <a:prstGeom prst="rect">
            <a:avLst/>
          </a:prstGeom>
          <a:ln w="0">
            <a:noFill/>
          </a:ln>
        </p:spPr>
      </p:sp>
      <p:sp>
        <p:nvSpPr>
          <p:cNvPr id="1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ment for CME for physicians creates Stark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resubmission John Stewa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0400" y="690480"/>
            <a:ext cx="4599000" cy="3449880"/>
          </a:xfrm>
          <a:prstGeom prst="rect">
            <a:avLst/>
          </a:prstGeom>
          <a:ln w="0">
            <a:noFill/>
          </a:ln>
        </p:spPr>
      </p:sp>
      <p:sp>
        <p:nvSpPr>
          <p:cNvPr id="1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een publishing RVUs for 99381-99397 Like it or not as the biggest insurance payor we are becoming policymakers for other payors such as medicaid programs and commercial payors. In this physician rule we did pick up 90467-8 and 90473-4 oral/nasal immunization codes but we did not get 99173 and 92551 visual and auditory screening on this year, we will continue to lobby to get them, on next year. Think about primary care ex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34B3B-C50C-4D83-AC08-5BB0F41C7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AFE5-2EF8-4264-875F-1CF3A402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46A77-874E-42AB-8477-C8F6D05FD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39C1E-CD95-4E26-8BEA-01EE91CB8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99C84-F206-419E-8CF5-D2212EC30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464D8-15B8-4989-8A64-FD537444E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43648-7E09-40C1-9B6A-8ED45FAE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17918-8F9F-4544-9167-DF8BA4039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301B0-7033-43B0-A871-C5ABC87FA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C55AC-00EC-4DC7-BC5A-4DFF8FC76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AC88-1B79-4A95-A76B-F1ADBC1E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CA6A3-457B-4B14-A24F-C0111B82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45FDB-75ED-4527-AA27-4A01D962E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4B022-A3FA-4D6C-AA93-D0DD1F8A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83EB4-BD2A-4C03-B41B-BF7A6C5F6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3C565-7AFB-4502-8107-E26BFC34A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2A2D9-1F5D-49F6-B301-1CD856DED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2352-2167-44D3-B86B-574BD033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8A896-08BD-4644-A954-C6599154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0EB3-7CE3-4991-A23D-26FD5BA6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4C8D-61D8-414F-8B10-49D528D6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83D5-74EA-410A-909E-28B9452F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DD2A-95B4-428E-A8DC-5A527E84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D275-833E-4E7C-90A4-F7A8B135E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9876-704D-45F4-AA22-777358E43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285D-71A7-44F6-8D50-DBACF5CFE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hyperlink" Target="http://www.cms.hhs.gov/providers/drugs/compbid/default.asp" TargetMode="External"/><Relationship Id="rId4" Type="http://schemas.openxmlformats.org/officeDocument/2006/relationships/hyperlink" Target="http://www.cms.hhs.gov/providers/drugs/compbid/default.asp" TargetMode="External"/><Relationship Id="rId5" Type="http://schemas.openxmlformats.org/officeDocument/2006/relationships/hyperlink" Target="http://www.cms.hhs.gov/apps/media/press/release.asp?Counter=1713" TargetMode="Externa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hyperlink" Target="http://www.gpoaccess.gov/fr/advanced.html"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7"/>
                </a:solidFill>
                <a:latin typeface="Arial"/>
              </a:rPr>
              <a:t> </a:t>
            </a:r>
            <a:r>
              <a:rPr b="0" lang="en-US" sz="4000" spc="-1" strike="noStrike">
                <a:solidFill>
                  <a:srgbClr val="ffff07"/>
                </a:solidFill>
                <a:latin typeface="Arial"/>
              </a:rPr>
              <a:t>PRIT REPORT</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7"/>
                </a:solidFill>
                <a:latin typeface="Times New Roman"/>
              </a:rPr>
              <a:t>Dr William Roger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7"/>
                </a:solidFill>
                <a:latin typeface="Arial"/>
              </a:rPr>
              <a:t>Practicing Physicians Advisory Council</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7"/>
                </a:solidFill>
                <a:latin typeface="Arial"/>
              </a:rPr>
              <a:t>March 6, 2006</a:t>
            </a:r>
            <a:endParaRPr b="0" lang="en-US" sz="2400" spc="-1" strike="noStrike">
              <a:solidFill>
                <a:srgbClr val="ffffff"/>
              </a:solidFill>
              <a:latin typeface="Times New Roman"/>
            </a:endParaRPr>
          </a:p>
        </p:txBody>
      </p:sp>
      <p:graphicFrame>
        <p:nvGraphicFramePr>
          <p:cNvPr id="154" name=""/>
          <p:cNvGraphicFramePr/>
          <p:nvPr/>
        </p:nvGraphicFramePr>
        <p:xfrm>
          <a:off x="3416400" y="2058840"/>
          <a:ext cx="3657600" cy="181080"/>
        </p:xfrm>
        <a:graphic>
          <a:graphicData uri="http://schemas.openxmlformats.org/presentationml/2006/ole">
            <p:oleObj r:id="rId1" spid="">
              <p:embed/>
              <p:pic>
                <p:nvPicPr>
                  <p:cNvPr id="15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156" name=""/>
          <p:cNvGraphicFramePr/>
          <p:nvPr/>
        </p:nvGraphicFramePr>
        <p:xfrm>
          <a:off x="6781680" y="5791320"/>
          <a:ext cx="1676520" cy="811080"/>
        </p:xfrm>
        <a:graphic>
          <a:graphicData uri="http://schemas.openxmlformats.org/presentationml/2006/ole">
            <p:oleObj r:id="rId3" spid="">
              <p:embed/>
              <p:pic>
                <p:nvPicPr>
                  <p:cNvPr id="15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7"/>
                </a:solidFill>
                <a:latin typeface="Times New Roman"/>
              </a:rPr>
              <a:t>MEDICARE</a:t>
            </a:r>
            <a:endParaRPr b="0" lang="en-US" sz="5400" spc="-1" strike="noStrike">
              <a:solidFill>
                <a:srgbClr val="00ffff"/>
              </a:solidFill>
              <a:latin typeface="Times New Roman"/>
            </a:endParaRPr>
          </a:p>
        </p:txBody>
      </p:sp>
      <p:sp>
        <p:nvSpPr>
          <p:cNvPr id="3" name="PlaceHolder 2"/>
          <p:cNvSpPr>
            <a:spLocks noGrp="1"/>
          </p:cNvSpPr>
          <p:nvPr>
            <p:ph type="sldNum" idx="3"/>
          </p:nvPr>
        </p:nvSpPr>
        <p:spPr/>
        <p:txBody>
          <a:bodyPr/>
          <a:p>
            <a:fld id="{B87D4BA2-F5E4-4460-8DA1-B4DB1F1E0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6781680" y="6046920"/>
          <a:ext cx="1676520" cy="811080"/>
        </p:xfrm>
        <a:graphic>
          <a:graphicData uri="http://schemas.openxmlformats.org/presentationml/2006/ole">
            <p:oleObj r:id="rId1" spid="">
              <p:embed/>
              <p:pic>
                <p:nvPicPr>
                  <p:cNvPr id="176"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77" name="PlaceHolder 1"/>
          <p:cNvSpPr>
            <a:spLocks noGrp="1"/>
          </p:cNvSpPr>
          <p:nvPr>
            <p:ph/>
          </p:nvPr>
        </p:nvSpPr>
        <p:spPr>
          <a:xfrm>
            <a:off x="761760" y="152280"/>
            <a:ext cx="8716680" cy="4778640"/>
          </a:xfrm>
          <a:prstGeom prst="rect">
            <a:avLst/>
          </a:prstGeom>
          <a:noFill/>
          <a:ln w="0">
            <a:noFill/>
          </a:ln>
        </p:spPr>
        <p:txBody>
          <a:bodyPr lIns="92160" rIns="92160" tIns="46080" bIns="46080" anchor="t">
            <a:normAutofit fontScale="91000"/>
          </a:bodyPr>
          <a:p>
            <a:pPr marL="312120" indent="-31212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Recovery Audit Contracts (RACs)</a:t>
            </a:r>
            <a:endParaRPr b="0" lang="en-US" sz="1500" spc="-1" strike="noStrike">
              <a:solidFill>
                <a:srgbClr val="ffffff"/>
              </a:solidFill>
              <a:latin typeface="Times New Roman"/>
            </a:endParaRPr>
          </a:p>
          <a:p>
            <a:pPr marL="312120" indent="-31212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he American College of Physicians is concerned that the Recovery Audit Contracts (RACs) initiative has potential to be burdensome and intrusive to providers  </a:t>
            </a:r>
            <a:endParaRPr b="0" lang="en-US" sz="1500" spc="-1" strike="noStrike">
              <a:solidFill>
                <a:srgbClr val="ffffff"/>
              </a:solidFill>
              <a:latin typeface="Times New Roman"/>
            </a:endParaRPr>
          </a:p>
          <a:p>
            <a:pPr marL="312120" indent="-31212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a:t>
            </a:r>
            <a:endParaRPr b="0" lang="en-US" sz="1500" spc="-1" strike="noStrike">
              <a:solidFill>
                <a:srgbClr val="ffffff"/>
              </a:solidFill>
              <a:latin typeface="Times New Roman"/>
            </a:endParaRPr>
          </a:p>
          <a:p>
            <a:pPr marL="31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March 16: The Practicing Physician’s Advisory Council met yesterday and discussed this issue. The PRIT is participating in a series of regularly scheduled meetings concerning RACs and is working to ensure this process runs as smoothly as possible. It was also discussed by CMS Administrator Dr. McClellan at the American Medical Association’s Advocacy Conference on March 15th. </a:t>
            </a:r>
            <a:endParaRPr b="0" lang="en-US" sz="1500" spc="-1" strike="noStrike">
              <a:solidFill>
                <a:srgbClr val="ffffff"/>
              </a:solidFill>
              <a:latin typeface="Times New Roman"/>
            </a:endParaRPr>
          </a:p>
          <a:p>
            <a:pPr marL="31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pril 13: CMS will hold an Open Door Forum specifically on Recovery Audit Contractors (RACs) on April 28th.  For more information about this ODF, visit http://www.cms.hhs.gov/opendoor/schedule.asp</a:t>
            </a:r>
            <a:endParaRPr b="0" lang="en-US" sz="1500" spc="-1" strike="noStrike">
              <a:solidFill>
                <a:srgbClr val="ffffff"/>
              </a:solidFill>
              <a:latin typeface="Times New Roman"/>
            </a:endParaRPr>
          </a:p>
          <a:p>
            <a:pPr marL="31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September 19: RAC contractors are beginning to look at Part B claims.  Communication with providers is very important to us at this time.  </a:t>
            </a:r>
            <a:endParaRPr b="0" lang="en-US" sz="1500" spc="-1" strike="noStrike">
              <a:solidFill>
                <a:srgbClr val="ffffff"/>
              </a:solidFill>
              <a:latin typeface="Times New Roman"/>
            </a:endParaRPr>
          </a:p>
          <a:p>
            <a:pPr marL="31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RACs won't be looking at E&amp;M coding level at least until CMS finishes analyzing AMA resolution 819.  RACs will not look at any claims that have already been audited by Medicare.  The normal appeals process will apply to demand letters.  If an overpayment is found the RAC contractor is expected to arrange for payment to the physician or provider.</a:t>
            </a:r>
            <a:endParaRPr b="0" lang="en-US" sz="1500" spc="-1" strike="noStrike">
              <a:solidFill>
                <a:srgbClr val="ffffff"/>
              </a:solidFill>
              <a:latin typeface="Times New Roman"/>
            </a:endParaRPr>
          </a:p>
          <a:p>
            <a:pPr marL="31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Feb 6: We have spoken with several groups who are currently working with the Recovery audit contractors in their states.  At this time there are no particular complaints from these groups.  </a:t>
            </a:r>
            <a:endParaRPr b="0" lang="en-US" sz="1500" spc="-1" strike="noStrike">
              <a:solidFill>
                <a:srgbClr val="ffffff"/>
              </a:solidFill>
              <a:latin typeface="Times New Roman"/>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916F08A3-D2ED-4530-91A9-7761B6819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8" name=""/>
          <p:cNvGraphicFramePr/>
          <p:nvPr/>
        </p:nvGraphicFramePr>
        <p:xfrm>
          <a:off x="6781680" y="6046920"/>
          <a:ext cx="1676520" cy="811080"/>
        </p:xfrm>
        <a:graphic>
          <a:graphicData uri="http://schemas.openxmlformats.org/presentationml/2006/ole">
            <p:oleObj r:id="rId1" spid="">
              <p:embed/>
              <p:pic>
                <p:nvPicPr>
                  <p:cNvPr id="179"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80" name="PlaceHolder 1"/>
          <p:cNvSpPr>
            <a:spLocks noGrp="1"/>
          </p:cNvSpPr>
          <p:nvPr>
            <p:ph/>
          </p:nvPr>
        </p:nvSpPr>
        <p:spPr>
          <a:xfrm>
            <a:off x="807840" y="152280"/>
            <a:ext cx="7802280" cy="4778640"/>
          </a:xfrm>
          <a:prstGeom prst="rect">
            <a:avLst/>
          </a:prstGeom>
          <a:noFill/>
          <a:ln w="0">
            <a:noFill/>
          </a:ln>
        </p:spPr>
        <p:txBody>
          <a:bodyPr lIns="92160" rIns="92160" tIns="46080" bIns="46080"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mpetitive Acquisition Program</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Oncologists and other physicians who administer drugs in their office have expressed concerns about the user friendliness of the competitive acquisition program plan for January 2006.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January 14: We are discussing ways to beta test this process before the program start date.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March 9: Physician concerns were discussed at the PPAC. CMS now has a website to keep providers informed as this program is developed: </a:t>
            </a:r>
            <a:r>
              <a:rPr b="0" lang="en-US" sz="1500" spc="-1" strike="noStrike" u="sng">
                <a:solidFill>
                  <a:srgbClr val="ccccff"/>
                </a:solidFill>
                <a:uFillTx/>
                <a:latin typeface="Times New Roman"/>
                <a:hlinkClick r:id="rId3"/>
              </a:rPr>
              <a:t>http://www.cms.hhs.gov/providers/drugs/compbid/default.asp</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ne 27: CMS released the Competitive Acquisition Program interim final rule.  The fact sheet and regulation are worth reading.</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ugust 3: CMS is suspending the current CAP vendor bidding process. CMS is suspending the bidding at this time to allow us to more fully review public comments to the CAP IFC (CMS-1325-IFC) as well as to implement further clarifications to the bidding process before CMS proceeds to accept bids from vendors. More information can be found here: </a:t>
            </a:r>
            <a:r>
              <a:rPr b="0" lang="en-US" sz="1500" spc="-1" strike="noStrike" u="sng">
                <a:solidFill>
                  <a:srgbClr val="ccccff"/>
                </a:solidFill>
                <a:uFillTx/>
                <a:latin typeface="Times New Roman"/>
                <a:hlinkClick r:id="rId4"/>
              </a:rPr>
              <a:t>http://www.cms.hhs.gov/providers/drugs/compbid/default.asp</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CAP bidding process will close on December 22, 2005.  Vendors will be announced early spring and physician election will occur probably in April or May.  CAP implementation will occur on July 1st, 2006.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November 21:  CMS published regulations today concerning the CAP program.  Please click on the second link below for more information:</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u="sng">
                <a:solidFill>
                  <a:srgbClr val="ccccff"/>
                </a:solidFill>
                <a:uFillTx/>
                <a:latin typeface="Times New Roman"/>
                <a:hlinkClick r:id="rId5"/>
              </a:rPr>
              <a:t>http://www.cms.hhs.gov/apps/media/press/release.asp?Counter=1713</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http://www.cms.hhs.gov/CompetitiveAcquisforBios/04_cap_regs.asp#TopOfPage</a:t>
            </a:r>
            <a:endParaRPr b="0" lang="en-US" sz="1500" spc="-1" strike="noStrike">
              <a:solidFill>
                <a:srgbClr val="ffffff"/>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A1E85DE5-B6AB-4B3D-9DF9-D6C94F052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838080" y="250560"/>
            <a:ext cx="7624800" cy="4778280"/>
          </a:xfrm>
          <a:prstGeom prst="rect">
            <a:avLst/>
          </a:prstGeom>
          <a:noFill/>
          <a:ln w="0">
            <a:noFill/>
          </a:ln>
        </p:spPr>
        <p:txBody>
          <a:bodyPr lIns="92160" rIns="92160" tIns="46080" bIns="46080"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ardiac Rehab Supervision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here is debate about whether Emergency physicians should be permitted to supervise Phase II cardiac rehab under some circumstance.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April 23: This issue was brought to the PRIT by a hospital in Oregon. We are currently examining options.</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ne 16:The OIG will soon publish a report on this subject. We cannot formulate a new regulation until that report is released.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ugust 3: OIG report slated for release in August or September.</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ugust 16: OIG report slated for publication in September.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September 14: We spoke to the ACC CAC and they reinforced the importance of this issue to their members. The Committee on Technology and Innovation is addressing the issue seriously but an interim fix may be possible.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ne 29: The Office of Clinical Standards and Quality (OCSQ) has opened a new national coverage decision which can be tracked online.  Public comment is very important to help CMS develop a well formulated coverage decision.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October 25:  AHRQ is evaluating the scientific evidence concerning cardiac rehab and preparing a report which we hope to have on the Coverage website within a month. The report will be very important to the draft coverage decision which will follow it.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an 4: CMS expanded the National Coverage Determination (NCD) on Cardiac Rehab programs and clarified physician supervision levels.  Please click on the url below for more information.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http://new.cms.hhs.gov/mcd/viewncd.asp?ncd_id=20.10&amp;ncd_version=1&amp;basket=ncd%3A20%2E10%3A1%3ACardiac+Rehabilitation+Programs</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1A51A7DA-0EF1-4237-9843-8F6FAD98E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82" name=""/>
          <p:cNvGraphicFramePr/>
          <p:nvPr/>
        </p:nvGraphicFramePr>
        <p:xfrm>
          <a:off x="6781680" y="6046920"/>
          <a:ext cx="1676520" cy="811080"/>
        </p:xfrm>
        <a:graphic>
          <a:graphicData uri="http://schemas.openxmlformats.org/presentationml/2006/ole">
            <p:oleObj r:id="rId1" spid="">
              <p:embed/>
              <p:pic>
                <p:nvPicPr>
                  <p:cNvPr id="183" name="" descr=""/>
                  <p:cNvPicPr/>
                  <p:nvPr/>
                </p:nvPicPr>
                <p:blipFill>
                  <a:blip r:embed="rId2"/>
                  <a:stretch/>
                </p:blipFill>
                <p:spPr>
                  <a:xfrm>
                    <a:off x="6781680" y="6046920"/>
                    <a:ext cx="1676520" cy="811080"/>
                  </a:xfrm>
                  <a:prstGeom prst="rect">
                    <a:avLst/>
                  </a:prstGeom>
                  <a:ln w="0">
                    <a:noFill/>
                  </a:ln>
                </p:spPr>
              </p:pic>
            </p:oleObj>
          </a:graphicData>
        </a:graphic>
      </p:graphicFrame>
      <p:pic>
        <p:nvPicPr>
          <p:cNvPr id="184" name="" descr=""/>
          <p:cNvPicPr/>
          <p:nvPr/>
        </p:nvPicPr>
        <p:blipFill>
          <a:blip r:embed="rId3"/>
          <a:stretch/>
        </p:blipFill>
        <p:spPr>
          <a:xfrm>
            <a:off x="4267080" y="1066680"/>
            <a:ext cx="4876920" cy="4843440"/>
          </a:xfrm>
          <a:prstGeom prst="rect">
            <a:avLst/>
          </a:prstGeom>
          <a:ln w="0">
            <a:noFill/>
          </a:ln>
        </p:spPr>
      </p:pic>
      <p:sp>
        <p:nvSpPr>
          <p:cNvPr id="185" name=""/>
          <p:cNvSpPr/>
          <p:nvPr/>
        </p:nvSpPr>
        <p:spPr>
          <a:xfrm>
            <a:off x="4267080" y="5486400"/>
            <a:ext cx="4876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octor is in court on Tuesdays and Wednesday</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6B40EDCC-AF55-4BA6-AD47-C87D8E3A9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7"/>
                </a:solidFill>
                <a:latin typeface="Times New Roman"/>
              </a:rPr>
              <a:t>Contact Information</a:t>
            </a:r>
            <a:endParaRPr b="0" lang="en-US" sz="4400" spc="-1" strike="noStrike">
              <a:solidFill>
                <a:srgbClr val="00ffff"/>
              </a:solidFill>
              <a:latin typeface="Times New Roman"/>
            </a:endParaRPr>
          </a:p>
        </p:txBody>
      </p:sp>
      <p:sp>
        <p:nvSpPr>
          <p:cNvPr id="18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William Rogers, MD FACEP </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202-236-3338</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illiam.Rogers@cms.hhs.gov</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PRIT@cms.hhs.gov</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http://www.cms.hhs.gov/physicians/prit/</a:t>
            </a:r>
            <a:endParaRPr b="0" lang="en-US" sz="3200" spc="-1" strike="noStrike">
              <a:solidFill>
                <a:srgbClr val="ffffff"/>
              </a:solidFill>
              <a:latin typeface="Times New Roman"/>
            </a:endParaRPr>
          </a:p>
        </p:txBody>
      </p:sp>
      <p:graphicFrame>
        <p:nvGraphicFramePr>
          <p:cNvPr id="188" name=""/>
          <p:cNvGraphicFramePr/>
          <p:nvPr/>
        </p:nvGraphicFramePr>
        <p:xfrm>
          <a:off x="6781680" y="5791320"/>
          <a:ext cx="1676520" cy="811080"/>
        </p:xfrm>
        <a:graphic>
          <a:graphicData uri="http://schemas.openxmlformats.org/presentationml/2006/ole">
            <p:oleObj r:id="rId3" spid="">
              <p:embed/>
              <p:pic>
                <p:nvPicPr>
                  <p:cNvPr id="189"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FB2A40CD-C109-47A9-B5F1-18C55533B4E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7"/>
                </a:solidFill>
                <a:latin typeface="Times New Roman"/>
              </a:rPr>
              <a:t>Outline</a:t>
            </a:r>
            <a:endParaRPr b="0" lang="en-US" sz="44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PRIT Update</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Part D</a:t>
            </a:r>
            <a:endParaRPr b="0" lang="en-US" sz="3200" spc="-1" strike="noStrike">
              <a:solidFill>
                <a:srgbClr val="ffffff"/>
              </a:solidFill>
              <a:latin typeface="Times New Roman"/>
            </a:endParaRPr>
          </a:p>
        </p:txBody>
      </p:sp>
      <p:graphicFrame>
        <p:nvGraphicFramePr>
          <p:cNvPr id="161" name=""/>
          <p:cNvGraphicFramePr/>
          <p:nvPr/>
        </p:nvGraphicFramePr>
        <p:xfrm>
          <a:off x="6781680" y="5791320"/>
          <a:ext cx="1676520" cy="811080"/>
        </p:xfrm>
        <a:graphic>
          <a:graphicData uri="http://schemas.openxmlformats.org/presentationml/2006/ole">
            <p:oleObj r:id="rId1" spid="">
              <p:embed/>
              <p:pic>
                <p:nvPicPr>
                  <p:cNvPr id="162"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63" name="" descr=""/>
          <p:cNvPicPr/>
          <p:nvPr/>
        </p:nvPicPr>
        <p:blipFill>
          <a:blip r:embed="rId3"/>
          <a:stretch/>
        </p:blipFill>
        <p:spPr>
          <a:xfrm>
            <a:off x="3795840" y="0"/>
            <a:ext cx="5348160" cy="5797440"/>
          </a:xfrm>
          <a:prstGeom prst="rect">
            <a:avLst/>
          </a:prstGeom>
          <a:ln w="0">
            <a:noFill/>
          </a:ln>
        </p:spPr>
      </p:pic>
      <p:sp>
        <p:nvSpPr>
          <p:cNvPr id="4" name="PlaceHolder 3"/>
          <p:cNvSpPr>
            <a:spLocks noGrp="1"/>
          </p:cNvSpPr>
          <p:nvPr>
            <p:ph type="sldNum" idx="3"/>
          </p:nvPr>
        </p:nvSpPr>
        <p:spPr/>
        <p:txBody>
          <a:bodyPr/>
          <a:p>
            <a:fld id="{4DA06EEF-6D57-4245-9CF0-1D9311ED5B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6781680" y="5970600"/>
          <a:ext cx="1676520" cy="811080"/>
        </p:xfrm>
        <a:graphic>
          <a:graphicData uri="http://schemas.openxmlformats.org/presentationml/2006/ole">
            <p:oleObj r:id="rId1" spid="">
              <p:embed/>
              <p:pic>
                <p:nvPicPr>
                  <p:cNvPr id="165" name="" descr=""/>
                  <p:cNvPicPr/>
                  <p:nvPr/>
                </p:nvPicPr>
                <p:blipFill>
                  <a:blip r:embed="rId2"/>
                  <a:stretch/>
                </p:blipFill>
                <p:spPr>
                  <a:xfrm>
                    <a:off x="6781680" y="5970600"/>
                    <a:ext cx="1676520" cy="811080"/>
                  </a:xfrm>
                  <a:prstGeom prst="rect">
                    <a:avLst/>
                  </a:prstGeom>
                  <a:ln w="0">
                    <a:noFill/>
                  </a:ln>
                </p:spPr>
              </p:pic>
            </p:oleObj>
          </a:graphicData>
        </a:graphic>
      </p:graphicFrame>
      <p:sp>
        <p:nvSpPr>
          <p:cNvPr id="166" name="PlaceHolder 1"/>
          <p:cNvSpPr>
            <a:spLocks noGrp="1"/>
          </p:cNvSpPr>
          <p:nvPr>
            <p:ph/>
          </p:nvPr>
        </p:nvSpPr>
        <p:spPr>
          <a:xfrm>
            <a:off x="858960" y="21960"/>
            <a:ext cx="8285040" cy="4778280"/>
          </a:xfrm>
          <a:prstGeom prst="rect">
            <a:avLst/>
          </a:prstGeom>
          <a:noFill/>
          <a:ln w="0">
            <a:noFill/>
          </a:ln>
        </p:spPr>
        <p:txBody>
          <a:bodyPr lIns="92160" rIns="92160" tIns="46080" bIns="46080" anchor="t">
            <a:normAutofit fontScale="85000"/>
          </a:bodyPr>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Availability of Tetanus Diphtheria Toxoid Adult Adsorbed (Thimerosol preservative) </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Providers are reportedly having difficulties obtaining the Medicare covered Tetanus and diphtheria vaccines and must use the more expensive preservative free vaccine which is often denied by Medicare carriers as not medically necessary.  </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The PRIT is looking into the reported shortages of traditional TD vaccines &amp; ways to make sure that doctors are appropriately reimbursed for vaccines they administer. </a:t>
            </a:r>
            <a:endParaRPr b="0" lang="en-US" sz="1500" spc="-1" strike="noStrike">
              <a:solidFill>
                <a:srgbClr val="ffffff"/>
              </a:solidFill>
              <a:latin typeface="Times New Roman"/>
            </a:endParaRPr>
          </a:p>
          <a:p>
            <a:pPr marL="291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Feb 7:  Td with Thimerosol is still available.  Boston Biological is manufacturing this vaccine and is the CDC supplier.  Providers can call Henry Schein at 800-772-4346 to order this vaccine. </a:t>
            </a:r>
            <a:endParaRPr b="0" lang="en-US" sz="1500" spc="-1" strike="noStrike">
              <a:solidFill>
                <a:srgbClr val="ffffff"/>
              </a:solidFill>
              <a:latin typeface="Times New Roman"/>
            </a:endParaRPr>
          </a:p>
          <a:p>
            <a:pPr marL="291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iabetes Self Management Training (SMT) NCD</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Medicare does not cover diabetes SMT for some diabetics because their disease is not described by ICD-9 codes 250.00-250.93.</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This issue was brought to the PRIT by a hospital reimbursement analyst.  The PRIT is discussing with the appropriate OCSQ staff the possibility of expanding SMT coverage to other forms of diabetes such as diabetes caused by pancreatectomy or due to hemochromatosis.</a:t>
            </a:r>
            <a:endParaRPr b="0" lang="en-US" sz="1500" spc="-1" strike="noStrike">
              <a:solidFill>
                <a:srgbClr val="ffffff"/>
              </a:solidFill>
              <a:latin typeface="Times New Roman"/>
            </a:endParaRPr>
          </a:p>
          <a:p>
            <a:pPr marL="291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ublic availability of NPI numbers</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Will there be an online directory for NPI? </a:t>
            </a:r>
            <a:endParaRPr b="0" lang="en-US" sz="1500" spc="-1" strike="noStrike">
              <a:solidFill>
                <a:srgbClr val="ffffff"/>
              </a:solidFill>
              <a:latin typeface="Times New Roman"/>
            </a:endParaRPr>
          </a:p>
          <a:p>
            <a:pPr marL="291600" indent="-2916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Legislation had to be passed to allow the UPIN directory to be available to the public.  Similar legislation has not been passed for the NPI directory.  Currently payers and providers will have to obtain NPI from referring physician which is burdensome. Feb 6: A notice describing the rules concerning NPI dissemination is in the clearance process. </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4A3C56B7-BC9A-4575-AA5C-48A394BA07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781680" y="6046920"/>
          <a:ext cx="1676520" cy="811080"/>
        </p:xfrm>
        <a:graphic>
          <a:graphicData uri="http://schemas.openxmlformats.org/presentationml/2006/ole">
            <p:oleObj r:id="rId1" spid="">
              <p:embed/>
              <p:pic>
                <p:nvPicPr>
                  <p:cNvPr id="168"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69" name="PlaceHolder 1"/>
          <p:cNvSpPr>
            <a:spLocks noGrp="1"/>
          </p:cNvSpPr>
          <p:nvPr>
            <p:ph/>
          </p:nvPr>
        </p:nvSpPr>
        <p:spPr>
          <a:xfrm>
            <a:off x="762120" y="21960"/>
            <a:ext cx="8285040" cy="4778280"/>
          </a:xfrm>
          <a:prstGeom prst="rect">
            <a:avLst/>
          </a:prstGeom>
          <a:noFill/>
          <a:ln w="0">
            <a:noFill/>
          </a:ln>
        </p:spPr>
        <p:txBody>
          <a:bodyPr lIns="92160" rIns="92160" tIns="46080" bIns="46080" anchor="t">
            <a:normAutofit fontScale="88000"/>
          </a:bodyPr>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ffing Rural Health Clinics</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he American Academy of Family Physicians passed Resolution No. 505 which requests that CMS repeal the requirement that a midlevel practitioner be present at least 50% of the time a Rural Health Clinic is open.  </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We have researched the issue and found it is a legal requirement of the Social Security Act specifically Section 1861(aa)(2)(J) therefore removal of this requirement would require Congressional action.  </a:t>
            </a:r>
            <a:endParaRPr b="0" lang="en-US" sz="1500" spc="-1" strike="noStrike">
              <a:solidFill>
                <a:srgbClr val="ffffff"/>
              </a:solidFill>
              <a:latin typeface="Times New Roman"/>
            </a:endParaRPr>
          </a:p>
          <a:p>
            <a:pPr marL="301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AH Provider response time</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he American Academy of Family Physicians House of Delegates passed Resolution No. 515 in September. This resolution requests that CMS reevaluate the time requirement described in regulation 485.618, which can be found on the Federal Register website (</a:t>
            </a:r>
            <a:r>
              <a:rPr b="0" lang="en-US" sz="1500" spc="-1" strike="noStrike" u="sng">
                <a:solidFill>
                  <a:srgbClr val="ccccff"/>
                </a:solidFill>
                <a:uFillTx/>
                <a:latin typeface="Times New Roman"/>
                <a:hlinkClick r:id="rId3"/>
              </a:rPr>
              <a:t>www.gpoaccess.gov/fr/advanced.html</a:t>
            </a:r>
            <a:r>
              <a:rPr b="0" lang="en-US" sz="1500" spc="-1" strike="noStrike" u="sng">
                <a:solidFill>
                  <a:srgbClr val="ffffff"/>
                </a:solidFill>
                <a:uFillTx/>
                <a:latin typeface="Times New Roman"/>
              </a:rPr>
              <a:t>) This regulation requires that practitioners on staff at Critical Access Hospitals respond to emergency department patients within 30 minutes.  </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We are looking at ways we might modify the time requirement.</a:t>
            </a:r>
            <a:endParaRPr b="0" lang="en-US" sz="1500" spc="-1" strike="noStrike">
              <a:solidFill>
                <a:srgbClr val="ffffff"/>
              </a:solidFill>
              <a:latin typeface="Times New Roman"/>
            </a:endParaRPr>
          </a:p>
          <a:p>
            <a:pPr marL="301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rossover of Anesthesia Bills</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When the MCS system creates a crossover bill, it reports anesthesia times in units.  Some secondary payers pay for units rather then minutes and this leads to underpayments.  </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An anesthesia billing representative contacted the PRIT about this underpayment issue.  We are discussing possibly solutions with the carrier. </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Feb 14: The PRIT met today with the Medicaid Claims processor and the Anesthesia providers.  Resolution is forthcoming. </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9220F53A-D90F-4928-BC1C-AB7ECF137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837720" y="152280"/>
            <a:ext cx="8285400" cy="4778640"/>
          </a:xfrm>
          <a:prstGeom prst="rect">
            <a:avLst/>
          </a:prstGeom>
          <a:noFill/>
          <a:ln w="0">
            <a:noFill/>
          </a:ln>
        </p:spPr>
        <p:txBody>
          <a:bodyPr lIns="92160" rIns="92160" tIns="46080" bIns="46080"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Format of Remittance Notices to Physician Practices</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A physician practice found that the format of the remittance notice made it difficult to add up the PSA bonus payments made to each of the group's physicians. They would like to be able to have a report which aggregated payments by provider rather than by date of service.  </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CMS’ Office of Information Services is developing software which will allow providers to manipulate the data in the electronic remittance notice, it will also allow the office staff to convert the remittance notice to an excel spreadsheet. This software will be provided free of charge for Medicare participating providers. An October release date is expected and a Medlearn matters will provide more details. The PRIT will post more information here when this software becomes available.  </a:t>
            </a:r>
            <a:endParaRPr b="0" lang="en-US" sz="1500" spc="-1" strike="noStrike">
              <a:solidFill>
                <a:srgbClr val="ffffff"/>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October 11: CMS has released the Medicare Remit Easy Print software. The MREP software reads the electronic remittance advice (ERA), and providers can view and print the remittance advice in a human readable format that is based on the current Medicare paper format. In order to use the software, providers need to receive the ERA from their contractors or vendors. Providers are to go to their respective contractor web sites, and the CMS site is linked from the contractor sites for downloading the software.</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0A71421A-9F71-461C-A52F-ECAE38C27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837720" y="228240"/>
            <a:ext cx="8285400" cy="4778280"/>
          </a:xfrm>
          <a:prstGeom prst="rect">
            <a:avLst/>
          </a:prstGeom>
          <a:noFill/>
          <a:ln w="0">
            <a:noFill/>
          </a:ln>
        </p:spPr>
        <p:txBody>
          <a:bodyPr lIns="92160" rIns="92160" tIns="46080" bIns="46080"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Use of Macros in Teaching Documentation  </a:t>
            </a:r>
            <a:endParaRPr b="0" lang="en-US" sz="1500" spc="-1" strike="noStrike">
              <a:solidFill>
                <a:srgbClr val="ffffff"/>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re teaching physicians permitted to use Macros when dictating or typing their portion of the medical record?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6/23 The American Academy of Medical Colleges (AAMC) met with CMS policy experts and the PRIT.  The AAMC submitted language which they would like CMS to approve concerning this issue.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July 15  Final revisions are being made to a clarifying statement from CMS.  This will probably be incorporated into the manual because of the importance of this subject to teaching physicians.</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400" spc="-1" strike="noStrike">
                <a:solidFill>
                  <a:srgbClr val="ffffff"/>
                </a:solidFill>
                <a:latin typeface="Times New Roman"/>
              </a:rPr>
              <a:t>Jan 13: From Transmittal 811 (linked below): When using an electronic medical record, it is acceptable for the teaching physician to use a macro as the required personal documentation if the teaching physician adds it personally in a secured (password protected) system. In addition to the teaching physician’s macro, either the resident or the teaching physician must provide customized information that is sufficient to support a medical necessity determination. The note in the electronic medical record must sufficiently describe the specific services furnished to the specific patient on the specific date. It is insufficient documentation if both the resident and the teaching physician use macros only.Physically Present - The teaching physician is located in the same room (or partitioned or curtained area, if the room is subdivided to accommodate multiple patients) as the patient and/or performs a face-to-face service. </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21F62A8F-238A-4C19-A05D-E388BA96E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58960" y="304560"/>
            <a:ext cx="8285040" cy="4778280"/>
          </a:xfrm>
          <a:prstGeom prst="rect">
            <a:avLst/>
          </a:prstGeom>
          <a:noFill/>
          <a:ln w="0">
            <a:noFill/>
          </a:ln>
        </p:spPr>
        <p:txBody>
          <a:bodyPr lIns="92160" rIns="92160" tIns="46080" bIns="46080"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an hospitals provide Continuing Medical Education?</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A member of the Practicing Physicians Advisory Council asked the PRIT whether hospitals can provide free CME to members of their medical staff.</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The Stark rule addresses hospital services to physicians in section 411.357(m) and 411.357(k).  If CMS can create an exception for CME, hospitals would be more likely to provide this important service.  CMS is exploring various options.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ne 29: The AMA has written a letter to Dr. McClellan expressing their concerns about this issue.</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ly 15: Staff is preparing a response to the AMA letter.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October 25: Final response to the AMA is still in internal review.</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Electronic Resubmission of Denied Claims</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ransmittal 104 released by CMS on February 11, 2005 places certain restrictions on the electronic resubmission claims. Claims are sometimes denied because the person preparing the claim forgets to include the ICD-9 code necessary to allow Medicare to cover the service. The claim is denied based on the absence of that ICD-9. Providers feel that in this particular case requiring that the corrected claim be submitted in paper would be burdensome and expensive for both the doctor's office and the Medicare Carrier. </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We have discussed the issue with appropriate staff and they are considering language which would permit these resubmissions.</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0AD2187F-1732-4671-A138-9398FEF9B9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2640" y="-360"/>
            <a:ext cx="8285040" cy="4778280"/>
          </a:xfrm>
          <a:prstGeom prst="rect">
            <a:avLst/>
          </a:prstGeom>
          <a:noFill/>
          <a:ln w="0">
            <a:noFill/>
          </a:ln>
        </p:spPr>
        <p:txBody>
          <a:bodyPr lIns="92160" rIns="92160" tIns="46080" bIns="46080" anchor="t">
            <a:normAutofit fontScale="83000"/>
          </a:bodyPr>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larifying the rules concerning volunteer Graduate Medical Education</a:t>
            </a:r>
            <a:endParaRPr b="0" lang="en-US" sz="1500" spc="-1" strike="noStrike">
              <a:solidFill>
                <a:srgbClr val="ffffff"/>
              </a:solidFill>
              <a:latin typeface="Times New Roman"/>
            </a:endParaRPr>
          </a:p>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eaching physicians feel that the rules concerning the use of volunteer faculties are unclear and difficult to implement.</a:t>
            </a:r>
            <a:endParaRPr b="0" lang="en-US" sz="1500" spc="-1" strike="noStrike">
              <a:solidFill>
                <a:srgbClr val="ffffff"/>
              </a:solidFill>
              <a:latin typeface="Times New Roman"/>
            </a:endParaRPr>
          </a:p>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April 14: CMS met this week with a group of teaching physicians and encouraged them to provide us with specific examples so that we can clarify CMS policy.</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ne 29: 112 members of Congress sent a letter to Dr. McClellan about this issue.  In his letter of reply, he committed to a new set of Frequently Asked Questions and an in depth review of our audit procedures concerning teaching physicians.</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Feb 14: In the past two weeks The PRIT and the director of CMM have met with the AOA, the Academic Family Medicine Advocacy Alliance, and with the American Academy of Family Physicians to discuss this issue. </a:t>
            </a:r>
            <a:endParaRPr b="0" lang="en-US" sz="1500" spc="-1" strike="noStrike">
              <a:solidFill>
                <a:srgbClr val="ffffff"/>
              </a:solidFill>
              <a:latin typeface="Times New Roman"/>
            </a:endParaRPr>
          </a:p>
          <a:p>
            <a:pPr marL="2844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RVUs for Pediatric Codes  </a:t>
            </a:r>
            <a:endParaRPr b="0" lang="en-US" sz="1500" spc="-1" strike="noStrike">
              <a:solidFill>
                <a:srgbClr val="ffffff"/>
              </a:solidFill>
              <a:latin typeface="Times New Roman"/>
            </a:endParaRPr>
          </a:p>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American Academy of Pediatrics would like CMS to publish RVUs for pediatric codes that have an "N modifier" in the physician rule.  </a:t>
            </a:r>
            <a:endParaRPr b="0" lang="en-US" sz="1500" spc="-1" strike="noStrike">
              <a:solidFill>
                <a:srgbClr val="ffffff"/>
              </a:solidFill>
              <a:latin typeface="Times New Roman"/>
            </a:endParaRPr>
          </a:p>
          <a:p>
            <a:pPr marL="284400" indent="-28440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We are exploring the implementation of this with appropriate CMS staff.  </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May 6: We met with the American Academy of Pediatrics and they will comment in support of this change in the Physician rule which is normally released in November.  </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ly 15: The proposed rule should be released soon.  This will be the appropriate time for comments.  </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September 1: CMS released the Proposed Physician Fee Schedule today.  This proposed rule does list values for the four codes (90467, 90468, 90473, and 90474) as the AAP had requested.  The proposed rule can be found here. </a:t>
            </a:r>
            <a:endParaRPr b="0" lang="en-US" sz="1500" spc="-1" strike="noStrike">
              <a:solidFill>
                <a:srgbClr val="ffffff"/>
              </a:solidFill>
              <a:latin typeface="Times New Roman"/>
            </a:endParaRPr>
          </a:p>
          <a:p>
            <a:pPr marL="284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ugust 8: The AAP has contacted the PRIT regarding additional codes they would like valued in the rule.  CPT codes 99173 (Vision screening) and 92551 (Hearing screening) did not have their RVUs published in the 2006 proposed physician fee schedule. The AAP will request that they be listed in the final rule.  </a:t>
            </a: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7F1735AF-CF23-4EDF-80CF-BB8B7195E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52280"/>
            <a:ext cx="8153280" cy="4778640"/>
          </a:xfrm>
          <a:prstGeom prst="rect">
            <a:avLst/>
          </a:prstGeom>
          <a:noFill/>
          <a:ln w="0">
            <a:noFill/>
          </a:ln>
        </p:spPr>
        <p:txBody>
          <a:bodyPr lIns="92160" rIns="92160" tIns="46080" bIns="46080" anchor="t">
            <a:normAutofit fontScale="88000"/>
          </a:bodyPr>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ASP problems  </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We have been contacted repeatedly by physicians who believe that some of our payments are incorrect.  </a:t>
            </a:r>
            <a:endParaRPr b="0" lang="en-US" sz="1500" spc="-1" strike="noStrike">
              <a:solidFill>
                <a:srgbClr val="ffffff"/>
              </a:solidFill>
              <a:latin typeface="Times New Roman"/>
            </a:endParaRPr>
          </a:p>
          <a:p>
            <a:pPr marL="301680" indent="-3016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We are reviewing the entire list of ASP prices for accuracy and expect to release a corrected list within two months. CMS is very aware of the impact this has on practices. We are working aggressively to correct the errors.  We are working with manufacturer to try to improve the usefulness of the reported ASP data. Meanwhile, we’d like to continue to hear from providers who are having difficulties finding specific drugs at ASP+6.</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pril 8: We have received information from providers about prices for IVIG, IV fluid, antibiotics, and some chemotherapeutic agents. After verifying the information the PRIT has passed it to the group responsible for maintaining the ASP price list. We continue to invite providers to let us know about specific pricing problems.</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July 18: One manufacturer discovered a math error which led to a price that was $360 lower then it should have been.  The correction was only possible because a provider let the PRIT know they were having difficulties obtaining that drug at ASP+6.</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September 29: The large gaps between ASP and market prices seen when the program began have mostly disappeared.  We actively solicit input from physicians concerning any ASP problems they are experiencing.  </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November 2: CMS is establishing a temporary add-on payment to cover the additional preadministration-related services required to locate and acquire adequate IVIG product and prepare for an infusion of IVIG during this current period of market instability. CMS has determined that the pricing for IVIG is accurate, and that there is no overall product shortage. For calendar year 2006 only, providers will be permitted to bill this add-on code. For more details, read the 2006 Physician Fee Schedule CMS-1325-IFC3</a:t>
            </a:r>
            <a:endParaRPr b="0" lang="en-US" sz="1500" spc="-1" strike="noStrike">
              <a:solidFill>
                <a:srgbClr val="ffffff"/>
              </a:solidFill>
              <a:latin typeface="Times New Roman"/>
            </a:endParaRPr>
          </a:p>
          <a:p>
            <a:pPr marL="30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Feb 6:  We continue to invite comments from physicians having problems with ASP.  </a:t>
            </a:r>
            <a:endParaRPr b="0" lang="en-US" sz="1500" spc="-1" strike="noStrike">
              <a:solidFill>
                <a:srgbClr val="ffffff"/>
              </a:solidFill>
              <a:latin typeface="Times New Roman"/>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 name="PlaceHolder 2"/>
          <p:cNvSpPr>
            <a:spLocks noGrp="1"/>
          </p:cNvSpPr>
          <p:nvPr>
            <p:ph type="sldNum" idx="3"/>
          </p:nvPr>
        </p:nvSpPr>
        <p:spPr/>
        <p:txBody>
          <a:bodyPr/>
          <a:p>
            <a:fld id="{D5C1BD5D-9ECC-4686-9659-440818167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6-03-01T21:14:10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5237841</vt:r8>
  </property>
  <property fmtid="{D5CDD505-2E9C-101B-9397-08002B2CF9AE}" pid="3" name="_AuthorEmail">
    <vt:lpwstr>William.Rogers@cms.hhs.gov</vt:lpwstr>
  </property>
  <property fmtid="{D5CDD505-2E9C-101B-9397-08002B2CF9AE}" pid="4" name="_AuthorEmailDisplayName">
    <vt:lpwstr>Rogers, William D. (CMS/OEA)</vt:lpwstr>
  </property>
  <property fmtid="{D5CDD505-2E9C-101B-9397-08002B2CF9AE}" pid="5" name="_EmailSubject">
    <vt:lpwstr>PPAC  Mar 6.ppt</vt:lpwstr>
  </property>
  <property fmtid="{D5CDD505-2E9C-101B-9397-08002B2CF9AE}" pid="6" name="_NewReviewCycle">
    <vt:lpwstr/>
  </property>
  <property fmtid="{D5CDD505-2E9C-101B-9397-08002B2CF9AE}" pid="7" name="_ReviewingToolsShownOnce">
    <vt:lpwstr/>
  </property>
</Properties>
</file>