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3DA7-BE58-41ED-9113-A7CA2C468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E030-B72D-4EE5-9C93-9FFD52375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9B3F-0DC2-43C6-A05C-D7E28F4DB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2394-9FCE-4D13-8AB9-35C246CF6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98F0-84D3-4BCF-8CBF-70008ABC8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2292-4A84-4963-9D1E-B284EB208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C15A-020B-47F2-AC45-7ADB8B6DE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54A7-F44B-452D-84D0-A23101407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44BE-1B04-4E6D-A6AF-DF448A77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551B-4175-424C-87F6-969B521B6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3233-188E-48D2-8D86-2A2128084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A024-9ED3-436C-AFB5-025BA1451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8363-DBAA-4215-A6F5-597CB546B793}" type="slidenum"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cpsstudy.org/" TargetMode="External"/><Relationship Id="rId2" Type="http://schemas.openxmlformats.org/officeDocument/2006/relationships/hyperlink" Target="http://www.cms.hhs.gov/providers/mcpss" TargetMode="External"/><Relationship Id="rId3" Type="http://schemas.openxmlformats.org/officeDocument/2006/relationships/hyperlink" Target="http://www.cms.hhs.gov/providers/mcps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ww.mcpsstudy.org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Rounded MT Bold"/>
              </a:rPr>
              <a:t>Medicare Contractor Provider Satisfaction Survey (MCPSS)</a:t>
            </a:r>
            <a:endParaRPr b="0" lang="en-US" sz="36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43434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March 6, 2006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National Implem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utreach with Physician grou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test completion rat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Contractor ty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Carrie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6BFF-EB33-4C54-8D03-F333EFEDC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ompletion Rates by Contractor Typ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981080"/>
          <a:ext cx="6934320" cy="4313520"/>
        </p:xfrm>
        <a:graphic>
          <a:graphicData uri="http://schemas.openxmlformats.org/drawingml/2006/table">
            <a:tbl>
              <a:tblPr/>
              <a:tblGrid>
                <a:gridCol w="2320920"/>
                <a:gridCol w="1739880"/>
                <a:gridCol w="1959120"/>
                <a:gridCol w="914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0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arr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H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MER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8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2952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February 27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BF42-C512-41D7-A143-0E7A5E355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Part B Completion Rates 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981080"/>
          <a:ext cx="6934320" cy="4038840"/>
        </p:xfrm>
        <a:graphic>
          <a:graphicData uri="http://schemas.openxmlformats.org/drawingml/2006/table">
            <a:tbl>
              <a:tblPr/>
              <a:tblGrid>
                <a:gridCol w="2320920"/>
                <a:gridCol w="1739880"/>
                <a:gridCol w="1959120"/>
                <a:gridCol w="914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hysici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the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8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2952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February 27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5867280"/>
            <a:ext cx="518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Independent Diagnostic testing facility, ambulance, among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672F-C791-41CF-8AB3-DDBE92E33E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Strategies to Improve Response Rates</a:t>
            </a:r>
            <a:endParaRPr b="1" lang="en-US" sz="2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dorse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rade Pr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MS Provider Communications Channe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lephone Conta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CBD7-A01D-4C5A-A395-B3F20F57AC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Importance of MCPS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How CMS Will Use the Results</a:t>
            </a:r>
            <a:endParaRPr b="0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8640" y="37339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lan Constantian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eputy Director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Medicare Contractor Management Group, Center for Medicare Management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mportance of MCPS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ntitative and methodologically sou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form measure of performa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tional samp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ducted annual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cus on key stakeholde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7394-8C4F-478B-9C7C-E0B455182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w will CMS use the Result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stablish baseline performance on key contractor performance elements from the provider perspectiv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dentify national areas of strength and weaknes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sist in localized process improvement effor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nitor/Assess Performance on Dashboar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ssible Award Fee Pla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F572-2870-4E91-93FA-D35419A41B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CPSS Contact Inform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CPSS Provider Helpline at Westat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cpss@westat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oshua Rubin:1-888-863-356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M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ladys Valentin: Gladys.Valentin@cms.hhs.go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va Tetteyfio: Eva.Tetteyfio@cms.hhs.go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r updates on the MCPS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- available on your secure page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cpsstudy.or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ms.hhs.gov/mcp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1BAB-5CB6-4E31-AC85-5587F55FD3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We need your input 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uld you give us some idea of who would respond at Physician’s practices-the Physician, office manager, some one els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should we do to increase the saliency of this survey among the Physician community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methods work best to obtain a response from Physicians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F9E1-5347-480B-955F-D5CB3B4A8A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CPSS Overview</a:t>
            </a:r>
            <a:endParaRPr b="0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9000" y="342900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avid Clark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rector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vision of Provider Relations and Evaluations, Provider Communications Group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We need your input 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uld you give us some idea of who would respond at Physician’s practices-the Physician, office manager, some one els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should we do to increase the saliency of this survey among the Physician community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methods work best to obtain a response from Physicians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FADB-0C86-401A-96C7-EF22AB6D0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Overview of Pres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CPSS Overvie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CPSS National Implement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ssons Learned from MCPSS Pilo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ortance of MCPS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 will CMS use the Resul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2A8F-2F30-4741-8AD8-6194D9A99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Background on MCPS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MA Requir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ed for an objective measure of provider satisf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imary goals of MCP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ur joint commitment to provi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5F34-896F-4872-838D-77D6F92BA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CPSS National Implementation</a:t>
            </a: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ample of ~25,000 Provi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s all Medicare FFS Contracto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ata Collection started on Jan 3, 200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llow-up with non-responders through April 2006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6007-CF05-423D-BAE9-2FB26C3DA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equirements for FFS Contractor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utreach with Provi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ia their web sites, list serves, bulletins, newsletters, etc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sseminate information at meeting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dia kit is available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mcpsstudy.or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6F7C-641C-4828-A5D5-6AE63E9CA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imeline of Key Activitie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1676520"/>
          <a:ext cx="7620120" cy="3961800"/>
        </p:xfrm>
        <a:graphic>
          <a:graphicData uri="http://schemas.openxmlformats.org/drawingml/2006/table">
            <a:tbl>
              <a:tblPr/>
              <a:tblGrid>
                <a:gridCol w="5186520"/>
                <a:gridCol w="2433600"/>
              </a:tblGrid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inks from on Contractor Web sites to MCPSS web page at: www.cms.hhs.gov/providers/mcpss and www.mcpsstudy.or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y December 15, 2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ata collection Star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January 3,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ata collection reports and study updates are avail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eginning January 15,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essages on IVR or ACD systems and SPR notices to encourage provider participation surv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February 1 2006 throu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pril 15,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ata collection Clos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pril 28,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Results available via online reporting syst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Early July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8883-4BAE-44E2-9A4E-EB9F1EC92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Current  Experience with National Implementation</a:t>
            </a:r>
            <a:endParaRPr b="0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9000" y="37335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Vasudha Narayanan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MCPSS Project Director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Westat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8:12:29Z</dcterms:created>
  <dc:creator>CMS</dc:creator>
  <dc:description/>
  <dc:language>en-US</dc:language>
  <cp:lastModifiedBy>CMS</cp:lastModifiedBy>
  <cp:lastPrinted>2006-02-28T21:32:29Z</cp:lastPrinted>
  <dcterms:modified xsi:type="dcterms:W3CDTF">2006-03-01T21:18:07Z</dcterms:modified>
  <cp:revision>42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4776145</vt:r8>
  </property>
  <property fmtid="{D5CDD505-2E9C-101B-9397-08002B2CF9AE}" pid="3" name="_AuthorEmail">
    <vt:lpwstr>Gladys.Valentin@cms.hhs.gov</vt:lpwstr>
  </property>
  <property fmtid="{D5CDD505-2E9C-101B-9397-08002B2CF9AE}" pid="4" name="_AuthorEmailDisplayName">
    <vt:lpwstr>Valentin, Gladys (CMS/CMM)</vt:lpwstr>
  </property>
  <property fmtid="{D5CDD505-2E9C-101B-9397-08002B2CF9AE}" pid="5" name="_EmailSubject">
    <vt:lpwstr>PPAC MCPSS slides by 10 am tomorrow????</vt:lpwstr>
  </property>
  <property fmtid="{D5CDD505-2E9C-101B-9397-08002B2CF9AE}" pid="6" name="_NewReviewCycle">
    <vt:lpwstr/>
  </property>
  <property fmtid="{D5CDD505-2E9C-101B-9397-08002B2CF9AE}" pid="7" name="_PreviousAdHocReviewCycleID">
    <vt:r8>740692751</vt:r8>
  </property>
  <property fmtid="{D5CDD505-2E9C-101B-9397-08002B2CF9AE}" pid="8" name="_ReviewingToolsShownOnce">
    <vt:lpwstr/>
  </property>
</Properties>
</file>