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910DE-B672-409F-8612-D9F43A3E6C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F25A0-EE08-4F7D-8AE4-E9AACD8885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34688-4AAA-4C90-AB51-16D0C83F51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0C03F-0AC0-43C8-A03D-89FE656586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F19B1-0BB9-441A-9144-67367254A9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E2355-83FA-47EA-AB2A-EFEE057A11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CE988-81DD-4E97-8EE1-582DABF0F6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86CF2-7D08-402D-9EC2-00D9F565B7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0E4AC-63B8-47C0-8223-6BF90E6D55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A9238-BC4E-4763-A771-F6D8A8277C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4BD4C-FA1E-4F60-909F-DEFD3D4DF6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96F24-D72A-4E03-9125-0F854657FE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819520" y="624852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777777"/>
                </a:solidFill>
                <a:latin typeface="Arial"/>
              </a:rPr>
              <a:t>Procurement Sens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06F6-63D5-477B-AB09-84E71A65C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RecoveryAuditDemo@cms.hhs.gov" TargetMode="External"/><Relationship Id="rId2" Type="http://schemas.openxmlformats.org/officeDocument/2006/relationships/hyperlink" Target="mailto:RecoveryAuditDemo@cms.hhs.gov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 </a:t>
            </a: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RAC Update</a:t>
            </a:r>
            <a:br>
              <a:rPr sz="4400"/>
            </a:br>
            <a:r>
              <a:rPr b="0" lang="en-US" sz="2000" spc="-1" strike="noStrike">
                <a:solidFill>
                  <a:srgbClr val="003399"/>
                </a:solidFill>
                <a:latin typeface="Berlin Sans FB"/>
              </a:rPr>
              <a:t>Connie Leon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Berlin Sans FB"/>
              </a:rPr>
              <a:t>Melanie Com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441972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Practicing Physicians Advisory Counc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March 6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16400" y="2058840"/>
          <a:ext cx="3657600" cy="1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6400" y="2058840"/>
                    <a:ext cx="365760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MEDICARE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2C3A3-8B83-4165-8FDF-D8F1C1A07FC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At the December PPAC Meeting…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600200"/>
            <a:ext cx="73915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Jerry and Melani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gave PPAC an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update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on the RAC demonstr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Raised the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underpayments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issue:  Whether and how CMS could incentivize RACs for finding underpay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PAC recommended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MS find an incentive for RACS to identify underpay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MS brief the contractor medical directors about the RAC demon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1B318-9BC0-4482-92DB-2C795A4096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Underpayment Update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MS has modified the RAC contracts to pay RACs the same contingency fee for finding underpayments as they get for finding overpay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e contingency fee for underpayments will be paid out of CMS RAC demo administrative                                           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9880" y="4343400"/>
            <a:ext cx="2476800" cy="2344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108760" y="5530680"/>
            <a:ext cx="60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u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22560" y="509256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8280" y="54100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5120" y="5791320"/>
            <a:ext cx="1828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NOTE: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ie pieces” are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drawn to sca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FB411-626F-4DE3-AE1F-9D1FE1B562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CMD Update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MS briefed the Contractor Medical Directors of th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DMER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Q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n California, Florida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2B05E-3CED-434B-9D81-141BD005BC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Contact Information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CMS 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2"/>
              </a:rPr>
              <a:t>RecoveryAuditDemo@cms.hhs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note:  there is a [space] after “CMS” and before “RecoveryAuditDemo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3941C-7566-4C2D-8820-564D48FD10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15:25:08Z</dcterms:created>
  <dc:creator>CMS</dc:creator>
  <dc:description/>
  <dc:language>en-US</dc:language>
  <cp:lastModifiedBy>CMS</cp:lastModifiedBy>
  <dcterms:modified xsi:type="dcterms:W3CDTF">2006-03-01T21:10:08Z</dcterms:modified>
  <cp:revision>171</cp:revision>
  <dc:subject/>
  <dc:title>Medicare Contracting Reform:  Report to Cong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38697303</vt:r8>
  </property>
  <property fmtid="{D5CDD505-2E9C-101B-9397-08002B2CF9AE}" pid="3" name="_AuthorEmail">
    <vt:lpwstr>Connie.Leonard@cms.hhs.gov</vt:lpwstr>
  </property>
  <property fmtid="{D5CDD505-2E9C-101B-9397-08002B2CF9AE}" pid="4" name="_AuthorEmailDisplayName">
    <vt:lpwstr>Leonard, Connie L. (CMS/OFM)</vt:lpwstr>
  </property>
  <property fmtid="{D5CDD505-2E9C-101B-9397-08002B2CF9AE}" pid="5" name="_EmailSubject">
    <vt:lpwstr>PPAC Presentations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