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8827-C0FC-423B-8D8B-C43D8A3BE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E8E0-CA3D-46E1-9BD6-40595201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7ABB-7F9F-4610-8333-72E318DD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C98-016D-43AF-AE7D-8A82F7DAA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A89C-CD99-4B9E-BEF6-767A79BB0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ABFA-365B-46BB-AC9A-D727645AF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9E90-B920-40B2-A8B6-B8F79294B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E751-884C-408C-B40C-8F8346266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BF3-03D9-41CF-96DF-A704BFE72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BAC4-D3BB-4F74-9724-298E3117C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9339-4363-4AB1-AC8B-7AB02F52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A883-614A-4CB2-874B-96F2D934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ADF4-AED2-4078-A9C2-DC7FF732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053-E4AF-457E-A63A-33052BF5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7BDB5-4467-4F0D-8CB1-A3165B3D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29CD-AD11-4A65-9B88-BFA60209E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D0D2C-65CA-4312-8931-81E79C279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D60-054D-4718-BDFA-857176B78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F35-ECB0-43C1-9231-16B9936C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8B49-5B81-42ED-9F39-3AF81B1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A8E6-00F4-4DBA-88F7-657A63E96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FE40-FB3F-4C22-A69B-17C5019F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7A03-11B8-4583-AA22-28B202CA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5803-82A7-48F4-86A0-83D5B834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833D-A3EE-48A2-85A0-0303F7372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4146-56C0-4281-AC23-6F8DBAC00A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art B Dru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Competitive Acquisition Progra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2006 Proposed Rule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Don Thomps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62BC-4E81-4772-B8D3-D710D4A83C7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Drug Categories and Geographic Area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tential drug categ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ysician administered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Drugs commonly furnished by a physician special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Other Medicare Part B dru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ase-i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otential geographic are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ational, regional, statew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hase-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7E92-196C-46D6-8AA4-D8E8AB316A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ompetitive Bidding Proces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vendor wishing to participate in the competitive acquisition program would submit a bid to Medicare for supplying the drug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 vendor would first have to demonstrate that it meets rigorous standards set out in the proposed regulation for quality, program integrity, financial stability, and servi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fter meeting those standards, winning vendors would be selected based on their bid pric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0" y="60469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60469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3647-AB42-4197-B3D7-85AF4FC456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Standards for Bid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standards in the proposed rule includ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cquire drugs directly from the manufacturer (or from an entity that acquired the drugs directly from the manufacturer)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be licensed to distribute drugs in every state in which they are bidding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ve the capacity to ship 5 days per week and in emergency situation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upply audited financial statement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have at least 3 years experience distributing Medicare Part B drug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A519-1828-4D52-82CC-7CD82E2F45C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Number of Winning Bidder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propose to select up to five bidders for a drug category in each competitive bidding are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e propose to exclude vendors with prices higher than 106 percent of the weighted ASP of the drugs in that categor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8AE-7B82-41FC-B996-69D53F14C0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Claims Processing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762012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F50F-F3D0-4240-877F-3F378095E4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Verification of Drug Administr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We propose that the physician could place an order for a beneficiary's entire course of treatment at one time however; the vendor may split the order into appropriately spaced shipments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physician would have the ability to modify the course of treatment and submit a separate order as necessa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e vendor would create a separate tracking numbers for each shipment and the physician would place the appropriate tracking numbers on the drug administration claim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ur claims processing system would use the tracking number to match the two claims and authorize payment to the vendor.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2AE-5FD0-48EB-B7A0-7C0A0C13B95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Lia Prel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054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CPrela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DA9-01E4-402D-BC6F-E67E08847F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3-03T23:59:37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8959730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