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97688" cy="91836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6897600" cy="918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61720" y="69372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9080" y="436248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5236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9080" y="4361040"/>
            <a:ext cx="5058000" cy="413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Studies have shown that a relatively small number of beneficiaries with certain chronic illnesses -- including asthma, diabetes, congestive heart failure and related cardiac conditions, hypertension, coronary artery disease, cardiovascular and cerebrovascular conditions, and chronic lung disease -- account for a disproportionate share of Medicare expenditures. Patients with these conditions typically receive fragmented health care across multiple providers and multiple sites of care and require repeated costly hospitalization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52360" y="689040"/>
            <a:ext cx="4591080" cy="3443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9040" y="4362480"/>
            <a:ext cx="5518080" cy="413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Comments on scenarios: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ospital 1 realizes additional Medicare payment in each of the three years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Book Antiqua"/>
              </a:rPr>
              <a:t>Hospital 2 realizes additional Medicare payment in second and third years only.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EF2-5B8B-47E4-860D-68D29C0AD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C93-05EC-4E1E-B1D3-EF10A3C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88B8-202A-4067-8E4D-7CB42ADE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0BF-8194-484B-A886-69732D6B6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5A4CD-8099-4018-859D-FF22EB07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2D9F0-B1C3-4099-8431-04E8FCA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2DE4-C1CB-4E9F-A9A1-83BC3F5E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D50D-9550-420D-A26C-B7C12D5A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0A8F-403D-4F77-AC02-6F5058D88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1BE22-E01B-488D-BAEC-C0F38830E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35CB-3EE9-4C02-9DE3-3BE162D4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C11A-4111-4560-A5FE-688542C02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2ACAF-2573-4A7C-A983-C685081C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93F0-51B3-4553-9B33-BEC4EA04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40E2-A6D1-4C78-901A-4FE445339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D243-5174-4522-A7D3-A5FA37D1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8017-5EFB-4403-9909-A6FF88B1A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588A-4DE6-427E-8788-9E4ACB7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0587-9B5C-4425-8BB8-0F293D8B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C0E6-AE0D-44B9-A0A4-F7DF3CED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BA5A-8302-40D9-8605-6E94522E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6255-864C-4E45-87F4-B69DE9E69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4D8-F99E-43C7-8543-CD506D81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7AA2-0223-4A7F-B8CC-08BF53B4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79A5-41AF-4EDD-BBBC-79DA08325A58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ffffff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6E2E-247D-445F-8B7A-86A6C6D71B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660066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1c1c1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1c1c1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brainyquote.com/quotes/authors/w/winston_churchill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bhcag.com/vertical/Sites/%7B887602D0-6B1A-468C-B400-ED58BF42138D%7D/uploads/%7B77153114-AD41-4F04-B7D0-9800A59B9473%7D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quotationspage.com/quotes/Laurence_J._Peter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mailto:thaywood@cms.hhs.gov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10666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3333ff"/>
                </a:solidFill>
                <a:latin typeface="Arial"/>
              </a:rPr>
              <a:t>Strategies Today for Superior Health Care Tomorro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-360" y="3504960"/>
            <a:ext cx="762012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Trent T. Haywood, MD, J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Acting Deputy Chief Medical Officer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C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c1c1c"/>
                </a:solidFill>
                <a:latin typeface="Arial"/>
              </a:rPr>
              <a:t>February 9, 200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44751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A2A-46A4-4ACE-A4D7-AE973BF6EE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 Payment Problem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A relatively small number of people with certain chronic illnesses -- including diabetes, hypertension, and cardiovascular and cerebrovascular conditions-- account for a disproportionate share of Medicare expenditures.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5% of enrollees consume 47% of the dollars and 50% only consume 2% of the dollars (CBO, 2002)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B57F-CBB2-4AF2-ACB8-6717EC4F315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Another Payment Problem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31880" y="1330200"/>
          <a:ext cx="5880240" cy="4199040"/>
        </p:xfrm>
        <a:graphic>
          <a:graphicData uri="http://schemas.openxmlformats.org/drawingml/2006/table">
            <a:tbl>
              <a:tblPr/>
              <a:tblGrid>
                <a:gridCol w="2254320"/>
                <a:gridCol w="1003320"/>
                <a:gridCol w="806400"/>
                <a:gridCol w="888840"/>
                <a:gridCol w="927360"/>
              </a:tblGrid>
              <a:tr h="515880">
                <a:tc gridSpan="3"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Arial"/>
                        </a:rPr>
                        <a:t>TOTAL MEDICARE PAYMENTS FOR PQI HOSPITALIZATIONS, 1995 AND 200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Year 200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Payments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5% Saving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0% Saving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0% Saving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ONGESTIVE HEART FAILURE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,829,131,29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91,456,565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82,913,130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65,826,25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BACTERIAL PNEUMONIA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,083,086,3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4,154,31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08,308,63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16,617,27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COPD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,767,023,93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88,351,19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76,702,394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53,404,78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IABETES LONG TERM COMPLIC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947,957,16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47,397,858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94,795,71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89,591,43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URINARY INFEC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869,616,05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43,480,80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86,961,60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73,923,21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EHYDR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55,833,815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7,791,69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5,583,38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1,166,7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LOWER EXTREMITY AMPUT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43,469,31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2,173,46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4,346,93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8,693,8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DULT ASTHMA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08,802,01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,440,10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0,880,20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1,760,40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PERFORATED APPENDIX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9,726,461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,486,32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972,64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5,945,29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ANGINA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0,711,63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,035,58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071,1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4,142,32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HYPERTENS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0,096,630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,004,83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009,663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4,019,326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IABETES SHORT TERM COMPLICATION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09,323,970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5,466,19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0,932,39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1,864,794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DIABETES UNCONTROLLED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7,422,58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3,871,12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7,742,25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5,484,51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2,762,201,247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638,110,062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1,276,220,125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360" rIns="90360" tIns="44280" bIns="4428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2,552,440,249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1320">
                <a:tc gridSpan="5">
                  <a:txBody>
                    <a:bodyPr lIns="90360" rIns="90360" tIns="44280" bIns="4428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Notes: Includes hospitalizations among FFS Medicare beneficiaries for AHRQ PQI measures. Dollars are nominal dollars.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b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5C2F-5D16-47BF-B729-CF0CE28BDB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imes New Roman"/>
              </a:rPr>
              <a:t>A Variation Problem</a:t>
            </a:r>
            <a:br>
              <a:rPr sz="4000"/>
            </a:b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209680" y="1728720"/>
            <a:ext cx="5029200" cy="4919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2594520" y="3201840"/>
            <a:ext cx="3954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Dartmouth Atlas of Healthcare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348E-DE4A-4024-86FD-E9917B0666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3470040" cy="498780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3962520" y="990720"/>
            <a:ext cx="318456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9CCF-4C25-4918-BD4D-E1F1398533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3558960" cy="26668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114800" y="1447920"/>
            <a:ext cx="3489480" cy="278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62B-2E01-4213-BE66-46F4772815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2589840"/>
            <a:ext cx="6705720" cy="15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You can always count on Americans to do the right thing - after they've tried everything else. </a:t>
            </a:r>
            <a:br>
              <a:rPr sz="2400"/>
            </a:b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inston Churchill</a:t>
            </a:r>
            <a:br>
              <a:rPr sz="2400"/>
            </a:b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DCB5-CD2C-4FD5-B175-972B3586FD3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2982960" cy="40384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590920" y="2209680"/>
            <a:ext cx="5257800" cy="40388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3653640" y="1447920"/>
            <a:ext cx="278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imes New Roman"/>
              </a:rPr>
              <a:t>Current Environment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4923-1F13-433B-B4E7-1D01C0C387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imes New Roman"/>
              </a:rPr>
              <a:t>Current Environment</a:t>
            </a:r>
            <a:endParaRPr b="0" lang="en-US" sz="32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19320" y="2588400"/>
            <a:ext cx="6248160" cy="30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NCQA, ABIM TO ALIGN REQUIREMENTS, SHARE DATA; AGREEMENT WILL ALLOW JOINT APPLICATION FOR MAINTAINING BOARD CERTIFICATION, RECOGNITION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Agreement with American Board of Internal Medicine reduces redundancy for physicians seeking recognition from NCQA and its partners 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6D2-9F4B-438F-A9F4-2644015C14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1293480"/>
            <a:ext cx="53341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California’s Pay for Performance Program for Doctors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Announces First Year Results: Estimated $50 Million Bonus Payout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65800" y="1168560"/>
            <a:ext cx="3214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Current Environ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447920" y="3581280"/>
            <a:ext cx="4952880" cy="23878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19440" y="3065400"/>
            <a:ext cx="17859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-43920" bIns="-43920" anchor="ctr">
            <a:sp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94" name="%7B77153114-AD41-4F04-B7D0-9800A59B9473%7D_Web" descr="For Better Health Car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38680" y="2819520"/>
            <a:ext cx="1905120" cy="426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5" name=""/>
          <p:cNvGraphicFramePr/>
          <p:nvPr/>
        </p:nvGraphicFramePr>
        <p:xfrm>
          <a:off x="5562720" y="2666880"/>
          <a:ext cx="1785960" cy="83808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515880">
                <a:tc>
                  <a:txBody>
                    <a:bodyPr lIns="90360" rIns="90360" tIns="44280" bIns="4428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2200">
                <a:tc>
                  <a:txBody>
                    <a:bodyPr lIns="90360" rIns="90360" tIns="44280" bIns="442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1c1c1c"/>
                          </a:solidFill>
                          <a:latin typeface="Arial"/>
                          <a:ea typeface="Times New Roman"/>
                        </a:rPr>
                        <a:t>For Better Health Care</a:t>
                      </a:r>
                      <a:endParaRPr b="0" lang="en-US" sz="800" spc="-1" strike="noStrike">
                        <a:solidFill>
                          <a:srgbClr val="1c1c1c"/>
                        </a:solidFill>
                        <a:latin typeface="Times New Roman"/>
                      </a:endParaRPr>
                    </a:p>
                  </a:txBody>
                  <a:tcPr anchor="ctr" marL="90360" marR="90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55B4-EB34-470D-B765-96878231C2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What is Quality?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IOM: “…the degree to which health services for individuals and populations increase the likelihood of desired health outcomes and are consistent with current professional knowledge”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AHRQ: “Quality health care means doing the right thing at the right time in the right way for the right person and having the best results possible”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(IOM-Institute of Medicine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(AHRQ-Agency for Healthcare Research and Quality)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8AD-5CC8-4DDF-9A5D-0411105611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4114800" cy="53881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4952880" y="1523880"/>
            <a:ext cx="2430720" cy="395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E297-FB13-4961-BD37-AFD21AE16C4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IOM report on performance measures, sec. 238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talogue and review the validity of leading health care performance measures;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atalogue and evaluate the success and utility of alternative performance incentive programs in public and private sector settings; and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Identify and prioritize options to implement policies that align performance with payment under the Medicare program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459C-0F05-476E-8FFD-3121FBC1FE0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510080" y="1905120"/>
            <a:ext cx="0" cy="279360"/>
          </a:xfrm>
          <a:prstGeom prst="line">
            <a:avLst/>
          </a:prstGeom>
          <a:ln w="38160">
            <a:solidFill>
              <a:srgbClr val="1c1c1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0" y="0"/>
            <a:ext cx="9144000" cy="6734160"/>
            <a:chOff x="0" y="0"/>
            <a:chExt cx="9144000" cy="6734160"/>
          </a:xfrm>
        </p:grpSpPr>
        <p:sp>
          <p:nvSpPr>
            <p:cNvPr id="202" name=""/>
            <p:cNvSpPr/>
            <p:nvPr/>
          </p:nvSpPr>
          <p:spPr>
            <a:xfrm>
              <a:off x="0" y="0"/>
              <a:ext cx="9144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66"/>
                  </a:solidFill>
                  <a:latin typeface="Arial"/>
                </a:rPr>
                <a:t>WHAT WE CAN DO TO IMPROVE QUALITY</a:t>
              </a:r>
              <a:endParaRPr b="0" lang="en-US" sz="2400" spc="-1" strike="noStrike">
                <a:solidFill>
                  <a:srgbClr val="1c1c1c"/>
                </a:solidFill>
                <a:latin typeface="Times New Roman"/>
              </a:endParaRPr>
            </a:p>
          </p:txBody>
        </p:sp>
        <p:grpSp>
          <p:nvGrpSpPr>
            <p:cNvPr id="203" name=""/>
            <p:cNvGrpSpPr/>
            <p:nvPr/>
          </p:nvGrpSpPr>
          <p:grpSpPr>
            <a:xfrm>
              <a:off x="519120" y="609480"/>
              <a:ext cx="8043840" cy="3628800"/>
              <a:chOff x="519120" y="609480"/>
              <a:chExt cx="8043840" cy="3628800"/>
            </a:xfrm>
          </p:grpSpPr>
          <p:sp>
            <p:nvSpPr>
              <p:cNvPr id="204" name=""/>
              <p:cNvSpPr/>
              <p:nvPr/>
            </p:nvSpPr>
            <p:spPr>
              <a:xfrm>
                <a:off x="4495680" y="3214800"/>
                <a:ext cx="0" cy="411120"/>
              </a:xfrm>
              <a:prstGeom prst="line">
                <a:avLst/>
              </a:prstGeom>
              <a:ln w="38160">
                <a:solidFill>
                  <a:srgbClr val="1c1c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9120" y="3595680"/>
                <a:ext cx="8043840" cy="64260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IDENTIFY IMPROVEMENT OPPORTUNITIES AND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SELECT APPROPRIATE IMPROVEMENT INTERVENTIONS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1066680" y="1022040"/>
                <a:ext cx="3454560" cy="2330640"/>
                <a:chOff x="1066680" y="1022040"/>
                <a:chExt cx="3454560" cy="233064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1066680" y="1022040"/>
                  <a:ext cx="0" cy="233028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1066680" y="1022400"/>
                  <a:ext cx="959040" cy="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1066680" y="3352680"/>
                  <a:ext cx="3454560" cy="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2017800" y="2165400"/>
                <a:ext cx="4952880" cy="36828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ADOPT OR DEVELOP MEASURES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017800" y="2819520"/>
                <a:ext cx="4952880" cy="36828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COLLECT &amp; ANALYZE DATA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2017800" y="1295280"/>
                <a:ext cx="4952880" cy="596880"/>
                <a:chOff x="2017800" y="1295280"/>
                <a:chExt cx="4952880" cy="5968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4508280" y="1295280"/>
                  <a:ext cx="0" cy="22248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2017800" y="1523880"/>
                  <a:ext cx="4952880" cy="368280"/>
                </a:xfrm>
                <a:prstGeom prst="rect">
                  <a:avLst/>
                </a:prstGeom>
                <a:noFill/>
                <a:ln w="1260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1c1c1c"/>
                      </a:solidFill>
                      <a:latin typeface="Arial"/>
                    </a:rPr>
                    <a:t>SELECT PRIORITY AREAS</a:t>
                  </a:r>
                  <a:endParaRPr b="0" lang="en-US" sz="18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2017800" y="609480"/>
                <a:ext cx="4952880" cy="642600"/>
              </a:xfrm>
              <a:prstGeom prst="rect">
                <a:avLst/>
              </a:prstGeom>
              <a:noFill/>
              <a:ln w="1260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MANAGE  PROCESS  IN  PARTNERSHIP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1c1c1c"/>
                    </a:solidFill>
                    <a:latin typeface="Arial"/>
                  </a:rPr>
                  <a:t>WITH STAKEHOLDERS</a:t>
                </a:r>
                <a:endParaRPr b="0" lang="en-US" sz="18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03600" y="2543040"/>
                <a:ext cx="0" cy="279360"/>
              </a:xfrm>
              <a:prstGeom prst="line">
                <a:avLst/>
              </a:prstGeom>
              <a:ln w="38160">
                <a:solidFill>
                  <a:srgbClr val="1c1c1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97480" y="3181320"/>
                <a:ext cx="0" cy="185760"/>
              </a:xfrm>
              <a:prstGeom prst="line">
                <a:avLst/>
              </a:prstGeom>
              <a:ln w="38160">
                <a:solidFill>
                  <a:srgbClr val="1c1c1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1c1c1c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"/>
            <p:cNvGrpSpPr/>
            <p:nvPr/>
          </p:nvGrpSpPr>
          <p:grpSpPr>
            <a:xfrm>
              <a:off x="114480" y="4267080"/>
              <a:ext cx="8800920" cy="2210040"/>
              <a:chOff x="114480" y="4267080"/>
              <a:chExt cx="8800920" cy="221004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114480" y="4648320"/>
                <a:ext cx="8800920" cy="1828800"/>
                <a:chOff x="114480" y="4648320"/>
                <a:chExt cx="8800920" cy="18288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768204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ESTABLISH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&amp;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ENFORCE STANDARD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5304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9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STRUCTURE COVERAGE AND         PAYMENTS  TO IMPROVE CARE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11448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SUPPORT STANDARD METHOD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90880" y="4648320"/>
                  <a:ext cx="123372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GIVE CONSUMERS INFOR-MATION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95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AND ASSISTANCE TO MAKE CHOICE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137160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ROMOTE  OR CREATE COLLABORA-TIONS AND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ARTNER-SHIP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2624040" y="4648320"/>
                  <a:ext cx="123372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GIVE 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LANS, DOCTORS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&amp;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PROVIDERS TECHNICAL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ASSISTANCE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415200" y="4648320"/>
                  <a:ext cx="1233360" cy="1828800"/>
                </a:xfrm>
                <a:prstGeom prst="rect">
                  <a:avLst/>
                </a:prstGeom>
                <a:noFill/>
                <a:ln w="648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ctr" anchorCtr="1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1c1c1c"/>
                      </a:solidFill>
                      <a:latin typeface="Arial"/>
                    </a:rPr>
                    <a:t>REWARD DESIRED PERFORM-ANCE</a:t>
                  </a: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754200" y="4267080"/>
                <a:ext cx="7570800" cy="371520"/>
                <a:chOff x="754200" y="4267080"/>
                <a:chExt cx="7570800" cy="3715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7542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7960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3250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454032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327672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20178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7086600" y="4267080"/>
                  <a:ext cx="0" cy="3715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762120" y="3000240"/>
              <a:ext cx="8272440" cy="3733920"/>
              <a:chOff x="762120" y="3000240"/>
              <a:chExt cx="8272440" cy="373392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762120" y="3000240"/>
                <a:ext cx="8272440" cy="3733920"/>
                <a:chOff x="762120" y="3000240"/>
                <a:chExt cx="8272440" cy="3733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62120" y="6700680"/>
                  <a:ext cx="8272440" cy="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 flipV="1">
                  <a:off x="7001280" y="3016080"/>
                  <a:ext cx="2032920" cy="36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029880" y="3000240"/>
                  <a:ext cx="0" cy="373392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62120" y="6486480"/>
                <a:ext cx="7570800" cy="219240"/>
                <a:chOff x="762120" y="6486480"/>
                <a:chExt cx="7570800" cy="21924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621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8039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3329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454824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8464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0257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094520" y="6486480"/>
                  <a:ext cx="0" cy="219240"/>
                </a:xfrm>
                <a:prstGeom prst="line">
                  <a:avLst/>
                </a:prstGeom>
                <a:ln w="38160">
                  <a:solidFill>
                    <a:srgbClr val="1c1c1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1c1c1c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F21D-A850-46D5-8E66-D97325A9A83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Physicians and Provide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ssues: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rust or Credibility in measur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rust in appropriate use of measur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Unintended consequences or perverse incentives if not appropriate methods where needed (e.g. risk adjustment for outcomes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71C-DC74-437C-A1C5-7F28A5EFBFA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Physicians and Provide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enefi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wards superior performance and encourages overall improv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ligns financial model to actual professional goals of improving the quality of health care servic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05600" indent="-2714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cus on volume is diminished as focus on quality is heightene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81CC-1352-412D-B03B-30598137238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Issues to Consider in</a:t>
            </a:r>
            <a:br>
              <a:rPr sz="4400"/>
            </a:b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aying for Performanc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70000" y="232704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Vehicles for Encouraging Qualit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formation collecti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formation disseminati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inancial reward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(provide incentives, remove hindrances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2E04-7729-4324-A0BD-F3EB9883EC6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Issues to Consider in</a:t>
            </a:r>
            <a:br>
              <a:rPr sz="4400"/>
            </a:b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aying for Performance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What to Rewar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lative qualit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bsolute threshol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mprov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ow to Finance Incentiv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cross-the-board reduction to create pool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Offsetting penalt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Offsetting saving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A0C3-7995-45A9-8E92-6A6A910577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MS Current Activitie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 Quality Incentive Demonstr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 501(b) Report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hysician Group Practice Demonstr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tion 649 MCMP Demonstr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Chronic Care Improvement Program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ction 646 Medicare Health Care Quality Demo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 Quality Alliance – Public Report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B27D-00A2-4A75-AC8C-6DA470F9F4F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CMS Current Activitie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ESRD Disease Management Demonstrati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Disease Management for Severely Chronically Ill Medicare Beneficiar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re Management for High Cost Beneficiar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5401-1E81-47AD-9DDF-9D3A38137AE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remier Hospital Quality Incentiv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MS partnership with Premier, Inc.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Nationwide organization of not-for-profit hospital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embers share information on quality and efficienc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Uses financial incentives to encourage hospitals to provide high quality inpatient car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Public reporting on CMS websit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83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D10-96BF-4D07-AE34-F1EF2273C65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52480" y="1676520"/>
            <a:ext cx="510552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(1)”perhaps the results as a whole would not be good enough to impress the public very favorably;” (2) it is “difficult, time-consuming, and troublesome;” and (3) “neither Trustees of Hospitals nor the Public are as yet willing to pay for this kind of work.”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85320" y="4343400"/>
            <a:ext cx="2188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Codman, c.1910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867280" y="48006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818080" y="939960"/>
            <a:ext cx="272052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Past Environ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2641B-711A-470F-B45C-A9143121E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remier Hospital Quality Incentiv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Eligibility: Hospitals in Premier Perspective system as of March 31, 2003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Voluntary: about 280 hospitals participating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Demonstration project:  pilot test of concep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8602-865E-48CB-9838-C06715A465A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4920" y="1295280"/>
            <a:ext cx="7619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The Premier Hospital Quality Incentive Demonstration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5 clinical conditions (34 measures)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Acute MI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eart Failur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Pneumonia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Coronary Artery Bypass Graft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Arial"/>
              </a:rPr>
              <a:t>Hip and Knee Replace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19160" y="629136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B417-975B-42C3-B515-2BBEAD2DBDF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ource of Quality Indicato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All 10 from the starter set of the Hospital Reporting Initiativ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7 by the National Quality Forum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24 from CMS 7</a:t>
            </a:r>
            <a:r>
              <a:rPr b="0" lang="en-US" sz="32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th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 Scope of Work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15 in the JCAHO Core Measur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3 proposed by The Leapfrog Group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4 patient safety indicators from the AHRQ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1173-7A13-4795-9C28-F1F355DE740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ource of Quality Indicato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70000" y="20221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AMI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Inpatient mortality rate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1,2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CABG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Inpatient mortality rate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CABG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Post operative hemorrhage or hematoma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CABG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Post operative physiologic/metabolic derangement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Hip/Knee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Post operative hemorrhage or hematoma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,5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Hip/Knee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Post operative physiologic/metabolic derangement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4,5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c1c1c"/>
                </a:solidFill>
                <a:latin typeface="Times New Roman"/>
              </a:rPr>
              <a:t>Hip/Knee</a:t>
            </a:r>
            <a:r>
              <a:rPr b="0" lang="en-US" sz="2600" spc="-1" strike="noStrike">
                <a:solidFill>
                  <a:srgbClr val="1c1c1c"/>
                </a:solidFill>
                <a:latin typeface="Times New Roman"/>
              </a:rPr>
              <a:t> - Readmission 30 days post discharge</a:t>
            </a:r>
            <a:r>
              <a:rPr b="0" lang="en-US" sz="2600" spc="-1" strike="noStrike" baseline="30000">
                <a:solidFill>
                  <a:srgbClr val="1c1c1c"/>
                </a:solidFill>
                <a:latin typeface="Times New Roman"/>
              </a:rPr>
              <a:t>5</a:t>
            </a: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D39E-0EC0-45E8-86C3-ED996ECFBCE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ource of Quality Indicator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National Quality Forum measur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Risk adjusted using JCAHO methodolog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Risk adjusted using 3M™ All Patient Refined DRG methodolog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AHRQ Patient Safety Indicators and risk adjusted using AHRQ methodology.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-609480">
              <a:buClr>
                <a:srgbClr val="1c1c1c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  <a:ea typeface="Times New Roman"/>
              </a:rPr>
              <a:t>Medicare beneficiaries onl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E6F-DDBA-42C9-A9D4-16ACFF308E3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Recognition &amp; Financial Reward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70000" y="2250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op 50% of hospitals in each clinical area publicly acknowledged on CMS websit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op 20% of hospitals in each clinical area receive bonus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ospitals in top decile get 2% bonus on their Medicare DRG payments for discharges in those categori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ospitals in second decile get 1% bonu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B3F1-6CA8-4FDC-AD62-159B3CB1F7D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Recognition &amp; Financial Reward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20224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Baseline performance thresholds set in year 1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eparate threshold for each clinical area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hresholds set at 8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and 9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percentile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Year 1 thresholds applied in year 3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Hospitals below thresholds receive reduced pay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1% reduction for score below 8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percentile threshold; 2% reduction for score below 90</a:t>
            </a:r>
            <a:r>
              <a:rPr b="0" lang="en-US" sz="2800" spc="-1" strike="noStrike" baseline="30000">
                <a:solidFill>
                  <a:srgbClr val="1c1c1c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 percentile threshold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rovides extra incentive for all hospitals to improve performanc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39A-483D-44D1-87F1-FF03CCE64C1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660066"/>
                </a:solidFill>
                <a:latin typeface="Arial"/>
              </a:rPr>
              <a:t>One possible payment scenario</a:t>
            </a:r>
            <a:endParaRPr b="0" lang="en-US" sz="40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95560" y="4079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095560" y="3851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95560" y="3622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95560" y="4308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095560" y="4537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095560" y="4765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95560" y="3394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95560" y="3165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95560" y="2936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95560" y="2708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00480" y="27082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43280" y="4556160"/>
            <a:ext cx="59436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91320" y="1924200"/>
            <a:ext cx="114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Hospital 2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870920" y="222876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32880" y="175248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595200" y="1371600"/>
            <a:ext cx="131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Condition X</a:t>
            </a:r>
            <a:endParaRPr b="0" lang="en-US" sz="1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2600" y="278136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op Performance Threshold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0400" y="4152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99"/>
                </a:solidFill>
                <a:latin typeface="Arial"/>
              </a:rPr>
              <a:t>Payment Adjustment  Threshold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400480" y="29671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00480" y="3195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400480" y="3424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00480" y="363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00480" y="38973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00480" y="41259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00480" y="4354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400480" y="4567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247840" y="479592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52960" y="26668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66960" y="507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Year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One</a:t>
            </a:r>
            <a:endParaRPr b="0" lang="en-US" sz="1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29280" y="507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Year Two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91240" y="50785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Year Three</a:t>
            </a:r>
            <a:endParaRPr b="0" lang="en-US" sz="1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457880" y="3581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57880" y="3352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457880" y="3124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57880" y="3809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457880" y="4038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457880" y="4267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457880" y="2895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457880" y="2666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57880" y="2438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7880" y="2209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62440" y="220968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62440" y="24685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762440" y="26971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762440" y="2925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62440" y="31399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62440" y="33987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762440" y="36273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62440" y="385596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762440" y="4068720"/>
            <a:ext cx="609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10160" y="42670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19840" y="3124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19840" y="2895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819840" y="2666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819840" y="3352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19840" y="3581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19840" y="38098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819840" y="24382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819840" y="22096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819840" y="19810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19840" y="1752480"/>
            <a:ext cx="914400" cy="228600"/>
          </a:xfrm>
          <a:prstGeom prst="rect">
            <a:avLst/>
          </a:prstGeom>
          <a:noFill/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124760" y="175248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st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124760" y="20113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2n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124760" y="22399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3rd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124760" y="2468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4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24760" y="26827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5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124760" y="29415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6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124760" y="31701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7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24760" y="339876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8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124760" y="361152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9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972480" y="38401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c1c1c"/>
                </a:solidFill>
                <a:latin typeface="Arial"/>
              </a:rPr>
              <a:t>10th Decile</a:t>
            </a:r>
            <a:endParaRPr b="0" lang="en-US" sz="10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15280" y="2209680"/>
            <a:ext cx="15238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790640" y="3181320"/>
            <a:ext cx="15242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85840" y="64040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8F10-FAAD-4AFC-9303-348A4902100F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Savings for CMS and for Hospital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d CMS Costs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 readmission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d Hospital Costs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Lower length-of-sta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mproved outcom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duced morbidity and complication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mproved mortality rat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9E17-F203-4C65-A9CB-519AD7BBD2F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70000" y="2250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andated by BIPA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Large (200+ physicians), multi-specialty group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ffiliations with other provider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Well-developed clinical and management information system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0EE6-D199-4225-BE72-5F8A4C070BD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Quality Problems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Lack of meeting expectations for American health care community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complete assessment of performanc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complete infrastructure to support ideal provision of quality health care (e.g. I.T.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0839-8EED-4E58-B6FC-4CCCCDF602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70000" y="232704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Encourage coordination of Part A and Part B servic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Promote efficiency through investment in administrative structure and proces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Reward physicians for improving health outcom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184-3D7D-43CF-9020-6F708B24965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70000" y="2250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Annual performance targets established for each group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onus earned if actual Medicare spending for assigned beneficiaries is less than the annual performance target (minus a 2% savings threshold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CDD0-0E7C-4908-99D8-1B95C2DC8E6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70000" y="21744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2% savings threshol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Medicare retains 20% of savings beyond threshold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onus to groups allocated based on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Savings (70%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Quality (30%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15% limit on bonu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347F-4923-453B-AC30-7C88504F224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Physician Group Practice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70000" y="202248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Evaluation Criteria for practices: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Organizational structur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Leadership &amp; manage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Financial stability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Quality assuranc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rocess and outcome measurement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Demonstration implementation pla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Location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50F7-D1A0-4B52-A450-321FFB606E1A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ESRD Disease Management Demonstra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70000" y="232704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apitated payment for bundle of services used by ESRD patient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Portion of payment set-aside for achievement of ESRD-related quality measure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 the final stages of waiver approval proces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2AA-9A87-4E74-BD1B-2367C995524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Care Management Performance Demonstration (Sec. 649)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Small to medium-sized physician practices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o promote adoption and use of IT in physician offices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Create infrastructure for Medicare receipt of data from electronic office-based systems for use in technical assistance and public reporting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To improve the ability to manage patient car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21E9-4A00-4393-8FB2-5EC3DB21162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219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Times New Roman"/>
              </a:rPr>
              <a:t>Medicare Health Care Quality Demonstrations (Sec. 646)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170000" y="240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Focus on integrated health care systems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Highlight features that improve quality and efficiency of car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In the early stages of development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3A5-A9CB-4D5A-A988-9457E0DFDE7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Chronic care improvement in FFS  (Sec. 721)</a:t>
            </a:r>
            <a:endParaRPr b="0" lang="en-US" sz="36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hase I, series of demos: 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Develop, test and evaluate care improvement programs using randomized controlled trials. 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Offered on a voluntary basis to certain eligible beneficiaries in geographic areas that in aggregate consist of 10% of total beneficiaries (approx. 300,000 beneficiaries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Times New Roman"/>
              </a:rPr>
              <a:t>Phase II, successful projects expanded nationwide</a:t>
            </a:r>
            <a:endParaRPr b="0" lang="en-US" sz="28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C8517-1BEE-4F82-9E85-C6069C00CC8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Timing for Action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The time to act is now, why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(a) convergence of quality and cost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concerns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(b) simply cannot afford to not act – status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quo is unacceptable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A340-0BCE-4543-AE78-2FF5ACF1484B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3716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Bureaucracy defends the status quo long past the time when the quo has lost its status. 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Laurence J. Peter</a:t>
            </a:r>
            <a:br>
              <a:rPr sz="3200"/>
            </a:br>
            <a:r>
              <a:rPr b="0" i="1" lang="en-US" sz="3200" spc="-1" strike="noStrike">
                <a:solidFill>
                  <a:srgbClr val="1c1c1c"/>
                </a:solidFill>
                <a:latin typeface="Times New Roman"/>
              </a:rPr>
              <a:t>US educator &amp; writer (1919 - 1988)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5445-5B91-455E-9D73-AC708BC5078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imes New Roman"/>
              </a:rPr>
              <a:t>Big Quality Problem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c1c1c"/>
                </a:solidFill>
                <a:latin typeface="Times New Roman"/>
              </a:rPr>
              <a:t>Question: Is the perceived lack of a business case for quality an indictment itself of the current failures of the system or is it a barrier for any efforts to improve quality or link it to payment?</a:t>
            </a:r>
            <a:endParaRPr b="0" lang="en-US" sz="32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5AD7-FBCE-44AF-9218-B4ADEE32391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0600" y="990720"/>
            <a:ext cx="88711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660066"/>
                </a:solidFill>
                <a:latin typeface="Arial"/>
              </a:rPr>
              <a:t>Thanks!</a:t>
            </a:r>
            <a:endParaRPr b="0" lang="en-US" sz="4400" spc="-1" strike="noStrike">
              <a:solidFill>
                <a:srgbClr val="660066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70000" y="3026880"/>
            <a:ext cx="7772400" cy="30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Trent T. Haywood, MD, JD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thaywood@cms.hhs.gov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c1c1c"/>
                </a:solidFill>
                <a:latin typeface="Arial"/>
              </a:rPr>
              <a:t>410-786-1034</a:t>
            </a: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21A6-F6C2-4052-88CB-1818583FADA8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14600" y="1676520"/>
            <a:ext cx="5481720" cy="4049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676520" y="4343400"/>
            <a:ext cx="761760" cy="152280"/>
          </a:xfrm>
          <a:prstGeom prst="rightArrow">
            <a:avLst>
              <a:gd name="adj1" fmla="val 50000"/>
              <a:gd name="adj2" fmla="val 125059"/>
            </a:avLst>
          </a:prstGeom>
          <a:solidFill>
            <a:srgbClr val="00ccc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924680" y="4343400"/>
            <a:ext cx="304920" cy="152280"/>
          </a:xfrm>
          <a:prstGeom prst="leftArrow">
            <a:avLst>
              <a:gd name="adj1" fmla="val 50000"/>
              <a:gd name="adj2" fmla="val 50059"/>
            </a:avLst>
          </a:prstGeom>
          <a:solidFill>
            <a:srgbClr val="00cccc"/>
          </a:solidFill>
          <a:ln w="93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32040" bIns="32040" anchor="ctr">
            <a:noAutofit/>
          </a:bodyPr>
          <a:p>
            <a:endParaRPr b="0" lang="en-US" sz="2400" spc="-1" strike="noStrike">
              <a:solidFill>
                <a:srgbClr val="1c1c1c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04920" y="1143000"/>
            <a:ext cx="215712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E75E-AFDB-4B08-9D79-82D0040217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5638680" cy="240192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6400800" y="2057400"/>
            <a:ext cx="1393920" cy="19051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4724280" y="3124080"/>
            <a:ext cx="1489320" cy="2133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E261-949E-4A0C-B22A-36AB9009AA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990720"/>
            <a:ext cx="3660840" cy="44193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3124080" cy="3009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D389-72DC-43F0-BEBE-ECA1B227AA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68792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8699-EB80-4FF2-9C12-9231054D268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2T15:29:06Z</dcterms:created>
  <dc:creator>hcfa</dc:creator>
  <dc:description/>
  <cp:keywords/>
  <dc:language>en-US</dc:language>
  <cp:lastModifiedBy>CMS</cp:lastModifiedBy>
  <cp:lastPrinted>2002-03-13T16:56:40Z</cp:lastPrinted>
  <dcterms:modified xsi:type="dcterms:W3CDTF">2005-02-16T22:40:56Z</dcterms:modified>
  <cp:revision>615</cp:revision>
  <dc:subject/>
  <dc:title>PRO National Quality Prior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2088450440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