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F0CD-4919-4B3D-A275-DD38BB62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0E0-D1BE-4907-8A1C-8F2FFA1D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7513-B0B2-477E-B436-E58E2A4E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5B51-0CD9-43DD-9902-F23CE79C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D4019-DF0D-4357-96D1-1A77B564A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FD41B-9D5A-4C7C-B2A5-BD37C99F7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0909E-8D65-4675-93CA-EB1A4B615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3A120-F6E5-4CAB-8024-A40FCC353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D2F4-C41F-44A3-B04E-5931C220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7C99B-CDD0-40AD-9E8A-0837444B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D84B-F67E-4415-8505-6CB284BBA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C27A-72E3-479C-B4A0-19F09289F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B703-4202-4F1F-8242-DD0A429CA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D27D-9196-4A96-A967-8650A942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B665-A0E4-462E-AEF3-0EBCFC1B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5601-CEB9-4534-8264-48A53B195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F494-E8E9-4BF1-B328-2104A9D1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005D-7F45-4E62-9919-8181F9F3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9AAE-91C1-419F-954E-4C39D140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FA4-DBCF-46A3-85CA-2D6644FB3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0FDA-A6FA-4DD0-91D1-1C750E791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CB3F-6EA0-4757-814B-0ACA4061F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9D69-529A-4088-A3C3-6F76EC57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269E-5302-4869-9A29-2E05821E7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6830-BD4B-4C3C-9729-FE91AA9DB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7852-1B20-48BD-AEE6-90F79654A7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image" Target="../media/image8.png"/><Relationship Id="rId20" Type="http://schemas.openxmlformats.org/officeDocument/2006/relationships/image" Target="../media/image8.png"/><Relationship Id="rId21" Type="http://schemas.openxmlformats.org/officeDocument/2006/relationships/image" Target="../media/image8.png"/><Relationship Id="rId22" Type="http://schemas.openxmlformats.org/officeDocument/2006/relationships/image" Target="../media/image8.png"/><Relationship Id="rId23" Type="http://schemas.openxmlformats.org/officeDocument/2006/relationships/image" Target="../media/image8.png"/><Relationship Id="rId2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cms.hhs.gov/medicarereform/contractingreform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cms.hhs.gov/medicarereform/contractingreform/" TargetMode="External"/><Relationship Id="rId2" Type="http://schemas.openxmlformats.org/officeDocument/2006/relationships/hyperlink" Target="http://www.cms.hhs.gov/medicarereform/contractingreform/" TargetMode="External"/><Relationship Id="rId3" Type="http://schemas.openxmlformats.org/officeDocument/2006/relationships/hyperlink" Target="http://www.cms.hhs.gov/medicarereform/contractingreform/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 Contracting Refor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Tom Gustafson, Ph.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Deputy Director, Center for Medicare Manag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B0D-51BA-4AA3-99B8-7B4270CC51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Implementation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Pla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MS’ primary objective is to ensure continuity in Medicare FFS operatio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23 MACs will assume work currently performed by FIs and carriers, and serve as providers’ single point of contact for the receipt, processing and payment of claim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5 Primary A/B MACs, 4 durable medical equipment MACs and 4 home health and hospice MAC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unctional contractors will perform work around a single Medicare program function, e.g., claims appeals, providing increased efficiency in the management and delivery of services to beneficiaries and provid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950-ED83-4225-8E07-4559B1DB8D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AC Jurisdict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0000" y="1752480"/>
            <a:ext cx="7772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15 juris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istinct geographicall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Non-overlapp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pecialty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jurisdic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Durable Medical Equipment (DME)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4 Home Health/Hospice (HH)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Jurisdictions are identical for both special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Overlay boundaries of 15 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7954-9926-4CD5-B632-39CC2E1795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Approach to Establishing</a:t>
            </a:r>
            <a:br>
              <a:rPr sz="4200"/>
            </a:b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MAC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The new jurisdictions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Reasonably balance the number of fee-for-service beneficiaries an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Are substantially more alike in size than existing fiscal intermediary and carrier jurisdi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ill promote much greater efficiency in Medicare’s billion claims a year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2E00-7429-4406-A760-7ABCBDD482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2209680" y="1371600"/>
            <a:ext cx="5410080" cy="3362040"/>
            <a:chOff x="2209680" y="1371600"/>
            <a:chExt cx="5410080" cy="3362040"/>
          </a:xfrm>
        </p:grpSpPr>
        <p:grpSp>
          <p:nvGrpSpPr>
            <p:cNvPr id="175" name=""/>
            <p:cNvGrpSpPr/>
            <p:nvPr/>
          </p:nvGrpSpPr>
          <p:grpSpPr>
            <a:xfrm>
              <a:off x="5427000" y="1840680"/>
              <a:ext cx="759240" cy="1261080"/>
              <a:chOff x="5427000" y="1840680"/>
              <a:chExt cx="759240" cy="1261080"/>
            </a:xfrm>
          </p:grpSpPr>
          <p:sp>
            <p:nvSpPr>
              <p:cNvPr id="176" name=""/>
              <p:cNvSpPr/>
              <p:nvPr/>
            </p:nvSpPr>
            <p:spPr>
              <a:xfrm>
                <a:off x="5711760" y="2552400"/>
                <a:ext cx="315720" cy="5493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427000" y="1840680"/>
                <a:ext cx="583200" cy="304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794560" y="2034720"/>
                <a:ext cx="391680" cy="54000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5058360" y="3284640"/>
              <a:ext cx="698040" cy="972360"/>
              <a:chOff x="5058360" y="3284640"/>
              <a:chExt cx="698040" cy="972360"/>
            </a:xfrm>
          </p:grpSpPr>
          <p:sp>
            <p:nvSpPr>
              <p:cNvPr id="180" name=""/>
              <p:cNvSpPr/>
              <p:nvPr/>
            </p:nvSpPr>
            <p:spPr>
              <a:xfrm>
                <a:off x="5058360" y="3284640"/>
                <a:ext cx="514440" cy="468360"/>
              </a:xfrm>
              <a:custGeom>
                <a:avLst/>
                <a:gdLst/>
                <a:ahLst/>
                <a:rect l="l" t="t" r="r" b="b"/>
                <a:pathLst>
                  <a:path w="507" h="456">
                    <a:moveTo>
                      <a:pt x="0" y="15"/>
                    </a:moveTo>
                    <a:lnTo>
                      <a:pt x="21" y="155"/>
                    </a:lnTo>
                    <a:lnTo>
                      <a:pt x="17" y="375"/>
                    </a:lnTo>
                    <a:lnTo>
                      <a:pt x="27" y="387"/>
                    </a:lnTo>
                    <a:lnTo>
                      <a:pt x="64" y="387"/>
                    </a:lnTo>
                    <a:lnTo>
                      <a:pt x="65" y="455"/>
                    </a:lnTo>
                    <a:lnTo>
                      <a:pt x="365" y="450"/>
                    </a:lnTo>
                    <a:lnTo>
                      <a:pt x="359" y="381"/>
                    </a:lnTo>
                    <a:lnTo>
                      <a:pt x="385" y="307"/>
                    </a:lnTo>
                    <a:lnTo>
                      <a:pt x="422" y="253"/>
                    </a:lnTo>
                    <a:lnTo>
                      <a:pt x="420" y="239"/>
                    </a:lnTo>
                    <a:lnTo>
                      <a:pt x="449" y="192"/>
                    </a:lnTo>
                    <a:lnTo>
                      <a:pt x="463" y="141"/>
                    </a:lnTo>
                    <a:lnTo>
                      <a:pt x="457" y="136"/>
                    </a:lnTo>
                    <a:lnTo>
                      <a:pt x="482" y="116"/>
                    </a:lnTo>
                    <a:lnTo>
                      <a:pt x="506" y="71"/>
                    </a:lnTo>
                    <a:lnTo>
                      <a:pt x="499" y="61"/>
                    </a:lnTo>
                    <a:lnTo>
                      <a:pt x="431" y="65"/>
                    </a:lnTo>
                    <a:lnTo>
                      <a:pt x="449" y="39"/>
                    </a:lnTo>
                    <a:lnTo>
                      <a:pt x="443" y="0"/>
                    </a:lnTo>
                    <a:lnTo>
                      <a:pt x="0" y="15"/>
                    </a:lnTo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124240" y="3746520"/>
                <a:ext cx="572040" cy="510480"/>
              </a:xfrm>
              <a:custGeom>
                <a:avLst/>
                <a:gdLst/>
                <a:ahLst/>
                <a:rect l="l" t="t" r="r" b="b"/>
                <a:pathLst>
                  <a:path w="564" h="497">
                    <a:moveTo>
                      <a:pt x="0" y="5"/>
                    </a:moveTo>
                    <a:lnTo>
                      <a:pt x="6" y="137"/>
                    </a:lnTo>
                    <a:lnTo>
                      <a:pt x="22" y="154"/>
                    </a:lnTo>
                    <a:lnTo>
                      <a:pt x="27" y="188"/>
                    </a:lnTo>
                    <a:lnTo>
                      <a:pt x="58" y="235"/>
                    </a:lnTo>
                    <a:lnTo>
                      <a:pt x="56" y="275"/>
                    </a:lnTo>
                    <a:lnTo>
                      <a:pt x="39" y="313"/>
                    </a:lnTo>
                    <a:lnTo>
                      <a:pt x="39" y="334"/>
                    </a:lnTo>
                    <a:lnTo>
                      <a:pt x="45" y="356"/>
                    </a:lnTo>
                    <a:lnTo>
                      <a:pt x="43" y="378"/>
                    </a:lnTo>
                    <a:lnTo>
                      <a:pt x="33" y="391"/>
                    </a:lnTo>
                    <a:lnTo>
                      <a:pt x="19" y="409"/>
                    </a:lnTo>
                    <a:lnTo>
                      <a:pt x="28" y="420"/>
                    </a:lnTo>
                    <a:lnTo>
                      <a:pt x="104" y="410"/>
                    </a:lnTo>
                    <a:lnTo>
                      <a:pt x="164" y="435"/>
                    </a:lnTo>
                    <a:lnTo>
                      <a:pt x="223" y="432"/>
                    </a:lnTo>
                    <a:lnTo>
                      <a:pt x="216" y="415"/>
                    </a:lnTo>
                    <a:lnTo>
                      <a:pt x="235" y="400"/>
                    </a:lnTo>
                    <a:lnTo>
                      <a:pt x="276" y="409"/>
                    </a:lnTo>
                    <a:lnTo>
                      <a:pt x="282" y="438"/>
                    </a:lnTo>
                    <a:lnTo>
                      <a:pt x="294" y="434"/>
                    </a:lnTo>
                    <a:lnTo>
                      <a:pt x="311" y="441"/>
                    </a:lnTo>
                    <a:lnTo>
                      <a:pt x="328" y="458"/>
                    </a:lnTo>
                    <a:lnTo>
                      <a:pt x="332" y="475"/>
                    </a:lnTo>
                    <a:lnTo>
                      <a:pt x="350" y="477"/>
                    </a:lnTo>
                    <a:lnTo>
                      <a:pt x="366" y="488"/>
                    </a:lnTo>
                    <a:lnTo>
                      <a:pt x="379" y="483"/>
                    </a:lnTo>
                    <a:lnTo>
                      <a:pt x="392" y="469"/>
                    </a:lnTo>
                    <a:lnTo>
                      <a:pt x="390" y="458"/>
                    </a:lnTo>
                    <a:lnTo>
                      <a:pt x="407" y="473"/>
                    </a:lnTo>
                    <a:lnTo>
                      <a:pt x="416" y="460"/>
                    </a:lnTo>
                    <a:lnTo>
                      <a:pt x="428" y="485"/>
                    </a:lnTo>
                    <a:lnTo>
                      <a:pt x="447" y="473"/>
                    </a:lnTo>
                    <a:lnTo>
                      <a:pt x="453" y="466"/>
                    </a:lnTo>
                    <a:lnTo>
                      <a:pt x="447" y="458"/>
                    </a:lnTo>
                    <a:lnTo>
                      <a:pt x="448" y="436"/>
                    </a:lnTo>
                    <a:lnTo>
                      <a:pt x="453" y="436"/>
                    </a:lnTo>
                    <a:lnTo>
                      <a:pt x="469" y="438"/>
                    </a:lnTo>
                    <a:lnTo>
                      <a:pt x="473" y="453"/>
                    </a:lnTo>
                    <a:lnTo>
                      <a:pt x="492" y="452"/>
                    </a:lnTo>
                    <a:lnTo>
                      <a:pt x="507" y="462"/>
                    </a:lnTo>
                    <a:lnTo>
                      <a:pt x="510" y="460"/>
                    </a:lnTo>
                    <a:lnTo>
                      <a:pt x="516" y="471"/>
                    </a:lnTo>
                    <a:lnTo>
                      <a:pt x="528" y="478"/>
                    </a:lnTo>
                    <a:lnTo>
                      <a:pt x="522" y="496"/>
                    </a:lnTo>
                    <a:lnTo>
                      <a:pt x="538" y="479"/>
                    </a:lnTo>
                    <a:lnTo>
                      <a:pt x="549" y="490"/>
                    </a:lnTo>
                    <a:lnTo>
                      <a:pt x="549" y="477"/>
                    </a:lnTo>
                    <a:lnTo>
                      <a:pt x="563" y="473"/>
                    </a:lnTo>
                    <a:lnTo>
                      <a:pt x="563" y="464"/>
                    </a:lnTo>
                    <a:lnTo>
                      <a:pt x="548" y="462"/>
                    </a:lnTo>
                    <a:lnTo>
                      <a:pt x="540" y="453"/>
                    </a:lnTo>
                    <a:lnTo>
                      <a:pt x="527" y="455"/>
                    </a:lnTo>
                    <a:lnTo>
                      <a:pt x="521" y="442"/>
                    </a:lnTo>
                    <a:lnTo>
                      <a:pt x="507" y="442"/>
                    </a:lnTo>
                    <a:lnTo>
                      <a:pt x="493" y="417"/>
                    </a:lnTo>
                    <a:lnTo>
                      <a:pt x="501" y="411"/>
                    </a:lnTo>
                    <a:lnTo>
                      <a:pt x="513" y="405"/>
                    </a:lnTo>
                    <a:lnTo>
                      <a:pt x="515" y="391"/>
                    </a:lnTo>
                    <a:lnTo>
                      <a:pt x="525" y="390"/>
                    </a:lnTo>
                    <a:lnTo>
                      <a:pt x="540" y="376"/>
                    </a:lnTo>
                    <a:lnTo>
                      <a:pt x="535" y="371"/>
                    </a:lnTo>
                    <a:lnTo>
                      <a:pt x="535" y="346"/>
                    </a:lnTo>
                    <a:lnTo>
                      <a:pt x="519" y="358"/>
                    </a:lnTo>
                    <a:lnTo>
                      <a:pt x="502" y="361"/>
                    </a:lnTo>
                    <a:lnTo>
                      <a:pt x="489" y="383"/>
                    </a:lnTo>
                    <a:lnTo>
                      <a:pt x="465" y="371"/>
                    </a:lnTo>
                    <a:lnTo>
                      <a:pt x="469" y="363"/>
                    </a:lnTo>
                    <a:lnTo>
                      <a:pt x="479" y="359"/>
                    </a:lnTo>
                    <a:lnTo>
                      <a:pt x="480" y="363"/>
                    </a:lnTo>
                    <a:lnTo>
                      <a:pt x="486" y="350"/>
                    </a:lnTo>
                    <a:lnTo>
                      <a:pt x="477" y="354"/>
                    </a:lnTo>
                    <a:lnTo>
                      <a:pt x="473" y="348"/>
                    </a:lnTo>
                    <a:lnTo>
                      <a:pt x="471" y="355"/>
                    </a:lnTo>
                    <a:lnTo>
                      <a:pt x="460" y="350"/>
                    </a:lnTo>
                    <a:lnTo>
                      <a:pt x="450" y="363"/>
                    </a:lnTo>
                    <a:lnTo>
                      <a:pt x="434" y="367"/>
                    </a:lnTo>
                    <a:lnTo>
                      <a:pt x="401" y="359"/>
                    </a:lnTo>
                    <a:lnTo>
                      <a:pt x="400" y="351"/>
                    </a:lnTo>
                    <a:lnTo>
                      <a:pt x="419" y="323"/>
                    </a:lnTo>
                    <a:lnTo>
                      <a:pt x="437" y="324"/>
                    </a:lnTo>
                    <a:lnTo>
                      <a:pt x="449" y="336"/>
                    </a:lnTo>
                    <a:lnTo>
                      <a:pt x="497" y="345"/>
                    </a:lnTo>
                    <a:lnTo>
                      <a:pt x="462" y="285"/>
                    </a:lnTo>
                    <a:lnTo>
                      <a:pt x="469" y="243"/>
                    </a:lnTo>
                    <a:lnTo>
                      <a:pt x="266" y="251"/>
                    </a:lnTo>
                    <a:lnTo>
                      <a:pt x="267" y="228"/>
                    </a:lnTo>
                    <a:lnTo>
                      <a:pt x="290" y="158"/>
                    </a:lnTo>
                    <a:lnTo>
                      <a:pt x="325" y="112"/>
                    </a:lnTo>
                    <a:lnTo>
                      <a:pt x="314" y="98"/>
                    </a:lnTo>
                    <a:lnTo>
                      <a:pt x="318" y="53"/>
                    </a:lnTo>
                    <a:lnTo>
                      <a:pt x="300" y="0"/>
                    </a:lnTo>
                    <a:lnTo>
                      <a:pt x="0" y="5"/>
                    </a:lnTo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394240" y="3468240"/>
                <a:ext cx="362160" cy="633600"/>
              </a:xfrm>
              <a:custGeom>
                <a:avLst/>
                <a:gdLst/>
                <a:ahLst/>
                <a:rect l="l" t="t" r="r" b="b"/>
                <a:pathLst>
                  <a:path w="357" h="617">
                    <a:moveTo>
                      <a:pt x="0" y="522"/>
                    </a:moveTo>
                    <a:lnTo>
                      <a:pt x="1" y="499"/>
                    </a:lnTo>
                    <a:lnTo>
                      <a:pt x="24" y="429"/>
                    </a:lnTo>
                    <a:lnTo>
                      <a:pt x="59" y="383"/>
                    </a:lnTo>
                    <a:lnTo>
                      <a:pt x="48" y="369"/>
                    </a:lnTo>
                    <a:lnTo>
                      <a:pt x="52" y="324"/>
                    </a:lnTo>
                    <a:lnTo>
                      <a:pt x="34" y="271"/>
                    </a:lnTo>
                    <a:lnTo>
                      <a:pt x="28" y="202"/>
                    </a:lnTo>
                    <a:lnTo>
                      <a:pt x="54" y="128"/>
                    </a:lnTo>
                    <a:lnTo>
                      <a:pt x="91" y="74"/>
                    </a:lnTo>
                    <a:lnTo>
                      <a:pt x="89" y="60"/>
                    </a:lnTo>
                    <a:lnTo>
                      <a:pt x="118" y="13"/>
                    </a:lnTo>
                    <a:lnTo>
                      <a:pt x="332" y="0"/>
                    </a:lnTo>
                    <a:lnTo>
                      <a:pt x="341" y="11"/>
                    </a:lnTo>
                    <a:lnTo>
                      <a:pt x="332" y="394"/>
                    </a:lnTo>
                    <a:lnTo>
                      <a:pt x="356" y="579"/>
                    </a:lnTo>
                    <a:lnTo>
                      <a:pt x="345" y="587"/>
                    </a:lnTo>
                    <a:lnTo>
                      <a:pt x="333" y="579"/>
                    </a:lnTo>
                    <a:lnTo>
                      <a:pt x="316" y="587"/>
                    </a:lnTo>
                    <a:lnTo>
                      <a:pt x="301" y="577"/>
                    </a:lnTo>
                    <a:lnTo>
                      <a:pt x="300" y="583"/>
                    </a:lnTo>
                    <a:lnTo>
                      <a:pt x="283" y="586"/>
                    </a:lnTo>
                    <a:lnTo>
                      <a:pt x="260" y="596"/>
                    </a:lnTo>
                    <a:lnTo>
                      <a:pt x="253" y="591"/>
                    </a:lnTo>
                    <a:lnTo>
                      <a:pt x="242" y="611"/>
                    </a:lnTo>
                    <a:lnTo>
                      <a:pt x="231" y="616"/>
                    </a:lnTo>
                    <a:lnTo>
                      <a:pt x="196" y="556"/>
                    </a:lnTo>
                    <a:lnTo>
                      <a:pt x="203" y="514"/>
                    </a:lnTo>
                    <a:lnTo>
                      <a:pt x="0" y="522"/>
                    </a:lnTo>
                  </a:path>
                </a:pathLst>
              </a:custGeom>
              <a:blipFill rotWithShape="0">
                <a:blip r:embed="rId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593320" y="2473920"/>
              <a:ext cx="819720" cy="806760"/>
              <a:chOff x="5593320" y="2473920"/>
              <a:chExt cx="819720" cy="806760"/>
            </a:xfrm>
          </p:grpSpPr>
          <p:sp>
            <p:nvSpPr>
              <p:cNvPr id="184" name=""/>
              <p:cNvSpPr/>
              <p:nvPr/>
            </p:nvSpPr>
            <p:spPr>
              <a:xfrm>
                <a:off x="5593320" y="2896560"/>
                <a:ext cx="738000" cy="38412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986440" y="2473920"/>
                <a:ext cx="426600" cy="48744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blipFill rotWithShape="0">
                <a:blip r:embed="rId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490560" y="2619360"/>
              <a:ext cx="1688400" cy="2027880"/>
              <a:chOff x="3490560" y="2619360"/>
              <a:chExt cx="1688400" cy="2027880"/>
            </a:xfrm>
          </p:grpSpPr>
          <p:sp>
            <p:nvSpPr>
              <p:cNvPr id="187" name=""/>
              <p:cNvSpPr/>
              <p:nvPr/>
            </p:nvSpPr>
            <p:spPr>
              <a:xfrm>
                <a:off x="3596040" y="2619360"/>
                <a:ext cx="741960" cy="593640"/>
              </a:xfrm>
              <a:custGeom>
                <a:avLst/>
                <a:gdLst/>
                <a:ahLst/>
                <a:rect l="l" t="t" r="r" b="b"/>
                <a:pathLst>
                  <a:path w="731" h="578">
                    <a:moveTo>
                      <a:pt x="0" y="504"/>
                    </a:moveTo>
                    <a:lnTo>
                      <a:pt x="71" y="0"/>
                    </a:lnTo>
                    <a:lnTo>
                      <a:pt x="541" y="54"/>
                    </a:lnTo>
                    <a:lnTo>
                      <a:pt x="730" y="71"/>
                    </a:lnTo>
                    <a:lnTo>
                      <a:pt x="722" y="196"/>
                    </a:lnTo>
                    <a:lnTo>
                      <a:pt x="697" y="577"/>
                    </a:lnTo>
                    <a:lnTo>
                      <a:pt x="601" y="569"/>
                    </a:lnTo>
                    <a:lnTo>
                      <a:pt x="301" y="543"/>
                    </a:lnTo>
                    <a:lnTo>
                      <a:pt x="0" y="504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490560" y="3137040"/>
                <a:ext cx="716760" cy="740880"/>
              </a:xfrm>
              <a:custGeom>
                <a:avLst/>
                <a:gdLst/>
                <a:ahLst/>
                <a:rect l="l" t="t" r="r" b="b"/>
                <a:pathLst>
                  <a:path w="706" h="721">
                    <a:moveTo>
                      <a:pt x="0" y="708"/>
                    </a:moveTo>
                    <a:lnTo>
                      <a:pt x="88" y="720"/>
                    </a:lnTo>
                    <a:lnTo>
                      <a:pt x="97" y="665"/>
                    </a:lnTo>
                    <a:lnTo>
                      <a:pt x="275" y="689"/>
                    </a:lnTo>
                    <a:lnTo>
                      <a:pt x="267" y="663"/>
                    </a:lnTo>
                    <a:lnTo>
                      <a:pt x="295" y="664"/>
                    </a:lnTo>
                    <a:lnTo>
                      <a:pt x="648" y="699"/>
                    </a:lnTo>
                    <a:lnTo>
                      <a:pt x="700" y="132"/>
                    </a:lnTo>
                    <a:lnTo>
                      <a:pt x="705" y="65"/>
                    </a:lnTo>
                    <a:lnTo>
                      <a:pt x="405" y="39"/>
                    </a:lnTo>
                    <a:lnTo>
                      <a:pt x="104" y="0"/>
                    </a:lnTo>
                    <a:lnTo>
                      <a:pt x="0" y="708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201200" y="3203640"/>
                <a:ext cx="880200" cy="466200"/>
              </a:xfrm>
              <a:custGeom>
                <a:avLst/>
                <a:gdLst/>
                <a:ahLst/>
                <a:rect l="l" t="t" r="r" b="b"/>
                <a:pathLst>
                  <a:path w="867" h="454">
                    <a:moveTo>
                      <a:pt x="0" y="67"/>
                    </a:moveTo>
                    <a:lnTo>
                      <a:pt x="5" y="0"/>
                    </a:lnTo>
                    <a:lnTo>
                      <a:pt x="101" y="8"/>
                    </a:lnTo>
                    <a:lnTo>
                      <a:pt x="526" y="29"/>
                    </a:lnTo>
                    <a:lnTo>
                      <a:pt x="843" y="27"/>
                    </a:lnTo>
                    <a:lnTo>
                      <a:pt x="845" y="93"/>
                    </a:lnTo>
                    <a:lnTo>
                      <a:pt x="866" y="233"/>
                    </a:lnTo>
                    <a:lnTo>
                      <a:pt x="862" y="453"/>
                    </a:lnTo>
                    <a:lnTo>
                      <a:pt x="835" y="444"/>
                    </a:lnTo>
                    <a:lnTo>
                      <a:pt x="792" y="414"/>
                    </a:lnTo>
                    <a:lnTo>
                      <a:pt x="775" y="423"/>
                    </a:lnTo>
                    <a:lnTo>
                      <a:pt x="719" y="427"/>
                    </a:lnTo>
                    <a:lnTo>
                      <a:pt x="663" y="446"/>
                    </a:lnTo>
                    <a:lnTo>
                      <a:pt x="642" y="425"/>
                    </a:lnTo>
                    <a:lnTo>
                      <a:pt x="614" y="430"/>
                    </a:lnTo>
                    <a:lnTo>
                      <a:pt x="609" y="415"/>
                    </a:lnTo>
                    <a:lnTo>
                      <a:pt x="588" y="429"/>
                    </a:lnTo>
                    <a:lnTo>
                      <a:pt x="585" y="446"/>
                    </a:lnTo>
                    <a:lnTo>
                      <a:pt x="579" y="423"/>
                    </a:lnTo>
                    <a:lnTo>
                      <a:pt x="559" y="436"/>
                    </a:lnTo>
                    <a:lnTo>
                      <a:pt x="527" y="411"/>
                    </a:lnTo>
                    <a:lnTo>
                      <a:pt x="510" y="429"/>
                    </a:lnTo>
                    <a:lnTo>
                      <a:pt x="499" y="419"/>
                    </a:lnTo>
                    <a:lnTo>
                      <a:pt x="484" y="388"/>
                    </a:lnTo>
                    <a:lnTo>
                      <a:pt x="456" y="386"/>
                    </a:lnTo>
                    <a:lnTo>
                      <a:pt x="452" y="395"/>
                    </a:lnTo>
                    <a:lnTo>
                      <a:pt x="434" y="384"/>
                    </a:lnTo>
                    <a:lnTo>
                      <a:pt x="419" y="388"/>
                    </a:lnTo>
                    <a:lnTo>
                      <a:pt x="398" y="379"/>
                    </a:lnTo>
                    <a:lnTo>
                      <a:pt x="372" y="376"/>
                    </a:lnTo>
                    <a:lnTo>
                      <a:pt x="373" y="360"/>
                    </a:lnTo>
                    <a:lnTo>
                      <a:pt x="358" y="345"/>
                    </a:lnTo>
                    <a:lnTo>
                      <a:pt x="351" y="355"/>
                    </a:lnTo>
                    <a:lnTo>
                      <a:pt x="322" y="354"/>
                    </a:lnTo>
                    <a:lnTo>
                      <a:pt x="293" y="329"/>
                    </a:lnTo>
                    <a:lnTo>
                      <a:pt x="302" y="85"/>
                    </a:lnTo>
                    <a:lnTo>
                      <a:pt x="0" y="67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755520" y="3254040"/>
                <a:ext cx="1423440" cy="1393200"/>
              </a:xfrm>
              <a:custGeom>
                <a:avLst/>
                <a:gdLst/>
                <a:ahLst/>
                <a:rect l="l" t="t" r="r" b="b"/>
                <a:pathLst>
                  <a:path w="1402" h="1356">
                    <a:moveTo>
                      <a:pt x="8" y="557"/>
                    </a:moveTo>
                    <a:lnTo>
                      <a:pt x="0" y="531"/>
                    </a:lnTo>
                    <a:lnTo>
                      <a:pt x="28" y="532"/>
                    </a:lnTo>
                    <a:lnTo>
                      <a:pt x="381" y="567"/>
                    </a:lnTo>
                    <a:lnTo>
                      <a:pt x="433" y="0"/>
                    </a:lnTo>
                    <a:lnTo>
                      <a:pt x="735" y="18"/>
                    </a:lnTo>
                    <a:lnTo>
                      <a:pt x="726" y="262"/>
                    </a:lnTo>
                    <a:lnTo>
                      <a:pt x="755" y="287"/>
                    </a:lnTo>
                    <a:lnTo>
                      <a:pt x="784" y="288"/>
                    </a:lnTo>
                    <a:lnTo>
                      <a:pt x="791" y="278"/>
                    </a:lnTo>
                    <a:lnTo>
                      <a:pt x="806" y="293"/>
                    </a:lnTo>
                    <a:lnTo>
                      <a:pt x="805" y="309"/>
                    </a:lnTo>
                    <a:lnTo>
                      <a:pt x="831" y="312"/>
                    </a:lnTo>
                    <a:lnTo>
                      <a:pt x="852" y="321"/>
                    </a:lnTo>
                    <a:lnTo>
                      <a:pt x="867" y="317"/>
                    </a:lnTo>
                    <a:lnTo>
                      <a:pt x="885" y="328"/>
                    </a:lnTo>
                    <a:lnTo>
                      <a:pt x="889" y="319"/>
                    </a:lnTo>
                    <a:lnTo>
                      <a:pt x="917" y="321"/>
                    </a:lnTo>
                    <a:lnTo>
                      <a:pt x="932" y="352"/>
                    </a:lnTo>
                    <a:lnTo>
                      <a:pt x="943" y="362"/>
                    </a:lnTo>
                    <a:lnTo>
                      <a:pt x="960" y="344"/>
                    </a:lnTo>
                    <a:lnTo>
                      <a:pt x="992" y="369"/>
                    </a:lnTo>
                    <a:lnTo>
                      <a:pt x="1012" y="356"/>
                    </a:lnTo>
                    <a:lnTo>
                      <a:pt x="1018" y="379"/>
                    </a:lnTo>
                    <a:lnTo>
                      <a:pt x="1021" y="362"/>
                    </a:lnTo>
                    <a:lnTo>
                      <a:pt x="1042" y="348"/>
                    </a:lnTo>
                    <a:lnTo>
                      <a:pt x="1047" y="363"/>
                    </a:lnTo>
                    <a:lnTo>
                      <a:pt x="1075" y="358"/>
                    </a:lnTo>
                    <a:lnTo>
                      <a:pt x="1096" y="379"/>
                    </a:lnTo>
                    <a:lnTo>
                      <a:pt x="1152" y="360"/>
                    </a:lnTo>
                    <a:lnTo>
                      <a:pt x="1208" y="356"/>
                    </a:lnTo>
                    <a:lnTo>
                      <a:pt x="1225" y="347"/>
                    </a:lnTo>
                    <a:lnTo>
                      <a:pt x="1268" y="377"/>
                    </a:lnTo>
                    <a:lnTo>
                      <a:pt x="1295" y="386"/>
                    </a:lnTo>
                    <a:lnTo>
                      <a:pt x="1305" y="398"/>
                    </a:lnTo>
                    <a:lnTo>
                      <a:pt x="1342" y="398"/>
                    </a:lnTo>
                    <a:lnTo>
                      <a:pt x="1343" y="466"/>
                    </a:lnTo>
                    <a:lnTo>
                      <a:pt x="1349" y="598"/>
                    </a:lnTo>
                    <a:lnTo>
                      <a:pt x="1365" y="615"/>
                    </a:lnTo>
                    <a:lnTo>
                      <a:pt x="1370" y="649"/>
                    </a:lnTo>
                    <a:lnTo>
                      <a:pt x="1401" y="696"/>
                    </a:lnTo>
                    <a:lnTo>
                      <a:pt x="1399" y="736"/>
                    </a:lnTo>
                    <a:lnTo>
                      <a:pt x="1382" y="774"/>
                    </a:lnTo>
                    <a:lnTo>
                      <a:pt x="1382" y="795"/>
                    </a:lnTo>
                    <a:lnTo>
                      <a:pt x="1388" y="817"/>
                    </a:lnTo>
                    <a:lnTo>
                      <a:pt x="1386" y="839"/>
                    </a:lnTo>
                    <a:lnTo>
                      <a:pt x="1376" y="852"/>
                    </a:lnTo>
                    <a:lnTo>
                      <a:pt x="1362" y="870"/>
                    </a:lnTo>
                    <a:lnTo>
                      <a:pt x="1371" y="881"/>
                    </a:lnTo>
                    <a:lnTo>
                      <a:pt x="1315" y="899"/>
                    </a:lnTo>
                    <a:lnTo>
                      <a:pt x="1270" y="925"/>
                    </a:lnTo>
                    <a:lnTo>
                      <a:pt x="1297" y="903"/>
                    </a:lnTo>
                    <a:lnTo>
                      <a:pt x="1268" y="903"/>
                    </a:lnTo>
                    <a:lnTo>
                      <a:pt x="1276" y="869"/>
                    </a:lnTo>
                    <a:lnTo>
                      <a:pt x="1252" y="889"/>
                    </a:lnTo>
                    <a:lnTo>
                      <a:pt x="1241" y="882"/>
                    </a:lnTo>
                    <a:lnTo>
                      <a:pt x="1242" y="905"/>
                    </a:lnTo>
                    <a:lnTo>
                      <a:pt x="1251" y="909"/>
                    </a:lnTo>
                    <a:lnTo>
                      <a:pt x="1253" y="930"/>
                    </a:lnTo>
                    <a:lnTo>
                      <a:pt x="1237" y="947"/>
                    </a:lnTo>
                    <a:lnTo>
                      <a:pt x="1225" y="946"/>
                    </a:lnTo>
                    <a:lnTo>
                      <a:pt x="1223" y="970"/>
                    </a:lnTo>
                    <a:lnTo>
                      <a:pt x="1092" y="1049"/>
                    </a:lnTo>
                    <a:lnTo>
                      <a:pt x="1094" y="1041"/>
                    </a:lnTo>
                    <a:lnTo>
                      <a:pt x="1154" y="1003"/>
                    </a:lnTo>
                    <a:lnTo>
                      <a:pt x="1108" y="1026"/>
                    </a:lnTo>
                    <a:lnTo>
                      <a:pt x="1111" y="1004"/>
                    </a:lnTo>
                    <a:lnTo>
                      <a:pt x="1098" y="1016"/>
                    </a:lnTo>
                    <a:lnTo>
                      <a:pt x="1086" y="1009"/>
                    </a:lnTo>
                    <a:lnTo>
                      <a:pt x="1079" y="1026"/>
                    </a:lnTo>
                    <a:lnTo>
                      <a:pt x="1059" y="1009"/>
                    </a:lnTo>
                    <a:lnTo>
                      <a:pt x="1061" y="1026"/>
                    </a:lnTo>
                    <a:lnTo>
                      <a:pt x="1086" y="1042"/>
                    </a:lnTo>
                    <a:lnTo>
                      <a:pt x="1057" y="1056"/>
                    </a:lnTo>
                    <a:lnTo>
                      <a:pt x="1045" y="1037"/>
                    </a:lnTo>
                    <a:lnTo>
                      <a:pt x="1035" y="1089"/>
                    </a:lnTo>
                    <a:lnTo>
                      <a:pt x="1023" y="1068"/>
                    </a:lnTo>
                    <a:lnTo>
                      <a:pt x="998" y="1076"/>
                    </a:lnTo>
                    <a:lnTo>
                      <a:pt x="993" y="1090"/>
                    </a:lnTo>
                    <a:lnTo>
                      <a:pt x="1005" y="1113"/>
                    </a:lnTo>
                    <a:lnTo>
                      <a:pt x="959" y="1115"/>
                    </a:lnTo>
                    <a:lnTo>
                      <a:pt x="975" y="1120"/>
                    </a:lnTo>
                    <a:lnTo>
                      <a:pt x="977" y="1143"/>
                    </a:lnTo>
                    <a:lnTo>
                      <a:pt x="987" y="1138"/>
                    </a:lnTo>
                    <a:lnTo>
                      <a:pt x="981" y="1153"/>
                    </a:lnTo>
                    <a:lnTo>
                      <a:pt x="961" y="1187"/>
                    </a:lnTo>
                    <a:lnTo>
                      <a:pt x="962" y="1171"/>
                    </a:lnTo>
                    <a:lnTo>
                      <a:pt x="948" y="1185"/>
                    </a:lnTo>
                    <a:lnTo>
                      <a:pt x="930" y="1165"/>
                    </a:lnTo>
                    <a:lnTo>
                      <a:pt x="934" y="1189"/>
                    </a:lnTo>
                    <a:lnTo>
                      <a:pt x="969" y="1192"/>
                    </a:lnTo>
                    <a:lnTo>
                      <a:pt x="954" y="1227"/>
                    </a:lnTo>
                    <a:lnTo>
                      <a:pt x="966" y="1296"/>
                    </a:lnTo>
                    <a:lnTo>
                      <a:pt x="997" y="1353"/>
                    </a:lnTo>
                    <a:lnTo>
                      <a:pt x="958" y="1355"/>
                    </a:lnTo>
                    <a:lnTo>
                      <a:pt x="918" y="1339"/>
                    </a:lnTo>
                    <a:lnTo>
                      <a:pt x="884" y="1340"/>
                    </a:lnTo>
                    <a:lnTo>
                      <a:pt x="836" y="1312"/>
                    </a:lnTo>
                    <a:lnTo>
                      <a:pt x="779" y="1291"/>
                    </a:lnTo>
                    <a:lnTo>
                      <a:pt x="772" y="1269"/>
                    </a:lnTo>
                    <a:lnTo>
                      <a:pt x="760" y="1236"/>
                    </a:lnTo>
                    <a:lnTo>
                      <a:pt x="741" y="1212"/>
                    </a:lnTo>
                    <a:lnTo>
                      <a:pt x="743" y="1187"/>
                    </a:lnTo>
                    <a:lnTo>
                      <a:pt x="733" y="1178"/>
                    </a:lnTo>
                    <a:lnTo>
                      <a:pt x="734" y="1143"/>
                    </a:lnTo>
                    <a:lnTo>
                      <a:pt x="699" y="1116"/>
                    </a:lnTo>
                    <a:lnTo>
                      <a:pt x="664" y="1063"/>
                    </a:lnTo>
                    <a:lnTo>
                      <a:pt x="603" y="928"/>
                    </a:lnTo>
                    <a:lnTo>
                      <a:pt x="557" y="893"/>
                    </a:lnTo>
                    <a:lnTo>
                      <a:pt x="543" y="862"/>
                    </a:lnTo>
                    <a:lnTo>
                      <a:pt x="503" y="857"/>
                    </a:lnTo>
                    <a:lnTo>
                      <a:pt x="471" y="852"/>
                    </a:lnTo>
                    <a:lnTo>
                      <a:pt x="441" y="839"/>
                    </a:lnTo>
                    <a:lnTo>
                      <a:pt x="432" y="852"/>
                    </a:lnTo>
                    <a:lnTo>
                      <a:pt x="402" y="852"/>
                    </a:lnTo>
                    <a:lnTo>
                      <a:pt x="374" y="917"/>
                    </a:lnTo>
                    <a:lnTo>
                      <a:pt x="344" y="944"/>
                    </a:lnTo>
                    <a:lnTo>
                      <a:pt x="326" y="944"/>
                    </a:lnTo>
                    <a:lnTo>
                      <a:pt x="273" y="902"/>
                    </a:lnTo>
                    <a:lnTo>
                      <a:pt x="250" y="896"/>
                    </a:lnTo>
                    <a:lnTo>
                      <a:pt x="198" y="850"/>
                    </a:lnTo>
                    <a:lnTo>
                      <a:pt x="185" y="812"/>
                    </a:lnTo>
                    <a:lnTo>
                      <a:pt x="185" y="774"/>
                    </a:lnTo>
                    <a:lnTo>
                      <a:pt x="161" y="721"/>
                    </a:lnTo>
                    <a:lnTo>
                      <a:pt x="118" y="687"/>
                    </a:lnTo>
                    <a:lnTo>
                      <a:pt x="60" y="613"/>
                    </a:lnTo>
                    <a:lnTo>
                      <a:pt x="39" y="601"/>
                    </a:lnTo>
                    <a:lnTo>
                      <a:pt x="24" y="563"/>
                    </a:lnTo>
                    <a:lnTo>
                      <a:pt x="8" y="557"/>
                    </a:lnTo>
                  </a:path>
                </a:pathLst>
              </a:custGeom>
              <a:solidFill>
                <a:srgbClr val="0099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962040" y="1544040"/>
              <a:ext cx="564480" cy="846720"/>
              <a:chOff x="6962040" y="1544040"/>
              <a:chExt cx="564480" cy="846720"/>
            </a:xfrm>
          </p:grpSpPr>
          <p:sp>
            <p:nvSpPr>
              <p:cNvPr id="192" name=""/>
              <p:cNvSpPr/>
              <p:nvPr/>
            </p:nvSpPr>
            <p:spPr>
              <a:xfrm>
                <a:off x="7194600" y="2290320"/>
                <a:ext cx="79920" cy="10044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9"/>
                    </a:moveTo>
                    <a:lnTo>
                      <a:pt x="17" y="92"/>
                    </a:lnTo>
                    <a:lnTo>
                      <a:pt x="20" y="97"/>
                    </a:lnTo>
                    <a:lnTo>
                      <a:pt x="50" y="79"/>
                    </a:lnTo>
                    <a:lnTo>
                      <a:pt x="46" y="54"/>
                    </a:lnTo>
                    <a:lnTo>
                      <a:pt x="51" y="42"/>
                    </a:lnTo>
                    <a:lnTo>
                      <a:pt x="58" y="52"/>
                    </a:lnTo>
                    <a:lnTo>
                      <a:pt x="61" y="69"/>
                    </a:lnTo>
                    <a:lnTo>
                      <a:pt x="69" y="68"/>
                    </a:lnTo>
                    <a:lnTo>
                      <a:pt x="78" y="52"/>
                    </a:lnTo>
                    <a:lnTo>
                      <a:pt x="69" y="30"/>
                    </a:lnTo>
                    <a:lnTo>
                      <a:pt x="51" y="2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93" name=""/>
              <p:cNvGrpSpPr/>
              <p:nvPr/>
            </p:nvGrpSpPr>
            <p:grpSpPr>
              <a:xfrm>
                <a:off x="6962040" y="1544040"/>
                <a:ext cx="564480" cy="821160"/>
                <a:chOff x="6962040" y="1544040"/>
                <a:chExt cx="564480" cy="82116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7364880" y="2333520"/>
                  <a:ext cx="25200" cy="20160"/>
                </a:xfrm>
                <a:custGeom>
                  <a:avLst/>
                  <a:gdLst/>
                  <a:ahLst/>
                  <a:rect l="l" t="t" r="r" b="b"/>
                  <a:pathLst>
                    <a:path w="25" h="20">
                      <a:moveTo>
                        <a:pt x="0" y="19"/>
                      </a:moveTo>
                      <a:lnTo>
                        <a:pt x="14" y="0"/>
                      </a:lnTo>
                      <a:lnTo>
                        <a:pt x="24" y="16"/>
                      </a:lnTo>
                      <a:lnTo>
                        <a:pt x="0" y="19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962040" y="1544040"/>
                  <a:ext cx="564480" cy="821160"/>
                  <a:chOff x="6962040" y="1544040"/>
                  <a:chExt cx="564480" cy="82116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7152840" y="1544040"/>
                    <a:ext cx="373680" cy="59544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580">
                        <a:moveTo>
                          <a:pt x="0" y="314"/>
                        </a:moveTo>
                        <a:lnTo>
                          <a:pt x="21" y="316"/>
                        </a:lnTo>
                        <a:lnTo>
                          <a:pt x="23" y="278"/>
                        </a:lnTo>
                        <a:lnTo>
                          <a:pt x="50" y="226"/>
                        </a:lnTo>
                        <a:lnTo>
                          <a:pt x="37" y="189"/>
                        </a:lnTo>
                        <a:lnTo>
                          <a:pt x="48" y="139"/>
                        </a:lnTo>
                        <a:lnTo>
                          <a:pt x="47" y="120"/>
                        </a:lnTo>
                        <a:lnTo>
                          <a:pt x="89" y="10"/>
                        </a:lnTo>
                        <a:lnTo>
                          <a:pt x="100" y="10"/>
                        </a:lnTo>
                        <a:lnTo>
                          <a:pt x="106" y="31"/>
                        </a:lnTo>
                        <a:lnTo>
                          <a:pt x="158" y="12"/>
                        </a:lnTo>
                        <a:lnTo>
                          <a:pt x="159" y="4"/>
                        </a:lnTo>
                        <a:lnTo>
                          <a:pt x="174" y="0"/>
                        </a:lnTo>
                        <a:lnTo>
                          <a:pt x="202" y="13"/>
                        </a:lnTo>
                        <a:lnTo>
                          <a:pt x="222" y="31"/>
                        </a:lnTo>
                        <a:lnTo>
                          <a:pt x="269" y="191"/>
                        </a:lnTo>
                        <a:lnTo>
                          <a:pt x="301" y="192"/>
                        </a:lnTo>
                        <a:lnTo>
                          <a:pt x="307" y="201"/>
                        </a:lnTo>
                        <a:lnTo>
                          <a:pt x="302" y="207"/>
                        </a:lnTo>
                        <a:lnTo>
                          <a:pt x="326" y="244"/>
                        </a:lnTo>
                        <a:lnTo>
                          <a:pt x="332" y="236"/>
                        </a:lnTo>
                        <a:lnTo>
                          <a:pt x="357" y="261"/>
                        </a:lnTo>
                        <a:lnTo>
                          <a:pt x="347" y="267"/>
                        </a:lnTo>
                        <a:lnTo>
                          <a:pt x="349" y="273"/>
                        </a:lnTo>
                        <a:lnTo>
                          <a:pt x="367" y="273"/>
                        </a:lnTo>
                        <a:lnTo>
                          <a:pt x="354" y="303"/>
                        </a:lnTo>
                        <a:lnTo>
                          <a:pt x="339" y="299"/>
                        </a:lnTo>
                        <a:lnTo>
                          <a:pt x="326" y="311"/>
                        </a:lnTo>
                        <a:lnTo>
                          <a:pt x="327" y="324"/>
                        </a:lnTo>
                        <a:lnTo>
                          <a:pt x="317" y="332"/>
                        </a:lnTo>
                        <a:lnTo>
                          <a:pt x="304" y="327"/>
                        </a:lnTo>
                        <a:lnTo>
                          <a:pt x="305" y="347"/>
                        </a:lnTo>
                        <a:lnTo>
                          <a:pt x="295" y="340"/>
                        </a:lnTo>
                        <a:lnTo>
                          <a:pt x="291" y="362"/>
                        </a:lnTo>
                        <a:lnTo>
                          <a:pt x="274" y="343"/>
                        </a:lnTo>
                        <a:lnTo>
                          <a:pt x="261" y="360"/>
                        </a:lnTo>
                        <a:lnTo>
                          <a:pt x="246" y="368"/>
                        </a:lnTo>
                        <a:lnTo>
                          <a:pt x="243" y="386"/>
                        </a:lnTo>
                        <a:lnTo>
                          <a:pt x="227" y="381"/>
                        </a:lnTo>
                        <a:lnTo>
                          <a:pt x="233" y="367"/>
                        </a:lnTo>
                        <a:lnTo>
                          <a:pt x="222" y="353"/>
                        </a:lnTo>
                        <a:lnTo>
                          <a:pt x="209" y="375"/>
                        </a:lnTo>
                        <a:lnTo>
                          <a:pt x="215" y="421"/>
                        </a:lnTo>
                        <a:lnTo>
                          <a:pt x="207" y="433"/>
                        </a:lnTo>
                        <a:lnTo>
                          <a:pt x="196" y="434"/>
                        </a:lnTo>
                        <a:lnTo>
                          <a:pt x="188" y="432"/>
                        </a:lnTo>
                        <a:lnTo>
                          <a:pt x="175" y="459"/>
                        </a:lnTo>
                        <a:lnTo>
                          <a:pt x="159" y="459"/>
                        </a:lnTo>
                        <a:lnTo>
                          <a:pt x="161" y="482"/>
                        </a:lnTo>
                        <a:lnTo>
                          <a:pt x="150" y="465"/>
                        </a:lnTo>
                        <a:lnTo>
                          <a:pt x="127" y="484"/>
                        </a:lnTo>
                        <a:lnTo>
                          <a:pt x="123" y="499"/>
                        </a:lnTo>
                        <a:lnTo>
                          <a:pt x="131" y="509"/>
                        </a:lnTo>
                        <a:lnTo>
                          <a:pt x="120" y="514"/>
                        </a:lnTo>
                        <a:lnTo>
                          <a:pt x="123" y="531"/>
                        </a:lnTo>
                        <a:lnTo>
                          <a:pt x="112" y="544"/>
                        </a:lnTo>
                        <a:lnTo>
                          <a:pt x="110" y="579"/>
                        </a:lnTo>
                        <a:lnTo>
                          <a:pt x="102" y="579"/>
                        </a:lnTo>
                        <a:lnTo>
                          <a:pt x="69" y="532"/>
                        </a:lnTo>
                        <a:lnTo>
                          <a:pt x="0" y="314"/>
                        </a:lnTo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035840" y="2170440"/>
                    <a:ext cx="340920" cy="1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71">
                        <a:moveTo>
                          <a:pt x="0" y="68"/>
                        </a:moveTo>
                        <a:lnTo>
                          <a:pt x="0" y="159"/>
                        </a:lnTo>
                        <a:lnTo>
                          <a:pt x="156" y="126"/>
                        </a:lnTo>
                        <a:lnTo>
                          <a:pt x="184" y="117"/>
                        </a:lnTo>
                        <a:lnTo>
                          <a:pt x="194" y="118"/>
                        </a:lnTo>
                        <a:lnTo>
                          <a:pt x="207" y="144"/>
                        </a:lnTo>
                        <a:lnTo>
                          <a:pt x="225" y="147"/>
                        </a:lnTo>
                        <a:lnTo>
                          <a:pt x="234" y="169"/>
                        </a:lnTo>
                        <a:lnTo>
                          <a:pt x="246" y="170"/>
                        </a:lnTo>
                        <a:lnTo>
                          <a:pt x="249" y="155"/>
                        </a:lnTo>
                        <a:lnTo>
                          <a:pt x="258" y="150"/>
                        </a:lnTo>
                        <a:lnTo>
                          <a:pt x="262" y="134"/>
                        </a:lnTo>
                        <a:lnTo>
                          <a:pt x="267" y="133"/>
                        </a:lnTo>
                        <a:lnTo>
                          <a:pt x="274" y="156"/>
                        </a:lnTo>
                        <a:lnTo>
                          <a:pt x="290" y="150"/>
                        </a:lnTo>
                        <a:lnTo>
                          <a:pt x="293" y="140"/>
                        </a:lnTo>
                        <a:lnTo>
                          <a:pt x="313" y="130"/>
                        </a:lnTo>
                        <a:lnTo>
                          <a:pt x="326" y="127"/>
                        </a:lnTo>
                        <a:lnTo>
                          <a:pt x="335" y="135"/>
                        </a:lnTo>
                        <a:lnTo>
                          <a:pt x="332" y="112"/>
                        </a:lnTo>
                        <a:lnTo>
                          <a:pt x="316" y="83"/>
                        </a:lnTo>
                        <a:lnTo>
                          <a:pt x="305" y="79"/>
                        </a:lnTo>
                        <a:lnTo>
                          <a:pt x="295" y="79"/>
                        </a:lnTo>
                        <a:lnTo>
                          <a:pt x="297" y="86"/>
                        </a:lnTo>
                        <a:lnTo>
                          <a:pt x="304" y="86"/>
                        </a:lnTo>
                        <a:lnTo>
                          <a:pt x="311" y="87"/>
                        </a:lnTo>
                        <a:lnTo>
                          <a:pt x="319" y="95"/>
                        </a:lnTo>
                        <a:lnTo>
                          <a:pt x="323" y="106"/>
                        </a:lnTo>
                        <a:lnTo>
                          <a:pt x="318" y="116"/>
                        </a:lnTo>
                        <a:lnTo>
                          <a:pt x="292" y="127"/>
                        </a:lnTo>
                        <a:lnTo>
                          <a:pt x="278" y="121"/>
                        </a:lnTo>
                        <a:lnTo>
                          <a:pt x="271" y="106"/>
                        </a:lnTo>
                        <a:lnTo>
                          <a:pt x="258" y="104"/>
                        </a:lnTo>
                        <a:lnTo>
                          <a:pt x="260" y="95"/>
                        </a:lnTo>
                        <a:lnTo>
                          <a:pt x="247" y="78"/>
                        </a:lnTo>
                        <a:lnTo>
                          <a:pt x="228" y="70"/>
                        </a:lnTo>
                        <a:lnTo>
                          <a:pt x="228" y="79"/>
                        </a:lnTo>
                        <a:lnTo>
                          <a:pt x="217" y="75"/>
                        </a:lnTo>
                        <a:lnTo>
                          <a:pt x="213" y="65"/>
                        </a:lnTo>
                        <a:lnTo>
                          <a:pt x="215" y="55"/>
                        </a:lnTo>
                        <a:lnTo>
                          <a:pt x="226" y="47"/>
                        </a:lnTo>
                        <a:lnTo>
                          <a:pt x="222" y="39"/>
                        </a:lnTo>
                        <a:lnTo>
                          <a:pt x="237" y="28"/>
                        </a:lnTo>
                        <a:lnTo>
                          <a:pt x="222" y="17"/>
                        </a:lnTo>
                        <a:lnTo>
                          <a:pt x="215" y="0"/>
                        </a:lnTo>
                        <a:lnTo>
                          <a:pt x="184" y="24"/>
                        </a:lnTo>
                        <a:lnTo>
                          <a:pt x="72" y="53"/>
                        </a:lnTo>
                        <a:lnTo>
                          <a:pt x="0" y="68"/>
                        </a:lnTo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308000" y="2338560"/>
                    <a:ext cx="31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26">
                        <a:moveTo>
                          <a:pt x="0" y="25"/>
                        </a:moveTo>
                        <a:lnTo>
                          <a:pt x="12" y="0"/>
                        </a:lnTo>
                        <a:lnTo>
                          <a:pt x="30" y="11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094880" y="1866240"/>
                    <a:ext cx="165240" cy="35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350">
                        <a:moveTo>
                          <a:pt x="0" y="239"/>
                        </a:moveTo>
                        <a:lnTo>
                          <a:pt x="9" y="163"/>
                        </a:lnTo>
                        <a:lnTo>
                          <a:pt x="27" y="128"/>
                        </a:lnTo>
                        <a:lnTo>
                          <a:pt x="30" y="46"/>
                        </a:lnTo>
                        <a:lnTo>
                          <a:pt x="28" y="18"/>
                        </a:lnTo>
                        <a:lnTo>
                          <a:pt x="57" y="0"/>
                        </a:lnTo>
                        <a:lnTo>
                          <a:pt x="126" y="218"/>
                        </a:lnTo>
                        <a:lnTo>
                          <a:pt x="159" y="265"/>
                        </a:lnTo>
                        <a:lnTo>
                          <a:pt x="162" y="275"/>
                        </a:lnTo>
                        <a:lnTo>
                          <a:pt x="157" y="296"/>
                        </a:lnTo>
                        <a:lnTo>
                          <a:pt x="126" y="320"/>
                        </a:lnTo>
                        <a:lnTo>
                          <a:pt x="14" y="349"/>
                        </a:lnTo>
                        <a:lnTo>
                          <a:pt x="0" y="239"/>
                        </a:lnTo>
                      </a:path>
                    </a:pathLst>
                  </a:custGeom>
                  <a:blipFill rotWithShape="0">
                    <a:blip r:embed="rId12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6962040" y="1913400"/>
                    <a:ext cx="164160" cy="32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19">
                        <a:moveTo>
                          <a:pt x="0" y="40"/>
                        </a:moveTo>
                        <a:lnTo>
                          <a:pt x="25" y="131"/>
                        </a:lnTo>
                        <a:lnTo>
                          <a:pt x="31" y="189"/>
                        </a:lnTo>
                        <a:lnTo>
                          <a:pt x="58" y="248"/>
                        </a:lnTo>
                        <a:lnTo>
                          <a:pt x="73" y="318"/>
                        </a:lnTo>
                        <a:lnTo>
                          <a:pt x="145" y="303"/>
                        </a:lnTo>
                        <a:lnTo>
                          <a:pt x="131" y="193"/>
                        </a:lnTo>
                        <a:lnTo>
                          <a:pt x="140" y="117"/>
                        </a:lnTo>
                        <a:lnTo>
                          <a:pt x="158" y="82"/>
                        </a:lnTo>
                        <a:lnTo>
                          <a:pt x="161" y="0"/>
                        </a:lnTo>
                        <a:lnTo>
                          <a:pt x="0" y="40"/>
                        </a:lnTo>
                      </a:path>
                    </a:pathLst>
                  </a:custGeom>
                  <a:blipFill rotWithShape="0">
                    <a:blip r:embed="rId13"/>
                    <a:srcRect/>
                    <a:tile tx="0" ty="0" sx="100000" sy="100000" algn="ctr"/>
                  </a:blip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01" name=""/>
            <p:cNvGrpSpPr/>
            <p:nvPr/>
          </p:nvGrpSpPr>
          <p:grpSpPr>
            <a:xfrm>
              <a:off x="2287080" y="1371600"/>
              <a:ext cx="1288080" cy="3291840"/>
              <a:chOff x="2287080" y="1371600"/>
              <a:chExt cx="1288080" cy="3291840"/>
            </a:xfrm>
          </p:grpSpPr>
          <p:sp>
            <p:nvSpPr>
              <p:cNvPr id="202" name=""/>
              <p:cNvSpPr/>
              <p:nvPr/>
            </p:nvSpPr>
            <p:spPr>
              <a:xfrm>
                <a:off x="3521880" y="4597560"/>
                <a:ext cx="18360" cy="34560"/>
              </a:xfrm>
              <a:custGeom>
                <a:avLst/>
                <a:gdLst/>
                <a:ahLst/>
                <a:rect l="l" t="t" r="r" b="b"/>
                <a:pathLst>
                  <a:path w="18" h="34">
                    <a:moveTo>
                      <a:pt x="0" y="33"/>
                    </a:moveTo>
                    <a:lnTo>
                      <a:pt x="4" y="0"/>
                    </a:lnTo>
                    <a:lnTo>
                      <a:pt x="17" y="28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3" name=""/>
              <p:cNvGrpSpPr/>
              <p:nvPr/>
            </p:nvGrpSpPr>
            <p:grpSpPr>
              <a:xfrm>
                <a:off x="2287080" y="1371600"/>
                <a:ext cx="1288080" cy="3291840"/>
                <a:chOff x="2287080" y="1371600"/>
                <a:chExt cx="1288080" cy="3291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2540880" y="4604400"/>
                  <a:ext cx="55440" cy="22320"/>
                </a:xfrm>
                <a:custGeom>
                  <a:avLst/>
                  <a:gdLst/>
                  <a:ahLst/>
                  <a:rect l="l" t="t" r="r" b="b"/>
                  <a:pathLst>
                    <a:path w="55" h="22">
                      <a:moveTo>
                        <a:pt x="0" y="21"/>
                      </a:moveTo>
                      <a:lnTo>
                        <a:pt x="13" y="0"/>
                      </a:lnTo>
                      <a:lnTo>
                        <a:pt x="45" y="0"/>
                      </a:lnTo>
                      <a:lnTo>
                        <a:pt x="54" y="20"/>
                      </a:lnTo>
                      <a:lnTo>
                        <a:pt x="19" y="1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5" name=""/>
                <p:cNvGrpSpPr/>
                <p:nvPr/>
              </p:nvGrpSpPr>
              <p:grpSpPr>
                <a:xfrm>
                  <a:off x="2287080" y="1371600"/>
                  <a:ext cx="1288080" cy="3291840"/>
                  <a:chOff x="2287080" y="1371600"/>
                  <a:chExt cx="1288080" cy="3291840"/>
                </a:xfrm>
              </p:grpSpPr>
              <p:sp>
                <p:nvSpPr>
                  <p:cNvPr id="206" name=""/>
                  <p:cNvSpPr/>
                  <p:nvPr/>
                </p:nvSpPr>
                <p:spPr>
                  <a:xfrm>
                    <a:off x="2475720" y="4627080"/>
                    <a:ext cx="29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21">
                        <a:moveTo>
                          <a:pt x="0" y="20"/>
                        </a:moveTo>
                        <a:lnTo>
                          <a:pt x="6" y="0"/>
                        </a:lnTo>
                        <a:lnTo>
                          <a:pt x="28" y="4"/>
                        </a:lnTo>
                        <a:lnTo>
                          <a:pt x="25" y="15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fff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287080" y="1371600"/>
                    <a:ext cx="1288080" cy="3291840"/>
                    <a:chOff x="2287080" y="1371600"/>
                    <a:chExt cx="1288080" cy="3291840"/>
                  </a:xfrm>
                </p:grpSpPr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2401560" y="3811320"/>
                      <a:ext cx="1173600" cy="852120"/>
                      <a:chOff x="2401560" y="3811320"/>
                      <a:chExt cx="1173600" cy="85212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2401560" y="4636800"/>
                        <a:ext cx="51480" cy="26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26">
                            <a:moveTo>
                              <a:pt x="0" y="25"/>
                            </a:moveTo>
                            <a:lnTo>
                              <a:pt x="13" y="13"/>
                            </a:lnTo>
                            <a:lnTo>
                              <a:pt x="47" y="0"/>
                            </a:lnTo>
                            <a:lnTo>
                              <a:pt x="50" y="5"/>
                            </a:lnTo>
                            <a:lnTo>
                              <a:pt x="0" y="25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0160" bIns="-20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2591280" y="3811320"/>
                        <a:ext cx="983880" cy="83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9" h="816">
                            <a:moveTo>
                              <a:pt x="0" y="778"/>
                            </a:moveTo>
                            <a:lnTo>
                              <a:pt x="9" y="765"/>
                            </a:lnTo>
                            <a:lnTo>
                              <a:pt x="16" y="766"/>
                            </a:lnTo>
                            <a:lnTo>
                              <a:pt x="55" y="739"/>
                            </a:lnTo>
                            <a:lnTo>
                              <a:pt x="80" y="744"/>
                            </a:lnTo>
                            <a:lnTo>
                              <a:pt x="86" y="755"/>
                            </a:lnTo>
                            <a:lnTo>
                              <a:pt x="88" y="743"/>
                            </a:lnTo>
                            <a:lnTo>
                              <a:pt x="112" y="726"/>
                            </a:lnTo>
                            <a:lnTo>
                              <a:pt x="150" y="712"/>
                            </a:lnTo>
                            <a:lnTo>
                              <a:pt x="184" y="684"/>
                            </a:lnTo>
                            <a:lnTo>
                              <a:pt x="192" y="687"/>
                            </a:lnTo>
                            <a:lnTo>
                              <a:pt x="198" y="651"/>
                            </a:lnTo>
                            <a:lnTo>
                              <a:pt x="218" y="623"/>
                            </a:lnTo>
                            <a:lnTo>
                              <a:pt x="183" y="625"/>
                            </a:lnTo>
                            <a:lnTo>
                              <a:pt x="188" y="612"/>
                            </a:lnTo>
                            <a:lnTo>
                              <a:pt x="199" y="612"/>
                            </a:lnTo>
                            <a:lnTo>
                              <a:pt x="188" y="606"/>
                            </a:lnTo>
                            <a:lnTo>
                              <a:pt x="171" y="623"/>
                            </a:lnTo>
                            <a:lnTo>
                              <a:pt x="170" y="634"/>
                            </a:lnTo>
                            <a:lnTo>
                              <a:pt x="149" y="608"/>
                            </a:lnTo>
                            <a:lnTo>
                              <a:pt x="143" y="612"/>
                            </a:lnTo>
                            <a:lnTo>
                              <a:pt x="132" y="599"/>
                            </a:lnTo>
                            <a:lnTo>
                              <a:pt x="105" y="609"/>
                            </a:lnTo>
                            <a:lnTo>
                              <a:pt x="99" y="610"/>
                            </a:lnTo>
                            <a:lnTo>
                              <a:pt x="76" y="604"/>
                            </a:lnTo>
                            <a:lnTo>
                              <a:pt x="99" y="585"/>
                            </a:lnTo>
                            <a:lnTo>
                              <a:pt x="93" y="580"/>
                            </a:lnTo>
                            <a:lnTo>
                              <a:pt x="100" y="566"/>
                            </a:lnTo>
                            <a:lnTo>
                              <a:pt x="96" y="526"/>
                            </a:lnTo>
                            <a:lnTo>
                              <a:pt x="109" y="507"/>
                            </a:lnTo>
                            <a:lnTo>
                              <a:pt x="89" y="522"/>
                            </a:lnTo>
                            <a:lnTo>
                              <a:pt x="90" y="534"/>
                            </a:lnTo>
                            <a:lnTo>
                              <a:pt x="72" y="545"/>
                            </a:lnTo>
                            <a:lnTo>
                              <a:pt x="50" y="538"/>
                            </a:lnTo>
                            <a:lnTo>
                              <a:pt x="42" y="506"/>
                            </a:lnTo>
                            <a:lnTo>
                              <a:pt x="27" y="492"/>
                            </a:lnTo>
                            <a:lnTo>
                              <a:pt x="28" y="483"/>
                            </a:lnTo>
                            <a:lnTo>
                              <a:pt x="37" y="483"/>
                            </a:lnTo>
                            <a:lnTo>
                              <a:pt x="41" y="476"/>
                            </a:lnTo>
                            <a:lnTo>
                              <a:pt x="49" y="473"/>
                            </a:lnTo>
                            <a:lnTo>
                              <a:pt x="41" y="473"/>
                            </a:lnTo>
                            <a:lnTo>
                              <a:pt x="47" y="467"/>
                            </a:lnTo>
                            <a:lnTo>
                              <a:pt x="38" y="456"/>
                            </a:lnTo>
                            <a:lnTo>
                              <a:pt x="35" y="462"/>
                            </a:lnTo>
                            <a:lnTo>
                              <a:pt x="22" y="437"/>
                            </a:lnTo>
                            <a:lnTo>
                              <a:pt x="30" y="420"/>
                            </a:lnTo>
                            <a:lnTo>
                              <a:pt x="74" y="391"/>
                            </a:lnTo>
                            <a:lnTo>
                              <a:pt x="86" y="370"/>
                            </a:lnTo>
                            <a:lnTo>
                              <a:pt x="95" y="366"/>
                            </a:lnTo>
                            <a:lnTo>
                              <a:pt x="116" y="379"/>
                            </a:lnTo>
                            <a:lnTo>
                              <a:pt x="132" y="375"/>
                            </a:lnTo>
                            <a:lnTo>
                              <a:pt x="139" y="365"/>
                            </a:lnTo>
                            <a:lnTo>
                              <a:pt x="172" y="370"/>
                            </a:lnTo>
                            <a:lnTo>
                              <a:pt x="178" y="337"/>
                            </a:lnTo>
                            <a:lnTo>
                              <a:pt x="170" y="325"/>
                            </a:lnTo>
                            <a:lnTo>
                              <a:pt x="191" y="313"/>
                            </a:lnTo>
                            <a:lnTo>
                              <a:pt x="171" y="306"/>
                            </a:lnTo>
                            <a:lnTo>
                              <a:pt x="143" y="324"/>
                            </a:lnTo>
                            <a:lnTo>
                              <a:pt x="141" y="307"/>
                            </a:lnTo>
                            <a:lnTo>
                              <a:pt x="92" y="304"/>
                            </a:lnTo>
                            <a:lnTo>
                              <a:pt x="70" y="285"/>
                            </a:lnTo>
                            <a:lnTo>
                              <a:pt x="67" y="252"/>
                            </a:lnTo>
                            <a:lnTo>
                              <a:pt x="83" y="258"/>
                            </a:lnTo>
                            <a:lnTo>
                              <a:pt x="49" y="224"/>
                            </a:lnTo>
                            <a:lnTo>
                              <a:pt x="138" y="205"/>
                            </a:lnTo>
                            <a:lnTo>
                              <a:pt x="151" y="209"/>
                            </a:lnTo>
                            <a:lnTo>
                              <a:pt x="139" y="224"/>
                            </a:lnTo>
                            <a:lnTo>
                              <a:pt x="185" y="247"/>
                            </a:lnTo>
                            <a:lnTo>
                              <a:pt x="205" y="240"/>
                            </a:lnTo>
                            <a:lnTo>
                              <a:pt x="203" y="233"/>
                            </a:lnTo>
                            <a:lnTo>
                              <a:pt x="187" y="228"/>
                            </a:lnTo>
                            <a:lnTo>
                              <a:pt x="178" y="197"/>
                            </a:lnTo>
                            <a:lnTo>
                              <a:pt x="190" y="207"/>
                            </a:lnTo>
                            <a:lnTo>
                              <a:pt x="194" y="224"/>
                            </a:lnTo>
                            <a:lnTo>
                              <a:pt x="214" y="236"/>
                            </a:lnTo>
                            <a:lnTo>
                              <a:pt x="234" y="235"/>
                            </a:lnTo>
                            <a:lnTo>
                              <a:pt x="229" y="223"/>
                            </a:lnTo>
                            <a:lnTo>
                              <a:pt x="197" y="216"/>
                            </a:lnTo>
                            <a:lnTo>
                              <a:pt x="203" y="197"/>
                            </a:lnTo>
                            <a:lnTo>
                              <a:pt x="163" y="183"/>
                            </a:lnTo>
                            <a:lnTo>
                              <a:pt x="162" y="157"/>
                            </a:lnTo>
                            <a:lnTo>
                              <a:pt x="151" y="140"/>
                            </a:lnTo>
                            <a:lnTo>
                              <a:pt x="122" y="106"/>
                            </a:lnTo>
                            <a:lnTo>
                              <a:pt x="133" y="104"/>
                            </a:lnTo>
                            <a:lnTo>
                              <a:pt x="146" y="79"/>
                            </a:lnTo>
                            <a:lnTo>
                              <a:pt x="179" y="91"/>
                            </a:lnTo>
                            <a:lnTo>
                              <a:pt x="204" y="79"/>
                            </a:lnTo>
                            <a:lnTo>
                              <a:pt x="241" y="33"/>
                            </a:lnTo>
                            <a:lnTo>
                              <a:pt x="252" y="41"/>
                            </a:lnTo>
                            <a:lnTo>
                              <a:pt x="275" y="26"/>
                            </a:lnTo>
                            <a:lnTo>
                              <a:pt x="276" y="39"/>
                            </a:lnTo>
                            <a:lnTo>
                              <a:pt x="289" y="35"/>
                            </a:lnTo>
                            <a:lnTo>
                              <a:pt x="282" y="28"/>
                            </a:lnTo>
                            <a:lnTo>
                              <a:pt x="316" y="23"/>
                            </a:lnTo>
                            <a:lnTo>
                              <a:pt x="341" y="0"/>
                            </a:lnTo>
                            <a:lnTo>
                              <a:pt x="358" y="15"/>
                            </a:lnTo>
                            <a:lnTo>
                              <a:pt x="352" y="33"/>
                            </a:lnTo>
                            <a:lnTo>
                              <a:pt x="364" y="35"/>
                            </a:lnTo>
                            <a:lnTo>
                              <a:pt x="368" y="18"/>
                            </a:lnTo>
                            <a:lnTo>
                              <a:pt x="384" y="39"/>
                            </a:lnTo>
                            <a:lnTo>
                              <a:pt x="412" y="39"/>
                            </a:lnTo>
                            <a:lnTo>
                              <a:pt x="415" y="59"/>
                            </a:lnTo>
                            <a:lnTo>
                              <a:pt x="465" y="64"/>
                            </a:lnTo>
                            <a:lnTo>
                              <a:pt x="465" y="74"/>
                            </a:lnTo>
                            <a:lnTo>
                              <a:pt x="478" y="68"/>
                            </a:lnTo>
                            <a:lnTo>
                              <a:pt x="490" y="83"/>
                            </a:lnTo>
                            <a:lnTo>
                              <a:pt x="517" y="79"/>
                            </a:lnTo>
                            <a:lnTo>
                              <a:pt x="541" y="91"/>
                            </a:lnTo>
                            <a:lnTo>
                              <a:pt x="566" y="79"/>
                            </a:lnTo>
                            <a:lnTo>
                              <a:pt x="566" y="85"/>
                            </a:lnTo>
                            <a:lnTo>
                              <a:pt x="574" y="82"/>
                            </a:lnTo>
                            <a:lnTo>
                              <a:pt x="615" y="103"/>
                            </a:lnTo>
                            <a:lnTo>
                              <a:pt x="647" y="575"/>
                            </a:lnTo>
                            <a:lnTo>
                              <a:pt x="693" y="573"/>
                            </a:lnTo>
                            <a:lnTo>
                              <a:pt x="692" y="586"/>
                            </a:lnTo>
                            <a:lnTo>
                              <a:pt x="707" y="599"/>
                            </a:lnTo>
                            <a:lnTo>
                              <a:pt x="736" y="621"/>
                            </a:lnTo>
                            <a:lnTo>
                              <a:pt x="741" y="634"/>
                            </a:lnTo>
                            <a:lnTo>
                              <a:pt x="764" y="619"/>
                            </a:lnTo>
                            <a:lnTo>
                              <a:pt x="771" y="600"/>
                            </a:lnTo>
                            <a:lnTo>
                              <a:pt x="784" y="592"/>
                            </a:lnTo>
                            <a:lnTo>
                              <a:pt x="787" y="589"/>
                            </a:lnTo>
                            <a:lnTo>
                              <a:pt x="803" y="600"/>
                            </a:lnTo>
                            <a:lnTo>
                              <a:pt x="801" y="612"/>
                            </a:lnTo>
                            <a:lnTo>
                              <a:pt x="812" y="614"/>
                            </a:lnTo>
                            <a:lnTo>
                              <a:pt x="818" y="619"/>
                            </a:lnTo>
                            <a:lnTo>
                              <a:pt x="822" y="628"/>
                            </a:lnTo>
                            <a:lnTo>
                              <a:pt x="839" y="635"/>
                            </a:lnTo>
                            <a:lnTo>
                              <a:pt x="907" y="732"/>
                            </a:lnTo>
                            <a:lnTo>
                              <a:pt x="929" y="738"/>
                            </a:lnTo>
                            <a:lnTo>
                              <a:pt x="964" y="751"/>
                            </a:lnTo>
                            <a:lnTo>
                              <a:pt x="968" y="759"/>
                            </a:lnTo>
                            <a:lnTo>
                              <a:pt x="959" y="765"/>
                            </a:lnTo>
                            <a:lnTo>
                              <a:pt x="962" y="781"/>
                            </a:lnTo>
                            <a:lnTo>
                              <a:pt x="956" y="815"/>
                            </a:lnTo>
                            <a:lnTo>
                              <a:pt x="952" y="808"/>
                            </a:lnTo>
                            <a:lnTo>
                              <a:pt x="945" y="814"/>
                            </a:lnTo>
                            <a:lnTo>
                              <a:pt x="937" y="806"/>
                            </a:lnTo>
                            <a:lnTo>
                              <a:pt x="949" y="798"/>
                            </a:lnTo>
                            <a:lnTo>
                              <a:pt x="939" y="785"/>
                            </a:lnTo>
                            <a:lnTo>
                              <a:pt x="939" y="779"/>
                            </a:lnTo>
                            <a:lnTo>
                              <a:pt x="929" y="757"/>
                            </a:lnTo>
                            <a:lnTo>
                              <a:pt x="923" y="757"/>
                            </a:lnTo>
                            <a:lnTo>
                              <a:pt x="911" y="765"/>
                            </a:lnTo>
                            <a:lnTo>
                              <a:pt x="909" y="777"/>
                            </a:lnTo>
                            <a:lnTo>
                              <a:pt x="899" y="779"/>
                            </a:lnTo>
                            <a:lnTo>
                              <a:pt x="898" y="777"/>
                            </a:lnTo>
                            <a:lnTo>
                              <a:pt x="905" y="764"/>
                            </a:lnTo>
                            <a:lnTo>
                              <a:pt x="907" y="751"/>
                            </a:lnTo>
                            <a:lnTo>
                              <a:pt x="901" y="757"/>
                            </a:lnTo>
                            <a:lnTo>
                              <a:pt x="898" y="765"/>
                            </a:lnTo>
                            <a:lnTo>
                              <a:pt x="872" y="751"/>
                            </a:lnTo>
                            <a:lnTo>
                              <a:pt x="874" y="745"/>
                            </a:lnTo>
                            <a:lnTo>
                              <a:pt x="887" y="745"/>
                            </a:lnTo>
                            <a:lnTo>
                              <a:pt x="888" y="736"/>
                            </a:lnTo>
                            <a:lnTo>
                              <a:pt x="898" y="732"/>
                            </a:lnTo>
                            <a:lnTo>
                              <a:pt x="896" y="727"/>
                            </a:lnTo>
                            <a:lnTo>
                              <a:pt x="883" y="729"/>
                            </a:lnTo>
                            <a:lnTo>
                              <a:pt x="880" y="712"/>
                            </a:lnTo>
                            <a:lnTo>
                              <a:pt x="855" y="711"/>
                            </a:lnTo>
                            <a:lnTo>
                              <a:pt x="847" y="692"/>
                            </a:lnTo>
                            <a:lnTo>
                              <a:pt x="855" y="675"/>
                            </a:lnTo>
                            <a:lnTo>
                              <a:pt x="845" y="677"/>
                            </a:lnTo>
                            <a:lnTo>
                              <a:pt x="841" y="666"/>
                            </a:lnTo>
                            <a:lnTo>
                              <a:pt x="836" y="669"/>
                            </a:lnTo>
                            <a:lnTo>
                              <a:pt x="832" y="665"/>
                            </a:lnTo>
                            <a:lnTo>
                              <a:pt x="839" y="650"/>
                            </a:lnTo>
                            <a:lnTo>
                              <a:pt x="833" y="648"/>
                            </a:lnTo>
                            <a:lnTo>
                              <a:pt x="831" y="656"/>
                            </a:lnTo>
                            <a:lnTo>
                              <a:pt x="822" y="660"/>
                            </a:lnTo>
                            <a:lnTo>
                              <a:pt x="812" y="654"/>
                            </a:lnTo>
                            <a:lnTo>
                              <a:pt x="811" y="642"/>
                            </a:lnTo>
                            <a:lnTo>
                              <a:pt x="799" y="625"/>
                            </a:lnTo>
                            <a:lnTo>
                              <a:pt x="799" y="615"/>
                            </a:lnTo>
                            <a:lnTo>
                              <a:pt x="794" y="614"/>
                            </a:lnTo>
                            <a:lnTo>
                              <a:pt x="793" y="602"/>
                            </a:lnTo>
                            <a:lnTo>
                              <a:pt x="791" y="606"/>
                            </a:lnTo>
                            <a:lnTo>
                              <a:pt x="796" y="634"/>
                            </a:lnTo>
                            <a:lnTo>
                              <a:pt x="807" y="654"/>
                            </a:lnTo>
                            <a:lnTo>
                              <a:pt x="842" y="682"/>
                            </a:lnTo>
                            <a:lnTo>
                              <a:pt x="842" y="687"/>
                            </a:lnTo>
                            <a:lnTo>
                              <a:pt x="834" y="686"/>
                            </a:lnTo>
                            <a:lnTo>
                              <a:pt x="834" y="692"/>
                            </a:lnTo>
                            <a:lnTo>
                              <a:pt x="839" y="690"/>
                            </a:lnTo>
                            <a:lnTo>
                              <a:pt x="843" y="709"/>
                            </a:lnTo>
                            <a:lnTo>
                              <a:pt x="865" y="720"/>
                            </a:lnTo>
                            <a:lnTo>
                              <a:pt x="878" y="739"/>
                            </a:lnTo>
                            <a:lnTo>
                              <a:pt x="851" y="745"/>
                            </a:lnTo>
                            <a:lnTo>
                              <a:pt x="839" y="779"/>
                            </a:lnTo>
                            <a:lnTo>
                              <a:pt x="831" y="724"/>
                            </a:lnTo>
                            <a:lnTo>
                              <a:pt x="826" y="719"/>
                            </a:lnTo>
                            <a:lnTo>
                              <a:pt x="825" y="708"/>
                            </a:lnTo>
                            <a:lnTo>
                              <a:pt x="829" y="705"/>
                            </a:lnTo>
                            <a:lnTo>
                              <a:pt x="807" y="663"/>
                            </a:lnTo>
                            <a:lnTo>
                              <a:pt x="800" y="662"/>
                            </a:lnTo>
                            <a:lnTo>
                              <a:pt x="795" y="654"/>
                            </a:lnTo>
                            <a:lnTo>
                              <a:pt x="788" y="656"/>
                            </a:lnTo>
                            <a:lnTo>
                              <a:pt x="784" y="652"/>
                            </a:lnTo>
                            <a:lnTo>
                              <a:pt x="778" y="629"/>
                            </a:lnTo>
                            <a:lnTo>
                              <a:pt x="775" y="639"/>
                            </a:lnTo>
                            <a:lnTo>
                              <a:pt x="757" y="632"/>
                            </a:lnTo>
                            <a:lnTo>
                              <a:pt x="753" y="637"/>
                            </a:lnTo>
                            <a:lnTo>
                              <a:pt x="776" y="650"/>
                            </a:lnTo>
                            <a:lnTo>
                              <a:pt x="764" y="654"/>
                            </a:lnTo>
                            <a:lnTo>
                              <a:pt x="766" y="665"/>
                            </a:lnTo>
                            <a:lnTo>
                              <a:pt x="748" y="657"/>
                            </a:lnTo>
                            <a:lnTo>
                              <a:pt x="724" y="634"/>
                            </a:lnTo>
                            <a:lnTo>
                              <a:pt x="690" y="619"/>
                            </a:lnTo>
                            <a:lnTo>
                              <a:pt x="666" y="618"/>
                            </a:lnTo>
                            <a:lnTo>
                              <a:pt x="682" y="595"/>
                            </a:lnTo>
                            <a:lnTo>
                              <a:pt x="691" y="606"/>
                            </a:lnTo>
                            <a:lnTo>
                              <a:pt x="692" y="595"/>
                            </a:lnTo>
                            <a:lnTo>
                              <a:pt x="678" y="585"/>
                            </a:lnTo>
                            <a:lnTo>
                              <a:pt x="668" y="603"/>
                            </a:lnTo>
                            <a:lnTo>
                              <a:pt x="648" y="604"/>
                            </a:lnTo>
                            <a:lnTo>
                              <a:pt x="560" y="595"/>
                            </a:lnTo>
                            <a:lnTo>
                              <a:pt x="563" y="581"/>
                            </a:lnTo>
                            <a:lnTo>
                              <a:pt x="554" y="585"/>
                            </a:lnTo>
                            <a:lnTo>
                              <a:pt x="543" y="572"/>
                            </a:lnTo>
                            <a:lnTo>
                              <a:pt x="530" y="579"/>
                            </a:lnTo>
                            <a:lnTo>
                              <a:pt x="525" y="570"/>
                            </a:lnTo>
                            <a:lnTo>
                              <a:pt x="502" y="580"/>
                            </a:lnTo>
                            <a:lnTo>
                              <a:pt x="500" y="572"/>
                            </a:lnTo>
                            <a:lnTo>
                              <a:pt x="511" y="558"/>
                            </a:lnTo>
                            <a:lnTo>
                              <a:pt x="504" y="557"/>
                            </a:lnTo>
                            <a:lnTo>
                              <a:pt x="511" y="551"/>
                            </a:lnTo>
                            <a:lnTo>
                              <a:pt x="486" y="555"/>
                            </a:lnTo>
                            <a:lnTo>
                              <a:pt x="477" y="546"/>
                            </a:lnTo>
                            <a:lnTo>
                              <a:pt x="468" y="551"/>
                            </a:lnTo>
                            <a:lnTo>
                              <a:pt x="465" y="545"/>
                            </a:lnTo>
                            <a:lnTo>
                              <a:pt x="471" y="538"/>
                            </a:lnTo>
                            <a:lnTo>
                              <a:pt x="458" y="542"/>
                            </a:lnTo>
                            <a:lnTo>
                              <a:pt x="459" y="546"/>
                            </a:lnTo>
                            <a:lnTo>
                              <a:pt x="452" y="552"/>
                            </a:lnTo>
                            <a:lnTo>
                              <a:pt x="462" y="552"/>
                            </a:lnTo>
                            <a:lnTo>
                              <a:pt x="458" y="566"/>
                            </a:lnTo>
                            <a:lnTo>
                              <a:pt x="468" y="571"/>
                            </a:lnTo>
                            <a:lnTo>
                              <a:pt x="479" y="578"/>
                            </a:lnTo>
                            <a:lnTo>
                              <a:pt x="494" y="571"/>
                            </a:lnTo>
                            <a:lnTo>
                              <a:pt x="492" y="602"/>
                            </a:lnTo>
                            <a:lnTo>
                              <a:pt x="466" y="603"/>
                            </a:lnTo>
                            <a:lnTo>
                              <a:pt x="466" y="593"/>
                            </a:lnTo>
                            <a:lnTo>
                              <a:pt x="458" y="589"/>
                            </a:lnTo>
                            <a:lnTo>
                              <a:pt x="438" y="597"/>
                            </a:lnTo>
                            <a:lnTo>
                              <a:pt x="437" y="589"/>
                            </a:lnTo>
                            <a:lnTo>
                              <a:pt x="430" y="595"/>
                            </a:lnTo>
                            <a:lnTo>
                              <a:pt x="427" y="586"/>
                            </a:lnTo>
                            <a:lnTo>
                              <a:pt x="412" y="585"/>
                            </a:lnTo>
                            <a:lnTo>
                              <a:pt x="424" y="602"/>
                            </a:lnTo>
                            <a:lnTo>
                              <a:pt x="423" y="606"/>
                            </a:lnTo>
                            <a:lnTo>
                              <a:pt x="416" y="603"/>
                            </a:lnTo>
                            <a:lnTo>
                              <a:pt x="398" y="612"/>
                            </a:lnTo>
                            <a:lnTo>
                              <a:pt x="394" y="609"/>
                            </a:lnTo>
                            <a:lnTo>
                              <a:pt x="381" y="632"/>
                            </a:lnTo>
                            <a:lnTo>
                              <a:pt x="375" y="623"/>
                            </a:lnTo>
                            <a:lnTo>
                              <a:pt x="371" y="629"/>
                            </a:lnTo>
                            <a:lnTo>
                              <a:pt x="358" y="626"/>
                            </a:lnTo>
                            <a:lnTo>
                              <a:pt x="356" y="614"/>
                            </a:lnTo>
                            <a:lnTo>
                              <a:pt x="372" y="614"/>
                            </a:lnTo>
                            <a:lnTo>
                              <a:pt x="381" y="604"/>
                            </a:lnTo>
                            <a:lnTo>
                              <a:pt x="355" y="603"/>
                            </a:lnTo>
                            <a:lnTo>
                              <a:pt x="378" y="549"/>
                            </a:lnTo>
                            <a:lnTo>
                              <a:pt x="417" y="540"/>
                            </a:lnTo>
                            <a:lnTo>
                              <a:pt x="412" y="528"/>
                            </a:lnTo>
                            <a:lnTo>
                              <a:pt x="437" y="514"/>
                            </a:lnTo>
                            <a:lnTo>
                              <a:pt x="404" y="523"/>
                            </a:lnTo>
                            <a:lnTo>
                              <a:pt x="410" y="496"/>
                            </a:lnTo>
                            <a:lnTo>
                              <a:pt x="393" y="527"/>
                            </a:lnTo>
                            <a:lnTo>
                              <a:pt x="372" y="538"/>
                            </a:lnTo>
                            <a:lnTo>
                              <a:pt x="347" y="570"/>
                            </a:lnTo>
                            <a:lnTo>
                              <a:pt x="330" y="570"/>
                            </a:lnTo>
                            <a:lnTo>
                              <a:pt x="339" y="586"/>
                            </a:lnTo>
                            <a:lnTo>
                              <a:pt x="295" y="621"/>
                            </a:lnTo>
                            <a:lnTo>
                              <a:pt x="315" y="629"/>
                            </a:lnTo>
                            <a:lnTo>
                              <a:pt x="310" y="644"/>
                            </a:lnTo>
                            <a:lnTo>
                              <a:pt x="212" y="719"/>
                            </a:lnTo>
                            <a:lnTo>
                              <a:pt x="141" y="738"/>
                            </a:lnTo>
                            <a:lnTo>
                              <a:pt x="162" y="746"/>
                            </a:lnTo>
                            <a:lnTo>
                              <a:pt x="120" y="770"/>
                            </a:lnTo>
                            <a:lnTo>
                              <a:pt x="112" y="759"/>
                            </a:lnTo>
                            <a:lnTo>
                              <a:pt x="82" y="770"/>
                            </a:lnTo>
                            <a:lnTo>
                              <a:pt x="61" y="770"/>
                            </a:lnTo>
                            <a:lnTo>
                              <a:pt x="61" y="757"/>
                            </a:lnTo>
                            <a:lnTo>
                              <a:pt x="33" y="783"/>
                            </a:lnTo>
                            <a:lnTo>
                              <a:pt x="25" y="781"/>
                            </a:lnTo>
                            <a:lnTo>
                              <a:pt x="25" y="768"/>
                            </a:lnTo>
                            <a:lnTo>
                              <a:pt x="20" y="781"/>
                            </a:lnTo>
                            <a:lnTo>
                              <a:pt x="0" y="778"/>
                            </a:lnTo>
                          </a:path>
                        </a:pathLst>
                      </a:custGeom>
                      <a:solidFill>
                        <a:srgbClr val="ffcccc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2943000" y="1469880"/>
                      <a:ext cx="609120" cy="992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0" h="966">
                          <a:moveTo>
                            <a:pt x="0" y="857"/>
                          </a:moveTo>
                          <a:lnTo>
                            <a:pt x="48" y="649"/>
                          </a:lnTo>
                          <a:lnTo>
                            <a:pt x="72" y="595"/>
                          </a:lnTo>
                          <a:lnTo>
                            <a:pt x="51" y="569"/>
                          </a:lnTo>
                          <a:lnTo>
                            <a:pt x="56" y="544"/>
                          </a:lnTo>
                          <a:lnTo>
                            <a:pt x="94" y="509"/>
                          </a:lnTo>
                          <a:lnTo>
                            <a:pt x="125" y="461"/>
                          </a:lnTo>
                          <a:lnTo>
                            <a:pt x="152" y="419"/>
                          </a:lnTo>
                          <a:lnTo>
                            <a:pt x="132" y="387"/>
                          </a:lnTo>
                          <a:lnTo>
                            <a:pt x="123" y="366"/>
                          </a:lnTo>
                          <a:lnTo>
                            <a:pt x="126" y="312"/>
                          </a:lnTo>
                          <a:lnTo>
                            <a:pt x="200" y="0"/>
                          </a:lnTo>
                          <a:lnTo>
                            <a:pt x="280" y="17"/>
                          </a:lnTo>
                          <a:lnTo>
                            <a:pt x="253" y="139"/>
                          </a:lnTo>
                          <a:lnTo>
                            <a:pt x="271" y="182"/>
                          </a:lnTo>
                          <a:lnTo>
                            <a:pt x="272" y="210"/>
                          </a:lnTo>
                          <a:lnTo>
                            <a:pt x="262" y="214"/>
                          </a:lnTo>
                          <a:lnTo>
                            <a:pt x="293" y="244"/>
                          </a:lnTo>
                          <a:lnTo>
                            <a:pt x="325" y="321"/>
                          </a:lnTo>
                          <a:lnTo>
                            <a:pt x="336" y="318"/>
                          </a:lnTo>
                          <a:lnTo>
                            <a:pt x="337" y="329"/>
                          </a:lnTo>
                          <a:lnTo>
                            <a:pt x="352" y="333"/>
                          </a:lnTo>
                          <a:lnTo>
                            <a:pt x="363" y="335"/>
                          </a:lnTo>
                          <a:lnTo>
                            <a:pt x="336" y="391"/>
                          </a:lnTo>
                          <a:lnTo>
                            <a:pt x="340" y="429"/>
                          </a:lnTo>
                          <a:lnTo>
                            <a:pt x="318" y="465"/>
                          </a:lnTo>
                          <a:lnTo>
                            <a:pt x="332" y="482"/>
                          </a:lnTo>
                          <a:lnTo>
                            <a:pt x="373" y="458"/>
                          </a:lnTo>
                          <a:lnTo>
                            <a:pt x="403" y="581"/>
                          </a:lnTo>
                          <a:lnTo>
                            <a:pt x="421" y="586"/>
                          </a:lnTo>
                          <a:lnTo>
                            <a:pt x="425" y="624"/>
                          </a:lnTo>
                          <a:lnTo>
                            <a:pt x="440" y="640"/>
                          </a:lnTo>
                          <a:lnTo>
                            <a:pt x="453" y="626"/>
                          </a:lnTo>
                          <a:lnTo>
                            <a:pt x="480" y="638"/>
                          </a:lnTo>
                          <a:lnTo>
                            <a:pt x="496" y="624"/>
                          </a:lnTo>
                          <a:lnTo>
                            <a:pt x="552" y="637"/>
                          </a:lnTo>
                          <a:lnTo>
                            <a:pt x="564" y="639"/>
                          </a:lnTo>
                          <a:lnTo>
                            <a:pt x="577" y="615"/>
                          </a:lnTo>
                          <a:lnTo>
                            <a:pt x="599" y="654"/>
                          </a:lnTo>
                          <a:lnTo>
                            <a:pt x="548" y="965"/>
                          </a:lnTo>
                          <a:lnTo>
                            <a:pt x="273" y="916"/>
                          </a:lnTo>
                          <a:lnTo>
                            <a:pt x="0" y="857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2287080" y="1649880"/>
                      <a:ext cx="811440" cy="70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9" h="683">
                          <a:moveTo>
                            <a:pt x="0" y="508"/>
                          </a:moveTo>
                          <a:lnTo>
                            <a:pt x="13" y="385"/>
                          </a:lnTo>
                          <a:lnTo>
                            <a:pt x="75" y="286"/>
                          </a:lnTo>
                          <a:lnTo>
                            <a:pt x="173" y="0"/>
                          </a:lnTo>
                          <a:lnTo>
                            <a:pt x="223" y="17"/>
                          </a:lnTo>
                          <a:lnTo>
                            <a:pt x="225" y="30"/>
                          </a:lnTo>
                          <a:lnTo>
                            <a:pt x="238" y="31"/>
                          </a:lnTo>
                          <a:lnTo>
                            <a:pt x="264" y="80"/>
                          </a:lnTo>
                          <a:lnTo>
                            <a:pt x="258" y="97"/>
                          </a:lnTo>
                          <a:lnTo>
                            <a:pt x="298" y="129"/>
                          </a:lnTo>
                          <a:lnTo>
                            <a:pt x="366" y="127"/>
                          </a:lnTo>
                          <a:lnTo>
                            <a:pt x="416" y="149"/>
                          </a:lnTo>
                          <a:lnTo>
                            <a:pt x="441" y="145"/>
                          </a:lnTo>
                          <a:lnTo>
                            <a:pt x="595" y="149"/>
                          </a:lnTo>
                          <a:lnTo>
                            <a:pt x="769" y="191"/>
                          </a:lnTo>
                          <a:lnTo>
                            <a:pt x="778" y="212"/>
                          </a:lnTo>
                          <a:lnTo>
                            <a:pt x="798" y="244"/>
                          </a:lnTo>
                          <a:lnTo>
                            <a:pt x="771" y="286"/>
                          </a:lnTo>
                          <a:lnTo>
                            <a:pt x="740" y="334"/>
                          </a:lnTo>
                          <a:lnTo>
                            <a:pt x="702" y="369"/>
                          </a:lnTo>
                          <a:lnTo>
                            <a:pt x="697" y="394"/>
                          </a:lnTo>
                          <a:lnTo>
                            <a:pt x="718" y="420"/>
                          </a:lnTo>
                          <a:lnTo>
                            <a:pt x="694" y="474"/>
                          </a:lnTo>
                          <a:lnTo>
                            <a:pt x="646" y="682"/>
                          </a:lnTo>
                          <a:lnTo>
                            <a:pt x="376" y="613"/>
                          </a:lnTo>
                          <a:lnTo>
                            <a:pt x="0" y="508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2489040" y="1371600"/>
                      <a:ext cx="681480" cy="50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1" h="489">
                          <a:moveTo>
                            <a:pt x="15" y="84"/>
                          </a:moveTo>
                          <a:lnTo>
                            <a:pt x="25" y="107"/>
                          </a:lnTo>
                          <a:lnTo>
                            <a:pt x="23" y="135"/>
                          </a:lnTo>
                          <a:lnTo>
                            <a:pt x="21" y="160"/>
                          </a:lnTo>
                          <a:lnTo>
                            <a:pt x="24" y="172"/>
                          </a:lnTo>
                          <a:lnTo>
                            <a:pt x="18" y="208"/>
                          </a:lnTo>
                          <a:lnTo>
                            <a:pt x="30" y="200"/>
                          </a:lnTo>
                          <a:lnTo>
                            <a:pt x="47" y="215"/>
                          </a:lnTo>
                          <a:lnTo>
                            <a:pt x="29" y="217"/>
                          </a:lnTo>
                          <a:lnTo>
                            <a:pt x="17" y="215"/>
                          </a:lnTo>
                          <a:lnTo>
                            <a:pt x="16" y="231"/>
                          </a:lnTo>
                          <a:lnTo>
                            <a:pt x="15" y="241"/>
                          </a:lnTo>
                          <a:lnTo>
                            <a:pt x="31" y="241"/>
                          </a:lnTo>
                          <a:lnTo>
                            <a:pt x="33" y="248"/>
                          </a:lnTo>
                          <a:lnTo>
                            <a:pt x="21" y="253"/>
                          </a:lnTo>
                          <a:lnTo>
                            <a:pt x="23" y="268"/>
                          </a:lnTo>
                          <a:lnTo>
                            <a:pt x="14" y="284"/>
                          </a:lnTo>
                          <a:lnTo>
                            <a:pt x="8" y="283"/>
                          </a:lnTo>
                          <a:lnTo>
                            <a:pt x="14" y="258"/>
                          </a:lnTo>
                          <a:lnTo>
                            <a:pt x="10" y="252"/>
                          </a:lnTo>
                          <a:lnTo>
                            <a:pt x="0" y="288"/>
                          </a:lnTo>
                          <a:lnTo>
                            <a:pt x="17" y="301"/>
                          </a:lnTo>
                          <a:lnTo>
                            <a:pt x="47" y="314"/>
                          </a:lnTo>
                          <a:lnTo>
                            <a:pt x="49" y="327"/>
                          </a:lnTo>
                          <a:lnTo>
                            <a:pt x="62" y="328"/>
                          </a:lnTo>
                          <a:lnTo>
                            <a:pt x="88" y="377"/>
                          </a:lnTo>
                          <a:lnTo>
                            <a:pt x="82" y="394"/>
                          </a:lnTo>
                          <a:lnTo>
                            <a:pt x="122" y="426"/>
                          </a:lnTo>
                          <a:lnTo>
                            <a:pt x="190" y="424"/>
                          </a:lnTo>
                          <a:lnTo>
                            <a:pt x="240" y="446"/>
                          </a:lnTo>
                          <a:lnTo>
                            <a:pt x="265" y="442"/>
                          </a:lnTo>
                          <a:lnTo>
                            <a:pt x="419" y="446"/>
                          </a:lnTo>
                          <a:lnTo>
                            <a:pt x="593" y="488"/>
                          </a:lnTo>
                          <a:lnTo>
                            <a:pt x="596" y="434"/>
                          </a:lnTo>
                          <a:lnTo>
                            <a:pt x="670" y="122"/>
                          </a:lnTo>
                          <a:lnTo>
                            <a:pt x="205" y="0"/>
                          </a:lnTo>
                          <a:lnTo>
                            <a:pt x="200" y="2"/>
                          </a:lnTo>
                          <a:lnTo>
                            <a:pt x="204" y="10"/>
                          </a:lnTo>
                          <a:lnTo>
                            <a:pt x="199" y="12"/>
                          </a:lnTo>
                          <a:lnTo>
                            <a:pt x="204" y="19"/>
                          </a:lnTo>
                          <a:lnTo>
                            <a:pt x="202" y="26"/>
                          </a:lnTo>
                          <a:lnTo>
                            <a:pt x="204" y="35"/>
                          </a:lnTo>
                          <a:lnTo>
                            <a:pt x="210" y="31"/>
                          </a:lnTo>
                          <a:lnTo>
                            <a:pt x="218" y="35"/>
                          </a:lnTo>
                          <a:lnTo>
                            <a:pt x="215" y="48"/>
                          </a:lnTo>
                          <a:lnTo>
                            <a:pt x="217" y="55"/>
                          </a:lnTo>
                          <a:lnTo>
                            <a:pt x="208" y="73"/>
                          </a:lnTo>
                          <a:lnTo>
                            <a:pt x="197" y="62"/>
                          </a:lnTo>
                          <a:lnTo>
                            <a:pt x="193" y="63"/>
                          </a:lnTo>
                          <a:lnTo>
                            <a:pt x="193" y="71"/>
                          </a:lnTo>
                          <a:lnTo>
                            <a:pt x="201" y="73"/>
                          </a:lnTo>
                          <a:lnTo>
                            <a:pt x="210" y="94"/>
                          </a:lnTo>
                          <a:lnTo>
                            <a:pt x="206" y="118"/>
                          </a:lnTo>
                          <a:lnTo>
                            <a:pt x="210" y="126"/>
                          </a:lnTo>
                          <a:lnTo>
                            <a:pt x="216" y="128"/>
                          </a:lnTo>
                          <a:lnTo>
                            <a:pt x="213" y="134"/>
                          </a:lnTo>
                          <a:lnTo>
                            <a:pt x="206" y="135"/>
                          </a:lnTo>
                          <a:lnTo>
                            <a:pt x="193" y="151"/>
                          </a:lnTo>
                          <a:lnTo>
                            <a:pt x="193" y="157"/>
                          </a:lnTo>
                          <a:lnTo>
                            <a:pt x="190" y="166"/>
                          </a:lnTo>
                          <a:lnTo>
                            <a:pt x="185" y="168"/>
                          </a:lnTo>
                          <a:lnTo>
                            <a:pt x="190" y="175"/>
                          </a:lnTo>
                          <a:lnTo>
                            <a:pt x="185" y="178"/>
                          </a:lnTo>
                          <a:lnTo>
                            <a:pt x="184" y="206"/>
                          </a:lnTo>
                          <a:lnTo>
                            <a:pt x="173" y="210"/>
                          </a:lnTo>
                          <a:lnTo>
                            <a:pt x="173" y="217"/>
                          </a:lnTo>
                          <a:lnTo>
                            <a:pt x="164" y="208"/>
                          </a:lnTo>
                          <a:lnTo>
                            <a:pt x="164" y="213"/>
                          </a:lnTo>
                          <a:lnTo>
                            <a:pt x="144" y="230"/>
                          </a:lnTo>
                          <a:lnTo>
                            <a:pt x="139" y="228"/>
                          </a:lnTo>
                          <a:lnTo>
                            <a:pt x="135" y="219"/>
                          </a:lnTo>
                          <a:lnTo>
                            <a:pt x="133" y="225"/>
                          </a:lnTo>
                          <a:lnTo>
                            <a:pt x="128" y="220"/>
                          </a:lnTo>
                          <a:lnTo>
                            <a:pt x="125" y="233"/>
                          </a:lnTo>
                          <a:lnTo>
                            <a:pt x="123" y="231"/>
                          </a:lnTo>
                          <a:lnTo>
                            <a:pt x="123" y="223"/>
                          </a:lnTo>
                          <a:lnTo>
                            <a:pt x="117" y="224"/>
                          </a:lnTo>
                          <a:lnTo>
                            <a:pt x="125" y="216"/>
                          </a:lnTo>
                          <a:lnTo>
                            <a:pt x="115" y="215"/>
                          </a:lnTo>
                          <a:lnTo>
                            <a:pt x="123" y="211"/>
                          </a:lnTo>
                          <a:lnTo>
                            <a:pt x="114" y="209"/>
                          </a:lnTo>
                          <a:lnTo>
                            <a:pt x="118" y="203"/>
                          </a:lnTo>
                          <a:lnTo>
                            <a:pt x="127" y="209"/>
                          </a:lnTo>
                          <a:lnTo>
                            <a:pt x="131" y="200"/>
                          </a:lnTo>
                          <a:lnTo>
                            <a:pt x="144" y="193"/>
                          </a:lnTo>
                          <a:lnTo>
                            <a:pt x="138" y="210"/>
                          </a:lnTo>
                          <a:lnTo>
                            <a:pt x="140" y="219"/>
                          </a:lnTo>
                          <a:lnTo>
                            <a:pt x="146" y="202"/>
                          </a:lnTo>
                          <a:lnTo>
                            <a:pt x="159" y="196"/>
                          </a:lnTo>
                          <a:lnTo>
                            <a:pt x="152" y="206"/>
                          </a:lnTo>
                          <a:lnTo>
                            <a:pt x="159" y="212"/>
                          </a:lnTo>
                          <a:lnTo>
                            <a:pt x="159" y="204"/>
                          </a:lnTo>
                          <a:lnTo>
                            <a:pt x="165" y="196"/>
                          </a:lnTo>
                          <a:lnTo>
                            <a:pt x="173" y="185"/>
                          </a:lnTo>
                          <a:lnTo>
                            <a:pt x="171" y="177"/>
                          </a:lnTo>
                          <a:lnTo>
                            <a:pt x="159" y="177"/>
                          </a:lnTo>
                          <a:lnTo>
                            <a:pt x="162" y="166"/>
                          </a:lnTo>
                          <a:lnTo>
                            <a:pt x="167" y="172"/>
                          </a:lnTo>
                          <a:lnTo>
                            <a:pt x="169" y="154"/>
                          </a:lnTo>
                          <a:lnTo>
                            <a:pt x="185" y="155"/>
                          </a:lnTo>
                          <a:lnTo>
                            <a:pt x="185" y="139"/>
                          </a:lnTo>
                          <a:lnTo>
                            <a:pt x="179" y="128"/>
                          </a:lnTo>
                          <a:lnTo>
                            <a:pt x="179" y="145"/>
                          </a:lnTo>
                          <a:lnTo>
                            <a:pt x="175" y="141"/>
                          </a:lnTo>
                          <a:lnTo>
                            <a:pt x="164" y="149"/>
                          </a:lnTo>
                          <a:lnTo>
                            <a:pt x="158" y="160"/>
                          </a:lnTo>
                          <a:lnTo>
                            <a:pt x="148" y="160"/>
                          </a:lnTo>
                          <a:lnTo>
                            <a:pt x="133" y="170"/>
                          </a:lnTo>
                          <a:lnTo>
                            <a:pt x="120" y="185"/>
                          </a:lnTo>
                          <a:lnTo>
                            <a:pt x="142" y="185"/>
                          </a:lnTo>
                          <a:lnTo>
                            <a:pt x="123" y="190"/>
                          </a:lnTo>
                          <a:lnTo>
                            <a:pt x="114" y="187"/>
                          </a:lnTo>
                          <a:lnTo>
                            <a:pt x="133" y="160"/>
                          </a:lnTo>
                          <a:lnTo>
                            <a:pt x="146" y="154"/>
                          </a:lnTo>
                          <a:lnTo>
                            <a:pt x="160" y="137"/>
                          </a:lnTo>
                          <a:lnTo>
                            <a:pt x="162" y="146"/>
                          </a:lnTo>
                          <a:lnTo>
                            <a:pt x="171" y="139"/>
                          </a:lnTo>
                          <a:lnTo>
                            <a:pt x="179" y="120"/>
                          </a:lnTo>
                          <a:lnTo>
                            <a:pt x="177" y="108"/>
                          </a:lnTo>
                          <a:lnTo>
                            <a:pt x="174" y="117"/>
                          </a:lnTo>
                          <a:lnTo>
                            <a:pt x="169" y="116"/>
                          </a:lnTo>
                          <a:lnTo>
                            <a:pt x="173" y="102"/>
                          </a:lnTo>
                          <a:lnTo>
                            <a:pt x="167" y="102"/>
                          </a:lnTo>
                          <a:lnTo>
                            <a:pt x="165" y="115"/>
                          </a:lnTo>
                          <a:lnTo>
                            <a:pt x="160" y="118"/>
                          </a:lnTo>
                          <a:lnTo>
                            <a:pt x="160" y="105"/>
                          </a:lnTo>
                          <a:lnTo>
                            <a:pt x="155" y="102"/>
                          </a:lnTo>
                          <a:lnTo>
                            <a:pt x="151" y="108"/>
                          </a:lnTo>
                          <a:lnTo>
                            <a:pt x="144" y="92"/>
                          </a:lnTo>
                          <a:lnTo>
                            <a:pt x="128" y="91"/>
                          </a:lnTo>
                          <a:lnTo>
                            <a:pt x="69" y="62"/>
                          </a:lnTo>
                          <a:lnTo>
                            <a:pt x="28" y="24"/>
                          </a:lnTo>
                          <a:lnTo>
                            <a:pt x="16" y="51"/>
                          </a:lnTo>
                          <a:lnTo>
                            <a:pt x="15" y="84"/>
                          </a:lnTo>
                        </a:path>
                      </a:pathLst>
                    </a:custGeom>
                    <a:solidFill>
                      <a:srgbClr val="ffcccc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2625120" y="1374480"/>
                      <a:ext cx="3132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7">
                          <a:moveTo>
                            <a:pt x="0" y="15"/>
                          </a:moveTo>
                          <a:lnTo>
                            <a:pt x="26" y="0"/>
                          </a:lnTo>
                          <a:lnTo>
                            <a:pt x="30" y="15"/>
                          </a:lnTo>
                          <a:lnTo>
                            <a:pt x="26" y="36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2646360" y="1422720"/>
                      <a:ext cx="23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" h="53">
                          <a:moveTo>
                            <a:pt x="0" y="14"/>
                          </a:moveTo>
                          <a:lnTo>
                            <a:pt x="13" y="0"/>
                          </a:lnTo>
                          <a:lnTo>
                            <a:pt x="22" y="8"/>
                          </a:lnTo>
                          <a:lnTo>
                            <a:pt x="16" y="52"/>
                          </a:lnTo>
                          <a:lnTo>
                            <a:pt x="0" y="14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16" name=""/>
            <p:cNvGrpSpPr/>
            <p:nvPr/>
          </p:nvGrpSpPr>
          <p:grpSpPr>
            <a:xfrm>
              <a:off x="4821480" y="1628280"/>
              <a:ext cx="937800" cy="1586520"/>
              <a:chOff x="4821480" y="1628280"/>
              <a:chExt cx="937800" cy="1586520"/>
            </a:xfrm>
          </p:grpSpPr>
          <p:sp>
            <p:nvSpPr>
              <p:cNvPr id="217" name=""/>
              <p:cNvSpPr/>
              <p:nvPr/>
            </p:nvSpPr>
            <p:spPr>
              <a:xfrm>
                <a:off x="5357880" y="2486880"/>
                <a:ext cx="401400" cy="72792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21480" y="1628280"/>
                <a:ext cx="671760" cy="76104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02360" y="1932480"/>
                <a:ext cx="539640" cy="57384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9900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145040" y="2378160"/>
              <a:ext cx="1476720" cy="973080"/>
              <a:chOff x="4145040" y="2378160"/>
              <a:chExt cx="1476720" cy="973080"/>
            </a:xfrm>
          </p:grpSpPr>
          <p:sp>
            <p:nvSpPr>
              <p:cNvPr id="221" name=""/>
              <p:cNvSpPr/>
              <p:nvPr/>
            </p:nvSpPr>
            <p:spPr>
              <a:xfrm>
                <a:off x="4868640" y="2378160"/>
                <a:ext cx="608040" cy="408600"/>
              </a:xfrm>
              <a:custGeom>
                <a:avLst/>
                <a:gdLst/>
                <a:ahLst/>
                <a:rect l="l" t="t" r="r" b="b"/>
                <a:pathLst>
                  <a:path w="599" h="398">
                    <a:moveTo>
                      <a:pt x="0" y="9"/>
                    </a:moveTo>
                    <a:lnTo>
                      <a:pt x="1" y="39"/>
                    </a:lnTo>
                    <a:lnTo>
                      <a:pt x="12" y="62"/>
                    </a:lnTo>
                    <a:lnTo>
                      <a:pt x="5" y="85"/>
                    </a:lnTo>
                    <a:lnTo>
                      <a:pt x="11" y="139"/>
                    </a:lnTo>
                    <a:lnTo>
                      <a:pt x="40" y="216"/>
                    </a:lnTo>
                    <a:lnTo>
                      <a:pt x="41" y="242"/>
                    </a:lnTo>
                    <a:lnTo>
                      <a:pt x="59" y="278"/>
                    </a:lnTo>
                    <a:lnTo>
                      <a:pt x="68" y="338"/>
                    </a:lnTo>
                    <a:lnTo>
                      <a:pt x="63" y="356"/>
                    </a:lnTo>
                    <a:lnTo>
                      <a:pt x="74" y="376"/>
                    </a:lnTo>
                    <a:lnTo>
                      <a:pt x="460" y="368"/>
                    </a:lnTo>
                    <a:lnTo>
                      <a:pt x="490" y="397"/>
                    </a:lnTo>
                    <a:lnTo>
                      <a:pt x="516" y="354"/>
                    </a:lnTo>
                    <a:lnTo>
                      <a:pt x="531" y="307"/>
                    </a:lnTo>
                    <a:lnTo>
                      <a:pt x="517" y="273"/>
                    </a:lnTo>
                    <a:lnTo>
                      <a:pt x="584" y="221"/>
                    </a:lnTo>
                    <a:lnTo>
                      <a:pt x="598" y="193"/>
                    </a:lnTo>
                    <a:lnTo>
                      <a:pt x="598" y="181"/>
                    </a:lnTo>
                    <a:lnTo>
                      <a:pt x="550" y="124"/>
                    </a:lnTo>
                    <a:lnTo>
                      <a:pt x="500" y="64"/>
                    </a:lnTo>
                    <a:lnTo>
                      <a:pt x="490" y="0"/>
                    </a:lnTo>
                    <a:lnTo>
                      <a:pt x="13" y="10"/>
                    </a:lnTo>
                    <a:lnTo>
                      <a:pt x="0" y="9"/>
                    </a:lnTo>
                  </a:path>
                </a:pathLst>
              </a:custGeom>
              <a:blipFill rotWithShape="0">
                <a:blip r:embed="rId14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303080" y="2820240"/>
                <a:ext cx="757080" cy="413640"/>
              </a:xfrm>
              <a:custGeom>
                <a:avLst/>
                <a:gdLst/>
                <a:ahLst/>
                <a:rect l="l" t="t" r="r" b="b"/>
                <a:pathLst>
                  <a:path w="746" h="403">
                    <a:moveTo>
                      <a:pt x="0" y="381"/>
                    </a:moveTo>
                    <a:lnTo>
                      <a:pt x="25" y="0"/>
                    </a:lnTo>
                    <a:lnTo>
                      <a:pt x="303" y="15"/>
                    </a:lnTo>
                    <a:lnTo>
                      <a:pt x="671" y="20"/>
                    </a:lnTo>
                    <a:lnTo>
                      <a:pt x="691" y="37"/>
                    </a:lnTo>
                    <a:lnTo>
                      <a:pt x="704" y="34"/>
                    </a:lnTo>
                    <a:lnTo>
                      <a:pt x="715" y="44"/>
                    </a:lnTo>
                    <a:lnTo>
                      <a:pt x="716" y="53"/>
                    </a:lnTo>
                    <a:lnTo>
                      <a:pt x="706" y="53"/>
                    </a:lnTo>
                    <a:lnTo>
                      <a:pt x="693" y="80"/>
                    </a:lnTo>
                    <a:lnTo>
                      <a:pt x="723" y="122"/>
                    </a:lnTo>
                    <a:lnTo>
                      <a:pt x="745" y="130"/>
                    </a:lnTo>
                    <a:lnTo>
                      <a:pt x="742" y="400"/>
                    </a:lnTo>
                    <a:lnTo>
                      <a:pt x="425" y="402"/>
                    </a:lnTo>
                    <a:lnTo>
                      <a:pt x="0" y="381"/>
                    </a:lnTo>
                  </a:path>
                </a:pathLst>
              </a:custGeom>
              <a:blipFill rotWithShape="0">
                <a:blip r:embed="rId15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943880" y="2755800"/>
                <a:ext cx="677880" cy="595440"/>
              </a:xfrm>
              <a:custGeom>
                <a:avLst/>
                <a:gdLst/>
                <a:ahLst/>
                <a:rect l="l" t="t" r="r" b="b"/>
                <a:pathLst>
                  <a:path w="668" h="580">
                    <a:moveTo>
                      <a:pt x="0" y="8"/>
                    </a:moveTo>
                    <a:lnTo>
                      <a:pt x="40" y="83"/>
                    </a:lnTo>
                    <a:lnTo>
                      <a:pt x="60" y="100"/>
                    </a:lnTo>
                    <a:lnTo>
                      <a:pt x="73" y="97"/>
                    </a:lnTo>
                    <a:lnTo>
                      <a:pt x="84" y="107"/>
                    </a:lnTo>
                    <a:lnTo>
                      <a:pt x="85" y="116"/>
                    </a:lnTo>
                    <a:lnTo>
                      <a:pt x="75" y="116"/>
                    </a:lnTo>
                    <a:lnTo>
                      <a:pt x="62" y="143"/>
                    </a:lnTo>
                    <a:lnTo>
                      <a:pt x="92" y="185"/>
                    </a:lnTo>
                    <a:lnTo>
                      <a:pt x="114" y="193"/>
                    </a:lnTo>
                    <a:lnTo>
                      <a:pt x="111" y="463"/>
                    </a:lnTo>
                    <a:lnTo>
                      <a:pt x="113" y="529"/>
                    </a:lnTo>
                    <a:lnTo>
                      <a:pt x="556" y="514"/>
                    </a:lnTo>
                    <a:lnTo>
                      <a:pt x="562" y="553"/>
                    </a:lnTo>
                    <a:lnTo>
                      <a:pt x="544" y="579"/>
                    </a:lnTo>
                    <a:lnTo>
                      <a:pt x="612" y="575"/>
                    </a:lnTo>
                    <a:lnTo>
                      <a:pt x="622" y="553"/>
                    </a:lnTo>
                    <a:lnTo>
                      <a:pt x="625" y="529"/>
                    </a:lnTo>
                    <a:lnTo>
                      <a:pt x="639" y="510"/>
                    </a:lnTo>
                    <a:lnTo>
                      <a:pt x="647" y="492"/>
                    </a:lnTo>
                    <a:lnTo>
                      <a:pt x="662" y="489"/>
                    </a:lnTo>
                    <a:lnTo>
                      <a:pt x="667" y="450"/>
                    </a:lnTo>
                    <a:lnTo>
                      <a:pt x="658" y="446"/>
                    </a:lnTo>
                    <a:lnTo>
                      <a:pt x="642" y="445"/>
                    </a:lnTo>
                    <a:lnTo>
                      <a:pt x="627" y="415"/>
                    </a:lnTo>
                    <a:lnTo>
                      <a:pt x="619" y="374"/>
                    </a:lnTo>
                    <a:lnTo>
                      <a:pt x="601" y="347"/>
                    </a:lnTo>
                    <a:lnTo>
                      <a:pt x="575" y="336"/>
                    </a:lnTo>
                    <a:lnTo>
                      <a:pt x="543" y="310"/>
                    </a:lnTo>
                    <a:lnTo>
                      <a:pt x="531" y="274"/>
                    </a:lnTo>
                    <a:lnTo>
                      <a:pt x="550" y="219"/>
                    </a:lnTo>
                    <a:lnTo>
                      <a:pt x="533" y="208"/>
                    </a:lnTo>
                    <a:lnTo>
                      <a:pt x="495" y="209"/>
                    </a:lnTo>
                    <a:lnTo>
                      <a:pt x="488" y="174"/>
                    </a:lnTo>
                    <a:lnTo>
                      <a:pt x="424" y="107"/>
                    </a:lnTo>
                    <a:lnTo>
                      <a:pt x="408" y="51"/>
                    </a:lnTo>
                    <a:lnTo>
                      <a:pt x="416" y="29"/>
                    </a:lnTo>
                    <a:lnTo>
                      <a:pt x="386" y="0"/>
                    </a:lnTo>
                    <a:lnTo>
                      <a:pt x="0" y="8"/>
                    </a:lnTo>
                  </a:path>
                </a:pathLst>
              </a:custGeom>
              <a:blipFill rotWithShape="0">
                <a:blip r:embed="rId16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145040" y="2415960"/>
                <a:ext cx="840600" cy="425880"/>
              </a:xfrm>
              <a:custGeom>
                <a:avLst/>
                <a:gdLst/>
                <a:ahLst/>
                <a:rect l="l" t="t" r="r" b="b"/>
                <a:pathLst>
                  <a:path w="828" h="415">
                    <a:moveTo>
                      <a:pt x="0" y="252"/>
                    </a:moveTo>
                    <a:lnTo>
                      <a:pt x="24" y="0"/>
                    </a:lnTo>
                    <a:lnTo>
                      <a:pt x="534" y="31"/>
                    </a:lnTo>
                    <a:lnTo>
                      <a:pt x="568" y="57"/>
                    </a:lnTo>
                    <a:lnTo>
                      <a:pt x="629" y="55"/>
                    </a:lnTo>
                    <a:lnTo>
                      <a:pt x="657" y="61"/>
                    </a:lnTo>
                    <a:lnTo>
                      <a:pt x="692" y="75"/>
                    </a:lnTo>
                    <a:lnTo>
                      <a:pt x="709" y="97"/>
                    </a:lnTo>
                    <a:lnTo>
                      <a:pt x="724" y="102"/>
                    </a:lnTo>
                    <a:lnTo>
                      <a:pt x="753" y="179"/>
                    </a:lnTo>
                    <a:lnTo>
                      <a:pt x="754" y="205"/>
                    </a:lnTo>
                    <a:lnTo>
                      <a:pt x="772" y="241"/>
                    </a:lnTo>
                    <a:lnTo>
                      <a:pt x="781" y="301"/>
                    </a:lnTo>
                    <a:lnTo>
                      <a:pt x="776" y="319"/>
                    </a:lnTo>
                    <a:lnTo>
                      <a:pt x="787" y="339"/>
                    </a:lnTo>
                    <a:lnTo>
                      <a:pt x="827" y="414"/>
                    </a:lnTo>
                    <a:lnTo>
                      <a:pt x="459" y="409"/>
                    </a:lnTo>
                    <a:lnTo>
                      <a:pt x="181" y="394"/>
                    </a:lnTo>
                    <a:lnTo>
                      <a:pt x="189" y="269"/>
                    </a:lnTo>
                    <a:lnTo>
                      <a:pt x="0" y="252"/>
                    </a:ln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2901600" y="1487520"/>
              <a:ext cx="1982520" cy="2378520"/>
              <a:chOff x="2901600" y="1487520"/>
              <a:chExt cx="1982520" cy="237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2901600" y="3051360"/>
                <a:ext cx="694800" cy="814680"/>
              </a:xfrm>
              <a:custGeom>
                <a:avLst/>
                <a:gdLst/>
                <a:ahLst/>
                <a:rect l="l" t="t" r="r" b="b"/>
                <a:pathLst>
                  <a:path w="685" h="793">
                    <a:moveTo>
                      <a:pt x="0" y="541"/>
                    </a:moveTo>
                    <a:lnTo>
                      <a:pt x="43" y="504"/>
                    </a:lnTo>
                    <a:lnTo>
                      <a:pt x="26" y="473"/>
                    </a:lnTo>
                    <a:lnTo>
                      <a:pt x="35" y="430"/>
                    </a:lnTo>
                    <a:lnTo>
                      <a:pt x="80" y="355"/>
                    </a:lnTo>
                    <a:lnTo>
                      <a:pt x="113" y="334"/>
                    </a:lnTo>
                    <a:lnTo>
                      <a:pt x="93" y="308"/>
                    </a:lnTo>
                    <a:lnTo>
                      <a:pt x="81" y="234"/>
                    </a:lnTo>
                    <a:lnTo>
                      <a:pt x="95" y="102"/>
                    </a:lnTo>
                    <a:lnTo>
                      <a:pt x="118" y="95"/>
                    </a:lnTo>
                    <a:lnTo>
                      <a:pt x="157" y="117"/>
                    </a:lnTo>
                    <a:lnTo>
                      <a:pt x="190" y="0"/>
                    </a:lnTo>
                    <a:lnTo>
                      <a:pt x="684" y="84"/>
                    </a:lnTo>
                    <a:lnTo>
                      <a:pt x="580" y="792"/>
                    </a:lnTo>
                    <a:lnTo>
                      <a:pt x="429" y="768"/>
                    </a:lnTo>
                    <a:lnTo>
                      <a:pt x="334" y="742"/>
                    </a:lnTo>
                    <a:lnTo>
                      <a:pt x="140" y="627"/>
                    </a:lnTo>
                    <a:lnTo>
                      <a:pt x="0" y="541"/>
                    </a:lnTo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198600" y="1487520"/>
                <a:ext cx="1041120" cy="669600"/>
              </a:xfrm>
              <a:custGeom>
                <a:avLst/>
                <a:gdLst/>
                <a:ahLst/>
                <a:rect l="l" t="t" r="r" b="b"/>
                <a:pathLst>
                  <a:path w="1026" h="652">
                    <a:moveTo>
                      <a:pt x="0" y="122"/>
                    </a:moveTo>
                    <a:lnTo>
                      <a:pt x="18" y="165"/>
                    </a:lnTo>
                    <a:lnTo>
                      <a:pt x="19" y="193"/>
                    </a:lnTo>
                    <a:lnTo>
                      <a:pt x="9" y="197"/>
                    </a:lnTo>
                    <a:lnTo>
                      <a:pt x="40" y="227"/>
                    </a:lnTo>
                    <a:lnTo>
                      <a:pt x="72" y="304"/>
                    </a:lnTo>
                    <a:lnTo>
                      <a:pt x="83" y="301"/>
                    </a:lnTo>
                    <a:lnTo>
                      <a:pt x="84" y="312"/>
                    </a:lnTo>
                    <a:lnTo>
                      <a:pt x="99" y="316"/>
                    </a:lnTo>
                    <a:lnTo>
                      <a:pt x="110" y="318"/>
                    </a:lnTo>
                    <a:lnTo>
                      <a:pt x="83" y="374"/>
                    </a:lnTo>
                    <a:lnTo>
                      <a:pt x="87" y="412"/>
                    </a:lnTo>
                    <a:lnTo>
                      <a:pt x="65" y="448"/>
                    </a:lnTo>
                    <a:lnTo>
                      <a:pt x="79" y="465"/>
                    </a:lnTo>
                    <a:lnTo>
                      <a:pt x="120" y="441"/>
                    </a:lnTo>
                    <a:lnTo>
                      <a:pt x="150" y="564"/>
                    </a:lnTo>
                    <a:lnTo>
                      <a:pt x="168" y="569"/>
                    </a:lnTo>
                    <a:lnTo>
                      <a:pt x="172" y="607"/>
                    </a:lnTo>
                    <a:lnTo>
                      <a:pt x="187" y="623"/>
                    </a:lnTo>
                    <a:lnTo>
                      <a:pt x="200" y="609"/>
                    </a:lnTo>
                    <a:lnTo>
                      <a:pt x="227" y="621"/>
                    </a:lnTo>
                    <a:lnTo>
                      <a:pt x="243" y="607"/>
                    </a:lnTo>
                    <a:lnTo>
                      <a:pt x="299" y="620"/>
                    </a:lnTo>
                    <a:lnTo>
                      <a:pt x="311" y="622"/>
                    </a:lnTo>
                    <a:lnTo>
                      <a:pt x="324" y="598"/>
                    </a:lnTo>
                    <a:lnTo>
                      <a:pt x="346" y="637"/>
                    </a:lnTo>
                    <a:lnTo>
                      <a:pt x="358" y="575"/>
                    </a:lnTo>
                    <a:lnTo>
                      <a:pt x="635" y="616"/>
                    </a:lnTo>
                    <a:lnTo>
                      <a:pt x="980" y="651"/>
                    </a:lnTo>
                    <a:lnTo>
                      <a:pt x="990" y="534"/>
                    </a:lnTo>
                    <a:lnTo>
                      <a:pt x="1025" y="153"/>
                    </a:lnTo>
                    <a:lnTo>
                      <a:pt x="571" y="99"/>
                    </a:lnTo>
                    <a:lnTo>
                      <a:pt x="344" y="62"/>
                    </a:lnTo>
                    <a:lnTo>
                      <a:pt x="27" y="0"/>
                    </a:lnTo>
                    <a:lnTo>
                      <a:pt x="0" y="122"/>
                    </a:lnTo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203360" y="1644480"/>
                <a:ext cx="670680" cy="426960"/>
              </a:xfrm>
              <a:custGeom>
                <a:avLst/>
                <a:gdLst/>
                <a:ahLst/>
                <a:rect l="l" t="t" r="r" b="b"/>
                <a:pathLst>
                  <a:path w="661" h="416">
                    <a:moveTo>
                      <a:pt x="0" y="381"/>
                    </a:moveTo>
                    <a:lnTo>
                      <a:pt x="35" y="0"/>
                    </a:lnTo>
                    <a:lnTo>
                      <a:pt x="360" y="22"/>
                    </a:lnTo>
                    <a:lnTo>
                      <a:pt x="609" y="30"/>
                    </a:lnTo>
                    <a:lnTo>
                      <a:pt x="614" y="135"/>
                    </a:lnTo>
                    <a:lnTo>
                      <a:pt x="639" y="218"/>
                    </a:lnTo>
                    <a:lnTo>
                      <a:pt x="642" y="327"/>
                    </a:lnTo>
                    <a:lnTo>
                      <a:pt x="660" y="415"/>
                    </a:lnTo>
                    <a:lnTo>
                      <a:pt x="313" y="404"/>
                    </a:lnTo>
                    <a:lnTo>
                      <a:pt x="0" y="381"/>
                    </a:lnTo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168800" y="2036160"/>
                <a:ext cx="715320" cy="486000"/>
              </a:xfrm>
              <a:custGeom>
                <a:avLst/>
                <a:gdLst/>
                <a:ahLst/>
                <a:rect l="l" t="t" r="r" b="b"/>
                <a:pathLst>
                  <a:path w="705" h="473">
                    <a:moveTo>
                      <a:pt x="0" y="370"/>
                    </a:moveTo>
                    <a:lnTo>
                      <a:pt x="24" y="117"/>
                    </a:lnTo>
                    <a:lnTo>
                      <a:pt x="34" y="0"/>
                    </a:lnTo>
                    <a:lnTo>
                      <a:pt x="347" y="23"/>
                    </a:lnTo>
                    <a:lnTo>
                      <a:pt x="694" y="34"/>
                    </a:lnTo>
                    <a:lnTo>
                      <a:pt x="671" y="78"/>
                    </a:lnTo>
                    <a:lnTo>
                      <a:pt x="704" y="112"/>
                    </a:lnTo>
                    <a:lnTo>
                      <a:pt x="702" y="343"/>
                    </a:lnTo>
                    <a:lnTo>
                      <a:pt x="689" y="342"/>
                    </a:lnTo>
                    <a:lnTo>
                      <a:pt x="690" y="372"/>
                    </a:lnTo>
                    <a:lnTo>
                      <a:pt x="701" y="395"/>
                    </a:lnTo>
                    <a:lnTo>
                      <a:pt x="694" y="418"/>
                    </a:lnTo>
                    <a:lnTo>
                      <a:pt x="700" y="472"/>
                    </a:lnTo>
                    <a:lnTo>
                      <a:pt x="685" y="467"/>
                    </a:lnTo>
                    <a:lnTo>
                      <a:pt x="668" y="445"/>
                    </a:lnTo>
                    <a:lnTo>
                      <a:pt x="633" y="431"/>
                    </a:lnTo>
                    <a:lnTo>
                      <a:pt x="605" y="425"/>
                    </a:lnTo>
                    <a:lnTo>
                      <a:pt x="544" y="427"/>
                    </a:lnTo>
                    <a:lnTo>
                      <a:pt x="510" y="401"/>
                    </a:lnTo>
                    <a:lnTo>
                      <a:pt x="0" y="370"/>
                    </a:lnTo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092040" y="2411280"/>
                <a:ext cx="591480" cy="727200"/>
              </a:xfrm>
              <a:custGeom>
                <a:avLst/>
                <a:gdLst/>
                <a:ahLst/>
                <a:rect l="l" t="t" r="r" b="b"/>
                <a:pathLst>
                  <a:path w="583" h="708">
                    <a:moveTo>
                      <a:pt x="0" y="623"/>
                    </a:moveTo>
                    <a:lnTo>
                      <a:pt x="127" y="0"/>
                    </a:lnTo>
                    <a:lnTo>
                      <a:pt x="410" y="49"/>
                    </a:lnTo>
                    <a:lnTo>
                      <a:pt x="388" y="175"/>
                    </a:lnTo>
                    <a:lnTo>
                      <a:pt x="582" y="203"/>
                    </a:lnTo>
                    <a:lnTo>
                      <a:pt x="509" y="707"/>
                    </a:lnTo>
                    <a:lnTo>
                      <a:pt x="0" y="623"/>
                    </a:lnTo>
                  </a:path>
                </a:pathLst>
              </a:custGeom>
              <a:blipFill rotWithShape="0">
                <a:blip r:embed="rId22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476880" y="2078280"/>
                <a:ext cx="717120" cy="597600"/>
              </a:xfrm>
              <a:custGeom>
                <a:avLst/>
                <a:gdLst/>
                <a:ahLst/>
                <a:rect l="l" t="t" r="r" b="b"/>
                <a:pathLst>
                  <a:path w="707" h="582">
                    <a:moveTo>
                      <a:pt x="0" y="499"/>
                    </a:moveTo>
                    <a:lnTo>
                      <a:pt x="21" y="373"/>
                    </a:lnTo>
                    <a:lnTo>
                      <a:pt x="72" y="62"/>
                    </a:lnTo>
                    <a:lnTo>
                      <a:pt x="84" y="0"/>
                    </a:lnTo>
                    <a:lnTo>
                      <a:pt x="361" y="41"/>
                    </a:lnTo>
                    <a:lnTo>
                      <a:pt x="706" y="76"/>
                    </a:lnTo>
                    <a:lnTo>
                      <a:pt x="682" y="329"/>
                    </a:lnTo>
                    <a:lnTo>
                      <a:pt x="658" y="581"/>
                    </a:lnTo>
                    <a:lnTo>
                      <a:pt x="188" y="527"/>
                    </a:lnTo>
                    <a:lnTo>
                      <a:pt x="0" y="499"/>
                    </a:lnTo>
                  </a:path>
                </a:pathLst>
              </a:custGeom>
              <a:blipFill rotWithShape="0">
                <a:blip r:embed="rId23"/>
                <a:srcRect/>
                <a:tile tx="0" ty="0" sx="100000" sy="100000" algn="ctr"/>
              </a:blip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5513760" y="3183840"/>
              <a:ext cx="1041120" cy="898200"/>
              <a:chOff x="5513760" y="3183840"/>
              <a:chExt cx="1041120" cy="898200"/>
            </a:xfrm>
          </p:grpSpPr>
          <p:sp>
            <p:nvSpPr>
              <p:cNvPr id="233" name=""/>
              <p:cNvSpPr/>
              <p:nvPr/>
            </p:nvSpPr>
            <p:spPr>
              <a:xfrm>
                <a:off x="5731200" y="3444480"/>
                <a:ext cx="389160" cy="637560"/>
              </a:xfrm>
              <a:custGeom>
                <a:avLst/>
                <a:gdLst/>
                <a:ahLst/>
                <a:rect l="l" t="t" r="r" b="b"/>
                <a:pathLst>
                  <a:path w="383" h="621">
                    <a:moveTo>
                      <a:pt x="0" y="23"/>
                    </a:moveTo>
                    <a:lnTo>
                      <a:pt x="9" y="34"/>
                    </a:lnTo>
                    <a:lnTo>
                      <a:pt x="0" y="417"/>
                    </a:lnTo>
                    <a:lnTo>
                      <a:pt x="24" y="602"/>
                    </a:lnTo>
                    <a:lnTo>
                      <a:pt x="51" y="609"/>
                    </a:lnTo>
                    <a:lnTo>
                      <a:pt x="61" y="551"/>
                    </a:lnTo>
                    <a:lnTo>
                      <a:pt x="71" y="566"/>
                    </a:lnTo>
                    <a:lnTo>
                      <a:pt x="73" y="594"/>
                    </a:lnTo>
                    <a:lnTo>
                      <a:pt x="89" y="607"/>
                    </a:lnTo>
                    <a:lnTo>
                      <a:pt x="66" y="620"/>
                    </a:lnTo>
                    <a:lnTo>
                      <a:pt x="120" y="606"/>
                    </a:lnTo>
                    <a:lnTo>
                      <a:pt x="130" y="588"/>
                    </a:lnTo>
                    <a:lnTo>
                      <a:pt x="122" y="579"/>
                    </a:lnTo>
                    <a:lnTo>
                      <a:pt x="128" y="564"/>
                    </a:lnTo>
                    <a:lnTo>
                      <a:pt x="101" y="539"/>
                    </a:lnTo>
                    <a:lnTo>
                      <a:pt x="103" y="520"/>
                    </a:lnTo>
                    <a:lnTo>
                      <a:pt x="382" y="495"/>
                    </a:lnTo>
                    <a:lnTo>
                      <a:pt x="358" y="396"/>
                    </a:lnTo>
                    <a:lnTo>
                      <a:pt x="362" y="361"/>
                    </a:lnTo>
                    <a:lnTo>
                      <a:pt x="373" y="339"/>
                    </a:lnTo>
                    <a:lnTo>
                      <a:pt x="364" y="305"/>
                    </a:lnTo>
                    <a:lnTo>
                      <a:pt x="337" y="262"/>
                    </a:lnTo>
                    <a:lnTo>
                      <a:pt x="265" y="0"/>
                    </a:lnTo>
                    <a:lnTo>
                      <a:pt x="0" y="23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000120" y="3412800"/>
                <a:ext cx="554760" cy="581400"/>
              </a:xfrm>
              <a:custGeom>
                <a:avLst/>
                <a:gdLst/>
                <a:ahLst/>
                <a:rect l="l" t="t" r="r" b="b"/>
                <a:pathLst>
                  <a:path w="546" h="566">
                    <a:moveTo>
                      <a:pt x="0" y="31"/>
                    </a:moveTo>
                    <a:lnTo>
                      <a:pt x="72" y="293"/>
                    </a:lnTo>
                    <a:lnTo>
                      <a:pt x="99" y="336"/>
                    </a:lnTo>
                    <a:lnTo>
                      <a:pt x="108" y="370"/>
                    </a:lnTo>
                    <a:lnTo>
                      <a:pt x="97" y="392"/>
                    </a:lnTo>
                    <a:lnTo>
                      <a:pt x="93" y="427"/>
                    </a:lnTo>
                    <a:lnTo>
                      <a:pt x="117" y="526"/>
                    </a:lnTo>
                    <a:lnTo>
                      <a:pt x="137" y="559"/>
                    </a:lnTo>
                    <a:lnTo>
                      <a:pt x="425" y="542"/>
                    </a:lnTo>
                    <a:lnTo>
                      <a:pt x="428" y="564"/>
                    </a:lnTo>
                    <a:lnTo>
                      <a:pt x="447" y="565"/>
                    </a:lnTo>
                    <a:lnTo>
                      <a:pt x="439" y="518"/>
                    </a:lnTo>
                    <a:lnTo>
                      <a:pt x="451" y="505"/>
                    </a:lnTo>
                    <a:lnTo>
                      <a:pt x="493" y="513"/>
                    </a:lnTo>
                    <a:lnTo>
                      <a:pt x="500" y="480"/>
                    </a:lnTo>
                    <a:lnTo>
                      <a:pt x="493" y="477"/>
                    </a:lnTo>
                    <a:lnTo>
                      <a:pt x="503" y="469"/>
                    </a:lnTo>
                    <a:lnTo>
                      <a:pt x="488" y="461"/>
                    </a:lnTo>
                    <a:lnTo>
                      <a:pt x="496" y="450"/>
                    </a:lnTo>
                    <a:lnTo>
                      <a:pt x="494" y="435"/>
                    </a:lnTo>
                    <a:lnTo>
                      <a:pt x="513" y="422"/>
                    </a:lnTo>
                    <a:lnTo>
                      <a:pt x="507" y="406"/>
                    </a:lnTo>
                    <a:lnTo>
                      <a:pt x="515" y="400"/>
                    </a:lnTo>
                    <a:lnTo>
                      <a:pt x="520" y="385"/>
                    </a:lnTo>
                    <a:lnTo>
                      <a:pt x="513" y="380"/>
                    </a:lnTo>
                    <a:lnTo>
                      <a:pt x="527" y="370"/>
                    </a:lnTo>
                    <a:lnTo>
                      <a:pt x="519" y="359"/>
                    </a:lnTo>
                    <a:lnTo>
                      <a:pt x="532" y="359"/>
                    </a:lnTo>
                    <a:lnTo>
                      <a:pt x="545" y="342"/>
                    </a:lnTo>
                    <a:lnTo>
                      <a:pt x="539" y="336"/>
                    </a:lnTo>
                    <a:lnTo>
                      <a:pt x="521" y="334"/>
                    </a:lnTo>
                    <a:lnTo>
                      <a:pt x="508" y="317"/>
                    </a:lnTo>
                    <a:lnTo>
                      <a:pt x="487" y="279"/>
                    </a:lnTo>
                    <a:lnTo>
                      <a:pt x="474" y="274"/>
                    </a:lnTo>
                    <a:lnTo>
                      <a:pt x="450" y="223"/>
                    </a:lnTo>
                    <a:lnTo>
                      <a:pt x="415" y="201"/>
                    </a:lnTo>
                    <a:lnTo>
                      <a:pt x="390" y="166"/>
                    </a:lnTo>
                    <a:lnTo>
                      <a:pt x="330" y="121"/>
                    </a:lnTo>
                    <a:lnTo>
                      <a:pt x="299" y="81"/>
                    </a:lnTo>
                    <a:lnTo>
                      <a:pt x="234" y="40"/>
                    </a:lnTo>
                    <a:lnTo>
                      <a:pt x="254" y="0"/>
                    </a:lnTo>
                    <a:lnTo>
                      <a:pt x="131" y="14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513760" y="3183840"/>
                <a:ext cx="868680" cy="298800"/>
              </a:xfrm>
              <a:custGeom>
                <a:avLst/>
                <a:gdLst/>
                <a:ahLst/>
                <a:rect l="l" t="t" r="r" b="b"/>
                <a:pathLst>
                  <a:path w="855" h="291">
                    <a:moveTo>
                      <a:pt x="0" y="290"/>
                    </a:moveTo>
                    <a:lnTo>
                      <a:pt x="14" y="239"/>
                    </a:lnTo>
                    <a:lnTo>
                      <a:pt x="8" y="234"/>
                    </a:lnTo>
                    <a:lnTo>
                      <a:pt x="33" y="214"/>
                    </a:lnTo>
                    <a:lnTo>
                      <a:pt x="57" y="169"/>
                    </a:lnTo>
                    <a:lnTo>
                      <a:pt x="50" y="159"/>
                    </a:lnTo>
                    <a:lnTo>
                      <a:pt x="60" y="137"/>
                    </a:lnTo>
                    <a:lnTo>
                      <a:pt x="63" y="113"/>
                    </a:lnTo>
                    <a:lnTo>
                      <a:pt x="77" y="94"/>
                    </a:lnTo>
                    <a:lnTo>
                      <a:pt x="212" y="85"/>
                    </a:lnTo>
                    <a:lnTo>
                      <a:pt x="211" y="63"/>
                    </a:lnTo>
                    <a:lnTo>
                      <a:pt x="252" y="64"/>
                    </a:lnTo>
                    <a:lnTo>
                      <a:pt x="654" y="27"/>
                    </a:lnTo>
                    <a:lnTo>
                      <a:pt x="854" y="0"/>
                    </a:lnTo>
                    <a:lnTo>
                      <a:pt x="850" y="29"/>
                    </a:lnTo>
                    <a:lnTo>
                      <a:pt x="836" y="38"/>
                    </a:lnTo>
                    <a:lnTo>
                      <a:pt x="819" y="69"/>
                    </a:lnTo>
                    <a:lnTo>
                      <a:pt x="804" y="66"/>
                    </a:lnTo>
                    <a:lnTo>
                      <a:pt x="790" y="75"/>
                    </a:lnTo>
                    <a:lnTo>
                      <a:pt x="778" y="91"/>
                    </a:lnTo>
                    <a:lnTo>
                      <a:pt x="764" y="81"/>
                    </a:lnTo>
                    <a:lnTo>
                      <a:pt x="741" y="101"/>
                    </a:lnTo>
                    <a:lnTo>
                      <a:pt x="738" y="117"/>
                    </a:lnTo>
                    <a:lnTo>
                      <a:pt x="641" y="174"/>
                    </a:lnTo>
                    <a:lnTo>
                      <a:pt x="635" y="197"/>
                    </a:lnTo>
                    <a:lnTo>
                      <a:pt x="610" y="209"/>
                    </a:lnTo>
                    <a:lnTo>
                      <a:pt x="610" y="237"/>
                    </a:lnTo>
                    <a:lnTo>
                      <a:pt x="479" y="254"/>
                    </a:lnTo>
                    <a:lnTo>
                      <a:pt x="214" y="277"/>
                    </a:lnTo>
                    <a:lnTo>
                      <a:pt x="0" y="290"/>
                    </a:lnTo>
                  </a:path>
                </a:pathLst>
              </a:custGeom>
              <a:solidFill>
                <a:srgbClr val="ff66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6" name=""/>
            <p:cNvSpPr/>
            <p:nvPr/>
          </p:nvSpPr>
          <p:spPr>
            <a:xfrm>
              <a:off x="6661800" y="4672080"/>
              <a:ext cx="38160" cy="26640"/>
            </a:xfrm>
            <a:custGeom>
              <a:avLst/>
              <a:gdLst/>
              <a:ahLst/>
              <a:rect l="l" t="t" r="r" b="b"/>
              <a:pathLst>
                <a:path w="38" h="26">
                  <a:moveTo>
                    <a:pt x="0" y="23"/>
                  </a:moveTo>
                  <a:lnTo>
                    <a:pt x="7" y="25"/>
                  </a:lnTo>
                  <a:lnTo>
                    <a:pt x="37" y="0"/>
                  </a:lnTo>
                  <a:lnTo>
                    <a:pt x="10" y="18"/>
                  </a:lnTo>
                  <a:lnTo>
                    <a:pt x="0" y="23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726600" y="4598280"/>
              <a:ext cx="26280" cy="5112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0" y="49"/>
                  </a:moveTo>
                  <a:lnTo>
                    <a:pt x="12" y="33"/>
                  </a:lnTo>
                  <a:lnTo>
                    <a:pt x="25" y="0"/>
                  </a:lnTo>
                  <a:lnTo>
                    <a:pt x="17" y="15"/>
                  </a:lnTo>
                  <a:lnTo>
                    <a:pt x="0" y="49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833800" y="3931920"/>
              <a:ext cx="924120" cy="707400"/>
            </a:xfrm>
            <a:custGeom>
              <a:avLst/>
              <a:gdLst/>
              <a:ahLst/>
              <a:rect l="l" t="t" r="r" b="b"/>
              <a:pathLst>
                <a:path w="911" h="689">
                  <a:moveTo>
                    <a:pt x="2" y="46"/>
                  </a:moveTo>
                  <a:lnTo>
                    <a:pt x="0" y="65"/>
                  </a:lnTo>
                  <a:lnTo>
                    <a:pt x="27" y="90"/>
                  </a:lnTo>
                  <a:lnTo>
                    <a:pt x="21" y="105"/>
                  </a:lnTo>
                  <a:lnTo>
                    <a:pt x="29" y="114"/>
                  </a:lnTo>
                  <a:lnTo>
                    <a:pt x="19" y="132"/>
                  </a:lnTo>
                  <a:lnTo>
                    <a:pt x="39" y="124"/>
                  </a:lnTo>
                  <a:lnTo>
                    <a:pt x="50" y="111"/>
                  </a:lnTo>
                  <a:lnTo>
                    <a:pt x="50" y="98"/>
                  </a:lnTo>
                  <a:lnTo>
                    <a:pt x="59" y="106"/>
                  </a:lnTo>
                  <a:lnTo>
                    <a:pt x="67" y="94"/>
                  </a:lnTo>
                  <a:lnTo>
                    <a:pt x="75" y="105"/>
                  </a:lnTo>
                  <a:lnTo>
                    <a:pt x="54" y="121"/>
                  </a:lnTo>
                  <a:lnTo>
                    <a:pt x="113" y="107"/>
                  </a:lnTo>
                  <a:lnTo>
                    <a:pt x="125" y="95"/>
                  </a:lnTo>
                  <a:lnTo>
                    <a:pt x="133" y="100"/>
                  </a:lnTo>
                  <a:lnTo>
                    <a:pt x="156" y="94"/>
                  </a:lnTo>
                  <a:lnTo>
                    <a:pt x="166" y="102"/>
                  </a:lnTo>
                  <a:lnTo>
                    <a:pt x="126" y="106"/>
                  </a:lnTo>
                  <a:lnTo>
                    <a:pt x="138" y="110"/>
                  </a:lnTo>
                  <a:lnTo>
                    <a:pt x="184" y="120"/>
                  </a:lnTo>
                  <a:lnTo>
                    <a:pt x="211" y="135"/>
                  </a:lnTo>
                  <a:lnTo>
                    <a:pt x="203" y="114"/>
                  </a:lnTo>
                  <a:lnTo>
                    <a:pt x="217" y="130"/>
                  </a:lnTo>
                  <a:lnTo>
                    <a:pt x="237" y="133"/>
                  </a:lnTo>
                  <a:lnTo>
                    <a:pt x="220" y="139"/>
                  </a:lnTo>
                  <a:lnTo>
                    <a:pt x="251" y="155"/>
                  </a:lnTo>
                  <a:lnTo>
                    <a:pt x="263" y="169"/>
                  </a:lnTo>
                  <a:lnTo>
                    <a:pt x="262" y="183"/>
                  </a:lnTo>
                  <a:lnTo>
                    <a:pt x="249" y="165"/>
                  </a:lnTo>
                  <a:lnTo>
                    <a:pt x="257" y="189"/>
                  </a:lnTo>
                  <a:lnTo>
                    <a:pt x="281" y="179"/>
                  </a:lnTo>
                  <a:lnTo>
                    <a:pt x="297" y="178"/>
                  </a:lnTo>
                  <a:lnTo>
                    <a:pt x="307" y="168"/>
                  </a:lnTo>
                  <a:lnTo>
                    <a:pt x="312" y="175"/>
                  </a:lnTo>
                  <a:lnTo>
                    <a:pt x="345" y="150"/>
                  </a:lnTo>
                  <a:lnTo>
                    <a:pt x="366" y="149"/>
                  </a:lnTo>
                  <a:lnTo>
                    <a:pt x="358" y="141"/>
                  </a:lnTo>
                  <a:lnTo>
                    <a:pt x="373" y="122"/>
                  </a:lnTo>
                  <a:lnTo>
                    <a:pt x="404" y="120"/>
                  </a:lnTo>
                  <a:lnTo>
                    <a:pt x="438" y="136"/>
                  </a:lnTo>
                  <a:lnTo>
                    <a:pt x="458" y="161"/>
                  </a:lnTo>
                  <a:lnTo>
                    <a:pt x="475" y="166"/>
                  </a:lnTo>
                  <a:lnTo>
                    <a:pt x="478" y="183"/>
                  </a:lnTo>
                  <a:lnTo>
                    <a:pt x="500" y="194"/>
                  </a:lnTo>
                  <a:lnTo>
                    <a:pt x="508" y="208"/>
                  </a:lnTo>
                  <a:lnTo>
                    <a:pt x="520" y="218"/>
                  </a:lnTo>
                  <a:lnTo>
                    <a:pt x="548" y="219"/>
                  </a:lnTo>
                  <a:lnTo>
                    <a:pt x="560" y="238"/>
                  </a:lnTo>
                  <a:lnTo>
                    <a:pt x="575" y="276"/>
                  </a:lnTo>
                  <a:lnTo>
                    <a:pt x="566" y="343"/>
                  </a:lnTo>
                  <a:lnTo>
                    <a:pt x="569" y="385"/>
                  </a:lnTo>
                  <a:lnTo>
                    <a:pt x="587" y="398"/>
                  </a:lnTo>
                  <a:lnTo>
                    <a:pt x="590" y="378"/>
                  </a:lnTo>
                  <a:lnTo>
                    <a:pt x="578" y="371"/>
                  </a:lnTo>
                  <a:lnTo>
                    <a:pt x="580" y="358"/>
                  </a:lnTo>
                  <a:lnTo>
                    <a:pt x="585" y="362"/>
                  </a:lnTo>
                  <a:lnTo>
                    <a:pt x="598" y="366"/>
                  </a:lnTo>
                  <a:lnTo>
                    <a:pt x="602" y="379"/>
                  </a:lnTo>
                  <a:lnTo>
                    <a:pt x="610" y="364"/>
                  </a:lnTo>
                  <a:lnTo>
                    <a:pt x="617" y="377"/>
                  </a:lnTo>
                  <a:lnTo>
                    <a:pt x="592" y="421"/>
                  </a:lnTo>
                  <a:lnTo>
                    <a:pt x="591" y="429"/>
                  </a:lnTo>
                  <a:lnTo>
                    <a:pt x="606" y="436"/>
                  </a:lnTo>
                  <a:lnTo>
                    <a:pt x="620" y="472"/>
                  </a:lnTo>
                  <a:lnTo>
                    <a:pt x="637" y="489"/>
                  </a:lnTo>
                  <a:lnTo>
                    <a:pt x="647" y="502"/>
                  </a:lnTo>
                  <a:lnTo>
                    <a:pt x="660" y="502"/>
                  </a:lnTo>
                  <a:lnTo>
                    <a:pt x="646" y="482"/>
                  </a:lnTo>
                  <a:lnTo>
                    <a:pt x="657" y="485"/>
                  </a:lnTo>
                  <a:lnTo>
                    <a:pt x="671" y="481"/>
                  </a:lnTo>
                  <a:lnTo>
                    <a:pt x="665" y="489"/>
                  </a:lnTo>
                  <a:lnTo>
                    <a:pt x="671" y="507"/>
                  </a:lnTo>
                  <a:lnTo>
                    <a:pt x="677" y="531"/>
                  </a:lnTo>
                  <a:lnTo>
                    <a:pt x="698" y="541"/>
                  </a:lnTo>
                  <a:lnTo>
                    <a:pt x="704" y="557"/>
                  </a:lnTo>
                  <a:lnTo>
                    <a:pt x="723" y="603"/>
                  </a:lnTo>
                  <a:lnTo>
                    <a:pt x="747" y="603"/>
                  </a:lnTo>
                  <a:lnTo>
                    <a:pt x="767" y="615"/>
                  </a:lnTo>
                  <a:lnTo>
                    <a:pt x="801" y="660"/>
                  </a:lnTo>
                  <a:lnTo>
                    <a:pt x="828" y="664"/>
                  </a:lnTo>
                  <a:lnTo>
                    <a:pt x="829" y="674"/>
                  </a:lnTo>
                  <a:lnTo>
                    <a:pt x="823" y="679"/>
                  </a:lnTo>
                  <a:lnTo>
                    <a:pt x="801" y="669"/>
                  </a:lnTo>
                  <a:lnTo>
                    <a:pt x="808" y="688"/>
                  </a:lnTo>
                  <a:lnTo>
                    <a:pt x="834" y="681"/>
                  </a:lnTo>
                  <a:lnTo>
                    <a:pt x="856" y="681"/>
                  </a:lnTo>
                  <a:lnTo>
                    <a:pt x="867" y="669"/>
                  </a:lnTo>
                  <a:lnTo>
                    <a:pt x="886" y="668"/>
                  </a:lnTo>
                  <a:lnTo>
                    <a:pt x="896" y="648"/>
                  </a:lnTo>
                  <a:lnTo>
                    <a:pt x="892" y="621"/>
                  </a:lnTo>
                  <a:lnTo>
                    <a:pt x="901" y="589"/>
                  </a:lnTo>
                  <a:lnTo>
                    <a:pt x="910" y="592"/>
                  </a:lnTo>
                  <a:lnTo>
                    <a:pt x="902" y="482"/>
                  </a:lnTo>
                  <a:lnTo>
                    <a:pt x="892" y="449"/>
                  </a:lnTo>
                  <a:lnTo>
                    <a:pt x="794" y="289"/>
                  </a:lnTo>
                  <a:lnTo>
                    <a:pt x="770" y="237"/>
                  </a:lnTo>
                  <a:lnTo>
                    <a:pt x="780" y="237"/>
                  </a:lnTo>
                  <a:lnTo>
                    <a:pt x="716" y="135"/>
                  </a:lnTo>
                  <a:lnTo>
                    <a:pt x="671" y="29"/>
                  </a:lnTo>
                  <a:lnTo>
                    <a:pt x="669" y="10"/>
                  </a:lnTo>
                  <a:lnTo>
                    <a:pt x="657" y="8"/>
                  </a:lnTo>
                  <a:lnTo>
                    <a:pt x="615" y="0"/>
                  </a:lnTo>
                  <a:lnTo>
                    <a:pt x="603" y="13"/>
                  </a:lnTo>
                  <a:lnTo>
                    <a:pt x="611" y="60"/>
                  </a:lnTo>
                  <a:lnTo>
                    <a:pt x="592" y="59"/>
                  </a:lnTo>
                  <a:lnTo>
                    <a:pt x="589" y="37"/>
                  </a:lnTo>
                  <a:lnTo>
                    <a:pt x="301" y="54"/>
                  </a:lnTo>
                  <a:lnTo>
                    <a:pt x="281" y="21"/>
                  </a:lnTo>
                  <a:lnTo>
                    <a:pt x="2" y="46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96640" y="4692240"/>
              <a:ext cx="48240" cy="3240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0" y="31"/>
                  </a:moveTo>
                  <a:lnTo>
                    <a:pt x="3" y="14"/>
                  </a:lnTo>
                  <a:lnTo>
                    <a:pt x="18" y="12"/>
                  </a:lnTo>
                  <a:lnTo>
                    <a:pt x="21" y="0"/>
                  </a:lnTo>
                  <a:lnTo>
                    <a:pt x="46" y="13"/>
                  </a:lnTo>
                  <a:lnTo>
                    <a:pt x="21" y="21"/>
                  </a:lnTo>
                  <a:lnTo>
                    <a:pt x="9" y="18"/>
                  </a:lnTo>
                  <a:lnTo>
                    <a:pt x="12" y="26"/>
                  </a:lnTo>
                  <a:lnTo>
                    <a:pt x="0" y="31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66960" y="2181600"/>
              <a:ext cx="364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666960" y="2921400"/>
              <a:ext cx="36432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46360" y="1787040"/>
              <a:ext cx="3697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84480" y="1836360"/>
              <a:ext cx="2804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52720" y="4371120"/>
              <a:ext cx="29160" cy="23040"/>
            </a:xfrm>
            <a:custGeom>
              <a:avLst/>
              <a:gdLst/>
              <a:ahLst/>
              <a:rect l="l" t="t" r="r" b="b"/>
              <a:pathLst>
                <a:path w="29" h="22">
                  <a:moveTo>
                    <a:pt x="0" y="0"/>
                  </a:moveTo>
                  <a:lnTo>
                    <a:pt x="10" y="21"/>
                  </a:lnTo>
                  <a:lnTo>
                    <a:pt x="28" y="13"/>
                  </a:lnTo>
                  <a:lnTo>
                    <a:pt x="19" y="0"/>
                  </a:lnTo>
                  <a:lnTo>
                    <a:pt x="0" y="0"/>
                  </a:lnTo>
                </a:path>
              </a:pathLst>
            </a:custGeom>
            <a:solidFill>
              <a:srgbClr val="cccc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209680" y="2171520"/>
              <a:ext cx="1913760" cy="2448720"/>
              <a:chOff x="2209680" y="2171520"/>
              <a:chExt cx="1913760" cy="244872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3528000" y="4198320"/>
                <a:ext cx="595440" cy="421920"/>
                <a:chOff x="3528000" y="4198320"/>
                <a:chExt cx="595440" cy="42192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528000" y="4198320"/>
                  <a:ext cx="59760" cy="50040"/>
                </a:xfrm>
                <a:custGeom>
                  <a:avLst/>
                  <a:gdLst/>
                  <a:ahLst/>
                  <a:rect l="l" t="t" r="r" b="b"/>
                  <a:pathLst>
                    <a:path w="59" h="49">
                      <a:moveTo>
                        <a:pt x="0" y="28"/>
                      </a:moveTo>
                      <a:lnTo>
                        <a:pt x="21" y="48"/>
                      </a:lnTo>
                      <a:lnTo>
                        <a:pt x="34" y="47"/>
                      </a:lnTo>
                      <a:lnTo>
                        <a:pt x="53" y="36"/>
                      </a:lnTo>
                      <a:lnTo>
                        <a:pt x="58" y="10"/>
                      </a:lnTo>
                      <a:lnTo>
                        <a:pt x="46" y="0"/>
                      </a:lnTo>
                      <a:lnTo>
                        <a:pt x="29" y="2"/>
                      </a:lnTo>
                      <a:lnTo>
                        <a:pt x="0" y="28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4320" bIns="43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709800" y="4268880"/>
                  <a:ext cx="70560" cy="60480"/>
                </a:xfrm>
                <a:custGeom>
                  <a:avLst/>
                  <a:gdLst/>
                  <a:ahLst/>
                  <a:rect l="l" t="t" r="r" b="b"/>
                  <a:pathLst>
                    <a:path w="70" h="59">
                      <a:moveTo>
                        <a:pt x="0" y="15"/>
                      </a:moveTo>
                      <a:lnTo>
                        <a:pt x="16" y="48"/>
                      </a:lnTo>
                      <a:lnTo>
                        <a:pt x="32" y="48"/>
                      </a:lnTo>
                      <a:lnTo>
                        <a:pt x="33" y="38"/>
                      </a:lnTo>
                      <a:lnTo>
                        <a:pt x="53" y="58"/>
                      </a:lnTo>
                      <a:lnTo>
                        <a:pt x="69" y="55"/>
                      </a:lnTo>
                      <a:lnTo>
                        <a:pt x="65" y="35"/>
                      </a:lnTo>
                      <a:lnTo>
                        <a:pt x="50" y="31"/>
                      </a:lnTo>
                      <a:lnTo>
                        <a:pt x="37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3821400" y="4331520"/>
                  <a:ext cx="72000" cy="20160"/>
                </a:xfrm>
                <a:custGeom>
                  <a:avLst/>
                  <a:gdLst/>
                  <a:ahLst/>
                  <a:rect l="l" t="t" r="r" b="b"/>
                  <a:pathLst>
                    <a:path w="71" h="20">
                      <a:moveTo>
                        <a:pt x="0" y="15"/>
                      </a:moveTo>
                      <a:lnTo>
                        <a:pt x="8" y="0"/>
                      </a:lnTo>
                      <a:lnTo>
                        <a:pt x="70" y="6"/>
                      </a:lnTo>
                      <a:lnTo>
                        <a:pt x="57" y="19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895560" y="4352040"/>
                  <a:ext cx="89280" cy="55080"/>
                </a:xfrm>
                <a:custGeom>
                  <a:avLst/>
                  <a:gdLst/>
                  <a:ahLst/>
                  <a:rect l="l" t="t" r="r" b="b"/>
                  <a:pathLst>
                    <a:path w="88" h="54">
                      <a:moveTo>
                        <a:pt x="0" y="15"/>
                      </a:moveTo>
                      <a:lnTo>
                        <a:pt x="11" y="0"/>
                      </a:lnTo>
                      <a:lnTo>
                        <a:pt x="23" y="15"/>
                      </a:lnTo>
                      <a:lnTo>
                        <a:pt x="52" y="12"/>
                      </a:lnTo>
                      <a:lnTo>
                        <a:pt x="87" y="35"/>
                      </a:lnTo>
                      <a:lnTo>
                        <a:pt x="74" y="45"/>
                      </a:lnTo>
                      <a:lnTo>
                        <a:pt x="35" y="53"/>
                      </a:lnTo>
                      <a:lnTo>
                        <a:pt x="26" y="30"/>
                      </a:lnTo>
                      <a:lnTo>
                        <a:pt x="11" y="3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973320" y="4450680"/>
                  <a:ext cx="150120" cy="169560"/>
                </a:xfrm>
                <a:custGeom>
                  <a:avLst/>
                  <a:gdLst/>
                  <a:ahLst/>
                  <a:rect l="l" t="t" r="r" b="b"/>
                  <a:pathLst>
                    <a:path w="148" h="165">
                      <a:moveTo>
                        <a:pt x="0" y="64"/>
                      </a:moveTo>
                      <a:lnTo>
                        <a:pt x="20" y="110"/>
                      </a:lnTo>
                      <a:lnTo>
                        <a:pt x="17" y="147"/>
                      </a:lnTo>
                      <a:lnTo>
                        <a:pt x="47" y="164"/>
                      </a:lnTo>
                      <a:lnTo>
                        <a:pt x="65" y="137"/>
                      </a:lnTo>
                      <a:lnTo>
                        <a:pt x="127" y="111"/>
                      </a:lnTo>
                      <a:lnTo>
                        <a:pt x="147" y="91"/>
                      </a:lnTo>
                      <a:lnTo>
                        <a:pt x="96" y="33"/>
                      </a:lnTo>
                      <a:lnTo>
                        <a:pt x="24" y="0"/>
                      </a:lnTo>
                      <a:lnTo>
                        <a:pt x="17" y="9"/>
                      </a:lnTo>
                      <a:lnTo>
                        <a:pt x="27" y="34"/>
                      </a:lnTo>
                      <a:lnTo>
                        <a:pt x="0" y="64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209680" y="2171520"/>
                <a:ext cx="1011240" cy="1398240"/>
                <a:chOff x="2209680" y="2171520"/>
                <a:chExt cx="1011240" cy="13982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209680" y="2171520"/>
                  <a:ext cx="807480" cy="1398240"/>
                </a:xfrm>
                <a:custGeom>
                  <a:avLst/>
                  <a:gdLst/>
                  <a:ahLst/>
                  <a:rect l="l" t="t" r="r" b="b"/>
                  <a:pathLst>
                    <a:path w="796" h="1361">
                      <a:moveTo>
                        <a:pt x="18" y="246"/>
                      </a:moveTo>
                      <a:lnTo>
                        <a:pt x="28" y="275"/>
                      </a:lnTo>
                      <a:lnTo>
                        <a:pt x="5" y="382"/>
                      </a:lnTo>
                      <a:lnTo>
                        <a:pt x="20" y="413"/>
                      </a:lnTo>
                      <a:lnTo>
                        <a:pt x="82" y="553"/>
                      </a:lnTo>
                      <a:lnTo>
                        <a:pt x="89" y="550"/>
                      </a:lnTo>
                      <a:lnTo>
                        <a:pt x="92" y="519"/>
                      </a:lnTo>
                      <a:lnTo>
                        <a:pt x="103" y="514"/>
                      </a:lnTo>
                      <a:lnTo>
                        <a:pt x="113" y="522"/>
                      </a:lnTo>
                      <a:lnTo>
                        <a:pt x="94" y="540"/>
                      </a:lnTo>
                      <a:lnTo>
                        <a:pt x="102" y="551"/>
                      </a:lnTo>
                      <a:lnTo>
                        <a:pt x="118" y="611"/>
                      </a:lnTo>
                      <a:lnTo>
                        <a:pt x="108" y="607"/>
                      </a:lnTo>
                      <a:lnTo>
                        <a:pt x="86" y="585"/>
                      </a:lnTo>
                      <a:lnTo>
                        <a:pt x="92" y="561"/>
                      </a:lnTo>
                      <a:lnTo>
                        <a:pt x="82" y="562"/>
                      </a:lnTo>
                      <a:lnTo>
                        <a:pt x="68" y="587"/>
                      </a:lnTo>
                      <a:lnTo>
                        <a:pt x="73" y="642"/>
                      </a:lnTo>
                      <a:lnTo>
                        <a:pt x="86" y="667"/>
                      </a:lnTo>
                      <a:lnTo>
                        <a:pt x="114" y="689"/>
                      </a:lnTo>
                      <a:lnTo>
                        <a:pt x="105" y="716"/>
                      </a:lnTo>
                      <a:lnTo>
                        <a:pt x="89" y="721"/>
                      </a:lnTo>
                      <a:lnTo>
                        <a:pt x="86" y="756"/>
                      </a:lnTo>
                      <a:lnTo>
                        <a:pt x="125" y="837"/>
                      </a:lnTo>
                      <a:lnTo>
                        <a:pt x="156" y="887"/>
                      </a:lnTo>
                      <a:lnTo>
                        <a:pt x="151" y="917"/>
                      </a:lnTo>
                      <a:lnTo>
                        <a:pt x="170" y="937"/>
                      </a:lnTo>
                      <a:lnTo>
                        <a:pt x="162" y="956"/>
                      </a:lnTo>
                      <a:lnTo>
                        <a:pt x="151" y="1003"/>
                      </a:lnTo>
                      <a:lnTo>
                        <a:pt x="165" y="1020"/>
                      </a:lnTo>
                      <a:lnTo>
                        <a:pt x="262" y="1054"/>
                      </a:lnTo>
                      <a:lnTo>
                        <a:pt x="301" y="1108"/>
                      </a:lnTo>
                      <a:lnTo>
                        <a:pt x="347" y="1126"/>
                      </a:lnTo>
                      <a:lnTo>
                        <a:pt x="348" y="1157"/>
                      </a:lnTo>
                      <a:lnTo>
                        <a:pt x="379" y="1166"/>
                      </a:lnTo>
                      <a:lnTo>
                        <a:pt x="419" y="1221"/>
                      </a:lnTo>
                      <a:lnTo>
                        <a:pt x="442" y="1268"/>
                      </a:lnTo>
                      <a:lnTo>
                        <a:pt x="443" y="1342"/>
                      </a:lnTo>
                      <a:lnTo>
                        <a:pt x="725" y="1360"/>
                      </a:lnTo>
                      <a:lnTo>
                        <a:pt x="708" y="1329"/>
                      </a:lnTo>
                      <a:lnTo>
                        <a:pt x="717" y="1286"/>
                      </a:lnTo>
                      <a:lnTo>
                        <a:pt x="762" y="1211"/>
                      </a:lnTo>
                      <a:lnTo>
                        <a:pt x="795" y="1190"/>
                      </a:lnTo>
                      <a:lnTo>
                        <a:pt x="775" y="1164"/>
                      </a:lnTo>
                      <a:lnTo>
                        <a:pt x="763" y="1090"/>
                      </a:lnTo>
                      <a:lnTo>
                        <a:pt x="386" y="524"/>
                      </a:lnTo>
                      <a:lnTo>
                        <a:pt x="358" y="467"/>
                      </a:lnTo>
                      <a:lnTo>
                        <a:pt x="452" y="105"/>
                      </a:lnTo>
                      <a:lnTo>
                        <a:pt x="76" y="0"/>
                      </a:lnTo>
                      <a:lnTo>
                        <a:pt x="66" y="21"/>
                      </a:lnTo>
                      <a:lnTo>
                        <a:pt x="68" y="68"/>
                      </a:lnTo>
                      <a:lnTo>
                        <a:pt x="0" y="181"/>
                      </a:lnTo>
                      <a:lnTo>
                        <a:pt x="18" y="246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572920" y="2279160"/>
                  <a:ext cx="648000" cy="1012680"/>
                </a:xfrm>
                <a:custGeom>
                  <a:avLst/>
                  <a:gdLst/>
                  <a:ahLst/>
                  <a:rect l="l" t="t" r="r" b="b"/>
                  <a:pathLst>
                    <a:path w="638" h="986">
                      <a:moveTo>
                        <a:pt x="0" y="362"/>
                      </a:moveTo>
                      <a:lnTo>
                        <a:pt x="28" y="419"/>
                      </a:lnTo>
                      <a:lnTo>
                        <a:pt x="405" y="985"/>
                      </a:lnTo>
                      <a:lnTo>
                        <a:pt x="419" y="853"/>
                      </a:lnTo>
                      <a:lnTo>
                        <a:pt x="442" y="846"/>
                      </a:lnTo>
                      <a:lnTo>
                        <a:pt x="481" y="868"/>
                      </a:lnTo>
                      <a:lnTo>
                        <a:pt x="514" y="751"/>
                      </a:lnTo>
                      <a:lnTo>
                        <a:pt x="637" y="128"/>
                      </a:lnTo>
                      <a:lnTo>
                        <a:pt x="364" y="69"/>
                      </a:lnTo>
                      <a:lnTo>
                        <a:pt x="94" y="0"/>
                      </a:lnTo>
                      <a:lnTo>
                        <a:pt x="0" y="362"/>
                      </a:lnTo>
                    </a:path>
                  </a:pathLst>
                </a:custGeom>
                <a:solidFill>
                  <a:srgbClr val="cccc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5" name=""/>
            <p:cNvSpPr/>
            <p:nvPr/>
          </p:nvSpPr>
          <p:spPr>
            <a:xfrm>
              <a:off x="5802480" y="2336040"/>
              <a:ext cx="28368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56" name=""/>
            <p:cNvGrpSpPr/>
            <p:nvPr/>
          </p:nvGrpSpPr>
          <p:grpSpPr>
            <a:xfrm>
              <a:off x="6450120" y="1954800"/>
              <a:ext cx="767160" cy="577800"/>
              <a:chOff x="6450120" y="1954800"/>
              <a:chExt cx="767160" cy="577800"/>
            </a:xfrm>
          </p:grpSpPr>
          <p:sp>
            <p:nvSpPr>
              <p:cNvPr id="257" name=""/>
              <p:cNvSpPr/>
              <p:nvPr/>
            </p:nvSpPr>
            <p:spPr>
              <a:xfrm>
                <a:off x="7030080" y="2306880"/>
                <a:ext cx="176040" cy="168120"/>
              </a:xfrm>
              <a:custGeom>
                <a:avLst/>
                <a:gdLst/>
                <a:ahLst/>
                <a:rect l="l" t="t" r="r" b="b"/>
                <a:pathLst>
                  <a:path w="174" h="164">
                    <a:moveTo>
                      <a:pt x="0" y="33"/>
                    </a:moveTo>
                    <a:lnTo>
                      <a:pt x="15" y="118"/>
                    </a:lnTo>
                    <a:lnTo>
                      <a:pt x="14" y="163"/>
                    </a:lnTo>
                    <a:lnTo>
                      <a:pt x="28" y="159"/>
                    </a:lnTo>
                    <a:lnTo>
                      <a:pt x="37" y="147"/>
                    </a:lnTo>
                    <a:lnTo>
                      <a:pt x="61" y="136"/>
                    </a:lnTo>
                    <a:lnTo>
                      <a:pt x="72" y="114"/>
                    </a:lnTo>
                    <a:lnTo>
                      <a:pt x="79" y="118"/>
                    </a:lnTo>
                    <a:lnTo>
                      <a:pt x="98" y="110"/>
                    </a:lnTo>
                    <a:lnTo>
                      <a:pt x="125" y="106"/>
                    </a:lnTo>
                    <a:lnTo>
                      <a:pt x="125" y="96"/>
                    </a:lnTo>
                    <a:lnTo>
                      <a:pt x="133" y="102"/>
                    </a:lnTo>
                    <a:lnTo>
                      <a:pt x="142" y="94"/>
                    </a:lnTo>
                    <a:lnTo>
                      <a:pt x="155" y="91"/>
                    </a:lnTo>
                    <a:lnTo>
                      <a:pt x="173" y="83"/>
                    </a:lnTo>
                    <a:lnTo>
                      <a:pt x="156" y="0"/>
                    </a:lnTo>
                    <a:lnTo>
                      <a:pt x="0" y="33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450120" y="1954800"/>
                <a:ext cx="602280" cy="546480"/>
              </a:xfrm>
              <a:custGeom>
                <a:avLst/>
                <a:gdLst/>
                <a:ahLst/>
                <a:rect l="l" t="t" r="r" b="b"/>
                <a:pathLst>
                  <a:path w="594" h="532">
                    <a:moveTo>
                      <a:pt x="0" y="457"/>
                    </a:moveTo>
                    <a:lnTo>
                      <a:pt x="20" y="487"/>
                    </a:lnTo>
                    <a:lnTo>
                      <a:pt x="407" y="413"/>
                    </a:lnTo>
                    <a:lnTo>
                      <a:pt x="433" y="427"/>
                    </a:lnTo>
                    <a:lnTo>
                      <a:pt x="448" y="457"/>
                    </a:lnTo>
                    <a:lnTo>
                      <a:pt x="486" y="478"/>
                    </a:lnTo>
                    <a:lnTo>
                      <a:pt x="572" y="508"/>
                    </a:lnTo>
                    <a:lnTo>
                      <a:pt x="573" y="519"/>
                    </a:lnTo>
                    <a:lnTo>
                      <a:pt x="578" y="531"/>
                    </a:lnTo>
                    <a:lnTo>
                      <a:pt x="584" y="524"/>
                    </a:lnTo>
                    <a:lnTo>
                      <a:pt x="592" y="499"/>
                    </a:lnTo>
                    <a:lnTo>
                      <a:pt x="593" y="454"/>
                    </a:lnTo>
                    <a:lnTo>
                      <a:pt x="578" y="369"/>
                    </a:lnTo>
                    <a:lnTo>
                      <a:pt x="578" y="278"/>
                    </a:lnTo>
                    <a:lnTo>
                      <a:pt x="563" y="208"/>
                    </a:lnTo>
                    <a:lnTo>
                      <a:pt x="536" y="149"/>
                    </a:lnTo>
                    <a:lnTo>
                      <a:pt x="530" y="91"/>
                    </a:lnTo>
                    <a:lnTo>
                      <a:pt x="505" y="0"/>
                    </a:lnTo>
                    <a:lnTo>
                      <a:pt x="386" y="31"/>
                    </a:lnTo>
                    <a:lnTo>
                      <a:pt x="377" y="29"/>
                    </a:lnTo>
                    <a:lnTo>
                      <a:pt x="341" y="59"/>
                    </a:lnTo>
                    <a:lnTo>
                      <a:pt x="308" y="106"/>
                    </a:lnTo>
                    <a:lnTo>
                      <a:pt x="305" y="126"/>
                    </a:lnTo>
                    <a:lnTo>
                      <a:pt x="290" y="147"/>
                    </a:lnTo>
                    <a:lnTo>
                      <a:pt x="264" y="171"/>
                    </a:lnTo>
                    <a:lnTo>
                      <a:pt x="275" y="187"/>
                    </a:lnTo>
                    <a:lnTo>
                      <a:pt x="279" y="175"/>
                    </a:lnTo>
                    <a:lnTo>
                      <a:pt x="286" y="179"/>
                    </a:lnTo>
                    <a:lnTo>
                      <a:pt x="281" y="185"/>
                    </a:lnTo>
                    <a:lnTo>
                      <a:pt x="287" y="187"/>
                    </a:lnTo>
                    <a:lnTo>
                      <a:pt x="283" y="198"/>
                    </a:lnTo>
                    <a:lnTo>
                      <a:pt x="279" y="198"/>
                    </a:lnTo>
                    <a:lnTo>
                      <a:pt x="277" y="204"/>
                    </a:lnTo>
                    <a:lnTo>
                      <a:pt x="290" y="221"/>
                    </a:lnTo>
                    <a:lnTo>
                      <a:pt x="290" y="236"/>
                    </a:lnTo>
                    <a:lnTo>
                      <a:pt x="272" y="246"/>
                    </a:lnTo>
                    <a:lnTo>
                      <a:pt x="253" y="273"/>
                    </a:lnTo>
                    <a:lnTo>
                      <a:pt x="232" y="289"/>
                    </a:lnTo>
                    <a:lnTo>
                      <a:pt x="195" y="291"/>
                    </a:lnTo>
                    <a:lnTo>
                      <a:pt x="181" y="301"/>
                    </a:lnTo>
                    <a:lnTo>
                      <a:pt x="160" y="291"/>
                    </a:lnTo>
                    <a:lnTo>
                      <a:pt x="95" y="299"/>
                    </a:lnTo>
                    <a:lnTo>
                      <a:pt x="47" y="318"/>
                    </a:lnTo>
                    <a:lnTo>
                      <a:pt x="50" y="335"/>
                    </a:lnTo>
                    <a:lnTo>
                      <a:pt x="47" y="343"/>
                    </a:lnTo>
                    <a:lnTo>
                      <a:pt x="50" y="344"/>
                    </a:lnTo>
                    <a:lnTo>
                      <a:pt x="58" y="360"/>
                    </a:lnTo>
                    <a:lnTo>
                      <a:pt x="64" y="359"/>
                    </a:lnTo>
                    <a:lnTo>
                      <a:pt x="71" y="375"/>
                    </a:lnTo>
                    <a:lnTo>
                      <a:pt x="70" y="381"/>
                    </a:lnTo>
                    <a:lnTo>
                      <a:pt x="58" y="389"/>
                    </a:lnTo>
                    <a:lnTo>
                      <a:pt x="52" y="407"/>
                    </a:lnTo>
                    <a:lnTo>
                      <a:pt x="0" y="457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29000" y="2417760"/>
                <a:ext cx="188280" cy="114840"/>
              </a:xfrm>
              <a:custGeom>
                <a:avLst/>
                <a:gdLst/>
                <a:ahLst/>
                <a:rect l="l" t="t" r="r" b="b"/>
                <a:pathLst>
                  <a:path w="186" h="112">
                    <a:moveTo>
                      <a:pt x="0" y="100"/>
                    </a:moveTo>
                    <a:lnTo>
                      <a:pt x="4" y="110"/>
                    </a:lnTo>
                    <a:lnTo>
                      <a:pt x="8" y="111"/>
                    </a:lnTo>
                    <a:lnTo>
                      <a:pt x="15" y="101"/>
                    </a:lnTo>
                    <a:lnTo>
                      <a:pt x="21" y="99"/>
                    </a:lnTo>
                    <a:lnTo>
                      <a:pt x="24" y="102"/>
                    </a:lnTo>
                    <a:lnTo>
                      <a:pt x="13" y="111"/>
                    </a:lnTo>
                    <a:lnTo>
                      <a:pt x="30" y="105"/>
                    </a:lnTo>
                    <a:lnTo>
                      <a:pt x="32" y="100"/>
                    </a:lnTo>
                    <a:lnTo>
                      <a:pt x="57" y="89"/>
                    </a:lnTo>
                    <a:lnTo>
                      <a:pt x="78" y="73"/>
                    </a:lnTo>
                    <a:lnTo>
                      <a:pt x="101" y="65"/>
                    </a:lnTo>
                    <a:lnTo>
                      <a:pt x="122" y="53"/>
                    </a:lnTo>
                    <a:lnTo>
                      <a:pt x="120" y="55"/>
                    </a:lnTo>
                    <a:lnTo>
                      <a:pt x="82" y="84"/>
                    </a:lnTo>
                    <a:lnTo>
                      <a:pt x="76" y="86"/>
                    </a:lnTo>
                    <a:lnTo>
                      <a:pt x="80" y="87"/>
                    </a:lnTo>
                    <a:lnTo>
                      <a:pt x="91" y="82"/>
                    </a:lnTo>
                    <a:lnTo>
                      <a:pt x="149" y="39"/>
                    </a:lnTo>
                    <a:lnTo>
                      <a:pt x="157" y="31"/>
                    </a:lnTo>
                    <a:lnTo>
                      <a:pt x="184" y="8"/>
                    </a:lnTo>
                    <a:lnTo>
                      <a:pt x="185" y="2"/>
                    </a:lnTo>
                    <a:lnTo>
                      <a:pt x="180" y="2"/>
                    </a:lnTo>
                    <a:lnTo>
                      <a:pt x="168" y="15"/>
                    </a:lnTo>
                    <a:lnTo>
                      <a:pt x="160" y="13"/>
                    </a:lnTo>
                    <a:lnTo>
                      <a:pt x="148" y="20"/>
                    </a:lnTo>
                    <a:lnTo>
                      <a:pt x="144" y="19"/>
                    </a:lnTo>
                    <a:lnTo>
                      <a:pt x="134" y="44"/>
                    </a:lnTo>
                    <a:lnTo>
                      <a:pt x="130" y="39"/>
                    </a:lnTo>
                    <a:lnTo>
                      <a:pt x="120" y="39"/>
                    </a:lnTo>
                    <a:lnTo>
                      <a:pt x="138" y="20"/>
                    </a:lnTo>
                    <a:lnTo>
                      <a:pt x="136" y="15"/>
                    </a:lnTo>
                    <a:lnTo>
                      <a:pt x="148" y="0"/>
                    </a:lnTo>
                    <a:lnTo>
                      <a:pt x="143" y="1"/>
                    </a:lnTo>
                    <a:lnTo>
                      <a:pt x="118" y="31"/>
                    </a:lnTo>
                    <a:lnTo>
                      <a:pt x="89" y="40"/>
                    </a:lnTo>
                    <a:lnTo>
                      <a:pt x="72" y="43"/>
                    </a:lnTo>
                    <a:lnTo>
                      <a:pt x="70" y="51"/>
                    </a:lnTo>
                    <a:lnTo>
                      <a:pt x="51" y="56"/>
                    </a:lnTo>
                    <a:lnTo>
                      <a:pt x="44" y="54"/>
                    </a:lnTo>
                    <a:lnTo>
                      <a:pt x="44" y="60"/>
                    </a:lnTo>
                    <a:lnTo>
                      <a:pt x="35" y="60"/>
                    </a:lnTo>
                    <a:lnTo>
                      <a:pt x="30" y="65"/>
                    </a:lnTo>
                    <a:lnTo>
                      <a:pt x="28" y="73"/>
                    </a:lnTo>
                    <a:lnTo>
                      <a:pt x="24" y="71"/>
                    </a:lnTo>
                    <a:lnTo>
                      <a:pt x="21" y="80"/>
                    </a:lnTo>
                    <a:lnTo>
                      <a:pt x="7" y="85"/>
                    </a:lnTo>
                    <a:lnTo>
                      <a:pt x="5" y="91"/>
                    </a:lnTo>
                    <a:lnTo>
                      <a:pt x="0" y="10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6384960" y="2379240"/>
              <a:ext cx="664920" cy="531720"/>
              <a:chOff x="6384960" y="2379240"/>
              <a:chExt cx="664920" cy="531720"/>
            </a:xfrm>
          </p:grpSpPr>
          <p:sp>
            <p:nvSpPr>
              <p:cNvPr id="261" name=""/>
              <p:cNvSpPr/>
              <p:nvPr/>
            </p:nvSpPr>
            <p:spPr>
              <a:xfrm>
                <a:off x="6777720" y="2798280"/>
                <a:ext cx="16200" cy="23760"/>
              </a:xfrm>
              <a:custGeom>
                <a:avLst/>
                <a:gdLst/>
                <a:ahLst/>
                <a:rect l="l" t="t" r="r" b="b"/>
                <a:pathLst>
                  <a:path w="16" h="23">
                    <a:moveTo>
                      <a:pt x="0" y="7"/>
                    </a:moveTo>
                    <a:lnTo>
                      <a:pt x="10" y="0"/>
                    </a:lnTo>
                    <a:lnTo>
                      <a:pt x="15" y="13"/>
                    </a:lnTo>
                    <a:lnTo>
                      <a:pt x="11" y="22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384960" y="2379240"/>
                <a:ext cx="664920" cy="531720"/>
                <a:chOff x="6384960" y="2379240"/>
                <a:chExt cx="664920" cy="531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7010640" y="2522880"/>
                  <a:ext cx="19080" cy="277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26"/>
                      </a:moveTo>
                      <a:lnTo>
                        <a:pt x="1" y="9"/>
                      </a:lnTo>
                      <a:lnTo>
                        <a:pt x="11" y="0"/>
                      </a:lnTo>
                      <a:lnTo>
                        <a:pt x="18" y="5"/>
                      </a:lnTo>
                      <a:lnTo>
                        <a:pt x="7" y="2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6384960" y="2379240"/>
                  <a:ext cx="664920" cy="531720"/>
                  <a:chOff x="6384960" y="2379240"/>
                  <a:chExt cx="664920" cy="53172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6885720" y="2659680"/>
                    <a:ext cx="1072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174">
                        <a:moveTo>
                          <a:pt x="0" y="18"/>
                        </a:moveTo>
                        <a:lnTo>
                          <a:pt x="14" y="0"/>
                        </a:lnTo>
                        <a:lnTo>
                          <a:pt x="34" y="0"/>
                        </a:lnTo>
                        <a:lnTo>
                          <a:pt x="27" y="18"/>
                        </a:lnTo>
                        <a:lnTo>
                          <a:pt x="23" y="24"/>
                        </a:lnTo>
                        <a:lnTo>
                          <a:pt x="26" y="45"/>
                        </a:lnTo>
                        <a:lnTo>
                          <a:pt x="37" y="57"/>
                        </a:lnTo>
                        <a:lnTo>
                          <a:pt x="51" y="71"/>
                        </a:lnTo>
                        <a:lnTo>
                          <a:pt x="57" y="91"/>
                        </a:lnTo>
                        <a:lnTo>
                          <a:pt x="67" y="106"/>
                        </a:lnTo>
                        <a:lnTo>
                          <a:pt x="77" y="116"/>
                        </a:lnTo>
                        <a:lnTo>
                          <a:pt x="93" y="121"/>
                        </a:lnTo>
                        <a:lnTo>
                          <a:pt x="101" y="137"/>
                        </a:lnTo>
                        <a:lnTo>
                          <a:pt x="87" y="151"/>
                        </a:lnTo>
                        <a:lnTo>
                          <a:pt x="101" y="148"/>
                        </a:lnTo>
                        <a:lnTo>
                          <a:pt x="105" y="161"/>
                        </a:lnTo>
                        <a:lnTo>
                          <a:pt x="78" y="167"/>
                        </a:lnTo>
                        <a:lnTo>
                          <a:pt x="42" y="173"/>
                        </a:lnTo>
                        <a:lnTo>
                          <a:pt x="40" y="162"/>
                        </a:lnTo>
                        <a:lnTo>
                          <a:pt x="0" y="18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6530040" y="2678040"/>
                    <a:ext cx="463320" cy="23292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227">
                        <a:moveTo>
                          <a:pt x="0" y="67"/>
                        </a:moveTo>
                        <a:lnTo>
                          <a:pt x="12" y="132"/>
                        </a:lnTo>
                        <a:lnTo>
                          <a:pt x="46" y="91"/>
                        </a:lnTo>
                        <a:lnTo>
                          <a:pt x="100" y="76"/>
                        </a:lnTo>
                        <a:lnTo>
                          <a:pt x="110" y="59"/>
                        </a:lnTo>
                        <a:lnTo>
                          <a:pt x="140" y="55"/>
                        </a:lnTo>
                        <a:lnTo>
                          <a:pt x="165" y="67"/>
                        </a:lnTo>
                        <a:lnTo>
                          <a:pt x="179" y="86"/>
                        </a:lnTo>
                        <a:lnTo>
                          <a:pt x="205" y="92"/>
                        </a:lnTo>
                        <a:lnTo>
                          <a:pt x="220" y="113"/>
                        </a:lnTo>
                        <a:lnTo>
                          <a:pt x="244" y="124"/>
                        </a:lnTo>
                        <a:lnTo>
                          <a:pt x="254" y="117"/>
                        </a:lnTo>
                        <a:lnTo>
                          <a:pt x="259" y="130"/>
                        </a:lnTo>
                        <a:lnTo>
                          <a:pt x="255" y="139"/>
                        </a:lnTo>
                        <a:lnTo>
                          <a:pt x="253" y="153"/>
                        </a:lnTo>
                        <a:lnTo>
                          <a:pt x="237" y="181"/>
                        </a:lnTo>
                        <a:lnTo>
                          <a:pt x="244" y="200"/>
                        </a:lnTo>
                        <a:lnTo>
                          <a:pt x="263" y="192"/>
                        </a:lnTo>
                        <a:lnTo>
                          <a:pt x="264" y="183"/>
                        </a:lnTo>
                        <a:lnTo>
                          <a:pt x="280" y="202"/>
                        </a:lnTo>
                        <a:lnTo>
                          <a:pt x="284" y="192"/>
                        </a:lnTo>
                        <a:lnTo>
                          <a:pt x="294" y="207"/>
                        </a:lnTo>
                        <a:lnTo>
                          <a:pt x="299" y="200"/>
                        </a:lnTo>
                        <a:lnTo>
                          <a:pt x="317" y="208"/>
                        </a:lnTo>
                        <a:lnTo>
                          <a:pt x="327" y="204"/>
                        </a:lnTo>
                        <a:lnTo>
                          <a:pt x="343" y="219"/>
                        </a:lnTo>
                        <a:lnTo>
                          <a:pt x="330" y="194"/>
                        </a:lnTo>
                        <a:lnTo>
                          <a:pt x="298" y="172"/>
                        </a:lnTo>
                        <a:lnTo>
                          <a:pt x="328" y="187"/>
                        </a:lnTo>
                        <a:lnTo>
                          <a:pt x="310" y="162"/>
                        </a:lnTo>
                        <a:lnTo>
                          <a:pt x="305" y="141"/>
                        </a:lnTo>
                        <a:lnTo>
                          <a:pt x="308" y="91"/>
                        </a:lnTo>
                        <a:lnTo>
                          <a:pt x="289" y="80"/>
                        </a:lnTo>
                        <a:lnTo>
                          <a:pt x="327" y="47"/>
                        </a:lnTo>
                        <a:lnTo>
                          <a:pt x="328" y="27"/>
                        </a:lnTo>
                        <a:lnTo>
                          <a:pt x="349" y="28"/>
                        </a:lnTo>
                        <a:lnTo>
                          <a:pt x="344" y="47"/>
                        </a:lnTo>
                        <a:lnTo>
                          <a:pt x="330" y="53"/>
                        </a:lnTo>
                        <a:lnTo>
                          <a:pt x="323" y="73"/>
                        </a:lnTo>
                        <a:lnTo>
                          <a:pt x="327" y="90"/>
                        </a:lnTo>
                        <a:lnTo>
                          <a:pt x="336" y="83"/>
                        </a:lnTo>
                        <a:lnTo>
                          <a:pt x="331" y="104"/>
                        </a:lnTo>
                        <a:lnTo>
                          <a:pt x="336" y="114"/>
                        </a:lnTo>
                        <a:lnTo>
                          <a:pt x="338" y="125"/>
                        </a:lnTo>
                        <a:lnTo>
                          <a:pt x="328" y="119"/>
                        </a:lnTo>
                        <a:lnTo>
                          <a:pt x="325" y="134"/>
                        </a:lnTo>
                        <a:lnTo>
                          <a:pt x="347" y="130"/>
                        </a:lnTo>
                        <a:lnTo>
                          <a:pt x="344" y="141"/>
                        </a:lnTo>
                        <a:lnTo>
                          <a:pt x="356" y="149"/>
                        </a:lnTo>
                        <a:lnTo>
                          <a:pt x="335" y="148"/>
                        </a:lnTo>
                        <a:lnTo>
                          <a:pt x="342" y="179"/>
                        </a:lnTo>
                        <a:lnTo>
                          <a:pt x="365" y="191"/>
                        </a:lnTo>
                        <a:lnTo>
                          <a:pt x="376" y="175"/>
                        </a:lnTo>
                        <a:lnTo>
                          <a:pt x="378" y="201"/>
                        </a:lnTo>
                        <a:lnTo>
                          <a:pt x="394" y="196"/>
                        </a:lnTo>
                        <a:lnTo>
                          <a:pt x="386" y="208"/>
                        </a:lnTo>
                        <a:lnTo>
                          <a:pt x="396" y="208"/>
                        </a:lnTo>
                        <a:lnTo>
                          <a:pt x="388" y="221"/>
                        </a:lnTo>
                        <a:lnTo>
                          <a:pt x="392" y="226"/>
                        </a:lnTo>
                        <a:lnTo>
                          <a:pt x="413" y="215"/>
                        </a:lnTo>
                        <a:lnTo>
                          <a:pt x="437" y="202"/>
                        </a:lnTo>
                        <a:lnTo>
                          <a:pt x="446" y="173"/>
                        </a:lnTo>
                        <a:lnTo>
                          <a:pt x="449" y="191"/>
                        </a:lnTo>
                        <a:lnTo>
                          <a:pt x="446" y="200"/>
                        </a:lnTo>
                        <a:lnTo>
                          <a:pt x="440" y="214"/>
                        </a:lnTo>
                        <a:lnTo>
                          <a:pt x="442" y="224"/>
                        </a:lnTo>
                        <a:lnTo>
                          <a:pt x="451" y="199"/>
                        </a:lnTo>
                        <a:lnTo>
                          <a:pt x="455" y="143"/>
                        </a:lnTo>
                        <a:lnTo>
                          <a:pt x="428" y="149"/>
                        </a:lnTo>
                        <a:lnTo>
                          <a:pt x="392" y="155"/>
                        </a:lnTo>
                        <a:lnTo>
                          <a:pt x="390" y="144"/>
                        </a:lnTo>
                        <a:lnTo>
                          <a:pt x="350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6913080" y="2445840"/>
                    <a:ext cx="136800" cy="315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07">
                        <a:moveTo>
                          <a:pt x="0" y="226"/>
                        </a:moveTo>
                        <a:lnTo>
                          <a:pt x="7" y="208"/>
                        </a:lnTo>
                        <a:lnTo>
                          <a:pt x="31" y="193"/>
                        </a:lnTo>
                        <a:lnTo>
                          <a:pt x="43" y="168"/>
                        </a:lnTo>
                        <a:lnTo>
                          <a:pt x="62" y="150"/>
                        </a:lnTo>
                        <a:lnTo>
                          <a:pt x="6" y="104"/>
                        </a:lnTo>
                        <a:lnTo>
                          <a:pt x="3" y="59"/>
                        </a:lnTo>
                        <a:lnTo>
                          <a:pt x="30" y="0"/>
                        </a:lnTo>
                        <a:lnTo>
                          <a:pt x="116" y="30"/>
                        </a:lnTo>
                        <a:lnTo>
                          <a:pt x="117" y="41"/>
                        </a:lnTo>
                        <a:lnTo>
                          <a:pt x="107" y="75"/>
                        </a:lnTo>
                        <a:lnTo>
                          <a:pt x="97" y="84"/>
                        </a:lnTo>
                        <a:lnTo>
                          <a:pt x="96" y="101"/>
                        </a:lnTo>
                        <a:lnTo>
                          <a:pt x="105" y="104"/>
                        </a:lnTo>
                        <a:lnTo>
                          <a:pt x="115" y="104"/>
                        </a:lnTo>
                        <a:lnTo>
                          <a:pt x="123" y="104"/>
                        </a:lnTo>
                        <a:lnTo>
                          <a:pt x="121" y="97"/>
                        </a:lnTo>
                        <a:lnTo>
                          <a:pt x="126" y="101"/>
                        </a:lnTo>
                        <a:lnTo>
                          <a:pt x="133" y="121"/>
                        </a:lnTo>
                        <a:lnTo>
                          <a:pt x="134" y="184"/>
                        </a:lnTo>
                        <a:lnTo>
                          <a:pt x="132" y="167"/>
                        </a:lnTo>
                        <a:lnTo>
                          <a:pt x="126" y="153"/>
                        </a:lnTo>
                        <a:lnTo>
                          <a:pt x="125" y="162"/>
                        </a:lnTo>
                        <a:lnTo>
                          <a:pt x="128" y="177"/>
                        </a:lnTo>
                        <a:lnTo>
                          <a:pt x="125" y="184"/>
                        </a:lnTo>
                        <a:lnTo>
                          <a:pt x="126" y="202"/>
                        </a:lnTo>
                        <a:lnTo>
                          <a:pt x="120" y="220"/>
                        </a:lnTo>
                        <a:lnTo>
                          <a:pt x="112" y="221"/>
                        </a:lnTo>
                        <a:lnTo>
                          <a:pt x="115" y="234"/>
                        </a:lnTo>
                        <a:lnTo>
                          <a:pt x="101" y="257"/>
                        </a:lnTo>
                        <a:lnTo>
                          <a:pt x="83" y="306"/>
                        </a:lnTo>
                        <a:lnTo>
                          <a:pt x="74" y="306"/>
                        </a:lnTo>
                        <a:lnTo>
                          <a:pt x="77" y="287"/>
                        </a:lnTo>
                        <a:lnTo>
                          <a:pt x="72" y="278"/>
                        </a:lnTo>
                        <a:lnTo>
                          <a:pt x="50" y="279"/>
                        </a:lnTo>
                        <a:lnTo>
                          <a:pt x="18" y="260"/>
                        </a:lnTo>
                        <a:lnTo>
                          <a:pt x="7" y="251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384960" y="2379240"/>
                    <a:ext cx="591840" cy="38520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75">
                        <a:moveTo>
                          <a:pt x="0" y="92"/>
                        </a:moveTo>
                        <a:lnTo>
                          <a:pt x="27" y="257"/>
                        </a:lnTo>
                        <a:lnTo>
                          <a:pt x="46" y="374"/>
                        </a:lnTo>
                        <a:lnTo>
                          <a:pt x="143" y="358"/>
                        </a:lnTo>
                        <a:lnTo>
                          <a:pt x="493" y="291"/>
                        </a:lnTo>
                        <a:lnTo>
                          <a:pt x="507" y="273"/>
                        </a:lnTo>
                        <a:lnTo>
                          <a:pt x="527" y="273"/>
                        </a:lnTo>
                        <a:lnTo>
                          <a:pt x="551" y="258"/>
                        </a:lnTo>
                        <a:lnTo>
                          <a:pt x="563" y="233"/>
                        </a:lnTo>
                        <a:lnTo>
                          <a:pt x="582" y="215"/>
                        </a:lnTo>
                        <a:lnTo>
                          <a:pt x="526" y="169"/>
                        </a:lnTo>
                        <a:lnTo>
                          <a:pt x="523" y="124"/>
                        </a:lnTo>
                        <a:lnTo>
                          <a:pt x="550" y="65"/>
                        </a:lnTo>
                        <a:lnTo>
                          <a:pt x="512" y="44"/>
                        </a:lnTo>
                        <a:lnTo>
                          <a:pt x="497" y="14"/>
                        </a:lnTo>
                        <a:lnTo>
                          <a:pt x="471" y="0"/>
                        </a:lnTo>
                        <a:lnTo>
                          <a:pt x="84" y="74"/>
                        </a:lnTo>
                        <a:lnTo>
                          <a:pt x="64" y="44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cc66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269" name=""/>
            <p:cNvGrpSpPr/>
            <p:nvPr/>
          </p:nvGrpSpPr>
          <p:grpSpPr>
            <a:xfrm>
              <a:off x="6133320" y="2643120"/>
              <a:ext cx="869400" cy="1115280"/>
              <a:chOff x="6133320" y="2643120"/>
              <a:chExt cx="869400" cy="1115280"/>
            </a:xfrm>
          </p:grpSpPr>
          <p:grpSp>
            <p:nvGrpSpPr>
              <p:cNvPr id="270" name=""/>
              <p:cNvGrpSpPr/>
              <p:nvPr/>
            </p:nvGrpSpPr>
            <p:grpSpPr>
              <a:xfrm>
                <a:off x="6133320" y="2643120"/>
                <a:ext cx="869400" cy="1115280"/>
                <a:chOff x="6133320" y="2643120"/>
                <a:chExt cx="869400" cy="1115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133320" y="3089880"/>
                  <a:ext cx="869400" cy="393480"/>
                </a:xfrm>
                <a:custGeom>
                  <a:avLst/>
                  <a:gdLst/>
                  <a:ahLst/>
                  <a:rect l="l" t="t" r="r" b="b"/>
                  <a:pathLst>
                    <a:path w="857" h="383">
                      <a:moveTo>
                        <a:pt x="0" y="300"/>
                      </a:moveTo>
                      <a:lnTo>
                        <a:pt x="0" y="328"/>
                      </a:lnTo>
                      <a:lnTo>
                        <a:pt x="123" y="314"/>
                      </a:lnTo>
                      <a:lnTo>
                        <a:pt x="196" y="277"/>
                      </a:lnTo>
                      <a:lnTo>
                        <a:pt x="333" y="262"/>
                      </a:lnTo>
                      <a:lnTo>
                        <a:pt x="389" y="298"/>
                      </a:lnTo>
                      <a:lnTo>
                        <a:pt x="478" y="285"/>
                      </a:lnTo>
                      <a:lnTo>
                        <a:pt x="612" y="382"/>
                      </a:lnTo>
                      <a:lnTo>
                        <a:pt x="630" y="370"/>
                      </a:lnTo>
                      <a:lnTo>
                        <a:pt x="664" y="369"/>
                      </a:lnTo>
                      <a:lnTo>
                        <a:pt x="671" y="343"/>
                      </a:lnTo>
                      <a:lnTo>
                        <a:pt x="677" y="357"/>
                      </a:lnTo>
                      <a:lnTo>
                        <a:pt x="687" y="313"/>
                      </a:lnTo>
                      <a:lnTo>
                        <a:pt x="704" y="289"/>
                      </a:lnTo>
                      <a:lnTo>
                        <a:pt x="721" y="277"/>
                      </a:lnTo>
                      <a:lnTo>
                        <a:pt x="712" y="271"/>
                      </a:lnTo>
                      <a:lnTo>
                        <a:pt x="714" y="262"/>
                      </a:lnTo>
                      <a:lnTo>
                        <a:pt x="707" y="251"/>
                      </a:lnTo>
                      <a:lnTo>
                        <a:pt x="719" y="263"/>
                      </a:lnTo>
                      <a:lnTo>
                        <a:pt x="716" y="267"/>
                      </a:lnTo>
                      <a:lnTo>
                        <a:pt x="725" y="272"/>
                      </a:lnTo>
                      <a:lnTo>
                        <a:pt x="735" y="261"/>
                      </a:lnTo>
                      <a:lnTo>
                        <a:pt x="740" y="259"/>
                      </a:lnTo>
                      <a:lnTo>
                        <a:pt x="735" y="243"/>
                      </a:lnTo>
                      <a:lnTo>
                        <a:pt x="740" y="241"/>
                      </a:lnTo>
                      <a:lnTo>
                        <a:pt x="746" y="252"/>
                      </a:lnTo>
                      <a:lnTo>
                        <a:pt x="775" y="237"/>
                      </a:lnTo>
                      <a:lnTo>
                        <a:pt x="801" y="237"/>
                      </a:lnTo>
                      <a:lnTo>
                        <a:pt x="818" y="204"/>
                      </a:lnTo>
                      <a:lnTo>
                        <a:pt x="811" y="196"/>
                      </a:lnTo>
                      <a:lnTo>
                        <a:pt x="802" y="206"/>
                      </a:lnTo>
                      <a:lnTo>
                        <a:pt x="799" y="192"/>
                      </a:lnTo>
                      <a:lnTo>
                        <a:pt x="787" y="202"/>
                      </a:lnTo>
                      <a:lnTo>
                        <a:pt x="792" y="212"/>
                      </a:lnTo>
                      <a:lnTo>
                        <a:pt x="782" y="206"/>
                      </a:lnTo>
                      <a:lnTo>
                        <a:pt x="781" y="217"/>
                      </a:lnTo>
                      <a:lnTo>
                        <a:pt x="753" y="215"/>
                      </a:lnTo>
                      <a:lnTo>
                        <a:pt x="734" y="201"/>
                      </a:lnTo>
                      <a:lnTo>
                        <a:pt x="735" y="193"/>
                      </a:lnTo>
                      <a:lnTo>
                        <a:pt x="765" y="211"/>
                      </a:lnTo>
                      <a:lnTo>
                        <a:pt x="787" y="184"/>
                      </a:lnTo>
                      <a:lnTo>
                        <a:pt x="775" y="182"/>
                      </a:lnTo>
                      <a:lnTo>
                        <a:pt x="789" y="163"/>
                      </a:lnTo>
                      <a:lnTo>
                        <a:pt x="775" y="168"/>
                      </a:lnTo>
                      <a:lnTo>
                        <a:pt x="729" y="151"/>
                      </a:lnTo>
                      <a:lnTo>
                        <a:pt x="752" y="147"/>
                      </a:lnTo>
                      <a:lnTo>
                        <a:pt x="774" y="155"/>
                      </a:lnTo>
                      <a:lnTo>
                        <a:pt x="775" y="150"/>
                      </a:lnTo>
                      <a:lnTo>
                        <a:pt x="765" y="138"/>
                      </a:lnTo>
                      <a:lnTo>
                        <a:pt x="773" y="138"/>
                      </a:lnTo>
                      <a:lnTo>
                        <a:pt x="786" y="131"/>
                      </a:lnTo>
                      <a:lnTo>
                        <a:pt x="779" y="142"/>
                      </a:lnTo>
                      <a:lnTo>
                        <a:pt x="784" y="154"/>
                      </a:lnTo>
                      <a:lnTo>
                        <a:pt x="794" y="144"/>
                      </a:lnTo>
                      <a:lnTo>
                        <a:pt x="800" y="155"/>
                      </a:lnTo>
                      <a:lnTo>
                        <a:pt x="810" y="154"/>
                      </a:lnTo>
                      <a:lnTo>
                        <a:pt x="822" y="153"/>
                      </a:lnTo>
                      <a:lnTo>
                        <a:pt x="834" y="138"/>
                      </a:lnTo>
                      <a:lnTo>
                        <a:pt x="842" y="114"/>
                      </a:lnTo>
                      <a:lnTo>
                        <a:pt x="856" y="111"/>
                      </a:lnTo>
                      <a:lnTo>
                        <a:pt x="856" y="98"/>
                      </a:lnTo>
                      <a:lnTo>
                        <a:pt x="846" y="77"/>
                      </a:lnTo>
                      <a:lnTo>
                        <a:pt x="833" y="77"/>
                      </a:lnTo>
                      <a:lnTo>
                        <a:pt x="821" y="111"/>
                      </a:lnTo>
                      <a:lnTo>
                        <a:pt x="814" y="94"/>
                      </a:lnTo>
                      <a:lnTo>
                        <a:pt x="811" y="71"/>
                      </a:lnTo>
                      <a:lnTo>
                        <a:pt x="785" y="84"/>
                      </a:lnTo>
                      <a:lnTo>
                        <a:pt x="748" y="91"/>
                      </a:lnTo>
                      <a:lnTo>
                        <a:pt x="753" y="75"/>
                      </a:lnTo>
                      <a:lnTo>
                        <a:pt x="771" y="65"/>
                      </a:lnTo>
                      <a:lnTo>
                        <a:pt x="809" y="50"/>
                      </a:lnTo>
                      <a:lnTo>
                        <a:pt x="796" y="33"/>
                      </a:lnTo>
                      <a:lnTo>
                        <a:pt x="822" y="45"/>
                      </a:lnTo>
                      <a:lnTo>
                        <a:pt x="813" y="29"/>
                      </a:lnTo>
                      <a:lnTo>
                        <a:pt x="837" y="50"/>
                      </a:lnTo>
                      <a:lnTo>
                        <a:pt x="819" y="14"/>
                      </a:lnTo>
                      <a:lnTo>
                        <a:pt x="801" y="0"/>
                      </a:lnTo>
                      <a:lnTo>
                        <a:pt x="495" y="58"/>
                      </a:lnTo>
                      <a:lnTo>
                        <a:pt x="244" y="91"/>
                      </a:lnTo>
                      <a:lnTo>
                        <a:pt x="240" y="120"/>
                      </a:lnTo>
                      <a:lnTo>
                        <a:pt x="226" y="129"/>
                      </a:lnTo>
                      <a:lnTo>
                        <a:pt x="209" y="160"/>
                      </a:lnTo>
                      <a:lnTo>
                        <a:pt x="194" y="157"/>
                      </a:lnTo>
                      <a:lnTo>
                        <a:pt x="180" y="166"/>
                      </a:lnTo>
                      <a:lnTo>
                        <a:pt x="168" y="182"/>
                      </a:lnTo>
                      <a:lnTo>
                        <a:pt x="154" y="172"/>
                      </a:lnTo>
                      <a:lnTo>
                        <a:pt x="131" y="192"/>
                      </a:lnTo>
                      <a:lnTo>
                        <a:pt x="128" y="208"/>
                      </a:lnTo>
                      <a:lnTo>
                        <a:pt x="31" y="265"/>
                      </a:lnTo>
                      <a:lnTo>
                        <a:pt x="25" y="288"/>
                      </a:lnTo>
                      <a:lnTo>
                        <a:pt x="0" y="300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237720" y="3359160"/>
                  <a:ext cx="517320" cy="399240"/>
                </a:xfrm>
                <a:custGeom>
                  <a:avLst/>
                  <a:gdLst/>
                  <a:ahLst/>
                  <a:rect l="l" t="t" r="r" b="b"/>
                  <a:pathLst>
                    <a:path w="510" h="389">
                      <a:moveTo>
                        <a:pt x="0" y="92"/>
                      </a:moveTo>
                      <a:lnTo>
                        <a:pt x="20" y="52"/>
                      </a:lnTo>
                      <a:lnTo>
                        <a:pt x="93" y="15"/>
                      </a:lnTo>
                      <a:lnTo>
                        <a:pt x="230" y="0"/>
                      </a:lnTo>
                      <a:lnTo>
                        <a:pt x="286" y="36"/>
                      </a:lnTo>
                      <a:lnTo>
                        <a:pt x="375" y="23"/>
                      </a:lnTo>
                      <a:lnTo>
                        <a:pt x="509" y="120"/>
                      </a:lnTo>
                      <a:lnTo>
                        <a:pt x="470" y="165"/>
                      </a:lnTo>
                      <a:lnTo>
                        <a:pt x="450" y="194"/>
                      </a:lnTo>
                      <a:lnTo>
                        <a:pt x="452" y="226"/>
                      </a:lnTo>
                      <a:lnTo>
                        <a:pt x="417" y="255"/>
                      </a:lnTo>
                      <a:lnTo>
                        <a:pt x="390" y="298"/>
                      </a:lnTo>
                      <a:lnTo>
                        <a:pt x="352" y="321"/>
                      </a:lnTo>
                      <a:lnTo>
                        <a:pt x="334" y="325"/>
                      </a:lnTo>
                      <a:lnTo>
                        <a:pt x="326" y="352"/>
                      </a:lnTo>
                      <a:lnTo>
                        <a:pt x="304" y="337"/>
                      </a:lnTo>
                      <a:lnTo>
                        <a:pt x="324" y="363"/>
                      </a:lnTo>
                      <a:lnTo>
                        <a:pt x="305" y="388"/>
                      </a:lnTo>
                      <a:lnTo>
                        <a:pt x="287" y="386"/>
                      </a:lnTo>
                      <a:lnTo>
                        <a:pt x="274" y="369"/>
                      </a:lnTo>
                      <a:lnTo>
                        <a:pt x="253" y="331"/>
                      </a:lnTo>
                      <a:lnTo>
                        <a:pt x="240" y="326"/>
                      </a:lnTo>
                      <a:lnTo>
                        <a:pt x="216" y="275"/>
                      </a:lnTo>
                      <a:lnTo>
                        <a:pt x="181" y="253"/>
                      </a:lnTo>
                      <a:lnTo>
                        <a:pt x="156" y="218"/>
                      </a:lnTo>
                      <a:lnTo>
                        <a:pt x="96" y="173"/>
                      </a:lnTo>
                      <a:lnTo>
                        <a:pt x="65" y="133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177600" y="2761200"/>
                  <a:ext cx="787320" cy="450720"/>
                </a:xfrm>
                <a:custGeom>
                  <a:avLst/>
                  <a:gdLst/>
                  <a:ahLst/>
                  <a:rect l="l" t="t" r="r" b="b"/>
                  <a:pathLst>
                    <a:path w="776" h="439">
                      <a:moveTo>
                        <a:pt x="0" y="438"/>
                      </a:moveTo>
                      <a:lnTo>
                        <a:pt x="73" y="391"/>
                      </a:lnTo>
                      <a:lnTo>
                        <a:pt x="73" y="380"/>
                      </a:lnTo>
                      <a:lnTo>
                        <a:pt x="98" y="349"/>
                      </a:lnTo>
                      <a:lnTo>
                        <a:pt x="123" y="331"/>
                      </a:lnTo>
                      <a:lnTo>
                        <a:pt x="150" y="298"/>
                      </a:lnTo>
                      <a:lnTo>
                        <a:pt x="179" y="331"/>
                      </a:lnTo>
                      <a:lnTo>
                        <a:pt x="215" y="314"/>
                      </a:lnTo>
                      <a:lnTo>
                        <a:pt x="229" y="325"/>
                      </a:lnTo>
                      <a:lnTo>
                        <a:pt x="251" y="314"/>
                      </a:lnTo>
                      <a:lnTo>
                        <a:pt x="264" y="296"/>
                      </a:lnTo>
                      <a:lnTo>
                        <a:pt x="303" y="289"/>
                      </a:lnTo>
                      <a:lnTo>
                        <a:pt x="324" y="262"/>
                      </a:lnTo>
                      <a:lnTo>
                        <a:pt x="313" y="255"/>
                      </a:lnTo>
                      <a:lnTo>
                        <a:pt x="349" y="172"/>
                      </a:lnTo>
                      <a:lnTo>
                        <a:pt x="357" y="130"/>
                      </a:lnTo>
                      <a:lnTo>
                        <a:pt x="392" y="147"/>
                      </a:lnTo>
                      <a:lnTo>
                        <a:pt x="411" y="98"/>
                      </a:lnTo>
                      <a:lnTo>
                        <a:pt x="428" y="95"/>
                      </a:lnTo>
                      <a:lnTo>
                        <a:pt x="455" y="49"/>
                      </a:lnTo>
                      <a:lnTo>
                        <a:pt x="462" y="0"/>
                      </a:lnTo>
                      <a:lnTo>
                        <a:pt x="517" y="31"/>
                      </a:lnTo>
                      <a:lnTo>
                        <a:pt x="526" y="5"/>
                      </a:lnTo>
                      <a:lnTo>
                        <a:pt x="552" y="11"/>
                      </a:lnTo>
                      <a:lnTo>
                        <a:pt x="567" y="32"/>
                      </a:lnTo>
                      <a:lnTo>
                        <a:pt x="591" y="43"/>
                      </a:lnTo>
                      <a:lnTo>
                        <a:pt x="602" y="58"/>
                      </a:lnTo>
                      <a:lnTo>
                        <a:pt x="600" y="72"/>
                      </a:lnTo>
                      <a:lnTo>
                        <a:pt x="584" y="100"/>
                      </a:lnTo>
                      <a:lnTo>
                        <a:pt x="591" y="119"/>
                      </a:lnTo>
                      <a:lnTo>
                        <a:pt x="610" y="111"/>
                      </a:lnTo>
                      <a:lnTo>
                        <a:pt x="618" y="125"/>
                      </a:lnTo>
                      <a:lnTo>
                        <a:pt x="626" y="132"/>
                      </a:lnTo>
                      <a:lnTo>
                        <a:pt x="660" y="134"/>
                      </a:lnTo>
                      <a:lnTo>
                        <a:pt x="670" y="146"/>
                      </a:lnTo>
                      <a:lnTo>
                        <a:pt x="702" y="154"/>
                      </a:lnTo>
                      <a:lnTo>
                        <a:pt x="695" y="164"/>
                      </a:lnTo>
                      <a:lnTo>
                        <a:pt x="697" y="183"/>
                      </a:lnTo>
                      <a:lnTo>
                        <a:pt x="699" y="191"/>
                      </a:lnTo>
                      <a:lnTo>
                        <a:pt x="687" y="188"/>
                      </a:lnTo>
                      <a:lnTo>
                        <a:pt x="666" y="176"/>
                      </a:lnTo>
                      <a:lnTo>
                        <a:pt x="631" y="153"/>
                      </a:lnTo>
                      <a:lnTo>
                        <a:pt x="679" y="198"/>
                      </a:lnTo>
                      <a:lnTo>
                        <a:pt x="704" y="199"/>
                      </a:lnTo>
                      <a:lnTo>
                        <a:pt x="691" y="206"/>
                      </a:lnTo>
                      <a:lnTo>
                        <a:pt x="716" y="218"/>
                      </a:lnTo>
                      <a:lnTo>
                        <a:pt x="715" y="228"/>
                      </a:lnTo>
                      <a:lnTo>
                        <a:pt x="706" y="220"/>
                      </a:lnTo>
                      <a:lnTo>
                        <a:pt x="696" y="221"/>
                      </a:lnTo>
                      <a:lnTo>
                        <a:pt x="698" y="229"/>
                      </a:lnTo>
                      <a:lnTo>
                        <a:pt x="706" y="236"/>
                      </a:lnTo>
                      <a:lnTo>
                        <a:pt x="696" y="241"/>
                      </a:lnTo>
                      <a:lnTo>
                        <a:pt x="670" y="222"/>
                      </a:lnTo>
                      <a:lnTo>
                        <a:pt x="658" y="212"/>
                      </a:lnTo>
                      <a:lnTo>
                        <a:pt x="665" y="225"/>
                      </a:lnTo>
                      <a:lnTo>
                        <a:pt x="691" y="245"/>
                      </a:lnTo>
                      <a:lnTo>
                        <a:pt x="702" y="245"/>
                      </a:lnTo>
                      <a:lnTo>
                        <a:pt x="714" y="250"/>
                      </a:lnTo>
                      <a:lnTo>
                        <a:pt x="713" y="257"/>
                      </a:lnTo>
                      <a:lnTo>
                        <a:pt x="720" y="257"/>
                      </a:lnTo>
                      <a:lnTo>
                        <a:pt x="721" y="263"/>
                      </a:lnTo>
                      <a:lnTo>
                        <a:pt x="711" y="271"/>
                      </a:lnTo>
                      <a:lnTo>
                        <a:pt x="691" y="263"/>
                      </a:lnTo>
                      <a:lnTo>
                        <a:pt x="685" y="253"/>
                      </a:lnTo>
                      <a:lnTo>
                        <a:pt x="660" y="250"/>
                      </a:lnTo>
                      <a:lnTo>
                        <a:pt x="655" y="242"/>
                      </a:lnTo>
                      <a:lnTo>
                        <a:pt x="646" y="252"/>
                      </a:lnTo>
                      <a:lnTo>
                        <a:pt x="681" y="261"/>
                      </a:lnTo>
                      <a:lnTo>
                        <a:pt x="683" y="269"/>
                      </a:lnTo>
                      <a:lnTo>
                        <a:pt x="711" y="283"/>
                      </a:lnTo>
                      <a:lnTo>
                        <a:pt x="721" y="283"/>
                      </a:lnTo>
                      <a:lnTo>
                        <a:pt x="723" y="273"/>
                      </a:lnTo>
                      <a:lnTo>
                        <a:pt x="734" y="276"/>
                      </a:lnTo>
                      <a:lnTo>
                        <a:pt x="753" y="274"/>
                      </a:lnTo>
                      <a:lnTo>
                        <a:pt x="775" y="314"/>
                      </a:lnTo>
                      <a:lnTo>
                        <a:pt x="761" y="307"/>
                      </a:lnTo>
                      <a:lnTo>
                        <a:pt x="757" y="320"/>
                      </a:lnTo>
                      <a:lnTo>
                        <a:pt x="451" y="378"/>
                      </a:lnTo>
                      <a:lnTo>
                        <a:pt x="200" y="411"/>
                      </a:lnTo>
                      <a:lnTo>
                        <a:pt x="0" y="438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55000" y="2643120"/>
                  <a:ext cx="457560" cy="459000"/>
                </a:xfrm>
                <a:custGeom>
                  <a:avLst/>
                  <a:gdLst/>
                  <a:ahLst/>
                  <a:rect l="l" t="t" r="r" b="b"/>
                  <a:pathLst>
                    <a:path w="451" h="447">
                      <a:moveTo>
                        <a:pt x="0" y="309"/>
                      </a:moveTo>
                      <a:lnTo>
                        <a:pt x="18" y="370"/>
                      </a:lnTo>
                      <a:lnTo>
                        <a:pt x="37" y="392"/>
                      </a:lnTo>
                      <a:lnTo>
                        <a:pt x="74" y="413"/>
                      </a:lnTo>
                      <a:lnTo>
                        <a:pt x="103" y="446"/>
                      </a:lnTo>
                      <a:lnTo>
                        <a:pt x="139" y="429"/>
                      </a:lnTo>
                      <a:lnTo>
                        <a:pt x="153" y="440"/>
                      </a:lnTo>
                      <a:lnTo>
                        <a:pt x="175" y="429"/>
                      </a:lnTo>
                      <a:lnTo>
                        <a:pt x="188" y="411"/>
                      </a:lnTo>
                      <a:lnTo>
                        <a:pt x="227" y="404"/>
                      </a:lnTo>
                      <a:lnTo>
                        <a:pt x="248" y="377"/>
                      </a:lnTo>
                      <a:lnTo>
                        <a:pt x="237" y="370"/>
                      </a:lnTo>
                      <a:lnTo>
                        <a:pt x="273" y="287"/>
                      </a:lnTo>
                      <a:lnTo>
                        <a:pt x="281" y="245"/>
                      </a:lnTo>
                      <a:lnTo>
                        <a:pt x="316" y="262"/>
                      </a:lnTo>
                      <a:lnTo>
                        <a:pt x="335" y="213"/>
                      </a:lnTo>
                      <a:lnTo>
                        <a:pt x="352" y="210"/>
                      </a:lnTo>
                      <a:lnTo>
                        <a:pt x="379" y="164"/>
                      </a:lnTo>
                      <a:lnTo>
                        <a:pt x="386" y="115"/>
                      </a:lnTo>
                      <a:lnTo>
                        <a:pt x="441" y="146"/>
                      </a:lnTo>
                      <a:lnTo>
                        <a:pt x="450" y="120"/>
                      </a:lnTo>
                      <a:lnTo>
                        <a:pt x="436" y="101"/>
                      </a:lnTo>
                      <a:lnTo>
                        <a:pt x="411" y="89"/>
                      </a:lnTo>
                      <a:lnTo>
                        <a:pt x="381" y="93"/>
                      </a:lnTo>
                      <a:lnTo>
                        <a:pt x="371" y="110"/>
                      </a:lnTo>
                      <a:lnTo>
                        <a:pt x="317" y="125"/>
                      </a:lnTo>
                      <a:lnTo>
                        <a:pt x="283" y="166"/>
                      </a:lnTo>
                      <a:lnTo>
                        <a:pt x="271" y="101"/>
                      </a:lnTo>
                      <a:lnTo>
                        <a:pt x="174" y="117"/>
                      </a:lnTo>
                      <a:lnTo>
                        <a:pt x="155" y="0"/>
                      </a:lnTo>
                      <a:lnTo>
                        <a:pt x="141" y="10"/>
                      </a:lnTo>
                      <a:lnTo>
                        <a:pt x="150" y="32"/>
                      </a:lnTo>
                      <a:lnTo>
                        <a:pt x="137" y="136"/>
                      </a:lnTo>
                      <a:lnTo>
                        <a:pt x="120" y="158"/>
                      </a:lnTo>
                      <a:lnTo>
                        <a:pt x="67" y="198"/>
                      </a:lnTo>
                      <a:lnTo>
                        <a:pt x="57" y="242"/>
                      </a:lnTo>
                      <a:lnTo>
                        <a:pt x="37" y="230"/>
                      </a:lnTo>
                      <a:lnTo>
                        <a:pt x="31" y="282"/>
                      </a:lnTo>
                      <a:lnTo>
                        <a:pt x="0" y="309"/>
                      </a:lnTo>
                    </a:path>
                  </a:pathLst>
                </a:custGeom>
                <a:solidFill>
                  <a:srgbClr val="ccffcc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5" name=""/>
              <p:cNvSpPr/>
              <p:nvPr/>
            </p:nvSpPr>
            <p:spPr>
              <a:xfrm>
                <a:off x="6946920" y="2910240"/>
                <a:ext cx="43200" cy="123840"/>
              </a:xfrm>
              <a:custGeom>
                <a:avLst/>
                <a:gdLst/>
                <a:ahLst/>
                <a:rect l="l" t="t" r="r" b="b"/>
                <a:pathLst>
                  <a:path w="43" h="121">
                    <a:moveTo>
                      <a:pt x="0" y="0"/>
                    </a:moveTo>
                    <a:lnTo>
                      <a:pt x="0" y="18"/>
                    </a:lnTo>
                    <a:lnTo>
                      <a:pt x="0" y="36"/>
                    </a:lnTo>
                    <a:lnTo>
                      <a:pt x="0" y="54"/>
                    </a:lnTo>
                    <a:lnTo>
                      <a:pt x="0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24" y="120"/>
                    </a:lnTo>
                    <a:lnTo>
                      <a:pt x="36" y="102"/>
                    </a:lnTo>
                    <a:lnTo>
                      <a:pt x="36" y="84"/>
                    </a:lnTo>
                    <a:lnTo>
                      <a:pt x="30" y="66"/>
                    </a:lnTo>
                    <a:lnTo>
                      <a:pt x="42" y="48"/>
                    </a:lnTo>
                    <a:lnTo>
                      <a:pt x="30" y="30"/>
                    </a:lnTo>
                    <a:lnTo>
                      <a:pt x="30" y="12"/>
                    </a:lnTo>
                  </a:path>
                </a:pathLst>
              </a:custGeom>
              <a:solidFill>
                <a:srgbClr val="ccffcc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6" name=""/>
            <p:cNvSpPr/>
            <p:nvPr/>
          </p:nvSpPr>
          <p:spPr>
            <a:xfrm>
              <a:off x="2300040" y="2613240"/>
              <a:ext cx="25056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64080" y="443808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738520" y="16761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84680" y="399420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50760" y="1873440"/>
              <a:ext cx="369000" cy="296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758200" y="226800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68920" y="202104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24960" y="202104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35440" y="26625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71360" y="310680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38120" y="350136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540680" y="3550320"/>
              <a:ext cx="251280" cy="2962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319720" y="359964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94240" y="414216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68920" y="241668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615480" y="2169720"/>
              <a:ext cx="25128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33240" y="2662560"/>
              <a:ext cx="369000" cy="29556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000" bIns="27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65080" y="4537080"/>
              <a:ext cx="198000" cy="70560"/>
            </a:xfrm>
            <a:custGeom>
              <a:avLst/>
              <a:gdLst/>
              <a:ahLst/>
              <a:rect l="l" t="t" r="r" b="b"/>
              <a:pathLst>
                <a:path w="194" h="69">
                  <a:moveTo>
                    <a:pt x="12" y="0"/>
                  </a:moveTo>
                  <a:lnTo>
                    <a:pt x="22" y="0"/>
                  </a:lnTo>
                  <a:lnTo>
                    <a:pt x="28" y="0"/>
                  </a:lnTo>
                  <a:lnTo>
                    <a:pt x="35" y="2"/>
                  </a:lnTo>
                  <a:lnTo>
                    <a:pt x="48" y="2"/>
                  </a:lnTo>
                  <a:lnTo>
                    <a:pt x="51" y="1"/>
                  </a:lnTo>
                  <a:lnTo>
                    <a:pt x="64" y="3"/>
                  </a:lnTo>
                  <a:lnTo>
                    <a:pt x="70" y="1"/>
                  </a:lnTo>
                  <a:lnTo>
                    <a:pt x="74" y="2"/>
                  </a:lnTo>
                  <a:lnTo>
                    <a:pt x="79" y="1"/>
                  </a:lnTo>
                  <a:lnTo>
                    <a:pt x="90" y="3"/>
                  </a:lnTo>
                  <a:lnTo>
                    <a:pt x="97" y="0"/>
                  </a:lnTo>
                  <a:lnTo>
                    <a:pt x="112" y="2"/>
                  </a:lnTo>
                  <a:lnTo>
                    <a:pt x="123" y="2"/>
                  </a:lnTo>
                  <a:lnTo>
                    <a:pt x="124" y="2"/>
                  </a:lnTo>
                  <a:lnTo>
                    <a:pt x="126" y="3"/>
                  </a:lnTo>
                  <a:lnTo>
                    <a:pt x="129" y="3"/>
                  </a:lnTo>
                  <a:lnTo>
                    <a:pt x="133" y="6"/>
                  </a:lnTo>
                  <a:lnTo>
                    <a:pt x="137" y="6"/>
                  </a:lnTo>
                  <a:lnTo>
                    <a:pt x="145" y="10"/>
                  </a:lnTo>
                  <a:lnTo>
                    <a:pt x="145" y="9"/>
                  </a:lnTo>
                  <a:lnTo>
                    <a:pt x="142" y="6"/>
                  </a:lnTo>
                  <a:lnTo>
                    <a:pt x="139" y="6"/>
                  </a:lnTo>
                  <a:lnTo>
                    <a:pt x="131" y="3"/>
                  </a:lnTo>
                  <a:lnTo>
                    <a:pt x="134" y="2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45" y="3"/>
                  </a:lnTo>
                  <a:lnTo>
                    <a:pt x="148" y="3"/>
                  </a:lnTo>
                  <a:lnTo>
                    <a:pt x="148" y="4"/>
                  </a:lnTo>
                  <a:lnTo>
                    <a:pt x="151" y="4"/>
                  </a:lnTo>
                  <a:lnTo>
                    <a:pt x="151" y="3"/>
                  </a:lnTo>
                  <a:lnTo>
                    <a:pt x="156" y="4"/>
                  </a:lnTo>
                  <a:lnTo>
                    <a:pt x="158" y="3"/>
                  </a:lnTo>
                  <a:lnTo>
                    <a:pt x="161" y="5"/>
                  </a:lnTo>
                  <a:lnTo>
                    <a:pt x="165" y="5"/>
                  </a:lnTo>
                  <a:lnTo>
                    <a:pt x="168" y="7"/>
                  </a:lnTo>
                  <a:lnTo>
                    <a:pt x="170" y="7"/>
                  </a:lnTo>
                  <a:lnTo>
                    <a:pt x="170" y="9"/>
                  </a:lnTo>
                  <a:lnTo>
                    <a:pt x="172" y="9"/>
                  </a:lnTo>
                  <a:lnTo>
                    <a:pt x="172" y="10"/>
                  </a:lnTo>
                  <a:lnTo>
                    <a:pt x="176" y="11"/>
                  </a:lnTo>
                  <a:lnTo>
                    <a:pt x="177" y="11"/>
                  </a:lnTo>
                  <a:lnTo>
                    <a:pt x="180" y="13"/>
                  </a:lnTo>
                  <a:lnTo>
                    <a:pt x="184" y="14"/>
                  </a:lnTo>
                  <a:lnTo>
                    <a:pt x="186" y="12"/>
                  </a:lnTo>
                  <a:lnTo>
                    <a:pt x="187" y="12"/>
                  </a:lnTo>
                  <a:lnTo>
                    <a:pt x="191" y="10"/>
                  </a:lnTo>
                  <a:lnTo>
                    <a:pt x="190" y="13"/>
                  </a:lnTo>
                  <a:lnTo>
                    <a:pt x="189" y="15"/>
                  </a:lnTo>
                  <a:lnTo>
                    <a:pt x="190" y="17"/>
                  </a:lnTo>
                  <a:lnTo>
                    <a:pt x="190" y="19"/>
                  </a:lnTo>
                  <a:lnTo>
                    <a:pt x="190" y="22"/>
                  </a:lnTo>
                  <a:lnTo>
                    <a:pt x="189" y="22"/>
                  </a:lnTo>
                  <a:lnTo>
                    <a:pt x="190" y="23"/>
                  </a:lnTo>
                  <a:lnTo>
                    <a:pt x="189" y="25"/>
                  </a:lnTo>
                  <a:lnTo>
                    <a:pt x="190" y="26"/>
                  </a:lnTo>
                  <a:lnTo>
                    <a:pt x="191" y="26"/>
                  </a:lnTo>
                  <a:lnTo>
                    <a:pt x="193" y="29"/>
                  </a:lnTo>
                  <a:lnTo>
                    <a:pt x="191" y="32"/>
                  </a:lnTo>
                  <a:lnTo>
                    <a:pt x="189" y="29"/>
                  </a:lnTo>
                  <a:lnTo>
                    <a:pt x="190" y="33"/>
                  </a:lnTo>
                  <a:lnTo>
                    <a:pt x="188" y="34"/>
                  </a:lnTo>
                  <a:lnTo>
                    <a:pt x="185" y="34"/>
                  </a:lnTo>
                  <a:lnTo>
                    <a:pt x="181" y="34"/>
                  </a:lnTo>
                  <a:lnTo>
                    <a:pt x="181" y="36"/>
                  </a:lnTo>
                  <a:lnTo>
                    <a:pt x="179" y="36"/>
                  </a:lnTo>
                  <a:lnTo>
                    <a:pt x="175" y="38"/>
                  </a:lnTo>
                  <a:lnTo>
                    <a:pt x="172" y="42"/>
                  </a:lnTo>
                  <a:lnTo>
                    <a:pt x="172" y="44"/>
                  </a:lnTo>
                  <a:lnTo>
                    <a:pt x="170" y="48"/>
                  </a:lnTo>
                  <a:lnTo>
                    <a:pt x="170" y="51"/>
                  </a:lnTo>
                  <a:lnTo>
                    <a:pt x="168" y="51"/>
                  </a:lnTo>
                  <a:lnTo>
                    <a:pt x="168" y="53"/>
                  </a:lnTo>
                  <a:lnTo>
                    <a:pt x="167" y="55"/>
                  </a:lnTo>
                  <a:lnTo>
                    <a:pt x="165" y="55"/>
                  </a:lnTo>
                  <a:lnTo>
                    <a:pt x="158" y="60"/>
                  </a:lnTo>
                  <a:lnTo>
                    <a:pt x="151" y="61"/>
                  </a:lnTo>
                  <a:lnTo>
                    <a:pt x="145" y="61"/>
                  </a:lnTo>
                  <a:lnTo>
                    <a:pt x="142" y="63"/>
                  </a:lnTo>
                  <a:lnTo>
                    <a:pt x="139" y="62"/>
                  </a:lnTo>
                  <a:lnTo>
                    <a:pt x="133" y="65"/>
                  </a:lnTo>
                  <a:lnTo>
                    <a:pt x="128" y="67"/>
                  </a:lnTo>
                  <a:lnTo>
                    <a:pt x="126" y="67"/>
                  </a:lnTo>
                  <a:lnTo>
                    <a:pt x="123" y="67"/>
                  </a:lnTo>
                  <a:lnTo>
                    <a:pt x="125" y="65"/>
                  </a:lnTo>
                  <a:lnTo>
                    <a:pt x="126" y="65"/>
                  </a:lnTo>
                  <a:lnTo>
                    <a:pt x="124" y="64"/>
                  </a:lnTo>
                  <a:lnTo>
                    <a:pt x="122" y="64"/>
                  </a:lnTo>
                  <a:lnTo>
                    <a:pt x="122" y="65"/>
                  </a:lnTo>
                  <a:lnTo>
                    <a:pt x="122" y="67"/>
                  </a:lnTo>
                  <a:lnTo>
                    <a:pt x="118" y="65"/>
                  </a:lnTo>
                  <a:lnTo>
                    <a:pt x="116" y="67"/>
                  </a:lnTo>
                  <a:lnTo>
                    <a:pt x="114" y="65"/>
                  </a:lnTo>
                  <a:lnTo>
                    <a:pt x="113" y="65"/>
                  </a:lnTo>
                  <a:lnTo>
                    <a:pt x="110" y="63"/>
                  </a:lnTo>
                  <a:lnTo>
                    <a:pt x="107" y="62"/>
                  </a:lnTo>
                  <a:lnTo>
                    <a:pt x="103" y="65"/>
                  </a:lnTo>
                  <a:lnTo>
                    <a:pt x="102" y="65"/>
                  </a:lnTo>
                  <a:lnTo>
                    <a:pt x="94" y="62"/>
                  </a:lnTo>
                  <a:lnTo>
                    <a:pt x="89" y="59"/>
                  </a:lnTo>
                  <a:lnTo>
                    <a:pt x="82" y="63"/>
                  </a:lnTo>
                  <a:lnTo>
                    <a:pt x="77" y="64"/>
                  </a:lnTo>
                  <a:lnTo>
                    <a:pt x="72" y="63"/>
                  </a:lnTo>
                  <a:lnTo>
                    <a:pt x="70" y="62"/>
                  </a:lnTo>
                  <a:lnTo>
                    <a:pt x="66" y="63"/>
                  </a:lnTo>
                  <a:lnTo>
                    <a:pt x="61" y="60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7" y="62"/>
                  </a:lnTo>
                  <a:lnTo>
                    <a:pt x="58" y="60"/>
                  </a:lnTo>
                  <a:lnTo>
                    <a:pt x="54" y="59"/>
                  </a:lnTo>
                  <a:lnTo>
                    <a:pt x="51" y="61"/>
                  </a:lnTo>
                  <a:lnTo>
                    <a:pt x="51" y="62"/>
                  </a:lnTo>
                  <a:lnTo>
                    <a:pt x="55" y="61"/>
                  </a:lnTo>
                  <a:lnTo>
                    <a:pt x="51" y="64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45" y="67"/>
                  </a:lnTo>
                  <a:lnTo>
                    <a:pt x="41" y="65"/>
                  </a:lnTo>
                  <a:lnTo>
                    <a:pt x="38" y="63"/>
                  </a:lnTo>
                  <a:lnTo>
                    <a:pt x="38" y="65"/>
                  </a:lnTo>
                  <a:lnTo>
                    <a:pt x="38" y="68"/>
                  </a:lnTo>
                  <a:lnTo>
                    <a:pt x="34" y="68"/>
                  </a:lnTo>
                  <a:lnTo>
                    <a:pt x="30" y="64"/>
                  </a:lnTo>
                  <a:lnTo>
                    <a:pt x="26" y="62"/>
                  </a:lnTo>
                  <a:lnTo>
                    <a:pt x="22" y="63"/>
                  </a:lnTo>
                  <a:lnTo>
                    <a:pt x="19" y="65"/>
                  </a:lnTo>
                  <a:lnTo>
                    <a:pt x="17" y="67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7"/>
                  </a:lnTo>
                  <a:lnTo>
                    <a:pt x="7" y="68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6" y="62"/>
                  </a:lnTo>
                  <a:lnTo>
                    <a:pt x="7" y="59"/>
                  </a:lnTo>
                  <a:lnTo>
                    <a:pt x="11" y="59"/>
                  </a:lnTo>
                  <a:lnTo>
                    <a:pt x="7" y="57"/>
                  </a:lnTo>
                  <a:lnTo>
                    <a:pt x="6" y="56"/>
                  </a:lnTo>
                  <a:lnTo>
                    <a:pt x="6" y="53"/>
                  </a:lnTo>
                  <a:lnTo>
                    <a:pt x="8" y="51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8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10" y="38"/>
                  </a:lnTo>
                  <a:lnTo>
                    <a:pt x="11" y="35"/>
                  </a:lnTo>
                  <a:lnTo>
                    <a:pt x="10" y="33"/>
                  </a:lnTo>
                  <a:lnTo>
                    <a:pt x="7" y="27"/>
                  </a:lnTo>
                  <a:lnTo>
                    <a:pt x="5" y="25"/>
                  </a:lnTo>
                  <a:lnTo>
                    <a:pt x="2" y="23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5"/>
                  </a:lnTo>
                  <a:lnTo>
                    <a:pt x="9" y="12"/>
                  </a:lnTo>
                  <a:lnTo>
                    <a:pt x="11" y="10"/>
                  </a:lnTo>
                  <a:lnTo>
                    <a:pt x="10" y="4"/>
                  </a:lnTo>
                  <a:lnTo>
                    <a:pt x="11" y="0"/>
                  </a:lnTo>
                  <a:lnTo>
                    <a:pt x="12" y="0"/>
                  </a:lnTo>
                </a:path>
              </a:pathLst>
            </a:custGeom>
            <a:solidFill>
              <a:srgbClr val="ffff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15  Primary A/B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2133720" y="4952880"/>
          <a:ext cx="5715000" cy="1520640"/>
        </p:xfrm>
        <a:graphic>
          <a:graphicData uri="http://schemas.openxmlformats.org/drawingml/2006/table">
            <a:tbl>
              <a:tblPr/>
              <a:tblGrid>
                <a:gridCol w="1905120"/>
                <a:gridCol w="1905120"/>
                <a:gridCol w="190476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Jurisdiction(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6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June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1,2,4,5,7,12,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6,8,9,10,11,14,1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863B-BBF7-4CC5-B35C-A9C75821B6F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1676520" y="1523880"/>
            <a:ext cx="6095880" cy="3990960"/>
            <a:chOff x="1676520" y="1523880"/>
            <a:chExt cx="6095880" cy="3990960"/>
          </a:xfrm>
        </p:grpSpPr>
        <p:sp>
          <p:nvSpPr>
            <p:cNvPr id="297" name=""/>
            <p:cNvSpPr/>
            <p:nvPr/>
          </p:nvSpPr>
          <p:spPr>
            <a:xfrm>
              <a:off x="4021200" y="1913400"/>
              <a:ext cx="614880" cy="2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350160" y="2472840"/>
              <a:ext cx="41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021200" y="2529360"/>
              <a:ext cx="416520" cy="2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350160" y="3311640"/>
              <a:ext cx="41652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44400" y="2026080"/>
              <a:ext cx="424440" cy="33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37600" y="3999600"/>
              <a:ext cx="308880" cy="17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6320" y="2859480"/>
              <a:ext cx="21960" cy="32040"/>
            </a:xfrm>
            <a:custGeom>
              <a:avLst/>
              <a:gdLst/>
              <a:ahLst/>
              <a:rect l="l" t="t" r="r" b="b"/>
              <a:pathLst>
                <a:path w="19" h="27">
                  <a:moveTo>
                    <a:pt x="0" y="26"/>
                  </a:moveTo>
                  <a:lnTo>
                    <a:pt x="1" y="9"/>
                  </a:lnTo>
                  <a:lnTo>
                    <a:pt x="11" y="0"/>
                  </a:lnTo>
                  <a:lnTo>
                    <a:pt x="18" y="5"/>
                  </a:lnTo>
                  <a:lnTo>
                    <a:pt x="7" y="20"/>
                  </a:lnTo>
                  <a:lnTo>
                    <a:pt x="0" y="26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461640" y="1727640"/>
              <a:ext cx="1310760" cy="1550160"/>
              <a:chOff x="6461640" y="1727640"/>
              <a:chExt cx="1310760" cy="1550160"/>
            </a:xfrm>
          </p:grpSpPr>
          <p:sp>
            <p:nvSpPr>
              <p:cNvPr id="305" name=""/>
              <p:cNvSpPr/>
              <p:nvPr/>
            </p:nvSpPr>
            <p:spPr>
              <a:xfrm>
                <a:off x="7521840" y="2629080"/>
                <a:ext cx="35640" cy="30240"/>
              </a:xfrm>
              <a:custGeom>
                <a:avLst/>
                <a:gdLst/>
                <a:ahLst/>
                <a:rect l="l" t="t" r="r" b="b"/>
                <a:pathLst>
                  <a:path w="31" h="26">
                    <a:moveTo>
                      <a:pt x="0" y="25"/>
                    </a:moveTo>
                    <a:lnTo>
                      <a:pt x="12" y="0"/>
                    </a:lnTo>
                    <a:lnTo>
                      <a:pt x="30" y="11"/>
                    </a:lnTo>
                    <a:lnTo>
                      <a:pt x="0" y="25"/>
                    </a:lnTo>
                  </a:path>
                </a:pathLst>
              </a:custGeom>
              <a:solidFill>
                <a:srgbClr val="d7a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6461640" y="1727640"/>
                <a:ext cx="1310760" cy="1550160"/>
                <a:chOff x="6461640" y="1727640"/>
                <a:chExt cx="1310760" cy="15501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7035840" y="2992680"/>
                  <a:ext cx="123120" cy="202320"/>
                </a:xfrm>
                <a:custGeom>
                  <a:avLst/>
                  <a:gdLst/>
                  <a:ahLst/>
                  <a:rect l="l" t="t" r="r" b="b"/>
                  <a:pathLst>
                    <a:path w="106" h="174">
                      <a:moveTo>
                        <a:pt x="0" y="18"/>
                      </a:moveTo>
                      <a:lnTo>
                        <a:pt x="14" y="0"/>
                      </a:lnTo>
                      <a:lnTo>
                        <a:pt x="34" y="0"/>
                      </a:lnTo>
                      <a:lnTo>
                        <a:pt x="27" y="18"/>
                      </a:lnTo>
                      <a:lnTo>
                        <a:pt x="23" y="24"/>
                      </a:lnTo>
                      <a:lnTo>
                        <a:pt x="26" y="45"/>
                      </a:lnTo>
                      <a:lnTo>
                        <a:pt x="37" y="57"/>
                      </a:lnTo>
                      <a:lnTo>
                        <a:pt x="51" y="71"/>
                      </a:lnTo>
                      <a:lnTo>
                        <a:pt x="57" y="91"/>
                      </a:lnTo>
                      <a:lnTo>
                        <a:pt x="67" y="106"/>
                      </a:lnTo>
                      <a:lnTo>
                        <a:pt x="77" y="116"/>
                      </a:lnTo>
                      <a:lnTo>
                        <a:pt x="93" y="121"/>
                      </a:lnTo>
                      <a:lnTo>
                        <a:pt x="101" y="137"/>
                      </a:lnTo>
                      <a:lnTo>
                        <a:pt x="87" y="151"/>
                      </a:lnTo>
                      <a:lnTo>
                        <a:pt x="101" y="148"/>
                      </a:lnTo>
                      <a:lnTo>
                        <a:pt x="105" y="161"/>
                      </a:lnTo>
                      <a:lnTo>
                        <a:pt x="78" y="167"/>
                      </a:lnTo>
                      <a:lnTo>
                        <a:pt x="42" y="173"/>
                      </a:lnTo>
                      <a:lnTo>
                        <a:pt x="40" y="162"/>
                      </a:lnTo>
                      <a:lnTo>
                        <a:pt x="0" y="18"/>
                      </a:lnTo>
                    </a:path>
                  </a:pathLst>
                </a:custGeom>
                <a:solidFill>
                  <a:srgbClr val="d7a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" name=""/>
                <p:cNvGrpSpPr/>
                <p:nvPr/>
              </p:nvGrpSpPr>
              <p:grpSpPr>
                <a:xfrm>
                  <a:off x="6461640" y="1727640"/>
                  <a:ext cx="1310760" cy="1550160"/>
                  <a:chOff x="6461640" y="1727640"/>
                  <a:chExt cx="1310760" cy="155016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7587000" y="2623320"/>
                    <a:ext cx="2880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0" y="19"/>
                        </a:moveTo>
                        <a:lnTo>
                          <a:pt x="14" y="0"/>
                        </a:lnTo>
                        <a:lnTo>
                          <a:pt x="24" y="16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7391160" y="2574360"/>
                    <a:ext cx="918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98">
                        <a:moveTo>
                          <a:pt x="0" y="9"/>
                        </a:moveTo>
                        <a:lnTo>
                          <a:pt x="17" y="92"/>
                        </a:lnTo>
                        <a:lnTo>
                          <a:pt x="20" y="97"/>
                        </a:lnTo>
                        <a:lnTo>
                          <a:pt x="50" y="79"/>
                        </a:lnTo>
                        <a:lnTo>
                          <a:pt x="46" y="54"/>
                        </a:lnTo>
                        <a:lnTo>
                          <a:pt x="51" y="42"/>
                        </a:lnTo>
                        <a:lnTo>
                          <a:pt x="58" y="52"/>
                        </a:lnTo>
                        <a:lnTo>
                          <a:pt x="61" y="69"/>
                        </a:lnTo>
                        <a:lnTo>
                          <a:pt x="69" y="68"/>
                        </a:lnTo>
                        <a:lnTo>
                          <a:pt x="78" y="52"/>
                        </a:lnTo>
                        <a:lnTo>
                          <a:pt x="69" y="30"/>
                        </a:lnTo>
                        <a:lnTo>
                          <a:pt x="51" y="27"/>
                        </a:lnTo>
                        <a:lnTo>
                          <a:pt x="38" y="1"/>
                        </a:lnTo>
                        <a:lnTo>
                          <a:pt x="28" y="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7201440" y="2718720"/>
                    <a:ext cx="216360" cy="13032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12">
                        <a:moveTo>
                          <a:pt x="0" y="100"/>
                        </a:moveTo>
                        <a:lnTo>
                          <a:pt x="4" y="110"/>
                        </a:lnTo>
                        <a:lnTo>
                          <a:pt x="8" y="111"/>
                        </a:lnTo>
                        <a:lnTo>
                          <a:pt x="15" y="101"/>
                        </a:lnTo>
                        <a:lnTo>
                          <a:pt x="21" y="99"/>
                        </a:lnTo>
                        <a:lnTo>
                          <a:pt x="24" y="102"/>
                        </a:lnTo>
                        <a:lnTo>
                          <a:pt x="13" y="111"/>
                        </a:lnTo>
                        <a:lnTo>
                          <a:pt x="30" y="105"/>
                        </a:lnTo>
                        <a:lnTo>
                          <a:pt x="32" y="100"/>
                        </a:lnTo>
                        <a:lnTo>
                          <a:pt x="57" y="89"/>
                        </a:lnTo>
                        <a:lnTo>
                          <a:pt x="78" y="73"/>
                        </a:lnTo>
                        <a:lnTo>
                          <a:pt x="101" y="65"/>
                        </a:lnTo>
                        <a:lnTo>
                          <a:pt x="122" y="53"/>
                        </a:lnTo>
                        <a:lnTo>
                          <a:pt x="120" y="55"/>
                        </a:lnTo>
                        <a:lnTo>
                          <a:pt x="82" y="84"/>
                        </a:lnTo>
                        <a:lnTo>
                          <a:pt x="76" y="86"/>
                        </a:lnTo>
                        <a:lnTo>
                          <a:pt x="80" y="87"/>
                        </a:lnTo>
                        <a:lnTo>
                          <a:pt x="91" y="82"/>
                        </a:lnTo>
                        <a:lnTo>
                          <a:pt x="149" y="39"/>
                        </a:lnTo>
                        <a:lnTo>
                          <a:pt x="157" y="31"/>
                        </a:lnTo>
                        <a:lnTo>
                          <a:pt x="184" y="8"/>
                        </a:lnTo>
                        <a:lnTo>
                          <a:pt x="185" y="2"/>
                        </a:lnTo>
                        <a:lnTo>
                          <a:pt x="180" y="2"/>
                        </a:lnTo>
                        <a:lnTo>
                          <a:pt x="168" y="15"/>
                        </a:lnTo>
                        <a:lnTo>
                          <a:pt x="160" y="13"/>
                        </a:lnTo>
                        <a:lnTo>
                          <a:pt x="148" y="20"/>
                        </a:lnTo>
                        <a:lnTo>
                          <a:pt x="144" y="19"/>
                        </a:lnTo>
                        <a:lnTo>
                          <a:pt x="134" y="44"/>
                        </a:lnTo>
                        <a:lnTo>
                          <a:pt x="130" y="39"/>
                        </a:lnTo>
                        <a:lnTo>
                          <a:pt x="120" y="39"/>
                        </a:lnTo>
                        <a:lnTo>
                          <a:pt x="138" y="20"/>
                        </a:lnTo>
                        <a:lnTo>
                          <a:pt x="136" y="15"/>
                        </a:lnTo>
                        <a:lnTo>
                          <a:pt x="148" y="0"/>
                        </a:lnTo>
                        <a:lnTo>
                          <a:pt x="143" y="1"/>
                        </a:lnTo>
                        <a:lnTo>
                          <a:pt x="118" y="31"/>
                        </a:lnTo>
                        <a:lnTo>
                          <a:pt x="89" y="40"/>
                        </a:lnTo>
                        <a:lnTo>
                          <a:pt x="72" y="43"/>
                        </a:lnTo>
                        <a:lnTo>
                          <a:pt x="70" y="51"/>
                        </a:lnTo>
                        <a:lnTo>
                          <a:pt x="51" y="56"/>
                        </a:lnTo>
                        <a:lnTo>
                          <a:pt x="44" y="54"/>
                        </a:lnTo>
                        <a:lnTo>
                          <a:pt x="44" y="60"/>
                        </a:lnTo>
                        <a:lnTo>
                          <a:pt x="35" y="60"/>
                        </a:lnTo>
                        <a:lnTo>
                          <a:pt x="30" y="65"/>
                        </a:lnTo>
                        <a:lnTo>
                          <a:pt x="28" y="73"/>
                        </a:lnTo>
                        <a:lnTo>
                          <a:pt x="24" y="71"/>
                        </a:lnTo>
                        <a:lnTo>
                          <a:pt x="21" y="80"/>
                        </a:lnTo>
                        <a:lnTo>
                          <a:pt x="7" y="85"/>
                        </a:lnTo>
                        <a:lnTo>
                          <a:pt x="5" y="91"/>
                        </a:lnTo>
                        <a:lnTo>
                          <a:pt x="0" y="100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7343640" y="1727640"/>
                    <a:ext cx="428760" cy="675360"/>
                  </a:xfrm>
                  <a:custGeom>
                    <a:avLst/>
                    <a:gdLst/>
                    <a:ahLst/>
                    <a:rect l="l" t="t" r="r" b="b"/>
                    <a:pathLst>
                      <a:path w="368" h="580">
                        <a:moveTo>
                          <a:pt x="0" y="314"/>
                        </a:moveTo>
                        <a:lnTo>
                          <a:pt x="21" y="316"/>
                        </a:lnTo>
                        <a:lnTo>
                          <a:pt x="23" y="278"/>
                        </a:lnTo>
                        <a:lnTo>
                          <a:pt x="50" y="226"/>
                        </a:lnTo>
                        <a:lnTo>
                          <a:pt x="37" y="189"/>
                        </a:lnTo>
                        <a:lnTo>
                          <a:pt x="48" y="139"/>
                        </a:lnTo>
                        <a:lnTo>
                          <a:pt x="47" y="120"/>
                        </a:lnTo>
                        <a:lnTo>
                          <a:pt x="89" y="10"/>
                        </a:lnTo>
                        <a:lnTo>
                          <a:pt x="100" y="10"/>
                        </a:lnTo>
                        <a:lnTo>
                          <a:pt x="106" y="31"/>
                        </a:lnTo>
                        <a:lnTo>
                          <a:pt x="158" y="12"/>
                        </a:lnTo>
                        <a:lnTo>
                          <a:pt x="159" y="4"/>
                        </a:lnTo>
                        <a:lnTo>
                          <a:pt x="174" y="0"/>
                        </a:lnTo>
                        <a:lnTo>
                          <a:pt x="202" y="13"/>
                        </a:lnTo>
                        <a:lnTo>
                          <a:pt x="222" y="31"/>
                        </a:lnTo>
                        <a:lnTo>
                          <a:pt x="269" y="191"/>
                        </a:lnTo>
                        <a:lnTo>
                          <a:pt x="301" y="192"/>
                        </a:lnTo>
                        <a:lnTo>
                          <a:pt x="307" y="201"/>
                        </a:lnTo>
                        <a:lnTo>
                          <a:pt x="302" y="207"/>
                        </a:lnTo>
                        <a:lnTo>
                          <a:pt x="326" y="244"/>
                        </a:lnTo>
                        <a:lnTo>
                          <a:pt x="332" y="236"/>
                        </a:lnTo>
                        <a:lnTo>
                          <a:pt x="357" y="261"/>
                        </a:lnTo>
                        <a:lnTo>
                          <a:pt x="347" y="267"/>
                        </a:lnTo>
                        <a:lnTo>
                          <a:pt x="349" y="273"/>
                        </a:lnTo>
                        <a:lnTo>
                          <a:pt x="367" y="273"/>
                        </a:lnTo>
                        <a:lnTo>
                          <a:pt x="354" y="303"/>
                        </a:lnTo>
                        <a:lnTo>
                          <a:pt x="339" y="299"/>
                        </a:lnTo>
                        <a:lnTo>
                          <a:pt x="326" y="311"/>
                        </a:lnTo>
                        <a:lnTo>
                          <a:pt x="327" y="324"/>
                        </a:lnTo>
                        <a:lnTo>
                          <a:pt x="317" y="332"/>
                        </a:lnTo>
                        <a:lnTo>
                          <a:pt x="304" y="327"/>
                        </a:lnTo>
                        <a:lnTo>
                          <a:pt x="305" y="347"/>
                        </a:lnTo>
                        <a:lnTo>
                          <a:pt x="295" y="340"/>
                        </a:lnTo>
                        <a:lnTo>
                          <a:pt x="291" y="362"/>
                        </a:lnTo>
                        <a:lnTo>
                          <a:pt x="274" y="343"/>
                        </a:lnTo>
                        <a:lnTo>
                          <a:pt x="261" y="360"/>
                        </a:lnTo>
                        <a:lnTo>
                          <a:pt x="246" y="368"/>
                        </a:lnTo>
                        <a:lnTo>
                          <a:pt x="243" y="386"/>
                        </a:lnTo>
                        <a:lnTo>
                          <a:pt x="227" y="381"/>
                        </a:lnTo>
                        <a:lnTo>
                          <a:pt x="233" y="367"/>
                        </a:lnTo>
                        <a:lnTo>
                          <a:pt x="222" y="353"/>
                        </a:lnTo>
                        <a:lnTo>
                          <a:pt x="209" y="375"/>
                        </a:lnTo>
                        <a:lnTo>
                          <a:pt x="215" y="421"/>
                        </a:lnTo>
                        <a:lnTo>
                          <a:pt x="207" y="433"/>
                        </a:lnTo>
                        <a:lnTo>
                          <a:pt x="196" y="434"/>
                        </a:lnTo>
                        <a:lnTo>
                          <a:pt x="188" y="432"/>
                        </a:lnTo>
                        <a:lnTo>
                          <a:pt x="175" y="459"/>
                        </a:lnTo>
                        <a:lnTo>
                          <a:pt x="159" y="459"/>
                        </a:lnTo>
                        <a:lnTo>
                          <a:pt x="161" y="482"/>
                        </a:lnTo>
                        <a:lnTo>
                          <a:pt x="150" y="465"/>
                        </a:lnTo>
                        <a:lnTo>
                          <a:pt x="127" y="484"/>
                        </a:lnTo>
                        <a:lnTo>
                          <a:pt x="123" y="499"/>
                        </a:lnTo>
                        <a:lnTo>
                          <a:pt x="131" y="509"/>
                        </a:lnTo>
                        <a:lnTo>
                          <a:pt x="120" y="514"/>
                        </a:lnTo>
                        <a:lnTo>
                          <a:pt x="123" y="531"/>
                        </a:lnTo>
                        <a:lnTo>
                          <a:pt x="112" y="544"/>
                        </a:lnTo>
                        <a:lnTo>
                          <a:pt x="110" y="579"/>
                        </a:lnTo>
                        <a:lnTo>
                          <a:pt x="102" y="579"/>
                        </a:lnTo>
                        <a:lnTo>
                          <a:pt x="69" y="532"/>
                        </a:lnTo>
                        <a:lnTo>
                          <a:pt x="0" y="314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6627960" y="3013560"/>
                    <a:ext cx="531360" cy="264240"/>
                  </a:xfrm>
                  <a:custGeom>
                    <a:avLst/>
                    <a:gdLst/>
                    <a:ahLst/>
                    <a:rect l="l" t="t" r="r" b="b"/>
                    <a:pathLst>
                      <a:path w="456" h="227">
                        <a:moveTo>
                          <a:pt x="0" y="67"/>
                        </a:moveTo>
                        <a:lnTo>
                          <a:pt x="12" y="132"/>
                        </a:lnTo>
                        <a:lnTo>
                          <a:pt x="46" y="91"/>
                        </a:lnTo>
                        <a:lnTo>
                          <a:pt x="100" y="76"/>
                        </a:lnTo>
                        <a:lnTo>
                          <a:pt x="110" y="59"/>
                        </a:lnTo>
                        <a:lnTo>
                          <a:pt x="140" y="55"/>
                        </a:lnTo>
                        <a:lnTo>
                          <a:pt x="165" y="67"/>
                        </a:lnTo>
                        <a:lnTo>
                          <a:pt x="179" y="86"/>
                        </a:lnTo>
                        <a:lnTo>
                          <a:pt x="205" y="92"/>
                        </a:lnTo>
                        <a:lnTo>
                          <a:pt x="220" y="113"/>
                        </a:lnTo>
                        <a:lnTo>
                          <a:pt x="244" y="124"/>
                        </a:lnTo>
                        <a:lnTo>
                          <a:pt x="254" y="117"/>
                        </a:lnTo>
                        <a:lnTo>
                          <a:pt x="259" y="130"/>
                        </a:lnTo>
                        <a:lnTo>
                          <a:pt x="255" y="139"/>
                        </a:lnTo>
                        <a:lnTo>
                          <a:pt x="253" y="153"/>
                        </a:lnTo>
                        <a:lnTo>
                          <a:pt x="237" y="181"/>
                        </a:lnTo>
                        <a:lnTo>
                          <a:pt x="244" y="200"/>
                        </a:lnTo>
                        <a:lnTo>
                          <a:pt x="263" y="192"/>
                        </a:lnTo>
                        <a:lnTo>
                          <a:pt x="264" y="183"/>
                        </a:lnTo>
                        <a:lnTo>
                          <a:pt x="280" y="202"/>
                        </a:lnTo>
                        <a:lnTo>
                          <a:pt x="284" y="192"/>
                        </a:lnTo>
                        <a:lnTo>
                          <a:pt x="294" y="207"/>
                        </a:lnTo>
                        <a:lnTo>
                          <a:pt x="299" y="200"/>
                        </a:lnTo>
                        <a:lnTo>
                          <a:pt x="317" y="208"/>
                        </a:lnTo>
                        <a:lnTo>
                          <a:pt x="327" y="204"/>
                        </a:lnTo>
                        <a:lnTo>
                          <a:pt x="343" y="219"/>
                        </a:lnTo>
                        <a:lnTo>
                          <a:pt x="330" y="194"/>
                        </a:lnTo>
                        <a:lnTo>
                          <a:pt x="298" y="172"/>
                        </a:lnTo>
                        <a:lnTo>
                          <a:pt x="328" y="187"/>
                        </a:lnTo>
                        <a:lnTo>
                          <a:pt x="310" y="162"/>
                        </a:lnTo>
                        <a:lnTo>
                          <a:pt x="305" y="141"/>
                        </a:lnTo>
                        <a:lnTo>
                          <a:pt x="308" y="91"/>
                        </a:lnTo>
                        <a:lnTo>
                          <a:pt x="289" y="80"/>
                        </a:lnTo>
                        <a:lnTo>
                          <a:pt x="327" y="47"/>
                        </a:lnTo>
                        <a:lnTo>
                          <a:pt x="328" y="27"/>
                        </a:lnTo>
                        <a:lnTo>
                          <a:pt x="349" y="28"/>
                        </a:lnTo>
                        <a:lnTo>
                          <a:pt x="344" y="47"/>
                        </a:lnTo>
                        <a:lnTo>
                          <a:pt x="330" y="53"/>
                        </a:lnTo>
                        <a:lnTo>
                          <a:pt x="323" y="73"/>
                        </a:lnTo>
                        <a:lnTo>
                          <a:pt x="327" y="90"/>
                        </a:lnTo>
                        <a:lnTo>
                          <a:pt x="336" y="83"/>
                        </a:lnTo>
                        <a:lnTo>
                          <a:pt x="331" y="104"/>
                        </a:lnTo>
                        <a:lnTo>
                          <a:pt x="336" y="114"/>
                        </a:lnTo>
                        <a:lnTo>
                          <a:pt x="338" y="125"/>
                        </a:lnTo>
                        <a:lnTo>
                          <a:pt x="328" y="119"/>
                        </a:lnTo>
                        <a:lnTo>
                          <a:pt x="325" y="134"/>
                        </a:lnTo>
                        <a:lnTo>
                          <a:pt x="347" y="130"/>
                        </a:lnTo>
                        <a:lnTo>
                          <a:pt x="344" y="141"/>
                        </a:lnTo>
                        <a:lnTo>
                          <a:pt x="356" y="149"/>
                        </a:lnTo>
                        <a:lnTo>
                          <a:pt x="335" y="148"/>
                        </a:lnTo>
                        <a:lnTo>
                          <a:pt x="342" y="179"/>
                        </a:lnTo>
                        <a:lnTo>
                          <a:pt x="365" y="191"/>
                        </a:lnTo>
                        <a:lnTo>
                          <a:pt x="376" y="175"/>
                        </a:lnTo>
                        <a:lnTo>
                          <a:pt x="378" y="201"/>
                        </a:lnTo>
                        <a:lnTo>
                          <a:pt x="394" y="196"/>
                        </a:lnTo>
                        <a:lnTo>
                          <a:pt x="386" y="208"/>
                        </a:lnTo>
                        <a:lnTo>
                          <a:pt x="396" y="208"/>
                        </a:lnTo>
                        <a:lnTo>
                          <a:pt x="388" y="221"/>
                        </a:lnTo>
                        <a:lnTo>
                          <a:pt x="392" y="226"/>
                        </a:lnTo>
                        <a:lnTo>
                          <a:pt x="413" y="215"/>
                        </a:lnTo>
                        <a:lnTo>
                          <a:pt x="437" y="202"/>
                        </a:lnTo>
                        <a:lnTo>
                          <a:pt x="446" y="173"/>
                        </a:lnTo>
                        <a:lnTo>
                          <a:pt x="449" y="191"/>
                        </a:lnTo>
                        <a:lnTo>
                          <a:pt x="446" y="200"/>
                        </a:lnTo>
                        <a:lnTo>
                          <a:pt x="440" y="214"/>
                        </a:lnTo>
                        <a:lnTo>
                          <a:pt x="442" y="224"/>
                        </a:lnTo>
                        <a:lnTo>
                          <a:pt x="451" y="199"/>
                        </a:lnTo>
                        <a:lnTo>
                          <a:pt x="455" y="143"/>
                        </a:lnTo>
                        <a:lnTo>
                          <a:pt x="428" y="149"/>
                        </a:lnTo>
                        <a:lnTo>
                          <a:pt x="392" y="155"/>
                        </a:lnTo>
                        <a:lnTo>
                          <a:pt x="390" y="144"/>
                        </a:lnTo>
                        <a:lnTo>
                          <a:pt x="350" y="0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7209360" y="2438280"/>
                    <a:ext cx="391320" cy="19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171">
                        <a:moveTo>
                          <a:pt x="0" y="68"/>
                        </a:moveTo>
                        <a:lnTo>
                          <a:pt x="0" y="159"/>
                        </a:lnTo>
                        <a:lnTo>
                          <a:pt x="156" y="126"/>
                        </a:lnTo>
                        <a:lnTo>
                          <a:pt x="184" y="117"/>
                        </a:lnTo>
                        <a:lnTo>
                          <a:pt x="194" y="118"/>
                        </a:lnTo>
                        <a:lnTo>
                          <a:pt x="207" y="144"/>
                        </a:lnTo>
                        <a:lnTo>
                          <a:pt x="225" y="147"/>
                        </a:lnTo>
                        <a:lnTo>
                          <a:pt x="234" y="169"/>
                        </a:lnTo>
                        <a:lnTo>
                          <a:pt x="246" y="170"/>
                        </a:lnTo>
                        <a:lnTo>
                          <a:pt x="249" y="155"/>
                        </a:lnTo>
                        <a:lnTo>
                          <a:pt x="258" y="150"/>
                        </a:lnTo>
                        <a:lnTo>
                          <a:pt x="262" y="134"/>
                        </a:lnTo>
                        <a:lnTo>
                          <a:pt x="267" y="133"/>
                        </a:lnTo>
                        <a:lnTo>
                          <a:pt x="274" y="156"/>
                        </a:lnTo>
                        <a:lnTo>
                          <a:pt x="290" y="150"/>
                        </a:lnTo>
                        <a:lnTo>
                          <a:pt x="293" y="140"/>
                        </a:lnTo>
                        <a:lnTo>
                          <a:pt x="313" y="130"/>
                        </a:lnTo>
                        <a:lnTo>
                          <a:pt x="326" y="127"/>
                        </a:lnTo>
                        <a:lnTo>
                          <a:pt x="335" y="135"/>
                        </a:lnTo>
                        <a:lnTo>
                          <a:pt x="332" y="112"/>
                        </a:lnTo>
                        <a:lnTo>
                          <a:pt x="316" y="83"/>
                        </a:lnTo>
                        <a:lnTo>
                          <a:pt x="305" y="79"/>
                        </a:lnTo>
                        <a:lnTo>
                          <a:pt x="295" y="79"/>
                        </a:lnTo>
                        <a:lnTo>
                          <a:pt x="297" y="86"/>
                        </a:lnTo>
                        <a:lnTo>
                          <a:pt x="304" y="86"/>
                        </a:lnTo>
                        <a:lnTo>
                          <a:pt x="311" y="87"/>
                        </a:lnTo>
                        <a:lnTo>
                          <a:pt x="319" y="95"/>
                        </a:lnTo>
                        <a:lnTo>
                          <a:pt x="323" y="106"/>
                        </a:lnTo>
                        <a:lnTo>
                          <a:pt x="318" y="116"/>
                        </a:lnTo>
                        <a:lnTo>
                          <a:pt x="292" y="127"/>
                        </a:lnTo>
                        <a:lnTo>
                          <a:pt x="278" y="121"/>
                        </a:lnTo>
                        <a:lnTo>
                          <a:pt x="271" y="106"/>
                        </a:lnTo>
                        <a:lnTo>
                          <a:pt x="258" y="104"/>
                        </a:lnTo>
                        <a:lnTo>
                          <a:pt x="260" y="95"/>
                        </a:lnTo>
                        <a:lnTo>
                          <a:pt x="247" y="78"/>
                        </a:lnTo>
                        <a:lnTo>
                          <a:pt x="228" y="70"/>
                        </a:lnTo>
                        <a:lnTo>
                          <a:pt x="228" y="79"/>
                        </a:lnTo>
                        <a:lnTo>
                          <a:pt x="217" y="75"/>
                        </a:lnTo>
                        <a:lnTo>
                          <a:pt x="213" y="65"/>
                        </a:lnTo>
                        <a:lnTo>
                          <a:pt x="215" y="55"/>
                        </a:lnTo>
                        <a:lnTo>
                          <a:pt x="226" y="47"/>
                        </a:lnTo>
                        <a:lnTo>
                          <a:pt x="222" y="39"/>
                        </a:lnTo>
                        <a:lnTo>
                          <a:pt x="237" y="28"/>
                        </a:lnTo>
                        <a:lnTo>
                          <a:pt x="222" y="17"/>
                        </a:lnTo>
                        <a:lnTo>
                          <a:pt x="215" y="0"/>
                        </a:lnTo>
                        <a:lnTo>
                          <a:pt x="184" y="24"/>
                        </a:lnTo>
                        <a:lnTo>
                          <a:pt x="72" y="53"/>
                        </a:lnTo>
                        <a:lnTo>
                          <a:pt x="0" y="68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>
                    <a:off x="7277040" y="2093040"/>
                    <a:ext cx="189360" cy="40788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350">
                        <a:moveTo>
                          <a:pt x="0" y="239"/>
                        </a:moveTo>
                        <a:lnTo>
                          <a:pt x="9" y="163"/>
                        </a:lnTo>
                        <a:lnTo>
                          <a:pt x="27" y="128"/>
                        </a:lnTo>
                        <a:lnTo>
                          <a:pt x="30" y="46"/>
                        </a:lnTo>
                        <a:lnTo>
                          <a:pt x="28" y="18"/>
                        </a:lnTo>
                        <a:lnTo>
                          <a:pt x="57" y="0"/>
                        </a:lnTo>
                        <a:lnTo>
                          <a:pt x="126" y="218"/>
                        </a:lnTo>
                        <a:lnTo>
                          <a:pt x="159" y="265"/>
                        </a:lnTo>
                        <a:lnTo>
                          <a:pt x="162" y="275"/>
                        </a:lnTo>
                        <a:lnTo>
                          <a:pt x="157" y="296"/>
                        </a:lnTo>
                        <a:lnTo>
                          <a:pt x="126" y="320"/>
                        </a:lnTo>
                        <a:lnTo>
                          <a:pt x="14" y="349"/>
                        </a:lnTo>
                        <a:lnTo>
                          <a:pt x="0" y="23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7067520" y="2750400"/>
                    <a:ext cx="156960" cy="357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5" h="307">
                        <a:moveTo>
                          <a:pt x="0" y="226"/>
                        </a:moveTo>
                        <a:lnTo>
                          <a:pt x="7" y="208"/>
                        </a:lnTo>
                        <a:lnTo>
                          <a:pt x="31" y="193"/>
                        </a:lnTo>
                        <a:lnTo>
                          <a:pt x="43" y="168"/>
                        </a:lnTo>
                        <a:lnTo>
                          <a:pt x="62" y="150"/>
                        </a:lnTo>
                        <a:lnTo>
                          <a:pt x="6" y="104"/>
                        </a:lnTo>
                        <a:lnTo>
                          <a:pt x="3" y="59"/>
                        </a:lnTo>
                        <a:lnTo>
                          <a:pt x="30" y="0"/>
                        </a:lnTo>
                        <a:lnTo>
                          <a:pt x="116" y="30"/>
                        </a:lnTo>
                        <a:lnTo>
                          <a:pt x="117" y="41"/>
                        </a:lnTo>
                        <a:lnTo>
                          <a:pt x="107" y="75"/>
                        </a:lnTo>
                        <a:lnTo>
                          <a:pt x="97" y="84"/>
                        </a:lnTo>
                        <a:lnTo>
                          <a:pt x="96" y="101"/>
                        </a:lnTo>
                        <a:lnTo>
                          <a:pt x="105" y="104"/>
                        </a:lnTo>
                        <a:lnTo>
                          <a:pt x="115" y="104"/>
                        </a:lnTo>
                        <a:lnTo>
                          <a:pt x="123" y="104"/>
                        </a:lnTo>
                        <a:lnTo>
                          <a:pt x="121" y="97"/>
                        </a:lnTo>
                        <a:lnTo>
                          <a:pt x="126" y="101"/>
                        </a:lnTo>
                        <a:lnTo>
                          <a:pt x="133" y="121"/>
                        </a:lnTo>
                        <a:lnTo>
                          <a:pt x="134" y="184"/>
                        </a:lnTo>
                        <a:lnTo>
                          <a:pt x="132" y="167"/>
                        </a:lnTo>
                        <a:lnTo>
                          <a:pt x="126" y="153"/>
                        </a:lnTo>
                        <a:lnTo>
                          <a:pt x="125" y="162"/>
                        </a:lnTo>
                        <a:lnTo>
                          <a:pt x="128" y="177"/>
                        </a:lnTo>
                        <a:lnTo>
                          <a:pt x="125" y="184"/>
                        </a:lnTo>
                        <a:lnTo>
                          <a:pt x="126" y="202"/>
                        </a:lnTo>
                        <a:lnTo>
                          <a:pt x="120" y="220"/>
                        </a:lnTo>
                        <a:lnTo>
                          <a:pt x="112" y="221"/>
                        </a:lnTo>
                        <a:lnTo>
                          <a:pt x="115" y="234"/>
                        </a:lnTo>
                        <a:lnTo>
                          <a:pt x="101" y="257"/>
                        </a:lnTo>
                        <a:lnTo>
                          <a:pt x="83" y="306"/>
                        </a:lnTo>
                        <a:lnTo>
                          <a:pt x="74" y="306"/>
                        </a:lnTo>
                        <a:lnTo>
                          <a:pt x="77" y="287"/>
                        </a:lnTo>
                        <a:lnTo>
                          <a:pt x="72" y="278"/>
                        </a:lnTo>
                        <a:lnTo>
                          <a:pt x="50" y="279"/>
                        </a:lnTo>
                        <a:lnTo>
                          <a:pt x="18" y="260"/>
                        </a:lnTo>
                        <a:lnTo>
                          <a:pt x="7" y="251"/>
                        </a:lnTo>
                        <a:lnTo>
                          <a:pt x="0" y="226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535800" y="2193480"/>
                    <a:ext cx="691920" cy="6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594" h="532">
                        <a:moveTo>
                          <a:pt x="0" y="457"/>
                        </a:moveTo>
                        <a:lnTo>
                          <a:pt x="20" y="487"/>
                        </a:lnTo>
                        <a:lnTo>
                          <a:pt x="407" y="413"/>
                        </a:lnTo>
                        <a:lnTo>
                          <a:pt x="433" y="427"/>
                        </a:lnTo>
                        <a:lnTo>
                          <a:pt x="448" y="457"/>
                        </a:lnTo>
                        <a:lnTo>
                          <a:pt x="486" y="478"/>
                        </a:lnTo>
                        <a:lnTo>
                          <a:pt x="572" y="508"/>
                        </a:lnTo>
                        <a:lnTo>
                          <a:pt x="573" y="519"/>
                        </a:lnTo>
                        <a:lnTo>
                          <a:pt x="578" y="531"/>
                        </a:lnTo>
                        <a:lnTo>
                          <a:pt x="584" y="524"/>
                        </a:lnTo>
                        <a:lnTo>
                          <a:pt x="592" y="499"/>
                        </a:lnTo>
                        <a:lnTo>
                          <a:pt x="593" y="454"/>
                        </a:lnTo>
                        <a:lnTo>
                          <a:pt x="578" y="369"/>
                        </a:lnTo>
                        <a:lnTo>
                          <a:pt x="578" y="278"/>
                        </a:lnTo>
                        <a:lnTo>
                          <a:pt x="563" y="208"/>
                        </a:lnTo>
                        <a:lnTo>
                          <a:pt x="536" y="149"/>
                        </a:lnTo>
                        <a:lnTo>
                          <a:pt x="530" y="91"/>
                        </a:lnTo>
                        <a:lnTo>
                          <a:pt x="505" y="0"/>
                        </a:lnTo>
                        <a:lnTo>
                          <a:pt x="386" y="31"/>
                        </a:lnTo>
                        <a:lnTo>
                          <a:pt x="377" y="29"/>
                        </a:lnTo>
                        <a:lnTo>
                          <a:pt x="341" y="59"/>
                        </a:lnTo>
                        <a:lnTo>
                          <a:pt x="308" y="106"/>
                        </a:lnTo>
                        <a:lnTo>
                          <a:pt x="305" y="126"/>
                        </a:lnTo>
                        <a:lnTo>
                          <a:pt x="290" y="147"/>
                        </a:lnTo>
                        <a:lnTo>
                          <a:pt x="264" y="171"/>
                        </a:lnTo>
                        <a:lnTo>
                          <a:pt x="275" y="187"/>
                        </a:lnTo>
                        <a:lnTo>
                          <a:pt x="279" y="175"/>
                        </a:lnTo>
                        <a:lnTo>
                          <a:pt x="286" y="179"/>
                        </a:lnTo>
                        <a:lnTo>
                          <a:pt x="281" y="185"/>
                        </a:lnTo>
                        <a:lnTo>
                          <a:pt x="287" y="187"/>
                        </a:lnTo>
                        <a:lnTo>
                          <a:pt x="283" y="198"/>
                        </a:lnTo>
                        <a:lnTo>
                          <a:pt x="279" y="198"/>
                        </a:lnTo>
                        <a:lnTo>
                          <a:pt x="277" y="204"/>
                        </a:lnTo>
                        <a:lnTo>
                          <a:pt x="290" y="221"/>
                        </a:lnTo>
                        <a:lnTo>
                          <a:pt x="290" y="236"/>
                        </a:lnTo>
                        <a:lnTo>
                          <a:pt x="272" y="246"/>
                        </a:lnTo>
                        <a:lnTo>
                          <a:pt x="253" y="273"/>
                        </a:lnTo>
                        <a:lnTo>
                          <a:pt x="232" y="289"/>
                        </a:lnTo>
                        <a:lnTo>
                          <a:pt x="195" y="291"/>
                        </a:lnTo>
                        <a:lnTo>
                          <a:pt x="181" y="301"/>
                        </a:lnTo>
                        <a:lnTo>
                          <a:pt x="160" y="291"/>
                        </a:lnTo>
                        <a:lnTo>
                          <a:pt x="95" y="299"/>
                        </a:lnTo>
                        <a:lnTo>
                          <a:pt x="47" y="318"/>
                        </a:lnTo>
                        <a:lnTo>
                          <a:pt x="50" y="335"/>
                        </a:lnTo>
                        <a:lnTo>
                          <a:pt x="47" y="343"/>
                        </a:lnTo>
                        <a:lnTo>
                          <a:pt x="50" y="344"/>
                        </a:lnTo>
                        <a:lnTo>
                          <a:pt x="58" y="360"/>
                        </a:lnTo>
                        <a:lnTo>
                          <a:pt x="64" y="359"/>
                        </a:lnTo>
                        <a:lnTo>
                          <a:pt x="71" y="375"/>
                        </a:lnTo>
                        <a:lnTo>
                          <a:pt x="70" y="381"/>
                        </a:lnTo>
                        <a:lnTo>
                          <a:pt x="58" y="389"/>
                        </a:lnTo>
                        <a:lnTo>
                          <a:pt x="52" y="407"/>
                        </a:lnTo>
                        <a:lnTo>
                          <a:pt x="0" y="457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461640" y="2674800"/>
                    <a:ext cx="679320" cy="436680"/>
                  </a:xfrm>
                  <a:custGeom>
                    <a:avLst/>
                    <a:gdLst/>
                    <a:ahLst/>
                    <a:rect l="l" t="t" r="r" b="b"/>
                    <a:pathLst>
                      <a:path w="583" h="375">
                        <a:moveTo>
                          <a:pt x="0" y="92"/>
                        </a:moveTo>
                        <a:lnTo>
                          <a:pt x="27" y="257"/>
                        </a:lnTo>
                        <a:lnTo>
                          <a:pt x="46" y="374"/>
                        </a:lnTo>
                        <a:lnTo>
                          <a:pt x="143" y="358"/>
                        </a:lnTo>
                        <a:lnTo>
                          <a:pt x="493" y="291"/>
                        </a:lnTo>
                        <a:lnTo>
                          <a:pt x="507" y="273"/>
                        </a:lnTo>
                        <a:lnTo>
                          <a:pt x="527" y="273"/>
                        </a:lnTo>
                        <a:lnTo>
                          <a:pt x="551" y="258"/>
                        </a:lnTo>
                        <a:lnTo>
                          <a:pt x="563" y="233"/>
                        </a:lnTo>
                        <a:lnTo>
                          <a:pt x="582" y="215"/>
                        </a:lnTo>
                        <a:lnTo>
                          <a:pt x="526" y="169"/>
                        </a:lnTo>
                        <a:lnTo>
                          <a:pt x="523" y="124"/>
                        </a:lnTo>
                        <a:lnTo>
                          <a:pt x="550" y="65"/>
                        </a:lnTo>
                        <a:lnTo>
                          <a:pt x="512" y="44"/>
                        </a:lnTo>
                        <a:lnTo>
                          <a:pt x="497" y="14"/>
                        </a:lnTo>
                        <a:lnTo>
                          <a:pt x="471" y="0"/>
                        </a:lnTo>
                        <a:lnTo>
                          <a:pt x="84" y="74"/>
                        </a:lnTo>
                        <a:lnTo>
                          <a:pt x="64" y="44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>
                    <a:off x="7124400" y="2146680"/>
                    <a:ext cx="188640" cy="37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2" h="319">
                        <a:moveTo>
                          <a:pt x="0" y="40"/>
                        </a:moveTo>
                        <a:lnTo>
                          <a:pt x="25" y="131"/>
                        </a:lnTo>
                        <a:lnTo>
                          <a:pt x="31" y="189"/>
                        </a:lnTo>
                        <a:lnTo>
                          <a:pt x="58" y="248"/>
                        </a:lnTo>
                        <a:lnTo>
                          <a:pt x="73" y="318"/>
                        </a:lnTo>
                        <a:lnTo>
                          <a:pt x="145" y="303"/>
                        </a:lnTo>
                        <a:lnTo>
                          <a:pt x="131" y="193"/>
                        </a:lnTo>
                        <a:lnTo>
                          <a:pt x="140" y="117"/>
                        </a:lnTo>
                        <a:lnTo>
                          <a:pt x="158" y="82"/>
                        </a:lnTo>
                        <a:lnTo>
                          <a:pt x="161" y="0"/>
                        </a:lnTo>
                        <a:lnTo>
                          <a:pt x="0" y="40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7209360" y="2584800"/>
                    <a:ext cx="202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64">
                        <a:moveTo>
                          <a:pt x="0" y="33"/>
                        </a:moveTo>
                        <a:lnTo>
                          <a:pt x="15" y="118"/>
                        </a:lnTo>
                        <a:lnTo>
                          <a:pt x="14" y="163"/>
                        </a:lnTo>
                        <a:lnTo>
                          <a:pt x="28" y="159"/>
                        </a:lnTo>
                        <a:lnTo>
                          <a:pt x="37" y="147"/>
                        </a:lnTo>
                        <a:lnTo>
                          <a:pt x="61" y="136"/>
                        </a:lnTo>
                        <a:lnTo>
                          <a:pt x="72" y="114"/>
                        </a:lnTo>
                        <a:lnTo>
                          <a:pt x="79" y="118"/>
                        </a:lnTo>
                        <a:lnTo>
                          <a:pt x="98" y="110"/>
                        </a:lnTo>
                        <a:lnTo>
                          <a:pt x="125" y="106"/>
                        </a:lnTo>
                        <a:lnTo>
                          <a:pt x="125" y="96"/>
                        </a:lnTo>
                        <a:lnTo>
                          <a:pt x="133" y="102"/>
                        </a:lnTo>
                        <a:lnTo>
                          <a:pt x="142" y="94"/>
                        </a:lnTo>
                        <a:lnTo>
                          <a:pt x="155" y="91"/>
                        </a:lnTo>
                        <a:lnTo>
                          <a:pt x="173" y="83"/>
                        </a:lnTo>
                        <a:lnTo>
                          <a:pt x="156" y="0"/>
                        </a:lnTo>
                        <a:lnTo>
                          <a:pt x="0" y="33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21" name=""/>
            <p:cNvSpPr/>
            <p:nvPr/>
          </p:nvSpPr>
          <p:spPr>
            <a:xfrm>
              <a:off x="6739560" y="255168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4675320" y="1845000"/>
              <a:ext cx="1825560" cy="1874160"/>
              <a:chOff x="4675320" y="1845000"/>
              <a:chExt cx="1825560" cy="1874160"/>
            </a:xfrm>
          </p:grpSpPr>
          <p:sp>
            <p:nvSpPr>
              <p:cNvPr id="323" name=""/>
              <p:cNvSpPr/>
              <p:nvPr/>
            </p:nvSpPr>
            <p:spPr>
              <a:xfrm>
                <a:off x="5290560" y="2818800"/>
                <a:ext cx="458640" cy="82548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694840" y="2893320"/>
                <a:ext cx="363240" cy="6231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559480" y="3283560"/>
                <a:ext cx="846720" cy="43560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361480" y="2099880"/>
                <a:ext cx="669600" cy="34596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790240" y="2306520"/>
                <a:ext cx="450720" cy="61236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75320" y="1845000"/>
                <a:ext cx="770040" cy="86328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010560" y="2803680"/>
                <a:ext cx="490320" cy="55296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112000" y="2189880"/>
                <a:ext cx="617400" cy="65088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1" name=""/>
            <p:cNvSpPr/>
            <p:nvPr/>
          </p:nvSpPr>
          <p:spPr>
            <a:xfrm>
              <a:off x="5733720" y="294264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3147120" y="2942640"/>
              <a:ext cx="4353480" cy="2386800"/>
              <a:chOff x="3147120" y="2942640"/>
              <a:chExt cx="4353480" cy="2386800"/>
            </a:xfrm>
          </p:grpSpPr>
          <p:sp>
            <p:nvSpPr>
              <p:cNvPr id="333" name=""/>
              <p:cNvSpPr/>
              <p:nvPr/>
            </p:nvSpPr>
            <p:spPr>
              <a:xfrm>
                <a:off x="6860880" y="5186520"/>
                <a:ext cx="30240" cy="5796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49"/>
                    </a:moveTo>
                    <a:lnTo>
                      <a:pt x="12" y="33"/>
                    </a:lnTo>
                    <a:lnTo>
                      <a:pt x="25" y="0"/>
                    </a:lnTo>
                    <a:lnTo>
                      <a:pt x="17" y="15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3147120" y="2942640"/>
                <a:ext cx="4353480" cy="2386800"/>
                <a:chOff x="3147120" y="2942640"/>
                <a:chExt cx="4353480" cy="238680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6786360" y="5270400"/>
                  <a:ext cx="43920" cy="30240"/>
                </a:xfrm>
                <a:custGeom>
                  <a:avLst/>
                  <a:gdLst/>
                  <a:ahLst/>
                  <a:rect l="l" t="t" r="r" b="b"/>
                  <a:pathLst>
                    <a:path w="38" h="26">
                      <a:moveTo>
                        <a:pt x="0" y="23"/>
                      </a:moveTo>
                      <a:lnTo>
                        <a:pt x="7" y="25"/>
                      </a:lnTo>
                      <a:lnTo>
                        <a:pt x="37" y="0"/>
                      </a:lnTo>
                      <a:lnTo>
                        <a:pt x="10" y="1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6711480" y="5292360"/>
                  <a:ext cx="54720" cy="37080"/>
                </a:xfrm>
                <a:custGeom>
                  <a:avLst/>
                  <a:gdLst/>
                  <a:ahLst/>
                  <a:rect l="l" t="t" r="r" b="b"/>
                  <a:pathLst>
                    <a:path w="47" h="32">
                      <a:moveTo>
                        <a:pt x="0" y="31"/>
                      </a:moveTo>
                      <a:lnTo>
                        <a:pt x="3" y="14"/>
                      </a:lnTo>
                      <a:lnTo>
                        <a:pt x="18" y="12"/>
                      </a:lnTo>
                      <a:lnTo>
                        <a:pt x="21" y="0"/>
                      </a:lnTo>
                      <a:lnTo>
                        <a:pt x="46" y="13"/>
                      </a:lnTo>
                      <a:lnTo>
                        <a:pt x="21" y="21"/>
                      </a:lnTo>
                      <a:lnTo>
                        <a:pt x="9" y="18"/>
                      </a:lnTo>
                      <a:lnTo>
                        <a:pt x="12" y="26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106760" y="3265200"/>
                  <a:ext cx="36000" cy="113040"/>
                </a:xfrm>
                <a:custGeom>
                  <a:avLst/>
                  <a:gdLst/>
                  <a:ahLst/>
                  <a:rect l="l" t="t" r="r" b="b"/>
                  <a:pathLst>
                    <a:path w="31" h="97">
                      <a:moveTo>
                        <a:pt x="0" y="6"/>
                      </a:moveTo>
                      <a:lnTo>
                        <a:pt x="0" y="24"/>
                      </a:lnTo>
                      <a:lnTo>
                        <a:pt x="0" y="42"/>
                      </a:lnTo>
                      <a:lnTo>
                        <a:pt x="0" y="60"/>
                      </a:lnTo>
                      <a:lnTo>
                        <a:pt x="0" y="78"/>
                      </a:lnTo>
                      <a:lnTo>
                        <a:pt x="0" y="96"/>
                      </a:lnTo>
                      <a:lnTo>
                        <a:pt x="18" y="90"/>
                      </a:lnTo>
                      <a:lnTo>
                        <a:pt x="24" y="72"/>
                      </a:lnTo>
                      <a:lnTo>
                        <a:pt x="30" y="54"/>
                      </a:lnTo>
                      <a:lnTo>
                        <a:pt x="18" y="36"/>
                      </a:lnTo>
                      <a:lnTo>
                        <a:pt x="30" y="18"/>
                      </a:lnTo>
                      <a:lnTo>
                        <a:pt x="30" y="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717880" y="3877920"/>
                  <a:ext cx="446040" cy="723240"/>
                </a:xfrm>
                <a:custGeom>
                  <a:avLst/>
                  <a:gdLst/>
                  <a:ahLst/>
                  <a:rect l="l" t="t" r="r" b="b"/>
                  <a:pathLst>
                    <a:path w="383" h="621">
                      <a:moveTo>
                        <a:pt x="0" y="23"/>
                      </a:moveTo>
                      <a:lnTo>
                        <a:pt x="9" y="34"/>
                      </a:lnTo>
                      <a:lnTo>
                        <a:pt x="0" y="417"/>
                      </a:lnTo>
                      <a:lnTo>
                        <a:pt x="24" y="602"/>
                      </a:lnTo>
                      <a:lnTo>
                        <a:pt x="51" y="609"/>
                      </a:lnTo>
                      <a:lnTo>
                        <a:pt x="61" y="551"/>
                      </a:lnTo>
                      <a:lnTo>
                        <a:pt x="71" y="566"/>
                      </a:lnTo>
                      <a:lnTo>
                        <a:pt x="73" y="594"/>
                      </a:lnTo>
                      <a:lnTo>
                        <a:pt x="89" y="607"/>
                      </a:lnTo>
                      <a:lnTo>
                        <a:pt x="66" y="620"/>
                      </a:lnTo>
                      <a:lnTo>
                        <a:pt x="120" y="606"/>
                      </a:lnTo>
                      <a:lnTo>
                        <a:pt x="130" y="588"/>
                      </a:lnTo>
                      <a:lnTo>
                        <a:pt x="122" y="579"/>
                      </a:lnTo>
                      <a:lnTo>
                        <a:pt x="128" y="564"/>
                      </a:lnTo>
                      <a:lnTo>
                        <a:pt x="101" y="539"/>
                      </a:lnTo>
                      <a:lnTo>
                        <a:pt x="103" y="520"/>
                      </a:lnTo>
                      <a:lnTo>
                        <a:pt x="382" y="495"/>
                      </a:lnTo>
                      <a:lnTo>
                        <a:pt x="358" y="396"/>
                      </a:lnTo>
                      <a:lnTo>
                        <a:pt x="362" y="361"/>
                      </a:lnTo>
                      <a:lnTo>
                        <a:pt x="373" y="339"/>
                      </a:lnTo>
                      <a:lnTo>
                        <a:pt x="364" y="305"/>
                      </a:lnTo>
                      <a:lnTo>
                        <a:pt x="337" y="262"/>
                      </a:lnTo>
                      <a:lnTo>
                        <a:pt x="265" y="0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946760" y="3696120"/>
                  <a:ext cx="589320" cy="531000"/>
                </a:xfrm>
                <a:custGeom>
                  <a:avLst/>
                  <a:gdLst/>
                  <a:ahLst/>
                  <a:rect l="l" t="t" r="r" b="b"/>
                  <a:pathLst>
                    <a:path w="507" h="456">
                      <a:moveTo>
                        <a:pt x="0" y="15"/>
                      </a:moveTo>
                      <a:lnTo>
                        <a:pt x="21" y="155"/>
                      </a:lnTo>
                      <a:lnTo>
                        <a:pt x="17" y="375"/>
                      </a:lnTo>
                      <a:lnTo>
                        <a:pt x="27" y="387"/>
                      </a:lnTo>
                      <a:lnTo>
                        <a:pt x="64" y="387"/>
                      </a:lnTo>
                      <a:lnTo>
                        <a:pt x="65" y="455"/>
                      </a:lnTo>
                      <a:lnTo>
                        <a:pt x="365" y="450"/>
                      </a:lnTo>
                      <a:lnTo>
                        <a:pt x="359" y="381"/>
                      </a:lnTo>
                      <a:lnTo>
                        <a:pt x="385" y="307"/>
                      </a:lnTo>
                      <a:lnTo>
                        <a:pt x="422" y="253"/>
                      </a:lnTo>
                      <a:lnTo>
                        <a:pt x="420" y="239"/>
                      </a:lnTo>
                      <a:lnTo>
                        <a:pt x="449" y="192"/>
                      </a:lnTo>
                      <a:lnTo>
                        <a:pt x="463" y="141"/>
                      </a:lnTo>
                      <a:lnTo>
                        <a:pt x="457" y="136"/>
                      </a:lnTo>
                      <a:lnTo>
                        <a:pt x="482" y="116"/>
                      </a:lnTo>
                      <a:lnTo>
                        <a:pt x="506" y="71"/>
                      </a:lnTo>
                      <a:lnTo>
                        <a:pt x="499" y="61"/>
                      </a:lnTo>
                      <a:lnTo>
                        <a:pt x="431" y="65"/>
                      </a:lnTo>
                      <a:lnTo>
                        <a:pt x="449" y="39"/>
                      </a:lnTo>
                      <a:lnTo>
                        <a:pt x="443" y="0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3268080" y="2942640"/>
                  <a:ext cx="851400" cy="673200"/>
                </a:xfrm>
                <a:custGeom>
                  <a:avLst/>
                  <a:gdLst/>
                  <a:ahLst/>
                  <a:rect l="l" t="t" r="r" b="b"/>
                  <a:pathLst>
                    <a:path w="731" h="578">
                      <a:moveTo>
                        <a:pt x="0" y="504"/>
                      </a:moveTo>
                      <a:lnTo>
                        <a:pt x="71" y="0"/>
                      </a:lnTo>
                      <a:lnTo>
                        <a:pt x="541" y="54"/>
                      </a:lnTo>
                      <a:lnTo>
                        <a:pt x="730" y="71"/>
                      </a:lnTo>
                      <a:lnTo>
                        <a:pt x="722" y="196"/>
                      </a:lnTo>
                      <a:lnTo>
                        <a:pt x="697" y="577"/>
                      </a:lnTo>
                      <a:lnTo>
                        <a:pt x="601" y="569"/>
                      </a:lnTo>
                      <a:lnTo>
                        <a:pt x="301" y="543"/>
                      </a:lnTo>
                      <a:lnTo>
                        <a:pt x="0" y="504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835600" y="4430160"/>
                  <a:ext cx="1061280" cy="802440"/>
                </a:xfrm>
                <a:custGeom>
                  <a:avLst/>
                  <a:gdLst/>
                  <a:ahLst/>
                  <a:rect l="l" t="t" r="r" b="b"/>
                  <a:pathLst>
                    <a:path w="911" h="689">
                      <a:moveTo>
                        <a:pt x="2" y="46"/>
                      </a:moveTo>
                      <a:lnTo>
                        <a:pt x="0" y="65"/>
                      </a:lnTo>
                      <a:lnTo>
                        <a:pt x="27" y="90"/>
                      </a:lnTo>
                      <a:lnTo>
                        <a:pt x="21" y="105"/>
                      </a:lnTo>
                      <a:lnTo>
                        <a:pt x="29" y="114"/>
                      </a:lnTo>
                      <a:lnTo>
                        <a:pt x="19" y="132"/>
                      </a:lnTo>
                      <a:lnTo>
                        <a:pt x="39" y="124"/>
                      </a:lnTo>
                      <a:lnTo>
                        <a:pt x="50" y="111"/>
                      </a:lnTo>
                      <a:lnTo>
                        <a:pt x="50" y="98"/>
                      </a:lnTo>
                      <a:lnTo>
                        <a:pt x="59" y="106"/>
                      </a:lnTo>
                      <a:lnTo>
                        <a:pt x="67" y="94"/>
                      </a:lnTo>
                      <a:lnTo>
                        <a:pt x="75" y="105"/>
                      </a:lnTo>
                      <a:lnTo>
                        <a:pt x="54" y="121"/>
                      </a:lnTo>
                      <a:lnTo>
                        <a:pt x="113" y="107"/>
                      </a:lnTo>
                      <a:lnTo>
                        <a:pt x="125" y="95"/>
                      </a:lnTo>
                      <a:lnTo>
                        <a:pt x="133" y="100"/>
                      </a:lnTo>
                      <a:lnTo>
                        <a:pt x="156" y="94"/>
                      </a:lnTo>
                      <a:lnTo>
                        <a:pt x="166" y="102"/>
                      </a:lnTo>
                      <a:lnTo>
                        <a:pt x="126" y="106"/>
                      </a:lnTo>
                      <a:lnTo>
                        <a:pt x="138" y="110"/>
                      </a:lnTo>
                      <a:lnTo>
                        <a:pt x="184" y="120"/>
                      </a:lnTo>
                      <a:lnTo>
                        <a:pt x="211" y="135"/>
                      </a:lnTo>
                      <a:lnTo>
                        <a:pt x="203" y="114"/>
                      </a:lnTo>
                      <a:lnTo>
                        <a:pt x="217" y="130"/>
                      </a:lnTo>
                      <a:lnTo>
                        <a:pt x="237" y="133"/>
                      </a:lnTo>
                      <a:lnTo>
                        <a:pt x="220" y="139"/>
                      </a:lnTo>
                      <a:lnTo>
                        <a:pt x="251" y="155"/>
                      </a:lnTo>
                      <a:lnTo>
                        <a:pt x="263" y="169"/>
                      </a:lnTo>
                      <a:lnTo>
                        <a:pt x="262" y="183"/>
                      </a:lnTo>
                      <a:lnTo>
                        <a:pt x="249" y="165"/>
                      </a:lnTo>
                      <a:lnTo>
                        <a:pt x="257" y="189"/>
                      </a:lnTo>
                      <a:lnTo>
                        <a:pt x="281" y="179"/>
                      </a:lnTo>
                      <a:lnTo>
                        <a:pt x="297" y="178"/>
                      </a:lnTo>
                      <a:lnTo>
                        <a:pt x="307" y="168"/>
                      </a:lnTo>
                      <a:lnTo>
                        <a:pt x="312" y="175"/>
                      </a:lnTo>
                      <a:lnTo>
                        <a:pt x="345" y="150"/>
                      </a:lnTo>
                      <a:lnTo>
                        <a:pt x="366" y="149"/>
                      </a:lnTo>
                      <a:lnTo>
                        <a:pt x="358" y="141"/>
                      </a:lnTo>
                      <a:lnTo>
                        <a:pt x="373" y="122"/>
                      </a:lnTo>
                      <a:lnTo>
                        <a:pt x="404" y="120"/>
                      </a:lnTo>
                      <a:lnTo>
                        <a:pt x="438" y="136"/>
                      </a:lnTo>
                      <a:lnTo>
                        <a:pt x="458" y="161"/>
                      </a:lnTo>
                      <a:lnTo>
                        <a:pt x="475" y="166"/>
                      </a:lnTo>
                      <a:lnTo>
                        <a:pt x="478" y="183"/>
                      </a:lnTo>
                      <a:lnTo>
                        <a:pt x="500" y="194"/>
                      </a:lnTo>
                      <a:lnTo>
                        <a:pt x="508" y="208"/>
                      </a:lnTo>
                      <a:lnTo>
                        <a:pt x="520" y="218"/>
                      </a:lnTo>
                      <a:lnTo>
                        <a:pt x="548" y="219"/>
                      </a:lnTo>
                      <a:lnTo>
                        <a:pt x="560" y="238"/>
                      </a:lnTo>
                      <a:lnTo>
                        <a:pt x="575" y="276"/>
                      </a:lnTo>
                      <a:lnTo>
                        <a:pt x="566" y="343"/>
                      </a:lnTo>
                      <a:lnTo>
                        <a:pt x="569" y="385"/>
                      </a:lnTo>
                      <a:lnTo>
                        <a:pt x="587" y="398"/>
                      </a:lnTo>
                      <a:lnTo>
                        <a:pt x="590" y="378"/>
                      </a:lnTo>
                      <a:lnTo>
                        <a:pt x="578" y="371"/>
                      </a:lnTo>
                      <a:lnTo>
                        <a:pt x="580" y="358"/>
                      </a:lnTo>
                      <a:lnTo>
                        <a:pt x="585" y="362"/>
                      </a:lnTo>
                      <a:lnTo>
                        <a:pt x="598" y="366"/>
                      </a:lnTo>
                      <a:lnTo>
                        <a:pt x="602" y="379"/>
                      </a:lnTo>
                      <a:lnTo>
                        <a:pt x="610" y="364"/>
                      </a:lnTo>
                      <a:lnTo>
                        <a:pt x="617" y="377"/>
                      </a:lnTo>
                      <a:lnTo>
                        <a:pt x="592" y="421"/>
                      </a:lnTo>
                      <a:lnTo>
                        <a:pt x="591" y="429"/>
                      </a:lnTo>
                      <a:lnTo>
                        <a:pt x="606" y="436"/>
                      </a:lnTo>
                      <a:lnTo>
                        <a:pt x="620" y="472"/>
                      </a:lnTo>
                      <a:lnTo>
                        <a:pt x="637" y="489"/>
                      </a:lnTo>
                      <a:lnTo>
                        <a:pt x="647" y="502"/>
                      </a:lnTo>
                      <a:lnTo>
                        <a:pt x="660" y="502"/>
                      </a:lnTo>
                      <a:lnTo>
                        <a:pt x="646" y="482"/>
                      </a:lnTo>
                      <a:lnTo>
                        <a:pt x="657" y="485"/>
                      </a:lnTo>
                      <a:lnTo>
                        <a:pt x="671" y="481"/>
                      </a:lnTo>
                      <a:lnTo>
                        <a:pt x="665" y="489"/>
                      </a:lnTo>
                      <a:lnTo>
                        <a:pt x="671" y="507"/>
                      </a:lnTo>
                      <a:lnTo>
                        <a:pt x="677" y="531"/>
                      </a:lnTo>
                      <a:lnTo>
                        <a:pt x="698" y="541"/>
                      </a:lnTo>
                      <a:lnTo>
                        <a:pt x="704" y="557"/>
                      </a:lnTo>
                      <a:lnTo>
                        <a:pt x="723" y="603"/>
                      </a:lnTo>
                      <a:lnTo>
                        <a:pt x="747" y="603"/>
                      </a:lnTo>
                      <a:lnTo>
                        <a:pt x="767" y="615"/>
                      </a:lnTo>
                      <a:lnTo>
                        <a:pt x="801" y="660"/>
                      </a:lnTo>
                      <a:lnTo>
                        <a:pt x="828" y="664"/>
                      </a:lnTo>
                      <a:lnTo>
                        <a:pt x="829" y="674"/>
                      </a:lnTo>
                      <a:lnTo>
                        <a:pt x="823" y="679"/>
                      </a:lnTo>
                      <a:lnTo>
                        <a:pt x="801" y="669"/>
                      </a:lnTo>
                      <a:lnTo>
                        <a:pt x="808" y="688"/>
                      </a:lnTo>
                      <a:lnTo>
                        <a:pt x="834" y="681"/>
                      </a:lnTo>
                      <a:lnTo>
                        <a:pt x="856" y="681"/>
                      </a:lnTo>
                      <a:lnTo>
                        <a:pt x="867" y="669"/>
                      </a:lnTo>
                      <a:lnTo>
                        <a:pt x="886" y="668"/>
                      </a:lnTo>
                      <a:lnTo>
                        <a:pt x="896" y="648"/>
                      </a:lnTo>
                      <a:lnTo>
                        <a:pt x="892" y="621"/>
                      </a:lnTo>
                      <a:lnTo>
                        <a:pt x="901" y="589"/>
                      </a:lnTo>
                      <a:lnTo>
                        <a:pt x="910" y="592"/>
                      </a:lnTo>
                      <a:lnTo>
                        <a:pt x="902" y="482"/>
                      </a:lnTo>
                      <a:lnTo>
                        <a:pt x="892" y="449"/>
                      </a:lnTo>
                      <a:lnTo>
                        <a:pt x="794" y="289"/>
                      </a:lnTo>
                      <a:lnTo>
                        <a:pt x="770" y="237"/>
                      </a:lnTo>
                      <a:lnTo>
                        <a:pt x="780" y="237"/>
                      </a:lnTo>
                      <a:lnTo>
                        <a:pt x="716" y="135"/>
                      </a:lnTo>
                      <a:lnTo>
                        <a:pt x="671" y="29"/>
                      </a:lnTo>
                      <a:lnTo>
                        <a:pt x="669" y="10"/>
                      </a:lnTo>
                      <a:lnTo>
                        <a:pt x="657" y="8"/>
                      </a:lnTo>
                      <a:lnTo>
                        <a:pt x="615" y="0"/>
                      </a:lnTo>
                      <a:lnTo>
                        <a:pt x="603" y="13"/>
                      </a:lnTo>
                      <a:lnTo>
                        <a:pt x="611" y="60"/>
                      </a:lnTo>
                      <a:lnTo>
                        <a:pt x="592" y="59"/>
                      </a:lnTo>
                      <a:lnTo>
                        <a:pt x="589" y="37"/>
                      </a:lnTo>
                      <a:lnTo>
                        <a:pt x="301" y="54"/>
                      </a:lnTo>
                      <a:lnTo>
                        <a:pt x="281" y="21"/>
                      </a:lnTo>
                      <a:lnTo>
                        <a:pt x="2" y="46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6026760" y="3841920"/>
                  <a:ext cx="635760" cy="659160"/>
                </a:xfrm>
                <a:custGeom>
                  <a:avLst/>
                  <a:gdLst/>
                  <a:ahLst/>
                  <a:rect l="l" t="t" r="r" b="b"/>
                  <a:pathLst>
                    <a:path w="546" h="566">
                      <a:moveTo>
                        <a:pt x="0" y="31"/>
                      </a:moveTo>
                      <a:lnTo>
                        <a:pt x="72" y="293"/>
                      </a:lnTo>
                      <a:lnTo>
                        <a:pt x="99" y="336"/>
                      </a:lnTo>
                      <a:lnTo>
                        <a:pt x="108" y="370"/>
                      </a:lnTo>
                      <a:lnTo>
                        <a:pt x="97" y="392"/>
                      </a:lnTo>
                      <a:lnTo>
                        <a:pt x="93" y="427"/>
                      </a:lnTo>
                      <a:lnTo>
                        <a:pt x="117" y="526"/>
                      </a:lnTo>
                      <a:lnTo>
                        <a:pt x="137" y="559"/>
                      </a:lnTo>
                      <a:lnTo>
                        <a:pt x="425" y="542"/>
                      </a:lnTo>
                      <a:lnTo>
                        <a:pt x="428" y="564"/>
                      </a:lnTo>
                      <a:lnTo>
                        <a:pt x="447" y="565"/>
                      </a:lnTo>
                      <a:lnTo>
                        <a:pt x="439" y="518"/>
                      </a:lnTo>
                      <a:lnTo>
                        <a:pt x="451" y="505"/>
                      </a:lnTo>
                      <a:lnTo>
                        <a:pt x="493" y="513"/>
                      </a:lnTo>
                      <a:lnTo>
                        <a:pt x="500" y="480"/>
                      </a:lnTo>
                      <a:lnTo>
                        <a:pt x="493" y="477"/>
                      </a:lnTo>
                      <a:lnTo>
                        <a:pt x="503" y="469"/>
                      </a:lnTo>
                      <a:lnTo>
                        <a:pt x="488" y="461"/>
                      </a:lnTo>
                      <a:lnTo>
                        <a:pt x="496" y="450"/>
                      </a:lnTo>
                      <a:lnTo>
                        <a:pt x="494" y="435"/>
                      </a:lnTo>
                      <a:lnTo>
                        <a:pt x="513" y="422"/>
                      </a:lnTo>
                      <a:lnTo>
                        <a:pt x="507" y="406"/>
                      </a:lnTo>
                      <a:lnTo>
                        <a:pt x="515" y="400"/>
                      </a:lnTo>
                      <a:lnTo>
                        <a:pt x="520" y="385"/>
                      </a:lnTo>
                      <a:lnTo>
                        <a:pt x="513" y="380"/>
                      </a:lnTo>
                      <a:lnTo>
                        <a:pt x="527" y="370"/>
                      </a:lnTo>
                      <a:lnTo>
                        <a:pt x="519" y="359"/>
                      </a:lnTo>
                      <a:lnTo>
                        <a:pt x="532" y="359"/>
                      </a:lnTo>
                      <a:lnTo>
                        <a:pt x="545" y="342"/>
                      </a:lnTo>
                      <a:lnTo>
                        <a:pt x="539" y="336"/>
                      </a:lnTo>
                      <a:lnTo>
                        <a:pt x="521" y="334"/>
                      </a:lnTo>
                      <a:lnTo>
                        <a:pt x="508" y="317"/>
                      </a:lnTo>
                      <a:lnTo>
                        <a:pt x="487" y="279"/>
                      </a:lnTo>
                      <a:lnTo>
                        <a:pt x="474" y="274"/>
                      </a:lnTo>
                      <a:lnTo>
                        <a:pt x="450" y="223"/>
                      </a:lnTo>
                      <a:lnTo>
                        <a:pt x="415" y="201"/>
                      </a:lnTo>
                      <a:lnTo>
                        <a:pt x="390" y="166"/>
                      </a:lnTo>
                      <a:lnTo>
                        <a:pt x="330" y="121"/>
                      </a:lnTo>
                      <a:lnTo>
                        <a:pt x="299" y="81"/>
                      </a:lnTo>
                      <a:lnTo>
                        <a:pt x="234" y="40"/>
                      </a:lnTo>
                      <a:lnTo>
                        <a:pt x="254" y="0"/>
                      </a:lnTo>
                      <a:lnTo>
                        <a:pt x="131" y="14"/>
                      </a:lnTo>
                      <a:lnTo>
                        <a:pt x="0" y="31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5022360" y="4220640"/>
                  <a:ext cx="655920" cy="578880"/>
                </a:xfrm>
                <a:custGeom>
                  <a:avLst/>
                  <a:gdLst/>
                  <a:ahLst/>
                  <a:rect l="l" t="t" r="r" b="b"/>
                  <a:pathLst>
                    <a:path w="564" h="497">
                      <a:moveTo>
                        <a:pt x="0" y="5"/>
                      </a:moveTo>
                      <a:lnTo>
                        <a:pt x="6" y="137"/>
                      </a:lnTo>
                      <a:lnTo>
                        <a:pt x="22" y="154"/>
                      </a:lnTo>
                      <a:lnTo>
                        <a:pt x="27" y="188"/>
                      </a:lnTo>
                      <a:lnTo>
                        <a:pt x="58" y="235"/>
                      </a:lnTo>
                      <a:lnTo>
                        <a:pt x="56" y="275"/>
                      </a:lnTo>
                      <a:lnTo>
                        <a:pt x="39" y="313"/>
                      </a:lnTo>
                      <a:lnTo>
                        <a:pt x="39" y="334"/>
                      </a:lnTo>
                      <a:lnTo>
                        <a:pt x="45" y="356"/>
                      </a:lnTo>
                      <a:lnTo>
                        <a:pt x="43" y="378"/>
                      </a:lnTo>
                      <a:lnTo>
                        <a:pt x="33" y="391"/>
                      </a:lnTo>
                      <a:lnTo>
                        <a:pt x="19" y="409"/>
                      </a:lnTo>
                      <a:lnTo>
                        <a:pt x="28" y="420"/>
                      </a:lnTo>
                      <a:lnTo>
                        <a:pt x="104" y="410"/>
                      </a:lnTo>
                      <a:lnTo>
                        <a:pt x="164" y="435"/>
                      </a:lnTo>
                      <a:lnTo>
                        <a:pt x="223" y="432"/>
                      </a:lnTo>
                      <a:lnTo>
                        <a:pt x="216" y="415"/>
                      </a:lnTo>
                      <a:lnTo>
                        <a:pt x="235" y="400"/>
                      </a:lnTo>
                      <a:lnTo>
                        <a:pt x="276" y="409"/>
                      </a:lnTo>
                      <a:lnTo>
                        <a:pt x="282" y="438"/>
                      </a:lnTo>
                      <a:lnTo>
                        <a:pt x="294" y="434"/>
                      </a:lnTo>
                      <a:lnTo>
                        <a:pt x="311" y="441"/>
                      </a:lnTo>
                      <a:lnTo>
                        <a:pt x="328" y="458"/>
                      </a:lnTo>
                      <a:lnTo>
                        <a:pt x="332" y="475"/>
                      </a:lnTo>
                      <a:lnTo>
                        <a:pt x="350" y="477"/>
                      </a:lnTo>
                      <a:lnTo>
                        <a:pt x="366" y="488"/>
                      </a:lnTo>
                      <a:lnTo>
                        <a:pt x="379" y="483"/>
                      </a:lnTo>
                      <a:lnTo>
                        <a:pt x="392" y="469"/>
                      </a:lnTo>
                      <a:lnTo>
                        <a:pt x="390" y="458"/>
                      </a:lnTo>
                      <a:lnTo>
                        <a:pt x="407" y="473"/>
                      </a:lnTo>
                      <a:lnTo>
                        <a:pt x="416" y="460"/>
                      </a:lnTo>
                      <a:lnTo>
                        <a:pt x="428" y="485"/>
                      </a:lnTo>
                      <a:lnTo>
                        <a:pt x="447" y="473"/>
                      </a:lnTo>
                      <a:lnTo>
                        <a:pt x="453" y="466"/>
                      </a:lnTo>
                      <a:lnTo>
                        <a:pt x="447" y="458"/>
                      </a:lnTo>
                      <a:lnTo>
                        <a:pt x="448" y="436"/>
                      </a:lnTo>
                      <a:lnTo>
                        <a:pt x="453" y="436"/>
                      </a:lnTo>
                      <a:lnTo>
                        <a:pt x="469" y="438"/>
                      </a:lnTo>
                      <a:lnTo>
                        <a:pt x="473" y="453"/>
                      </a:lnTo>
                      <a:lnTo>
                        <a:pt x="492" y="452"/>
                      </a:lnTo>
                      <a:lnTo>
                        <a:pt x="507" y="462"/>
                      </a:lnTo>
                      <a:lnTo>
                        <a:pt x="510" y="460"/>
                      </a:lnTo>
                      <a:lnTo>
                        <a:pt x="516" y="471"/>
                      </a:lnTo>
                      <a:lnTo>
                        <a:pt x="528" y="478"/>
                      </a:lnTo>
                      <a:lnTo>
                        <a:pt x="522" y="496"/>
                      </a:lnTo>
                      <a:lnTo>
                        <a:pt x="538" y="479"/>
                      </a:lnTo>
                      <a:lnTo>
                        <a:pt x="549" y="490"/>
                      </a:lnTo>
                      <a:lnTo>
                        <a:pt x="549" y="477"/>
                      </a:lnTo>
                      <a:lnTo>
                        <a:pt x="563" y="473"/>
                      </a:lnTo>
                      <a:lnTo>
                        <a:pt x="563" y="464"/>
                      </a:lnTo>
                      <a:lnTo>
                        <a:pt x="548" y="462"/>
                      </a:lnTo>
                      <a:lnTo>
                        <a:pt x="540" y="453"/>
                      </a:lnTo>
                      <a:lnTo>
                        <a:pt x="527" y="455"/>
                      </a:lnTo>
                      <a:lnTo>
                        <a:pt x="521" y="442"/>
                      </a:lnTo>
                      <a:lnTo>
                        <a:pt x="507" y="442"/>
                      </a:lnTo>
                      <a:lnTo>
                        <a:pt x="493" y="417"/>
                      </a:lnTo>
                      <a:lnTo>
                        <a:pt x="501" y="411"/>
                      </a:lnTo>
                      <a:lnTo>
                        <a:pt x="513" y="405"/>
                      </a:lnTo>
                      <a:lnTo>
                        <a:pt x="515" y="391"/>
                      </a:lnTo>
                      <a:lnTo>
                        <a:pt x="525" y="390"/>
                      </a:lnTo>
                      <a:lnTo>
                        <a:pt x="540" y="376"/>
                      </a:lnTo>
                      <a:lnTo>
                        <a:pt x="535" y="371"/>
                      </a:lnTo>
                      <a:lnTo>
                        <a:pt x="535" y="346"/>
                      </a:lnTo>
                      <a:lnTo>
                        <a:pt x="519" y="358"/>
                      </a:lnTo>
                      <a:lnTo>
                        <a:pt x="502" y="361"/>
                      </a:lnTo>
                      <a:lnTo>
                        <a:pt x="489" y="383"/>
                      </a:lnTo>
                      <a:lnTo>
                        <a:pt x="465" y="371"/>
                      </a:lnTo>
                      <a:lnTo>
                        <a:pt x="469" y="363"/>
                      </a:lnTo>
                      <a:lnTo>
                        <a:pt x="479" y="359"/>
                      </a:lnTo>
                      <a:lnTo>
                        <a:pt x="480" y="363"/>
                      </a:lnTo>
                      <a:lnTo>
                        <a:pt x="486" y="350"/>
                      </a:lnTo>
                      <a:lnTo>
                        <a:pt x="477" y="354"/>
                      </a:lnTo>
                      <a:lnTo>
                        <a:pt x="473" y="348"/>
                      </a:lnTo>
                      <a:lnTo>
                        <a:pt x="471" y="355"/>
                      </a:lnTo>
                      <a:lnTo>
                        <a:pt x="460" y="350"/>
                      </a:lnTo>
                      <a:lnTo>
                        <a:pt x="450" y="363"/>
                      </a:lnTo>
                      <a:lnTo>
                        <a:pt x="434" y="367"/>
                      </a:lnTo>
                      <a:lnTo>
                        <a:pt x="401" y="359"/>
                      </a:lnTo>
                      <a:lnTo>
                        <a:pt x="400" y="351"/>
                      </a:lnTo>
                      <a:lnTo>
                        <a:pt x="419" y="323"/>
                      </a:lnTo>
                      <a:lnTo>
                        <a:pt x="437" y="324"/>
                      </a:lnTo>
                      <a:lnTo>
                        <a:pt x="449" y="336"/>
                      </a:lnTo>
                      <a:lnTo>
                        <a:pt x="497" y="345"/>
                      </a:lnTo>
                      <a:lnTo>
                        <a:pt x="462" y="285"/>
                      </a:lnTo>
                      <a:lnTo>
                        <a:pt x="469" y="243"/>
                      </a:lnTo>
                      <a:lnTo>
                        <a:pt x="266" y="251"/>
                      </a:lnTo>
                      <a:lnTo>
                        <a:pt x="267" y="228"/>
                      </a:lnTo>
                      <a:lnTo>
                        <a:pt x="290" y="158"/>
                      </a:lnTo>
                      <a:lnTo>
                        <a:pt x="325" y="112"/>
                      </a:lnTo>
                      <a:lnTo>
                        <a:pt x="314" y="98"/>
                      </a:lnTo>
                      <a:lnTo>
                        <a:pt x="318" y="53"/>
                      </a:lnTo>
                      <a:lnTo>
                        <a:pt x="300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331240" y="3904920"/>
                  <a:ext cx="415800" cy="718920"/>
                </a:xfrm>
                <a:custGeom>
                  <a:avLst/>
                  <a:gdLst/>
                  <a:ahLst/>
                  <a:rect l="l" t="t" r="r" b="b"/>
                  <a:pathLst>
                    <a:path w="357" h="617">
                      <a:moveTo>
                        <a:pt x="0" y="522"/>
                      </a:moveTo>
                      <a:lnTo>
                        <a:pt x="1" y="499"/>
                      </a:lnTo>
                      <a:lnTo>
                        <a:pt x="24" y="429"/>
                      </a:lnTo>
                      <a:lnTo>
                        <a:pt x="59" y="383"/>
                      </a:lnTo>
                      <a:lnTo>
                        <a:pt x="48" y="369"/>
                      </a:lnTo>
                      <a:lnTo>
                        <a:pt x="52" y="324"/>
                      </a:lnTo>
                      <a:lnTo>
                        <a:pt x="34" y="271"/>
                      </a:lnTo>
                      <a:lnTo>
                        <a:pt x="28" y="202"/>
                      </a:lnTo>
                      <a:lnTo>
                        <a:pt x="54" y="128"/>
                      </a:lnTo>
                      <a:lnTo>
                        <a:pt x="91" y="74"/>
                      </a:lnTo>
                      <a:lnTo>
                        <a:pt x="89" y="60"/>
                      </a:lnTo>
                      <a:lnTo>
                        <a:pt x="118" y="13"/>
                      </a:lnTo>
                      <a:lnTo>
                        <a:pt x="332" y="0"/>
                      </a:lnTo>
                      <a:lnTo>
                        <a:pt x="341" y="11"/>
                      </a:lnTo>
                      <a:lnTo>
                        <a:pt x="332" y="394"/>
                      </a:lnTo>
                      <a:lnTo>
                        <a:pt x="356" y="579"/>
                      </a:lnTo>
                      <a:lnTo>
                        <a:pt x="345" y="587"/>
                      </a:lnTo>
                      <a:lnTo>
                        <a:pt x="333" y="579"/>
                      </a:lnTo>
                      <a:lnTo>
                        <a:pt x="316" y="587"/>
                      </a:lnTo>
                      <a:lnTo>
                        <a:pt x="301" y="577"/>
                      </a:lnTo>
                      <a:lnTo>
                        <a:pt x="300" y="583"/>
                      </a:lnTo>
                      <a:lnTo>
                        <a:pt x="283" y="586"/>
                      </a:lnTo>
                      <a:lnTo>
                        <a:pt x="260" y="596"/>
                      </a:lnTo>
                      <a:lnTo>
                        <a:pt x="253" y="591"/>
                      </a:lnTo>
                      <a:lnTo>
                        <a:pt x="242" y="611"/>
                      </a:lnTo>
                      <a:lnTo>
                        <a:pt x="231" y="616"/>
                      </a:lnTo>
                      <a:lnTo>
                        <a:pt x="196" y="556"/>
                      </a:lnTo>
                      <a:lnTo>
                        <a:pt x="203" y="514"/>
                      </a:lnTo>
                      <a:lnTo>
                        <a:pt x="0" y="52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3147120" y="3529440"/>
                  <a:ext cx="822240" cy="839880"/>
                </a:xfrm>
                <a:custGeom>
                  <a:avLst/>
                  <a:gdLst/>
                  <a:ahLst/>
                  <a:rect l="l" t="t" r="r" b="b"/>
                  <a:pathLst>
                    <a:path w="706" h="721">
                      <a:moveTo>
                        <a:pt x="0" y="708"/>
                      </a:moveTo>
                      <a:lnTo>
                        <a:pt x="88" y="720"/>
                      </a:lnTo>
                      <a:lnTo>
                        <a:pt x="97" y="665"/>
                      </a:lnTo>
                      <a:lnTo>
                        <a:pt x="275" y="689"/>
                      </a:lnTo>
                      <a:lnTo>
                        <a:pt x="267" y="663"/>
                      </a:lnTo>
                      <a:lnTo>
                        <a:pt x="295" y="664"/>
                      </a:lnTo>
                      <a:lnTo>
                        <a:pt x="648" y="699"/>
                      </a:lnTo>
                      <a:lnTo>
                        <a:pt x="700" y="132"/>
                      </a:lnTo>
                      <a:lnTo>
                        <a:pt x="705" y="65"/>
                      </a:lnTo>
                      <a:lnTo>
                        <a:pt x="405" y="39"/>
                      </a:lnTo>
                      <a:lnTo>
                        <a:pt x="104" y="0"/>
                      </a:lnTo>
                      <a:lnTo>
                        <a:pt x="0" y="708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6179400" y="3475800"/>
                  <a:ext cx="998280" cy="446040"/>
                </a:xfrm>
                <a:custGeom>
                  <a:avLst/>
                  <a:gdLst/>
                  <a:ahLst/>
                  <a:rect l="l" t="t" r="r" b="b"/>
                  <a:pathLst>
                    <a:path w="857" h="383">
                      <a:moveTo>
                        <a:pt x="0" y="300"/>
                      </a:moveTo>
                      <a:lnTo>
                        <a:pt x="0" y="328"/>
                      </a:lnTo>
                      <a:lnTo>
                        <a:pt x="123" y="314"/>
                      </a:lnTo>
                      <a:lnTo>
                        <a:pt x="196" y="277"/>
                      </a:lnTo>
                      <a:lnTo>
                        <a:pt x="333" y="262"/>
                      </a:lnTo>
                      <a:lnTo>
                        <a:pt x="389" y="298"/>
                      </a:lnTo>
                      <a:lnTo>
                        <a:pt x="478" y="285"/>
                      </a:lnTo>
                      <a:lnTo>
                        <a:pt x="612" y="382"/>
                      </a:lnTo>
                      <a:lnTo>
                        <a:pt x="630" y="370"/>
                      </a:lnTo>
                      <a:lnTo>
                        <a:pt x="664" y="369"/>
                      </a:lnTo>
                      <a:lnTo>
                        <a:pt x="671" y="343"/>
                      </a:lnTo>
                      <a:lnTo>
                        <a:pt x="677" y="357"/>
                      </a:lnTo>
                      <a:lnTo>
                        <a:pt x="687" y="313"/>
                      </a:lnTo>
                      <a:lnTo>
                        <a:pt x="704" y="289"/>
                      </a:lnTo>
                      <a:lnTo>
                        <a:pt x="721" y="277"/>
                      </a:lnTo>
                      <a:lnTo>
                        <a:pt x="712" y="271"/>
                      </a:lnTo>
                      <a:lnTo>
                        <a:pt x="714" y="262"/>
                      </a:lnTo>
                      <a:lnTo>
                        <a:pt x="707" y="251"/>
                      </a:lnTo>
                      <a:lnTo>
                        <a:pt x="719" y="263"/>
                      </a:lnTo>
                      <a:lnTo>
                        <a:pt x="716" y="267"/>
                      </a:lnTo>
                      <a:lnTo>
                        <a:pt x="725" y="272"/>
                      </a:lnTo>
                      <a:lnTo>
                        <a:pt x="735" y="261"/>
                      </a:lnTo>
                      <a:lnTo>
                        <a:pt x="740" y="259"/>
                      </a:lnTo>
                      <a:lnTo>
                        <a:pt x="735" y="243"/>
                      </a:lnTo>
                      <a:lnTo>
                        <a:pt x="740" y="241"/>
                      </a:lnTo>
                      <a:lnTo>
                        <a:pt x="746" y="252"/>
                      </a:lnTo>
                      <a:lnTo>
                        <a:pt x="775" y="237"/>
                      </a:lnTo>
                      <a:lnTo>
                        <a:pt x="801" y="237"/>
                      </a:lnTo>
                      <a:lnTo>
                        <a:pt x="818" y="204"/>
                      </a:lnTo>
                      <a:lnTo>
                        <a:pt x="811" y="196"/>
                      </a:lnTo>
                      <a:lnTo>
                        <a:pt x="802" y="206"/>
                      </a:lnTo>
                      <a:lnTo>
                        <a:pt x="799" y="192"/>
                      </a:lnTo>
                      <a:lnTo>
                        <a:pt x="787" y="202"/>
                      </a:lnTo>
                      <a:lnTo>
                        <a:pt x="792" y="212"/>
                      </a:lnTo>
                      <a:lnTo>
                        <a:pt x="782" y="206"/>
                      </a:lnTo>
                      <a:lnTo>
                        <a:pt x="781" y="217"/>
                      </a:lnTo>
                      <a:lnTo>
                        <a:pt x="753" y="215"/>
                      </a:lnTo>
                      <a:lnTo>
                        <a:pt x="734" y="201"/>
                      </a:lnTo>
                      <a:lnTo>
                        <a:pt x="735" y="193"/>
                      </a:lnTo>
                      <a:lnTo>
                        <a:pt x="765" y="211"/>
                      </a:lnTo>
                      <a:lnTo>
                        <a:pt x="787" y="184"/>
                      </a:lnTo>
                      <a:lnTo>
                        <a:pt x="775" y="182"/>
                      </a:lnTo>
                      <a:lnTo>
                        <a:pt x="789" y="163"/>
                      </a:lnTo>
                      <a:lnTo>
                        <a:pt x="775" y="168"/>
                      </a:lnTo>
                      <a:lnTo>
                        <a:pt x="729" y="151"/>
                      </a:lnTo>
                      <a:lnTo>
                        <a:pt x="752" y="147"/>
                      </a:lnTo>
                      <a:lnTo>
                        <a:pt x="774" y="155"/>
                      </a:lnTo>
                      <a:lnTo>
                        <a:pt x="775" y="150"/>
                      </a:lnTo>
                      <a:lnTo>
                        <a:pt x="765" y="138"/>
                      </a:lnTo>
                      <a:lnTo>
                        <a:pt x="773" y="138"/>
                      </a:lnTo>
                      <a:lnTo>
                        <a:pt x="786" y="131"/>
                      </a:lnTo>
                      <a:lnTo>
                        <a:pt x="779" y="142"/>
                      </a:lnTo>
                      <a:lnTo>
                        <a:pt x="784" y="154"/>
                      </a:lnTo>
                      <a:lnTo>
                        <a:pt x="794" y="144"/>
                      </a:lnTo>
                      <a:lnTo>
                        <a:pt x="800" y="155"/>
                      </a:lnTo>
                      <a:lnTo>
                        <a:pt x="810" y="154"/>
                      </a:lnTo>
                      <a:lnTo>
                        <a:pt x="822" y="153"/>
                      </a:lnTo>
                      <a:lnTo>
                        <a:pt x="834" y="138"/>
                      </a:lnTo>
                      <a:lnTo>
                        <a:pt x="842" y="114"/>
                      </a:lnTo>
                      <a:lnTo>
                        <a:pt x="856" y="111"/>
                      </a:lnTo>
                      <a:lnTo>
                        <a:pt x="856" y="98"/>
                      </a:lnTo>
                      <a:lnTo>
                        <a:pt x="846" y="77"/>
                      </a:lnTo>
                      <a:lnTo>
                        <a:pt x="833" y="77"/>
                      </a:lnTo>
                      <a:lnTo>
                        <a:pt x="821" y="111"/>
                      </a:lnTo>
                      <a:lnTo>
                        <a:pt x="814" y="94"/>
                      </a:lnTo>
                      <a:lnTo>
                        <a:pt x="811" y="71"/>
                      </a:lnTo>
                      <a:lnTo>
                        <a:pt x="785" y="84"/>
                      </a:lnTo>
                      <a:lnTo>
                        <a:pt x="748" y="91"/>
                      </a:lnTo>
                      <a:lnTo>
                        <a:pt x="753" y="75"/>
                      </a:lnTo>
                      <a:lnTo>
                        <a:pt x="771" y="65"/>
                      </a:lnTo>
                      <a:lnTo>
                        <a:pt x="809" y="50"/>
                      </a:lnTo>
                      <a:lnTo>
                        <a:pt x="796" y="33"/>
                      </a:lnTo>
                      <a:lnTo>
                        <a:pt x="822" y="45"/>
                      </a:lnTo>
                      <a:lnTo>
                        <a:pt x="813" y="29"/>
                      </a:lnTo>
                      <a:lnTo>
                        <a:pt x="837" y="50"/>
                      </a:lnTo>
                      <a:lnTo>
                        <a:pt x="819" y="14"/>
                      </a:lnTo>
                      <a:lnTo>
                        <a:pt x="801" y="0"/>
                      </a:lnTo>
                      <a:lnTo>
                        <a:pt x="495" y="58"/>
                      </a:lnTo>
                      <a:lnTo>
                        <a:pt x="244" y="91"/>
                      </a:lnTo>
                      <a:lnTo>
                        <a:pt x="240" y="120"/>
                      </a:lnTo>
                      <a:lnTo>
                        <a:pt x="226" y="129"/>
                      </a:lnTo>
                      <a:lnTo>
                        <a:pt x="209" y="160"/>
                      </a:lnTo>
                      <a:lnTo>
                        <a:pt x="194" y="157"/>
                      </a:lnTo>
                      <a:lnTo>
                        <a:pt x="180" y="166"/>
                      </a:lnTo>
                      <a:lnTo>
                        <a:pt x="168" y="182"/>
                      </a:lnTo>
                      <a:lnTo>
                        <a:pt x="154" y="172"/>
                      </a:lnTo>
                      <a:lnTo>
                        <a:pt x="131" y="192"/>
                      </a:lnTo>
                      <a:lnTo>
                        <a:pt x="128" y="208"/>
                      </a:lnTo>
                      <a:lnTo>
                        <a:pt x="31" y="265"/>
                      </a:lnTo>
                      <a:lnTo>
                        <a:pt x="25" y="288"/>
                      </a:lnTo>
                      <a:lnTo>
                        <a:pt x="0" y="30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962160" y="3605400"/>
                  <a:ext cx="1010160" cy="528840"/>
                </a:xfrm>
                <a:custGeom>
                  <a:avLst/>
                  <a:gdLst/>
                  <a:ahLst/>
                  <a:rect l="l" t="t" r="r" b="b"/>
                  <a:pathLst>
                    <a:path w="867" h="454">
                      <a:moveTo>
                        <a:pt x="0" y="67"/>
                      </a:moveTo>
                      <a:lnTo>
                        <a:pt x="5" y="0"/>
                      </a:lnTo>
                      <a:lnTo>
                        <a:pt x="101" y="8"/>
                      </a:lnTo>
                      <a:lnTo>
                        <a:pt x="526" y="29"/>
                      </a:lnTo>
                      <a:lnTo>
                        <a:pt x="843" y="27"/>
                      </a:lnTo>
                      <a:lnTo>
                        <a:pt x="845" y="93"/>
                      </a:lnTo>
                      <a:lnTo>
                        <a:pt x="866" y="233"/>
                      </a:lnTo>
                      <a:lnTo>
                        <a:pt x="862" y="453"/>
                      </a:lnTo>
                      <a:lnTo>
                        <a:pt x="835" y="444"/>
                      </a:lnTo>
                      <a:lnTo>
                        <a:pt x="792" y="414"/>
                      </a:lnTo>
                      <a:lnTo>
                        <a:pt x="775" y="423"/>
                      </a:lnTo>
                      <a:lnTo>
                        <a:pt x="719" y="427"/>
                      </a:lnTo>
                      <a:lnTo>
                        <a:pt x="663" y="446"/>
                      </a:lnTo>
                      <a:lnTo>
                        <a:pt x="642" y="425"/>
                      </a:lnTo>
                      <a:lnTo>
                        <a:pt x="614" y="430"/>
                      </a:lnTo>
                      <a:lnTo>
                        <a:pt x="609" y="415"/>
                      </a:lnTo>
                      <a:lnTo>
                        <a:pt x="588" y="429"/>
                      </a:lnTo>
                      <a:lnTo>
                        <a:pt x="585" y="446"/>
                      </a:lnTo>
                      <a:lnTo>
                        <a:pt x="579" y="423"/>
                      </a:lnTo>
                      <a:lnTo>
                        <a:pt x="559" y="436"/>
                      </a:lnTo>
                      <a:lnTo>
                        <a:pt x="527" y="411"/>
                      </a:lnTo>
                      <a:lnTo>
                        <a:pt x="510" y="429"/>
                      </a:lnTo>
                      <a:lnTo>
                        <a:pt x="499" y="419"/>
                      </a:lnTo>
                      <a:lnTo>
                        <a:pt x="484" y="388"/>
                      </a:lnTo>
                      <a:lnTo>
                        <a:pt x="456" y="386"/>
                      </a:lnTo>
                      <a:lnTo>
                        <a:pt x="452" y="395"/>
                      </a:lnTo>
                      <a:lnTo>
                        <a:pt x="434" y="384"/>
                      </a:lnTo>
                      <a:lnTo>
                        <a:pt x="419" y="388"/>
                      </a:lnTo>
                      <a:lnTo>
                        <a:pt x="398" y="379"/>
                      </a:lnTo>
                      <a:lnTo>
                        <a:pt x="372" y="376"/>
                      </a:lnTo>
                      <a:lnTo>
                        <a:pt x="373" y="360"/>
                      </a:lnTo>
                      <a:lnTo>
                        <a:pt x="358" y="345"/>
                      </a:lnTo>
                      <a:lnTo>
                        <a:pt x="351" y="355"/>
                      </a:lnTo>
                      <a:lnTo>
                        <a:pt x="322" y="354"/>
                      </a:lnTo>
                      <a:lnTo>
                        <a:pt x="293" y="329"/>
                      </a:lnTo>
                      <a:lnTo>
                        <a:pt x="302" y="85"/>
                      </a:lnTo>
                      <a:lnTo>
                        <a:pt x="0" y="67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6299280" y="3781440"/>
                  <a:ext cx="594000" cy="452880"/>
                </a:xfrm>
                <a:custGeom>
                  <a:avLst/>
                  <a:gdLst/>
                  <a:ahLst/>
                  <a:rect l="l" t="t" r="r" b="b"/>
                  <a:pathLst>
                    <a:path w="510" h="389">
                      <a:moveTo>
                        <a:pt x="0" y="92"/>
                      </a:moveTo>
                      <a:lnTo>
                        <a:pt x="20" y="52"/>
                      </a:lnTo>
                      <a:lnTo>
                        <a:pt x="93" y="15"/>
                      </a:lnTo>
                      <a:lnTo>
                        <a:pt x="230" y="0"/>
                      </a:lnTo>
                      <a:lnTo>
                        <a:pt x="286" y="36"/>
                      </a:lnTo>
                      <a:lnTo>
                        <a:pt x="375" y="23"/>
                      </a:lnTo>
                      <a:lnTo>
                        <a:pt x="509" y="120"/>
                      </a:lnTo>
                      <a:lnTo>
                        <a:pt x="470" y="165"/>
                      </a:lnTo>
                      <a:lnTo>
                        <a:pt x="450" y="194"/>
                      </a:lnTo>
                      <a:lnTo>
                        <a:pt x="452" y="226"/>
                      </a:lnTo>
                      <a:lnTo>
                        <a:pt x="417" y="255"/>
                      </a:lnTo>
                      <a:lnTo>
                        <a:pt x="390" y="298"/>
                      </a:lnTo>
                      <a:lnTo>
                        <a:pt x="352" y="321"/>
                      </a:lnTo>
                      <a:lnTo>
                        <a:pt x="334" y="325"/>
                      </a:lnTo>
                      <a:lnTo>
                        <a:pt x="326" y="352"/>
                      </a:lnTo>
                      <a:lnTo>
                        <a:pt x="304" y="337"/>
                      </a:lnTo>
                      <a:lnTo>
                        <a:pt x="324" y="363"/>
                      </a:lnTo>
                      <a:lnTo>
                        <a:pt x="305" y="388"/>
                      </a:lnTo>
                      <a:lnTo>
                        <a:pt x="287" y="386"/>
                      </a:lnTo>
                      <a:lnTo>
                        <a:pt x="274" y="369"/>
                      </a:lnTo>
                      <a:lnTo>
                        <a:pt x="253" y="331"/>
                      </a:lnTo>
                      <a:lnTo>
                        <a:pt x="240" y="326"/>
                      </a:lnTo>
                      <a:lnTo>
                        <a:pt x="216" y="275"/>
                      </a:lnTo>
                      <a:lnTo>
                        <a:pt x="181" y="253"/>
                      </a:lnTo>
                      <a:lnTo>
                        <a:pt x="156" y="218"/>
                      </a:lnTo>
                      <a:lnTo>
                        <a:pt x="96" y="173"/>
                      </a:lnTo>
                      <a:lnTo>
                        <a:pt x="65" y="133"/>
                      </a:lnTo>
                      <a:lnTo>
                        <a:pt x="0" y="92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5468760" y="3582000"/>
                  <a:ext cx="996120" cy="338760"/>
                </a:xfrm>
                <a:custGeom>
                  <a:avLst/>
                  <a:gdLst/>
                  <a:ahLst/>
                  <a:rect l="l" t="t" r="r" b="b"/>
                  <a:pathLst>
                    <a:path w="855" h="291">
                      <a:moveTo>
                        <a:pt x="0" y="290"/>
                      </a:moveTo>
                      <a:lnTo>
                        <a:pt x="14" y="239"/>
                      </a:lnTo>
                      <a:lnTo>
                        <a:pt x="8" y="234"/>
                      </a:lnTo>
                      <a:lnTo>
                        <a:pt x="33" y="214"/>
                      </a:lnTo>
                      <a:lnTo>
                        <a:pt x="57" y="169"/>
                      </a:lnTo>
                      <a:lnTo>
                        <a:pt x="50" y="159"/>
                      </a:lnTo>
                      <a:lnTo>
                        <a:pt x="60" y="137"/>
                      </a:lnTo>
                      <a:lnTo>
                        <a:pt x="63" y="113"/>
                      </a:lnTo>
                      <a:lnTo>
                        <a:pt x="77" y="94"/>
                      </a:lnTo>
                      <a:lnTo>
                        <a:pt x="212" y="85"/>
                      </a:lnTo>
                      <a:lnTo>
                        <a:pt x="211" y="63"/>
                      </a:lnTo>
                      <a:lnTo>
                        <a:pt x="252" y="64"/>
                      </a:lnTo>
                      <a:lnTo>
                        <a:pt x="654" y="27"/>
                      </a:lnTo>
                      <a:lnTo>
                        <a:pt x="854" y="0"/>
                      </a:lnTo>
                      <a:lnTo>
                        <a:pt x="850" y="29"/>
                      </a:lnTo>
                      <a:lnTo>
                        <a:pt x="836" y="38"/>
                      </a:lnTo>
                      <a:lnTo>
                        <a:pt x="819" y="69"/>
                      </a:lnTo>
                      <a:lnTo>
                        <a:pt x="804" y="66"/>
                      </a:lnTo>
                      <a:lnTo>
                        <a:pt x="790" y="75"/>
                      </a:lnTo>
                      <a:lnTo>
                        <a:pt x="778" y="91"/>
                      </a:lnTo>
                      <a:lnTo>
                        <a:pt x="764" y="81"/>
                      </a:lnTo>
                      <a:lnTo>
                        <a:pt x="741" y="101"/>
                      </a:lnTo>
                      <a:lnTo>
                        <a:pt x="738" y="117"/>
                      </a:lnTo>
                      <a:lnTo>
                        <a:pt x="641" y="174"/>
                      </a:lnTo>
                      <a:lnTo>
                        <a:pt x="635" y="197"/>
                      </a:lnTo>
                      <a:lnTo>
                        <a:pt x="610" y="209"/>
                      </a:lnTo>
                      <a:lnTo>
                        <a:pt x="610" y="237"/>
                      </a:lnTo>
                      <a:lnTo>
                        <a:pt x="479" y="254"/>
                      </a:lnTo>
                      <a:lnTo>
                        <a:pt x="214" y="277"/>
                      </a:lnTo>
                      <a:lnTo>
                        <a:pt x="0" y="29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3457800" y="3683520"/>
                  <a:ext cx="1633320" cy="1580040"/>
                </a:xfrm>
                <a:custGeom>
                  <a:avLst/>
                  <a:gdLst/>
                  <a:ahLst/>
                  <a:rect l="l" t="t" r="r" b="b"/>
                  <a:pathLst>
                    <a:path w="1402" h="1356">
                      <a:moveTo>
                        <a:pt x="8" y="557"/>
                      </a:moveTo>
                      <a:lnTo>
                        <a:pt x="0" y="531"/>
                      </a:lnTo>
                      <a:lnTo>
                        <a:pt x="28" y="532"/>
                      </a:lnTo>
                      <a:lnTo>
                        <a:pt x="381" y="567"/>
                      </a:lnTo>
                      <a:lnTo>
                        <a:pt x="433" y="0"/>
                      </a:lnTo>
                      <a:lnTo>
                        <a:pt x="735" y="18"/>
                      </a:lnTo>
                      <a:lnTo>
                        <a:pt x="726" y="262"/>
                      </a:lnTo>
                      <a:lnTo>
                        <a:pt x="755" y="287"/>
                      </a:lnTo>
                      <a:lnTo>
                        <a:pt x="784" y="288"/>
                      </a:lnTo>
                      <a:lnTo>
                        <a:pt x="791" y="278"/>
                      </a:lnTo>
                      <a:lnTo>
                        <a:pt x="806" y="293"/>
                      </a:lnTo>
                      <a:lnTo>
                        <a:pt x="805" y="309"/>
                      </a:lnTo>
                      <a:lnTo>
                        <a:pt x="831" y="312"/>
                      </a:lnTo>
                      <a:lnTo>
                        <a:pt x="852" y="321"/>
                      </a:lnTo>
                      <a:lnTo>
                        <a:pt x="867" y="317"/>
                      </a:lnTo>
                      <a:lnTo>
                        <a:pt x="885" y="328"/>
                      </a:lnTo>
                      <a:lnTo>
                        <a:pt x="889" y="319"/>
                      </a:lnTo>
                      <a:lnTo>
                        <a:pt x="917" y="321"/>
                      </a:lnTo>
                      <a:lnTo>
                        <a:pt x="932" y="352"/>
                      </a:lnTo>
                      <a:lnTo>
                        <a:pt x="943" y="362"/>
                      </a:lnTo>
                      <a:lnTo>
                        <a:pt x="960" y="344"/>
                      </a:lnTo>
                      <a:lnTo>
                        <a:pt x="992" y="369"/>
                      </a:lnTo>
                      <a:lnTo>
                        <a:pt x="1012" y="356"/>
                      </a:lnTo>
                      <a:lnTo>
                        <a:pt x="1018" y="379"/>
                      </a:lnTo>
                      <a:lnTo>
                        <a:pt x="1021" y="362"/>
                      </a:lnTo>
                      <a:lnTo>
                        <a:pt x="1042" y="348"/>
                      </a:lnTo>
                      <a:lnTo>
                        <a:pt x="1047" y="363"/>
                      </a:lnTo>
                      <a:lnTo>
                        <a:pt x="1075" y="358"/>
                      </a:lnTo>
                      <a:lnTo>
                        <a:pt x="1096" y="379"/>
                      </a:lnTo>
                      <a:lnTo>
                        <a:pt x="1152" y="360"/>
                      </a:lnTo>
                      <a:lnTo>
                        <a:pt x="1208" y="356"/>
                      </a:lnTo>
                      <a:lnTo>
                        <a:pt x="1225" y="347"/>
                      </a:lnTo>
                      <a:lnTo>
                        <a:pt x="1268" y="377"/>
                      </a:lnTo>
                      <a:lnTo>
                        <a:pt x="1295" y="386"/>
                      </a:lnTo>
                      <a:lnTo>
                        <a:pt x="1305" y="398"/>
                      </a:lnTo>
                      <a:lnTo>
                        <a:pt x="1342" y="398"/>
                      </a:lnTo>
                      <a:lnTo>
                        <a:pt x="1343" y="466"/>
                      </a:lnTo>
                      <a:lnTo>
                        <a:pt x="1349" y="598"/>
                      </a:lnTo>
                      <a:lnTo>
                        <a:pt x="1365" y="615"/>
                      </a:lnTo>
                      <a:lnTo>
                        <a:pt x="1370" y="649"/>
                      </a:lnTo>
                      <a:lnTo>
                        <a:pt x="1401" y="696"/>
                      </a:lnTo>
                      <a:lnTo>
                        <a:pt x="1399" y="736"/>
                      </a:lnTo>
                      <a:lnTo>
                        <a:pt x="1382" y="774"/>
                      </a:lnTo>
                      <a:lnTo>
                        <a:pt x="1382" y="795"/>
                      </a:lnTo>
                      <a:lnTo>
                        <a:pt x="1388" y="817"/>
                      </a:lnTo>
                      <a:lnTo>
                        <a:pt x="1386" y="839"/>
                      </a:lnTo>
                      <a:lnTo>
                        <a:pt x="1376" y="852"/>
                      </a:lnTo>
                      <a:lnTo>
                        <a:pt x="1362" y="870"/>
                      </a:lnTo>
                      <a:lnTo>
                        <a:pt x="1371" y="881"/>
                      </a:lnTo>
                      <a:lnTo>
                        <a:pt x="1315" y="899"/>
                      </a:lnTo>
                      <a:lnTo>
                        <a:pt x="1270" y="925"/>
                      </a:lnTo>
                      <a:lnTo>
                        <a:pt x="1297" y="903"/>
                      </a:lnTo>
                      <a:lnTo>
                        <a:pt x="1268" y="903"/>
                      </a:lnTo>
                      <a:lnTo>
                        <a:pt x="1276" y="869"/>
                      </a:lnTo>
                      <a:lnTo>
                        <a:pt x="1252" y="889"/>
                      </a:lnTo>
                      <a:lnTo>
                        <a:pt x="1241" y="882"/>
                      </a:lnTo>
                      <a:lnTo>
                        <a:pt x="1242" y="905"/>
                      </a:lnTo>
                      <a:lnTo>
                        <a:pt x="1251" y="909"/>
                      </a:lnTo>
                      <a:lnTo>
                        <a:pt x="1253" y="930"/>
                      </a:lnTo>
                      <a:lnTo>
                        <a:pt x="1237" y="947"/>
                      </a:lnTo>
                      <a:lnTo>
                        <a:pt x="1225" y="946"/>
                      </a:lnTo>
                      <a:lnTo>
                        <a:pt x="1223" y="970"/>
                      </a:lnTo>
                      <a:lnTo>
                        <a:pt x="1092" y="1049"/>
                      </a:lnTo>
                      <a:lnTo>
                        <a:pt x="1094" y="1041"/>
                      </a:lnTo>
                      <a:lnTo>
                        <a:pt x="1154" y="1003"/>
                      </a:lnTo>
                      <a:lnTo>
                        <a:pt x="1108" y="1026"/>
                      </a:lnTo>
                      <a:lnTo>
                        <a:pt x="1111" y="1004"/>
                      </a:lnTo>
                      <a:lnTo>
                        <a:pt x="1098" y="1016"/>
                      </a:lnTo>
                      <a:lnTo>
                        <a:pt x="1086" y="1009"/>
                      </a:lnTo>
                      <a:lnTo>
                        <a:pt x="1079" y="1026"/>
                      </a:lnTo>
                      <a:lnTo>
                        <a:pt x="1059" y="1009"/>
                      </a:lnTo>
                      <a:lnTo>
                        <a:pt x="1061" y="1026"/>
                      </a:lnTo>
                      <a:lnTo>
                        <a:pt x="1086" y="1042"/>
                      </a:lnTo>
                      <a:lnTo>
                        <a:pt x="1057" y="1056"/>
                      </a:lnTo>
                      <a:lnTo>
                        <a:pt x="1045" y="1037"/>
                      </a:lnTo>
                      <a:lnTo>
                        <a:pt x="1035" y="1089"/>
                      </a:lnTo>
                      <a:lnTo>
                        <a:pt x="1023" y="1068"/>
                      </a:lnTo>
                      <a:lnTo>
                        <a:pt x="998" y="1076"/>
                      </a:lnTo>
                      <a:lnTo>
                        <a:pt x="993" y="1090"/>
                      </a:lnTo>
                      <a:lnTo>
                        <a:pt x="1005" y="1113"/>
                      </a:lnTo>
                      <a:lnTo>
                        <a:pt x="959" y="1115"/>
                      </a:lnTo>
                      <a:lnTo>
                        <a:pt x="975" y="1120"/>
                      </a:lnTo>
                      <a:lnTo>
                        <a:pt x="977" y="1143"/>
                      </a:lnTo>
                      <a:lnTo>
                        <a:pt x="987" y="1138"/>
                      </a:lnTo>
                      <a:lnTo>
                        <a:pt x="981" y="1153"/>
                      </a:lnTo>
                      <a:lnTo>
                        <a:pt x="961" y="1187"/>
                      </a:lnTo>
                      <a:lnTo>
                        <a:pt x="962" y="1171"/>
                      </a:lnTo>
                      <a:lnTo>
                        <a:pt x="948" y="1185"/>
                      </a:lnTo>
                      <a:lnTo>
                        <a:pt x="930" y="1165"/>
                      </a:lnTo>
                      <a:lnTo>
                        <a:pt x="934" y="1189"/>
                      </a:lnTo>
                      <a:lnTo>
                        <a:pt x="969" y="1192"/>
                      </a:lnTo>
                      <a:lnTo>
                        <a:pt x="954" y="1227"/>
                      </a:lnTo>
                      <a:lnTo>
                        <a:pt x="966" y="1296"/>
                      </a:lnTo>
                      <a:lnTo>
                        <a:pt x="997" y="1353"/>
                      </a:lnTo>
                      <a:lnTo>
                        <a:pt x="958" y="1355"/>
                      </a:lnTo>
                      <a:lnTo>
                        <a:pt x="918" y="1339"/>
                      </a:lnTo>
                      <a:lnTo>
                        <a:pt x="884" y="1340"/>
                      </a:lnTo>
                      <a:lnTo>
                        <a:pt x="836" y="1312"/>
                      </a:lnTo>
                      <a:lnTo>
                        <a:pt x="779" y="1291"/>
                      </a:lnTo>
                      <a:lnTo>
                        <a:pt x="772" y="1269"/>
                      </a:lnTo>
                      <a:lnTo>
                        <a:pt x="760" y="1236"/>
                      </a:lnTo>
                      <a:lnTo>
                        <a:pt x="741" y="1212"/>
                      </a:lnTo>
                      <a:lnTo>
                        <a:pt x="743" y="1187"/>
                      </a:lnTo>
                      <a:lnTo>
                        <a:pt x="733" y="1178"/>
                      </a:lnTo>
                      <a:lnTo>
                        <a:pt x="734" y="1143"/>
                      </a:lnTo>
                      <a:lnTo>
                        <a:pt x="699" y="1116"/>
                      </a:lnTo>
                      <a:lnTo>
                        <a:pt x="664" y="1063"/>
                      </a:lnTo>
                      <a:lnTo>
                        <a:pt x="603" y="928"/>
                      </a:lnTo>
                      <a:lnTo>
                        <a:pt x="557" y="893"/>
                      </a:lnTo>
                      <a:lnTo>
                        <a:pt x="543" y="862"/>
                      </a:lnTo>
                      <a:lnTo>
                        <a:pt x="503" y="857"/>
                      </a:lnTo>
                      <a:lnTo>
                        <a:pt x="471" y="852"/>
                      </a:lnTo>
                      <a:lnTo>
                        <a:pt x="441" y="839"/>
                      </a:lnTo>
                      <a:lnTo>
                        <a:pt x="432" y="852"/>
                      </a:lnTo>
                      <a:lnTo>
                        <a:pt x="402" y="852"/>
                      </a:lnTo>
                      <a:lnTo>
                        <a:pt x="374" y="917"/>
                      </a:lnTo>
                      <a:lnTo>
                        <a:pt x="344" y="944"/>
                      </a:lnTo>
                      <a:lnTo>
                        <a:pt x="326" y="944"/>
                      </a:lnTo>
                      <a:lnTo>
                        <a:pt x="273" y="902"/>
                      </a:lnTo>
                      <a:lnTo>
                        <a:pt x="250" y="896"/>
                      </a:lnTo>
                      <a:lnTo>
                        <a:pt x="198" y="850"/>
                      </a:lnTo>
                      <a:lnTo>
                        <a:pt x="185" y="812"/>
                      </a:lnTo>
                      <a:lnTo>
                        <a:pt x="185" y="774"/>
                      </a:lnTo>
                      <a:lnTo>
                        <a:pt x="161" y="721"/>
                      </a:lnTo>
                      <a:lnTo>
                        <a:pt x="118" y="687"/>
                      </a:lnTo>
                      <a:lnTo>
                        <a:pt x="60" y="613"/>
                      </a:lnTo>
                      <a:lnTo>
                        <a:pt x="39" y="601"/>
                      </a:lnTo>
                      <a:lnTo>
                        <a:pt x="24" y="563"/>
                      </a:lnTo>
                      <a:lnTo>
                        <a:pt x="8" y="557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6230520" y="3103200"/>
                  <a:ext cx="903960" cy="511200"/>
                </a:xfrm>
                <a:custGeom>
                  <a:avLst/>
                  <a:gdLst/>
                  <a:ahLst/>
                  <a:rect l="l" t="t" r="r" b="b"/>
                  <a:pathLst>
                    <a:path w="776" h="439">
                      <a:moveTo>
                        <a:pt x="0" y="438"/>
                      </a:moveTo>
                      <a:lnTo>
                        <a:pt x="73" y="391"/>
                      </a:lnTo>
                      <a:lnTo>
                        <a:pt x="73" y="380"/>
                      </a:lnTo>
                      <a:lnTo>
                        <a:pt x="98" y="349"/>
                      </a:lnTo>
                      <a:lnTo>
                        <a:pt x="123" y="331"/>
                      </a:lnTo>
                      <a:lnTo>
                        <a:pt x="150" y="298"/>
                      </a:lnTo>
                      <a:lnTo>
                        <a:pt x="179" y="331"/>
                      </a:lnTo>
                      <a:lnTo>
                        <a:pt x="215" y="314"/>
                      </a:lnTo>
                      <a:lnTo>
                        <a:pt x="229" y="325"/>
                      </a:lnTo>
                      <a:lnTo>
                        <a:pt x="251" y="314"/>
                      </a:lnTo>
                      <a:lnTo>
                        <a:pt x="264" y="296"/>
                      </a:lnTo>
                      <a:lnTo>
                        <a:pt x="303" y="289"/>
                      </a:lnTo>
                      <a:lnTo>
                        <a:pt x="324" y="262"/>
                      </a:lnTo>
                      <a:lnTo>
                        <a:pt x="313" y="255"/>
                      </a:lnTo>
                      <a:lnTo>
                        <a:pt x="349" y="172"/>
                      </a:lnTo>
                      <a:lnTo>
                        <a:pt x="357" y="130"/>
                      </a:lnTo>
                      <a:lnTo>
                        <a:pt x="392" y="147"/>
                      </a:lnTo>
                      <a:lnTo>
                        <a:pt x="411" y="98"/>
                      </a:lnTo>
                      <a:lnTo>
                        <a:pt x="428" y="95"/>
                      </a:lnTo>
                      <a:lnTo>
                        <a:pt x="455" y="49"/>
                      </a:lnTo>
                      <a:lnTo>
                        <a:pt x="462" y="0"/>
                      </a:lnTo>
                      <a:lnTo>
                        <a:pt x="517" y="31"/>
                      </a:lnTo>
                      <a:lnTo>
                        <a:pt x="526" y="5"/>
                      </a:lnTo>
                      <a:lnTo>
                        <a:pt x="552" y="11"/>
                      </a:lnTo>
                      <a:lnTo>
                        <a:pt x="567" y="32"/>
                      </a:lnTo>
                      <a:lnTo>
                        <a:pt x="591" y="43"/>
                      </a:lnTo>
                      <a:lnTo>
                        <a:pt x="602" y="58"/>
                      </a:lnTo>
                      <a:lnTo>
                        <a:pt x="600" y="72"/>
                      </a:lnTo>
                      <a:lnTo>
                        <a:pt x="584" y="100"/>
                      </a:lnTo>
                      <a:lnTo>
                        <a:pt x="591" y="119"/>
                      </a:lnTo>
                      <a:lnTo>
                        <a:pt x="610" y="111"/>
                      </a:lnTo>
                      <a:lnTo>
                        <a:pt x="618" y="125"/>
                      </a:lnTo>
                      <a:lnTo>
                        <a:pt x="626" y="132"/>
                      </a:lnTo>
                      <a:lnTo>
                        <a:pt x="660" y="134"/>
                      </a:lnTo>
                      <a:lnTo>
                        <a:pt x="670" y="146"/>
                      </a:lnTo>
                      <a:lnTo>
                        <a:pt x="702" y="154"/>
                      </a:lnTo>
                      <a:lnTo>
                        <a:pt x="695" y="164"/>
                      </a:lnTo>
                      <a:lnTo>
                        <a:pt x="697" y="183"/>
                      </a:lnTo>
                      <a:lnTo>
                        <a:pt x="699" y="191"/>
                      </a:lnTo>
                      <a:lnTo>
                        <a:pt x="687" y="188"/>
                      </a:lnTo>
                      <a:lnTo>
                        <a:pt x="666" y="176"/>
                      </a:lnTo>
                      <a:lnTo>
                        <a:pt x="631" y="153"/>
                      </a:lnTo>
                      <a:lnTo>
                        <a:pt x="679" y="198"/>
                      </a:lnTo>
                      <a:lnTo>
                        <a:pt x="704" y="199"/>
                      </a:lnTo>
                      <a:lnTo>
                        <a:pt x="691" y="206"/>
                      </a:lnTo>
                      <a:lnTo>
                        <a:pt x="716" y="218"/>
                      </a:lnTo>
                      <a:lnTo>
                        <a:pt x="715" y="228"/>
                      </a:lnTo>
                      <a:lnTo>
                        <a:pt x="706" y="220"/>
                      </a:lnTo>
                      <a:lnTo>
                        <a:pt x="696" y="221"/>
                      </a:lnTo>
                      <a:lnTo>
                        <a:pt x="698" y="229"/>
                      </a:lnTo>
                      <a:lnTo>
                        <a:pt x="706" y="236"/>
                      </a:lnTo>
                      <a:lnTo>
                        <a:pt x="696" y="241"/>
                      </a:lnTo>
                      <a:lnTo>
                        <a:pt x="670" y="222"/>
                      </a:lnTo>
                      <a:lnTo>
                        <a:pt x="658" y="212"/>
                      </a:lnTo>
                      <a:lnTo>
                        <a:pt x="665" y="225"/>
                      </a:lnTo>
                      <a:lnTo>
                        <a:pt x="691" y="245"/>
                      </a:lnTo>
                      <a:lnTo>
                        <a:pt x="702" y="245"/>
                      </a:lnTo>
                      <a:lnTo>
                        <a:pt x="714" y="250"/>
                      </a:lnTo>
                      <a:lnTo>
                        <a:pt x="713" y="257"/>
                      </a:lnTo>
                      <a:lnTo>
                        <a:pt x="720" y="257"/>
                      </a:lnTo>
                      <a:lnTo>
                        <a:pt x="721" y="263"/>
                      </a:lnTo>
                      <a:lnTo>
                        <a:pt x="711" y="271"/>
                      </a:lnTo>
                      <a:lnTo>
                        <a:pt x="691" y="263"/>
                      </a:lnTo>
                      <a:lnTo>
                        <a:pt x="685" y="253"/>
                      </a:lnTo>
                      <a:lnTo>
                        <a:pt x="660" y="250"/>
                      </a:lnTo>
                      <a:lnTo>
                        <a:pt x="655" y="242"/>
                      </a:lnTo>
                      <a:lnTo>
                        <a:pt x="646" y="252"/>
                      </a:lnTo>
                      <a:lnTo>
                        <a:pt x="681" y="261"/>
                      </a:lnTo>
                      <a:lnTo>
                        <a:pt x="683" y="269"/>
                      </a:lnTo>
                      <a:lnTo>
                        <a:pt x="711" y="283"/>
                      </a:lnTo>
                      <a:lnTo>
                        <a:pt x="721" y="283"/>
                      </a:lnTo>
                      <a:lnTo>
                        <a:pt x="723" y="273"/>
                      </a:lnTo>
                      <a:lnTo>
                        <a:pt x="734" y="276"/>
                      </a:lnTo>
                      <a:lnTo>
                        <a:pt x="753" y="274"/>
                      </a:lnTo>
                      <a:lnTo>
                        <a:pt x="775" y="314"/>
                      </a:lnTo>
                      <a:lnTo>
                        <a:pt x="761" y="307"/>
                      </a:lnTo>
                      <a:lnTo>
                        <a:pt x="757" y="320"/>
                      </a:lnTo>
                      <a:lnTo>
                        <a:pt x="451" y="378"/>
                      </a:lnTo>
                      <a:lnTo>
                        <a:pt x="200" y="411"/>
                      </a:lnTo>
                      <a:lnTo>
                        <a:pt x="0" y="438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6319080" y="2969280"/>
                  <a:ext cx="525240" cy="520560"/>
                </a:xfrm>
                <a:custGeom>
                  <a:avLst/>
                  <a:gdLst/>
                  <a:ahLst/>
                  <a:rect l="l" t="t" r="r" b="b"/>
                  <a:pathLst>
                    <a:path w="451" h="447">
                      <a:moveTo>
                        <a:pt x="0" y="309"/>
                      </a:moveTo>
                      <a:lnTo>
                        <a:pt x="18" y="370"/>
                      </a:lnTo>
                      <a:lnTo>
                        <a:pt x="37" y="392"/>
                      </a:lnTo>
                      <a:lnTo>
                        <a:pt x="74" y="413"/>
                      </a:lnTo>
                      <a:lnTo>
                        <a:pt x="103" y="446"/>
                      </a:lnTo>
                      <a:lnTo>
                        <a:pt x="139" y="429"/>
                      </a:lnTo>
                      <a:lnTo>
                        <a:pt x="153" y="440"/>
                      </a:lnTo>
                      <a:lnTo>
                        <a:pt x="175" y="429"/>
                      </a:lnTo>
                      <a:lnTo>
                        <a:pt x="188" y="411"/>
                      </a:lnTo>
                      <a:lnTo>
                        <a:pt x="227" y="404"/>
                      </a:lnTo>
                      <a:lnTo>
                        <a:pt x="248" y="377"/>
                      </a:lnTo>
                      <a:lnTo>
                        <a:pt x="237" y="370"/>
                      </a:lnTo>
                      <a:lnTo>
                        <a:pt x="273" y="287"/>
                      </a:lnTo>
                      <a:lnTo>
                        <a:pt x="281" y="245"/>
                      </a:lnTo>
                      <a:lnTo>
                        <a:pt x="316" y="262"/>
                      </a:lnTo>
                      <a:lnTo>
                        <a:pt x="335" y="213"/>
                      </a:lnTo>
                      <a:lnTo>
                        <a:pt x="352" y="210"/>
                      </a:lnTo>
                      <a:lnTo>
                        <a:pt x="379" y="164"/>
                      </a:lnTo>
                      <a:lnTo>
                        <a:pt x="386" y="115"/>
                      </a:lnTo>
                      <a:lnTo>
                        <a:pt x="441" y="146"/>
                      </a:lnTo>
                      <a:lnTo>
                        <a:pt x="450" y="120"/>
                      </a:lnTo>
                      <a:lnTo>
                        <a:pt x="436" y="101"/>
                      </a:lnTo>
                      <a:lnTo>
                        <a:pt x="411" y="89"/>
                      </a:lnTo>
                      <a:lnTo>
                        <a:pt x="381" y="93"/>
                      </a:lnTo>
                      <a:lnTo>
                        <a:pt x="371" y="110"/>
                      </a:lnTo>
                      <a:lnTo>
                        <a:pt x="317" y="125"/>
                      </a:lnTo>
                      <a:lnTo>
                        <a:pt x="283" y="166"/>
                      </a:lnTo>
                      <a:lnTo>
                        <a:pt x="271" y="101"/>
                      </a:lnTo>
                      <a:lnTo>
                        <a:pt x="174" y="117"/>
                      </a:lnTo>
                      <a:lnTo>
                        <a:pt x="155" y="0"/>
                      </a:lnTo>
                      <a:lnTo>
                        <a:pt x="141" y="10"/>
                      </a:lnTo>
                      <a:lnTo>
                        <a:pt x="150" y="32"/>
                      </a:lnTo>
                      <a:lnTo>
                        <a:pt x="137" y="136"/>
                      </a:lnTo>
                      <a:lnTo>
                        <a:pt x="120" y="158"/>
                      </a:lnTo>
                      <a:lnTo>
                        <a:pt x="67" y="198"/>
                      </a:lnTo>
                      <a:lnTo>
                        <a:pt x="57" y="242"/>
                      </a:lnTo>
                      <a:lnTo>
                        <a:pt x="37" y="230"/>
                      </a:lnTo>
                      <a:lnTo>
                        <a:pt x="31" y="282"/>
                      </a:lnTo>
                      <a:lnTo>
                        <a:pt x="0" y="309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274520" y="5152680"/>
                  <a:ext cx="226080" cy="80280"/>
                </a:xfrm>
                <a:custGeom>
                  <a:avLst/>
                  <a:gdLst/>
                  <a:ahLst/>
                  <a:rect l="l" t="t" r="r" b="b"/>
                  <a:pathLst>
                    <a:path w="194" h="69">
                      <a:moveTo>
                        <a:pt x="12" y="0"/>
                      </a:moveTo>
                      <a:lnTo>
                        <a:pt x="22" y="0"/>
                      </a:lnTo>
                      <a:lnTo>
                        <a:pt x="28" y="0"/>
                      </a:lnTo>
                      <a:lnTo>
                        <a:pt x="35" y="2"/>
                      </a:lnTo>
                      <a:lnTo>
                        <a:pt x="48" y="2"/>
                      </a:lnTo>
                      <a:lnTo>
                        <a:pt x="51" y="1"/>
                      </a:lnTo>
                      <a:lnTo>
                        <a:pt x="64" y="3"/>
                      </a:lnTo>
                      <a:lnTo>
                        <a:pt x="70" y="1"/>
                      </a:lnTo>
                      <a:lnTo>
                        <a:pt x="74" y="2"/>
                      </a:lnTo>
                      <a:lnTo>
                        <a:pt x="79" y="1"/>
                      </a:lnTo>
                      <a:lnTo>
                        <a:pt x="90" y="3"/>
                      </a:lnTo>
                      <a:lnTo>
                        <a:pt x="97" y="0"/>
                      </a:lnTo>
                      <a:lnTo>
                        <a:pt x="112" y="2"/>
                      </a:lnTo>
                      <a:lnTo>
                        <a:pt x="123" y="2"/>
                      </a:lnTo>
                      <a:lnTo>
                        <a:pt x="124" y="2"/>
                      </a:lnTo>
                      <a:lnTo>
                        <a:pt x="126" y="3"/>
                      </a:lnTo>
                      <a:lnTo>
                        <a:pt x="129" y="3"/>
                      </a:lnTo>
                      <a:lnTo>
                        <a:pt x="133" y="6"/>
                      </a:lnTo>
                      <a:lnTo>
                        <a:pt x="137" y="6"/>
                      </a:lnTo>
                      <a:lnTo>
                        <a:pt x="145" y="10"/>
                      </a:lnTo>
                      <a:lnTo>
                        <a:pt x="145" y="9"/>
                      </a:lnTo>
                      <a:lnTo>
                        <a:pt x="142" y="6"/>
                      </a:lnTo>
                      <a:lnTo>
                        <a:pt x="139" y="6"/>
                      </a:lnTo>
                      <a:lnTo>
                        <a:pt x="131" y="3"/>
                      </a:lnTo>
                      <a:lnTo>
                        <a:pt x="134" y="2"/>
                      </a:lnTo>
                      <a:lnTo>
                        <a:pt x="137" y="4"/>
                      </a:lnTo>
                      <a:lnTo>
                        <a:pt x="143" y="4"/>
                      </a:lnTo>
                      <a:lnTo>
                        <a:pt x="145" y="3"/>
                      </a:lnTo>
                      <a:lnTo>
                        <a:pt x="148" y="3"/>
                      </a:lnTo>
                      <a:lnTo>
                        <a:pt x="148" y="4"/>
                      </a:lnTo>
                      <a:lnTo>
                        <a:pt x="151" y="4"/>
                      </a:lnTo>
                      <a:lnTo>
                        <a:pt x="151" y="3"/>
                      </a:lnTo>
                      <a:lnTo>
                        <a:pt x="156" y="4"/>
                      </a:lnTo>
                      <a:lnTo>
                        <a:pt x="158" y="3"/>
                      </a:lnTo>
                      <a:lnTo>
                        <a:pt x="161" y="5"/>
                      </a:lnTo>
                      <a:lnTo>
                        <a:pt x="165" y="5"/>
                      </a:lnTo>
                      <a:lnTo>
                        <a:pt x="168" y="7"/>
                      </a:lnTo>
                      <a:lnTo>
                        <a:pt x="170" y="7"/>
                      </a:lnTo>
                      <a:lnTo>
                        <a:pt x="170" y="9"/>
                      </a:lnTo>
                      <a:lnTo>
                        <a:pt x="172" y="9"/>
                      </a:lnTo>
                      <a:lnTo>
                        <a:pt x="172" y="10"/>
                      </a:lnTo>
                      <a:lnTo>
                        <a:pt x="176" y="11"/>
                      </a:lnTo>
                      <a:lnTo>
                        <a:pt x="177" y="11"/>
                      </a:lnTo>
                      <a:lnTo>
                        <a:pt x="180" y="13"/>
                      </a:lnTo>
                      <a:lnTo>
                        <a:pt x="184" y="14"/>
                      </a:lnTo>
                      <a:lnTo>
                        <a:pt x="186" y="12"/>
                      </a:lnTo>
                      <a:lnTo>
                        <a:pt x="187" y="12"/>
                      </a:lnTo>
                      <a:lnTo>
                        <a:pt x="191" y="10"/>
                      </a:lnTo>
                      <a:lnTo>
                        <a:pt x="190" y="13"/>
                      </a:lnTo>
                      <a:lnTo>
                        <a:pt x="189" y="15"/>
                      </a:lnTo>
                      <a:lnTo>
                        <a:pt x="190" y="17"/>
                      </a:lnTo>
                      <a:lnTo>
                        <a:pt x="190" y="19"/>
                      </a:lnTo>
                      <a:lnTo>
                        <a:pt x="190" y="22"/>
                      </a:lnTo>
                      <a:lnTo>
                        <a:pt x="189" y="22"/>
                      </a:lnTo>
                      <a:lnTo>
                        <a:pt x="190" y="23"/>
                      </a:lnTo>
                      <a:lnTo>
                        <a:pt x="189" y="25"/>
                      </a:lnTo>
                      <a:lnTo>
                        <a:pt x="190" y="26"/>
                      </a:lnTo>
                      <a:lnTo>
                        <a:pt x="191" y="26"/>
                      </a:lnTo>
                      <a:lnTo>
                        <a:pt x="193" y="29"/>
                      </a:lnTo>
                      <a:lnTo>
                        <a:pt x="191" y="32"/>
                      </a:lnTo>
                      <a:lnTo>
                        <a:pt x="189" y="29"/>
                      </a:lnTo>
                      <a:lnTo>
                        <a:pt x="190" y="33"/>
                      </a:lnTo>
                      <a:lnTo>
                        <a:pt x="188" y="34"/>
                      </a:lnTo>
                      <a:lnTo>
                        <a:pt x="185" y="34"/>
                      </a:lnTo>
                      <a:lnTo>
                        <a:pt x="181" y="34"/>
                      </a:lnTo>
                      <a:lnTo>
                        <a:pt x="181" y="36"/>
                      </a:lnTo>
                      <a:lnTo>
                        <a:pt x="179" y="36"/>
                      </a:lnTo>
                      <a:lnTo>
                        <a:pt x="175" y="38"/>
                      </a:lnTo>
                      <a:lnTo>
                        <a:pt x="172" y="42"/>
                      </a:lnTo>
                      <a:lnTo>
                        <a:pt x="172" y="44"/>
                      </a:lnTo>
                      <a:lnTo>
                        <a:pt x="170" y="48"/>
                      </a:lnTo>
                      <a:lnTo>
                        <a:pt x="170" y="51"/>
                      </a:lnTo>
                      <a:lnTo>
                        <a:pt x="168" y="51"/>
                      </a:lnTo>
                      <a:lnTo>
                        <a:pt x="168" y="53"/>
                      </a:lnTo>
                      <a:lnTo>
                        <a:pt x="167" y="55"/>
                      </a:lnTo>
                      <a:lnTo>
                        <a:pt x="165" y="55"/>
                      </a:lnTo>
                      <a:lnTo>
                        <a:pt x="158" y="60"/>
                      </a:lnTo>
                      <a:lnTo>
                        <a:pt x="151" y="61"/>
                      </a:lnTo>
                      <a:lnTo>
                        <a:pt x="145" y="61"/>
                      </a:lnTo>
                      <a:lnTo>
                        <a:pt x="142" y="63"/>
                      </a:lnTo>
                      <a:lnTo>
                        <a:pt x="139" y="62"/>
                      </a:lnTo>
                      <a:lnTo>
                        <a:pt x="133" y="65"/>
                      </a:lnTo>
                      <a:lnTo>
                        <a:pt x="128" y="67"/>
                      </a:lnTo>
                      <a:lnTo>
                        <a:pt x="126" y="67"/>
                      </a:lnTo>
                      <a:lnTo>
                        <a:pt x="123" y="67"/>
                      </a:lnTo>
                      <a:lnTo>
                        <a:pt x="125" y="65"/>
                      </a:lnTo>
                      <a:lnTo>
                        <a:pt x="126" y="65"/>
                      </a:lnTo>
                      <a:lnTo>
                        <a:pt x="124" y="64"/>
                      </a:lnTo>
                      <a:lnTo>
                        <a:pt x="122" y="64"/>
                      </a:lnTo>
                      <a:lnTo>
                        <a:pt x="122" y="65"/>
                      </a:lnTo>
                      <a:lnTo>
                        <a:pt x="122" y="67"/>
                      </a:lnTo>
                      <a:lnTo>
                        <a:pt x="118" y="65"/>
                      </a:lnTo>
                      <a:lnTo>
                        <a:pt x="116" y="67"/>
                      </a:lnTo>
                      <a:lnTo>
                        <a:pt x="114" y="65"/>
                      </a:lnTo>
                      <a:lnTo>
                        <a:pt x="113" y="65"/>
                      </a:lnTo>
                      <a:lnTo>
                        <a:pt x="110" y="63"/>
                      </a:lnTo>
                      <a:lnTo>
                        <a:pt x="107" y="62"/>
                      </a:lnTo>
                      <a:lnTo>
                        <a:pt x="103" y="65"/>
                      </a:lnTo>
                      <a:lnTo>
                        <a:pt x="102" y="65"/>
                      </a:lnTo>
                      <a:lnTo>
                        <a:pt x="94" y="62"/>
                      </a:lnTo>
                      <a:lnTo>
                        <a:pt x="89" y="59"/>
                      </a:lnTo>
                      <a:lnTo>
                        <a:pt x="82" y="63"/>
                      </a:lnTo>
                      <a:lnTo>
                        <a:pt x="77" y="64"/>
                      </a:lnTo>
                      <a:lnTo>
                        <a:pt x="72" y="63"/>
                      </a:lnTo>
                      <a:lnTo>
                        <a:pt x="70" y="62"/>
                      </a:lnTo>
                      <a:lnTo>
                        <a:pt x="66" y="63"/>
                      </a:lnTo>
                      <a:lnTo>
                        <a:pt x="61" y="60"/>
                      </a:lnTo>
                      <a:lnTo>
                        <a:pt x="60" y="60"/>
                      </a:lnTo>
                      <a:lnTo>
                        <a:pt x="58" y="63"/>
                      </a:lnTo>
                      <a:lnTo>
                        <a:pt x="57" y="62"/>
                      </a:lnTo>
                      <a:lnTo>
                        <a:pt x="58" y="60"/>
                      </a:lnTo>
                      <a:lnTo>
                        <a:pt x="54" y="59"/>
                      </a:lnTo>
                      <a:lnTo>
                        <a:pt x="51" y="61"/>
                      </a:lnTo>
                      <a:lnTo>
                        <a:pt x="51" y="62"/>
                      </a:lnTo>
                      <a:lnTo>
                        <a:pt x="55" y="61"/>
                      </a:lnTo>
                      <a:lnTo>
                        <a:pt x="51" y="64"/>
                      </a:lnTo>
                      <a:lnTo>
                        <a:pt x="48" y="65"/>
                      </a:lnTo>
                      <a:lnTo>
                        <a:pt x="46" y="65"/>
                      </a:lnTo>
                      <a:lnTo>
                        <a:pt x="45" y="67"/>
                      </a:lnTo>
                      <a:lnTo>
                        <a:pt x="41" y="65"/>
                      </a:lnTo>
                      <a:lnTo>
                        <a:pt x="38" y="63"/>
                      </a:lnTo>
                      <a:lnTo>
                        <a:pt x="38" y="65"/>
                      </a:lnTo>
                      <a:lnTo>
                        <a:pt x="38" y="68"/>
                      </a:lnTo>
                      <a:lnTo>
                        <a:pt x="34" y="68"/>
                      </a:lnTo>
                      <a:lnTo>
                        <a:pt x="30" y="64"/>
                      </a:lnTo>
                      <a:lnTo>
                        <a:pt x="26" y="62"/>
                      </a:lnTo>
                      <a:lnTo>
                        <a:pt x="22" y="63"/>
                      </a:lnTo>
                      <a:lnTo>
                        <a:pt x="19" y="65"/>
                      </a:lnTo>
                      <a:lnTo>
                        <a:pt x="17" y="67"/>
                      </a:lnTo>
                      <a:lnTo>
                        <a:pt x="12" y="65"/>
                      </a:lnTo>
                      <a:lnTo>
                        <a:pt x="10" y="65"/>
                      </a:lnTo>
                      <a:lnTo>
                        <a:pt x="9" y="67"/>
                      </a:lnTo>
                      <a:lnTo>
                        <a:pt x="7" y="68"/>
                      </a:lnTo>
                      <a:lnTo>
                        <a:pt x="7" y="65"/>
                      </a:lnTo>
                      <a:lnTo>
                        <a:pt x="6" y="65"/>
                      </a:lnTo>
                      <a:lnTo>
                        <a:pt x="6" y="62"/>
                      </a:lnTo>
                      <a:lnTo>
                        <a:pt x="7" y="59"/>
                      </a:lnTo>
                      <a:lnTo>
                        <a:pt x="11" y="59"/>
                      </a:lnTo>
                      <a:lnTo>
                        <a:pt x="7" y="57"/>
                      </a:lnTo>
                      <a:lnTo>
                        <a:pt x="6" y="56"/>
                      </a:lnTo>
                      <a:lnTo>
                        <a:pt x="6" y="53"/>
                      </a:lnTo>
                      <a:lnTo>
                        <a:pt x="8" y="51"/>
                      </a:lnTo>
                      <a:lnTo>
                        <a:pt x="7" y="50"/>
                      </a:lnTo>
                      <a:lnTo>
                        <a:pt x="9" y="48"/>
                      </a:lnTo>
                      <a:lnTo>
                        <a:pt x="8" y="44"/>
                      </a:lnTo>
                      <a:lnTo>
                        <a:pt x="8" y="42"/>
                      </a:lnTo>
                      <a:lnTo>
                        <a:pt x="8" y="40"/>
                      </a:lnTo>
                      <a:lnTo>
                        <a:pt x="10" y="38"/>
                      </a:lnTo>
                      <a:lnTo>
                        <a:pt x="11" y="35"/>
                      </a:lnTo>
                      <a:lnTo>
                        <a:pt x="10" y="33"/>
                      </a:lnTo>
                      <a:lnTo>
                        <a:pt x="7" y="27"/>
                      </a:lnTo>
                      <a:lnTo>
                        <a:pt x="5" y="25"/>
                      </a:lnTo>
                      <a:lnTo>
                        <a:pt x="2" y="23"/>
                      </a:lnTo>
                      <a:lnTo>
                        <a:pt x="1" y="19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1" y="15"/>
                      </a:lnTo>
                      <a:lnTo>
                        <a:pt x="4" y="15"/>
                      </a:lnTo>
                      <a:lnTo>
                        <a:pt x="9" y="12"/>
                      </a:lnTo>
                      <a:lnTo>
                        <a:pt x="11" y="10"/>
                      </a:lnTo>
                      <a:lnTo>
                        <a:pt x="10" y="4"/>
                      </a:lnTo>
                      <a:lnTo>
                        <a:pt x="11" y="0"/>
                      </a:lnTo>
                      <a:lnTo>
                        <a:pt x="12" y="0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54" name=""/>
            <p:cNvSpPr/>
            <p:nvPr/>
          </p:nvSpPr>
          <p:spPr>
            <a:xfrm>
              <a:off x="4950000" y="3948480"/>
              <a:ext cx="610920" cy="39060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5" name=""/>
            <p:cNvGrpSpPr/>
            <p:nvPr/>
          </p:nvGrpSpPr>
          <p:grpSpPr>
            <a:xfrm>
              <a:off x="1676520" y="1523880"/>
              <a:ext cx="3915720" cy="3990960"/>
              <a:chOff x="1676520" y="1523880"/>
              <a:chExt cx="3915720" cy="3990960"/>
            </a:xfrm>
          </p:grpSpPr>
          <p:sp>
            <p:nvSpPr>
              <p:cNvPr id="356" name=""/>
              <p:cNvSpPr/>
              <p:nvPr/>
            </p:nvSpPr>
            <p:spPr>
              <a:xfrm>
                <a:off x="2152800" y="1557360"/>
                <a:ext cx="36000" cy="42840"/>
              </a:xfrm>
              <a:custGeom>
                <a:avLst/>
                <a:gdLst/>
                <a:ahLst/>
                <a:rect l="l" t="t" r="r" b="b"/>
                <a:pathLst>
                  <a:path w="31" h="37">
                    <a:moveTo>
                      <a:pt x="0" y="15"/>
                    </a:moveTo>
                    <a:lnTo>
                      <a:pt x="26" y="0"/>
                    </a:lnTo>
                    <a:lnTo>
                      <a:pt x="30" y="15"/>
                    </a:lnTo>
                    <a:lnTo>
                      <a:pt x="26" y="36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7" name=""/>
              <p:cNvGrpSpPr/>
              <p:nvPr/>
            </p:nvGrpSpPr>
            <p:grpSpPr>
              <a:xfrm>
                <a:off x="1676520" y="1523880"/>
                <a:ext cx="3915720" cy="3990960"/>
                <a:chOff x="1676520" y="1523880"/>
                <a:chExt cx="3915720" cy="399096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2177280" y="1612080"/>
                  <a:ext cx="26640" cy="61560"/>
                </a:xfrm>
                <a:custGeom>
                  <a:avLst/>
                  <a:gdLst/>
                  <a:ahLst/>
                  <a:rect l="l" t="t" r="r" b="b"/>
                  <a:pathLst>
                    <a:path w="23" h="53">
                      <a:moveTo>
                        <a:pt x="0" y="14"/>
                      </a:moveTo>
                      <a:lnTo>
                        <a:pt x="13" y="0"/>
                      </a:lnTo>
                      <a:lnTo>
                        <a:pt x="22" y="8"/>
                      </a:lnTo>
                      <a:lnTo>
                        <a:pt x="16" y="52"/>
                      </a:lnTo>
                      <a:lnTo>
                        <a:pt x="0" y="14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9" name=""/>
                <p:cNvGrpSpPr/>
                <p:nvPr/>
              </p:nvGrpSpPr>
              <p:grpSpPr>
                <a:xfrm>
                  <a:off x="1676520" y="1523880"/>
                  <a:ext cx="3915720" cy="3990960"/>
                  <a:chOff x="1676520" y="1523880"/>
                  <a:chExt cx="3915720" cy="399096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2471040" y="3458880"/>
                    <a:ext cx="798120" cy="9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685" h="793">
                        <a:moveTo>
                          <a:pt x="0" y="541"/>
                        </a:moveTo>
                        <a:lnTo>
                          <a:pt x="43" y="504"/>
                        </a:lnTo>
                        <a:lnTo>
                          <a:pt x="26" y="473"/>
                        </a:lnTo>
                        <a:lnTo>
                          <a:pt x="35" y="430"/>
                        </a:lnTo>
                        <a:lnTo>
                          <a:pt x="80" y="355"/>
                        </a:lnTo>
                        <a:lnTo>
                          <a:pt x="113" y="334"/>
                        </a:lnTo>
                        <a:lnTo>
                          <a:pt x="93" y="308"/>
                        </a:lnTo>
                        <a:lnTo>
                          <a:pt x="81" y="234"/>
                        </a:lnTo>
                        <a:lnTo>
                          <a:pt x="95" y="102"/>
                        </a:lnTo>
                        <a:lnTo>
                          <a:pt x="118" y="95"/>
                        </a:lnTo>
                        <a:lnTo>
                          <a:pt x="157" y="117"/>
                        </a:lnTo>
                        <a:lnTo>
                          <a:pt x="190" y="0"/>
                        </a:lnTo>
                        <a:lnTo>
                          <a:pt x="684" y="84"/>
                        </a:lnTo>
                        <a:lnTo>
                          <a:pt x="580" y="792"/>
                        </a:lnTo>
                        <a:lnTo>
                          <a:pt x="429" y="768"/>
                        </a:lnTo>
                        <a:lnTo>
                          <a:pt x="334" y="742"/>
                        </a:lnTo>
                        <a:lnTo>
                          <a:pt x="140" y="627"/>
                        </a:lnTo>
                        <a:lnTo>
                          <a:pt x="0" y="54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1676520" y="2461320"/>
                    <a:ext cx="927360" cy="1585440"/>
                  </a:xfrm>
                  <a:custGeom>
                    <a:avLst/>
                    <a:gdLst/>
                    <a:ahLst/>
                    <a:rect l="l" t="t" r="r" b="b"/>
                    <a:pathLst>
                      <a:path w="796" h="1361">
                        <a:moveTo>
                          <a:pt x="18" y="246"/>
                        </a:moveTo>
                        <a:lnTo>
                          <a:pt x="28" y="275"/>
                        </a:lnTo>
                        <a:lnTo>
                          <a:pt x="5" y="382"/>
                        </a:lnTo>
                        <a:lnTo>
                          <a:pt x="20" y="413"/>
                        </a:lnTo>
                        <a:lnTo>
                          <a:pt x="82" y="553"/>
                        </a:lnTo>
                        <a:lnTo>
                          <a:pt x="89" y="550"/>
                        </a:lnTo>
                        <a:lnTo>
                          <a:pt x="92" y="519"/>
                        </a:lnTo>
                        <a:lnTo>
                          <a:pt x="103" y="514"/>
                        </a:lnTo>
                        <a:lnTo>
                          <a:pt x="113" y="522"/>
                        </a:lnTo>
                        <a:lnTo>
                          <a:pt x="94" y="540"/>
                        </a:lnTo>
                        <a:lnTo>
                          <a:pt x="102" y="551"/>
                        </a:lnTo>
                        <a:lnTo>
                          <a:pt x="118" y="611"/>
                        </a:lnTo>
                        <a:lnTo>
                          <a:pt x="108" y="607"/>
                        </a:lnTo>
                        <a:lnTo>
                          <a:pt x="86" y="585"/>
                        </a:lnTo>
                        <a:lnTo>
                          <a:pt x="92" y="561"/>
                        </a:lnTo>
                        <a:lnTo>
                          <a:pt x="82" y="562"/>
                        </a:lnTo>
                        <a:lnTo>
                          <a:pt x="68" y="587"/>
                        </a:lnTo>
                        <a:lnTo>
                          <a:pt x="73" y="642"/>
                        </a:lnTo>
                        <a:lnTo>
                          <a:pt x="86" y="667"/>
                        </a:lnTo>
                        <a:lnTo>
                          <a:pt x="114" y="689"/>
                        </a:lnTo>
                        <a:lnTo>
                          <a:pt x="105" y="716"/>
                        </a:lnTo>
                        <a:lnTo>
                          <a:pt x="89" y="721"/>
                        </a:lnTo>
                        <a:lnTo>
                          <a:pt x="86" y="756"/>
                        </a:lnTo>
                        <a:lnTo>
                          <a:pt x="125" y="837"/>
                        </a:lnTo>
                        <a:lnTo>
                          <a:pt x="156" y="887"/>
                        </a:lnTo>
                        <a:lnTo>
                          <a:pt x="151" y="917"/>
                        </a:lnTo>
                        <a:lnTo>
                          <a:pt x="170" y="937"/>
                        </a:lnTo>
                        <a:lnTo>
                          <a:pt x="162" y="956"/>
                        </a:lnTo>
                        <a:lnTo>
                          <a:pt x="151" y="1003"/>
                        </a:lnTo>
                        <a:lnTo>
                          <a:pt x="165" y="1020"/>
                        </a:lnTo>
                        <a:lnTo>
                          <a:pt x="262" y="1054"/>
                        </a:lnTo>
                        <a:lnTo>
                          <a:pt x="301" y="1108"/>
                        </a:lnTo>
                        <a:lnTo>
                          <a:pt x="347" y="1126"/>
                        </a:lnTo>
                        <a:lnTo>
                          <a:pt x="348" y="1157"/>
                        </a:lnTo>
                        <a:lnTo>
                          <a:pt x="379" y="1166"/>
                        </a:lnTo>
                        <a:lnTo>
                          <a:pt x="419" y="1221"/>
                        </a:lnTo>
                        <a:lnTo>
                          <a:pt x="442" y="1268"/>
                        </a:lnTo>
                        <a:lnTo>
                          <a:pt x="443" y="1342"/>
                        </a:lnTo>
                        <a:lnTo>
                          <a:pt x="725" y="1360"/>
                        </a:lnTo>
                        <a:lnTo>
                          <a:pt x="708" y="1329"/>
                        </a:lnTo>
                        <a:lnTo>
                          <a:pt x="717" y="1286"/>
                        </a:lnTo>
                        <a:lnTo>
                          <a:pt x="762" y="1211"/>
                        </a:lnTo>
                        <a:lnTo>
                          <a:pt x="795" y="1190"/>
                        </a:lnTo>
                        <a:lnTo>
                          <a:pt x="775" y="1164"/>
                        </a:lnTo>
                        <a:lnTo>
                          <a:pt x="763" y="1090"/>
                        </a:lnTo>
                        <a:lnTo>
                          <a:pt x="386" y="524"/>
                        </a:lnTo>
                        <a:lnTo>
                          <a:pt x="358" y="467"/>
                        </a:lnTo>
                        <a:lnTo>
                          <a:pt x="452" y="105"/>
                        </a:lnTo>
                        <a:lnTo>
                          <a:pt x="76" y="0"/>
                        </a:lnTo>
                        <a:lnTo>
                          <a:pt x="66" y="21"/>
                        </a:lnTo>
                        <a:lnTo>
                          <a:pt x="68" y="68"/>
                        </a:lnTo>
                        <a:lnTo>
                          <a:pt x="0" y="181"/>
                        </a:lnTo>
                        <a:lnTo>
                          <a:pt x="18" y="246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62" name=""/>
                  <p:cNvGrpSpPr/>
                  <p:nvPr/>
                </p:nvGrpSpPr>
                <p:grpSpPr>
                  <a:xfrm>
                    <a:off x="1896480" y="4564440"/>
                    <a:ext cx="1974240" cy="950400"/>
                    <a:chOff x="1896480" y="4564440"/>
                    <a:chExt cx="1974240" cy="950400"/>
                  </a:xfrm>
                </p:grpSpPr>
                <p:grpSp>
                  <p:nvGrpSpPr>
                    <p:cNvPr id="363" name=""/>
                    <p:cNvGrpSpPr/>
                    <p:nvPr/>
                  </p:nvGrpSpPr>
                  <p:grpSpPr>
                    <a:xfrm>
                      <a:off x="1896480" y="4564440"/>
                      <a:ext cx="1361880" cy="950400"/>
                      <a:chOff x="1896480" y="4564440"/>
                      <a:chExt cx="1361880" cy="950400"/>
                    </a:xfrm>
                  </p:grpSpPr>
                  <p:sp>
                    <p:nvSpPr>
                      <p:cNvPr id="364" name=""/>
                      <p:cNvSpPr/>
                      <p:nvPr/>
                    </p:nvSpPr>
                    <p:spPr>
                      <a:xfrm>
                        <a:off x="1981440" y="5245560"/>
                        <a:ext cx="33480" cy="24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21">
                            <a:moveTo>
                              <a:pt x="0" y="20"/>
                            </a:moveTo>
                            <a:lnTo>
                              <a:pt x="6" y="0"/>
                            </a:lnTo>
                            <a:lnTo>
                              <a:pt x="28" y="4"/>
                            </a:lnTo>
                            <a:lnTo>
                              <a:pt x="25" y="15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320" bIns="-22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1896480" y="4564440"/>
                        <a:ext cx="1361880" cy="950400"/>
                        <a:chOff x="1896480" y="4564440"/>
                        <a:chExt cx="1361880" cy="950400"/>
                      </a:xfrm>
                    </p:grpSpPr>
                    <p:sp>
                      <p:nvSpPr>
                        <p:cNvPr id="366" name=""/>
                        <p:cNvSpPr/>
                        <p:nvPr/>
                      </p:nvSpPr>
                      <p:spPr>
                        <a:xfrm>
                          <a:off x="1896480" y="5257080"/>
                          <a:ext cx="59400" cy="30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1" h="26">
                              <a:moveTo>
                                <a:pt x="0" y="25"/>
                              </a:moveTo>
                              <a:lnTo>
                                <a:pt x="13" y="13"/>
                              </a:lnTo>
                              <a:lnTo>
                                <a:pt x="47" y="0"/>
                              </a:lnTo>
                              <a:lnTo>
                                <a:pt x="50" y="5"/>
                              </a:lnTo>
                              <a:lnTo>
                                <a:pt x="0" y="25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6560" bIns="-16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7" name=""/>
                        <p:cNvSpPr/>
                        <p:nvPr/>
                      </p:nvSpPr>
                      <p:spPr>
                        <a:xfrm>
                          <a:off x="2055960" y="5220000"/>
                          <a:ext cx="640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5" h="22">
                              <a:moveTo>
                                <a:pt x="0" y="21"/>
                              </a:moveTo>
                              <a:lnTo>
                                <a:pt x="13" y="0"/>
                              </a:lnTo>
                              <a:lnTo>
                                <a:pt x="45" y="0"/>
                              </a:lnTo>
                              <a:lnTo>
                                <a:pt x="54" y="20"/>
                              </a:lnTo>
                              <a:lnTo>
                                <a:pt x="19" y="13"/>
                              </a:lnTo>
                              <a:lnTo>
                                <a:pt x="0" y="21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8" name=""/>
                        <p:cNvSpPr/>
                        <p:nvPr/>
                      </p:nvSpPr>
                      <p:spPr>
                        <a:xfrm>
                          <a:off x="2130480" y="4564440"/>
                          <a:ext cx="1127880" cy="950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69" h="816">
                              <a:moveTo>
                                <a:pt x="0" y="778"/>
                              </a:moveTo>
                              <a:lnTo>
                                <a:pt x="9" y="765"/>
                              </a:lnTo>
                              <a:lnTo>
                                <a:pt x="16" y="766"/>
                              </a:lnTo>
                              <a:lnTo>
                                <a:pt x="55" y="739"/>
                              </a:lnTo>
                              <a:lnTo>
                                <a:pt x="80" y="744"/>
                              </a:lnTo>
                              <a:lnTo>
                                <a:pt x="86" y="755"/>
                              </a:lnTo>
                              <a:lnTo>
                                <a:pt x="88" y="743"/>
                              </a:lnTo>
                              <a:lnTo>
                                <a:pt x="112" y="726"/>
                              </a:lnTo>
                              <a:lnTo>
                                <a:pt x="150" y="712"/>
                              </a:lnTo>
                              <a:lnTo>
                                <a:pt x="184" y="684"/>
                              </a:lnTo>
                              <a:lnTo>
                                <a:pt x="192" y="687"/>
                              </a:lnTo>
                              <a:lnTo>
                                <a:pt x="198" y="651"/>
                              </a:lnTo>
                              <a:lnTo>
                                <a:pt x="218" y="623"/>
                              </a:lnTo>
                              <a:lnTo>
                                <a:pt x="183" y="625"/>
                              </a:lnTo>
                              <a:lnTo>
                                <a:pt x="188" y="612"/>
                              </a:lnTo>
                              <a:lnTo>
                                <a:pt x="199" y="612"/>
                              </a:lnTo>
                              <a:lnTo>
                                <a:pt x="188" y="606"/>
                              </a:lnTo>
                              <a:lnTo>
                                <a:pt x="171" y="623"/>
                              </a:lnTo>
                              <a:lnTo>
                                <a:pt x="170" y="634"/>
                              </a:lnTo>
                              <a:lnTo>
                                <a:pt x="149" y="608"/>
                              </a:lnTo>
                              <a:lnTo>
                                <a:pt x="143" y="612"/>
                              </a:lnTo>
                              <a:lnTo>
                                <a:pt x="132" y="599"/>
                              </a:lnTo>
                              <a:lnTo>
                                <a:pt x="105" y="609"/>
                              </a:lnTo>
                              <a:lnTo>
                                <a:pt x="99" y="610"/>
                              </a:lnTo>
                              <a:lnTo>
                                <a:pt x="76" y="604"/>
                              </a:lnTo>
                              <a:lnTo>
                                <a:pt x="99" y="585"/>
                              </a:lnTo>
                              <a:lnTo>
                                <a:pt x="93" y="580"/>
                              </a:lnTo>
                              <a:lnTo>
                                <a:pt x="100" y="566"/>
                              </a:lnTo>
                              <a:lnTo>
                                <a:pt x="96" y="526"/>
                              </a:lnTo>
                              <a:lnTo>
                                <a:pt x="109" y="507"/>
                              </a:lnTo>
                              <a:lnTo>
                                <a:pt x="89" y="522"/>
                              </a:lnTo>
                              <a:lnTo>
                                <a:pt x="90" y="534"/>
                              </a:lnTo>
                              <a:lnTo>
                                <a:pt x="72" y="545"/>
                              </a:lnTo>
                              <a:lnTo>
                                <a:pt x="50" y="538"/>
                              </a:lnTo>
                              <a:lnTo>
                                <a:pt x="42" y="506"/>
                              </a:lnTo>
                              <a:lnTo>
                                <a:pt x="27" y="492"/>
                              </a:lnTo>
                              <a:lnTo>
                                <a:pt x="28" y="483"/>
                              </a:lnTo>
                              <a:lnTo>
                                <a:pt x="37" y="483"/>
                              </a:lnTo>
                              <a:lnTo>
                                <a:pt x="41" y="476"/>
                              </a:lnTo>
                              <a:lnTo>
                                <a:pt x="49" y="473"/>
                              </a:lnTo>
                              <a:lnTo>
                                <a:pt x="41" y="473"/>
                              </a:lnTo>
                              <a:lnTo>
                                <a:pt x="47" y="467"/>
                              </a:lnTo>
                              <a:lnTo>
                                <a:pt x="38" y="456"/>
                              </a:lnTo>
                              <a:lnTo>
                                <a:pt x="35" y="462"/>
                              </a:lnTo>
                              <a:lnTo>
                                <a:pt x="22" y="437"/>
                              </a:lnTo>
                              <a:lnTo>
                                <a:pt x="30" y="420"/>
                              </a:lnTo>
                              <a:lnTo>
                                <a:pt x="74" y="391"/>
                              </a:lnTo>
                              <a:lnTo>
                                <a:pt x="86" y="370"/>
                              </a:lnTo>
                              <a:lnTo>
                                <a:pt x="95" y="366"/>
                              </a:lnTo>
                              <a:lnTo>
                                <a:pt x="116" y="379"/>
                              </a:lnTo>
                              <a:lnTo>
                                <a:pt x="132" y="375"/>
                              </a:lnTo>
                              <a:lnTo>
                                <a:pt x="139" y="365"/>
                              </a:lnTo>
                              <a:lnTo>
                                <a:pt x="172" y="370"/>
                              </a:lnTo>
                              <a:lnTo>
                                <a:pt x="178" y="337"/>
                              </a:lnTo>
                              <a:lnTo>
                                <a:pt x="170" y="325"/>
                              </a:lnTo>
                              <a:lnTo>
                                <a:pt x="191" y="313"/>
                              </a:lnTo>
                              <a:lnTo>
                                <a:pt x="171" y="306"/>
                              </a:lnTo>
                              <a:lnTo>
                                <a:pt x="143" y="324"/>
                              </a:lnTo>
                              <a:lnTo>
                                <a:pt x="141" y="307"/>
                              </a:lnTo>
                              <a:lnTo>
                                <a:pt x="92" y="304"/>
                              </a:lnTo>
                              <a:lnTo>
                                <a:pt x="70" y="285"/>
                              </a:lnTo>
                              <a:lnTo>
                                <a:pt x="67" y="252"/>
                              </a:lnTo>
                              <a:lnTo>
                                <a:pt x="83" y="258"/>
                              </a:lnTo>
                              <a:lnTo>
                                <a:pt x="49" y="224"/>
                              </a:lnTo>
                              <a:lnTo>
                                <a:pt x="138" y="205"/>
                              </a:lnTo>
                              <a:lnTo>
                                <a:pt x="151" y="209"/>
                              </a:lnTo>
                              <a:lnTo>
                                <a:pt x="139" y="224"/>
                              </a:lnTo>
                              <a:lnTo>
                                <a:pt x="185" y="247"/>
                              </a:lnTo>
                              <a:lnTo>
                                <a:pt x="205" y="240"/>
                              </a:lnTo>
                              <a:lnTo>
                                <a:pt x="203" y="233"/>
                              </a:lnTo>
                              <a:lnTo>
                                <a:pt x="187" y="228"/>
                              </a:lnTo>
                              <a:lnTo>
                                <a:pt x="178" y="197"/>
                              </a:lnTo>
                              <a:lnTo>
                                <a:pt x="190" y="207"/>
                              </a:lnTo>
                              <a:lnTo>
                                <a:pt x="194" y="224"/>
                              </a:lnTo>
                              <a:lnTo>
                                <a:pt x="214" y="236"/>
                              </a:lnTo>
                              <a:lnTo>
                                <a:pt x="234" y="235"/>
                              </a:lnTo>
                              <a:lnTo>
                                <a:pt x="229" y="223"/>
                              </a:lnTo>
                              <a:lnTo>
                                <a:pt x="197" y="216"/>
                              </a:lnTo>
                              <a:lnTo>
                                <a:pt x="203" y="197"/>
                              </a:lnTo>
                              <a:lnTo>
                                <a:pt x="163" y="183"/>
                              </a:lnTo>
                              <a:lnTo>
                                <a:pt x="162" y="157"/>
                              </a:lnTo>
                              <a:lnTo>
                                <a:pt x="151" y="140"/>
                              </a:lnTo>
                              <a:lnTo>
                                <a:pt x="122" y="106"/>
                              </a:lnTo>
                              <a:lnTo>
                                <a:pt x="133" y="104"/>
                              </a:lnTo>
                              <a:lnTo>
                                <a:pt x="146" y="79"/>
                              </a:lnTo>
                              <a:lnTo>
                                <a:pt x="179" y="91"/>
                              </a:lnTo>
                              <a:lnTo>
                                <a:pt x="204" y="79"/>
                              </a:lnTo>
                              <a:lnTo>
                                <a:pt x="241" y="33"/>
                              </a:lnTo>
                              <a:lnTo>
                                <a:pt x="252" y="41"/>
                              </a:lnTo>
                              <a:lnTo>
                                <a:pt x="275" y="26"/>
                              </a:lnTo>
                              <a:lnTo>
                                <a:pt x="276" y="39"/>
                              </a:lnTo>
                              <a:lnTo>
                                <a:pt x="289" y="35"/>
                              </a:lnTo>
                              <a:lnTo>
                                <a:pt x="282" y="28"/>
                              </a:lnTo>
                              <a:lnTo>
                                <a:pt x="316" y="23"/>
                              </a:lnTo>
                              <a:lnTo>
                                <a:pt x="341" y="0"/>
                              </a:lnTo>
                              <a:lnTo>
                                <a:pt x="358" y="15"/>
                              </a:lnTo>
                              <a:lnTo>
                                <a:pt x="352" y="33"/>
                              </a:lnTo>
                              <a:lnTo>
                                <a:pt x="364" y="35"/>
                              </a:lnTo>
                              <a:lnTo>
                                <a:pt x="368" y="18"/>
                              </a:lnTo>
                              <a:lnTo>
                                <a:pt x="384" y="39"/>
                              </a:lnTo>
                              <a:lnTo>
                                <a:pt x="412" y="39"/>
                              </a:lnTo>
                              <a:lnTo>
                                <a:pt x="415" y="59"/>
                              </a:lnTo>
                              <a:lnTo>
                                <a:pt x="465" y="64"/>
                              </a:lnTo>
                              <a:lnTo>
                                <a:pt x="465" y="74"/>
                              </a:lnTo>
                              <a:lnTo>
                                <a:pt x="478" y="68"/>
                              </a:lnTo>
                              <a:lnTo>
                                <a:pt x="490" y="83"/>
                              </a:lnTo>
                              <a:lnTo>
                                <a:pt x="517" y="79"/>
                              </a:lnTo>
                              <a:lnTo>
                                <a:pt x="541" y="91"/>
                              </a:lnTo>
                              <a:lnTo>
                                <a:pt x="566" y="79"/>
                              </a:lnTo>
                              <a:lnTo>
                                <a:pt x="566" y="85"/>
                              </a:lnTo>
                              <a:lnTo>
                                <a:pt x="574" y="82"/>
                              </a:lnTo>
                              <a:lnTo>
                                <a:pt x="615" y="103"/>
                              </a:lnTo>
                              <a:lnTo>
                                <a:pt x="647" y="575"/>
                              </a:lnTo>
                              <a:lnTo>
                                <a:pt x="693" y="573"/>
                              </a:lnTo>
                              <a:lnTo>
                                <a:pt x="692" y="586"/>
                              </a:lnTo>
                              <a:lnTo>
                                <a:pt x="707" y="599"/>
                              </a:lnTo>
                              <a:lnTo>
                                <a:pt x="736" y="621"/>
                              </a:lnTo>
                              <a:lnTo>
                                <a:pt x="741" y="634"/>
                              </a:lnTo>
                              <a:lnTo>
                                <a:pt x="764" y="619"/>
                              </a:lnTo>
                              <a:lnTo>
                                <a:pt x="771" y="600"/>
                              </a:lnTo>
                              <a:lnTo>
                                <a:pt x="784" y="592"/>
                              </a:lnTo>
                              <a:lnTo>
                                <a:pt x="787" y="589"/>
                              </a:lnTo>
                              <a:lnTo>
                                <a:pt x="803" y="600"/>
                              </a:lnTo>
                              <a:lnTo>
                                <a:pt x="801" y="612"/>
                              </a:lnTo>
                              <a:lnTo>
                                <a:pt x="812" y="614"/>
                              </a:lnTo>
                              <a:lnTo>
                                <a:pt x="818" y="619"/>
                              </a:lnTo>
                              <a:lnTo>
                                <a:pt x="822" y="628"/>
                              </a:lnTo>
                              <a:lnTo>
                                <a:pt x="839" y="635"/>
                              </a:lnTo>
                              <a:lnTo>
                                <a:pt x="907" y="732"/>
                              </a:lnTo>
                              <a:lnTo>
                                <a:pt x="929" y="738"/>
                              </a:lnTo>
                              <a:lnTo>
                                <a:pt x="964" y="751"/>
                              </a:lnTo>
                              <a:lnTo>
                                <a:pt x="968" y="759"/>
                              </a:lnTo>
                              <a:lnTo>
                                <a:pt x="959" y="765"/>
                              </a:lnTo>
                              <a:lnTo>
                                <a:pt x="962" y="781"/>
                              </a:lnTo>
                              <a:lnTo>
                                <a:pt x="956" y="815"/>
                              </a:lnTo>
                              <a:lnTo>
                                <a:pt x="952" y="808"/>
                              </a:lnTo>
                              <a:lnTo>
                                <a:pt x="945" y="814"/>
                              </a:lnTo>
                              <a:lnTo>
                                <a:pt x="937" y="806"/>
                              </a:lnTo>
                              <a:lnTo>
                                <a:pt x="949" y="798"/>
                              </a:lnTo>
                              <a:lnTo>
                                <a:pt x="939" y="785"/>
                              </a:lnTo>
                              <a:lnTo>
                                <a:pt x="939" y="779"/>
                              </a:lnTo>
                              <a:lnTo>
                                <a:pt x="929" y="757"/>
                              </a:lnTo>
                              <a:lnTo>
                                <a:pt x="923" y="757"/>
                              </a:lnTo>
                              <a:lnTo>
                                <a:pt x="911" y="765"/>
                              </a:lnTo>
                              <a:lnTo>
                                <a:pt x="909" y="777"/>
                              </a:lnTo>
                              <a:lnTo>
                                <a:pt x="899" y="779"/>
                              </a:lnTo>
                              <a:lnTo>
                                <a:pt x="898" y="777"/>
                              </a:lnTo>
                              <a:lnTo>
                                <a:pt x="905" y="764"/>
                              </a:lnTo>
                              <a:lnTo>
                                <a:pt x="907" y="751"/>
                              </a:lnTo>
                              <a:lnTo>
                                <a:pt x="901" y="757"/>
                              </a:lnTo>
                              <a:lnTo>
                                <a:pt x="898" y="765"/>
                              </a:lnTo>
                              <a:lnTo>
                                <a:pt x="872" y="751"/>
                              </a:lnTo>
                              <a:lnTo>
                                <a:pt x="874" y="745"/>
                              </a:lnTo>
                              <a:lnTo>
                                <a:pt x="887" y="745"/>
                              </a:lnTo>
                              <a:lnTo>
                                <a:pt x="888" y="736"/>
                              </a:lnTo>
                              <a:lnTo>
                                <a:pt x="898" y="732"/>
                              </a:lnTo>
                              <a:lnTo>
                                <a:pt x="896" y="727"/>
                              </a:lnTo>
                              <a:lnTo>
                                <a:pt x="883" y="729"/>
                              </a:lnTo>
                              <a:lnTo>
                                <a:pt x="880" y="712"/>
                              </a:lnTo>
                              <a:lnTo>
                                <a:pt x="855" y="711"/>
                              </a:lnTo>
                              <a:lnTo>
                                <a:pt x="847" y="692"/>
                              </a:lnTo>
                              <a:lnTo>
                                <a:pt x="855" y="675"/>
                              </a:lnTo>
                              <a:lnTo>
                                <a:pt x="845" y="677"/>
                              </a:lnTo>
                              <a:lnTo>
                                <a:pt x="841" y="666"/>
                              </a:lnTo>
                              <a:lnTo>
                                <a:pt x="836" y="669"/>
                              </a:lnTo>
                              <a:lnTo>
                                <a:pt x="832" y="665"/>
                              </a:lnTo>
                              <a:lnTo>
                                <a:pt x="839" y="650"/>
                              </a:lnTo>
                              <a:lnTo>
                                <a:pt x="833" y="648"/>
                              </a:lnTo>
                              <a:lnTo>
                                <a:pt x="831" y="656"/>
                              </a:lnTo>
                              <a:lnTo>
                                <a:pt x="822" y="660"/>
                              </a:lnTo>
                              <a:lnTo>
                                <a:pt x="812" y="654"/>
                              </a:lnTo>
                              <a:lnTo>
                                <a:pt x="811" y="642"/>
                              </a:lnTo>
                              <a:lnTo>
                                <a:pt x="799" y="625"/>
                              </a:lnTo>
                              <a:lnTo>
                                <a:pt x="799" y="615"/>
                              </a:lnTo>
                              <a:lnTo>
                                <a:pt x="794" y="614"/>
                              </a:lnTo>
                              <a:lnTo>
                                <a:pt x="793" y="602"/>
                              </a:lnTo>
                              <a:lnTo>
                                <a:pt x="791" y="606"/>
                              </a:lnTo>
                              <a:lnTo>
                                <a:pt x="796" y="634"/>
                              </a:lnTo>
                              <a:lnTo>
                                <a:pt x="807" y="654"/>
                              </a:lnTo>
                              <a:lnTo>
                                <a:pt x="842" y="682"/>
                              </a:lnTo>
                              <a:lnTo>
                                <a:pt x="842" y="687"/>
                              </a:lnTo>
                              <a:lnTo>
                                <a:pt x="834" y="686"/>
                              </a:lnTo>
                              <a:lnTo>
                                <a:pt x="834" y="692"/>
                              </a:lnTo>
                              <a:lnTo>
                                <a:pt x="839" y="690"/>
                              </a:lnTo>
                              <a:lnTo>
                                <a:pt x="843" y="709"/>
                              </a:lnTo>
                              <a:lnTo>
                                <a:pt x="865" y="720"/>
                              </a:lnTo>
                              <a:lnTo>
                                <a:pt x="878" y="739"/>
                              </a:lnTo>
                              <a:lnTo>
                                <a:pt x="851" y="745"/>
                              </a:lnTo>
                              <a:lnTo>
                                <a:pt x="839" y="779"/>
                              </a:lnTo>
                              <a:lnTo>
                                <a:pt x="831" y="724"/>
                              </a:lnTo>
                              <a:lnTo>
                                <a:pt x="826" y="719"/>
                              </a:lnTo>
                              <a:lnTo>
                                <a:pt x="825" y="708"/>
                              </a:lnTo>
                              <a:lnTo>
                                <a:pt x="829" y="705"/>
                              </a:lnTo>
                              <a:lnTo>
                                <a:pt x="807" y="663"/>
                              </a:lnTo>
                              <a:lnTo>
                                <a:pt x="800" y="662"/>
                              </a:lnTo>
                              <a:lnTo>
                                <a:pt x="795" y="654"/>
                              </a:lnTo>
                              <a:lnTo>
                                <a:pt x="788" y="656"/>
                              </a:lnTo>
                              <a:lnTo>
                                <a:pt x="784" y="652"/>
                              </a:lnTo>
                              <a:lnTo>
                                <a:pt x="778" y="629"/>
                              </a:lnTo>
                              <a:lnTo>
                                <a:pt x="775" y="639"/>
                              </a:lnTo>
                              <a:lnTo>
                                <a:pt x="757" y="632"/>
                              </a:lnTo>
                              <a:lnTo>
                                <a:pt x="753" y="637"/>
                              </a:lnTo>
                              <a:lnTo>
                                <a:pt x="776" y="650"/>
                              </a:lnTo>
                              <a:lnTo>
                                <a:pt x="764" y="654"/>
                              </a:lnTo>
                              <a:lnTo>
                                <a:pt x="766" y="665"/>
                              </a:lnTo>
                              <a:lnTo>
                                <a:pt x="748" y="657"/>
                              </a:lnTo>
                              <a:lnTo>
                                <a:pt x="724" y="634"/>
                              </a:lnTo>
                              <a:lnTo>
                                <a:pt x="690" y="619"/>
                              </a:lnTo>
                              <a:lnTo>
                                <a:pt x="666" y="618"/>
                              </a:lnTo>
                              <a:lnTo>
                                <a:pt x="682" y="595"/>
                              </a:lnTo>
                              <a:lnTo>
                                <a:pt x="691" y="606"/>
                              </a:lnTo>
                              <a:lnTo>
                                <a:pt x="692" y="595"/>
                              </a:lnTo>
                              <a:lnTo>
                                <a:pt x="678" y="585"/>
                              </a:lnTo>
                              <a:lnTo>
                                <a:pt x="668" y="603"/>
                              </a:lnTo>
                              <a:lnTo>
                                <a:pt x="648" y="604"/>
                              </a:lnTo>
                              <a:lnTo>
                                <a:pt x="560" y="595"/>
                              </a:lnTo>
                              <a:lnTo>
                                <a:pt x="563" y="581"/>
                              </a:lnTo>
                              <a:lnTo>
                                <a:pt x="554" y="585"/>
                              </a:lnTo>
                              <a:lnTo>
                                <a:pt x="543" y="572"/>
                              </a:lnTo>
                              <a:lnTo>
                                <a:pt x="530" y="579"/>
                              </a:lnTo>
                              <a:lnTo>
                                <a:pt x="525" y="570"/>
                              </a:lnTo>
                              <a:lnTo>
                                <a:pt x="502" y="580"/>
                              </a:lnTo>
                              <a:lnTo>
                                <a:pt x="500" y="572"/>
                              </a:lnTo>
                              <a:lnTo>
                                <a:pt x="511" y="558"/>
                              </a:lnTo>
                              <a:lnTo>
                                <a:pt x="504" y="557"/>
                              </a:lnTo>
                              <a:lnTo>
                                <a:pt x="511" y="551"/>
                              </a:lnTo>
                              <a:lnTo>
                                <a:pt x="486" y="555"/>
                              </a:lnTo>
                              <a:lnTo>
                                <a:pt x="477" y="546"/>
                              </a:lnTo>
                              <a:lnTo>
                                <a:pt x="468" y="551"/>
                              </a:lnTo>
                              <a:lnTo>
                                <a:pt x="465" y="545"/>
                              </a:lnTo>
                              <a:lnTo>
                                <a:pt x="471" y="538"/>
                              </a:lnTo>
                              <a:lnTo>
                                <a:pt x="458" y="542"/>
                              </a:lnTo>
                              <a:lnTo>
                                <a:pt x="459" y="546"/>
                              </a:lnTo>
                              <a:lnTo>
                                <a:pt x="452" y="552"/>
                              </a:lnTo>
                              <a:lnTo>
                                <a:pt x="462" y="552"/>
                              </a:lnTo>
                              <a:lnTo>
                                <a:pt x="458" y="566"/>
                              </a:lnTo>
                              <a:lnTo>
                                <a:pt x="468" y="571"/>
                              </a:lnTo>
                              <a:lnTo>
                                <a:pt x="479" y="578"/>
                              </a:lnTo>
                              <a:lnTo>
                                <a:pt x="494" y="571"/>
                              </a:lnTo>
                              <a:lnTo>
                                <a:pt x="492" y="602"/>
                              </a:lnTo>
                              <a:lnTo>
                                <a:pt x="466" y="603"/>
                              </a:lnTo>
                              <a:lnTo>
                                <a:pt x="466" y="593"/>
                              </a:lnTo>
                              <a:lnTo>
                                <a:pt x="458" y="589"/>
                              </a:lnTo>
                              <a:lnTo>
                                <a:pt x="438" y="597"/>
                              </a:lnTo>
                              <a:lnTo>
                                <a:pt x="437" y="589"/>
                              </a:lnTo>
                              <a:lnTo>
                                <a:pt x="430" y="595"/>
                              </a:lnTo>
                              <a:lnTo>
                                <a:pt x="427" y="586"/>
                              </a:lnTo>
                              <a:lnTo>
                                <a:pt x="412" y="585"/>
                              </a:lnTo>
                              <a:lnTo>
                                <a:pt x="424" y="602"/>
                              </a:lnTo>
                              <a:lnTo>
                                <a:pt x="423" y="606"/>
                              </a:lnTo>
                              <a:lnTo>
                                <a:pt x="416" y="603"/>
                              </a:lnTo>
                              <a:lnTo>
                                <a:pt x="398" y="612"/>
                              </a:lnTo>
                              <a:lnTo>
                                <a:pt x="394" y="609"/>
                              </a:lnTo>
                              <a:lnTo>
                                <a:pt x="381" y="632"/>
                              </a:lnTo>
                              <a:lnTo>
                                <a:pt x="375" y="623"/>
                              </a:lnTo>
                              <a:lnTo>
                                <a:pt x="371" y="629"/>
                              </a:lnTo>
                              <a:lnTo>
                                <a:pt x="358" y="626"/>
                              </a:lnTo>
                              <a:lnTo>
                                <a:pt x="356" y="614"/>
                              </a:lnTo>
                              <a:lnTo>
                                <a:pt x="372" y="614"/>
                              </a:lnTo>
                              <a:lnTo>
                                <a:pt x="381" y="604"/>
                              </a:lnTo>
                              <a:lnTo>
                                <a:pt x="355" y="603"/>
                              </a:lnTo>
                              <a:lnTo>
                                <a:pt x="378" y="549"/>
                              </a:lnTo>
                              <a:lnTo>
                                <a:pt x="417" y="540"/>
                              </a:lnTo>
                              <a:lnTo>
                                <a:pt x="412" y="528"/>
                              </a:lnTo>
                              <a:lnTo>
                                <a:pt x="437" y="514"/>
                              </a:lnTo>
                              <a:lnTo>
                                <a:pt x="404" y="523"/>
                              </a:lnTo>
                              <a:lnTo>
                                <a:pt x="410" y="496"/>
                              </a:lnTo>
                              <a:lnTo>
                                <a:pt x="393" y="527"/>
                              </a:lnTo>
                              <a:lnTo>
                                <a:pt x="372" y="538"/>
                              </a:lnTo>
                              <a:lnTo>
                                <a:pt x="347" y="570"/>
                              </a:lnTo>
                              <a:lnTo>
                                <a:pt x="330" y="570"/>
                              </a:lnTo>
                              <a:lnTo>
                                <a:pt x="339" y="586"/>
                              </a:lnTo>
                              <a:lnTo>
                                <a:pt x="295" y="621"/>
                              </a:lnTo>
                              <a:lnTo>
                                <a:pt x="315" y="629"/>
                              </a:lnTo>
                              <a:lnTo>
                                <a:pt x="310" y="644"/>
                              </a:lnTo>
                              <a:lnTo>
                                <a:pt x="212" y="719"/>
                              </a:lnTo>
                              <a:lnTo>
                                <a:pt x="141" y="738"/>
                              </a:lnTo>
                              <a:lnTo>
                                <a:pt x="162" y="746"/>
                              </a:lnTo>
                              <a:lnTo>
                                <a:pt x="120" y="770"/>
                              </a:lnTo>
                              <a:lnTo>
                                <a:pt x="112" y="759"/>
                              </a:lnTo>
                              <a:lnTo>
                                <a:pt x="82" y="770"/>
                              </a:lnTo>
                              <a:lnTo>
                                <a:pt x="61" y="770"/>
                              </a:lnTo>
                              <a:lnTo>
                                <a:pt x="61" y="757"/>
                              </a:lnTo>
                              <a:lnTo>
                                <a:pt x="33" y="783"/>
                              </a:lnTo>
                              <a:lnTo>
                                <a:pt x="25" y="781"/>
                              </a:lnTo>
                              <a:lnTo>
                                <a:pt x="25" y="768"/>
                              </a:lnTo>
                              <a:lnTo>
                                <a:pt x="20" y="781"/>
                              </a:lnTo>
                              <a:lnTo>
                                <a:pt x="0" y="778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9" name=""/>
                    <p:cNvGrpSpPr/>
                    <p:nvPr/>
                  </p:nvGrpSpPr>
                  <p:grpSpPr>
                    <a:xfrm>
                      <a:off x="3180240" y="4759920"/>
                      <a:ext cx="690480" cy="491040"/>
                      <a:chOff x="3180240" y="4759920"/>
                      <a:chExt cx="690480" cy="491040"/>
                    </a:xfrm>
                  </p:grpSpPr>
                  <p:sp>
                    <p:nvSpPr>
                      <p:cNvPr id="370" name=""/>
                      <p:cNvSpPr/>
                      <p:nvPr/>
                    </p:nvSpPr>
                    <p:spPr>
                      <a:xfrm>
                        <a:off x="3180240" y="5211360"/>
                        <a:ext cx="2052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34">
                            <a:moveTo>
                              <a:pt x="0" y="33"/>
                            </a:moveTo>
                            <a:lnTo>
                              <a:pt x="4" y="0"/>
                            </a:lnTo>
                            <a:lnTo>
                              <a:pt x="17" y="28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71" name=""/>
                      <p:cNvGrpSpPr/>
                      <p:nvPr/>
                    </p:nvGrpSpPr>
                    <p:grpSpPr>
                      <a:xfrm>
                        <a:off x="3187080" y="4759920"/>
                        <a:ext cx="683640" cy="478440"/>
                        <a:chOff x="3187080" y="4759920"/>
                        <a:chExt cx="683640" cy="478440"/>
                      </a:xfrm>
                    </p:grpSpPr>
                    <p:sp>
                      <p:nvSpPr>
                        <p:cNvPr id="372" name=""/>
                        <p:cNvSpPr/>
                        <p:nvPr/>
                      </p:nvSpPr>
                      <p:spPr>
                        <a:xfrm>
                          <a:off x="3559680" y="4955040"/>
                          <a:ext cx="33480" cy="25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" h="22">
                              <a:moveTo>
                                <a:pt x="0" y="0"/>
                              </a:moveTo>
                              <a:lnTo>
                                <a:pt x="10" y="21"/>
                              </a:lnTo>
                              <a:lnTo>
                                <a:pt x="28" y="13"/>
                              </a:lnTo>
                              <a:lnTo>
                                <a:pt x="19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cc99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73" name=""/>
                        <p:cNvGrpSpPr/>
                        <p:nvPr/>
                      </p:nvGrpSpPr>
                      <p:grpSpPr>
                        <a:xfrm>
                          <a:off x="3187080" y="4759920"/>
                          <a:ext cx="683640" cy="478440"/>
                          <a:chOff x="3187080" y="4759920"/>
                          <a:chExt cx="683640" cy="478440"/>
                        </a:xfrm>
                      </p:grpSpPr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3523680" y="4911120"/>
                            <a:ext cx="82800" cy="23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1" h="20">
                                <a:moveTo>
                                  <a:pt x="0" y="15"/>
                                </a:moveTo>
                                <a:lnTo>
                                  <a:pt x="8" y="0"/>
                                </a:lnTo>
                                <a:lnTo>
                                  <a:pt x="70" y="6"/>
                                </a:lnTo>
                                <a:lnTo>
                                  <a:pt x="57" y="19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760" bIns="-23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3187080" y="4759920"/>
                            <a:ext cx="68400" cy="5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" h="49">
                                <a:moveTo>
                                  <a:pt x="0" y="28"/>
                                </a:moveTo>
                                <a:lnTo>
                                  <a:pt x="21" y="48"/>
                                </a:lnTo>
                                <a:lnTo>
                                  <a:pt x="34" y="47"/>
                                </a:lnTo>
                                <a:lnTo>
                                  <a:pt x="53" y="36"/>
                                </a:lnTo>
                                <a:lnTo>
                                  <a:pt x="58" y="10"/>
                                </a:lnTo>
                                <a:lnTo>
                                  <a:pt x="46" y="0"/>
                                </a:lnTo>
                                <a:lnTo>
                                  <a:pt x="29" y="2"/>
                                </a:lnTo>
                                <a:lnTo>
                                  <a:pt x="0" y="28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0080" bIns="100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6" name=""/>
                          <p:cNvSpPr/>
                          <p:nvPr/>
                        </p:nvSpPr>
                        <p:spPr>
                          <a:xfrm>
                            <a:off x="3395520" y="4840200"/>
                            <a:ext cx="81360" cy="68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0" h="59">
                                <a:moveTo>
                                  <a:pt x="0" y="15"/>
                                </a:moveTo>
                                <a:lnTo>
                                  <a:pt x="16" y="48"/>
                                </a:lnTo>
                                <a:lnTo>
                                  <a:pt x="32" y="48"/>
                                </a:lnTo>
                                <a:lnTo>
                                  <a:pt x="33" y="38"/>
                                </a:lnTo>
                                <a:lnTo>
                                  <a:pt x="53" y="58"/>
                                </a:lnTo>
                                <a:lnTo>
                                  <a:pt x="69" y="55"/>
                                </a:lnTo>
                                <a:lnTo>
                                  <a:pt x="65" y="35"/>
                                </a:lnTo>
                                <a:lnTo>
                                  <a:pt x="50" y="31"/>
                                </a:lnTo>
                                <a:lnTo>
                                  <a:pt x="37" y="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1600" bIns="216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7" name=""/>
                          <p:cNvSpPr/>
                          <p:nvPr/>
                        </p:nvSpPr>
                        <p:spPr>
                          <a:xfrm>
                            <a:off x="3608640" y="4934160"/>
                            <a:ext cx="102240" cy="62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8" h="54">
                                <a:moveTo>
                                  <a:pt x="0" y="15"/>
                                </a:moveTo>
                                <a:lnTo>
                                  <a:pt x="11" y="0"/>
                                </a:lnTo>
                                <a:lnTo>
                                  <a:pt x="23" y="15"/>
                                </a:lnTo>
                                <a:lnTo>
                                  <a:pt x="52" y="12"/>
                                </a:lnTo>
                                <a:lnTo>
                                  <a:pt x="87" y="35"/>
                                </a:lnTo>
                                <a:lnTo>
                                  <a:pt x="74" y="45"/>
                                </a:lnTo>
                                <a:lnTo>
                                  <a:pt x="35" y="53"/>
                                </a:lnTo>
                                <a:lnTo>
                                  <a:pt x="26" y="30"/>
                                </a:lnTo>
                                <a:lnTo>
                                  <a:pt x="11" y="30"/>
                                </a:lnTo>
                                <a:lnTo>
                                  <a:pt x="0" y="15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840" bIns="1584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8" name=""/>
                          <p:cNvSpPr/>
                          <p:nvPr/>
                        </p:nvSpPr>
                        <p:spPr>
                          <a:xfrm>
                            <a:off x="3698280" y="5046120"/>
                            <a:ext cx="172440" cy="192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" h="165">
                                <a:moveTo>
                                  <a:pt x="0" y="64"/>
                                </a:moveTo>
                                <a:lnTo>
                                  <a:pt x="20" y="110"/>
                                </a:lnTo>
                                <a:lnTo>
                                  <a:pt x="17" y="147"/>
                                </a:lnTo>
                                <a:lnTo>
                                  <a:pt x="47" y="164"/>
                                </a:lnTo>
                                <a:lnTo>
                                  <a:pt x="65" y="137"/>
                                </a:lnTo>
                                <a:lnTo>
                                  <a:pt x="127" y="111"/>
                                </a:lnTo>
                                <a:lnTo>
                                  <a:pt x="147" y="91"/>
                                </a:lnTo>
                                <a:lnTo>
                                  <a:pt x="96" y="33"/>
                                </a:lnTo>
                                <a:lnTo>
                                  <a:pt x="24" y="0"/>
                                </a:lnTo>
                                <a:lnTo>
                                  <a:pt x="17" y="9"/>
                                </a:lnTo>
                                <a:lnTo>
                                  <a:pt x="27" y="34"/>
                                </a:lnTo>
                                <a:lnTo>
                                  <a:pt x="0" y="64"/>
                                </a:lnTo>
                              </a:path>
                            </a:pathLst>
                          </a:custGeom>
                          <a:solidFill>
                            <a:srgbClr val="00cc99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79" name=""/>
                  <p:cNvSpPr/>
                  <p:nvPr/>
                </p:nvSpPr>
                <p:spPr>
                  <a:xfrm>
                    <a:off x="2517480" y="1665720"/>
                    <a:ext cx="699120" cy="1125000"/>
                  </a:xfrm>
                  <a:custGeom>
                    <a:avLst/>
                    <a:gdLst/>
                    <a:ahLst/>
                    <a:rect l="l" t="t" r="r" b="b"/>
                    <a:pathLst>
                      <a:path w="600" h="966">
                        <a:moveTo>
                          <a:pt x="0" y="857"/>
                        </a:moveTo>
                        <a:lnTo>
                          <a:pt x="48" y="649"/>
                        </a:lnTo>
                        <a:lnTo>
                          <a:pt x="72" y="595"/>
                        </a:lnTo>
                        <a:lnTo>
                          <a:pt x="51" y="569"/>
                        </a:lnTo>
                        <a:lnTo>
                          <a:pt x="56" y="544"/>
                        </a:lnTo>
                        <a:lnTo>
                          <a:pt x="94" y="509"/>
                        </a:lnTo>
                        <a:lnTo>
                          <a:pt x="125" y="461"/>
                        </a:lnTo>
                        <a:lnTo>
                          <a:pt x="152" y="419"/>
                        </a:lnTo>
                        <a:lnTo>
                          <a:pt x="132" y="387"/>
                        </a:lnTo>
                        <a:lnTo>
                          <a:pt x="123" y="366"/>
                        </a:lnTo>
                        <a:lnTo>
                          <a:pt x="126" y="312"/>
                        </a:lnTo>
                        <a:lnTo>
                          <a:pt x="200" y="0"/>
                        </a:lnTo>
                        <a:lnTo>
                          <a:pt x="280" y="17"/>
                        </a:lnTo>
                        <a:lnTo>
                          <a:pt x="253" y="139"/>
                        </a:lnTo>
                        <a:lnTo>
                          <a:pt x="271" y="182"/>
                        </a:lnTo>
                        <a:lnTo>
                          <a:pt x="272" y="210"/>
                        </a:lnTo>
                        <a:lnTo>
                          <a:pt x="262" y="214"/>
                        </a:lnTo>
                        <a:lnTo>
                          <a:pt x="293" y="244"/>
                        </a:lnTo>
                        <a:lnTo>
                          <a:pt x="325" y="321"/>
                        </a:lnTo>
                        <a:lnTo>
                          <a:pt x="336" y="318"/>
                        </a:lnTo>
                        <a:lnTo>
                          <a:pt x="337" y="329"/>
                        </a:lnTo>
                        <a:lnTo>
                          <a:pt x="352" y="333"/>
                        </a:lnTo>
                        <a:lnTo>
                          <a:pt x="363" y="335"/>
                        </a:lnTo>
                        <a:lnTo>
                          <a:pt x="336" y="391"/>
                        </a:lnTo>
                        <a:lnTo>
                          <a:pt x="340" y="429"/>
                        </a:lnTo>
                        <a:lnTo>
                          <a:pt x="318" y="465"/>
                        </a:lnTo>
                        <a:lnTo>
                          <a:pt x="332" y="482"/>
                        </a:lnTo>
                        <a:lnTo>
                          <a:pt x="373" y="458"/>
                        </a:lnTo>
                        <a:lnTo>
                          <a:pt x="403" y="581"/>
                        </a:lnTo>
                        <a:lnTo>
                          <a:pt x="421" y="586"/>
                        </a:lnTo>
                        <a:lnTo>
                          <a:pt x="425" y="624"/>
                        </a:lnTo>
                        <a:lnTo>
                          <a:pt x="440" y="640"/>
                        </a:lnTo>
                        <a:lnTo>
                          <a:pt x="453" y="626"/>
                        </a:lnTo>
                        <a:lnTo>
                          <a:pt x="480" y="638"/>
                        </a:lnTo>
                        <a:lnTo>
                          <a:pt x="496" y="624"/>
                        </a:lnTo>
                        <a:lnTo>
                          <a:pt x="552" y="637"/>
                        </a:lnTo>
                        <a:lnTo>
                          <a:pt x="564" y="639"/>
                        </a:lnTo>
                        <a:lnTo>
                          <a:pt x="577" y="615"/>
                        </a:lnTo>
                        <a:lnTo>
                          <a:pt x="599" y="654"/>
                        </a:lnTo>
                        <a:lnTo>
                          <a:pt x="548" y="965"/>
                        </a:lnTo>
                        <a:lnTo>
                          <a:pt x="273" y="916"/>
                        </a:lnTo>
                        <a:lnTo>
                          <a:pt x="0" y="857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ff00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>
                    <a:off x="4727880" y="2695680"/>
                    <a:ext cx="697680" cy="463680"/>
                  </a:xfrm>
                  <a:custGeom>
                    <a:avLst/>
                    <a:gdLst/>
                    <a:ahLst/>
                    <a:rect l="l" t="t" r="r" b="b"/>
                    <a:pathLst>
                      <a:path w="599" h="398">
                        <a:moveTo>
                          <a:pt x="0" y="9"/>
                        </a:moveTo>
                        <a:lnTo>
                          <a:pt x="1" y="39"/>
                        </a:lnTo>
                        <a:lnTo>
                          <a:pt x="12" y="62"/>
                        </a:lnTo>
                        <a:lnTo>
                          <a:pt x="5" y="85"/>
                        </a:lnTo>
                        <a:lnTo>
                          <a:pt x="11" y="139"/>
                        </a:lnTo>
                        <a:lnTo>
                          <a:pt x="40" y="216"/>
                        </a:lnTo>
                        <a:lnTo>
                          <a:pt x="41" y="242"/>
                        </a:lnTo>
                        <a:lnTo>
                          <a:pt x="59" y="278"/>
                        </a:lnTo>
                        <a:lnTo>
                          <a:pt x="68" y="338"/>
                        </a:lnTo>
                        <a:lnTo>
                          <a:pt x="63" y="356"/>
                        </a:lnTo>
                        <a:lnTo>
                          <a:pt x="74" y="376"/>
                        </a:lnTo>
                        <a:lnTo>
                          <a:pt x="460" y="368"/>
                        </a:lnTo>
                        <a:lnTo>
                          <a:pt x="490" y="397"/>
                        </a:lnTo>
                        <a:lnTo>
                          <a:pt x="516" y="354"/>
                        </a:lnTo>
                        <a:lnTo>
                          <a:pt x="531" y="307"/>
                        </a:lnTo>
                        <a:lnTo>
                          <a:pt x="517" y="273"/>
                        </a:lnTo>
                        <a:lnTo>
                          <a:pt x="584" y="221"/>
                        </a:lnTo>
                        <a:lnTo>
                          <a:pt x="598" y="193"/>
                        </a:lnTo>
                        <a:lnTo>
                          <a:pt x="598" y="181"/>
                        </a:lnTo>
                        <a:lnTo>
                          <a:pt x="550" y="124"/>
                        </a:lnTo>
                        <a:lnTo>
                          <a:pt x="500" y="64"/>
                        </a:lnTo>
                        <a:lnTo>
                          <a:pt x="490" y="0"/>
                        </a:lnTo>
                        <a:lnTo>
                          <a:pt x="13" y="10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1" name=""/>
                  <p:cNvSpPr/>
                  <p:nvPr/>
                </p:nvSpPr>
                <p:spPr>
                  <a:xfrm>
                    <a:off x="4078800" y="3197880"/>
                    <a:ext cx="869040" cy="469080"/>
                  </a:xfrm>
                  <a:custGeom>
                    <a:avLst/>
                    <a:gdLst/>
                    <a:ahLst/>
                    <a:rect l="l" t="t" r="r" b="b"/>
                    <a:pathLst>
                      <a:path w="746" h="403">
                        <a:moveTo>
                          <a:pt x="0" y="381"/>
                        </a:moveTo>
                        <a:lnTo>
                          <a:pt x="25" y="0"/>
                        </a:lnTo>
                        <a:lnTo>
                          <a:pt x="303" y="15"/>
                        </a:lnTo>
                        <a:lnTo>
                          <a:pt x="671" y="20"/>
                        </a:lnTo>
                        <a:lnTo>
                          <a:pt x="691" y="37"/>
                        </a:lnTo>
                        <a:lnTo>
                          <a:pt x="704" y="34"/>
                        </a:lnTo>
                        <a:lnTo>
                          <a:pt x="715" y="44"/>
                        </a:lnTo>
                        <a:lnTo>
                          <a:pt x="716" y="53"/>
                        </a:lnTo>
                        <a:lnTo>
                          <a:pt x="706" y="53"/>
                        </a:lnTo>
                        <a:lnTo>
                          <a:pt x="693" y="80"/>
                        </a:lnTo>
                        <a:lnTo>
                          <a:pt x="723" y="122"/>
                        </a:lnTo>
                        <a:lnTo>
                          <a:pt x="745" y="130"/>
                        </a:lnTo>
                        <a:lnTo>
                          <a:pt x="742" y="400"/>
                        </a:lnTo>
                        <a:lnTo>
                          <a:pt x="425" y="402"/>
                        </a:lnTo>
                        <a:lnTo>
                          <a:pt x="0" y="38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"/>
                  <p:cNvSpPr/>
                  <p:nvPr/>
                </p:nvSpPr>
                <p:spPr>
                  <a:xfrm>
                    <a:off x="4813920" y="3124440"/>
                    <a:ext cx="778320" cy="675720"/>
                  </a:xfrm>
                  <a:custGeom>
                    <a:avLst/>
                    <a:gdLst/>
                    <a:ahLst/>
                    <a:rect l="l" t="t" r="r" b="b"/>
                    <a:pathLst>
                      <a:path w="668" h="580">
                        <a:moveTo>
                          <a:pt x="0" y="8"/>
                        </a:moveTo>
                        <a:lnTo>
                          <a:pt x="40" y="83"/>
                        </a:lnTo>
                        <a:lnTo>
                          <a:pt x="60" y="100"/>
                        </a:lnTo>
                        <a:lnTo>
                          <a:pt x="73" y="97"/>
                        </a:lnTo>
                        <a:lnTo>
                          <a:pt x="84" y="107"/>
                        </a:lnTo>
                        <a:lnTo>
                          <a:pt x="85" y="116"/>
                        </a:lnTo>
                        <a:lnTo>
                          <a:pt x="75" y="116"/>
                        </a:lnTo>
                        <a:lnTo>
                          <a:pt x="62" y="143"/>
                        </a:lnTo>
                        <a:lnTo>
                          <a:pt x="92" y="185"/>
                        </a:lnTo>
                        <a:lnTo>
                          <a:pt x="114" y="193"/>
                        </a:lnTo>
                        <a:lnTo>
                          <a:pt x="111" y="463"/>
                        </a:lnTo>
                        <a:lnTo>
                          <a:pt x="113" y="529"/>
                        </a:lnTo>
                        <a:lnTo>
                          <a:pt x="556" y="514"/>
                        </a:lnTo>
                        <a:lnTo>
                          <a:pt x="562" y="553"/>
                        </a:lnTo>
                        <a:lnTo>
                          <a:pt x="544" y="579"/>
                        </a:lnTo>
                        <a:lnTo>
                          <a:pt x="612" y="575"/>
                        </a:lnTo>
                        <a:lnTo>
                          <a:pt x="622" y="553"/>
                        </a:lnTo>
                        <a:lnTo>
                          <a:pt x="625" y="529"/>
                        </a:lnTo>
                        <a:lnTo>
                          <a:pt x="639" y="510"/>
                        </a:lnTo>
                        <a:lnTo>
                          <a:pt x="647" y="492"/>
                        </a:lnTo>
                        <a:lnTo>
                          <a:pt x="662" y="489"/>
                        </a:lnTo>
                        <a:lnTo>
                          <a:pt x="667" y="450"/>
                        </a:lnTo>
                        <a:lnTo>
                          <a:pt x="658" y="446"/>
                        </a:lnTo>
                        <a:lnTo>
                          <a:pt x="642" y="445"/>
                        </a:lnTo>
                        <a:lnTo>
                          <a:pt x="627" y="415"/>
                        </a:lnTo>
                        <a:lnTo>
                          <a:pt x="619" y="374"/>
                        </a:lnTo>
                        <a:lnTo>
                          <a:pt x="601" y="347"/>
                        </a:lnTo>
                        <a:lnTo>
                          <a:pt x="575" y="336"/>
                        </a:lnTo>
                        <a:lnTo>
                          <a:pt x="543" y="310"/>
                        </a:lnTo>
                        <a:lnTo>
                          <a:pt x="531" y="274"/>
                        </a:lnTo>
                        <a:lnTo>
                          <a:pt x="550" y="219"/>
                        </a:lnTo>
                        <a:lnTo>
                          <a:pt x="533" y="208"/>
                        </a:lnTo>
                        <a:lnTo>
                          <a:pt x="495" y="209"/>
                        </a:lnTo>
                        <a:lnTo>
                          <a:pt x="488" y="174"/>
                        </a:lnTo>
                        <a:lnTo>
                          <a:pt x="424" y="107"/>
                        </a:lnTo>
                        <a:lnTo>
                          <a:pt x="408" y="51"/>
                        </a:lnTo>
                        <a:lnTo>
                          <a:pt x="416" y="29"/>
                        </a:lnTo>
                        <a:lnTo>
                          <a:pt x="386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>
                    <a:off x="2812320" y="1685520"/>
                    <a:ext cx="1194120" cy="759240"/>
                  </a:xfrm>
                  <a:custGeom>
                    <a:avLst/>
                    <a:gdLst/>
                    <a:ahLst/>
                    <a:rect l="l" t="t" r="r" b="b"/>
                    <a:pathLst>
                      <a:path w="1026" h="652">
                        <a:moveTo>
                          <a:pt x="0" y="122"/>
                        </a:moveTo>
                        <a:lnTo>
                          <a:pt x="18" y="165"/>
                        </a:lnTo>
                        <a:lnTo>
                          <a:pt x="19" y="193"/>
                        </a:lnTo>
                        <a:lnTo>
                          <a:pt x="9" y="197"/>
                        </a:lnTo>
                        <a:lnTo>
                          <a:pt x="40" y="227"/>
                        </a:lnTo>
                        <a:lnTo>
                          <a:pt x="72" y="304"/>
                        </a:lnTo>
                        <a:lnTo>
                          <a:pt x="83" y="301"/>
                        </a:lnTo>
                        <a:lnTo>
                          <a:pt x="84" y="312"/>
                        </a:lnTo>
                        <a:lnTo>
                          <a:pt x="99" y="316"/>
                        </a:lnTo>
                        <a:lnTo>
                          <a:pt x="110" y="318"/>
                        </a:lnTo>
                        <a:lnTo>
                          <a:pt x="83" y="374"/>
                        </a:lnTo>
                        <a:lnTo>
                          <a:pt x="87" y="412"/>
                        </a:lnTo>
                        <a:lnTo>
                          <a:pt x="65" y="448"/>
                        </a:lnTo>
                        <a:lnTo>
                          <a:pt x="79" y="465"/>
                        </a:lnTo>
                        <a:lnTo>
                          <a:pt x="120" y="441"/>
                        </a:lnTo>
                        <a:lnTo>
                          <a:pt x="150" y="564"/>
                        </a:lnTo>
                        <a:lnTo>
                          <a:pt x="168" y="569"/>
                        </a:lnTo>
                        <a:lnTo>
                          <a:pt x="172" y="607"/>
                        </a:lnTo>
                        <a:lnTo>
                          <a:pt x="187" y="623"/>
                        </a:lnTo>
                        <a:lnTo>
                          <a:pt x="200" y="609"/>
                        </a:lnTo>
                        <a:lnTo>
                          <a:pt x="227" y="621"/>
                        </a:lnTo>
                        <a:lnTo>
                          <a:pt x="243" y="607"/>
                        </a:lnTo>
                        <a:lnTo>
                          <a:pt x="299" y="620"/>
                        </a:lnTo>
                        <a:lnTo>
                          <a:pt x="311" y="622"/>
                        </a:lnTo>
                        <a:lnTo>
                          <a:pt x="324" y="598"/>
                        </a:lnTo>
                        <a:lnTo>
                          <a:pt x="346" y="637"/>
                        </a:lnTo>
                        <a:lnTo>
                          <a:pt x="358" y="575"/>
                        </a:lnTo>
                        <a:lnTo>
                          <a:pt x="635" y="616"/>
                        </a:lnTo>
                        <a:lnTo>
                          <a:pt x="980" y="651"/>
                        </a:lnTo>
                        <a:lnTo>
                          <a:pt x="990" y="534"/>
                        </a:lnTo>
                        <a:lnTo>
                          <a:pt x="1025" y="153"/>
                        </a:lnTo>
                        <a:lnTo>
                          <a:pt x="571" y="99"/>
                        </a:lnTo>
                        <a:lnTo>
                          <a:pt x="344" y="62"/>
                        </a:lnTo>
                        <a:lnTo>
                          <a:pt x="27" y="0"/>
                        </a:lnTo>
                        <a:lnTo>
                          <a:pt x="0" y="12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4" name=""/>
                  <p:cNvSpPr/>
                  <p:nvPr/>
                </p:nvSpPr>
                <p:spPr>
                  <a:xfrm>
                    <a:off x="3897360" y="2738880"/>
                    <a:ext cx="964440" cy="483120"/>
                  </a:xfrm>
                  <a:custGeom>
                    <a:avLst/>
                    <a:gdLst/>
                    <a:ahLst/>
                    <a:rect l="l" t="t" r="r" b="b"/>
                    <a:pathLst>
                      <a:path w="828" h="415">
                        <a:moveTo>
                          <a:pt x="0" y="252"/>
                        </a:moveTo>
                        <a:lnTo>
                          <a:pt x="24" y="0"/>
                        </a:lnTo>
                        <a:lnTo>
                          <a:pt x="534" y="31"/>
                        </a:lnTo>
                        <a:lnTo>
                          <a:pt x="568" y="57"/>
                        </a:lnTo>
                        <a:lnTo>
                          <a:pt x="629" y="55"/>
                        </a:lnTo>
                        <a:lnTo>
                          <a:pt x="657" y="61"/>
                        </a:lnTo>
                        <a:lnTo>
                          <a:pt x="692" y="75"/>
                        </a:lnTo>
                        <a:lnTo>
                          <a:pt x="709" y="97"/>
                        </a:lnTo>
                        <a:lnTo>
                          <a:pt x="724" y="102"/>
                        </a:lnTo>
                        <a:lnTo>
                          <a:pt x="753" y="179"/>
                        </a:lnTo>
                        <a:lnTo>
                          <a:pt x="754" y="205"/>
                        </a:lnTo>
                        <a:lnTo>
                          <a:pt x="772" y="241"/>
                        </a:lnTo>
                        <a:lnTo>
                          <a:pt x="781" y="301"/>
                        </a:lnTo>
                        <a:lnTo>
                          <a:pt x="776" y="319"/>
                        </a:lnTo>
                        <a:lnTo>
                          <a:pt x="787" y="339"/>
                        </a:lnTo>
                        <a:lnTo>
                          <a:pt x="827" y="414"/>
                        </a:lnTo>
                        <a:lnTo>
                          <a:pt x="459" y="409"/>
                        </a:lnTo>
                        <a:lnTo>
                          <a:pt x="181" y="394"/>
                        </a:lnTo>
                        <a:lnTo>
                          <a:pt x="189" y="269"/>
                        </a:lnTo>
                        <a:lnTo>
                          <a:pt x="0" y="25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2093400" y="2583720"/>
                    <a:ext cx="743400" cy="11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638" h="986">
                        <a:moveTo>
                          <a:pt x="0" y="362"/>
                        </a:moveTo>
                        <a:lnTo>
                          <a:pt x="28" y="419"/>
                        </a:lnTo>
                        <a:lnTo>
                          <a:pt x="405" y="985"/>
                        </a:lnTo>
                        <a:lnTo>
                          <a:pt x="419" y="853"/>
                        </a:lnTo>
                        <a:lnTo>
                          <a:pt x="442" y="846"/>
                        </a:lnTo>
                        <a:lnTo>
                          <a:pt x="481" y="868"/>
                        </a:lnTo>
                        <a:lnTo>
                          <a:pt x="514" y="751"/>
                        </a:lnTo>
                        <a:lnTo>
                          <a:pt x="637" y="128"/>
                        </a:lnTo>
                        <a:lnTo>
                          <a:pt x="364" y="69"/>
                        </a:lnTo>
                        <a:lnTo>
                          <a:pt x="94" y="0"/>
                        </a:lnTo>
                        <a:lnTo>
                          <a:pt x="0" y="362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3964680" y="1864080"/>
                    <a:ext cx="770040" cy="484200"/>
                  </a:xfrm>
                  <a:custGeom>
                    <a:avLst/>
                    <a:gdLst/>
                    <a:ahLst/>
                    <a:rect l="l" t="t" r="r" b="b"/>
                    <a:pathLst>
                      <a:path w="661" h="416">
                        <a:moveTo>
                          <a:pt x="0" y="381"/>
                        </a:moveTo>
                        <a:lnTo>
                          <a:pt x="35" y="0"/>
                        </a:lnTo>
                        <a:lnTo>
                          <a:pt x="360" y="22"/>
                        </a:lnTo>
                        <a:lnTo>
                          <a:pt x="609" y="30"/>
                        </a:lnTo>
                        <a:lnTo>
                          <a:pt x="614" y="135"/>
                        </a:lnTo>
                        <a:lnTo>
                          <a:pt x="639" y="218"/>
                        </a:lnTo>
                        <a:lnTo>
                          <a:pt x="642" y="327"/>
                        </a:lnTo>
                        <a:lnTo>
                          <a:pt x="660" y="415"/>
                        </a:lnTo>
                        <a:lnTo>
                          <a:pt x="313" y="404"/>
                        </a:lnTo>
                        <a:lnTo>
                          <a:pt x="0" y="381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1764720" y="1869840"/>
                    <a:ext cx="930600" cy="795600"/>
                  </a:xfrm>
                  <a:custGeom>
                    <a:avLst/>
                    <a:gdLst/>
                    <a:ahLst/>
                    <a:rect l="l" t="t" r="r" b="b"/>
                    <a:pathLst>
                      <a:path w="799" h="683">
                        <a:moveTo>
                          <a:pt x="0" y="508"/>
                        </a:moveTo>
                        <a:lnTo>
                          <a:pt x="13" y="385"/>
                        </a:lnTo>
                        <a:lnTo>
                          <a:pt x="75" y="286"/>
                        </a:lnTo>
                        <a:lnTo>
                          <a:pt x="173" y="0"/>
                        </a:lnTo>
                        <a:lnTo>
                          <a:pt x="223" y="17"/>
                        </a:lnTo>
                        <a:lnTo>
                          <a:pt x="225" y="30"/>
                        </a:lnTo>
                        <a:lnTo>
                          <a:pt x="238" y="31"/>
                        </a:lnTo>
                        <a:lnTo>
                          <a:pt x="264" y="80"/>
                        </a:lnTo>
                        <a:lnTo>
                          <a:pt x="258" y="97"/>
                        </a:lnTo>
                        <a:lnTo>
                          <a:pt x="298" y="129"/>
                        </a:lnTo>
                        <a:lnTo>
                          <a:pt x="366" y="127"/>
                        </a:lnTo>
                        <a:lnTo>
                          <a:pt x="416" y="149"/>
                        </a:lnTo>
                        <a:lnTo>
                          <a:pt x="441" y="145"/>
                        </a:lnTo>
                        <a:lnTo>
                          <a:pt x="595" y="149"/>
                        </a:lnTo>
                        <a:lnTo>
                          <a:pt x="769" y="191"/>
                        </a:lnTo>
                        <a:lnTo>
                          <a:pt x="778" y="212"/>
                        </a:lnTo>
                        <a:lnTo>
                          <a:pt x="798" y="244"/>
                        </a:lnTo>
                        <a:lnTo>
                          <a:pt x="771" y="286"/>
                        </a:lnTo>
                        <a:lnTo>
                          <a:pt x="740" y="334"/>
                        </a:lnTo>
                        <a:lnTo>
                          <a:pt x="702" y="369"/>
                        </a:lnTo>
                        <a:lnTo>
                          <a:pt x="697" y="394"/>
                        </a:lnTo>
                        <a:lnTo>
                          <a:pt x="718" y="420"/>
                        </a:lnTo>
                        <a:lnTo>
                          <a:pt x="694" y="474"/>
                        </a:lnTo>
                        <a:lnTo>
                          <a:pt x="646" y="682"/>
                        </a:lnTo>
                        <a:lnTo>
                          <a:pt x="376" y="613"/>
                        </a:lnTo>
                        <a:lnTo>
                          <a:pt x="0" y="508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"/>
                  <p:cNvSpPr/>
                  <p:nvPr/>
                </p:nvSpPr>
                <p:spPr>
                  <a:xfrm>
                    <a:off x="3925080" y="2307600"/>
                    <a:ext cx="821160" cy="550800"/>
                  </a:xfrm>
                  <a:custGeom>
                    <a:avLst/>
                    <a:gdLst/>
                    <a:ahLst/>
                    <a:rect l="l" t="t" r="r" b="b"/>
                    <a:pathLst>
                      <a:path w="705" h="473">
                        <a:moveTo>
                          <a:pt x="0" y="370"/>
                        </a:moveTo>
                        <a:lnTo>
                          <a:pt x="24" y="117"/>
                        </a:lnTo>
                        <a:lnTo>
                          <a:pt x="34" y="0"/>
                        </a:lnTo>
                        <a:lnTo>
                          <a:pt x="347" y="23"/>
                        </a:lnTo>
                        <a:lnTo>
                          <a:pt x="694" y="34"/>
                        </a:lnTo>
                        <a:lnTo>
                          <a:pt x="671" y="78"/>
                        </a:lnTo>
                        <a:lnTo>
                          <a:pt x="704" y="112"/>
                        </a:lnTo>
                        <a:lnTo>
                          <a:pt x="702" y="343"/>
                        </a:lnTo>
                        <a:lnTo>
                          <a:pt x="689" y="342"/>
                        </a:lnTo>
                        <a:lnTo>
                          <a:pt x="690" y="372"/>
                        </a:lnTo>
                        <a:lnTo>
                          <a:pt x="701" y="395"/>
                        </a:lnTo>
                        <a:lnTo>
                          <a:pt x="694" y="418"/>
                        </a:lnTo>
                        <a:lnTo>
                          <a:pt x="700" y="472"/>
                        </a:lnTo>
                        <a:lnTo>
                          <a:pt x="685" y="467"/>
                        </a:lnTo>
                        <a:lnTo>
                          <a:pt x="668" y="445"/>
                        </a:lnTo>
                        <a:lnTo>
                          <a:pt x="633" y="431"/>
                        </a:lnTo>
                        <a:lnTo>
                          <a:pt x="605" y="425"/>
                        </a:lnTo>
                        <a:lnTo>
                          <a:pt x="544" y="427"/>
                        </a:lnTo>
                        <a:lnTo>
                          <a:pt x="510" y="401"/>
                        </a:lnTo>
                        <a:lnTo>
                          <a:pt x="0" y="370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9" name=""/>
                  <p:cNvSpPr/>
                  <p:nvPr/>
                </p:nvSpPr>
                <p:spPr>
                  <a:xfrm>
                    <a:off x="2692440" y="2733120"/>
                    <a:ext cx="659520" cy="824400"/>
                  </a:xfrm>
                  <a:custGeom>
                    <a:avLst/>
                    <a:gdLst/>
                    <a:ahLst/>
                    <a:rect l="l" t="t" r="r" b="b"/>
                    <a:pathLst>
                      <a:path w="566" h="708">
                        <a:moveTo>
                          <a:pt x="0" y="623"/>
                        </a:moveTo>
                        <a:lnTo>
                          <a:pt x="123" y="0"/>
                        </a:lnTo>
                        <a:lnTo>
                          <a:pt x="398" y="49"/>
                        </a:lnTo>
                        <a:lnTo>
                          <a:pt x="377" y="175"/>
                        </a:lnTo>
                        <a:lnTo>
                          <a:pt x="565" y="203"/>
                        </a:lnTo>
                        <a:lnTo>
                          <a:pt x="494" y="707"/>
                        </a:lnTo>
                        <a:lnTo>
                          <a:pt x="0" y="623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1969920" y="1523880"/>
                    <a:ext cx="781560" cy="569520"/>
                  </a:xfrm>
                  <a:custGeom>
                    <a:avLst/>
                    <a:gdLst/>
                    <a:ahLst/>
                    <a:rect l="l" t="t" r="r" b="b"/>
                    <a:pathLst>
                      <a:path w="671" h="489">
                        <a:moveTo>
                          <a:pt x="15" y="84"/>
                        </a:moveTo>
                        <a:lnTo>
                          <a:pt x="25" y="107"/>
                        </a:lnTo>
                        <a:lnTo>
                          <a:pt x="23" y="135"/>
                        </a:lnTo>
                        <a:lnTo>
                          <a:pt x="21" y="160"/>
                        </a:lnTo>
                        <a:lnTo>
                          <a:pt x="24" y="172"/>
                        </a:lnTo>
                        <a:lnTo>
                          <a:pt x="18" y="208"/>
                        </a:lnTo>
                        <a:lnTo>
                          <a:pt x="30" y="200"/>
                        </a:lnTo>
                        <a:lnTo>
                          <a:pt x="47" y="215"/>
                        </a:lnTo>
                        <a:lnTo>
                          <a:pt x="29" y="217"/>
                        </a:lnTo>
                        <a:lnTo>
                          <a:pt x="17" y="215"/>
                        </a:lnTo>
                        <a:lnTo>
                          <a:pt x="16" y="231"/>
                        </a:lnTo>
                        <a:lnTo>
                          <a:pt x="15" y="241"/>
                        </a:lnTo>
                        <a:lnTo>
                          <a:pt x="31" y="241"/>
                        </a:lnTo>
                        <a:lnTo>
                          <a:pt x="33" y="248"/>
                        </a:lnTo>
                        <a:lnTo>
                          <a:pt x="21" y="253"/>
                        </a:lnTo>
                        <a:lnTo>
                          <a:pt x="23" y="268"/>
                        </a:lnTo>
                        <a:lnTo>
                          <a:pt x="14" y="284"/>
                        </a:lnTo>
                        <a:lnTo>
                          <a:pt x="8" y="283"/>
                        </a:lnTo>
                        <a:lnTo>
                          <a:pt x="14" y="258"/>
                        </a:lnTo>
                        <a:lnTo>
                          <a:pt x="10" y="252"/>
                        </a:lnTo>
                        <a:lnTo>
                          <a:pt x="0" y="288"/>
                        </a:lnTo>
                        <a:lnTo>
                          <a:pt x="17" y="301"/>
                        </a:lnTo>
                        <a:lnTo>
                          <a:pt x="47" y="314"/>
                        </a:lnTo>
                        <a:lnTo>
                          <a:pt x="49" y="327"/>
                        </a:lnTo>
                        <a:lnTo>
                          <a:pt x="62" y="328"/>
                        </a:lnTo>
                        <a:lnTo>
                          <a:pt x="88" y="377"/>
                        </a:lnTo>
                        <a:lnTo>
                          <a:pt x="82" y="394"/>
                        </a:lnTo>
                        <a:lnTo>
                          <a:pt x="122" y="426"/>
                        </a:lnTo>
                        <a:lnTo>
                          <a:pt x="190" y="424"/>
                        </a:lnTo>
                        <a:lnTo>
                          <a:pt x="240" y="446"/>
                        </a:lnTo>
                        <a:lnTo>
                          <a:pt x="265" y="442"/>
                        </a:lnTo>
                        <a:lnTo>
                          <a:pt x="419" y="446"/>
                        </a:lnTo>
                        <a:lnTo>
                          <a:pt x="593" y="488"/>
                        </a:lnTo>
                        <a:lnTo>
                          <a:pt x="596" y="434"/>
                        </a:lnTo>
                        <a:lnTo>
                          <a:pt x="670" y="122"/>
                        </a:lnTo>
                        <a:lnTo>
                          <a:pt x="205" y="0"/>
                        </a:lnTo>
                        <a:lnTo>
                          <a:pt x="200" y="2"/>
                        </a:lnTo>
                        <a:lnTo>
                          <a:pt x="204" y="10"/>
                        </a:lnTo>
                        <a:lnTo>
                          <a:pt x="199" y="12"/>
                        </a:lnTo>
                        <a:lnTo>
                          <a:pt x="204" y="19"/>
                        </a:lnTo>
                        <a:lnTo>
                          <a:pt x="202" y="26"/>
                        </a:lnTo>
                        <a:lnTo>
                          <a:pt x="204" y="35"/>
                        </a:lnTo>
                        <a:lnTo>
                          <a:pt x="210" y="31"/>
                        </a:lnTo>
                        <a:lnTo>
                          <a:pt x="218" y="35"/>
                        </a:lnTo>
                        <a:lnTo>
                          <a:pt x="215" y="48"/>
                        </a:lnTo>
                        <a:lnTo>
                          <a:pt x="217" y="55"/>
                        </a:lnTo>
                        <a:lnTo>
                          <a:pt x="208" y="73"/>
                        </a:lnTo>
                        <a:lnTo>
                          <a:pt x="197" y="62"/>
                        </a:lnTo>
                        <a:lnTo>
                          <a:pt x="193" y="63"/>
                        </a:lnTo>
                        <a:lnTo>
                          <a:pt x="193" y="71"/>
                        </a:lnTo>
                        <a:lnTo>
                          <a:pt x="201" y="73"/>
                        </a:lnTo>
                        <a:lnTo>
                          <a:pt x="210" y="94"/>
                        </a:lnTo>
                        <a:lnTo>
                          <a:pt x="206" y="118"/>
                        </a:lnTo>
                        <a:lnTo>
                          <a:pt x="210" y="126"/>
                        </a:lnTo>
                        <a:lnTo>
                          <a:pt x="216" y="128"/>
                        </a:lnTo>
                        <a:lnTo>
                          <a:pt x="213" y="134"/>
                        </a:lnTo>
                        <a:lnTo>
                          <a:pt x="206" y="135"/>
                        </a:lnTo>
                        <a:lnTo>
                          <a:pt x="193" y="151"/>
                        </a:lnTo>
                        <a:lnTo>
                          <a:pt x="193" y="157"/>
                        </a:lnTo>
                        <a:lnTo>
                          <a:pt x="190" y="166"/>
                        </a:lnTo>
                        <a:lnTo>
                          <a:pt x="185" y="168"/>
                        </a:lnTo>
                        <a:lnTo>
                          <a:pt x="190" y="175"/>
                        </a:lnTo>
                        <a:lnTo>
                          <a:pt x="185" y="178"/>
                        </a:lnTo>
                        <a:lnTo>
                          <a:pt x="184" y="206"/>
                        </a:lnTo>
                        <a:lnTo>
                          <a:pt x="173" y="210"/>
                        </a:lnTo>
                        <a:lnTo>
                          <a:pt x="173" y="217"/>
                        </a:lnTo>
                        <a:lnTo>
                          <a:pt x="164" y="208"/>
                        </a:lnTo>
                        <a:lnTo>
                          <a:pt x="164" y="213"/>
                        </a:lnTo>
                        <a:lnTo>
                          <a:pt x="144" y="230"/>
                        </a:lnTo>
                        <a:lnTo>
                          <a:pt x="139" y="228"/>
                        </a:lnTo>
                        <a:lnTo>
                          <a:pt x="135" y="219"/>
                        </a:lnTo>
                        <a:lnTo>
                          <a:pt x="133" y="225"/>
                        </a:lnTo>
                        <a:lnTo>
                          <a:pt x="128" y="220"/>
                        </a:lnTo>
                        <a:lnTo>
                          <a:pt x="125" y="233"/>
                        </a:lnTo>
                        <a:lnTo>
                          <a:pt x="123" y="231"/>
                        </a:lnTo>
                        <a:lnTo>
                          <a:pt x="123" y="223"/>
                        </a:lnTo>
                        <a:lnTo>
                          <a:pt x="117" y="224"/>
                        </a:lnTo>
                        <a:lnTo>
                          <a:pt x="125" y="216"/>
                        </a:lnTo>
                        <a:lnTo>
                          <a:pt x="115" y="215"/>
                        </a:lnTo>
                        <a:lnTo>
                          <a:pt x="123" y="211"/>
                        </a:lnTo>
                        <a:lnTo>
                          <a:pt x="114" y="209"/>
                        </a:lnTo>
                        <a:lnTo>
                          <a:pt x="118" y="203"/>
                        </a:lnTo>
                        <a:lnTo>
                          <a:pt x="127" y="209"/>
                        </a:lnTo>
                        <a:lnTo>
                          <a:pt x="131" y="200"/>
                        </a:lnTo>
                        <a:lnTo>
                          <a:pt x="144" y="193"/>
                        </a:lnTo>
                        <a:lnTo>
                          <a:pt x="138" y="210"/>
                        </a:lnTo>
                        <a:lnTo>
                          <a:pt x="140" y="219"/>
                        </a:lnTo>
                        <a:lnTo>
                          <a:pt x="146" y="202"/>
                        </a:lnTo>
                        <a:lnTo>
                          <a:pt x="159" y="196"/>
                        </a:lnTo>
                        <a:lnTo>
                          <a:pt x="152" y="206"/>
                        </a:lnTo>
                        <a:lnTo>
                          <a:pt x="159" y="212"/>
                        </a:lnTo>
                        <a:lnTo>
                          <a:pt x="159" y="204"/>
                        </a:lnTo>
                        <a:lnTo>
                          <a:pt x="165" y="196"/>
                        </a:lnTo>
                        <a:lnTo>
                          <a:pt x="173" y="185"/>
                        </a:lnTo>
                        <a:lnTo>
                          <a:pt x="171" y="177"/>
                        </a:lnTo>
                        <a:lnTo>
                          <a:pt x="159" y="177"/>
                        </a:lnTo>
                        <a:lnTo>
                          <a:pt x="162" y="166"/>
                        </a:lnTo>
                        <a:lnTo>
                          <a:pt x="167" y="172"/>
                        </a:lnTo>
                        <a:lnTo>
                          <a:pt x="169" y="154"/>
                        </a:lnTo>
                        <a:lnTo>
                          <a:pt x="185" y="155"/>
                        </a:lnTo>
                        <a:lnTo>
                          <a:pt x="185" y="139"/>
                        </a:lnTo>
                        <a:lnTo>
                          <a:pt x="179" y="128"/>
                        </a:lnTo>
                        <a:lnTo>
                          <a:pt x="179" y="145"/>
                        </a:lnTo>
                        <a:lnTo>
                          <a:pt x="175" y="141"/>
                        </a:lnTo>
                        <a:lnTo>
                          <a:pt x="164" y="149"/>
                        </a:lnTo>
                        <a:lnTo>
                          <a:pt x="158" y="160"/>
                        </a:lnTo>
                        <a:lnTo>
                          <a:pt x="148" y="160"/>
                        </a:lnTo>
                        <a:lnTo>
                          <a:pt x="133" y="170"/>
                        </a:lnTo>
                        <a:lnTo>
                          <a:pt x="120" y="185"/>
                        </a:lnTo>
                        <a:lnTo>
                          <a:pt x="142" y="185"/>
                        </a:lnTo>
                        <a:lnTo>
                          <a:pt x="123" y="190"/>
                        </a:lnTo>
                        <a:lnTo>
                          <a:pt x="114" y="187"/>
                        </a:lnTo>
                        <a:lnTo>
                          <a:pt x="133" y="160"/>
                        </a:lnTo>
                        <a:lnTo>
                          <a:pt x="146" y="154"/>
                        </a:lnTo>
                        <a:lnTo>
                          <a:pt x="160" y="137"/>
                        </a:lnTo>
                        <a:lnTo>
                          <a:pt x="162" y="146"/>
                        </a:lnTo>
                        <a:lnTo>
                          <a:pt x="171" y="139"/>
                        </a:lnTo>
                        <a:lnTo>
                          <a:pt x="179" y="120"/>
                        </a:lnTo>
                        <a:lnTo>
                          <a:pt x="177" y="108"/>
                        </a:lnTo>
                        <a:lnTo>
                          <a:pt x="174" y="117"/>
                        </a:lnTo>
                        <a:lnTo>
                          <a:pt x="169" y="116"/>
                        </a:lnTo>
                        <a:lnTo>
                          <a:pt x="173" y="102"/>
                        </a:lnTo>
                        <a:lnTo>
                          <a:pt x="167" y="102"/>
                        </a:lnTo>
                        <a:lnTo>
                          <a:pt x="165" y="115"/>
                        </a:lnTo>
                        <a:lnTo>
                          <a:pt x="160" y="118"/>
                        </a:lnTo>
                        <a:lnTo>
                          <a:pt x="160" y="105"/>
                        </a:lnTo>
                        <a:lnTo>
                          <a:pt x="155" y="102"/>
                        </a:lnTo>
                        <a:lnTo>
                          <a:pt x="151" y="108"/>
                        </a:lnTo>
                        <a:lnTo>
                          <a:pt x="144" y="92"/>
                        </a:lnTo>
                        <a:lnTo>
                          <a:pt x="128" y="91"/>
                        </a:lnTo>
                        <a:lnTo>
                          <a:pt x="69" y="62"/>
                        </a:lnTo>
                        <a:lnTo>
                          <a:pt x="28" y="24"/>
                        </a:lnTo>
                        <a:lnTo>
                          <a:pt x="16" y="51"/>
                        </a:lnTo>
                        <a:lnTo>
                          <a:pt x="15" y="84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3131640" y="2355480"/>
                    <a:ext cx="822600" cy="67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07" h="582">
                        <a:moveTo>
                          <a:pt x="0" y="499"/>
                        </a:moveTo>
                        <a:lnTo>
                          <a:pt x="21" y="373"/>
                        </a:lnTo>
                        <a:lnTo>
                          <a:pt x="72" y="62"/>
                        </a:lnTo>
                        <a:lnTo>
                          <a:pt x="84" y="0"/>
                        </a:lnTo>
                        <a:lnTo>
                          <a:pt x="361" y="41"/>
                        </a:lnTo>
                        <a:lnTo>
                          <a:pt x="706" y="76"/>
                        </a:lnTo>
                        <a:lnTo>
                          <a:pt x="682" y="329"/>
                        </a:lnTo>
                        <a:lnTo>
                          <a:pt x="658" y="581"/>
                        </a:lnTo>
                        <a:lnTo>
                          <a:pt x="188" y="527"/>
                        </a:lnTo>
                        <a:lnTo>
                          <a:pt x="0" y="499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92" name=""/>
            <p:cNvSpPr/>
            <p:nvPr/>
          </p:nvSpPr>
          <p:spPr>
            <a:xfrm>
              <a:off x="2654640" y="2495880"/>
              <a:ext cx="610560" cy="3880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4 DME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2971800" y="5638680"/>
          <a:ext cx="4622760" cy="895320"/>
        </p:xfrm>
        <a:graphic>
          <a:graphicData uri="http://schemas.openxmlformats.org/drawingml/2006/table">
            <a:tbl>
              <a:tblPr/>
              <a:tblGrid>
                <a:gridCol w="2311560"/>
                <a:gridCol w="23112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5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March 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December  200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2E63-FB71-4EEF-8E91-A2EC07ABA5AA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3399"/>
                </a:solidFill>
                <a:latin typeface="Times New Roman"/>
              </a:rPr>
              <a:t>4 Home Health/Hospice Jurisdictions</a:t>
            </a:r>
            <a:endParaRPr b="0" lang="en-US" sz="4200" spc="-1" strike="noStrike">
              <a:solidFill>
                <a:srgbClr val="00ffff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057400" y="1600200"/>
            <a:ext cx="5765760" cy="3352680"/>
            <a:chOff x="2057400" y="1600200"/>
            <a:chExt cx="5765760" cy="3352680"/>
          </a:xfrm>
        </p:grpSpPr>
        <p:sp>
          <p:nvSpPr>
            <p:cNvPr id="397" name=""/>
            <p:cNvSpPr/>
            <p:nvPr/>
          </p:nvSpPr>
          <p:spPr>
            <a:xfrm>
              <a:off x="3638160" y="2410200"/>
              <a:ext cx="3945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38160" y="3150000"/>
              <a:ext cx="3945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483080" y="2015640"/>
              <a:ext cx="400680" cy="29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958280" y="2064960"/>
              <a:ext cx="30420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32320" y="4678200"/>
              <a:ext cx="4442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953680" y="2564640"/>
              <a:ext cx="307800" cy="15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03" name=""/>
            <p:cNvGrpSpPr/>
            <p:nvPr/>
          </p:nvGrpSpPr>
          <p:grpSpPr>
            <a:xfrm>
              <a:off x="6585120" y="1772640"/>
              <a:ext cx="1238040" cy="1366920"/>
              <a:chOff x="6585120" y="1772640"/>
              <a:chExt cx="1238040" cy="1366920"/>
            </a:xfrm>
          </p:grpSpPr>
          <p:sp>
            <p:nvSpPr>
              <p:cNvPr id="404" name=""/>
              <p:cNvSpPr/>
              <p:nvPr/>
            </p:nvSpPr>
            <p:spPr>
              <a:xfrm>
                <a:off x="7463160" y="2519280"/>
                <a:ext cx="86760" cy="100440"/>
              </a:xfrm>
              <a:custGeom>
                <a:avLst/>
                <a:gdLst/>
                <a:ahLst/>
                <a:rect l="l" t="t" r="r" b="b"/>
                <a:pathLst>
                  <a:path w="79" h="98">
                    <a:moveTo>
                      <a:pt x="0" y="9"/>
                    </a:moveTo>
                    <a:lnTo>
                      <a:pt x="17" y="92"/>
                    </a:lnTo>
                    <a:lnTo>
                      <a:pt x="20" y="97"/>
                    </a:lnTo>
                    <a:lnTo>
                      <a:pt x="50" y="79"/>
                    </a:lnTo>
                    <a:lnTo>
                      <a:pt x="46" y="54"/>
                    </a:lnTo>
                    <a:lnTo>
                      <a:pt x="51" y="42"/>
                    </a:lnTo>
                    <a:lnTo>
                      <a:pt x="58" y="52"/>
                    </a:lnTo>
                    <a:lnTo>
                      <a:pt x="61" y="69"/>
                    </a:lnTo>
                    <a:lnTo>
                      <a:pt x="69" y="68"/>
                    </a:lnTo>
                    <a:lnTo>
                      <a:pt x="78" y="52"/>
                    </a:lnTo>
                    <a:lnTo>
                      <a:pt x="69" y="30"/>
                    </a:lnTo>
                    <a:lnTo>
                      <a:pt x="51" y="27"/>
                    </a:lnTo>
                    <a:lnTo>
                      <a:pt x="38" y="1"/>
                    </a:lnTo>
                    <a:lnTo>
                      <a:pt x="28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7a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05" name=""/>
              <p:cNvGrpSpPr/>
              <p:nvPr/>
            </p:nvGrpSpPr>
            <p:grpSpPr>
              <a:xfrm>
                <a:off x="6585120" y="1772640"/>
                <a:ext cx="1238040" cy="1366920"/>
                <a:chOff x="6585120" y="1772640"/>
                <a:chExt cx="1238040" cy="136692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7262640" y="2751480"/>
                  <a:ext cx="20880" cy="27720"/>
                </a:xfrm>
                <a:custGeom>
                  <a:avLst/>
                  <a:gdLst/>
                  <a:ahLst/>
                  <a:rect l="l" t="t" r="r" b="b"/>
                  <a:pathLst>
                    <a:path w="19" h="27">
                      <a:moveTo>
                        <a:pt x="0" y="26"/>
                      </a:moveTo>
                      <a:lnTo>
                        <a:pt x="1" y="9"/>
                      </a:lnTo>
                      <a:lnTo>
                        <a:pt x="11" y="0"/>
                      </a:lnTo>
                      <a:lnTo>
                        <a:pt x="18" y="5"/>
                      </a:lnTo>
                      <a:lnTo>
                        <a:pt x="7" y="20"/>
                      </a:lnTo>
                      <a:lnTo>
                        <a:pt x="0" y="26"/>
                      </a:lnTo>
                    </a:path>
                  </a:pathLst>
                </a:custGeom>
                <a:solidFill>
                  <a:srgbClr val="d7a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07" name=""/>
                <p:cNvGrpSpPr/>
                <p:nvPr/>
              </p:nvGrpSpPr>
              <p:grpSpPr>
                <a:xfrm>
                  <a:off x="6585120" y="1772640"/>
                  <a:ext cx="1238040" cy="1366920"/>
                  <a:chOff x="6585120" y="1772640"/>
                  <a:chExt cx="1238040" cy="136692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>
                    <a:off x="7647840" y="2562480"/>
                    <a:ext cx="273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20">
                        <a:moveTo>
                          <a:pt x="0" y="19"/>
                        </a:moveTo>
                        <a:lnTo>
                          <a:pt x="14" y="0"/>
                        </a:lnTo>
                        <a:lnTo>
                          <a:pt x="24" y="16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d7af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09" name=""/>
                  <p:cNvGrpSpPr/>
                  <p:nvPr/>
                </p:nvGrpSpPr>
                <p:grpSpPr>
                  <a:xfrm>
                    <a:off x="6585120" y="1772640"/>
                    <a:ext cx="1238040" cy="1366920"/>
                    <a:chOff x="6585120" y="1772640"/>
                    <a:chExt cx="1238040" cy="1366920"/>
                  </a:xfrm>
                </p:grpSpPr>
                <p:sp>
                  <p:nvSpPr>
                    <p:cNvPr id="410" name=""/>
                    <p:cNvSpPr/>
                    <p:nvPr/>
                  </p:nvSpPr>
                  <p:spPr>
                    <a:xfrm>
                      <a:off x="7586280" y="2567520"/>
                      <a:ext cx="3384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26">
                          <a:moveTo>
                            <a:pt x="0" y="25"/>
                          </a:moveTo>
                          <a:lnTo>
                            <a:pt x="12" y="0"/>
                          </a:lnTo>
                          <a:lnTo>
                            <a:pt x="30" y="11"/>
                          </a:lnTo>
                          <a:lnTo>
                            <a:pt x="0" y="25"/>
                          </a:lnTo>
                        </a:path>
                      </a:pathLst>
                    </a:custGeom>
                    <a:solidFill>
                      <a:srgbClr val="d7aff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11" name=""/>
                    <p:cNvGrpSpPr/>
                    <p:nvPr/>
                  </p:nvGrpSpPr>
                  <p:grpSpPr>
                    <a:xfrm>
                      <a:off x="6585120" y="1772640"/>
                      <a:ext cx="1238040" cy="1366920"/>
                      <a:chOff x="6585120" y="1772640"/>
                      <a:chExt cx="1238040" cy="1366920"/>
                    </a:xfrm>
                  </p:grpSpPr>
                  <p:sp>
                    <p:nvSpPr>
                      <p:cNvPr id="412" name=""/>
                      <p:cNvSpPr/>
                      <p:nvPr/>
                    </p:nvSpPr>
                    <p:spPr>
                      <a:xfrm>
                        <a:off x="7010640" y="3026880"/>
                        <a:ext cx="1764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23">
                            <a:moveTo>
                              <a:pt x="0" y="7"/>
                            </a:moveTo>
                            <a:lnTo>
                              <a:pt x="10" y="0"/>
                            </a:lnTo>
                            <a:lnTo>
                              <a:pt x="15" y="13"/>
                            </a:lnTo>
                            <a:lnTo>
                              <a:pt x="11" y="22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solidFill>
                        <a:srgbClr val="d7a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13" name=""/>
                      <p:cNvGrpSpPr/>
                      <p:nvPr/>
                    </p:nvGrpSpPr>
                    <p:grpSpPr>
                      <a:xfrm>
                        <a:off x="6585120" y="1772640"/>
                        <a:ext cx="1238040" cy="1366920"/>
                        <a:chOff x="6585120" y="1772640"/>
                        <a:chExt cx="1238040" cy="1366920"/>
                      </a:xfrm>
                    </p:grpSpPr>
                    <p:sp>
                      <p:nvSpPr>
                        <p:cNvPr id="414" name=""/>
                        <p:cNvSpPr/>
                        <p:nvPr/>
                      </p:nvSpPr>
                      <p:spPr>
                        <a:xfrm>
                          <a:off x="7157160" y="2674440"/>
                          <a:ext cx="148320" cy="315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5" h="307">
                              <a:moveTo>
                                <a:pt x="0" y="226"/>
                              </a:moveTo>
                              <a:lnTo>
                                <a:pt x="7" y="208"/>
                              </a:lnTo>
                              <a:lnTo>
                                <a:pt x="31" y="193"/>
                              </a:lnTo>
                              <a:lnTo>
                                <a:pt x="43" y="168"/>
                              </a:lnTo>
                              <a:lnTo>
                                <a:pt x="62" y="150"/>
                              </a:lnTo>
                              <a:lnTo>
                                <a:pt x="6" y="104"/>
                              </a:lnTo>
                              <a:lnTo>
                                <a:pt x="3" y="59"/>
                              </a:lnTo>
                              <a:lnTo>
                                <a:pt x="30" y="0"/>
                              </a:lnTo>
                              <a:lnTo>
                                <a:pt x="116" y="30"/>
                              </a:lnTo>
                              <a:lnTo>
                                <a:pt x="117" y="41"/>
                              </a:lnTo>
                              <a:lnTo>
                                <a:pt x="107" y="75"/>
                              </a:lnTo>
                              <a:lnTo>
                                <a:pt x="97" y="84"/>
                              </a:lnTo>
                              <a:lnTo>
                                <a:pt x="96" y="101"/>
                              </a:lnTo>
                              <a:lnTo>
                                <a:pt x="105" y="104"/>
                              </a:lnTo>
                              <a:lnTo>
                                <a:pt x="115" y="104"/>
                              </a:lnTo>
                              <a:lnTo>
                                <a:pt x="123" y="104"/>
                              </a:lnTo>
                              <a:lnTo>
                                <a:pt x="121" y="97"/>
                              </a:lnTo>
                              <a:lnTo>
                                <a:pt x="126" y="101"/>
                              </a:lnTo>
                              <a:lnTo>
                                <a:pt x="133" y="121"/>
                              </a:lnTo>
                              <a:lnTo>
                                <a:pt x="134" y="184"/>
                              </a:lnTo>
                              <a:lnTo>
                                <a:pt x="132" y="167"/>
                              </a:lnTo>
                              <a:lnTo>
                                <a:pt x="126" y="153"/>
                              </a:lnTo>
                              <a:lnTo>
                                <a:pt x="125" y="162"/>
                              </a:lnTo>
                              <a:lnTo>
                                <a:pt x="128" y="177"/>
                              </a:lnTo>
                              <a:lnTo>
                                <a:pt x="125" y="184"/>
                              </a:lnTo>
                              <a:lnTo>
                                <a:pt x="126" y="202"/>
                              </a:lnTo>
                              <a:lnTo>
                                <a:pt x="120" y="220"/>
                              </a:lnTo>
                              <a:lnTo>
                                <a:pt x="112" y="221"/>
                              </a:lnTo>
                              <a:lnTo>
                                <a:pt x="115" y="234"/>
                              </a:lnTo>
                              <a:lnTo>
                                <a:pt x="101" y="257"/>
                              </a:lnTo>
                              <a:lnTo>
                                <a:pt x="83" y="306"/>
                              </a:lnTo>
                              <a:lnTo>
                                <a:pt x="74" y="306"/>
                              </a:lnTo>
                              <a:lnTo>
                                <a:pt x="77" y="287"/>
                              </a:lnTo>
                              <a:lnTo>
                                <a:pt x="72" y="278"/>
                              </a:lnTo>
                              <a:lnTo>
                                <a:pt x="50" y="279"/>
                              </a:lnTo>
                              <a:lnTo>
                                <a:pt x="18" y="260"/>
                              </a:lnTo>
                              <a:lnTo>
                                <a:pt x="7" y="251"/>
                              </a:lnTo>
                              <a:lnTo>
                                <a:pt x="0" y="226"/>
                              </a:lnTo>
                            </a:path>
                          </a:pathLst>
                        </a:custGeom>
                        <a:solidFill>
                          <a:srgbClr val="d7afff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15" name=""/>
                        <p:cNvGrpSpPr/>
                        <p:nvPr/>
                      </p:nvGrpSpPr>
                      <p:grpSpPr>
                        <a:xfrm>
                          <a:off x="6585120" y="1772640"/>
                          <a:ext cx="1238040" cy="1366920"/>
                          <a:chOff x="6585120" y="1772640"/>
                          <a:chExt cx="1238040" cy="1366920"/>
                        </a:xfrm>
                      </p:grpSpPr>
                      <p:sp>
                        <p:nvSpPr>
                          <p:cNvPr id="416" name=""/>
                          <p:cNvSpPr/>
                          <p:nvPr/>
                        </p:nvSpPr>
                        <p:spPr>
                          <a:xfrm>
                            <a:off x="7284600" y="2535840"/>
                            <a:ext cx="191160" cy="1681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4" h="164">
                                <a:moveTo>
                                  <a:pt x="0" y="33"/>
                                </a:moveTo>
                                <a:lnTo>
                                  <a:pt x="15" y="118"/>
                                </a:lnTo>
                                <a:lnTo>
                                  <a:pt x="14" y="163"/>
                                </a:lnTo>
                                <a:lnTo>
                                  <a:pt x="28" y="159"/>
                                </a:lnTo>
                                <a:lnTo>
                                  <a:pt x="37" y="147"/>
                                </a:lnTo>
                                <a:lnTo>
                                  <a:pt x="61" y="136"/>
                                </a:lnTo>
                                <a:lnTo>
                                  <a:pt x="72" y="114"/>
                                </a:lnTo>
                                <a:lnTo>
                                  <a:pt x="79" y="118"/>
                                </a:lnTo>
                                <a:lnTo>
                                  <a:pt x="98" y="110"/>
                                </a:lnTo>
                                <a:lnTo>
                                  <a:pt x="125" y="106"/>
                                </a:lnTo>
                                <a:lnTo>
                                  <a:pt x="125" y="96"/>
                                </a:lnTo>
                                <a:lnTo>
                                  <a:pt x="133" y="102"/>
                                </a:lnTo>
                                <a:lnTo>
                                  <a:pt x="142" y="94"/>
                                </a:lnTo>
                                <a:lnTo>
                                  <a:pt x="155" y="91"/>
                                </a:lnTo>
                                <a:lnTo>
                                  <a:pt x="173" y="83"/>
                                </a:lnTo>
                                <a:lnTo>
                                  <a:pt x="156" y="0"/>
                                </a:lnTo>
                                <a:lnTo>
                                  <a:pt x="0" y="33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7" name=""/>
                          <p:cNvSpPr/>
                          <p:nvPr/>
                        </p:nvSpPr>
                        <p:spPr>
                          <a:xfrm>
                            <a:off x="7127640" y="2888280"/>
                            <a:ext cx="116280" cy="178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6" h="174">
                                <a:moveTo>
                                  <a:pt x="0" y="18"/>
                                </a:moveTo>
                                <a:lnTo>
                                  <a:pt x="14" y="0"/>
                                </a:lnTo>
                                <a:lnTo>
                                  <a:pt x="34" y="0"/>
                                </a:lnTo>
                                <a:lnTo>
                                  <a:pt x="27" y="18"/>
                                </a:lnTo>
                                <a:lnTo>
                                  <a:pt x="23" y="24"/>
                                </a:lnTo>
                                <a:lnTo>
                                  <a:pt x="26" y="45"/>
                                </a:lnTo>
                                <a:lnTo>
                                  <a:pt x="37" y="57"/>
                                </a:lnTo>
                                <a:lnTo>
                                  <a:pt x="51" y="71"/>
                                </a:lnTo>
                                <a:lnTo>
                                  <a:pt x="57" y="91"/>
                                </a:lnTo>
                                <a:lnTo>
                                  <a:pt x="67" y="106"/>
                                </a:lnTo>
                                <a:lnTo>
                                  <a:pt x="77" y="116"/>
                                </a:lnTo>
                                <a:lnTo>
                                  <a:pt x="93" y="121"/>
                                </a:lnTo>
                                <a:lnTo>
                                  <a:pt x="101" y="137"/>
                                </a:lnTo>
                                <a:lnTo>
                                  <a:pt x="87" y="151"/>
                                </a:lnTo>
                                <a:lnTo>
                                  <a:pt x="101" y="148"/>
                                </a:lnTo>
                                <a:lnTo>
                                  <a:pt x="105" y="161"/>
                                </a:lnTo>
                                <a:lnTo>
                                  <a:pt x="78" y="167"/>
                                </a:lnTo>
                                <a:lnTo>
                                  <a:pt x="42" y="173"/>
                                </a:lnTo>
                                <a:lnTo>
                                  <a:pt x="40" y="162"/>
                                </a:lnTo>
                                <a:lnTo>
                                  <a:pt x="0" y="18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8" name=""/>
                          <p:cNvSpPr/>
                          <p:nvPr/>
                        </p:nvSpPr>
                        <p:spPr>
                          <a:xfrm>
                            <a:off x="7418160" y="1772640"/>
                            <a:ext cx="405000" cy="595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8" h="580">
                                <a:moveTo>
                                  <a:pt x="0" y="314"/>
                                </a:moveTo>
                                <a:lnTo>
                                  <a:pt x="21" y="316"/>
                                </a:lnTo>
                                <a:lnTo>
                                  <a:pt x="23" y="278"/>
                                </a:lnTo>
                                <a:lnTo>
                                  <a:pt x="50" y="226"/>
                                </a:lnTo>
                                <a:lnTo>
                                  <a:pt x="37" y="189"/>
                                </a:lnTo>
                                <a:lnTo>
                                  <a:pt x="48" y="139"/>
                                </a:lnTo>
                                <a:lnTo>
                                  <a:pt x="47" y="120"/>
                                </a:lnTo>
                                <a:lnTo>
                                  <a:pt x="89" y="10"/>
                                </a:lnTo>
                                <a:lnTo>
                                  <a:pt x="100" y="10"/>
                                </a:lnTo>
                                <a:lnTo>
                                  <a:pt x="106" y="31"/>
                                </a:lnTo>
                                <a:lnTo>
                                  <a:pt x="158" y="12"/>
                                </a:lnTo>
                                <a:lnTo>
                                  <a:pt x="159" y="4"/>
                                </a:lnTo>
                                <a:lnTo>
                                  <a:pt x="174" y="0"/>
                                </a:lnTo>
                                <a:lnTo>
                                  <a:pt x="202" y="13"/>
                                </a:lnTo>
                                <a:lnTo>
                                  <a:pt x="222" y="31"/>
                                </a:lnTo>
                                <a:lnTo>
                                  <a:pt x="269" y="191"/>
                                </a:lnTo>
                                <a:lnTo>
                                  <a:pt x="301" y="192"/>
                                </a:lnTo>
                                <a:lnTo>
                                  <a:pt x="307" y="201"/>
                                </a:lnTo>
                                <a:lnTo>
                                  <a:pt x="302" y="207"/>
                                </a:lnTo>
                                <a:lnTo>
                                  <a:pt x="326" y="244"/>
                                </a:lnTo>
                                <a:lnTo>
                                  <a:pt x="332" y="236"/>
                                </a:lnTo>
                                <a:lnTo>
                                  <a:pt x="357" y="261"/>
                                </a:lnTo>
                                <a:lnTo>
                                  <a:pt x="347" y="267"/>
                                </a:lnTo>
                                <a:lnTo>
                                  <a:pt x="349" y="273"/>
                                </a:lnTo>
                                <a:lnTo>
                                  <a:pt x="367" y="273"/>
                                </a:lnTo>
                                <a:lnTo>
                                  <a:pt x="354" y="303"/>
                                </a:lnTo>
                                <a:lnTo>
                                  <a:pt x="339" y="299"/>
                                </a:lnTo>
                                <a:lnTo>
                                  <a:pt x="326" y="311"/>
                                </a:lnTo>
                                <a:lnTo>
                                  <a:pt x="327" y="324"/>
                                </a:lnTo>
                                <a:lnTo>
                                  <a:pt x="317" y="332"/>
                                </a:lnTo>
                                <a:lnTo>
                                  <a:pt x="304" y="327"/>
                                </a:lnTo>
                                <a:lnTo>
                                  <a:pt x="305" y="347"/>
                                </a:lnTo>
                                <a:lnTo>
                                  <a:pt x="295" y="340"/>
                                </a:lnTo>
                                <a:lnTo>
                                  <a:pt x="291" y="362"/>
                                </a:lnTo>
                                <a:lnTo>
                                  <a:pt x="274" y="343"/>
                                </a:lnTo>
                                <a:lnTo>
                                  <a:pt x="261" y="360"/>
                                </a:lnTo>
                                <a:lnTo>
                                  <a:pt x="246" y="368"/>
                                </a:lnTo>
                                <a:lnTo>
                                  <a:pt x="243" y="386"/>
                                </a:lnTo>
                                <a:lnTo>
                                  <a:pt x="227" y="381"/>
                                </a:lnTo>
                                <a:lnTo>
                                  <a:pt x="233" y="367"/>
                                </a:lnTo>
                                <a:lnTo>
                                  <a:pt x="222" y="353"/>
                                </a:lnTo>
                                <a:lnTo>
                                  <a:pt x="209" y="375"/>
                                </a:lnTo>
                                <a:lnTo>
                                  <a:pt x="215" y="421"/>
                                </a:lnTo>
                                <a:lnTo>
                                  <a:pt x="207" y="433"/>
                                </a:lnTo>
                                <a:lnTo>
                                  <a:pt x="196" y="434"/>
                                </a:lnTo>
                                <a:lnTo>
                                  <a:pt x="188" y="432"/>
                                </a:lnTo>
                                <a:lnTo>
                                  <a:pt x="175" y="459"/>
                                </a:lnTo>
                                <a:lnTo>
                                  <a:pt x="159" y="459"/>
                                </a:lnTo>
                                <a:lnTo>
                                  <a:pt x="161" y="482"/>
                                </a:lnTo>
                                <a:lnTo>
                                  <a:pt x="150" y="465"/>
                                </a:lnTo>
                                <a:lnTo>
                                  <a:pt x="127" y="484"/>
                                </a:lnTo>
                                <a:lnTo>
                                  <a:pt x="123" y="499"/>
                                </a:lnTo>
                                <a:lnTo>
                                  <a:pt x="131" y="509"/>
                                </a:lnTo>
                                <a:lnTo>
                                  <a:pt x="120" y="514"/>
                                </a:lnTo>
                                <a:lnTo>
                                  <a:pt x="123" y="531"/>
                                </a:lnTo>
                                <a:lnTo>
                                  <a:pt x="112" y="544"/>
                                </a:lnTo>
                                <a:lnTo>
                                  <a:pt x="110" y="579"/>
                                </a:lnTo>
                                <a:lnTo>
                                  <a:pt x="102" y="579"/>
                                </a:lnTo>
                                <a:lnTo>
                                  <a:pt x="69" y="532"/>
                                </a:lnTo>
                                <a:lnTo>
                                  <a:pt x="0" y="314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19" name=""/>
                          <p:cNvSpPr/>
                          <p:nvPr/>
                        </p:nvSpPr>
                        <p:spPr>
                          <a:xfrm>
                            <a:off x="6742080" y="2906640"/>
                            <a:ext cx="501840" cy="23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6" h="227">
                                <a:moveTo>
                                  <a:pt x="0" y="67"/>
                                </a:moveTo>
                                <a:lnTo>
                                  <a:pt x="12" y="132"/>
                                </a:lnTo>
                                <a:lnTo>
                                  <a:pt x="46" y="91"/>
                                </a:lnTo>
                                <a:lnTo>
                                  <a:pt x="100" y="76"/>
                                </a:lnTo>
                                <a:lnTo>
                                  <a:pt x="110" y="59"/>
                                </a:lnTo>
                                <a:lnTo>
                                  <a:pt x="140" y="55"/>
                                </a:lnTo>
                                <a:lnTo>
                                  <a:pt x="165" y="67"/>
                                </a:lnTo>
                                <a:lnTo>
                                  <a:pt x="179" y="86"/>
                                </a:lnTo>
                                <a:lnTo>
                                  <a:pt x="205" y="92"/>
                                </a:lnTo>
                                <a:lnTo>
                                  <a:pt x="220" y="113"/>
                                </a:lnTo>
                                <a:lnTo>
                                  <a:pt x="244" y="124"/>
                                </a:lnTo>
                                <a:lnTo>
                                  <a:pt x="254" y="117"/>
                                </a:lnTo>
                                <a:lnTo>
                                  <a:pt x="259" y="130"/>
                                </a:lnTo>
                                <a:lnTo>
                                  <a:pt x="255" y="139"/>
                                </a:lnTo>
                                <a:lnTo>
                                  <a:pt x="253" y="153"/>
                                </a:lnTo>
                                <a:lnTo>
                                  <a:pt x="237" y="181"/>
                                </a:lnTo>
                                <a:lnTo>
                                  <a:pt x="244" y="200"/>
                                </a:lnTo>
                                <a:lnTo>
                                  <a:pt x="263" y="192"/>
                                </a:lnTo>
                                <a:lnTo>
                                  <a:pt x="264" y="183"/>
                                </a:lnTo>
                                <a:lnTo>
                                  <a:pt x="280" y="202"/>
                                </a:lnTo>
                                <a:lnTo>
                                  <a:pt x="284" y="192"/>
                                </a:lnTo>
                                <a:lnTo>
                                  <a:pt x="294" y="207"/>
                                </a:lnTo>
                                <a:lnTo>
                                  <a:pt x="299" y="200"/>
                                </a:lnTo>
                                <a:lnTo>
                                  <a:pt x="317" y="208"/>
                                </a:lnTo>
                                <a:lnTo>
                                  <a:pt x="327" y="204"/>
                                </a:lnTo>
                                <a:lnTo>
                                  <a:pt x="343" y="219"/>
                                </a:lnTo>
                                <a:lnTo>
                                  <a:pt x="330" y="194"/>
                                </a:lnTo>
                                <a:lnTo>
                                  <a:pt x="298" y="172"/>
                                </a:lnTo>
                                <a:lnTo>
                                  <a:pt x="328" y="187"/>
                                </a:lnTo>
                                <a:lnTo>
                                  <a:pt x="310" y="162"/>
                                </a:lnTo>
                                <a:lnTo>
                                  <a:pt x="305" y="141"/>
                                </a:lnTo>
                                <a:lnTo>
                                  <a:pt x="308" y="91"/>
                                </a:lnTo>
                                <a:lnTo>
                                  <a:pt x="289" y="80"/>
                                </a:lnTo>
                                <a:lnTo>
                                  <a:pt x="327" y="47"/>
                                </a:lnTo>
                                <a:lnTo>
                                  <a:pt x="328" y="27"/>
                                </a:lnTo>
                                <a:lnTo>
                                  <a:pt x="349" y="28"/>
                                </a:lnTo>
                                <a:lnTo>
                                  <a:pt x="344" y="47"/>
                                </a:lnTo>
                                <a:lnTo>
                                  <a:pt x="330" y="53"/>
                                </a:lnTo>
                                <a:lnTo>
                                  <a:pt x="323" y="73"/>
                                </a:lnTo>
                                <a:lnTo>
                                  <a:pt x="327" y="90"/>
                                </a:lnTo>
                                <a:lnTo>
                                  <a:pt x="336" y="83"/>
                                </a:lnTo>
                                <a:lnTo>
                                  <a:pt x="331" y="104"/>
                                </a:lnTo>
                                <a:lnTo>
                                  <a:pt x="336" y="114"/>
                                </a:lnTo>
                                <a:lnTo>
                                  <a:pt x="338" y="125"/>
                                </a:lnTo>
                                <a:lnTo>
                                  <a:pt x="328" y="119"/>
                                </a:lnTo>
                                <a:lnTo>
                                  <a:pt x="325" y="134"/>
                                </a:lnTo>
                                <a:lnTo>
                                  <a:pt x="347" y="130"/>
                                </a:lnTo>
                                <a:lnTo>
                                  <a:pt x="344" y="141"/>
                                </a:lnTo>
                                <a:lnTo>
                                  <a:pt x="356" y="149"/>
                                </a:lnTo>
                                <a:lnTo>
                                  <a:pt x="335" y="148"/>
                                </a:lnTo>
                                <a:lnTo>
                                  <a:pt x="342" y="179"/>
                                </a:lnTo>
                                <a:lnTo>
                                  <a:pt x="365" y="191"/>
                                </a:lnTo>
                                <a:lnTo>
                                  <a:pt x="376" y="175"/>
                                </a:lnTo>
                                <a:lnTo>
                                  <a:pt x="378" y="201"/>
                                </a:lnTo>
                                <a:lnTo>
                                  <a:pt x="394" y="196"/>
                                </a:lnTo>
                                <a:lnTo>
                                  <a:pt x="386" y="208"/>
                                </a:lnTo>
                                <a:lnTo>
                                  <a:pt x="396" y="208"/>
                                </a:lnTo>
                                <a:lnTo>
                                  <a:pt x="388" y="221"/>
                                </a:lnTo>
                                <a:lnTo>
                                  <a:pt x="392" y="226"/>
                                </a:lnTo>
                                <a:lnTo>
                                  <a:pt x="413" y="215"/>
                                </a:lnTo>
                                <a:lnTo>
                                  <a:pt x="437" y="202"/>
                                </a:lnTo>
                                <a:lnTo>
                                  <a:pt x="446" y="173"/>
                                </a:lnTo>
                                <a:lnTo>
                                  <a:pt x="449" y="191"/>
                                </a:lnTo>
                                <a:lnTo>
                                  <a:pt x="446" y="200"/>
                                </a:lnTo>
                                <a:lnTo>
                                  <a:pt x="440" y="214"/>
                                </a:lnTo>
                                <a:lnTo>
                                  <a:pt x="442" y="224"/>
                                </a:lnTo>
                                <a:lnTo>
                                  <a:pt x="451" y="199"/>
                                </a:lnTo>
                                <a:lnTo>
                                  <a:pt x="455" y="143"/>
                                </a:lnTo>
                                <a:lnTo>
                                  <a:pt x="428" y="149"/>
                                </a:lnTo>
                                <a:lnTo>
                                  <a:pt x="392" y="155"/>
                                </a:lnTo>
                                <a:lnTo>
                                  <a:pt x="390" y="144"/>
                                </a:lnTo>
                                <a:lnTo>
                                  <a:pt x="350" y="0"/>
                                </a:lnTo>
                                <a:lnTo>
                                  <a:pt x="0" y="67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0" name=""/>
                          <p:cNvSpPr/>
                          <p:nvPr/>
                        </p:nvSpPr>
                        <p:spPr>
                          <a:xfrm>
                            <a:off x="7291440" y="2399040"/>
                            <a:ext cx="369360" cy="1753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6" h="171">
                                <a:moveTo>
                                  <a:pt x="0" y="68"/>
                                </a:moveTo>
                                <a:lnTo>
                                  <a:pt x="0" y="159"/>
                                </a:lnTo>
                                <a:lnTo>
                                  <a:pt x="156" y="126"/>
                                </a:lnTo>
                                <a:lnTo>
                                  <a:pt x="184" y="117"/>
                                </a:lnTo>
                                <a:lnTo>
                                  <a:pt x="194" y="118"/>
                                </a:lnTo>
                                <a:lnTo>
                                  <a:pt x="207" y="144"/>
                                </a:lnTo>
                                <a:lnTo>
                                  <a:pt x="225" y="147"/>
                                </a:lnTo>
                                <a:lnTo>
                                  <a:pt x="234" y="169"/>
                                </a:lnTo>
                                <a:lnTo>
                                  <a:pt x="246" y="170"/>
                                </a:lnTo>
                                <a:lnTo>
                                  <a:pt x="249" y="155"/>
                                </a:lnTo>
                                <a:lnTo>
                                  <a:pt x="258" y="150"/>
                                </a:lnTo>
                                <a:lnTo>
                                  <a:pt x="262" y="134"/>
                                </a:lnTo>
                                <a:lnTo>
                                  <a:pt x="267" y="133"/>
                                </a:lnTo>
                                <a:lnTo>
                                  <a:pt x="274" y="156"/>
                                </a:lnTo>
                                <a:lnTo>
                                  <a:pt x="290" y="150"/>
                                </a:lnTo>
                                <a:lnTo>
                                  <a:pt x="293" y="140"/>
                                </a:lnTo>
                                <a:lnTo>
                                  <a:pt x="313" y="130"/>
                                </a:lnTo>
                                <a:lnTo>
                                  <a:pt x="326" y="127"/>
                                </a:lnTo>
                                <a:lnTo>
                                  <a:pt x="335" y="135"/>
                                </a:lnTo>
                                <a:lnTo>
                                  <a:pt x="332" y="112"/>
                                </a:lnTo>
                                <a:lnTo>
                                  <a:pt x="316" y="83"/>
                                </a:lnTo>
                                <a:lnTo>
                                  <a:pt x="305" y="79"/>
                                </a:lnTo>
                                <a:lnTo>
                                  <a:pt x="295" y="79"/>
                                </a:lnTo>
                                <a:lnTo>
                                  <a:pt x="297" y="86"/>
                                </a:lnTo>
                                <a:lnTo>
                                  <a:pt x="304" y="86"/>
                                </a:lnTo>
                                <a:lnTo>
                                  <a:pt x="311" y="87"/>
                                </a:lnTo>
                                <a:lnTo>
                                  <a:pt x="319" y="95"/>
                                </a:lnTo>
                                <a:lnTo>
                                  <a:pt x="323" y="106"/>
                                </a:lnTo>
                                <a:lnTo>
                                  <a:pt x="318" y="116"/>
                                </a:lnTo>
                                <a:lnTo>
                                  <a:pt x="292" y="127"/>
                                </a:lnTo>
                                <a:lnTo>
                                  <a:pt x="278" y="121"/>
                                </a:lnTo>
                                <a:lnTo>
                                  <a:pt x="271" y="106"/>
                                </a:lnTo>
                                <a:lnTo>
                                  <a:pt x="258" y="104"/>
                                </a:lnTo>
                                <a:lnTo>
                                  <a:pt x="260" y="95"/>
                                </a:lnTo>
                                <a:lnTo>
                                  <a:pt x="247" y="78"/>
                                </a:lnTo>
                                <a:lnTo>
                                  <a:pt x="228" y="70"/>
                                </a:lnTo>
                                <a:lnTo>
                                  <a:pt x="228" y="79"/>
                                </a:lnTo>
                                <a:lnTo>
                                  <a:pt x="217" y="75"/>
                                </a:lnTo>
                                <a:lnTo>
                                  <a:pt x="213" y="65"/>
                                </a:lnTo>
                                <a:lnTo>
                                  <a:pt x="215" y="55"/>
                                </a:lnTo>
                                <a:lnTo>
                                  <a:pt x="226" y="47"/>
                                </a:lnTo>
                                <a:lnTo>
                                  <a:pt x="222" y="39"/>
                                </a:lnTo>
                                <a:lnTo>
                                  <a:pt x="237" y="28"/>
                                </a:lnTo>
                                <a:lnTo>
                                  <a:pt x="222" y="17"/>
                                </a:lnTo>
                                <a:lnTo>
                                  <a:pt x="215" y="0"/>
                                </a:lnTo>
                                <a:lnTo>
                                  <a:pt x="184" y="24"/>
                                </a:lnTo>
                                <a:lnTo>
                                  <a:pt x="72" y="53"/>
                                </a:lnTo>
                                <a:lnTo>
                                  <a:pt x="0" y="68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1" name=""/>
                          <p:cNvSpPr/>
                          <p:nvPr/>
                        </p:nvSpPr>
                        <p:spPr>
                          <a:xfrm>
                            <a:off x="7355160" y="2094840"/>
                            <a:ext cx="179280" cy="3596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3" h="350">
                                <a:moveTo>
                                  <a:pt x="0" y="239"/>
                                </a:moveTo>
                                <a:lnTo>
                                  <a:pt x="9" y="163"/>
                                </a:lnTo>
                                <a:lnTo>
                                  <a:pt x="27" y="128"/>
                                </a:lnTo>
                                <a:lnTo>
                                  <a:pt x="30" y="46"/>
                                </a:lnTo>
                                <a:lnTo>
                                  <a:pt x="28" y="18"/>
                                </a:lnTo>
                                <a:lnTo>
                                  <a:pt x="57" y="0"/>
                                </a:lnTo>
                                <a:lnTo>
                                  <a:pt x="126" y="218"/>
                                </a:lnTo>
                                <a:lnTo>
                                  <a:pt x="159" y="265"/>
                                </a:lnTo>
                                <a:lnTo>
                                  <a:pt x="162" y="275"/>
                                </a:lnTo>
                                <a:lnTo>
                                  <a:pt x="157" y="296"/>
                                </a:lnTo>
                                <a:lnTo>
                                  <a:pt x="126" y="320"/>
                                </a:lnTo>
                                <a:lnTo>
                                  <a:pt x="14" y="349"/>
                                </a:lnTo>
                                <a:lnTo>
                                  <a:pt x="0" y="239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2" name=""/>
                          <p:cNvSpPr/>
                          <p:nvPr/>
                        </p:nvSpPr>
                        <p:spPr>
                          <a:xfrm>
                            <a:off x="6655320" y="2183400"/>
                            <a:ext cx="653400" cy="546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94" h="532">
                                <a:moveTo>
                                  <a:pt x="0" y="457"/>
                                </a:moveTo>
                                <a:lnTo>
                                  <a:pt x="20" y="487"/>
                                </a:lnTo>
                                <a:lnTo>
                                  <a:pt x="407" y="413"/>
                                </a:lnTo>
                                <a:lnTo>
                                  <a:pt x="433" y="427"/>
                                </a:lnTo>
                                <a:lnTo>
                                  <a:pt x="448" y="457"/>
                                </a:lnTo>
                                <a:lnTo>
                                  <a:pt x="486" y="478"/>
                                </a:lnTo>
                                <a:lnTo>
                                  <a:pt x="572" y="508"/>
                                </a:lnTo>
                                <a:lnTo>
                                  <a:pt x="573" y="519"/>
                                </a:lnTo>
                                <a:lnTo>
                                  <a:pt x="578" y="531"/>
                                </a:lnTo>
                                <a:lnTo>
                                  <a:pt x="584" y="524"/>
                                </a:lnTo>
                                <a:lnTo>
                                  <a:pt x="592" y="499"/>
                                </a:lnTo>
                                <a:lnTo>
                                  <a:pt x="593" y="454"/>
                                </a:lnTo>
                                <a:lnTo>
                                  <a:pt x="578" y="369"/>
                                </a:lnTo>
                                <a:lnTo>
                                  <a:pt x="578" y="278"/>
                                </a:lnTo>
                                <a:lnTo>
                                  <a:pt x="563" y="208"/>
                                </a:lnTo>
                                <a:lnTo>
                                  <a:pt x="536" y="149"/>
                                </a:lnTo>
                                <a:lnTo>
                                  <a:pt x="530" y="91"/>
                                </a:lnTo>
                                <a:lnTo>
                                  <a:pt x="505" y="0"/>
                                </a:lnTo>
                                <a:lnTo>
                                  <a:pt x="386" y="31"/>
                                </a:lnTo>
                                <a:lnTo>
                                  <a:pt x="377" y="29"/>
                                </a:lnTo>
                                <a:lnTo>
                                  <a:pt x="341" y="59"/>
                                </a:lnTo>
                                <a:lnTo>
                                  <a:pt x="308" y="106"/>
                                </a:lnTo>
                                <a:lnTo>
                                  <a:pt x="305" y="126"/>
                                </a:lnTo>
                                <a:lnTo>
                                  <a:pt x="290" y="147"/>
                                </a:lnTo>
                                <a:lnTo>
                                  <a:pt x="264" y="171"/>
                                </a:lnTo>
                                <a:lnTo>
                                  <a:pt x="275" y="187"/>
                                </a:lnTo>
                                <a:lnTo>
                                  <a:pt x="279" y="175"/>
                                </a:lnTo>
                                <a:lnTo>
                                  <a:pt x="286" y="179"/>
                                </a:lnTo>
                                <a:lnTo>
                                  <a:pt x="281" y="185"/>
                                </a:lnTo>
                                <a:lnTo>
                                  <a:pt x="287" y="187"/>
                                </a:lnTo>
                                <a:lnTo>
                                  <a:pt x="283" y="198"/>
                                </a:lnTo>
                                <a:lnTo>
                                  <a:pt x="279" y="198"/>
                                </a:lnTo>
                                <a:lnTo>
                                  <a:pt x="277" y="204"/>
                                </a:lnTo>
                                <a:lnTo>
                                  <a:pt x="290" y="221"/>
                                </a:lnTo>
                                <a:lnTo>
                                  <a:pt x="290" y="236"/>
                                </a:lnTo>
                                <a:lnTo>
                                  <a:pt x="272" y="246"/>
                                </a:lnTo>
                                <a:lnTo>
                                  <a:pt x="253" y="273"/>
                                </a:lnTo>
                                <a:lnTo>
                                  <a:pt x="232" y="289"/>
                                </a:lnTo>
                                <a:lnTo>
                                  <a:pt x="195" y="291"/>
                                </a:lnTo>
                                <a:lnTo>
                                  <a:pt x="181" y="301"/>
                                </a:lnTo>
                                <a:lnTo>
                                  <a:pt x="160" y="291"/>
                                </a:lnTo>
                                <a:lnTo>
                                  <a:pt x="95" y="299"/>
                                </a:lnTo>
                                <a:lnTo>
                                  <a:pt x="47" y="318"/>
                                </a:lnTo>
                                <a:lnTo>
                                  <a:pt x="50" y="335"/>
                                </a:lnTo>
                                <a:lnTo>
                                  <a:pt x="47" y="343"/>
                                </a:lnTo>
                                <a:lnTo>
                                  <a:pt x="50" y="344"/>
                                </a:lnTo>
                                <a:lnTo>
                                  <a:pt x="58" y="360"/>
                                </a:lnTo>
                                <a:lnTo>
                                  <a:pt x="64" y="359"/>
                                </a:lnTo>
                                <a:lnTo>
                                  <a:pt x="71" y="375"/>
                                </a:lnTo>
                                <a:lnTo>
                                  <a:pt x="70" y="381"/>
                                </a:lnTo>
                                <a:lnTo>
                                  <a:pt x="58" y="389"/>
                                </a:lnTo>
                                <a:lnTo>
                                  <a:pt x="52" y="407"/>
                                </a:lnTo>
                                <a:lnTo>
                                  <a:pt x="0" y="457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3" name=""/>
                          <p:cNvSpPr/>
                          <p:nvPr/>
                        </p:nvSpPr>
                        <p:spPr>
                          <a:xfrm>
                            <a:off x="7283880" y="2646720"/>
                            <a:ext cx="204480" cy="114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86" h="112">
                                <a:moveTo>
                                  <a:pt x="0" y="100"/>
                                </a:moveTo>
                                <a:lnTo>
                                  <a:pt x="4" y="110"/>
                                </a:lnTo>
                                <a:lnTo>
                                  <a:pt x="8" y="111"/>
                                </a:lnTo>
                                <a:lnTo>
                                  <a:pt x="15" y="101"/>
                                </a:lnTo>
                                <a:lnTo>
                                  <a:pt x="21" y="99"/>
                                </a:lnTo>
                                <a:lnTo>
                                  <a:pt x="24" y="102"/>
                                </a:lnTo>
                                <a:lnTo>
                                  <a:pt x="13" y="111"/>
                                </a:lnTo>
                                <a:lnTo>
                                  <a:pt x="30" y="105"/>
                                </a:lnTo>
                                <a:lnTo>
                                  <a:pt x="32" y="100"/>
                                </a:lnTo>
                                <a:lnTo>
                                  <a:pt x="57" y="89"/>
                                </a:lnTo>
                                <a:lnTo>
                                  <a:pt x="78" y="73"/>
                                </a:lnTo>
                                <a:lnTo>
                                  <a:pt x="101" y="65"/>
                                </a:lnTo>
                                <a:lnTo>
                                  <a:pt x="122" y="53"/>
                                </a:lnTo>
                                <a:lnTo>
                                  <a:pt x="120" y="55"/>
                                </a:lnTo>
                                <a:lnTo>
                                  <a:pt x="82" y="84"/>
                                </a:lnTo>
                                <a:lnTo>
                                  <a:pt x="76" y="86"/>
                                </a:lnTo>
                                <a:lnTo>
                                  <a:pt x="80" y="87"/>
                                </a:lnTo>
                                <a:lnTo>
                                  <a:pt x="91" y="82"/>
                                </a:lnTo>
                                <a:lnTo>
                                  <a:pt x="149" y="39"/>
                                </a:lnTo>
                                <a:lnTo>
                                  <a:pt x="157" y="31"/>
                                </a:lnTo>
                                <a:lnTo>
                                  <a:pt x="184" y="8"/>
                                </a:lnTo>
                                <a:lnTo>
                                  <a:pt x="185" y="2"/>
                                </a:lnTo>
                                <a:lnTo>
                                  <a:pt x="180" y="2"/>
                                </a:lnTo>
                                <a:lnTo>
                                  <a:pt x="168" y="15"/>
                                </a:lnTo>
                                <a:lnTo>
                                  <a:pt x="160" y="13"/>
                                </a:lnTo>
                                <a:lnTo>
                                  <a:pt x="148" y="20"/>
                                </a:lnTo>
                                <a:lnTo>
                                  <a:pt x="144" y="19"/>
                                </a:lnTo>
                                <a:lnTo>
                                  <a:pt x="134" y="44"/>
                                </a:lnTo>
                                <a:lnTo>
                                  <a:pt x="130" y="39"/>
                                </a:lnTo>
                                <a:lnTo>
                                  <a:pt x="120" y="39"/>
                                </a:lnTo>
                                <a:lnTo>
                                  <a:pt x="138" y="20"/>
                                </a:lnTo>
                                <a:lnTo>
                                  <a:pt x="136" y="15"/>
                                </a:lnTo>
                                <a:lnTo>
                                  <a:pt x="148" y="0"/>
                                </a:lnTo>
                                <a:lnTo>
                                  <a:pt x="143" y="1"/>
                                </a:lnTo>
                                <a:lnTo>
                                  <a:pt x="118" y="31"/>
                                </a:lnTo>
                                <a:lnTo>
                                  <a:pt x="89" y="40"/>
                                </a:lnTo>
                                <a:lnTo>
                                  <a:pt x="72" y="43"/>
                                </a:lnTo>
                                <a:lnTo>
                                  <a:pt x="70" y="51"/>
                                </a:lnTo>
                                <a:lnTo>
                                  <a:pt x="51" y="56"/>
                                </a:lnTo>
                                <a:lnTo>
                                  <a:pt x="44" y="54"/>
                                </a:lnTo>
                                <a:lnTo>
                                  <a:pt x="44" y="60"/>
                                </a:lnTo>
                                <a:lnTo>
                                  <a:pt x="35" y="60"/>
                                </a:lnTo>
                                <a:lnTo>
                                  <a:pt x="30" y="65"/>
                                </a:lnTo>
                                <a:lnTo>
                                  <a:pt x="28" y="73"/>
                                </a:lnTo>
                                <a:lnTo>
                                  <a:pt x="24" y="71"/>
                                </a:lnTo>
                                <a:lnTo>
                                  <a:pt x="21" y="80"/>
                                </a:lnTo>
                                <a:lnTo>
                                  <a:pt x="7" y="85"/>
                                </a:lnTo>
                                <a:lnTo>
                                  <a:pt x="5" y="91"/>
                                </a:lnTo>
                                <a:lnTo>
                                  <a:pt x="0" y="100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4" name=""/>
                          <p:cNvSpPr/>
                          <p:nvPr/>
                        </p:nvSpPr>
                        <p:spPr>
                          <a:xfrm>
                            <a:off x="6585120" y="2607840"/>
                            <a:ext cx="641160" cy="385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3" h="375">
                                <a:moveTo>
                                  <a:pt x="0" y="92"/>
                                </a:moveTo>
                                <a:lnTo>
                                  <a:pt x="27" y="257"/>
                                </a:lnTo>
                                <a:lnTo>
                                  <a:pt x="46" y="374"/>
                                </a:lnTo>
                                <a:lnTo>
                                  <a:pt x="143" y="358"/>
                                </a:lnTo>
                                <a:lnTo>
                                  <a:pt x="493" y="291"/>
                                </a:lnTo>
                                <a:lnTo>
                                  <a:pt x="507" y="273"/>
                                </a:lnTo>
                                <a:lnTo>
                                  <a:pt x="527" y="273"/>
                                </a:lnTo>
                                <a:lnTo>
                                  <a:pt x="551" y="258"/>
                                </a:lnTo>
                                <a:lnTo>
                                  <a:pt x="563" y="233"/>
                                </a:lnTo>
                                <a:lnTo>
                                  <a:pt x="582" y="215"/>
                                </a:lnTo>
                                <a:lnTo>
                                  <a:pt x="526" y="169"/>
                                </a:lnTo>
                                <a:lnTo>
                                  <a:pt x="523" y="124"/>
                                </a:lnTo>
                                <a:lnTo>
                                  <a:pt x="550" y="65"/>
                                </a:lnTo>
                                <a:lnTo>
                                  <a:pt x="512" y="44"/>
                                </a:lnTo>
                                <a:lnTo>
                                  <a:pt x="497" y="14"/>
                                </a:lnTo>
                                <a:lnTo>
                                  <a:pt x="471" y="0"/>
                                </a:lnTo>
                                <a:lnTo>
                                  <a:pt x="84" y="74"/>
                                </a:lnTo>
                                <a:lnTo>
                                  <a:pt x="64" y="44"/>
                                </a:lnTo>
                                <a:lnTo>
                                  <a:pt x="0" y="92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25" name=""/>
                          <p:cNvSpPr/>
                          <p:nvPr/>
                        </p:nvSpPr>
                        <p:spPr>
                          <a:xfrm>
                            <a:off x="7211160" y="2142360"/>
                            <a:ext cx="177840" cy="3276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62" h="319">
                                <a:moveTo>
                                  <a:pt x="0" y="40"/>
                                </a:moveTo>
                                <a:lnTo>
                                  <a:pt x="25" y="131"/>
                                </a:lnTo>
                                <a:lnTo>
                                  <a:pt x="31" y="189"/>
                                </a:lnTo>
                                <a:lnTo>
                                  <a:pt x="58" y="248"/>
                                </a:lnTo>
                                <a:lnTo>
                                  <a:pt x="73" y="318"/>
                                </a:lnTo>
                                <a:lnTo>
                                  <a:pt x="145" y="303"/>
                                </a:lnTo>
                                <a:lnTo>
                                  <a:pt x="131" y="193"/>
                                </a:lnTo>
                                <a:lnTo>
                                  <a:pt x="140" y="117"/>
                                </a:lnTo>
                                <a:lnTo>
                                  <a:pt x="158" y="82"/>
                                </a:lnTo>
                                <a:lnTo>
                                  <a:pt x="161" y="0"/>
                                </a:lnTo>
                                <a:lnTo>
                                  <a:pt x="0" y="40"/>
                                </a:lnTo>
                              </a:path>
                            </a:pathLst>
                          </a:custGeom>
                          <a:solidFill>
                            <a:srgbClr val="d7afff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  <p:grpSp>
          <p:nvGrpSpPr>
            <p:cNvPr id="426" name=""/>
            <p:cNvGrpSpPr/>
            <p:nvPr/>
          </p:nvGrpSpPr>
          <p:grpSpPr>
            <a:xfrm>
              <a:off x="4890240" y="1856880"/>
              <a:ext cx="1725480" cy="1652040"/>
              <a:chOff x="4890240" y="1856880"/>
              <a:chExt cx="1725480" cy="1652040"/>
            </a:xfrm>
          </p:grpSpPr>
          <p:sp>
            <p:nvSpPr>
              <p:cNvPr id="427" name=""/>
              <p:cNvSpPr/>
              <p:nvPr/>
            </p:nvSpPr>
            <p:spPr>
              <a:xfrm>
                <a:off x="5471280" y="2715480"/>
                <a:ext cx="434520" cy="727920"/>
              </a:xfrm>
              <a:custGeom>
                <a:avLst/>
                <a:gdLst/>
                <a:ahLst/>
                <a:rect l="l" t="t" r="r" b="b"/>
                <a:pathLst>
                  <a:path w="395" h="709">
                    <a:moveTo>
                      <a:pt x="0" y="313"/>
                    </a:moveTo>
                    <a:lnTo>
                      <a:pt x="8" y="291"/>
                    </a:lnTo>
                    <a:lnTo>
                      <a:pt x="34" y="248"/>
                    </a:lnTo>
                    <a:lnTo>
                      <a:pt x="49" y="201"/>
                    </a:lnTo>
                    <a:lnTo>
                      <a:pt x="35" y="167"/>
                    </a:lnTo>
                    <a:lnTo>
                      <a:pt x="102" y="115"/>
                    </a:lnTo>
                    <a:lnTo>
                      <a:pt x="116" y="87"/>
                    </a:lnTo>
                    <a:lnTo>
                      <a:pt x="116" y="75"/>
                    </a:lnTo>
                    <a:lnTo>
                      <a:pt x="68" y="18"/>
                    </a:lnTo>
                    <a:lnTo>
                      <a:pt x="331" y="0"/>
                    </a:lnTo>
                    <a:lnTo>
                      <a:pt x="337" y="44"/>
                    </a:lnTo>
                    <a:lnTo>
                      <a:pt x="363" y="95"/>
                    </a:lnTo>
                    <a:lnTo>
                      <a:pt x="386" y="365"/>
                    </a:lnTo>
                    <a:lnTo>
                      <a:pt x="380" y="420"/>
                    </a:lnTo>
                    <a:lnTo>
                      <a:pt x="394" y="453"/>
                    </a:lnTo>
                    <a:lnTo>
                      <a:pt x="379" y="514"/>
                    </a:lnTo>
                    <a:lnTo>
                      <a:pt x="359" y="542"/>
                    </a:lnTo>
                    <a:lnTo>
                      <a:pt x="348" y="586"/>
                    </a:lnTo>
                    <a:lnTo>
                      <a:pt x="357" y="598"/>
                    </a:lnTo>
                    <a:lnTo>
                      <a:pt x="350" y="626"/>
                    </a:lnTo>
                    <a:lnTo>
                      <a:pt x="355" y="635"/>
                    </a:lnTo>
                    <a:lnTo>
                      <a:pt x="323" y="648"/>
                    </a:lnTo>
                    <a:lnTo>
                      <a:pt x="317" y="692"/>
                    </a:lnTo>
                    <a:lnTo>
                      <a:pt x="272" y="676"/>
                    </a:lnTo>
                    <a:lnTo>
                      <a:pt x="248" y="698"/>
                    </a:lnTo>
                    <a:lnTo>
                      <a:pt x="250" y="708"/>
                    </a:lnTo>
                    <a:lnTo>
                      <a:pt x="234" y="707"/>
                    </a:lnTo>
                    <a:lnTo>
                      <a:pt x="219" y="677"/>
                    </a:lnTo>
                    <a:lnTo>
                      <a:pt x="211" y="636"/>
                    </a:lnTo>
                    <a:lnTo>
                      <a:pt x="193" y="609"/>
                    </a:lnTo>
                    <a:lnTo>
                      <a:pt x="167" y="598"/>
                    </a:lnTo>
                    <a:lnTo>
                      <a:pt x="135" y="572"/>
                    </a:lnTo>
                    <a:lnTo>
                      <a:pt x="123" y="536"/>
                    </a:lnTo>
                    <a:lnTo>
                      <a:pt x="142" y="481"/>
                    </a:lnTo>
                    <a:lnTo>
                      <a:pt x="125" y="470"/>
                    </a:lnTo>
                    <a:lnTo>
                      <a:pt x="87" y="471"/>
                    </a:lnTo>
                    <a:lnTo>
                      <a:pt x="80" y="436"/>
                    </a:lnTo>
                    <a:lnTo>
                      <a:pt x="16" y="369"/>
                    </a:lnTo>
                    <a:lnTo>
                      <a:pt x="0" y="31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54320" y="2781000"/>
                <a:ext cx="343080" cy="549360"/>
              </a:xfrm>
              <a:custGeom>
                <a:avLst/>
                <a:gdLst/>
                <a:ahLst/>
                <a:rect l="l" t="t" r="r" b="b"/>
                <a:pathLst>
                  <a:path w="312" h="535">
                    <a:moveTo>
                      <a:pt x="0" y="522"/>
                    </a:moveTo>
                    <a:lnTo>
                      <a:pt x="9" y="534"/>
                    </a:lnTo>
                    <a:lnTo>
                      <a:pt x="19" y="520"/>
                    </a:lnTo>
                    <a:lnTo>
                      <a:pt x="64" y="511"/>
                    </a:lnTo>
                    <a:lnTo>
                      <a:pt x="79" y="515"/>
                    </a:lnTo>
                    <a:lnTo>
                      <a:pt x="128" y="499"/>
                    </a:lnTo>
                    <a:lnTo>
                      <a:pt x="145" y="514"/>
                    </a:lnTo>
                    <a:lnTo>
                      <a:pt x="160" y="478"/>
                    </a:lnTo>
                    <a:lnTo>
                      <a:pt x="175" y="469"/>
                    </a:lnTo>
                    <a:lnTo>
                      <a:pt x="211" y="489"/>
                    </a:lnTo>
                    <a:lnTo>
                      <a:pt x="215" y="467"/>
                    </a:lnTo>
                    <a:lnTo>
                      <a:pt x="253" y="419"/>
                    </a:lnTo>
                    <a:lnTo>
                      <a:pt x="262" y="391"/>
                    </a:lnTo>
                    <a:lnTo>
                      <a:pt x="276" y="394"/>
                    </a:lnTo>
                    <a:lnTo>
                      <a:pt x="311" y="370"/>
                    </a:lnTo>
                    <a:lnTo>
                      <a:pt x="301" y="349"/>
                    </a:lnTo>
                    <a:lnTo>
                      <a:pt x="306" y="337"/>
                    </a:lnTo>
                    <a:lnTo>
                      <a:pt x="271" y="10"/>
                    </a:lnTo>
                    <a:lnTo>
                      <a:pt x="267" y="0"/>
                    </a:lnTo>
                    <a:lnTo>
                      <a:pt x="82" y="21"/>
                    </a:lnTo>
                    <a:lnTo>
                      <a:pt x="46" y="42"/>
                    </a:lnTo>
                    <a:lnTo>
                      <a:pt x="15" y="31"/>
                    </a:lnTo>
                    <a:lnTo>
                      <a:pt x="38" y="301"/>
                    </a:lnTo>
                    <a:lnTo>
                      <a:pt x="32" y="356"/>
                    </a:lnTo>
                    <a:lnTo>
                      <a:pt x="46" y="389"/>
                    </a:lnTo>
                    <a:lnTo>
                      <a:pt x="31" y="450"/>
                    </a:lnTo>
                    <a:lnTo>
                      <a:pt x="11" y="478"/>
                    </a:lnTo>
                    <a:lnTo>
                      <a:pt x="0" y="522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725440" y="3124800"/>
                <a:ext cx="801000" cy="384120"/>
              </a:xfrm>
              <a:custGeom>
                <a:avLst/>
                <a:gdLst/>
                <a:ahLst/>
                <a:rect l="l" t="t" r="r" b="b"/>
                <a:pathLst>
                  <a:path w="728" h="374">
                    <a:moveTo>
                      <a:pt x="0" y="373"/>
                    </a:moveTo>
                    <a:lnTo>
                      <a:pt x="8" y="355"/>
                    </a:lnTo>
                    <a:lnTo>
                      <a:pt x="23" y="352"/>
                    </a:lnTo>
                    <a:lnTo>
                      <a:pt x="28" y="313"/>
                    </a:lnTo>
                    <a:lnTo>
                      <a:pt x="19" y="309"/>
                    </a:lnTo>
                    <a:lnTo>
                      <a:pt x="17" y="299"/>
                    </a:lnTo>
                    <a:lnTo>
                      <a:pt x="41" y="277"/>
                    </a:lnTo>
                    <a:lnTo>
                      <a:pt x="86" y="293"/>
                    </a:lnTo>
                    <a:lnTo>
                      <a:pt x="92" y="249"/>
                    </a:lnTo>
                    <a:lnTo>
                      <a:pt x="124" y="236"/>
                    </a:lnTo>
                    <a:lnTo>
                      <a:pt x="119" y="227"/>
                    </a:lnTo>
                    <a:lnTo>
                      <a:pt x="126" y="199"/>
                    </a:lnTo>
                    <a:lnTo>
                      <a:pt x="136" y="185"/>
                    </a:lnTo>
                    <a:lnTo>
                      <a:pt x="181" y="176"/>
                    </a:lnTo>
                    <a:lnTo>
                      <a:pt x="196" y="180"/>
                    </a:lnTo>
                    <a:lnTo>
                      <a:pt x="245" y="164"/>
                    </a:lnTo>
                    <a:lnTo>
                      <a:pt x="262" y="179"/>
                    </a:lnTo>
                    <a:lnTo>
                      <a:pt x="277" y="143"/>
                    </a:lnTo>
                    <a:lnTo>
                      <a:pt x="292" y="134"/>
                    </a:lnTo>
                    <a:lnTo>
                      <a:pt x="328" y="154"/>
                    </a:lnTo>
                    <a:lnTo>
                      <a:pt x="332" y="132"/>
                    </a:lnTo>
                    <a:lnTo>
                      <a:pt x="370" y="84"/>
                    </a:lnTo>
                    <a:lnTo>
                      <a:pt x="379" y="56"/>
                    </a:lnTo>
                    <a:lnTo>
                      <a:pt x="393" y="59"/>
                    </a:lnTo>
                    <a:lnTo>
                      <a:pt x="428" y="35"/>
                    </a:lnTo>
                    <a:lnTo>
                      <a:pt x="418" y="14"/>
                    </a:lnTo>
                    <a:lnTo>
                      <a:pt x="423" y="2"/>
                    </a:lnTo>
                    <a:lnTo>
                      <a:pt x="454" y="0"/>
                    </a:lnTo>
                    <a:lnTo>
                      <a:pt x="475" y="8"/>
                    </a:lnTo>
                    <a:lnTo>
                      <a:pt x="485" y="31"/>
                    </a:lnTo>
                    <a:lnTo>
                      <a:pt x="518" y="36"/>
                    </a:lnTo>
                    <a:lnTo>
                      <a:pt x="538" y="46"/>
                    </a:lnTo>
                    <a:lnTo>
                      <a:pt x="583" y="44"/>
                    </a:lnTo>
                    <a:lnTo>
                      <a:pt x="604" y="31"/>
                    </a:lnTo>
                    <a:lnTo>
                      <a:pt x="653" y="62"/>
                    </a:lnTo>
                    <a:lnTo>
                      <a:pt x="671" y="123"/>
                    </a:lnTo>
                    <a:lnTo>
                      <a:pt x="690" y="145"/>
                    </a:lnTo>
                    <a:lnTo>
                      <a:pt x="727" y="166"/>
                    </a:lnTo>
                    <a:lnTo>
                      <a:pt x="700" y="199"/>
                    </a:lnTo>
                    <a:lnTo>
                      <a:pt x="675" y="217"/>
                    </a:lnTo>
                    <a:lnTo>
                      <a:pt x="650" y="248"/>
                    </a:lnTo>
                    <a:lnTo>
                      <a:pt x="650" y="259"/>
                    </a:lnTo>
                    <a:lnTo>
                      <a:pt x="577" y="306"/>
                    </a:lnTo>
                    <a:lnTo>
                      <a:pt x="175" y="343"/>
                    </a:lnTo>
                    <a:lnTo>
                      <a:pt x="134" y="342"/>
                    </a:lnTo>
                    <a:lnTo>
                      <a:pt x="135" y="364"/>
                    </a:lnTo>
                    <a:lnTo>
                      <a:pt x="0" y="373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44720" y="2069280"/>
                <a:ext cx="633960" cy="304920"/>
              </a:xfrm>
              <a:custGeom>
                <a:avLst/>
                <a:gdLst/>
                <a:ahLst/>
                <a:rect l="l" t="t" r="r" b="b"/>
                <a:pathLst>
                  <a:path w="576" h="297">
                    <a:moveTo>
                      <a:pt x="0" y="128"/>
                    </a:moveTo>
                    <a:lnTo>
                      <a:pt x="45" y="160"/>
                    </a:lnTo>
                    <a:lnTo>
                      <a:pt x="156" y="189"/>
                    </a:lnTo>
                    <a:lnTo>
                      <a:pt x="205" y="195"/>
                    </a:lnTo>
                    <a:lnTo>
                      <a:pt x="213" y="212"/>
                    </a:lnTo>
                    <a:lnTo>
                      <a:pt x="233" y="218"/>
                    </a:lnTo>
                    <a:lnTo>
                      <a:pt x="262" y="296"/>
                    </a:lnTo>
                    <a:lnTo>
                      <a:pt x="287" y="236"/>
                    </a:lnTo>
                    <a:lnTo>
                      <a:pt x="292" y="222"/>
                    </a:lnTo>
                    <a:lnTo>
                      <a:pt x="299" y="214"/>
                    </a:lnTo>
                    <a:lnTo>
                      <a:pt x="299" y="204"/>
                    </a:lnTo>
                    <a:lnTo>
                      <a:pt x="309" y="188"/>
                    </a:lnTo>
                    <a:lnTo>
                      <a:pt x="312" y="189"/>
                    </a:lnTo>
                    <a:lnTo>
                      <a:pt x="308" y="198"/>
                    </a:lnTo>
                    <a:lnTo>
                      <a:pt x="310" y="215"/>
                    </a:lnTo>
                    <a:lnTo>
                      <a:pt x="319" y="211"/>
                    </a:lnTo>
                    <a:lnTo>
                      <a:pt x="325" y="193"/>
                    </a:lnTo>
                    <a:lnTo>
                      <a:pt x="338" y="195"/>
                    </a:lnTo>
                    <a:lnTo>
                      <a:pt x="344" y="186"/>
                    </a:lnTo>
                    <a:lnTo>
                      <a:pt x="346" y="191"/>
                    </a:lnTo>
                    <a:lnTo>
                      <a:pt x="333" y="218"/>
                    </a:lnTo>
                    <a:lnTo>
                      <a:pt x="343" y="222"/>
                    </a:lnTo>
                    <a:lnTo>
                      <a:pt x="351" y="205"/>
                    </a:lnTo>
                    <a:lnTo>
                      <a:pt x="364" y="198"/>
                    </a:lnTo>
                    <a:lnTo>
                      <a:pt x="371" y="177"/>
                    </a:lnTo>
                    <a:lnTo>
                      <a:pt x="404" y="172"/>
                    </a:lnTo>
                    <a:lnTo>
                      <a:pt x="419" y="170"/>
                    </a:lnTo>
                    <a:lnTo>
                      <a:pt x="444" y="153"/>
                    </a:lnTo>
                    <a:lnTo>
                      <a:pt x="481" y="158"/>
                    </a:lnTo>
                    <a:lnTo>
                      <a:pt x="506" y="176"/>
                    </a:lnTo>
                    <a:lnTo>
                      <a:pt x="507" y="154"/>
                    </a:lnTo>
                    <a:lnTo>
                      <a:pt x="520" y="153"/>
                    </a:lnTo>
                    <a:lnTo>
                      <a:pt x="551" y="155"/>
                    </a:lnTo>
                    <a:lnTo>
                      <a:pt x="575" y="149"/>
                    </a:lnTo>
                    <a:lnTo>
                      <a:pt x="543" y="129"/>
                    </a:lnTo>
                    <a:lnTo>
                      <a:pt x="536" y="98"/>
                    </a:lnTo>
                    <a:lnTo>
                      <a:pt x="511" y="103"/>
                    </a:lnTo>
                    <a:lnTo>
                      <a:pt x="503" y="98"/>
                    </a:lnTo>
                    <a:lnTo>
                      <a:pt x="492" y="103"/>
                    </a:lnTo>
                    <a:lnTo>
                      <a:pt x="478" y="100"/>
                    </a:lnTo>
                    <a:lnTo>
                      <a:pt x="471" y="99"/>
                    </a:lnTo>
                    <a:lnTo>
                      <a:pt x="468" y="82"/>
                    </a:lnTo>
                    <a:lnTo>
                      <a:pt x="473" y="63"/>
                    </a:lnTo>
                    <a:lnTo>
                      <a:pt x="448" y="69"/>
                    </a:lnTo>
                    <a:lnTo>
                      <a:pt x="425" y="80"/>
                    </a:lnTo>
                    <a:lnTo>
                      <a:pt x="367" y="88"/>
                    </a:lnTo>
                    <a:lnTo>
                      <a:pt x="331" y="123"/>
                    </a:lnTo>
                    <a:lnTo>
                      <a:pt x="322" y="117"/>
                    </a:lnTo>
                    <a:lnTo>
                      <a:pt x="312" y="121"/>
                    </a:lnTo>
                    <a:lnTo>
                      <a:pt x="296" y="111"/>
                    </a:lnTo>
                    <a:lnTo>
                      <a:pt x="287" y="115"/>
                    </a:lnTo>
                    <a:lnTo>
                      <a:pt x="267" y="118"/>
                    </a:lnTo>
                    <a:lnTo>
                      <a:pt x="238" y="78"/>
                    </a:lnTo>
                    <a:lnTo>
                      <a:pt x="203" y="72"/>
                    </a:lnTo>
                    <a:lnTo>
                      <a:pt x="193" y="73"/>
                    </a:lnTo>
                    <a:lnTo>
                      <a:pt x="186" y="82"/>
                    </a:lnTo>
                    <a:lnTo>
                      <a:pt x="192" y="65"/>
                    </a:lnTo>
                    <a:lnTo>
                      <a:pt x="177" y="79"/>
                    </a:lnTo>
                    <a:lnTo>
                      <a:pt x="169" y="92"/>
                    </a:lnTo>
                    <a:lnTo>
                      <a:pt x="170" y="69"/>
                    </a:lnTo>
                    <a:lnTo>
                      <a:pt x="186" y="37"/>
                    </a:lnTo>
                    <a:lnTo>
                      <a:pt x="207" y="12"/>
                    </a:lnTo>
                    <a:lnTo>
                      <a:pt x="227" y="5"/>
                    </a:lnTo>
                    <a:lnTo>
                      <a:pt x="224" y="0"/>
                    </a:lnTo>
                    <a:lnTo>
                      <a:pt x="190" y="3"/>
                    </a:lnTo>
                    <a:lnTo>
                      <a:pt x="169" y="15"/>
                    </a:lnTo>
                    <a:lnTo>
                      <a:pt x="162" y="26"/>
                    </a:lnTo>
                    <a:lnTo>
                      <a:pt x="137" y="46"/>
                    </a:lnTo>
                    <a:lnTo>
                      <a:pt x="125" y="64"/>
                    </a:lnTo>
                    <a:lnTo>
                      <a:pt x="106" y="69"/>
                    </a:lnTo>
                    <a:lnTo>
                      <a:pt x="100" y="80"/>
                    </a:lnTo>
                    <a:lnTo>
                      <a:pt x="87" y="86"/>
                    </a:lnTo>
                    <a:lnTo>
                      <a:pt x="53" y="92"/>
                    </a:lnTo>
                    <a:lnTo>
                      <a:pt x="45" y="100"/>
                    </a:lnTo>
                    <a:lnTo>
                      <a:pt x="29" y="115"/>
                    </a:lnTo>
                    <a:lnTo>
                      <a:pt x="0" y="128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944680" y="2263680"/>
                <a:ext cx="425880" cy="540000"/>
              </a:xfrm>
              <a:custGeom>
                <a:avLst/>
                <a:gdLst/>
                <a:ahLst/>
                <a:rect l="l" t="t" r="r" b="b"/>
                <a:pathLst>
                  <a:path w="387" h="526">
                    <a:moveTo>
                      <a:pt x="0" y="525"/>
                    </a:moveTo>
                    <a:lnTo>
                      <a:pt x="37" y="462"/>
                    </a:lnTo>
                    <a:lnTo>
                      <a:pt x="44" y="439"/>
                    </a:lnTo>
                    <a:lnTo>
                      <a:pt x="47" y="393"/>
                    </a:lnTo>
                    <a:lnTo>
                      <a:pt x="37" y="350"/>
                    </a:lnTo>
                    <a:lnTo>
                      <a:pt x="16" y="308"/>
                    </a:lnTo>
                    <a:lnTo>
                      <a:pt x="6" y="285"/>
                    </a:lnTo>
                    <a:lnTo>
                      <a:pt x="12" y="264"/>
                    </a:lnTo>
                    <a:lnTo>
                      <a:pt x="2" y="237"/>
                    </a:lnTo>
                    <a:lnTo>
                      <a:pt x="13" y="219"/>
                    </a:lnTo>
                    <a:lnTo>
                      <a:pt x="23" y="173"/>
                    </a:lnTo>
                    <a:lnTo>
                      <a:pt x="20" y="152"/>
                    </a:lnTo>
                    <a:lnTo>
                      <a:pt x="34" y="139"/>
                    </a:lnTo>
                    <a:lnTo>
                      <a:pt x="33" y="123"/>
                    </a:lnTo>
                    <a:lnTo>
                      <a:pt x="55" y="113"/>
                    </a:lnTo>
                    <a:lnTo>
                      <a:pt x="75" y="81"/>
                    </a:lnTo>
                    <a:lnTo>
                      <a:pt x="73" y="133"/>
                    </a:lnTo>
                    <a:lnTo>
                      <a:pt x="89" y="122"/>
                    </a:lnTo>
                    <a:lnTo>
                      <a:pt x="89" y="79"/>
                    </a:lnTo>
                    <a:lnTo>
                      <a:pt x="110" y="55"/>
                    </a:lnTo>
                    <a:lnTo>
                      <a:pt x="125" y="52"/>
                    </a:lnTo>
                    <a:lnTo>
                      <a:pt x="113" y="44"/>
                    </a:lnTo>
                    <a:lnTo>
                      <a:pt x="108" y="29"/>
                    </a:lnTo>
                    <a:lnTo>
                      <a:pt x="117" y="7"/>
                    </a:lnTo>
                    <a:lnTo>
                      <a:pt x="137" y="0"/>
                    </a:lnTo>
                    <a:lnTo>
                      <a:pt x="183" y="13"/>
                    </a:lnTo>
                    <a:lnTo>
                      <a:pt x="199" y="31"/>
                    </a:lnTo>
                    <a:lnTo>
                      <a:pt x="252" y="42"/>
                    </a:lnTo>
                    <a:lnTo>
                      <a:pt x="262" y="58"/>
                    </a:lnTo>
                    <a:lnTo>
                      <a:pt x="278" y="77"/>
                    </a:lnTo>
                    <a:lnTo>
                      <a:pt x="263" y="76"/>
                    </a:lnTo>
                    <a:lnTo>
                      <a:pt x="262" y="88"/>
                    </a:lnTo>
                    <a:lnTo>
                      <a:pt x="278" y="109"/>
                    </a:lnTo>
                    <a:lnTo>
                      <a:pt x="282" y="144"/>
                    </a:lnTo>
                    <a:lnTo>
                      <a:pt x="282" y="167"/>
                    </a:lnTo>
                    <a:lnTo>
                      <a:pt x="266" y="192"/>
                    </a:lnTo>
                    <a:lnTo>
                      <a:pt x="263" y="205"/>
                    </a:lnTo>
                    <a:lnTo>
                      <a:pt x="242" y="215"/>
                    </a:lnTo>
                    <a:lnTo>
                      <a:pt x="238" y="227"/>
                    </a:lnTo>
                    <a:lnTo>
                      <a:pt x="242" y="253"/>
                    </a:lnTo>
                    <a:lnTo>
                      <a:pt x="263" y="266"/>
                    </a:lnTo>
                    <a:lnTo>
                      <a:pt x="282" y="244"/>
                    </a:lnTo>
                    <a:lnTo>
                      <a:pt x="294" y="214"/>
                    </a:lnTo>
                    <a:lnTo>
                      <a:pt x="326" y="196"/>
                    </a:lnTo>
                    <a:lnTo>
                      <a:pt x="347" y="207"/>
                    </a:lnTo>
                    <a:lnTo>
                      <a:pt x="361" y="240"/>
                    </a:lnTo>
                    <a:lnTo>
                      <a:pt x="378" y="303"/>
                    </a:lnTo>
                    <a:lnTo>
                      <a:pt x="386" y="324"/>
                    </a:lnTo>
                    <a:lnTo>
                      <a:pt x="381" y="341"/>
                    </a:lnTo>
                    <a:lnTo>
                      <a:pt x="384" y="367"/>
                    </a:lnTo>
                    <a:lnTo>
                      <a:pt x="378" y="381"/>
                    </a:lnTo>
                    <a:lnTo>
                      <a:pt x="369" y="367"/>
                    </a:lnTo>
                    <a:lnTo>
                      <a:pt x="359" y="373"/>
                    </a:lnTo>
                    <a:lnTo>
                      <a:pt x="357" y="398"/>
                    </a:lnTo>
                    <a:lnTo>
                      <a:pt x="353" y="408"/>
                    </a:lnTo>
                    <a:lnTo>
                      <a:pt x="336" y="419"/>
                    </a:lnTo>
                    <a:lnTo>
                      <a:pt x="336" y="453"/>
                    </a:lnTo>
                    <a:lnTo>
                      <a:pt x="325" y="466"/>
                    </a:lnTo>
                    <a:lnTo>
                      <a:pt x="315" y="494"/>
                    </a:lnTo>
                    <a:lnTo>
                      <a:pt x="189" y="514"/>
                    </a:lnTo>
                    <a:lnTo>
                      <a:pt x="185" y="504"/>
                    </a:lnTo>
                    <a:lnTo>
                      <a:pt x="0" y="525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4890240" y="1856880"/>
                <a:ext cx="727200" cy="761040"/>
              </a:xfrm>
              <a:custGeom>
                <a:avLst/>
                <a:gdLst/>
                <a:ahLst/>
                <a:rect l="l" t="t" r="r" b="b"/>
                <a:pathLst>
                  <a:path w="661" h="741">
                    <a:moveTo>
                      <a:pt x="0" y="46"/>
                    </a:moveTo>
                    <a:lnTo>
                      <a:pt x="5" y="151"/>
                    </a:lnTo>
                    <a:lnTo>
                      <a:pt x="30" y="234"/>
                    </a:lnTo>
                    <a:lnTo>
                      <a:pt x="33" y="343"/>
                    </a:lnTo>
                    <a:lnTo>
                      <a:pt x="51" y="431"/>
                    </a:lnTo>
                    <a:lnTo>
                      <a:pt x="28" y="475"/>
                    </a:lnTo>
                    <a:lnTo>
                      <a:pt x="61" y="509"/>
                    </a:lnTo>
                    <a:lnTo>
                      <a:pt x="59" y="740"/>
                    </a:lnTo>
                    <a:lnTo>
                      <a:pt x="536" y="730"/>
                    </a:lnTo>
                    <a:lnTo>
                      <a:pt x="527" y="685"/>
                    </a:lnTo>
                    <a:lnTo>
                      <a:pt x="514" y="670"/>
                    </a:lnTo>
                    <a:lnTo>
                      <a:pt x="477" y="645"/>
                    </a:lnTo>
                    <a:lnTo>
                      <a:pt x="452" y="617"/>
                    </a:lnTo>
                    <a:lnTo>
                      <a:pt x="387" y="577"/>
                    </a:lnTo>
                    <a:lnTo>
                      <a:pt x="389" y="509"/>
                    </a:lnTo>
                    <a:lnTo>
                      <a:pt x="375" y="466"/>
                    </a:lnTo>
                    <a:lnTo>
                      <a:pt x="427" y="400"/>
                    </a:lnTo>
                    <a:lnTo>
                      <a:pt x="424" y="336"/>
                    </a:lnTo>
                    <a:lnTo>
                      <a:pt x="436" y="325"/>
                    </a:lnTo>
                    <a:lnTo>
                      <a:pt x="500" y="272"/>
                    </a:lnTo>
                    <a:lnTo>
                      <a:pt x="533" y="232"/>
                    </a:lnTo>
                    <a:lnTo>
                      <a:pt x="575" y="199"/>
                    </a:lnTo>
                    <a:lnTo>
                      <a:pt x="660" y="156"/>
                    </a:lnTo>
                    <a:lnTo>
                      <a:pt x="628" y="158"/>
                    </a:lnTo>
                    <a:lnTo>
                      <a:pt x="599" y="144"/>
                    </a:lnTo>
                    <a:lnTo>
                      <a:pt x="552" y="149"/>
                    </a:lnTo>
                    <a:lnTo>
                      <a:pt x="541" y="131"/>
                    </a:lnTo>
                    <a:lnTo>
                      <a:pt x="527" y="139"/>
                    </a:lnTo>
                    <a:lnTo>
                      <a:pt x="494" y="158"/>
                    </a:lnTo>
                    <a:lnTo>
                      <a:pt x="472" y="151"/>
                    </a:lnTo>
                    <a:lnTo>
                      <a:pt x="462" y="141"/>
                    </a:lnTo>
                    <a:lnTo>
                      <a:pt x="444" y="137"/>
                    </a:lnTo>
                    <a:lnTo>
                      <a:pt x="437" y="122"/>
                    </a:lnTo>
                    <a:lnTo>
                      <a:pt x="419" y="124"/>
                    </a:lnTo>
                    <a:lnTo>
                      <a:pt x="419" y="137"/>
                    </a:lnTo>
                    <a:lnTo>
                      <a:pt x="412" y="139"/>
                    </a:lnTo>
                    <a:lnTo>
                      <a:pt x="400" y="112"/>
                    </a:lnTo>
                    <a:lnTo>
                      <a:pt x="383" y="112"/>
                    </a:lnTo>
                    <a:lnTo>
                      <a:pt x="389" y="99"/>
                    </a:lnTo>
                    <a:lnTo>
                      <a:pt x="350" y="92"/>
                    </a:lnTo>
                    <a:lnTo>
                      <a:pt x="337" y="90"/>
                    </a:lnTo>
                    <a:lnTo>
                      <a:pt x="291" y="108"/>
                    </a:lnTo>
                    <a:lnTo>
                      <a:pt x="285" y="92"/>
                    </a:lnTo>
                    <a:lnTo>
                      <a:pt x="215" y="78"/>
                    </a:lnTo>
                    <a:lnTo>
                      <a:pt x="203" y="5"/>
                    </a:lnTo>
                    <a:lnTo>
                      <a:pt x="174" y="0"/>
                    </a:lnTo>
                    <a:lnTo>
                      <a:pt x="174" y="46"/>
                    </a:lnTo>
                    <a:lnTo>
                      <a:pt x="0" y="46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152760" y="2702160"/>
                <a:ext cx="462960" cy="487440"/>
              </a:xfrm>
              <a:custGeom>
                <a:avLst/>
                <a:gdLst/>
                <a:ahLst/>
                <a:rect l="l" t="t" r="r" b="b"/>
                <a:pathLst>
                  <a:path w="421" h="475">
                    <a:moveTo>
                      <a:pt x="0" y="87"/>
                    </a:moveTo>
                    <a:lnTo>
                      <a:pt x="35" y="414"/>
                    </a:lnTo>
                    <a:lnTo>
                      <a:pt x="66" y="412"/>
                    </a:lnTo>
                    <a:lnTo>
                      <a:pt x="87" y="420"/>
                    </a:lnTo>
                    <a:lnTo>
                      <a:pt x="97" y="443"/>
                    </a:lnTo>
                    <a:lnTo>
                      <a:pt x="130" y="448"/>
                    </a:lnTo>
                    <a:lnTo>
                      <a:pt x="150" y="458"/>
                    </a:lnTo>
                    <a:lnTo>
                      <a:pt x="195" y="456"/>
                    </a:lnTo>
                    <a:lnTo>
                      <a:pt x="216" y="443"/>
                    </a:lnTo>
                    <a:lnTo>
                      <a:pt x="265" y="474"/>
                    </a:lnTo>
                    <a:lnTo>
                      <a:pt x="296" y="447"/>
                    </a:lnTo>
                    <a:lnTo>
                      <a:pt x="302" y="395"/>
                    </a:lnTo>
                    <a:lnTo>
                      <a:pt x="322" y="407"/>
                    </a:lnTo>
                    <a:lnTo>
                      <a:pt x="332" y="363"/>
                    </a:lnTo>
                    <a:lnTo>
                      <a:pt x="385" y="323"/>
                    </a:lnTo>
                    <a:lnTo>
                      <a:pt x="402" y="301"/>
                    </a:lnTo>
                    <a:lnTo>
                      <a:pt x="415" y="197"/>
                    </a:lnTo>
                    <a:lnTo>
                      <a:pt x="406" y="175"/>
                    </a:lnTo>
                    <a:lnTo>
                      <a:pt x="420" y="165"/>
                    </a:lnTo>
                    <a:lnTo>
                      <a:pt x="393" y="0"/>
                    </a:lnTo>
                    <a:lnTo>
                      <a:pt x="351" y="21"/>
                    </a:lnTo>
                    <a:lnTo>
                      <a:pt x="322" y="37"/>
                    </a:lnTo>
                    <a:lnTo>
                      <a:pt x="310" y="55"/>
                    </a:lnTo>
                    <a:lnTo>
                      <a:pt x="287" y="77"/>
                    </a:lnTo>
                    <a:lnTo>
                      <a:pt x="260" y="79"/>
                    </a:lnTo>
                    <a:lnTo>
                      <a:pt x="233" y="93"/>
                    </a:lnTo>
                    <a:lnTo>
                      <a:pt x="220" y="99"/>
                    </a:lnTo>
                    <a:lnTo>
                      <a:pt x="203" y="90"/>
                    </a:lnTo>
                    <a:lnTo>
                      <a:pt x="179" y="100"/>
                    </a:lnTo>
                    <a:lnTo>
                      <a:pt x="175" y="96"/>
                    </a:lnTo>
                    <a:lnTo>
                      <a:pt x="197" y="83"/>
                    </a:lnTo>
                    <a:lnTo>
                      <a:pt x="196" y="83"/>
                    </a:lnTo>
                    <a:lnTo>
                      <a:pt x="185" y="79"/>
                    </a:lnTo>
                    <a:lnTo>
                      <a:pt x="176" y="87"/>
                    </a:lnTo>
                    <a:lnTo>
                      <a:pt x="138" y="70"/>
                    </a:lnTo>
                    <a:lnTo>
                      <a:pt x="123" y="77"/>
                    </a:lnTo>
                    <a:lnTo>
                      <a:pt x="126" y="67"/>
                    </a:lnTo>
                    <a:lnTo>
                      <a:pt x="0" y="87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302800" y="2160720"/>
                <a:ext cx="584280" cy="573840"/>
              </a:xfrm>
              <a:custGeom>
                <a:avLst/>
                <a:gdLst/>
                <a:ahLst/>
                <a:rect l="l" t="t" r="r" b="b"/>
                <a:pathLst>
                  <a:path w="531" h="559">
                    <a:moveTo>
                      <a:pt x="0" y="170"/>
                    </a:moveTo>
                    <a:lnTo>
                      <a:pt x="14" y="213"/>
                    </a:lnTo>
                    <a:lnTo>
                      <a:pt x="12" y="281"/>
                    </a:lnTo>
                    <a:lnTo>
                      <a:pt x="77" y="321"/>
                    </a:lnTo>
                    <a:lnTo>
                      <a:pt x="102" y="349"/>
                    </a:lnTo>
                    <a:lnTo>
                      <a:pt x="139" y="374"/>
                    </a:lnTo>
                    <a:lnTo>
                      <a:pt x="152" y="389"/>
                    </a:lnTo>
                    <a:lnTo>
                      <a:pt x="161" y="434"/>
                    </a:lnTo>
                    <a:lnTo>
                      <a:pt x="171" y="498"/>
                    </a:lnTo>
                    <a:lnTo>
                      <a:pt x="221" y="558"/>
                    </a:lnTo>
                    <a:lnTo>
                      <a:pt x="484" y="540"/>
                    </a:lnTo>
                    <a:lnTo>
                      <a:pt x="468" y="454"/>
                    </a:lnTo>
                    <a:lnTo>
                      <a:pt x="478" y="365"/>
                    </a:lnTo>
                    <a:lnTo>
                      <a:pt x="493" y="325"/>
                    </a:lnTo>
                    <a:lnTo>
                      <a:pt x="492" y="289"/>
                    </a:lnTo>
                    <a:lnTo>
                      <a:pt x="525" y="209"/>
                    </a:lnTo>
                    <a:lnTo>
                      <a:pt x="530" y="188"/>
                    </a:lnTo>
                    <a:lnTo>
                      <a:pt x="520" y="184"/>
                    </a:lnTo>
                    <a:lnTo>
                      <a:pt x="507" y="200"/>
                    </a:lnTo>
                    <a:lnTo>
                      <a:pt x="497" y="242"/>
                    </a:lnTo>
                    <a:lnTo>
                      <a:pt x="475" y="247"/>
                    </a:lnTo>
                    <a:lnTo>
                      <a:pt x="465" y="271"/>
                    </a:lnTo>
                    <a:lnTo>
                      <a:pt x="443" y="287"/>
                    </a:lnTo>
                    <a:lnTo>
                      <a:pt x="445" y="260"/>
                    </a:lnTo>
                    <a:lnTo>
                      <a:pt x="459" y="233"/>
                    </a:lnTo>
                    <a:lnTo>
                      <a:pt x="474" y="223"/>
                    </a:lnTo>
                    <a:lnTo>
                      <a:pt x="476" y="213"/>
                    </a:lnTo>
                    <a:lnTo>
                      <a:pt x="447" y="135"/>
                    </a:lnTo>
                    <a:lnTo>
                      <a:pt x="427" y="129"/>
                    </a:lnTo>
                    <a:lnTo>
                      <a:pt x="419" y="112"/>
                    </a:lnTo>
                    <a:lnTo>
                      <a:pt x="370" y="106"/>
                    </a:lnTo>
                    <a:lnTo>
                      <a:pt x="259" y="77"/>
                    </a:lnTo>
                    <a:lnTo>
                      <a:pt x="214" y="45"/>
                    </a:lnTo>
                    <a:lnTo>
                      <a:pt x="189" y="35"/>
                    </a:lnTo>
                    <a:lnTo>
                      <a:pt x="174" y="45"/>
                    </a:lnTo>
                    <a:lnTo>
                      <a:pt x="169" y="42"/>
                    </a:lnTo>
                    <a:lnTo>
                      <a:pt x="177" y="35"/>
                    </a:lnTo>
                    <a:lnTo>
                      <a:pt x="177" y="20"/>
                    </a:lnTo>
                    <a:lnTo>
                      <a:pt x="182" y="15"/>
                    </a:lnTo>
                    <a:lnTo>
                      <a:pt x="182" y="5"/>
                    </a:lnTo>
                    <a:lnTo>
                      <a:pt x="175" y="0"/>
                    </a:lnTo>
                    <a:lnTo>
                      <a:pt x="113" y="28"/>
                    </a:lnTo>
                    <a:lnTo>
                      <a:pt x="90" y="37"/>
                    </a:lnTo>
                    <a:lnTo>
                      <a:pt x="81" y="38"/>
                    </a:lnTo>
                    <a:lnTo>
                      <a:pt x="65" y="30"/>
                    </a:lnTo>
                    <a:lnTo>
                      <a:pt x="64" y="37"/>
                    </a:lnTo>
                    <a:lnTo>
                      <a:pt x="61" y="29"/>
                    </a:lnTo>
                    <a:lnTo>
                      <a:pt x="49" y="40"/>
                    </a:lnTo>
                    <a:lnTo>
                      <a:pt x="52" y="104"/>
                    </a:lnTo>
                    <a:lnTo>
                      <a:pt x="0" y="170"/>
                    </a:lnTo>
                  </a:path>
                </a:pathLst>
              </a:custGeom>
              <a:solidFill>
                <a:srgbClr val="ffff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2057400" y="1600200"/>
              <a:ext cx="3700080" cy="3291480"/>
              <a:chOff x="2057400" y="1600200"/>
              <a:chExt cx="3700080" cy="3291480"/>
            </a:xfrm>
          </p:grpSpPr>
          <p:sp>
            <p:nvSpPr>
              <p:cNvPr id="436" name=""/>
              <p:cNvSpPr/>
              <p:nvPr/>
            </p:nvSpPr>
            <p:spPr>
              <a:xfrm>
                <a:off x="3838320" y="459936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29" h="22">
                    <a:moveTo>
                      <a:pt x="0" y="0"/>
                    </a:moveTo>
                    <a:lnTo>
                      <a:pt x="10" y="21"/>
                    </a:lnTo>
                    <a:lnTo>
                      <a:pt x="28" y="13"/>
                    </a:lnTo>
                    <a:lnTo>
                      <a:pt x="19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cc99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37" name=""/>
              <p:cNvGrpSpPr/>
              <p:nvPr/>
            </p:nvGrpSpPr>
            <p:grpSpPr>
              <a:xfrm>
                <a:off x="2057400" y="1600200"/>
                <a:ext cx="3700080" cy="3291480"/>
                <a:chOff x="2057400" y="1600200"/>
                <a:chExt cx="3700080" cy="3291480"/>
              </a:xfrm>
            </p:grpSpPr>
            <p:sp>
              <p:nvSpPr>
                <p:cNvPr id="438" name=""/>
                <p:cNvSpPr/>
                <p:nvPr/>
              </p:nvSpPr>
              <p:spPr>
                <a:xfrm>
                  <a:off x="2416320" y="4832280"/>
                  <a:ext cx="60120" cy="22320"/>
                </a:xfrm>
                <a:custGeom>
                  <a:avLst/>
                  <a:gdLst/>
                  <a:ahLst/>
                  <a:rect l="l" t="t" r="r" b="b"/>
                  <a:pathLst>
                    <a:path w="55" h="22">
                      <a:moveTo>
                        <a:pt x="0" y="21"/>
                      </a:moveTo>
                      <a:lnTo>
                        <a:pt x="13" y="0"/>
                      </a:lnTo>
                      <a:lnTo>
                        <a:pt x="45" y="0"/>
                      </a:lnTo>
                      <a:lnTo>
                        <a:pt x="54" y="20"/>
                      </a:lnTo>
                      <a:lnTo>
                        <a:pt x="19" y="13"/>
                      </a:lnTo>
                      <a:lnTo>
                        <a:pt x="0" y="21"/>
                      </a:lnTo>
                    </a:path>
                  </a:pathLst>
                </a:custGeom>
                <a:solidFill>
                  <a:srgbClr val="ffff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9" name=""/>
                <p:cNvGrpSpPr/>
                <p:nvPr/>
              </p:nvGrpSpPr>
              <p:grpSpPr>
                <a:xfrm>
                  <a:off x="2057400" y="1600200"/>
                  <a:ext cx="3700080" cy="3291480"/>
                  <a:chOff x="2057400" y="1600200"/>
                  <a:chExt cx="3700080" cy="3291480"/>
                </a:xfrm>
              </p:grpSpPr>
              <p:sp>
                <p:nvSpPr>
                  <p:cNvPr id="440" name=""/>
                  <p:cNvSpPr/>
                  <p:nvPr/>
                </p:nvSpPr>
                <p:spPr>
                  <a:xfrm>
                    <a:off x="2265120" y="4865040"/>
                    <a:ext cx="561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51" h="26">
                        <a:moveTo>
                          <a:pt x="0" y="25"/>
                        </a:moveTo>
                        <a:lnTo>
                          <a:pt x="13" y="13"/>
                        </a:lnTo>
                        <a:lnTo>
                          <a:pt x="47" y="0"/>
                        </a:lnTo>
                        <a:lnTo>
                          <a:pt x="50" y="5"/>
                        </a:lnTo>
                        <a:lnTo>
                          <a:pt x="0" y="25"/>
                        </a:lnTo>
                      </a:path>
                    </a:pathLst>
                  </a:custGeom>
                  <a:solidFill>
                    <a:srgbClr val="00cc99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160" bIns="-201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41" name=""/>
                  <p:cNvGrpSpPr/>
                  <p:nvPr/>
                </p:nvGrpSpPr>
                <p:grpSpPr>
                  <a:xfrm>
                    <a:off x="2057400" y="1600200"/>
                    <a:ext cx="3700080" cy="3277440"/>
                    <a:chOff x="2057400" y="1600200"/>
                    <a:chExt cx="3700080" cy="3277440"/>
                  </a:xfrm>
                </p:grpSpPr>
                <p:sp>
                  <p:nvSpPr>
                    <p:cNvPr id="442" name=""/>
                    <p:cNvSpPr/>
                    <p:nvPr/>
                  </p:nvSpPr>
                  <p:spPr>
                    <a:xfrm>
                      <a:off x="2507400" y="1603080"/>
                      <a:ext cx="3384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7">
                          <a:moveTo>
                            <a:pt x="0" y="15"/>
                          </a:moveTo>
                          <a:lnTo>
                            <a:pt x="26" y="0"/>
                          </a:lnTo>
                          <a:lnTo>
                            <a:pt x="30" y="15"/>
                          </a:lnTo>
                          <a:lnTo>
                            <a:pt x="26" y="36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00cc99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2057400" y="1600200"/>
                      <a:ext cx="3700080" cy="3277440"/>
                      <a:chOff x="2057400" y="1600200"/>
                      <a:chExt cx="3700080" cy="327744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2345400" y="4854960"/>
                        <a:ext cx="31680" cy="21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" h="21">
                            <a:moveTo>
                              <a:pt x="0" y="20"/>
                            </a:moveTo>
                            <a:lnTo>
                              <a:pt x="6" y="0"/>
                            </a:lnTo>
                            <a:lnTo>
                              <a:pt x="28" y="4"/>
                            </a:lnTo>
                            <a:lnTo>
                              <a:pt x="25" y="15"/>
                            </a:lnTo>
                            <a:lnTo>
                              <a:pt x="0" y="2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200" bIns="-25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2471040" y="4039560"/>
                        <a:ext cx="1066320" cy="838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69" h="816">
                            <a:moveTo>
                              <a:pt x="0" y="778"/>
                            </a:moveTo>
                            <a:lnTo>
                              <a:pt x="9" y="765"/>
                            </a:lnTo>
                            <a:lnTo>
                              <a:pt x="16" y="766"/>
                            </a:lnTo>
                            <a:lnTo>
                              <a:pt x="55" y="739"/>
                            </a:lnTo>
                            <a:lnTo>
                              <a:pt x="80" y="744"/>
                            </a:lnTo>
                            <a:lnTo>
                              <a:pt x="86" y="755"/>
                            </a:lnTo>
                            <a:lnTo>
                              <a:pt x="88" y="743"/>
                            </a:lnTo>
                            <a:lnTo>
                              <a:pt x="112" y="726"/>
                            </a:lnTo>
                            <a:lnTo>
                              <a:pt x="150" y="712"/>
                            </a:lnTo>
                            <a:lnTo>
                              <a:pt x="184" y="684"/>
                            </a:lnTo>
                            <a:lnTo>
                              <a:pt x="192" y="687"/>
                            </a:lnTo>
                            <a:lnTo>
                              <a:pt x="198" y="651"/>
                            </a:lnTo>
                            <a:lnTo>
                              <a:pt x="218" y="623"/>
                            </a:lnTo>
                            <a:lnTo>
                              <a:pt x="183" y="625"/>
                            </a:lnTo>
                            <a:lnTo>
                              <a:pt x="188" y="612"/>
                            </a:lnTo>
                            <a:lnTo>
                              <a:pt x="199" y="612"/>
                            </a:lnTo>
                            <a:lnTo>
                              <a:pt x="188" y="606"/>
                            </a:lnTo>
                            <a:lnTo>
                              <a:pt x="171" y="623"/>
                            </a:lnTo>
                            <a:lnTo>
                              <a:pt x="170" y="634"/>
                            </a:lnTo>
                            <a:lnTo>
                              <a:pt x="149" y="608"/>
                            </a:lnTo>
                            <a:lnTo>
                              <a:pt x="143" y="612"/>
                            </a:lnTo>
                            <a:lnTo>
                              <a:pt x="132" y="599"/>
                            </a:lnTo>
                            <a:lnTo>
                              <a:pt x="105" y="609"/>
                            </a:lnTo>
                            <a:lnTo>
                              <a:pt x="99" y="610"/>
                            </a:lnTo>
                            <a:lnTo>
                              <a:pt x="76" y="604"/>
                            </a:lnTo>
                            <a:lnTo>
                              <a:pt x="99" y="585"/>
                            </a:lnTo>
                            <a:lnTo>
                              <a:pt x="93" y="580"/>
                            </a:lnTo>
                            <a:lnTo>
                              <a:pt x="100" y="566"/>
                            </a:lnTo>
                            <a:lnTo>
                              <a:pt x="96" y="526"/>
                            </a:lnTo>
                            <a:lnTo>
                              <a:pt x="109" y="507"/>
                            </a:lnTo>
                            <a:lnTo>
                              <a:pt x="89" y="522"/>
                            </a:lnTo>
                            <a:lnTo>
                              <a:pt x="90" y="534"/>
                            </a:lnTo>
                            <a:lnTo>
                              <a:pt x="72" y="545"/>
                            </a:lnTo>
                            <a:lnTo>
                              <a:pt x="50" y="538"/>
                            </a:lnTo>
                            <a:lnTo>
                              <a:pt x="42" y="506"/>
                            </a:lnTo>
                            <a:lnTo>
                              <a:pt x="27" y="492"/>
                            </a:lnTo>
                            <a:lnTo>
                              <a:pt x="28" y="483"/>
                            </a:lnTo>
                            <a:lnTo>
                              <a:pt x="37" y="483"/>
                            </a:lnTo>
                            <a:lnTo>
                              <a:pt x="41" y="476"/>
                            </a:lnTo>
                            <a:lnTo>
                              <a:pt x="49" y="473"/>
                            </a:lnTo>
                            <a:lnTo>
                              <a:pt x="41" y="473"/>
                            </a:lnTo>
                            <a:lnTo>
                              <a:pt x="47" y="467"/>
                            </a:lnTo>
                            <a:lnTo>
                              <a:pt x="38" y="456"/>
                            </a:lnTo>
                            <a:lnTo>
                              <a:pt x="35" y="462"/>
                            </a:lnTo>
                            <a:lnTo>
                              <a:pt x="22" y="437"/>
                            </a:lnTo>
                            <a:lnTo>
                              <a:pt x="30" y="420"/>
                            </a:lnTo>
                            <a:lnTo>
                              <a:pt x="74" y="391"/>
                            </a:lnTo>
                            <a:lnTo>
                              <a:pt x="86" y="370"/>
                            </a:lnTo>
                            <a:lnTo>
                              <a:pt x="95" y="366"/>
                            </a:lnTo>
                            <a:lnTo>
                              <a:pt x="116" y="379"/>
                            </a:lnTo>
                            <a:lnTo>
                              <a:pt x="132" y="375"/>
                            </a:lnTo>
                            <a:lnTo>
                              <a:pt x="139" y="365"/>
                            </a:lnTo>
                            <a:lnTo>
                              <a:pt x="172" y="370"/>
                            </a:lnTo>
                            <a:lnTo>
                              <a:pt x="178" y="337"/>
                            </a:lnTo>
                            <a:lnTo>
                              <a:pt x="170" y="325"/>
                            </a:lnTo>
                            <a:lnTo>
                              <a:pt x="191" y="313"/>
                            </a:lnTo>
                            <a:lnTo>
                              <a:pt x="171" y="306"/>
                            </a:lnTo>
                            <a:lnTo>
                              <a:pt x="143" y="324"/>
                            </a:lnTo>
                            <a:lnTo>
                              <a:pt x="141" y="307"/>
                            </a:lnTo>
                            <a:lnTo>
                              <a:pt x="92" y="304"/>
                            </a:lnTo>
                            <a:lnTo>
                              <a:pt x="70" y="285"/>
                            </a:lnTo>
                            <a:lnTo>
                              <a:pt x="67" y="252"/>
                            </a:lnTo>
                            <a:lnTo>
                              <a:pt x="83" y="258"/>
                            </a:lnTo>
                            <a:lnTo>
                              <a:pt x="49" y="224"/>
                            </a:lnTo>
                            <a:lnTo>
                              <a:pt x="138" y="205"/>
                            </a:lnTo>
                            <a:lnTo>
                              <a:pt x="151" y="209"/>
                            </a:lnTo>
                            <a:lnTo>
                              <a:pt x="139" y="224"/>
                            </a:lnTo>
                            <a:lnTo>
                              <a:pt x="185" y="247"/>
                            </a:lnTo>
                            <a:lnTo>
                              <a:pt x="205" y="240"/>
                            </a:lnTo>
                            <a:lnTo>
                              <a:pt x="203" y="233"/>
                            </a:lnTo>
                            <a:lnTo>
                              <a:pt x="187" y="228"/>
                            </a:lnTo>
                            <a:lnTo>
                              <a:pt x="178" y="197"/>
                            </a:lnTo>
                            <a:lnTo>
                              <a:pt x="190" y="207"/>
                            </a:lnTo>
                            <a:lnTo>
                              <a:pt x="194" y="224"/>
                            </a:lnTo>
                            <a:lnTo>
                              <a:pt x="214" y="236"/>
                            </a:lnTo>
                            <a:lnTo>
                              <a:pt x="234" y="235"/>
                            </a:lnTo>
                            <a:lnTo>
                              <a:pt x="229" y="223"/>
                            </a:lnTo>
                            <a:lnTo>
                              <a:pt x="197" y="216"/>
                            </a:lnTo>
                            <a:lnTo>
                              <a:pt x="203" y="197"/>
                            </a:lnTo>
                            <a:lnTo>
                              <a:pt x="163" y="183"/>
                            </a:lnTo>
                            <a:lnTo>
                              <a:pt x="162" y="157"/>
                            </a:lnTo>
                            <a:lnTo>
                              <a:pt x="151" y="140"/>
                            </a:lnTo>
                            <a:lnTo>
                              <a:pt x="122" y="106"/>
                            </a:lnTo>
                            <a:lnTo>
                              <a:pt x="133" y="104"/>
                            </a:lnTo>
                            <a:lnTo>
                              <a:pt x="146" y="79"/>
                            </a:lnTo>
                            <a:lnTo>
                              <a:pt x="179" y="91"/>
                            </a:lnTo>
                            <a:lnTo>
                              <a:pt x="204" y="79"/>
                            </a:lnTo>
                            <a:lnTo>
                              <a:pt x="241" y="33"/>
                            </a:lnTo>
                            <a:lnTo>
                              <a:pt x="252" y="41"/>
                            </a:lnTo>
                            <a:lnTo>
                              <a:pt x="275" y="26"/>
                            </a:lnTo>
                            <a:lnTo>
                              <a:pt x="276" y="39"/>
                            </a:lnTo>
                            <a:lnTo>
                              <a:pt x="289" y="35"/>
                            </a:lnTo>
                            <a:lnTo>
                              <a:pt x="282" y="28"/>
                            </a:lnTo>
                            <a:lnTo>
                              <a:pt x="316" y="23"/>
                            </a:lnTo>
                            <a:lnTo>
                              <a:pt x="341" y="0"/>
                            </a:lnTo>
                            <a:lnTo>
                              <a:pt x="358" y="15"/>
                            </a:lnTo>
                            <a:lnTo>
                              <a:pt x="352" y="33"/>
                            </a:lnTo>
                            <a:lnTo>
                              <a:pt x="364" y="35"/>
                            </a:lnTo>
                            <a:lnTo>
                              <a:pt x="368" y="18"/>
                            </a:lnTo>
                            <a:lnTo>
                              <a:pt x="384" y="39"/>
                            </a:lnTo>
                            <a:lnTo>
                              <a:pt x="412" y="39"/>
                            </a:lnTo>
                            <a:lnTo>
                              <a:pt x="415" y="59"/>
                            </a:lnTo>
                            <a:lnTo>
                              <a:pt x="465" y="64"/>
                            </a:lnTo>
                            <a:lnTo>
                              <a:pt x="465" y="74"/>
                            </a:lnTo>
                            <a:lnTo>
                              <a:pt x="478" y="68"/>
                            </a:lnTo>
                            <a:lnTo>
                              <a:pt x="490" y="83"/>
                            </a:lnTo>
                            <a:lnTo>
                              <a:pt x="517" y="79"/>
                            </a:lnTo>
                            <a:lnTo>
                              <a:pt x="541" y="91"/>
                            </a:lnTo>
                            <a:lnTo>
                              <a:pt x="566" y="79"/>
                            </a:lnTo>
                            <a:lnTo>
                              <a:pt x="566" y="85"/>
                            </a:lnTo>
                            <a:lnTo>
                              <a:pt x="574" y="82"/>
                            </a:lnTo>
                            <a:lnTo>
                              <a:pt x="615" y="103"/>
                            </a:lnTo>
                            <a:lnTo>
                              <a:pt x="647" y="575"/>
                            </a:lnTo>
                            <a:lnTo>
                              <a:pt x="693" y="573"/>
                            </a:lnTo>
                            <a:lnTo>
                              <a:pt x="692" y="586"/>
                            </a:lnTo>
                            <a:lnTo>
                              <a:pt x="707" y="599"/>
                            </a:lnTo>
                            <a:lnTo>
                              <a:pt x="736" y="621"/>
                            </a:lnTo>
                            <a:lnTo>
                              <a:pt x="741" y="634"/>
                            </a:lnTo>
                            <a:lnTo>
                              <a:pt x="764" y="619"/>
                            </a:lnTo>
                            <a:lnTo>
                              <a:pt x="771" y="600"/>
                            </a:lnTo>
                            <a:lnTo>
                              <a:pt x="784" y="592"/>
                            </a:lnTo>
                            <a:lnTo>
                              <a:pt x="787" y="589"/>
                            </a:lnTo>
                            <a:lnTo>
                              <a:pt x="803" y="600"/>
                            </a:lnTo>
                            <a:lnTo>
                              <a:pt x="801" y="612"/>
                            </a:lnTo>
                            <a:lnTo>
                              <a:pt x="812" y="614"/>
                            </a:lnTo>
                            <a:lnTo>
                              <a:pt x="818" y="619"/>
                            </a:lnTo>
                            <a:lnTo>
                              <a:pt x="822" y="628"/>
                            </a:lnTo>
                            <a:lnTo>
                              <a:pt x="839" y="635"/>
                            </a:lnTo>
                            <a:lnTo>
                              <a:pt x="907" y="732"/>
                            </a:lnTo>
                            <a:lnTo>
                              <a:pt x="929" y="738"/>
                            </a:lnTo>
                            <a:lnTo>
                              <a:pt x="964" y="751"/>
                            </a:lnTo>
                            <a:lnTo>
                              <a:pt x="968" y="759"/>
                            </a:lnTo>
                            <a:lnTo>
                              <a:pt x="959" y="765"/>
                            </a:lnTo>
                            <a:lnTo>
                              <a:pt x="962" y="781"/>
                            </a:lnTo>
                            <a:lnTo>
                              <a:pt x="956" y="815"/>
                            </a:lnTo>
                            <a:lnTo>
                              <a:pt x="952" y="808"/>
                            </a:lnTo>
                            <a:lnTo>
                              <a:pt x="945" y="814"/>
                            </a:lnTo>
                            <a:lnTo>
                              <a:pt x="937" y="806"/>
                            </a:lnTo>
                            <a:lnTo>
                              <a:pt x="949" y="798"/>
                            </a:lnTo>
                            <a:lnTo>
                              <a:pt x="939" y="785"/>
                            </a:lnTo>
                            <a:lnTo>
                              <a:pt x="939" y="779"/>
                            </a:lnTo>
                            <a:lnTo>
                              <a:pt x="929" y="757"/>
                            </a:lnTo>
                            <a:lnTo>
                              <a:pt x="923" y="757"/>
                            </a:lnTo>
                            <a:lnTo>
                              <a:pt x="911" y="765"/>
                            </a:lnTo>
                            <a:lnTo>
                              <a:pt x="909" y="777"/>
                            </a:lnTo>
                            <a:lnTo>
                              <a:pt x="899" y="779"/>
                            </a:lnTo>
                            <a:lnTo>
                              <a:pt x="898" y="777"/>
                            </a:lnTo>
                            <a:lnTo>
                              <a:pt x="905" y="764"/>
                            </a:lnTo>
                            <a:lnTo>
                              <a:pt x="907" y="751"/>
                            </a:lnTo>
                            <a:lnTo>
                              <a:pt x="901" y="757"/>
                            </a:lnTo>
                            <a:lnTo>
                              <a:pt x="898" y="765"/>
                            </a:lnTo>
                            <a:lnTo>
                              <a:pt x="872" y="751"/>
                            </a:lnTo>
                            <a:lnTo>
                              <a:pt x="874" y="745"/>
                            </a:lnTo>
                            <a:lnTo>
                              <a:pt x="887" y="745"/>
                            </a:lnTo>
                            <a:lnTo>
                              <a:pt x="888" y="736"/>
                            </a:lnTo>
                            <a:lnTo>
                              <a:pt x="898" y="732"/>
                            </a:lnTo>
                            <a:lnTo>
                              <a:pt x="896" y="727"/>
                            </a:lnTo>
                            <a:lnTo>
                              <a:pt x="883" y="729"/>
                            </a:lnTo>
                            <a:lnTo>
                              <a:pt x="880" y="712"/>
                            </a:lnTo>
                            <a:lnTo>
                              <a:pt x="855" y="711"/>
                            </a:lnTo>
                            <a:lnTo>
                              <a:pt x="847" y="692"/>
                            </a:lnTo>
                            <a:lnTo>
                              <a:pt x="855" y="675"/>
                            </a:lnTo>
                            <a:lnTo>
                              <a:pt x="845" y="677"/>
                            </a:lnTo>
                            <a:lnTo>
                              <a:pt x="841" y="666"/>
                            </a:lnTo>
                            <a:lnTo>
                              <a:pt x="836" y="669"/>
                            </a:lnTo>
                            <a:lnTo>
                              <a:pt x="832" y="665"/>
                            </a:lnTo>
                            <a:lnTo>
                              <a:pt x="839" y="650"/>
                            </a:lnTo>
                            <a:lnTo>
                              <a:pt x="833" y="648"/>
                            </a:lnTo>
                            <a:lnTo>
                              <a:pt x="831" y="656"/>
                            </a:lnTo>
                            <a:lnTo>
                              <a:pt x="822" y="660"/>
                            </a:lnTo>
                            <a:lnTo>
                              <a:pt x="812" y="654"/>
                            </a:lnTo>
                            <a:lnTo>
                              <a:pt x="811" y="642"/>
                            </a:lnTo>
                            <a:lnTo>
                              <a:pt x="799" y="625"/>
                            </a:lnTo>
                            <a:lnTo>
                              <a:pt x="799" y="615"/>
                            </a:lnTo>
                            <a:lnTo>
                              <a:pt x="794" y="614"/>
                            </a:lnTo>
                            <a:lnTo>
                              <a:pt x="793" y="602"/>
                            </a:lnTo>
                            <a:lnTo>
                              <a:pt x="791" y="606"/>
                            </a:lnTo>
                            <a:lnTo>
                              <a:pt x="796" y="634"/>
                            </a:lnTo>
                            <a:lnTo>
                              <a:pt x="807" y="654"/>
                            </a:lnTo>
                            <a:lnTo>
                              <a:pt x="842" y="682"/>
                            </a:lnTo>
                            <a:lnTo>
                              <a:pt x="842" y="687"/>
                            </a:lnTo>
                            <a:lnTo>
                              <a:pt x="834" y="686"/>
                            </a:lnTo>
                            <a:lnTo>
                              <a:pt x="834" y="692"/>
                            </a:lnTo>
                            <a:lnTo>
                              <a:pt x="839" y="690"/>
                            </a:lnTo>
                            <a:lnTo>
                              <a:pt x="843" y="709"/>
                            </a:lnTo>
                            <a:lnTo>
                              <a:pt x="865" y="720"/>
                            </a:lnTo>
                            <a:lnTo>
                              <a:pt x="878" y="739"/>
                            </a:lnTo>
                            <a:lnTo>
                              <a:pt x="851" y="745"/>
                            </a:lnTo>
                            <a:lnTo>
                              <a:pt x="839" y="779"/>
                            </a:lnTo>
                            <a:lnTo>
                              <a:pt x="831" y="724"/>
                            </a:lnTo>
                            <a:lnTo>
                              <a:pt x="826" y="719"/>
                            </a:lnTo>
                            <a:lnTo>
                              <a:pt x="825" y="708"/>
                            </a:lnTo>
                            <a:lnTo>
                              <a:pt x="829" y="705"/>
                            </a:lnTo>
                            <a:lnTo>
                              <a:pt x="807" y="663"/>
                            </a:lnTo>
                            <a:lnTo>
                              <a:pt x="800" y="662"/>
                            </a:lnTo>
                            <a:lnTo>
                              <a:pt x="795" y="654"/>
                            </a:lnTo>
                            <a:lnTo>
                              <a:pt x="788" y="656"/>
                            </a:lnTo>
                            <a:lnTo>
                              <a:pt x="784" y="652"/>
                            </a:lnTo>
                            <a:lnTo>
                              <a:pt x="778" y="629"/>
                            </a:lnTo>
                            <a:lnTo>
                              <a:pt x="775" y="639"/>
                            </a:lnTo>
                            <a:lnTo>
                              <a:pt x="757" y="632"/>
                            </a:lnTo>
                            <a:lnTo>
                              <a:pt x="753" y="637"/>
                            </a:lnTo>
                            <a:lnTo>
                              <a:pt x="776" y="650"/>
                            </a:lnTo>
                            <a:lnTo>
                              <a:pt x="764" y="654"/>
                            </a:lnTo>
                            <a:lnTo>
                              <a:pt x="766" y="665"/>
                            </a:lnTo>
                            <a:lnTo>
                              <a:pt x="748" y="657"/>
                            </a:lnTo>
                            <a:lnTo>
                              <a:pt x="724" y="634"/>
                            </a:lnTo>
                            <a:lnTo>
                              <a:pt x="690" y="619"/>
                            </a:lnTo>
                            <a:lnTo>
                              <a:pt x="666" y="618"/>
                            </a:lnTo>
                            <a:lnTo>
                              <a:pt x="682" y="595"/>
                            </a:lnTo>
                            <a:lnTo>
                              <a:pt x="691" y="606"/>
                            </a:lnTo>
                            <a:lnTo>
                              <a:pt x="692" y="595"/>
                            </a:lnTo>
                            <a:lnTo>
                              <a:pt x="678" y="585"/>
                            </a:lnTo>
                            <a:lnTo>
                              <a:pt x="668" y="603"/>
                            </a:lnTo>
                            <a:lnTo>
                              <a:pt x="648" y="604"/>
                            </a:lnTo>
                            <a:lnTo>
                              <a:pt x="560" y="595"/>
                            </a:lnTo>
                            <a:lnTo>
                              <a:pt x="563" y="581"/>
                            </a:lnTo>
                            <a:lnTo>
                              <a:pt x="554" y="585"/>
                            </a:lnTo>
                            <a:lnTo>
                              <a:pt x="543" y="572"/>
                            </a:lnTo>
                            <a:lnTo>
                              <a:pt x="530" y="579"/>
                            </a:lnTo>
                            <a:lnTo>
                              <a:pt x="525" y="570"/>
                            </a:lnTo>
                            <a:lnTo>
                              <a:pt x="502" y="580"/>
                            </a:lnTo>
                            <a:lnTo>
                              <a:pt x="500" y="572"/>
                            </a:lnTo>
                            <a:lnTo>
                              <a:pt x="511" y="558"/>
                            </a:lnTo>
                            <a:lnTo>
                              <a:pt x="504" y="557"/>
                            </a:lnTo>
                            <a:lnTo>
                              <a:pt x="511" y="551"/>
                            </a:lnTo>
                            <a:lnTo>
                              <a:pt x="486" y="555"/>
                            </a:lnTo>
                            <a:lnTo>
                              <a:pt x="477" y="546"/>
                            </a:lnTo>
                            <a:lnTo>
                              <a:pt x="468" y="551"/>
                            </a:lnTo>
                            <a:lnTo>
                              <a:pt x="465" y="545"/>
                            </a:lnTo>
                            <a:lnTo>
                              <a:pt x="471" y="538"/>
                            </a:lnTo>
                            <a:lnTo>
                              <a:pt x="458" y="542"/>
                            </a:lnTo>
                            <a:lnTo>
                              <a:pt x="459" y="546"/>
                            </a:lnTo>
                            <a:lnTo>
                              <a:pt x="452" y="552"/>
                            </a:lnTo>
                            <a:lnTo>
                              <a:pt x="462" y="552"/>
                            </a:lnTo>
                            <a:lnTo>
                              <a:pt x="458" y="566"/>
                            </a:lnTo>
                            <a:lnTo>
                              <a:pt x="468" y="571"/>
                            </a:lnTo>
                            <a:lnTo>
                              <a:pt x="479" y="578"/>
                            </a:lnTo>
                            <a:lnTo>
                              <a:pt x="494" y="571"/>
                            </a:lnTo>
                            <a:lnTo>
                              <a:pt x="492" y="602"/>
                            </a:lnTo>
                            <a:lnTo>
                              <a:pt x="466" y="603"/>
                            </a:lnTo>
                            <a:lnTo>
                              <a:pt x="466" y="593"/>
                            </a:lnTo>
                            <a:lnTo>
                              <a:pt x="458" y="589"/>
                            </a:lnTo>
                            <a:lnTo>
                              <a:pt x="438" y="597"/>
                            </a:lnTo>
                            <a:lnTo>
                              <a:pt x="437" y="589"/>
                            </a:lnTo>
                            <a:lnTo>
                              <a:pt x="430" y="595"/>
                            </a:lnTo>
                            <a:lnTo>
                              <a:pt x="427" y="586"/>
                            </a:lnTo>
                            <a:lnTo>
                              <a:pt x="412" y="585"/>
                            </a:lnTo>
                            <a:lnTo>
                              <a:pt x="424" y="602"/>
                            </a:lnTo>
                            <a:lnTo>
                              <a:pt x="423" y="606"/>
                            </a:lnTo>
                            <a:lnTo>
                              <a:pt x="416" y="603"/>
                            </a:lnTo>
                            <a:lnTo>
                              <a:pt x="398" y="612"/>
                            </a:lnTo>
                            <a:lnTo>
                              <a:pt x="394" y="609"/>
                            </a:lnTo>
                            <a:lnTo>
                              <a:pt x="381" y="632"/>
                            </a:lnTo>
                            <a:lnTo>
                              <a:pt x="375" y="623"/>
                            </a:lnTo>
                            <a:lnTo>
                              <a:pt x="371" y="629"/>
                            </a:lnTo>
                            <a:lnTo>
                              <a:pt x="358" y="626"/>
                            </a:lnTo>
                            <a:lnTo>
                              <a:pt x="356" y="614"/>
                            </a:lnTo>
                            <a:lnTo>
                              <a:pt x="372" y="614"/>
                            </a:lnTo>
                            <a:lnTo>
                              <a:pt x="381" y="604"/>
                            </a:lnTo>
                            <a:lnTo>
                              <a:pt x="355" y="603"/>
                            </a:lnTo>
                            <a:lnTo>
                              <a:pt x="378" y="549"/>
                            </a:lnTo>
                            <a:lnTo>
                              <a:pt x="417" y="540"/>
                            </a:lnTo>
                            <a:lnTo>
                              <a:pt x="412" y="528"/>
                            </a:lnTo>
                            <a:lnTo>
                              <a:pt x="437" y="514"/>
                            </a:lnTo>
                            <a:lnTo>
                              <a:pt x="404" y="523"/>
                            </a:lnTo>
                            <a:lnTo>
                              <a:pt x="410" y="496"/>
                            </a:lnTo>
                            <a:lnTo>
                              <a:pt x="393" y="527"/>
                            </a:lnTo>
                            <a:lnTo>
                              <a:pt x="372" y="538"/>
                            </a:lnTo>
                            <a:lnTo>
                              <a:pt x="347" y="570"/>
                            </a:lnTo>
                            <a:lnTo>
                              <a:pt x="330" y="570"/>
                            </a:lnTo>
                            <a:lnTo>
                              <a:pt x="339" y="586"/>
                            </a:lnTo>
                            <a:lnTo>
                              <a:pt x="295" y="621"/>
                            </a:lnTo>
                            <a:lnTo>
                              <a:pt x="315" y="629"/>
                            </a:lnTo>
                            <a:lnTo>
                              <a:pt x="310" y="644"/>
                            </a:lnTo>
                            <a:lnTo>
                              <a:pt x="212" y="719"/>
                            </a:lnTo>
                            <a:lnTo>
                              <a:pt x="141" y="738"/>
                            </a:lnTo>
                            <a:lnTo>
                              <a:pt x="162" y="746"/>
                            </a:lnTo>
                            <a:lnTo>
                              <a:pt x="120" y="770"/>
                            </a:lnTo>
                            <a:lnTo>
                              <a:pt x="112" y="759"/>
                            </a:lnTo>
                            <a:lnTo>
                              <a:pt x="82" y="770"/>
                            </a:lnTo>
                            <a:lnTo>
                              <a:pt x="61" y="770"/>
                            </a:lnTo>
                            <a:lnTo>
                              <a:pt x="61" y="757"/>
                            </a:lnTo>
                            <a:lnTo>
                              <a:pt x="33" y="783"/>
                            </a:lnTo>
                            <a:lnTo>
                              <a:pt x="25" y="781"/>
                            </a:lnTo>
                            <a:lnTo>
                              <a:pt x="25" y="768"/>
                            </a:lnTo>
                            <a:lnTo>
                              <a:pt x="20" y="781"/>
                            </a:lnTo>
                            <a:lnTo>
                              <a:pt x="0" y="77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3479400" y="4825440"/>
                        <a:ext cx="19800" cy="34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8" h="34">
                            <a:moveTo>
                              <a:pt x="0" y="33"/>
                            </a:moveTo>
                            <a:lnTo>
                              <a:pt x="4" y="0"/>
                            </a:lnTo>
                            <a:lnTo>
                              <a:pt x="17" y="28"/>
                            </a:lnTo>
                            <a:lnTo>
                              <a:pt x="0" y="3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2807640" y="3279600"/>
                        <a:ext cx="753840" cy="814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85" h="793">
                            <a:moveTo>
                              <a:pt x="0" y="541"/>
                            </a:moveTo>
                            <a:lnTo>
                              <a:pt x="43" y="504"/>
                            </a:lnTo>
                            <a:lnTo>
                              <a:pt x="26" y="473"/>
                            </a:lnTo>
                            <a:lnTo>
                              <a:pt x="35" y="430"/>
                            </a:lnTo>
                            <a:lnTo>
                              <a:pt x="80" y="355"/>
                            </a:lnTo>
                            <a:lnTo>
                              <a:pt x="113" y="334"/>
                            </a:lnTo>
                            <a:lnTo>
                              <a:pt x="93" y="308"/>
                            </a:lnTo>
                            <a:lnTo>
                              <a:pt x="81" y="234"/>
                            </a:lnTo>
                            <a:lnTo>
                              <a:pt x="95" y="102"/>
                            </a:lnTo>
                            <a:lnTo>
                              <a:pt x="118" y="95"/>
                            </a:lnTo>
                            <a:lnTo>
                              <a:pt x="157" y="117"/>
                            </a:lnTo>
                            <a:lnTo>
                              <a:pt x="190" y="0"/>
                            </a:lnTo>
                            <a:lnTo>
                              <a:pt x="684" y="84"/>
                            </a:lnTo>
                            <a:lnTo>
                              <a:pt x="580" y="792"/>
                            </a:lnTo>
                            <a:lnTo>
                              <a:pt x="429" y="768"/>
                            </a:lnTo>
                            <a:lnTo>
                              <a:pt x="334" y="742"/>
                            </a:lnTo>
                            <a:lnTo>
                              <a:pt x="140" y="627"/>
                            </a:lnTo>
                            <a:lnTo>
                              <a:pt x="0" y="54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2057400" y="2400120"/>
                        <a:ext cx="875880" cy="139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6" h="1361">
                            <a:moveTo>
                              <a:pt x="18" y="246"/>
                            </a:moveTo>
                            <a:lnTo>
                              <a:pt x="28" y="275"/>
                            </a:lnTo>
                            <a:lnTo>
                              <a:pt x="5" y="382"/>
                            </a:lnTo>
                            <a:lnTo>
                              <a:pt x="20" y="413"/>
                            </a:lnTo>
                            <a:lnTo>
                              <a:pt x="82" y="553"/>
                            </a:lnTo>
                            <a:lnTo>
                              <a:pt x="89" y="550"/>
                            </a:lnTo>
                            <a:lnTo>
                              <a:pt x="92" y="519"/>
                            </a:lnTo>
                            <a:lnTo>
                              <a:pt x="103" y="514"/>
                            </a:lnTo>
                            <a:lnTo>
                              <a:pt x="113" y="522"/>
                            </a:lnTo>
                            <a:lnTo>
                              <a:pt x="94" y="540"/>
                            </a:lnTo>
                            <a:lnTo>
                              <a:pt x="102" y="551"/>
                            </a:lnTo>
                            <a:lnTo>
                              <a:pt x="118" y="611"/>
                            </a:lnTo>
                            <a:lnTo>
                              <a:pt x="108" y="607"/>
                            </a:lnTo>
                            <a:lnTo>
                              <a:pt x="86" y="585"/>
                            </a:lnTo>
                            <a:lnTo>
                              <a:pt x="92" y="561"/>
                            </a:lnTo>
                            <a:lnTo>
                              <a:pt x="82" y="562"/>
                            </a:lnTo>
                            <a:lnTo>
                              <a:pt x="68" y="587"/>
                            </a:lnTo>
                            <a:lnTo>
                              <a:pt x="73" y="642"/>
                            </a:lnTo>
                            <a:lnTo>
                              <a:pt x="86" y="667"/>
                            </a:lnTo>
                            <a:lnTo>
                              <a:pt x="114" y="689"/>
                            </a:lnTo>
                            <a:lnTo>
                              <a:pt x="105" y="716"/>
                            </a:lnTo>
                            <a:lnTo>
                              <a:pt x="89" y="721"/>
                            </a:lnTo>
                            <a:lnTo>
                              <a:pt x="86" y="756"/>
                            </a:lnTo>
                            <a:lnTo>
                              <a:pt x="125" y="837"/>
                            </a:lnTo>
                            <a:lnTo>
                              <a:pt x="156" y="887"/>
                            </a:lnTo>
                            <a:lnTo>
                              <a:pt x="151" y="917"/>
                            </a:lnTo>
                            <a:lnTo>
                              <a:pt x="170" y="937"/>
                            </a:lnTo>
                            <a:lnTo>
                              <a:pt x="162" y="956"/>
                            </a:lnTo>
                            <a:lnTo>
                              <a:pt x="151" y="1003"/>
                            </a:lnTo>
                            <a:lnTo>
                              <a:pt x="165" y="1020"/>
                            </a:lnTo>
                            <a:lnTo>
                              <a:pt x="262" y="1054"/>
                            </a:lnTo>
                            <a:lnTo>
                              <a:pt x="301" y="1108"/>
                            </a:lnTo>
                            <a:lnTo>
                              <a:pt x="347" y="1126"/>
                            </a:lnTo>
                            <a:lnTo>
                              <a:pt x="348" y="1157"/>
                            </a:lnTo>
                            <a:lnTo>
                              <a:pt x="379" y="1166"/>
                            </a:lnTo>
                            <a:lnTo>
                              <a:pt x="419" y="1221"/>
                            </a:lnTo>
                            <a:lnTo>
                              <a:pt x="442" y="1268"/>
                            </a:lnTo>
                            <a:lnTo>
                              <a:pt x="443" y="1342"/>
                            </a:lnTo>
                            <a:lnTo>
                              <a:pt x="725" y="1360"/>
                            </a:lnTo>
                            <a:lnTo>
                              <a:pt x="708" y="1329"/>
                            </a:lnTo>
                            <a:lnTo>
                              <a:pt x="717" y="1286"/>
                            </a:lnTo>
                            <a:lnTo>
                              <a:pt x="762" y="1211"/>
                            </a:lnTo>
                            <a:lnTo>
                              <a:pt x="795" y="1190"/>
                            </a:lnTo>
                            <a:lnTo>
                              <a:pt x="775" y="1164"/>
                            </a:lnTo>
                            <a:lnTo>
                              <a:pt x="763" y="1090"/>
                            </a:lnTo>
                            <a:lnTo>
                              <a:pt x="386" y="524"/>
                            </a:lnTo>
                            <a:lnTo>
                              <a:pt x="358" y="467"/>
                            </a:lnTo>
                            <a:lnTo>
                              <a:pt x="452" y="105"/>
                            </a:lnTo>
                            <a:lnTo>
                              <a:pt x="76" y="0"/>
                            </a:lnTo>
                            <a:lnTo>
                              <a:pt x="66" y="21"/>
                            </a:lnTo>
                            <a:lnTo>
                              <a:pt x="68" y="68"/>
                            </a:lnTo>
                            <a:lnTo>
                              <a:pt x="0" y="181"/>
                            </a:lnTo>
                            <a:lnTo>
                              <a:pt x="18" y="246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3485880" y="4426920"/>
                        <a:ext cx="6480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" h="49">
                            <a:moveTo>
                              <a:pt x="0" y="28"/>
                            </a:moveTo>
                            <a:lnTo>
                              <a:pt x="21" y="48"/>
                            </a:lnTo>
                            <a:lnTo>
                              <a:pt x="34" y="47"/>
                            </a:lnTo>
                            <a:lnTo>
                              <a:pt x="53" y="36"/>
                            </a:lnTo>
                            <a:lnTo>
                              <a:pt x="58" y="10"/>
                            </a:lnTo>
                            <a:lnTo>
                              <a:pt x="46" y="0"/>
                            </a:lnTo>
                            <a:lnTo>
                              <a:pt x="29" y="2"/>
                            </a:lnTo>
                            <a:lnTo>
                              <a:pt x="0" y="2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" name=""/>
                      <p:cNvSpPr/>
                      <p:nvPr/>
                    </p:nvSpPr>
                    <p:spPr>
                      <a:xfrm>
                        <a:off x="3682800" y="4497840"/>
                        <a:ext cx="77040" cy="60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" h="59">
                            <a:moveTo>
                              <a:pt x="0" y="15"/>
                            </a:moveTo>
                            <a:lnTo>
                              <a:pt x="16" y="48"/>
                            </a:lnTo>
                            <a:lnTo>
                              <a:pt x="32" y="48"/>
                            </a:lnTo>
                            <a:lnTo>
                              <a:pt x="33" y="38"/>
                            </a:lnTo>
                            <a:lnTo>
                              <a:pt x="53" y="58"/>
                            </a:lnTo>
                            <a:lnTo>
                              <a:pt x="69" y="55"/>
                            </a:lnTo>
                            <a:lnTo>
                              <a:pt x="65" y="35"/>
                            </a:lnTo>
                            <a:lnTo>
                              <a:pt x="50" y="31"/>
                            </a:lnTo>
                            <a:lnTo>
                              <a:pt x="37" y="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14760" bIns="14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1" name=""/>
                      <p:cNvSpPr/>
                      <p:nvPr/>
                    </p:nvSpPr>
                    <p:spPr>
                      <a:xfrm>
                        <a:off x="3804120" y="4560480"/>
                        <a:ext cx="78120" cy="20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20">
                            <a:moveTo>
                              <a:pt x="0" y="15"/>
                            </a:moveTo>
                            <a:lnTo>
                              <a:pt x="8" y="0"/>
                            </a:lnTo>
                            <a:lnTo>
                              <a:pt x="70" y="6"/>
                            </a:lnTo>
                            <a:lnTo>
                              <a:pt x="57" y="19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-25560" bIns="-25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2" name=""/>
                      <p:cNvSpPr/>
                      <p:nvPr/>
                    </p:nvSpPr>
                    <p:spPr>
                      <a:xfrm>
                        <a:off x="3884400" y="4581000"/>
                        <a:ext cx="9684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8" h="54">
                            <a:moveTo>
                              <a:pt x="0" y="15"/>
                            </a:moveTo>
                            <a:lnTo>
                              <a:pt x="11" y="0"/>
                            </a:lnTo>
                            <a:lnTo>
                              <a:pt x="23" y="15"/>
                            </a:lnTo>
                            <a:lnTo>
                              <a:pt x="52" y="12"/>
                            </a:lnTo>
                            <a:lnTo>
                              <a:pt x="87" y="35"/>
                            </a:lnTo>
                            <a:lnTo>
                              <a:pt x="74" y="45"/>
                            </a:lnTo>
                            <a:lnTo>
                              <a:pt x="35" y="53"/>
                            </a:lnTo>
                            <a:lnTo>
                              <a:pt x="26" y="30"/>
                            </a:lnTo>
                            <a:lnTo>
                              <a:pt x="11" y="30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tIns="9360" bIns="9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3" name=""/>
                      <p:cNvSpPr/>
                      <p:nvPr/>
                    </p:nvSpPr>
                    <p:spPr>
                      <a:xfrm>
                        <a:off x="3969360" y="4679280"/>
                        <a:ext cx="162720" cy="16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8" h="165">
                            <a:moveTo>
                              <a:pt x="0" y="64"/>
                            </a:moveTo>
                            <a:lnTo>
                              <a:pt x="20" y="110"/>
                            </a:lnTo>
                            <a:lnTo>
                              <a:pt x="17" y="147"/>
                            </a:lnTo>
                            <a:lnTo>
                              <a:pt x="47" y="164"/>
                            </a:lnTo>
                            <a:lnTo>
                              <a:pt x="65" y="137"/>
                            </a:lnTo>
                            <a:lnTo>
                              <a:pt x="127" y="111"/>
                            </a:lnTo>
                            <a:lnTo>
                              <a:pt x="147" y="91"/>
                            </a:lnTo>
                            <a:lnTo>
                              <a:pt x="96" y="33"/>
                            </a:lnTo>
                            <a:lnTo>
                              <a:pt x="24" y="0"/>
                            </a:lnTo>
                            <a:lnTo>
                              <a:pt x="17" y="9"/>
                            </a:lnTo>
                            <a:lnTo>
                              <a:pt x="27" y="34"/>
                            </a:lnTo>
                            <a:lnTo>
                              <a:pt x="0" y="64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" name=""/>
                      <p:cNvSpPr/>
                      <p:nvPr/>
                    </p:nvSpPr>
                    <p:spPr>
                      <a:xfrm>
                        <a:off x="2851920" y="1698480"/>
                        <a:ext cx="660240" cy="992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00" h="966">
                            <a:moveTo>
                              <a:pt x="0" y="857"/>
                            </a:moveTo>
                            <a:lnTo>
                              <a:pt x="48" y="649"/>
                            </a:lnTo>
                            <a:lnTo>
                              <a:pt x="72" y="595"/>
                            </a:lnTo>
                            <a:lnTo>
                              <a:pt x="51" y="569"/>
                            </a:lnTo>
                            <a:lnTo>
                              <a:pt x="56" y="544"/>
                            </a:lnTo>
                            <a:lnTo>
                              <a:pt x="94" y="509"/>
                            </a:lnTo>
                            <a:lnTo>
                              <a:pt x="125" y="461"/>
                            </a:lnTo>
                            <a:lnTo>
                              <a:pt x="152" y="419"/>
                            </a:lnTo>
                            <a:lnTo>
                              <a:pt x="132" y="387"/>
                            </a:lnTo>
                            <a:lnTo>
                              <a:pt x="123" y="366"/>
                            </a:lnTo>
                            <a:lnTo>
                              <a:pt x="126" y="312"/>
                            </a:lnTo>
                            <a:lnTo>
                              <a:pt x="200" y="0"/>
                            </a:lnTo>
                            <a:lnTo>
                              <a:pt x="280" y="17"/>
                            </a:lnTo>
                            <a:lnTo>
                              <a:pt x="253" y="139"/>
                            </a:lnTo>
                            <a:lnTo>
                              <a:pt x="271" y="182"/>
                            </a:lnTo>
                            <a:lnTo>
                              <a:pt x="272" y="210"/>
                            </a:lnTo>
                            <a:lnTo>
                              <a:pt x="262" y="214"/>
                            </a:lnTo>
                            <a:lnTo>
                              <a:pt x="293" y="244"/>
                            </a:lnTo>
                            <a:lnTo>
                              <a:pt x="325" y="321"/>
                            </a:lnTo>
                            <a:lnTo>
                              <a:pt x="336" y="318"/>
                            </a:lnTo>
                            <a:lnTo>
                              <a:pt x="337" y="329"/>
                            </a:lnTo>
                            <a:lnTo>
                              <a:pt x="352" y="333"/>
                            </a:lnTo>
                            <a:lnTo>
                              <a:pt x="363" y="335"/>
                            </a:lnTo>
                            <a:lnTo>
                              <a:pt x="336" y="391"/>
                            </a:lnTo>
                            <a:lnTo>
                              <a:pt x="340" y="429"/>
                            </a:lnTo>
                            <a:lnTo>
                              <a:pt x="318" y="465"/>
                            </a:lnTo>
                            <a:lnTo>
                              <a:pt x="332" y="482"/>
                            </a:lnTo>
                            <a:lnTo>
                              <a:pt x="373" y="458"/>
                            </a:lnTo>
                            <a:lnTo>
                              <a:pt x="403" y="581"/>
                            </a:lnTo>
                            <a:lnTo>
                              <a:pt x="421" y="586"/>
                            </a:lnTo>
                            <a:lnTo>
                              <a:pt x="425" y="624"/>
                            </a:lnTo>
                            <a:lnTo>
                              <a:pt x="440" y="640"/>
                            </a:lnTo>
                            <a:lnTo>
                              <a:pt x="453" y="626"/>
                            </a:lnTo>
                            <a:lnTo>
                              <a:pt x="480" y="638"/>
                            </a:lnTo>
                            <a:lnTo>
                              <a:pt x="496" y="624"/>
                            </a:lnTo>
                            <a:lnTo>
                              <a:pt x="552" y="637"/>
                            </a:lnTo>
                            <a:lnTo>
                              <a:pt x="564" y="639"/>
                            </a:lnTo>
                            <a:lnTo>
                              <a:pt x="577" y="615"/>
                            </a:lnTo>
                            <a:lnTo>
                              <a:pt x="599" y="654"/>
                            </a:lnTo>
                            <a:lnTo>
                              <a:pt x="548" y="965"/>
                            </a:lnTo>
                            <a:lnTo>
                              <a:pt x="273" y="916"/>
                            </a:lnTo>
                            <a:lnTo>
                              <a:pt x="0" y="857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5" name=""/>
                      <p:cNvSpPr/>
                      <p:nvPr/>
                    </p:nvSpPr>
                    <p:spPr>
                      <a:xfrm>
                        <a:off x="4941000" y="2606760"/>
                        <a:ext cx="659160" cy="40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99" h="398">
                            <a:moveTo>
                              <a:pt x="0" y="9"/>
                            </a:moveTo>
                            <a:lnTo>
                              <a:pt x="1" y="39"/>
                            </a:lnTo>
                            <a:lnTo>
                              <a:pt x="12" y="62"/>
                            </a:lnTo>
                            <a:lnTo>
                              <a:pt x="5" y="85"/>
                            </a:lnTo>
                            <a:lnTo>
                              <a:pt x="11" y="139"/>
                            </a:lnTo>
                            <a:lnTo>
                              <a:pt x="40" y="216"/>
                            </a:lnTo>
                            <a:lnTo>
                              <a:pt x="41" y="242"/>
                            </a:lnTo>
                            <a:lnTo>
                              <a:pt x="59" y="278"/>
                            </a:lnTo>
                            <a:lnTo>
                              <a:pt x="68" y="338"/>
                            </a:lnTo>
                            <a:lnTo>
                              <a:pt x="63" y="356"/>
                            </a:lnTo>
                            <a:lnTo>
                              <a:pt x="74" y="376"/>
                            </a:lnTo>
                            <a:lnTo>
                              <a:pt x="460" y="368"/>
                            </a:lnTo>
                            <a:lnTo>
                              <a:pt x="490" y="397"/>
                            </a:lnTo>
                            <a:lnTo>
                              <a:pt x="516" y="354"/>
                            </a:lnTo>
                            <a:lnTo>
                              <a:pt x="531" y="307"/>
                            </a:lnTo>
                            <a:lnTo>
                              <a:pt x="517" y="273"/>
                            </a:lnTo>
                            <a:lnTo>
                              <a:pt x="584" y="221"/>
                            </a:lnTo>
                            <a:lnTo>
                              <a:pt x="598" y="193"/>
                            </a:lnTo>
                            <a:lnTo>
                              <a:pt x="598" y="181"/>
                            </a:lnTo>
                            <a:lnTo>
                              <a:pt x="550" y="124"/>
                            </a:lnTo>
                            <a:lnTo>
                              <a:pt x="500" y="64"/>
                            </a:lnTo>
                            <a:lnTo>
                              <a:pt x="490" y="0"/>
                            </a:lnTo>
                            <a:lnTo>
                              <a:pt x="13" y="10"/>
                            </a:lnTo>
                            <a:lnTo>
                              <a:pt x="0" y="9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6" name=""/>
                      <p:cNvSpPr/>
                      <p:nvPr/>
                    </p:nvSpPr>
                    <p:spPr>
                      <a:xfrm>
                        <a:off x="4327920" y="3049200"/>
                        <a:ext cx="821160" cy="413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46" h="403">
                            <a:moveTo>
                              <a:pt x="0" y="381"/>
                            </a:moveTo>
                            <a:lnTo>
                              <a:pt x="25" y="0"/>
                            </a:lnTo>
                            <a:lnTo>
                              <a:pt x="303" y="15"/>
                            </a:lnTo>
                            <a:lnTo>
                              <a:pt x="671" y="20"/>
                            </a:lnTo>
                            <a:lnTo>
                              <a:pt x="691" y="37"/>
                            </a:lnTo>
                            <a:lnTo>
                              <a:pt x="704" y="34"/>
                            </a:lnTo>
                            <a:lnTo>
                              <a:pt x="715" y="44"/>
                            </a:lnTo>
                            <a:lnTo>
                              <a:pt x="716" y="53"/>
                            </a:lnTo>
                            <a:lnTo>
                              <a:pt x="706" y="53"/>
                            </a:lnTo>
                            <a:lnTo>
                              <a:pt x="693" y="80"/>
                            </a:lnTo>
                            <a:lnTo>
                              <a:pt x="723" y="122"/>
                            </a:lnTo>
                            <a:lnTo>
                              <a:pt x="745" y="130"/>
                            </a:lnTo>
                            <a:lnTo>
                              <a:pt x="742" y="400"/>
                            </a:lnTo>
                            <a:lnTo>
                              <a:pt x="425" y="402"/>
                            </a:lnTo>
                            <a:lnTo>
                              <a:pt x="0" y="38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" name=""/>
                      <p:cNvSpPr/>
                      <p:nvPr/>
                    </p:nvSpPr>
                    <p:spPr>
                      <a:xfrm>
                        <a:off x="5022720" y="2984400"/>
                        <a:ext cx="734760" cy="595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8" h="580">
                            <a:moveTo>
                              <a:pt x="0" y="8"/>
                            </a:moveTo>
                            <a:lnTo>
                              <a:pt x="40" y="83"/>
                            </a:lnTo>
                            <a:lnTo>
                              <a:pt x="60" y="100"/>
                            </a:lnTo>
                            <a:lnTo>
                              <a:pt x="73" y="97"/>
                            </a:lnTo>
                            <a:lnTo>
                              <a:pt x="84" y="107"/>
                            </a:lnTo>
                            <a:lnTo>
                              <a:pt x="85" y="116"/>
                            </a:lnTo>
                            <a:lnTo>
                              <a:pt x="75" y="116"/>
                            </a:lnTo>
                            <a:lnTo>
                              <a:pt x="62" y="143"/>
                            </a:lnTo>
                            <a:lnTo>
                              <a:pt x="92" y="185"/>
                            </a:lnTo>
                            <a:lnTo>
                              <a:pt x="114" y="193"/>
                            </a:lnTo>
                            <a:lnTo>
                              <a:pt x="111" y="463"/>
                            </a:lnTo>
                            <a:lnTo>
                              <a:pt x="113" y="529"/>
                            </a:lnTo>
                            <a:lnTo>
                              <a:pt x="556" y="514"/>
                            </a:lnTo>
                            <a:lnTo>
                              <a:pt x="562" y="553"/>
                            </a:lnTo>
                            <a:lnTo>
                              <a:pt x="544" y="579"/>
                            </a:lnTo>
                            <a:lnTo>
                              <a:pt x="612" y="575"/>
                            </a:lnTo>
                            <a:lnTo>
                              <a:pt x="622" y="553"/>
                            </a:lnTo>
                            <a:lnTo>
                              <a:pt x="625" y="529"/>
                            </a:lnTo>
                            <a:lnTo>
                              <a:pt x="639" y="510"/>
                            </a:lnTo>
                            <a:lnTo>
                              <a:pt x="647" y="492"/>
                            </a:lnTo>
                            <a:lnTo>
                              <a:pt x="662" y="489"/>
                            </a:lnTo>
                            <a:lnTo>
                              <a:pt x="667" y="450"/>
                            </a:lnTo>
                            <a:lnTo>
                              <a:pt x="658" y="446"/>
                            </a:lnTo>
                            <a:lnTo>
                              <a:pt x="642" y="445"/>
                            </a:lnTo>
                            <a:lnTo>
                              <a:pt x="627" y="415"/>
                            </a:lnTo>
                            <a:lnTo>
                              <a:pt x="619" y="374"/>
                            </a:lnTo>
                            <a:lnTo>
                              <a:pt x="601" y="347"/>
                            </a:lnTo>
                            <a:lnTo>
                              <a:pt x="575" y="336"/>
                            </a:lnTo>
                            <a:lnTo>
                              <a:pt x="543" y="310"/>
                            </a:lnTo>
                            <a:lnTo>
                              <a:pt x="531" y="274"/>
                            </a:lnTo>
                            <a:lnTo>
                              <a:pt x="550" y="219"/>
                            </a:lnTo>
                            <a:lnTo>
                              <a:pt x="533" y="208"/>
                            </a:lnTo>
                            <a:lnTo>
                              <a:pt x="495" y="209"/>
                            </a:lnTo>
                            <a:lnTo>
                              <a:pt x="488" y="174"/>
                            </a:lnTo>
                            <a:lnTo>
                              <a:pt x="424" y="107"/>
                            </a:lnTo>
                            <a:lnTo>
                              <a:pt x="408" y="51"/>
                            </a:lnTo>
                            <a:lnTo>
                              <a:pt x="416" y="29"/>
                            </a:lnTo>
                            <a:lnTo>
                              <a:pt x="386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" name=""/>
                      <p:cNvSpPr/>
                      <p:nvPr/>
                    </p:nvSpPr>
                    <p:spPr>
                      <a:xfrm>
                        <a:off x="3130200" y="1716120"/>
                        <a:ext cx="1129320" cy="66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26" h="652">
                            <a:moveTo>
                              <a:pt x="0" y="122"/>
                            </a:moveTo>
                            <a:lnTo>
                              <a:pt x="18" y="165"/>
                            </a:lnTo>
                            <a:lnTo>
                              <a:pt x="19" y="193"/>
                            </a:lnTo>
                            <a:lnTo>
                              <a:pt x="9" y="197"/>
                            </a:lnTo>
                            <a:lnTo>
                              <a:pt x="40" y="227"/>
                            </a:lnTo>
                            <a:lnTo>
                              <a:pt x="72" y="304"/>
                            </a:lnTo>
                            <a:lnTo>
                              <a:pt x="83" y="301"/>
                            </a:lnTo>
                            <a:lnTo>
                              <a:pt x="84" y="312"/>
                            </a:lnTo>
                            <a:lnTo>
                              <a:pt x="99" y="316"/>
                            </a:lnTo>
                            <a:lnTo>
                              <a:pt x="110" y="318"/>
                            </a:lnTo>
                            <a:lnTo>
                              <a:pt x="83" y="374"/>
                            </a:lnTo>
                            <a:lnTo>
                              <a:pt x="87" y="412"/>
                            </a:lnTo>
                            <a:lnTo>
                              <a:pt x="65" y="448"/>
                            </a:lnTo>
                            <a:lnTo>
                              <a:pt x="79" y="465"/>
                            </a:lnTo>
                            <a:lnTo>
                              <a:pt x="120" y="441"/>
                            </a:lnTo>
                            <a:lnTo>
                              <a:pt x="150" y="564"/>
                            </a:lnTo>
                            <a:lnTo>
                              <a:pt x="168" y="569"/>
                            </a:lnTo>
                            <a:lnTo>
                              <a:pt x="172" y="607"/>
                            </a:lnTo>
                            <a:lnTo>
                              <a:pt x="187" y="623"/>
                            </a:lnTo>
                            <a:lnTo>
                              <a:pt x="200" y="609"/>
                            </a:lnTo>
                            <a:lnTo>
                              <a:pt x="227" y="621"/>
                            </a:lnTo>
                            <a:lnTo>
                              <a:pt x="243" y="607"/>
                            </a:lnTo>
                            <a:lnTo>
                              <a:pt x="299" y="620"/>
                            </a:lnTo>
                            <a:lnTo>
                              <a:pt x="311" y="622"/>
                            </a:lnTo>
                            <a:lnTo>
                              <a:pt x="324" y="598"/>
                            </a:lnTo>
                            <a:lnTo>
                              <a:pt x="346" y="637"/>
                            </a:lnTo>
                            <a:lnTo>
                              <a:pt x="358" y="575"/>
                            </a:lnTo>
                            <a:lnTo>
                              <a:pt x="635" y="616"/>
                            </a:lnTo>
                            <a:lnTo>
                              <a:pt x="980" y="651"/>
                            </a:lnTo>
                            <a:lnTo>
                              <a:pt x="990" y="534"/>
                            </a:lnTo>
                            <a:lnTo>
                              <a:pt x="1025" y="153"/>
                            </a:lnTo>
                            <a:lnTo>
                              <a:pt x="571" y="99"/>
                            </a:lnTo>
                            <a:lnTo>
                              <a:pt x="344" y="62"/>
                            </a:lnTo>
                            <a:lnTo>
                              <a:pt x="27" y="0"/>
                            </a:lnTo>
                            <a:lnTo>
                              <a:pt x="0" y="12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" name=""/>
                      <p:cNvSpPr/>
                      <p:nvPr/>
                    </p:nvSpPr>
                    <p:spPr>
                      <a:xfrm>
                        <a:off x="4156200" y="2644560"/>
                        <a:ext cx="911520" cy="426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8" h="415">
                            <a:moveTo>
                              <a:pt x="0" y="252"/>
                            </a:moveTo>
                            <a:lnTo>
                              <a:pt x="24" y="0"/>
                            </a:lnTo>
                            <a:lnTo>
                              <a:pt x="534" y="31"/>
                            </a:lnTo>
                            <a:lnTo>
                              <a:pt x="568" y="57"/>
                            </a:lnTo>
                            <a:lnTo>
                              <a:pt x="629" y="55"/>
                            </a:lnTo>
                            <a:lnTo>
                              <a:pt x="657" y="61"/>
                            </a:lnTo>
                            <a:lnTo>
                              <a:pt x="692" y="75"/>
                            </a:lnTo>
                            <a:lnTo>
                              <a:pt x="709" y="97"/>
                            </a:lnTo>
                            <a:lnTo>
                              <a:pt x="724" y="102"/>
                            </a:lnTo>
                            <a:lnTo>
                              <a:pt x="753" y="179"/>
                            </a:lnTo>
                            <a:lnTo>
                              <a:pt x="754" y="205"/>
                            </a:lnTo>
                            <a:lnTo>
                              <a:pt x="772" y="241"/>
                            </a:lnTo>
                            <a:lnTo>
                              <a:pt x="781" y="301"/>
                            </a:lnTo>
                            <a:lnTo>
                              <a:pt x="776" y="319"/>
                            </a:lnTo>
                            <a:lnTo>
                              <a:pt x="787" y="339"/>
                            </a:lnTo>
                            <a:lnTo>
                              <a:pt x="827" y="414"/>
                            </a:lnTo>
                            <a:lnTo>
                              <a:pt x="459" y="409"/>
                            </a:lnTo>
                            <a:lnTo>
                              <a:pt x="181" y="394"/>
                            </a:lnTo>
                            <a:lnTo>
                              <a:pt x="189" y="269"/>
                            </a:lnTo>
                            <a:lnTo>
                              <a:pt x="0" y="25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0" name=""/>
                      <p:cNvSpPr/>
                      <p:nvPr/>
                    </p:nvSpPr>
                    <p:spPr>
                      <a:xfrm>
                        <a:off x="2451240" y="2508120"/>
                        <a:ext cx="702000" cy="1012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38" h="986">
                            <a:moveTo>
                              <a:pt x="0" y="362"/>
                            </a:moveTo>
                            <a:lnTo>
                              <a:pt x="28" y="419"/>
                            </a:lnTo>
                            <a:lnTo>
                              <a:pt x="405" y="985"/>
                            </a:lnTo>
                            <a:lnTo>
                              <a:pt x="419" y="853"/>
                            </a:lnTo>
                            <a:lnTo>
                              <a:pt x="442" y="846"/>
                            </a:lnTo>
                            <a:lnTo>
                              <a:pt x="481" y="868"/>
                            </a:lnTo>
                            <a:lnTo>
                              <a:pt x="514" y="751"/>
                            </a:lnTo>
                            <a:lnTo>
                              <a:pt x="637" y="128"/>
                            </a:lnTo>
                            <a:lnTo>
                              <a:pt x="364" y="69"/>
                            </a:lnTo>
                            <a:lnTo>
                              <a:pt x="94" y="0"/>
                            </a:lnTo>
                            <a:lnTo>
                              <a:pt x="0" y="362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" name=""/>
                      <p:cNvSpPr/>
                      <p:nvPr/>
                    </p:nvSpPr>
                    <p:spPr>
                      <a:xfrm>
                        <a:off x="4220280" y="1873080"/>
                        <a:ext cx="727560" cy="426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61" h="416">
                            <a:moveTo>
                              <a:pt x="0" y="381"/>
                            </a:moveTo>
                            <a:lnTo>
                              <a:pt x="35" y="0"/>
                            </a:lnTo>
                            <a:lnTo>
                              <a:pt x="360" y="22"/>
                            </a:lnTo>
                            <a:lnTo>
                              <a:pt x="609" y="30"/>
                            </a:lnTo>
                            <a:lnTo>
                              <a:pt x="614" y="135"/>
                            </a:lnTo>
                            <a:lnTo>
                              <a:pt x="639" y="218"/>
                            </a:lnTo>
                            <a:lnTo>
                              <a:pt x="642" y="327"/>
                            </a:lnTo>
                            <a:lnTo>
                              <a:pt x="660" y="415"/>
                            </a:lnTo>
                            <a:lnTo>
                              <a:pt x="313" y="404"/>
                            </a:lnTo>
                            <a:lnTo>
                              <a:pt x="0" y="381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" name=""/>
                      <p:cNvSpPr/>
                      <p:nvPr/>
                    </p:nvSpPr>
                    <p:spPr>
                      <a:xfrm>
                        <a:off x="2140920" y="1878480"/>
                        <a:ext cx="879480" cy="701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9" h="683">
                            <a:moveTo>
                              <a:pt x="0" y="508"/>
                            </a:moveTo>
                            <a:lnTo>
                              <a:pt x="13" y="385"/>
                            </a:lnTo>
                            <a:lnTo>
                              <a:pt x="75" y="286"/>
                            </a:lnTo>
                            <a:lnTo>
                              <a:pt x="173" y="0"/>
                            </a:lnTo>
                            <a:lnTo>
                              <a:pt x="223" y="17"/>
                            </a:lnTo>
                            <a:lnTo>
                              <a:pt x="225" y="30"/>
                            </a:lnTo>
                            <a:lnTo>
                              <a:pt x="238" y="31"/>
                            </a:lnTo>
                            <a:lnTo>
                              <a:pt x="264" y="80"/>
                            </a:lnTo>
                            <a:lnTo>
                              <a:pt x="258" y="97"/>
                            </a:lnTo>
                            <a:lnTo>
                              <a:pt x="298" y="129"/>
                            </a:lnTo>
                            <a:lnTo>
                              <a:pt x="366" y="127"/>
                            </a:lnTo>
                            <a:lnTo>
                              <a:pt x="416" y="149"/>
                            </a:lnTo>
                            <a:lnTo>
                              <a:pt x="441" y="145"/>
                            </a:lnTo>
                            <a:lnTo>
                              <a:pt x="595" y="149"/>
                            </a:lnTo>
                            <a:lnTo>
                              <a:pt x="769" y="191"/>
                            </a:lnTo>
                            <a:lnTo>
                              <a:pt x="778" y="212"/>
                            </a:lnTo>
                            <a:lnTo>
                              <a:pt x="798" y="244"/>
                            </a:lnTo>
                            <a:lnTo>
                              <a:pt x="771" y="286"/>
                            </a:lnTo>
                            <a:lnTo>
                              <a:pt x="740" y="334"/>
                            </a:lnTo>
                            <a:lnTo>
                              <a:pt x="702" y="369"/>
                            </a:lnTo>
                            <a:lnTo>
                              <a:pt x="697" y="394"/>
                            </a:lnTo>
                            <a:lnTo>
                              <a:pt x="718" y="420"/>
                            </a:lnTo>
                            <a:lnTo>
                              <a:pt x="694" y="474"/>
                            </a:lnTo>
                            <a:lnTo>
                              <a:pt x="646" y="682"/>
                            </a:lnTo>
                            <a:lnTo>
                              <a:pt x="376" y="613"/>
                            </a:lnTo>
                            <a:lnTo>
                              <a:pt x="0" y="508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" name=""/>
                      <p:cNvSpPr/>
                      <p:nvPr/>
                    </p:nvSpPr>
                    <p:spPr>
                      <a:xfrm>
                        <a:off x="4182840" y="2264400"/>
                        <a:ext cx="775800" cy="4856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5" h="473">
                            <a:moveTo>
                              <a:pt x="0" y="370"/>
                            </a:moveTo>
                            <a:lnTo>
                              <a:pt x="24" y="117"/>
                            </a:lnTo>
                            <a:lnTo>
                              <a:pt x="34" y="0"/>
                            </a:lnTo>
                            <a:lnTo>
                              <a:pt x="347" y="23"/>
                            </a:lnTo>
                            <a:lnTo>
                              <a:pt x="694" y="34"/>
                            </a:lnTo>
                            <a:lnTo>
                              <a:pt x="671" y="78"/>
                            </a:lnTo>
                            <a:lnTo>
                              <a:pt x="704" y="112"/>
                            </a:lnTo>
                            <a:lnTo>
                              <a:pt x="702" y="343"/>
                            </a:lnTo>
                            <a:lnTo>
                              <a:pt x="689" y="342"/>
                            </a:lnTo>
                            <a:lnTo>
                              <a:pt x="690" y="372"/>
                            </a:lnTo>
                            <a:lnTo>
                              <a:pt x="701" y="395"/>
                            </a:lnTo>
                            <a:lnTo>
                              <a:pt x="694" y="418"/>
                            </a:lnTo>
                            <a:lnTo>
                              <a:pt x="700" y="472"/>
                            </a:lnTo>
                            <a:lnTo>
                              <a:pt x="685" y="467"/>
                            </a:lnTo>
                            <a:lnTo>
                              <a:pt x="668" y="445"/>
                            </a:lnTo>
                            <a:lnTo>
                              <a:pt x="633" y="431"/>
                            </a:lnTo>
                            <a:lnTo>
                              <a:pt x="605" y="425"/>
                            </a:lnTo>
                            <a:lnTo>
                              <a:pt x="544" y="427"/>
                            </a:lnTo>
                            <a:lnTo>
                              <a:pt x="510" y="401"/>
                            </a:lnTo>
                            <a:lnTo>
                              <a:pt x="0" y="370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" name=""/>
                      <p:cNvSpPr/>
                      <p:nvPr/>
                    </p:nvSpPr>
                    <p:spPr>
                      <a:xfrm>
                        <a:off x="3014640" y="2639520"/>
                        <a:ext cx="641520" cy="727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3" h="708">
                            <a:moveTo>
                              <a:pt x="0" y="623"/>
                            </a:moveTo>
                            <a:lnTo>
                              <a:pt x="127" y="0"/>
                            </a:lnTo>
                            <a:lnTo>
                              <a:pt x="410" y="49"/>
                            </a:lnTo>
                            <a:lnTo>
                              <a:pt x="388" y="175"/>
                            </a:lnTo>
                            <a:lnTo>
                              <a:pt x="582" y="203"/>
                            </a:lnTo>
                            <a:lnTo>
                              <a:pt x="509" y="707"/>
                            </a:lnTo>
                            <a:lnTo>
                              <a:pt x="0" y="623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5" name=""/>
                      <p:cNvSpPr/>
                      <p:nvPr/>
                    </p:nvSpPr>
                    <p:spPr>
                      <a:xfrm>
                        <a:off x="2360160" y="1600200"/>
                        <a:ext cx="738360" cy="501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1" h="489">
                            <a:moveTo>
                              <a:pt x="15" y="84"/>
                            </a:moveTo>
                            <a:lnTo>
                              <a:pt x="25" y="107"/>
                            </a:lnTo>
                            <a:lnTo>
                              <a:pt x="23" y="135"/>
                            </a:lnTo>
                            <a:lnTo>
                              <a:pt x="21" y="160"/>
                            </a:lnTo>
                            <a:lnTo>
                              <a:pt x="24" y="172"/>
                            </a:lnTo>
                            <a:lnTo>
                              <a:pt x="18" y="208"/>
                            </a:lnTo>
                            <a:lnTo>
                              <a:pt x="30" y="200"/>
                            </a:lnTo>
                            <a:lnTo>
                              <a:pt x="47" y="215"/>
                            </a:lnTo>
                            <a:lnTo>
                              <a:pt x="29" y="217"/>
                            </a:lnTo>
                            <a:lnTo>
                              <a:pt x="17" y="215"/>
                            </a:lnTo>
                            <a:lnTo>
                              <a:pt x="16" y="231"/>
                            </a:lnTo>
                            <a:lnTo>
                              <a:pt x="15" y="241"/>
                            </a:lnTo>
                            <a:lnTo>
                              <a:pt x="31" y="241"/>
                            </a:lnTo>
                            <a:lnTo>
                              <a:pt x="33" y="248"/>
                            </a:lnTo>
                            <a:lnTo>
                              <a:pt x="21" y="253"/>
                            </a:lnTo>
                            <a:lnTo>
                              <a:pt x="23" y="268"/>
                            </a:lnTo>
                            <a:lnTo>
                              <a:pt x="14" y="284"/>
                            </a:lnTo>
                            <a:lnTo>
                              <a:pt x="8" y="283"/>
                            </a:lnTo>
                            <a:lnTo>
                              <a:pt x="14" y="258"/>
                            </a:lnTo>
                            <a:lnTo>
                              <a:pt x="10" y="252"/>
                            </a:lnTo>
                            <a:lnTo>
                              <a:pt x="0" y="288"/>
                            </a:lnTo>
                            <a:lnTo>
                              <a:pt x="17" y="301"/>
                            </a:lnTo>
                            <a:lnTo>
                              <a:pt x="47" y="314"/>
                            </a:lnTo>
                            <a:lnTo>
                              <a:pt x="49" y="327"/>
                            </a:lnTo>
                            <a:lnTo>
                              <a:pt x="62" y="328"/>
                            </a:lnTo>
                            <a:lnTo>
                              <a:pt x="88" y="377"/>
                            </a:lnTo>
                            <a:lnTo>
                              <a:pt x="82" y="394"/>
                            </a:lnTo>
                            <a:lnTo>
                              <a:pt x="122" y="426"/>
                            </a:lnTo>
                            <a:lnTo>
                              <a:pt x="190" y="424"/>
                            </a:lnTo>
                            <a:lnTo>
                              <a:pt x="240" y="446"/>
                            </a:lnTo>
                            <a:lnTo>
                              <a:pt x="265" y="442"/>
                            </a:lnTo>
                            <a:lnTo>
                              <a:pt x="419" y="446"/>
                            </a:lnTo>
                            <a:lnTo>
                              <a:pt x="593" y="488"/>
                            </a:lnTo>
                            <a:lnTo>
                              <a:pt x="596" y="434"/>
                            </a:lnTo>
                            <a:lnTo>
                              <a:pt x="670" y="122"/>
                            </a:lnTo>
                            <a:lnTo>
                              <a:pt x="205" y="0"/>
                            </a:lnTo>
                            <a:lnTo>
                              <a:pt x="200" y="2"/>
                            </a:lnTo>
                            <a:lnTo>
                              <a:pt x="204" y="10"/>
                            </a:lnTo>
                            <a:lnTo>
                              <a:pt x="199" y="12"/>
                            </a:lnTo>
                            <a:lnTo>
                              <a:pt x="204" y="19"/>
                            </a:lnTo>
                            <a:lnTo>
                              <a:pt x="202" y="26"/>
                            </a:lnTo>
                            <a:lnTo>
                              <a:pt x="204" y="35"/>
                            </a:lnTo>
                            <a:lnTo>
                              <a:pt x="210" y="31"/>
                            </a:lnTo>
                            <a:lnTo>
                              <a:pt x="218" y="35"/>
                            </a:lnTo>
                            <a:lnTo>
                              <a:pt x="215" y="48"/>
                            </a:lnTo>
                            <a:lnTo>
                              <a:pt x="217" y="55"/>
                            </a:lnTo>
                            <a:lnTo>
                              <a:pt x="208" y="73"/>
                            </a:lnTo>
                            <a:lnTo>
                              <a:pt x="197" y="62"/>
                            </a:lnTo>
                            <a:lnTo>
                              <a:pt x="193" y="63"/>
                            </a:lnTo>
                            <a:lnTo>
                              <a:pt x="193" y="71"/>
                            </a:lnTo>
                            <a:lnTo>
                              <a:pt x="201" y="73"/>
                            </a:lnTo>
                            <a:lnTo>
                              <a:pt x="210" y="94"/>
                            </a:lnTo>
                            <a:lnTo>
                              <a:pt x="206" y="118"/>
                            </a:lnTo>
                            <a:lnTo>
                              <a:pt x="210" y="126"/>
                            </a:lnTo>
                            <a:lnTo>
                              <a:pt x="216" y="128"/>
                            </a:lnTo>
                            <a:lnTo>
                              <a:pt x="213" y="134"/>
                            </a:lnTo>
                            <a:lnTo>
                              <a:pt x="206" y="135"/>
                            </a:lnTo>
                            <a:lnTo>
                              <a:pt x="193" y="151"/>
                            </a:lnTo>
                            <a:lnTo>
                              <a:pt x="193" y="157"/>
                            </a:lnTo>
                            <a:lnTo>
                              <a:pt x="190" y="166"/>
                            </a:lnTo>
                            <a:lnTo>
                              <a:pt x="185" y="168"/>
                            </a:lnTo>
                            <a:lnTo>
                              <a:pt x="190" y="175"/>
                            </a:lnTo>
                            <a:lnTo>
                              <a:pt x="185" y="178"/>
                            </a:lnTo>
                            <a:lnTo>
                              <a:pt x="184" y="206"/>
                            </a:lnTo>
                            <a:lnTo>
                              <a:pt x="173" y="210"/>
                            </a:lnTo>
                            <a:lnTo>
                              <a:pt x="173" y="217"/>
                            </a:lnTo>
                            <a:lnTo>
                              <a:pt x="164" y="208"/>
                            </a:lnTo>
                            <a:lnTo>
                              <a:pt x="164" y="213"/>
                            </a:lnTo>
                            <a:lnTo>
                              <a:pt x="144" y="230"/>
                            </a:lnTo>
                            <a:lnTo>
                              <a:pt x="139" y="228"/>
                            </a:lnTo>
                            <a:lnTo>
                              <a:pt x="135" y="219"/>
                            </a:lnTo>
                            <a:lnTo>
                              <a:pt x="133" y="225"/>
                            </a:lnTo>
                            <a:lnTo>
                              <a:pt x="128" y="220"/>
                            </a:lnTo>
                            <a:lnTo>
                              <a:pt x="125" y="233"/>
                            </a:lnTo>
                            <a:lnTo>
                              <a:pt x="123" y="231"/>
                            </a:lnTo>
                            <a:lnTo>
                              <a:pt x="123" y="223"/>
                            </a:lnTo>
                            <a:lnTo>
                              <a:pt x="117" y="224"/>
                            </a:lnTo>
                            <a:lnTo>
                              <a:pt x="125" y="216"/>
                            </a:lnTo>
                            <a:lnTo>
                              <a:pt x="115" y="215"/>
                            </a:lnTo>
                            <a:lnTo>
                              <a:pt x="123" y="211"/>
                            </a:lnTo>
                            <a:lnTo>
                              <a:pt x="114" y="209"/>
                            </a:lnTo>
                            <a:lnTo>
                              <a:pt x="118" y="203"/>
                            </a:lnTo>
                            <a:lnTo>
                              <a:pt x="127" y="209"/>
                            </a:lnTo>
                            <a:lnTo>
                              <a:pt x="131" y="200"/>
                            </a:lnTo>
                            <a:lnTo>
                              <a:pt x="144" y="193"/>
                            </a:lnTo>
                            <a:lnTo>
                              <a:pt x="138" y="210"/>
                            </a:lnTo>
                            <a:lnTo>
                              <a:pt x="140" y="219"/>
                            </a:lnTo>
                            <a:lnTo>
                              <a:pt x="146" y="202"/>
                            </a:lnTo>
                            <a:lnTo>
                              <a:pt x="159" y="196"/>
                            </a:lnTo>
                            <a:lnTo>
                              <a:pt x="152" y="206"/>
                            </a:lnTo>
                            <a:lnTo>
                              <a:pt x="159" y="212"/>
                            </a:lnTo>
                            <a:lnTo>
                              <a:pt x="159" y="204"/>
                            </a:lnTo>
                            <a:lnTo>
                              <a:pt x="165" y="196"/>
                            </a:lnTo>
                            <a:lnTo>
                              <a:pt x="173" y="185"/>
                            </a:lnTo>
                            <a:lnTo>
                              <a:pt x="171" y="177"/>
                            </a:lnTo>
                            <a:lnTo>
                              <a:pt x="159" y="177"/>
                            </a:lnTo>
                            <a:lnTo>
                              <a:pt x="162" y="166"/>
                            </a:lnTo>
                            <a:lnTo>
                              <a:pt x="167" y="172"/>
                            </a:lnTo>
                            <a:lnTo>
                              <a:pt x="169" y="154"/>
                            </a:lnTo>
                            <a:lnTo>
                              <a:pt x="185" y="155"/>
                            </a:lnTo>
                            <a:lnTo>
                              <a:pt x="185" y="139"/>
                            </a:lnTo>
                            <a:lnTo>
                              <a:pt x="179" y="128"/>
                            </a:lnTo>
                            <a:lnTo>
                              <a:pt x="179" y="145"/>
                            </a:lnTo>
                            <a:lnTo>
                              <a:pt x="175" y="141"/>
                            </a:lnTo>
                            <a:lnTo>
                              <a:pt x="164" y="149"/>
                            </a:lnTo>
                            <a:lnTo>
                              <a:pt x="158" y="160"/>
                            </a:lnTo>
                            <a:lnTo>
                              <a:pt x="148" y="160"/>
                            </a:lnTo>
                            <a:lnTo>
                              <a:pt x="133" y="170"/>
                            </a:lnTo>
                            <a:lnTo>
                              <a:pt x="120" y="185"/>
                            </a:lnTo>
                            <a:lnTo>
                              <a:pt x="142" y="185"/>
                            </a:lnTo>
                            <a:lnTo>
                              <a:pt x="123" y="190"/>
                            </a:lnTo>
                            <a:lnTo>
                              <a:pt x="114" y="187"/>
                            </a:lnTo>
                            <a:lnTo>
                              <a:pt x="133" y="160"/>
                            </a:lnTo>
                            <a:lnTo>
                              <a:pt x="146" y="154"/>
                            </a:lnTo>
                            <a:lnTo>
                              <a:pt x="160" y="137"/>
                            </a:lnTo>
                            <a:lnTo>
                              <a:pt x="162" y="146"/>
                            </a:lnTo>
                            <a:lnTo>
                              <a:pt x="171" y="139"/>
                            </a:lnTo>
                            <a:lnTo>
                              <a:pt x="179" y="120"/>
                            </a:lnTo>
                            <a:lnTo>
                              <a:pt x="177" y="108"/>
                            </a:lnTo>
                            <a:lnTo>
                              <a:pt x="174" y="117"/>
                            </a:lnTo>
                            <a:lnTo>
                              <a:pt x="169" y="116"/>
                            </a:lnTo>
                            <a:lnTo>
                              <a:pt x="173" y="102"/>
                            </a:lnTo>
                            <a:lnTo>
                              <a:pt x="167" y="102"/>
                            </a:lnTo>
                            <a:lnTo>
                              <a:pt x="165" y="115"/>
                            </a:lnTo>
                            <a:lnTo>
                              <a:pt x="160" y="118"/>
                            </a:lnTo>
                            <a:lnTo>
                              <a:pt x="160" y="105"/>
                            </a:lnTo>
                            <a:lnTo>
                              <a:pt x="155" y="102"/>
                            </a:lnTo>
                            <a:lnTo>
                              <a:pt x="151" y="108"/>
                            </a:lnTo>
                            <a:lnTo>
                              <a:pt x="144" y="92"/>
                            </a:lnTo>
                            <a:lnTo>
                              <a:pt x="128" y="91"/>
                            </a:lnTo>
                            <a:lnTo>
                              <a:pt x="69" y="62"/>
                            </a:lnTo>
                            <a:lnTo>
                              <a:pt x="28" y="24"/>
                            </a:lnTo>
                            <a:lnTo>
                              <a:pt x="16" y="51"/>
                            </a:lnTo>
                            <a:lnTo>
                              <a:pt x="15" y="84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6" name=""/>
                      <p:cNvSpPr/>
                      <p:nvPr/>
                    </p:nvSpPr>
                    <p:spPr>
                      <a:xfrm>
                        <a:off x="2530440" y="1651320"/>
                        <a:ext cx="25200" cy="54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3" h="53">
                            <a:moveTo>
                              <a:pt x="0" y="14"/>
                            </a:moveTo>
                            <a:lnTo>
                              <a:pt x="13" y="0"/>
                            </a:lnTo>
                            <a:lnTo>
                              <a:pt x="22" y="8"/>
                            </a:lnTo>
                            <a:lnTo>
                              <a:pt x="16" y="52"/>
                            </a:lnTo>
                            <a:lnTo>
                              <a:pt x="0" y="14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7560" bIns="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7" name=""/>
                      <p:cNvSpPr/>
                      <p:nvPr/>
                    </p:nvSpPr>
                    <p:spPr>
                      <a:xfrm>
                        <a:off x="3432240" y="2306880"/>
                        <a:ext cx="777960" cy="597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07" h="582">
                            <a:moveTo>
                              <a:pt x="0" y="499"/>
                            </a:moveTo>
                            <a:lnTo>
                              <a:pt x="21" y="373"/>
                            </a:lnTo>
                            <a:lnTo>
                              <a:pt x="72" y="62"/>
                            </a:lnTo>
                            <a:lnTo>
                              <a:pt x="84" y="0"/>
                            </a:lnTo>
                            <a:lnTo>
                              <a:pt x="361" y="41"/>
                            </a:lnTo>
                            <a:lnTo>
                              <a:pt x="706" y="76"/>
                            </a:lnTo>
                            <a:lnTo>
                              <a:pt x="682" y="329"/>
                            </a:lnTo>
                            <a:lnTo>
                              <a:pt x="658" y="581"/>
                            </a:lnTo>
                            <a:lnTo>
                              <a:pt x="188" y="527"/>
                            </a:lnTo>
                            <a:lnTo>
                              <a:pt x="0" y="499"/>
                            </a:lnTo>
                          </a:path>
                        </a:pathLst>
                      </a:custGeom>
                      <a:solidFill>
                        <a:srgbClr val="00cc99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468" name=""/>
            <p:cNvSpPr/>
            <p:nvPr/>
          </p:nvSpPr>
          <p:spPr>
            <a:xfrm>
              <a:off x="2964240" y="2447280"/>
              <a:ext cx="57708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820200" y="2496600"/>
              <a:ext cx="57708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19840" y="2792160"/>
              <a:ext cx="57780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3446640" y="2847960"/>
              <a:ext cx="4200120" cy="2104920"/>
              <a:chOff x="3446640" y="2847960"/>
              <a:chExt cx="4200120" cy="2104920"/>
            </a:xfrm>
          </p:grpSpPr>
          <p:sp>
            <p:nvSpPr>
              <p:cNvPr id="472" name=""/>
              <p:cNvSpPr/>
              <p:nvPr/>
            </p:nvSpPr>
            <p:spPr>
              <a:xfrm>
                <a:off x="6955920" y="4826520"/>
                <a:ext cx="28440" cy="51120"/>
              </a:xfrm>
              <a:custGeom>
                <a:avLst/>
                <a:gdLst/>
                <a:ahLst/>
                <a:rect l="l" t="t" r="r" b="b"/>
                <a:pathLst>
                  <a:path w="26" h="50">
                    <a:moveTo>
                      <a:pt x="0" y="49"/>
                    </a:moveTo>
                    <a:lnTo>
                      <a:pt x="12" y="33"/>
                    </a:lnTo>
                    <a:lnTo>
                      <a:pt x="25" y="0"/>
                    </a:lnTo>
                    <a:lnTo>
                      <a:pt x="17" y="15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ff9933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446640" y="2847960"/>
                <a:ext cx="4200120" cy="2104920"/>
                <a:chOff x="3446640" y="2847960"/>
                <a:chExt cx="4200120" cy="210492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885360" y="4900320"/>
                  <a:ext cx="41760" cy="26640"/>
                </a:xfrm>
                <a:custGeom>
                  <a:avLst/>
                  <a:gdLst/>
                  <a:ahLst/>
                  <a:rect l="l" t="t" r="r" b="b"/>
                  <a:pathLst>
                    <a:path w="38" h="26">
                      <a:moveTo>
                        <a:pt x="0" y="23"/>
                      </a:moveTo>
                      <a:lnTo>
                        <a:pt x="7" y="25"/>
                      </a:lnTo>
                      <a:lnTo>
                        <a:pt x="37" y="0"/>
                      </a:lnTo>
                      <a:lnTo>
                        <a:pt x="10" y="18"/>
                      </a:lnTo>
                      <a:lnTo>
                        <a:pt x="0" y="23"/>
                      </a:lnTo>
                    </a:path>
                  </a:pathLst>
                </a:custGeom>
                <a:solidFill>
                  <a:srgbClr val="ff9933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5" name=""/>
                <p:cNvGrpSpPr/>
                <p:nvPr/>
              </p:nvGrpSpPr>
              <p:grpSpPr>
                <a:xfrm>
                  <a:off x="3446640" y="2847960"/>
                  <a:ext cx="4200120" cy="2104920"/>
                  <a:chOff x="3446640" y="2847960"/>
                  <a:chExt cx="4200120" cy="2104920"/>
                </a:xfrm>
              </p:grpSpPr>
              <p:sp>
                <p:nvSpPr>
                  <p:cNvPr id="476" name=""/>
                  <p:cNvSpPr/>
                  <p:nvPr/>
                </p:nvSpPr>
                <p:spPr>
                  <a:xfrm>
                    <a:off x="5876280" y="3672720"/>
                    <a:ext cx="421200" cy="637920"/>
                  </a:xfrm>
                  <a:custGeom>
                    <a:avLst/>
                    <a:gdLst/>
                    <a:ahLst/>
                    <a:rect l="l" t="t" r="r" b="b"/>
                    <a:pathLst>
                      <a:path w="383" h="621">
                        <a:moveTo>
                          <a:pt x="0" y="23"/>
                        </a:moveTo>
                        <a:lnTo>
                          <a:pt x="9" y="34"/>
                        </a:lnTo>
                        <a:lnTo>
                          <a:pt x="0" y="417"/>
                        </a:lnTo>
                        <a:lnTo>
                          <a:pt x="24" y="602"/>
                        </a:lnTo>
                        <a:lnTo>
                          <a:pt x="51" y="609"/>
                        </a:lnTo>
                        <a:lnTo>
                          <a:pt x="61" y="551"/>
                        </a:lnTo>
                        <a:lnTo>
                          <a:pt x="71" y="566"/>
                        </a:lnTo>
                        <a:lnTo>
                          <a:pt x="73" y="594"/>
                        </a:lnTo>
                        <a:lnTo>
                          <a:pt x="89" y="607"/>
                        </a:lnTo>
                        <a:lnTo>
                          <a:pt x="66" y="620"/>
                        </a:lnTo>
                        <a:lnTo>
                          <a:pt x="120" y="606"/>
                        </a:lnTo>
                        <a:lnTo>
                          <a:pt x="130" y="588"/>
                        </a:lnTo>
                        <a:lnTo>
                          <a:pt x="122" y="579"/>
                        </a:lnTo>
                        <a:lnTo>
                          <a:pt x="128" y="564"/>
                        </a:lnTo>
                        <a:lnTo>
                          <a:pt x="101" y="539"/>
                        </a:lnTo>
                        <a:lnTo>
                          <a:pt x="103" y="520"/>
                        </a:lnTo>
                        <a:lnTo>
                          <a:pt x="382" y="495"/>
                        </a:lnTo>
                        <a:lnTo>
                          <a:pt x="358" y="396"/>
                        </a:lnTo>
                        <a:lnTo>
                          <a:pt x="362" y="361"/>
                        </a:lnTo>
                        <a:lnTo>
                          <a:pt x="373" y="339"/>
                        </a:lnTo>
                        <a:lnTo>
                          <a:pt x="364" y="305"/>
                        </a:lnTo>
                        <a:lnTo>
                          <a:pt x="337" y="262"/>
                        </a:lnTo>
                        <a:lnTo>
                          <a:pt x="265" y="0"/>
                        </a:lnTo>
                        <a:lnTo>
                          <a:pt x="0" y="23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5146560" y="3512520"/>
                    <a:ext cx="558000" cy="46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07" h="456">
                        <a:moveTo>
                          <a:pt x="0" y="15"/>
                        </a:moveTo>
                        <a:lnTo>
                          <a:pt x="21" y="155"/>
                        </a:lnTo>
                        <a:lnTo>
                          <a:pt x="17" y="375"/>
                        </a:lnTo>
                        <a:lnTo>
                          <a:pt x="27" y="387"/>
                        </a:lnTo>
                        <a:lnTo>
                          <a:pt x="64" y="387"/>
                        </a:lnTo>
                        <a:lnTo>
                          <a:pt x="65" y="455"/>
                        </a:lnTo>
                        <a:lnTo>
                          <a:pt x="365" y="450"/>
                        </a:lnTo>
                        <a:lnTo>
                          <a:pt x="359" y="381"/>
                        </a:lnTo>
                        <a:lnTo>
                          <a:pt x="385" y="307"/>
                        </a:lnTo>
                        <a:lnTo>
                          <a:pt x="422" y="253"/>
                        </a:lnTo>
                        <a:lnTo>
                          <a:pt x="420" y="239"/>
                        </a:lnTo>
                        <a:lnTo>
                          <a:pt x="449" y="192"/>
                        </a:lnTo>
                        <a:lnTo>
                          <a:pt x="463" y="141"/>
                        </a:lnTo>
                        <a:lnTo>
                          <a:pt x="457" y="136"/>
                        </a:lnTo>
                        <a:lnTo>
                          <a:pt x="482" y="116"/>
                        </a:lnTo>
                        <a:lnTo>
                          <a:pt x="506" y="71"/>
                        </a:lnTo>
                        <a:lnTo>
                          <a:pt x="499" y="61"/>
                        </a:lnTo>
                        <a:lnTo>
                          <a:pt x="431" y="65"/>
                        </a:lnTo>
                        <a:lnTo>
                          <a:pt x="449" y="39"/>
                        </a:lnTo>
                        <a:lnTo>
                          <a:pt x="443" y="0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3561120" y="2847960"/>
                    <a:ext cx="804240" cy="59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31" h="578">
                        <a:moveTo>
                          <a:pt x="0" y="504"/>
                        </a:moveTo>
                        <a:lnTo>
                          <a:pt x="71" y="0"/>
                        </a:lnTo>
                        <a:lnTo>
                          <a:pt x="541" y="54"/>
                        </a:lnTo>
                        <a:lnTo>
                          <a:pt x="730" y="71"/>
                        </a:lnTo>
                        <a:lnTo>
                          <a:pt x="722" y="196"/>
                        </a:lnTo>
                        <a:lnTo>
                          <a:pt x="697" y="577"/>
                        </a:lnTo>
                        <a:lnTo>
                          <a:pt x="601" y="569"/>
                        </a:lnTo>
                        <a:lnTo>
                          <a:pt x="301" y="543"/>
                        </a:lnTo>
                        <a:lnTo>
                          <a:pt x="0" y="504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5987520" y="4159800"/>
                    <a:ext cx="1002240" cy="707760"/>
                  </a:xfrm>
                  <a:custGeom>
                    <a:avLst/>
                    <a:gdLst/>
                    <a:ahLst/>
                    <a:rect l="l" t="t" r="r" b="b"/>
                    <a:pathLst>
                      <a:path w="911" h="689">
                        <a:moveTo>
                          <a:pt x="2" y="46"/>
                        </a:moveTo>
                        <a:lnTo>
                          <a:pt x="0" y="65"/>
                        </a:lnTo>
                        <a:lnTo>
                          <a:pt x="27" y="90"/>
                        </a:lnTo>
                        <a:lnTo>
                          <a:pt x="21" y="105"/>
                        </a:lnTo>
                        <a:lnTo>
                          <a:pt x="29" y="114"/>
                        </a:lnTo>
                        <a:lnTo>
                          <a:pt x="19" y="132"/>
                        </a:lnTo>
                        <a:lnTo>
                          <a:pt x="39" y="124"/>
                        </a:lnTo>
                        <a:lnTo>
                          <a:pt x="50" y="111"/>
                        </a:lnTo>
                        <a:lnTo>
                          <a:pt x="50" y="98"/>
                        </a:lnTo>
                        <a:lnTo>
                          <a:pt x="59" y="106"/>
                        </a:lnTo>
                        <a:lnTo>
                          <a:pt x="67" y="94"/>
                        </a:lnTo>
                        <a:lnTo>
                          <a:pt x="75" y="105"/>
                        </a:lnTo>
                        <a:lnTo>
                          <a:pt x="54" y="121"/>
                        </a:lnTo>
                        <a:lnTo>
                          <a:pt x="113" y="107"/>
                        </a:lnTo>
                        <a:lnTo>
                          <a:pt x="125" y="95"/>
                        </a:lnTo>
                        <a:lnTo>
                          <a:pt x="133" y="100"/>
                        </a:lnTo>
                        <a:lnTo>
                          <a:pt x="156" y="94"/>
                        </a:lnTo>
                        <a:lnTo>
                          <a:pt x="166" y="102"/>
                        </a:lnTo>
                        <a:lnTo>
                          <a:pt x="126" y="106"/>
                        </a:lnTo>
                        <a:lnTo>
                          <a:pt x="138" y="110"/>
                        </a:lnTo>
                        <a:lnTo>
                          <a:pt x="184" y="120"/>
                        </a:lnTo>
                        <a:lnTo>
                          <a:pt x="211" y="135"/>
                        </a:lnTo>
                        <a:lnTo>
                          <a:pt x="203" y="114"/>
                        </a:lnTo>
                        <a:lnTo>
                          <a:pt x="217" y="130"/>
                        </a:lnTo>
                        <a:lnTo>
                          <a:pt x="237" y="133"/>
                        </a:lnTo>
                        <a:lnTo>
                          <a:pt x="220" y="139"/>
                        </a:lnTo>
                        <a:lnTo>
                          <a:pt x="251" y="155"/>
                        </a:lnTo>
                        <a:lnTo>
                          <a:pt x="263" y="169"/>
                        </a:lnTo>
                        <a:lnTo>
                          <a:pt x="262" y="183"/>
                        </a:lnTo>
                        <a:lnTo>
                          <a:pt x="249" y="165"/>
                        </a:lnTo>
                        <a:lnTo>
                          <a:pt x="257" y="189"/>
                        </a:lnTo>
                        <a:lnTo>
                          <a:pt x="281" y="179"/>
                        </a:lnTo>
                        <a:lnTo>
                          <a:pt x="297" y="178"/>
                        </a:lnTo>
                        <a:lnTo>
                          <a:pt x="307" y="168"/>
                        </a:lnTo>
                        <a:lnTo>
                          <a:pt x="312" y="175"/>
                        </a:lnTo>
                        <a:lnTo>
                          <a:pt x="345" y="150"/>
                        </a:lnTo>
                        <a:lnTo>
                          <a:pt x="366" y="149"/>
                        </a:lnTo>
                        <a:lnTo>
                          <a:pt x="358" y="141"/>
                        </a:lnTo>
                        <a:lnTo>
                          <a:pt x="373" y="122"/>
                        </a:lnTo>
                        <a:lnTo>
                          <a:pt x="404" y="120"/>
                        </a:lnTo>
                        <a:lnTo>
                          <a:pt x="438" y="136"/>
                        </a:lnTo>
                        <a:lnTo>
                          <a:pt x="458" y="161"/>
                        </a:lnTo>
                        <a:lnTo>
                          <a:pt x="475" y="166"/>
                        </a:lnTo>
                        <a:lnTo>
                          <a:pt x="478" y="183"/>
                        </a:lnTo>
                        <a:lnTo>
                          <a:pt x="500" y="194"/>
                        </a:lnTo>
                        <a:lnTo>
                          <a:pt x="508" y="208"/>
                        </a:lnTo>
                        <a:lnTo>
                          <a:pt x="520" y="218"/>
                        </a:lnTo>
                        <a:lnTo>
                          <a:pt x="548" y="219"/>
                        </a:lnTo>
                        <a:lnTo>
                          <a:pt x="560" y="238"/>
                        </a:lnTo>
                        <a:lnTo>
                          <a:pt x="575" y="276"/>
                        </a:lnTo>
                        <a:lnTo>
                          <a:pt x="566" y="343"/>
                        </a:lnTo>
                        <a:lnTo>
                          <a:pt x="569" y="385"/>
                        </a:lnTo>
                        <a:lnTo>
                          <a:pt x="587" y="398"/>
                        </a:lnTo>
                        <a:lnTo>
                          <a:pt x="590" y="378"/>
                        </a:lnTo>
                        <a:lnTo>
                          <a:pt x="578" y="371"/>
                        </a:lnTo>
                        <a:lnTo>
                          <a:pt x="580" y="358"/>
                        </a:lnTo>
                        <a:lnTo>
                          <a:pt x="585" y="362"/>
                        </a:lnTo>
                        <a:lnTo>
                          <a:pt x="598" y="366"/>
                        </a:lnTo>
                        <a:lnTo>
                          <a:pt x="602" y="379"/>
                        </a:lnTo>
                        <a:lnTo>
                          <a:pt x="610" y="364"/>
                        </a:lnTo>
                        <a:lnTo>
                          <a:pt x="617" y="377"/>
                        </a:lnTo>
                        <a:lnTo>
                          <a:pt x="592" y="421"/>
                        </a:lnTo>
                        <a:lnTo>
                          <a:pt x="591" y="429"/>
                        </a:lnTo>
                        <a:lnTo>
                          <a:pt x="606" y="436"/>
                        </a:lnTo>
                        <a:lnTo>
                          <a:pt x="620" y="472"/>
                        </a:lnTo>
                        <a:lnTo>
                          <a:pt x="637" y="489"/>
                        </a:lnTo>
                        <a:lnTo>
                          <a:pt x="647" y="502"/>
                        </a:lnTo>
                        <a:lnTo>
                          <a:pt x="660" y="502"/>
                        </a:lnTo>
                        <a:lnTo>
                          <a:pt x="646" y="482"/>
                        </a:lnTo>
                        <a:lnTo>
                          <a:pt x="657" y="485"/>
                        </a:lnTo>
                        <a:lnTo>
                          <a:pt x="671" y="481"/>
                        </a:lnTo>
                        <a:lnTo>
                          <a:pt x="665" y="489"/>
                        </a:lnTo>
                        <a:lnTo>
                          <a:pt x="671" y="507"/>
                        </a:lnTo>
                        <a:lnTo>
                          <a:pt x="677" y="531"/>
                        </a:lnTo>
                        <a:lnTo>
                          <a:pt x="698" y="541"/>
                        </a:lnTo>
                        <a:lnTo>
                          <a:pt x="704" y="557"/>
                        </a:lnTo>
                        <a:lnTo>
                          <a:pt x="723" y="603"/>
                        </a:lnTo>
                        <a:lnTo>
                          <a:pt x="747" y="603"/>
                        </a:lnTo>
                        <a:lnTo>
                          <a:pt x="767" y="615"/>
                        </a:lnTo>
                        <a:lnTo>
                          <a:pt x="801" y="660"/>
                        </a:lnTo>
                        <a:lnTo>
                          <a:pt x="828" y="664"/>
                        </a:lnTo>
                        <a:lnTo>
                          <a:pt x="829" y="674"/>
                        </a:lnTo>
                        <a:lnTo>
                          <a:pt x="823" y="679"/>
                        </a:lnTo>
                        <a:lnTo>
                          <a:pt x="801" y="669"/>
                        </a:lnTo>
                        <a:lnTo>
                          <a:pt x="808" y="688"/>
                        </a:lnTo>
                        <a:lnTo>
                          <a:pt x="834" y="681"/>
                        </a:lnTo>
                        <a:lnTo>
                          <a:pt x="856" y="681"/>
                        </a:lnTo>
                        <a:lnTo>
                          <a:pt x="867" y="669"/>
                        </a:lnTo>
                        <a:lnTo>
                          <a:pt x="886" y="668"/>
                        </a:lnTo>
                        <a:lnTo>
                          <a:pt x="896" y="648"/>
                        </a:lnTo>
                        <a:lnTo>
                          <a:pt x="892" y="621"/>
                        </a:lnTo>
                        <a:lnTo>
                          <a:pt x="901" y="589"/>
                        </a:lnTo>
                        <a:lnTo>
                          <a:pt x="910" y="592"/>
                        </a:lnTo>
                        <a:lnTo>
                          <a:pt x="902" y="482"/>
                        </a:lnTo>
                        <a:lnTo>
                          <a:pt x="892" y="449"/>
                        </a:lnTo>
                        <a:lnTo>
                          <a:pt x="794" y="289"/>
                        </a:lnTo>
                        <a:lnTo>
                          <a:pt x="770" y="237"/>
                        </a:lnTo>
                        <a:lnTo>
                          <a:pt x="780" y="237"/>
                        </a:lnTo>
                        <a:lnTo>
                          <a:pt x="716" y="135"/>
                        </a:lnTo>
                        <a:lnTo>
                          <a:pt x="671" y="29"/>
                        </a:lnTo>
                        <a:lnTo>
                          <a:pt x="669" y="10"/>
                        </a:lnTo>
                        <a:lnTo>
                          <a:pt x="657" y="8"/>
                        </a:lnTo>
                        <a:lnTo>
                          <a:pt x="615" y="0"/>
                        </a:lnTo>
                        <a:lnTo>
                          <a:pt x="603" y="13"/>
                        </a:lnTo>
                        <a:lnTo>
                          <a:pt x="611" y="60"/>
                        </a:lnTo>
                        <a:lnTo>
                          <a:pt x="592" y="59"/>
                        </a:lnTo>
                        <a:lnTo>
                          <a:pt x="589" y="37"/>
                        </a:lnTo>
                        <a:lnTo>
                          <a:pt x="301" y="54"/>
                        </a:lnTo>
                        <a:lnTo>
                          <a:pt x="281" y="21"/>
                        </a:lnTo>
                        <a:lnTo>
                          <a:pt x="2" y="46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815160" y="4920120"/>
                    <a:ext cx="514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32">
                        <a:moveTo>
                          <a:pt x="0" y="31"/>
                        </a:moveTo>
                        <a:lnTo>
                          <a:pt x="3" y="14"/>
                        </a:lnTo>
                        <a:lnTo>
                          <a:pt x="18" y="12"/>
                        </a:lnTo>
                        <a:lnTo>
                          <a:pt x="21" y="0"/>
                        </a:lnTo>
                        <a:lnTo>
                          <a:pt x="46" y="13"/>
                        </a:lnTo>
                        <a:lnTo>
                          <a:pt x="21" y="21"/>
                        </a:lnTo>
                        <a:lnTo>
                          <a:pt x="9" y="18"/>
                        </a:lnTo>
                        <a:lnTo>
                          <a:pt x="12" y="26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167880" y="3641040"/>
                    <a:ext cx="600840" cy="581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6" h="566">
                        <a:moveTo>
                          <a:pt x="0" y="31"/>
                        </a:moveTo>
                        <a:lnTo>
                          <a:pt x="72" y="293"/>
                        </a:lnTo>
                        <a:lnTo>
                          <a:pt x="99" y="336"/>
                        </a:lnTo>
                        <a:lnTo>
                          <a:pt x="108" y="370"/>
                        </a:lnTo>
                        <a:lnTo>
                          <a:pt x="97" y="392"/>
                        </a:lnTo>
                        <a:lnTo>
                          <a:pt x="93" y="427"/>
                        </a:lnTo>
                        <a:lnTo>
                          <a:pt x="117" y="526"/>
                        </a:lnTo>
                        <a:lnTo>
                          <a:pt x="137" y="559"/>
                        </a:lnTo>
                        <a:lnTo>
                          <a:pt x="425" y="542"/>
                        </a:lnTo>
                        <a:lnTo>
                          <a:pt x="428" y="564"/>
                        </a:lnTo>
                        <a:lnTo>
                          <a:pt x="447" y="565"/>
                        </a:lnTo>
                        <a:lnTo>
                          <a:pt x="439" y="518"/>
                        </a:lnTo>
                        <a:lnTo>
                          <a:pt x="451" y="505"/>
                        </a:lnTo>
                        <a:lnTo>
                          <a:pt x="493" y="513"/>
                        </a:lnTo>
                        <a:lnTo>
                          <a:pt x="500" y="480"/>
                        </a:lnTo>
                        <a:lnTo>
                          <a:pt x="493" y="477"/>
                        </a:lnTo>
                        <a:lnTo>
                          <a:pt x="503" y="469"/>
                        </a:lnTo>
                        <a:lnTo>
                          <a:pt x="488" y="461"/>
                        </a:lnTo>
                        <a:lnTo>
                          <a:pt x="496" y="450"/>
                        </a:lnTo>
                        <a:lnTo>
                          <a:pt x="494" y="435"/>
                        </a:lnTo>
                        <a:lnTo>
                          <a:pt x="513" y="422"/>
                        </a:lnTo>
                        <a:lnTo>
                          <a:pt x="507" y="406"/>
                        </a:lnTo>
                        <a:lnTo>
                          <a:pt x="515" y="400"/>
                        </a:lnTo>
                        <a:lnTo>
                          <a:pt x="520" y="385"/>
                        </a:lnTo>
                        <a:lnTo>
                          <a:pt x="513" y="380"/>
                        </a:lnTo>
                        <a:lnTo>
                          <a:pt x="527" y="370"/>
                        </a:lnTo>
                        <a:lnTo>
                          <a:pt x="519" y="359"/>
                        </a:lnTo>
                        <a:lnTo>
                          <a:pt x="532" y="359"/>
                        </a:lnTo>
                        <a:lnTo>
                          <a:pt x="545" y="342"/>
                        </a:lnTo>
                        <a:lnTo>
                          <a:pt x="539" y="336"/>
                        </a:lnTo>
                        <a:lnTo>
                          <a:pt x="521" y="334"/>
                        </a:lnTo>
                        <a:lnTo>
                          <a:pt x="508" y="317"/>
                        </a:lnTo>
                        <a:lnTo>
                          <a:pt x="487" y="279"/>
                        </a:lnTo>
                        <a:lnTo>
                          <a:pt x="474" y="274"/>
                        </a:lnTo>
                        <a:lnTo>
                          <a:pt x="450" y="223"/>
                        </a:lnTo>
                        <a:lnTo>
                          <a:pt x="415" y="201"/>
                        </a:lnTo>
                        <a:lnTo>
                          <a:pt x="390" y="166"/>
                        </a:lnTo>
                        <a:lnTo>
                          <a:pt x="330" y="121"/>
                        </a:lnTo>
                        <a:lnTo>
                          <a:pt x="299" y="81"/>
                        </a:lnTo>
                        <a:lnTo>
                          <a:pt x="234" y="40"/>
                        </a:lnTo>
                        <a:lnTo>
                          <a:pt x="254" y="0"/>
                        </a:lnTo>
                        <a:lnTo>
                          <a:pt x="131" y="14"/>
                        </a:lnTo>
                        <a:lnTo>
                          <a:pt x="0" y="31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5216040" y="3971880"/>
                    <a:ext cx="620640" cy="51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64" h="497">
                        <a:moveTo>
                          <a:pt x="0" y="5"/>
                        </a:moveTo>
                        <a:lnTo>
                          <a:pt x="6" y="137"/>
                        </a:lnTo>
                        <a:lnTo>
                          <a:pt x="22" y="154"/>
                        </a:lnTo>
                        <a:lnTo>
                          <a:pt x="27" y="188"/>
                        </a:lnTo>
                        <a:lnTo>
                          <a:pt x="58" y="235"/>
                        </a:lnTo>
                        <a:lnTo>
                          <a:pt x="56" y="275"/>
                        </a:lnTo>
                        <a:lnTo>
                          <a:pt x="39" y="313"/>
                        </a:lnTo>
                        <a:lnTo>
                          <a:pt x="39" y="334"/>
                        </a:lnTo>
                        <a:lnTo>
                          <a:pt x="45" y="356"/>
                        </a:lnTo>
                        <a:lnTo>
                          <a:pt x="43" y="378"/>
                        </a:lnTo>
                        <a:lnTo>
                          <a:pt x="33" y="391"/>
                        </a:lnTo>
                        <a:lnTo>
                          <a:pt x="19" y="409"/>
                        </a:lnTo>
                        <a:lnTo>
                          <a:pt x="28" y="420"/>
                        </a:lnTo>
                        <a:lnTo>
                          <a:pt x="104" y="410"/>
                        </a:lnTo>
                        <a:lnTo>
                          <a:pt x="164" y="435"/>
                        </a:lnTo>
                        <a:lnTo>
                          <a:pt x="223" y="432"/>
                        </a:lnTo>
                        <a:lnTo>
                          <a:pt x="216" y="415"/>
                        </a:lnTo>
                        <a:lnTo>
                          <a:pt x="235" y="400"/>
                        </a:lnTo>
                        <a:lnTo>
                          <a:pt x="276" y="409"/>
                        </a:lnTo>
                        <a:lnTo>
                          <a:pt x="282" y="438"/>
                        </a:lnTo>
                        <a:lnTo>
                          <a:pt x="294" y="434"/>
                        </a:lnTo>
                        <a:lnTo>
                          <a:pt x="311" y="441"/>
                        </a:lnTo>
                        <a:lnTo>
                          <a:pt x="328" y="458"/>
                        </a:lnTo>
                        <a:lnTo>
                          <a:pt x="332" y="475"/>
                        </a:lnTo>
                        <a:lnTo>
                          <a:pt x="350" y="477"/>
                        </a:lnTo>
                        <a:lnTo>
                          <a:pt x="366" y="488"/>
                        </a:lnTo>
                        <a:lnTo>
                          <a:pt x="379" y="483"/>
                        </a:lnTo>
                        <a:lnTo>
                          <a:pt x="392" y="469"/>
                        </a:lnTo>
                        <a:lnTo>
                          <a:pt x="390" y="458"/>
                        </a:lnTo>
                        <a:lnTo>
                          <a:pt x="407" y="473"/>
                        </a:lnTo>
                        <a:lnTo>
                          <a:pt x="416" y="460"/>
                        </a:lnTo>
                        <a:lnTo>
                          <a:pt x="428" y="485"/>
                        </a:lnTo>
                        <a:lnTo>
                          <a:pt x="447" y="473"/>
                        </a:lnTo>
                        <a:lnTo>
                          <a:pt x="453" y="466"/>
                        </a:lnTo>
                        <a:lnTo>
                          <a:pt x="447" y="458"/>
                        </a:lnTo>
                        <a:lnTo>
                          <a:pt x="448" y="436"/>
                        </a:lnTo>
                        <a:lnTo>
                          <a:pt x="453" y="436"/>
                        </a:lnTo>
                        <a:lnTo>
                          <a:pt x="469" y="438"/>
                        </a:lnTo>
                        <a:lnTo>
                          <a:pt x="473" y="453"/>
                        </a:lnTo>
                        <a:lnTo>
                          <a:pt x="492" y="452"/>
                        </a:lnTo>
                        <a:lnTo>
                          <a:pt x="507" y="462"/>
                        </a:lnTo>
                        <a:lnTo>
                          <a:pt x="510" y="460"/>
                        </a:lnTo>
                        <a:lnTo>
                          <a:pt x="516" y="471"/>
                        </a:lnTo>
                        <a:lnTo>
                          <a:pt x="528" y="478"/>
                        </a:lnTo>
                        <a:lnTo>
                          <a:pt x="522" y="496"/>
                        </a:lnTo>
                        <a:lnTo>
                          <a:pt x="538" y="479"/>
                        </a:lnTo>
                        <a:lnTo>
                          <a:pt x="549" y="490"/>
                        </a:lnTo>
                        <a:lnTo>
                          <a:pt x="549" y="477"/>
                        </a:lnTo>
                        <a:lnTo>
                          <a:pt x="563" y="473"/>
                        </a:lnTo>
                        <a:lnTo>
                          <a:pt x="563" y="464"/>
                        </a:lnTo>
                        <a:lnTo>
                          <a:pt x="548" y="462"/>
                        </a:lnTo>
                        <a:lnTo>
                          <a:pt x="540" y="453"/>
                        </a:lnTo>
                        <a:lnTo>
                          <a:pt x="527" y="455"/>
                        </a:lnTo>
                        <a:lnTo>
                          <a:pt x="521" y="442"/>
                        </a:lnTo>
                        <a:lnTo>
                          <a:pt x="507" y="442"/>
                        </a:lnTo>
                        <a:lnTo>
                          <a:pt x="493" y="417"/>
                        </a:lnTo>
                        <a:lnTo>
                          <a:pt x="501" y="411"/>
                        </a:lnTo>
                        <a:lnTo>
                          <a:pt x="513" y="405"/>
                        </a:lnTo>
                        <a:lnTo>
                          <a:pt x="515" y="391"/>
                        </a:lnTo>
                        <a:lnTo>
                          <a:pt x="525" y="390"/>
                        </a:lnTo>
                        <a:lnTo>
                          <a:pt x="540" y="376"/>
                        </a:lnTo>
                        <a:lnTo>
                          <a:pt x="535" y="371"/>
                        </a:lnTo>
                        <a:lnTo>
                          <a:pt x="535" y="346"/>
                        </a:lnTo>
                        <a:lnTo>
                          <a:pt x="519" y="358"/>
                        </a:lnTo>
                        <a:lnTo>
                          <a:pt x="502" y="361"/>
                        </a:lnTo>
                        <a:lnTo>
                          <a:pt x="489" y="383"/>
                        </a:lnTo>
                        <a:lnTo>
                          <a:pt x="465" y="371"/>
                        </a:lnTo>
                        <a:lnTo>
                          <a:pt x="469" y="363"/>
                        </a:lnTo>
                        <a:lnTo>
                          <a:pt x="479" y="359"/>
                        </a:lnTo>
                        <a:lnTo>
                          <a:pt x="480" y="363"/>
                        </a:lnTo>
                        <a:lnTo>
                          <a:pt x="486" y="350"/>
                        </a:lnTo>
                        <a:lnTo>
                          <a:pt x="477" y="354"/>
                        </a:lnTo>
                        <a:lnTo>
                          <a:pt x="473" y="348"/>
                        </a:lnTo>
                        <a:lnTo>
                          <a:pt x="471" y="355"/>
                        </a:lnTo>
                        <a:lnTo>
                          <a:pt x="460" y="350"/>
                        </a:lnTo>
                        <a:lnTo>
                          <a:pt x="450" y="363"/>
                        </a:lnTo>
                        <a:lnTo>
                          <a:pt x="434" y="367"/>
                        </a:lnTo>
                        <a:lnTo>
                          <a:pt x="401" y="359"/>
                        </a:lnTo>
                        <a:lnTo>
                          <a:pt x="400" y="351"/>
                        </a:lnTo>
                        <a:lnTo>
                          <a:pt x="419" y="323"/>
                        </a:lnTo>
                        <a:lnTo>
                          <a:pt x="437" y="324"/>
                        </a:lnTo>
                        <a:lnTo>
                          <a:pt x="449" y="336"/>
                        </a:lnTo>
                        <a:lnTo>
                          <a:pt x="497" y="345"/>
                        </a:lnTo>
                        <a:lnTo>
                          <a:pt x="462" y="285"/>
                        </a:lnTo>
                        <a:lnTo>
                          <a:pt x="469" y="243"/>
                        </a:lnTo>
                        <a:lnTo>
                          <a:pt x="266" y="251"/>
                        </a:lnTo>
                        <a:lnTo>
                          <a:pt x="267" y="228"/>
                        </a:lnTo>
                        <a:lnTo>
                          <a:pt x="290" y="158"/>
                        </a:lnTo>
                        <a:lnTo>
                          <a:pt x="325" y="112"/>
                        </a:lnTo>
                        <a:lnTo>
                          <a:pt x="314" y="98"/>
                        </a:lnTo>
                        <a:lnTo>
                          <a:pt x="318" y="53"/>
                        </a:lnTo>
                        <a:lnTo>
                          <a:pt x="300" y="0"/>
                        </a:lnTo>
                        <a:lnTo>
                          <a:pt x="0" y="5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5511240" y="3696480"/>
                    <a:ext cx="392760" cy="633960"/>
                  </a:xfrm>
                  <a:custGeom>
                    <a:avLst/>
                    <a:gdLst/>
                    <a:ahLst/>
                    <a:rect l="l" t="t" r="r" b="b"/>
                    <a:pathLst>
                      <a:path w="357" h="617">
                        <a:moveTo>
                          <a:pt x="0" y="522"/>
                        </a:moveTo>
                        <a:lnTo>
                          <a:pt x="1" y="499"/>
                        </a:lnTo>
                        <a:lnTo>
                          <a:pt x="24" y="429"/>
                        </a:lnTo>
                        <a:lnTo>
                          <a:pt x="59" y="383"/>
                        </a:lnTo>
                        <a:lnTo>
                          <a:pt x="48" y="369"/>
                        </a:lnTo>
                        <a:lnTo>
                          <a:pt x="52" y="324"/>
                        </a:lnTo>
                        <a:lnTo>
                          <a:pt x="34" y="271"/>
                        </a:lnTo>
                        <a:lnTo>
                          <a:pt x="28" y="202"/>
                        </a:lnTo>
                        <a:lnTo>
                          <a:pt x="54" y="128"/>
                        </a:lnTo>
                        <a:lnTo>
                          <a:pt x="91" y="74"/>
                        </a:lnTo>
                        <a:lnTo>
                          <a:pt x="89" y="60"/>
                        </a:lnTo>
                        <a:lnTo>
                          <a:pt x="118" y="13"/>
                        </a:lnTo>
                        <a:lnTo>
                          <a:pt x="332" y="0"/>
                        </a:lnTo>
                        <a:lnTo>
                          <a:pt x="341" y="11"/>
                        </a:lnTo>
                        <a:lnTo>
                          <a:pt x="332" y="394"/>
                        </a:lnTo>
                        <a:lnTo>
                          <a:pt x="356" y="579"/>
                        </a:lnTo>
                        <a:lnTo>
                          <a:pt x="345" y="587"/>
                        </a:lnTo>
                        <a:lnTo>
                          <a:pt x="333" y="579"/>
                        </a:lnTo>
                        <a:lnTo>
                          <a:pt x="316" y="587"/>
                        </a:lnTo>
                        <a:lnTo>
                          <a:pt x="301" y="577"/>
                        </a:lnTo>
                        <a:lnTo>
                          <a:pt x="300" y="583"/>
                        </a:lnTo>
                        <a:lnTo>
                          <a:pt x="283" y="586"/>
                        </a:lnTo>
                        <a:lnTo>
                          <a:pt x="260" y="596"/>
                        </a:lnTo>
                        <a:lnTo>
                          <a:pt x="253" y="591"/>
                        </a:lnTo>
                        <a:lnTo>
                          <a:pt x="242" y="611"/>
                        </a:lnTo>
                        <a:lnTo>
                          <a:pt x="231" y="616"/>
                        </a:lnTo>
                        <a:lnTo>
                          <a:pt x="196" y="556"/>
                        </a:lnTo>
                        <a:lnTo>
                          <a:pt x="203" y="514"/>
                        </a:lnTo>
                        <a:lnTo>
                          <a:pt x="0" y="52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3446640" y="3365640"/>
                    <a:ext cx="776520" cy="740880"/>
                  </a:xfrm>
                  <a:custGeom>
                    <a:avLst/>
                    <a:gdLst/>
                    <a:ahLst/>
                    <a:rect l="l" t="t" r="r" b="b"/>
                    <a:pathLst>
                      <a:path w="706" h="721">
                        <a:moveTo>
                          <a:pt x="0" y="708"/>
                        </a:moveTo>
                        <a:lnTo>
                          <a:pt x="88" y="720"/>
                        </a:lnTo>
                        <a:lnTo>
                          <a:pt x="97" y="665"/>
                        </a:lnTo>
                        <a:lnTo>
                          <a:pt x="275" y="689"/>
                        </a:lnTo>
                        <a:lnTo>
                          <a:pt x="267" y="663"/>
                        </a:lnTo>
                        <a:lnTo>
                          <a:pt x="295" y="664"/>
                        </a:lnTo>
                        <a:lnTo>
                          <a:pt x="648" y="699"/>
                        </a:lnTo>
                        <a:lnTo>
                          <a:pt x="700" y="132"/>
                        </a:lnTo>
                        <a:lnTo>
                          <a:pt x="705" y="65"/>
                        </a:lnTo>
                        <a:lnTo>
                          <a:pt x="405" y="39"/>
                        </a:lnTo>
                        <a:lnTo>
                          <a:pt x="104" y="0"/>
                        </a:lnTo>
                        <a:lnTo>
                          <a:pt x="0" y="70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" name=""/>
                  <p:cNvSpPr/>
                  <p:nvPr/>
                </p:nvSpPr>
                <p:spPr>
                  <a:xfrm>
                    <a:off x="6312240" y="3318120"/>
                    <a:ext cx="942840" cy="39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57" h="383">
                        <a:moveTo>
                          <a:pt x="0" y="300"/>
                        </a:moveTo>
                        <a:lnTo>
                          <a:pt x="0" y="328"/>
                        </a:lnTo>
                        <a:lnTo>
                          <a:pt x="123" y="314"/>
                        </a:lnTo>
                        <a:lnTo>
                          <a:pt x="196" y="277"/>
                        </a:lnTo>
                        <a:lnTo>
                          <a:pt x="333" y="262"/>
                        </a:lnTo>
                        <a:lnTo>
                          <a:pt x="389" y="298"/>
                        </a:lnTo>
                        <a:lnTo>
                          <a:pt x="478" y="285"/>
                        </a:lnTo>
                        <a:lnTo>
                          <a:pt x="612" y="382"/>
                        </a:lnTo>
                        <a:lnTo>
                          <a:pt x="630" y="370"/>
                        </a:lnTo>
                        <a:lnTo>
                          <a:pt x="664" y="369"/>
                        </a:lnTo>
                        <a:lnTo>
                          <a:pt x="671" y="343"/>
                        </a:lnTo>
                        <a:lnTo>
                          <a:pt x="677" y="357"/>
                        </a:lnTo>
                        <a:lnTo>
                          <a:pt x="687" y="313"/>
                        </a:lnTo>
                        <a:lnTo>
                          <a:pt x="704" y="289"/>
                        </a:lnTo>
                        <a:lnTo>
                          <a:pt x="721" y="277"/>
                        </a:lnTo>
                        <a:lnTo>
                          <a:pt x="712" y="271"/>
                        </a:lnTo>
                        <a:lnTo>
                          <a:pt x="714" y="262"/>
                        </a:lnTo>
                        <a:lnTo>
                          <a:pt x="707" y="251"/>
                        </a:lnTo>
                        <a:lnTo>
                          <a:pt x="719" y="263"/>
                        </a:lnTo>
                        <a:lnTo>
                          <a:pt x="716" y="267"/>
                        </a:lnTo>
                        <a:lnTo>
                          <a:pt x="725" y="272"/>
                        </a:lnTo>
                        <a:lnTo>
                          <a:pt x="735" y="261"/>
                        </a:lnTo>
                        <a:lnTo>
                          <a:pt x="740" y="259"/>
                        </a:lnTo>
                        <a:lnTo>
                          <a:pt x="735" y="243"/>
                        </a:lnTo>
                        <a:lnTo>
                          <a:pt x="740" y="241"/>
                        </a:lnTo>
                        <a:lnTo>
                          <a:pt x="746" y="252"/>
                        </a:lnTo>
                        <a:lnTo>
                          <a:pt x="775" y="237"/>
                        </a:lnTo>
                        <a:lnTo>
                          <a:pt x="801" y="237"/>
                        </a:lnTo>
                        <a:lnTo>
                          <a:pt x="818" y="204"/>
                        </a:lnTo>
                        <a:lnTo>
                          <a:pt x="811" y="196"/>
                        </a:lnTo>
                        <a:lnTo>
                          <a:pt x="802" y="206"/>
                        </a:lnTo>
                        <a:lnTo>
                          <a:pt x="799" y="192"/>
                        </a:lnTo>
                        <a:lnTo>
                          <a:pt x="787" y="202"/>
                        </a:lnTo>
                        <a:lnTo>
                          <a:pt x="792" y="212"/>
                        </a:lnTo>
                        <a:lnTo>
                          <a:pt x="782" y="206"/>
                        </a:lnTo>
                        <a:lnTo>
                          <a:pt x="781" y="217"/>
                        </a:lnTo>
                        <a:lnTo>
                          <a:pt x="753" y="215"/>
                        </a:lnTo>
                        <a:lnTo>
                          <a:pt x="734" y="201"/>
                        </a:lnTo>
                        <a:lnTo>
                          <a:pt x="735" y="193"/>
                        </a:lnTo>
                        <a:lnTo>
                          <a:pt x="765" y="211"/>
                        </a:lnTo>
                        <a:lnTo>
                          <a:pt x="787" y="184"/>
                        </a:lnTo>
                        <a:lnTo>
                          <a:pt x="775" y="182"/>
                        </a:lnTo>
                        <a:lnTo>
                          <a:pt x="789" y="163"/>
                        </a:lnTo>
                        <a:lnTo>
                          <a:pt x="775" y="168"/>
                        </a:lnTo>
                        <a:lnTo>
                          <a:pt x="729" y="151"/>
                        </a:lnTo>
                        <a:lnTo>
                          <a:pt x="752" y="147"/>
                        </a:lnTo>
                        <a:lnTo>
                          <a:pt x="774" y="155"/>
                        </a:lnTo>
                        <a:lnTo>
                          <a:pt x="775" y="150"/>
                        </a:lnTo>
                        <a:lnTo>
                          <a:pt x="765" y="138"/>
                        </a:lnTo>
                        <a:lnTo>
                          <a:pt x="773" y="138"/>
                        </a:lnTo>
                        <a:lnTo>
                          <a:pt x="786" y="131"/>
                        </a:lnTo>
                        <a:lnTo>
                          <a:pt x="779" y="142"/>
                        </a:lnTo>
                        <a:lnTo>
                          <a:pt x="784" y="154"/>
                        </a:lnTo>
                        <a:lnTo>
                          <a:pt x="794" y="144"/>
                        </a:lnTo>
                        <a:lnTo>
                          <a:pt x="800" y="155"/>
                        </a:lnTo>
                        <a:lnTo>
                          <a:pt x="810" y="154"/>
                        </a:lnTo>
                        <a:lnTo>
                          <a:pt x="822" y="153"/>
                        </a:lnTo>
                        <a:lnTo>
                          <a:pt x="834" y="138"/>
                        </a:lnTo>
                        <a:lnTo>
                          <a:pt x="842" y="114"/>
                        </a:lnTo>
                        <a:lnTo>
                          <a:pt x="856" y="111"/>
                        </a:lnTo>
                        <a:lnTo>
                          <a:pt x="856" y="98"/>
                        </a:lnTo>
                        <a:lnTo>
                          <a:pt x="846" y="77"/>
                        </a:lnTo>
                        <a:lnTo>
                          <a:pt x="833" y="77"/>
                        </a:lnTo>
                        <a:lnTo>
                          <a:pt x="821" y="111"/>
                        </a:lnTo>
                        <a:lnTo>
                          <a:pt x="814" y="94"/>
                        </a:lnTo>
                        <a:lnTo>
                          <a:pt x="811" y="71"/>
                        </a:lnTo>
                        <a:lnTo>
                          <a:pt x="785" y="84"/>
                        </a:lnTo>
                        <a:lnTo>
                          <a:pt x="748" y="91"/>
                        </a:lnTo>
                        <a:lnTo>
                          <a:pt x="753" y="75"/>
                        </a:lnTo>
                        <a:lnTo>
                          <a:pt x="771" y="65"/>
                        </a:lnTo>
                        <a:lnTo>
                          <a:pt x="809" y="50"/>
                        </a:lnTo>
                        <a:lnTo>
                          <a:pt x="796" y="33"/>
                        </a:lnTo>
                        <a:lnTo>
                          <a:pt x="822" y="45"/>
                        </a:lnTo>
                        <a:lnTo>
                          <a:pt x="813" y="29"/>
                        </a:lnTo>
                        <a:lnTo>
                          <a:pt x="837" y="50"/>
                        </a:lnTo>
                        <a:lnTo>
                          <a:pt x="819" y="14"/>
                        </a:lnTo>
                        <a:lnTo>
                          <a:pt x="801" y="0"/>
                        </a:lnTo>
                        <a:lnTo>
                          <a:pt x="495" y="58"/>
                        </a:lnTo>
                        <a:lnTo>
                          <a:pt x="244" y="91"/>
                        </a:lnTo>
                        <a:lnTo>
                          <a:pt x="240" y="120"/>
                        </a:lnTo>
                        <a:lnTo>
                          <a:pt x="226" y="129"/>
                        </a:lnTo>
                        <a:lnTo>
                          <a:pt x="209" y="160"/>
                        </a:lnTo>
                        <a:lnTo>
                          <a:pt x="194" y="157"/>
                        </a:lnTo>
                        <a:lnTo>
                          <a:pt x="180" y="166"/>
                        </a:lnTo>
                        <a:lnTo>
                          <a:pt x="168" y="182"/>
                        </a:lnTo>
                        <a:lnTo>
                          <a:pt x="154" y="172"/>
                        </a:lnTo>
                        <a:lnTo>
                          <a:pt x="131" y="192"/>
                        </a:lnTo>
                        <a:lnTo>
                          <a:pt x="128" y="208"/>
                        </a:lnTo>
                        <a:lnTo>
                          <a:pt x="31" y="265"/>
                        </a:lnTo>
                        <a:lnTo>
                          <a:pt x="25" y="288"/>
                        </a:lnTo>
                        <a:lnTo>
                          <a:pt x="0" y="30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>
                    <a:off x="4216680" y="3432240"/>
                    <a:ext cx="954000" cy="466200"/>
                  </a:xfrm>
                  <a:custGeom>
                    <a:avLst/>
                    <a:gdLst/>
                    <a:ahLst/>
                    <a:rect l="l" t="t" r="r" b="b"/>
                    <a:pathLst>
                      <a:path w="867" h="454">
                        <a:moveTo>
                          <a:pt x="0" y="67"/>
                        </a:moveTo>
                        <a:lnTo>
                          <a:pt x="5" y="0"/>
                        </a:lnTo>
                        <a:lnTo>
                          <a:pt x="101" y="8"/>
                        </a:lnTo>
                        <a:lnTo>
                          <a:pt x="526" y="29"/>
                        </a:lnTo>
                        <a:lnTo>
                          <a:pt x="843" y="27"/>
                        </a:lnTo>
                        <a:lnTo>
                          <a:pt x="845" y="93"/>
                        </a:lnTo>
                        <a:lnTo>
                          <a:pt x="866" y="233"/>
                        </a:lnTo>
                        <a:lnTo>
                          <a:pt x="862" y="453"/>
                        </a:lnTo>
                        <a:lnTo>
                          <a:pt x="835" y="444"/>
                        </a:lnTo>
                        <a:lnTo>
                          <a:pt x="792" y="414"/>
                        </a:lnTo>
                        <a:lnTo>
                          <a:pt x="775" y="423"/>
                        </a:lnTo>
                        <a:lnTo>
                          <a:pt x="719" y="427"/>
                        </a:lnTo>
                        <a:lnTo>
                          <a:pt x="663" y="446"/>
                        </a:lnTo>
                        <a:lnTo>
                          <a:pt x="642" y="425"/>
                        </a:lnTo>
                        <a:lnTo>
                          <a:pt x="614" y="430"/>
                        </a:lnTo>
                        <a:lnTo>
                          <a:pt x="609" y="415"/>
                        </a:lnTo>
                        <a:lnTo>
                          <a:pt x="588" y="429"/>
                        </a:lnTo>
                        <a:lnTo>
                          <a:pt x="585" y="446"/>
                        </a:lnTo>
                        <a:lnTo>
                          <a:pt x="579" y="423"/>
                        </a:lnTo>
                        <a:lnTo>
                          <a:pt x="559" y="436"/>
                        </a:lnTo>
                        <a:lnTo>
                          <a:pt x="527" y="411"/>
                        </a:lnTo>
                        <a:lnTo>
                          <a:pt x="510" y="429"/>
                        </a:lnTo>
                        <a:lnTo>
                          <a:pt x="499" y="419"/>
                        </a:lnTo>
                        <a:lnTo>
                          <a:pt x="484" y="388"/>
                        </a:lnTo>
                        <a:lnTo>
                          <a:pt x="456" y="386"/>
                        </a:lnTo>
                        <a:lnTo>
                          <a:pt x="452" y="395"/>
                        </a:lnTo>
                        <a:lnTo>
                          <a:pt x="434" y="384"/>
                        </a:lnTo>
                        <a:lnTo>
                          <a:pt x="419" y="388"/>
                        </a:lnTo>
                        <a:lnTo>
                          <a:pt x="398" y="379"/>
                        </a:lnTo>
                        <a:lnTo>
                          <a:pt x="372" y="376"/>
                        </a:lnTo>
                        <a:lnTo>
                          <a:pt x="373" y="360"/>
                        </a:lnTo>
                        <a:lnTo>
                          <a:pt x="358" y="345"/>
                        </a:lnTo>
                        <a:lnTo>
                          <a:pt x="351" y="355"/>
                        </a:lnTo>
                        <a:lnTo>
                          <a:pt x="322" y="354"/>
                        </a:lnTo>
                        <a:lnTo>
                          <a:pt x="293" y="329"/>
                        </a:lnTo>
                        <a:lnTo>
                          <a:pt x="302" y="85"/>
                        </a:lnTo>
                        <a:lnTo>
                          <a:pt x="0" y="67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7" name=""/>
                  <p:cNvSpPr/>
                  <p:nvPr/>
                </p:nvSpPr>
                <p:spPr>
                  <a:xfrm>
                    <a:off x="6425280" y="3587400"/>
                    <a:ext cx="561240" cy="399240"/>
                  </a:xfrm>
                  <a:custGeom>
                    <a:avLst/>
                    <a:gdLst/>
                    <a:ahLst/>
                    <a:rect l="l" t="t" r="r" b="b"/>
                    <a:pathLst>
                      <a:path w="510" h="389">
                        <a:moveTo>
                          <a:pt x="0" y="92"/>
                        </a:moveTo>
                        <a:lnTo>
                          <a:pt x="20" y="52"/>
                        </a:lnTo>
                        <a:lnTo>
                          <a:pt x="93" y="15"/>
                        </a:lnTo>
                        <a:lnTo>
                          <a:pt x="230" y="0"/>
                        </a:lnTo>
                        <a:lnTo>
                          <a:pt x="286" y="36"/>
                        </a:lnTo>
                        <a:lnTo>
                          <a:pt x="375" y="23"/>
                        </a:lnTo>
                        <a:lnTo>
                          <a:pt x="509" y="120"/>
                        </a:lnTo>
                        <a:lnTo>
                          <a:pt x="470" y="165"/>
                        </a:lnTo>
                        <a:lnTo>
                          <a:pt x="450" y="194"/>
                        </a:lnTo>
                        <a:lnTo>
                          <a:pt x="452" y="226"/>
                        </a:lnTo>
                        <a:lnTo>
                          <a:pt x="417" y="255"/>
                        </a:lnTo>
                        <a:lnTo>
                          <a:pt x="390" y="298"/>
                        </a:lnTo>
                        <a:lnTo>
                          <a:pt x="352" y="321"/>
                        </a:lnTo>
                        <a:lnTo>
                          <a:pt x="334" y="325"/>
                        </a:lnTo>
                        <a:lnTo>
                          <a:pt x="326" y="352"/>
                        </a:lnTo>
                        <a:lnTo>
                          <a:pt x="304" y="337"/>
                        </a:lnTo>
                        <a:lnTo>
                          <a:pt x="324" y="363"/>
                        </a:lnTo>
                        <a:lnTo>
                          <a:pt x="305" y="388"/>
                        </a:lnTo>
                        <a:lnTo>
                          <a:pt x="287" y="386"/>
                        </a:lnTo>
                        <a:lnTo>
                          <a:pt x="274" y="369"/>
                        </a:lnTo>
                        <a:lnTo>
                          <a:pt x="253" y="331"/>
                        </a:lnTo>
                        <a:lnTo>
                          <a:pt x="240" y="326"/>
                        </a:lnTo>
                        <a:lnTo>
                          <a:pt x="216" y="275"/>
                        </a:lnTo>
                        <a:lnTo>
                          <a:pt x="181" y="253"/>
                        </a:lnTo>
                        <a:lnTo>
                          <a:pt x="156" y="218"/>
                        </a:lnTo>
                        <a:lnTo>
                          <a:pt x="96" y="173"/>
                        </a:lnTo>
                        <a:lnTo>
                          <a:pt x="65" y="133"/>
                        </a:lnTo>
                        <a:lnTo>
                          <a:pt x="0" y="9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8" name=""/>
                  <p:cNvSpPr/>
                  <p:nvPr/>
                </p:nvSpPr>
                <p:spPr>
                  <a:xfrm>
                    <a:off x="5640840" y="3411720"/>
                    <a:ext cx="940680" cy="298800"/>
                  </a:xfrm>
                  <a:custGeom>
                    <a:avLst/>
                    <a:gdLst/>
                    <a:ahLst/>
                    <a:rect l="l" t="t" r="r" b="b"/>
                    <a:pathLst>
                      <a:path w="855" h="291">
                        <a:moveTo>
                          <a:pt x="0" y="290"/>
                        </a:moveTo>
                        <a:lnTo>
                          <a:pt x="14" y="239"/>
                        </a:lnTo>
                        <a:lnTo>
                          <a:pt x="8" y="234"/>
                        </a:lnTo>
                        <a:lnTo>
                          <a:pt x="33" y="214"/>
                        </a:lnTo>
                        <a:lnTo>
                          <a:pt x="57" y="169"/>
                        </a:lnTo>
                        <a:lnTo>
                          <a:pt x="50" y="159"/>
                        </a:lnTo>
                        <a:lnTo>
                          <a:pt x="60" y="137"/>
                        </a:lnTo>
                        <a:lnTo>
                          <a:pt x="63" y="113"/>
                        </a:lnTo>
                        <a:lnTo>
                          <a:pt x="77" y="94"/>
                        </a:lnTo>
                        <a:lnTo>
                          <a:pt x="212" y="85"/>
                        </a:lnTo>
                        <a:lnTo>
                          <a:pt x="211" y="63"/>
                        </a:lnTo>
                        <a:lnTo>
                          <a:pt x="252" y="64"/>
                        </a:lnTo>
                        <a:lnTo>
                          <a:pt x="654" y="27"/>
                        </a:lnTo>
                        <a:lnTo>
                          <a:pt x="854" y="0"/>
                        </a:lnTo>
                        <a:lnTo>
                          <a:pt x="850" y="29"/>
                        </a:lnTo>
                        <a:lnTo>
                          <a:pt x="836" y="38"/>
                        </a:lnTo>
                        <a:lnTo>
                          <a:pt x="819" y="69"/>
                        </a:lnTo>
                        <a:lnTo>
                          <a:pt x="804" y="66"/>
                        </a:lnTo>
                        <a:lnTo>
                          <a:pt x="790" y="75"/>
                        </a:lnTo>
                        <a:lnTo>
                          <a:pt x="778" y="91"/>
                        </a:lnTo>
                        <a:lnTo>
                          <a:pt x="764" y="81"/>
                        </a:lnTo>
                        <a:lnTo>
                          <a:pt x="741" y="101"/>
                        </a:lnTo>
                        <a:lnTo>
                          <a:pt x="738" y="117"/>
                        </a:lnTo>
                        <a:lnTo>
                          <a:pt x="641" y="174"/>
                        </a:lnTo>
                        <a:lnTo>
                          <a:pt x="635" y="197"/>
                        </a:lnTo>
                        <a:lnTo>
                          <a:pt x="610" y="209"/>
                        </a:lnTo>
                        <a:lnTo>
                          <a:pt x="610" y="237"/>
                        </a:lnTo>
                        <a:lnTo>
                          <a:pt x="479" y="254"/>
                        </a:lnTo>
                        <a:lnTo>
                          <a:pt x="214" y="277"/>
                        </a:lnTo>
                        <a:lnTo>
                          <a:pt x="0" y="29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>
                    <a:off x="3733560" y="3482640"/>
                    <a:ext cx="1542600" cy="1393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2" h="1356">
                        <a:moveTo>
                          <a:pt x="8" y="557"/>
                        </a:moveTo>
                        <a:lnTo>
                          <a:pt x="0" y="531"/>
                        </a:lnTo>
                        <a:lnTo>
                          <a:pt x="28" y="532"/>
                        </a:lnTo>
                        <a:lnTo>
                          <a:pt x="381" y="567"/>
                        </a:lnTo>
                        <a:lnTo>
                          <a:pt x="433" y="0"/>
                        </a:lnTo>
                        <a:lnTo>
                          <a:pt x="735" y="18"/>
                        </a:lnTo>
                        <a:lnTo>
                          <a:pt x="726" y="262"/>
                        </a:lnTo>
                        <a:lnTo>
                          <a:pt x="755" y="287"/>
                        </a:lnTo>
                        <a:lnTo>
                          <a:pt x="784" y="288"/>
                        </a:lnTo>
                        <a:lnTo>
                          <a:pt x="791" y="278"/>
                        </a:lnTo>
                        <a:lnTo>
                          <a:pt x="806" y="293"/>
                        </a:lnTo>
                        <a:lnTo>
                          <a:pt x="805" y="309"/>
                        </a:lnTo>
                        <a:lnTo>
                          <a:pt x="831" y="312"/>
                        </a:lnTo>
                        <a:lnTo>
                          <a:pt x="852" y="321"/>
                        </a:lnTo>
                        <a:lnTo>
                          <a:pt x="867" y="317"/>
                        </a:lnTo>
                        <a:lnTo>
                          <a:pt x="885" y="328"/>
                        </a:lnTo>
                        <a:lnTo>
                          <a:pt x="889" y="319"/>
                        </a:lnTo>
                        <a:lnTo>
                          <a:pt x="917" y="321"/>
                        </a:lnTo>
                        <a:lnTo>
                          <a:pt x="932" y="352"/>
                        </a:lnTo>
                        <a:lnTo>
                          <a:pt x="943" y="362"/>
                        </a:lnTo>
                        <a:lnTo>
                          <a:pt x="960" y="344"/>
                        </a:lnTo>
                        <a:lnTo>
                          <a:pt x="992" y="369"/>
                        </a:lnTo>
                        <a:lnTo>
                          <a:pt x="1012" y="356"/>
                        </a:lnTo>
                        <a:lnTo>
                          <a:pt x="1018" y="379"/>
                        </a:lnTo>
                        <a:lnTo>
                          <a:pt x="1021" y="362"/>
                        </a:lnTo>
                        <a:lnTo>
                          <a:pt x="1042" y="348"/>
                        </a:lnTo>
                        <a:lnTo>
                          <a:pt x="1047" y="363"/>
                        </a:lnTo>
                        <a:lnTo>
                          <a:pt x="1075" y="358"/>
                        </a:lnTo>
                        <a:lnTo>
                          <a:pt x="1096" y="379"/>
                        </a:lnTo>
                        <a:lnTo>
                          <a:pt x="1152" y="360"/>
                        </a:lnTo>
                        <a:lnTo>
                          <a:pt x="1208" y="356"/>
                        </a:lnTo>
                        <a:lnTo>
                          <a:pt x="1225" y="347"/>
                        </a:lnTo>
                        <a:lnTo>
                          <a:pt x="1268" y="377"/>
                        </a:lnTo>
                        <a:lnTo>
                          <a:pt x="1295" y="386"/>
                        </a:lnTo>
                        <a:lnTo>
                          <a:pt x="1305" y="398"/>
                        </a:lnTo>
                        <a:lnTo>
                          <a:pt x="1342" y="398"/>
                        </a:lnTo>
                        <a:lnTo>
                          <a:pt x="1343" y="466"/>
                        </a:lnTo>
                        <a:lnTo>
                          <a:pt x="1349" y="598"/>
                        </a:lnTo>
                        <a:lnTo>
                          <a:pt x="1365" y="615"/>
                        </a:lnTo>
                        <a:lnTo>
                          <a:pt x="1370" y="649"/>
                        </a:lnTo>
                        <a:lnTo>
                          <a:pt x="1401" y="696"/>
                        </a:lnTo>
                        <a:lnTo>
                          <a:pt x="1399" y="736"/>
                        </a:lnTo>
                        <a:lnTo>
                          <a:pt x="1382" y="774"/>
                        </a:lnTo>
                        <a:lnTo>
                          <a:pt x="1382" y="795"/>
                        </a:lnTo>
                        <a:lnTo>
                          <a:pt x="1388" y="817"/>
                        </a:lnTo>
                        <a:lnTo>
                          <a:pt x="1386" y="839"/>
                        </a:lnTo>
                        <a:lnTo>
                          <a:pt x="1376" y="852"/>
                        </a:lnTo>
                        <a:lnTo>
                          <a:pt x="1362" y="870"/>
                        </a:lnTo>
                        <a:lnTo>
                          <a:pt x="1371" y="881"/>
                        </a:lnTo>
                        <a:lnTo>
                          <a:pt x="1315" y="899"/>
                        </a:lnTo>
                        <a:lnTo>
                          <a:pt x="1270" y="925"/>
                        </a:lnTo>
                        <a:lnTo>
                          <a:pt x="1297" y="903"/>
                        </a:lnTo>
                        <a:lnTo>
                          <a:pt x="1268" y="903"/>
                        </a:lnTo>
                        <a:lnTo>
                          <a:pt x="1276" y="869"/>
                        </a:lnTo>
                        <a:lnTo>
                          <a:pt x="1252" y="889"/>
                        </a:lnTo>
                        <a:lnTo>
                          <a:pt x="1241" y="882"/>
                        </a:lnTo>
                        <a:lnTo>
                          <a:pt x="1242" y="905"/>
                        </a:lnTo>
                        <a:lnTo>
                          <a:pt x="1251" y="909"/>
                        </a:lnTo>
                        <a:lnTo>
                          <a:pt x="1253" y="930"/>
                        </a:lnTo>
                        <a:lnTo>
                          <a:pt x="1237" y="947"/>
                        </a:lnTo>
                        <a:lnTo>
                          <a:pt x="1225" y="946"/>
                        </a:lnTo>
                        <a:lnTo>
                          <a:pt x="1223" y="970"/>
                        </a:lnTo>
                        <a:lnTo>
                          <a:pt x="1092" y="1049"/>
                        </a:lnTo>
                        <a:lnTo>
                          <a:pt x="1094" y="1041"/>
                        </a:lnTo>
                        <a:lnTo>
                          <a:pt x="1154" y="1003"/>
                        </a:lnTo>
                        <a:lnTo>
                          <a:pt x="1108" y="1026"/>
                        </a:lnTo>
                        <a:lnTo>
                          <a:pt x="1111" y="1004"/>
                        </a:lnTo>
                        <a:lnTo>
                          <a:pt x="1098" y="1016"/>
                        </a:lnTo>
                        <a:lnTo>
                          <a:pt x="1086" y="1009"/>
                        </a:lnTo>
                        <a:lnTo>
                          <a:pt x="1079" y="1026"/>
                        </a:lnTo>
                        <a:lnTo>
                          <a:pt x="1059" y="1009"/>
                        </a:lnTo>
                        <a:lnTo>
                          <a:pt x="1061" y="1026"/>
                        </a:lnTo>
                        <a:lnTo>
                          <a:pt x="1086" y="1042"/>
                        </a:lnTo>
                        <a:lnTo>
                          <a:pt x="1057" y="1056"/>
                        </a:lnTo>
                        <a:lnTo>
                          <a:pt x="1045" y="1037"/>
                        </a:lnTo>
                        <a:lnTo>
                          <a:pt x="1035" y="1089"/>
                        </a:lnTo>
                        <a:lnTo>
                          <a:pt x="1023" y="1068"/>
                        </a:lnTo>
                        <a:lnTo>
                          <a:pt x="998" y="1076"/>
                        </a:lnTo>
                        <a:lnTo>
                          <a:pt x="993" y="1090"/>
                        </a:lnTo>
                        <a:lnTo>
                          <a:pt x="1005" y="1113"/>
                        </a:lnTo>
                        <a:lnTo>
                          <a:pt x="959" y="1115"/>
                        </a:lnTo>
                        <a:lnTo>
                          <a:pt x="975" y="1120"/>
                        </a:lnTo>
                        <a:lnTo>
                          <a:pt x="977" y="1143"/>
                        </a:lnTo>
                        <a:lnTo>
                          <a:pt x="987" y="1138"/>
                        </a:lnTo>
                        <a:lnTo>
                          <a:pt x="981" y="1153"/>
                        </a:lnTo>
                        <a:lnTo>
                          <a:pt x="961" y="1187"/>
                        </a:lnTo>
                        <a:lnTo>
                          <a:pt x="962" y="1171"/>
                        </a:lnTo>
                        <a:lnTo>
                          <a:pt x="948" y="1185"/>
                        </a:lnTo>
                        <a:lnTo>
                          <a:pt x="930" y="1165"/>
                        </a:lnTo>
                        <a:lnTo>
                          <a:pt x="934" y="1189"/>
                        </a:lnTo>
                        <a:lnTo>
                          <a:pt x="969" y="1192"/>
                        </a:lnTo>
                        <a:lnTo>
                          <a:pt x="954" y="1227"/>
                        </a:lnTo>
                        <a:lnTo>
                          <a:pt x="966" y="1296"/>
                        </a:lnTo>
                        <a:lnTo>
                          <a:pt x="997" y="1353"/>
                        </a:lnTo>
                        <a:lnTo>
                          <a:pt x="958" y="1355"/>
                        </a:lnTo>
                        <a:lnTo>
                          <a:pt x="918" y="1339"/>
                        </a:lnTo>
                        <a:lnTo>
                          <a:pt x="884" y="1340"/>
                        </a:lnTo>
                        <a:lnTo>
                          <a:pt x="836" y="1312"/>
                        </a:lnTo>
                        <a:lnTo>
                          <a:pt x="779" y="1291"/>
                        </a:lnTo>
                        <a:lnTo>
                          <a:pt x="772" y="1269"/>
                        </a:lnTo>
                        <a:lnTo>
                          <a:pt x="760" y="1236"/>
                        </a:lnTo>
                        <a:lnTo>
                          <a:pt x="741" y="1212"/>
                        </a:lnTo>
                        <a:lnTo>
                          <a:pt x="743" y="1187"/>
                        </a:lnTo>
                        <a:lnTo>
                          <a:pt x="733" y="1178"/>
                        </a:lnTo>
                        <a:lnTo>
                          <a:pt x="734" y="1143"/>
                        </a:lnTo>
                        <a:lnTo>
                          <a:pt x="699" y="1116"/>
                        </a:lnTo>
                        <a:lnTo>
                          <a:pt x="664" y="1063"/>
                        </a:lnTo>
                        <a:lnTo>
                          <a:pt x="603" y="928"/>
                        </a:lnTo>
                        <a:lnTo>
                          <a:pt x="557" y="893"/>
                        </a:lnTo>
                        <a:lnTo>
                          <a:pt x="543" y="862"/>
                        </a:lnTo>
                        <a:lnTo>
                          <a:pt x="503" y="857"/>
                        </a:lnTo>
                        <a:lnTo>
                          <a:pt x="471" y="852"/>
                        </a:lnTo>
                        <a:lnTo>
                          <a:pt x="441" y="839"/>
                        </a:lnTo>
                        <a:lnTo>
                          <a:pt x="432" y="852"/>
                        </a:lnTo>
                        <a:lnTo>
                          <a:pt x="402" y="852"/>
                        </a:lnTo>
                        <a:lnTo>
                          <a:pt x="374" y="917"/>
                        </a:lnTo>
                        <a:lnTo>
                          <a:pt x="344" y="944"/>
                        </a:lnTo>
                        <a:lnTo>
                          <a:pt x="326" y="944"/>
                        </a:lnTo>
                        <a:lnTo>
                          <a:pt x="273" y="902"/>
                        </a:lnTo>
                        <a:lnTo>
                          <a:pt x="250" y="896"/>
                        </a:lnTo>
                        <a:lnTo>
                          <a:pt x="198" y="850"/>
                        </a:lnTo>
                        <a:lnTo>
                          <a:pt x="185" y="812"/>
                        </a:lnTo>
                        <a:lnTo>
                          <a:pt x="185" y="774"/>
                        </a:lnTo>
                        <a:lnTo>
                          <a:pt x="161" y="721"/>
                        </a:lnTo>
                        <a:lnTo>
                          <a:pt x="118" y="687"/>
                        </a:lnTo>
                        <a:lnTo>
                          <a:pt x="60" y="613"/>
                        </a:lnTo>
                        <a:lnTo>
                          <a:pt x="39" y="601"/>
                        </a:lnTo>
                        <a:lnTo>
                          <a:pt x="24" y="563"/>
                        </a:lnTo>
                        <a:lnTo>
                          <a:pt x="8" y="557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0" name=""/>
                  <p:cNvSpPr/>
                  <p:nvPr/>
                </p:nvSpPr>
                <p:spPr>
                  <a:xfrm>
                    <a:off x="6360480" y="2989440"/>
                    <a:ext cx="853920" cy="45072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439">
                        <a:moveTo>
                          <a:pt x="0" y="438"/>
                        </a:moveTo>
                        <a:lnTo>
                          <a:pt x="73" y="391"/>
                        </a:lnTo>
                        <a:lnTo>
                          <a:pt x="73" y="380"/>
                        </a:lnTo>
                        <a:lnTo>
                          <a:pt x="98" y="349"/>
                        </a:lnTo>
                        <a:lnTo>
                          <a:pt x="123" y="331"/>
                        </a:lnTo>
                        <a:lnTo>
                          <a:pt x="150" y="298"/>
                        </a:lnTo>
                        <a:lnTo>
                          <a:pt x="179" y="331"/>
                        </a:lnTo>
                        <a:lnTo>
                          <a:pt x="215" y="314"/>
                        </a:lnTo>
                        <a:lnTo>
                          <a:pt x="229" y="325"/>
                        </a:lnTo>
                        <a:lnTo>
                          <a:pt x="251" y="314"/>
                        </a:lnTo>
                        <a:lnTo>
                          <a:pt x="264" y="296"/>
                        </a:lnTo>
                        <a:lnTo>
                          <a:pt x="303" y="289"/>
                        </a:lnTo>
                        <a:lnTo>
                          <a:pt x="324" y="262"/>
                        </a:lnTo>
                        <a:lnTo>
                          <a:pt x="313" y="255"/>
                        </a:lnTo>
                        <a:lnTo>
                          <a:pt x="349" y="172"/>
                        </a:lnTo>
                        <a:lnTo>
                          <a:pt x="357" y="130"/>
                        </a:lnTo>
                        <a:lnTo>
                          <a:pt x="392" y="147"/>
                        </a:lnTo>
                        <a:lnTo>
                          <a:pt x="411" y="98"/>
                        </a:lnTo>
                        <a:lnTo>
                          <a:pt x="428" y="95"/>
                        </a:lnTo>
                        <a:lnTo>
                          <a:pt x="455" y="49"/>
                        </a:lnTo>
                        <a:lnTo>
                          <a:pt x="462" y="0"/>
                        </a:lnTo>
                        <a:lnTo>
                          <a:pt x="517" y="31"/>
                        </a:lnTo>
                        <a:lnTo>
                          <a:pt x="526" y="5"/>
                        </a:lnTo>
                        <a:lnTo>
                          <a:pt x="552" y="11"/>
                        </a:lnTo>
                        <a:lnTo>
                          <a:pt x="567" y="32"/>
                        </a:lnTo>
                        <a:lnTo>
                          <a:pt x="591" y="43"/>
                        </a:lnTo>
                        <a:lnTo>
                          <a:pt x="602" y="58"/>
                        </a:lnTo>
                        <a:lnTo>
                          <a:pt x="600" y="72"/>
                        </a:lnTo>
                        <a:lnTo>
                          <a:pt x="584" y="100"/>
                        </a:lnTo>
                        <a:lnTo>
                          <a:pt x="591" y="119"/>
                        </a:lnTo>
                        <a:lnTo>
                          <a:pt x="610" y="111"/>
                        </a:lnTo>
                        <a:lnTo>
                          <a:pt x="618" y="125"/>
                        </a:lnTo>
                        <a:lnTo>
                          <a:pt x="626" y="132"/>
                        </a:lnTo>
                        <a:lnTo>
                          <a:pt x="660" y="134"/>
                        </a:lnTo>
                        <a:lnTo>
                          <a:pt x="670" y="146"/>
                        </a:lnTo>
                        <a:lnTo>
                          <a:pt x="702" y="154"/>
                        </a:lnTo>
                        <a:lnTo>
                          <a:pt x="695" y="164"/>
                        </a:lnTo>
                        <a:lnTo>
                          <a:pt x="697" y="183"/>
                        </a:lnTo>
                        <a:lnTo>
                          <a:pt x="699" y="191"/>
                        </a:lnTo>
                        <a:lnTo>
                          <a:pt x="687" y="188"/>
                        </a:lnTo>
                        <a:lnTo>
                          <a:pt x="666" y="176"/>
                        </a:lnTo>
                        <a:lnTo>
                          <a:pt x="631" y="153"/>
                        </a:lnTo>
                        <a:lnTo>
                          <a:pt x="679" y="198"/>
                        </a:lnTo>
                        <a:lnTo>
                          <a:pt x="704" y="199"/>
                        </a:lnTo>
                        <a:lnTo>
                          <a:pt x="691" y="206"/>
                        </a:lnTo>
                        <a:lnTo>
                          <a:pt x="716" y="218"/>
                        </a:lnTo>
                        <a:lnTo>
                          <a:pt x="715" y="228"/>
                        </a:lnTo>
                        <a:lnTo>
                          <a:pt x="706" y="220"/>
                        </a:lnTo>
                        <a:lnTo>
                          <a:pt x="696" y="221"/>
                        </a:lnTo>
                        <a:lnTo>
                          <a:pt x="698" y="229"/>
                        </a:lnTo>
                        <a:lnTo>
                          <a:pt x="706" y="236"/>
                        </a:lnTo>
                        <a:lnTo>
                          <a:pt x="696" y="241"/>
                        </a:lnTo>
                        <a:lnTo>
                          <a:pt x="670" y="222"/>
                        </a:lnTo>
                        <a:lnTo>
                          <a:pt x="658" y="212"/>
                        </a:lnTo>
                        <a:lnTo>
                          <a:pt x="665" y="225"/>
                        </a:lnTo>
                        <a:lnTo>
                          <a:pt x="691" y="245"/>
                        </a:lnTo>
                        <a:lnTo>
                          <a:pt x="702" y="245"/>
                        </a:lnTo>
                        <a:lnTo>
                          <a:pt x="714" y="250"/>
                        </a:lnTo>
                        <a:lnTo>
                          <a:pt x="713" y="257"/>
                        </a:lnTo>
                        <a:lnTo>
                          <a:pt x="720" y="257"/>
                        </a:lnTo>
                        <a:lnTo>
                          <a:pt x="721" y="263"/>
                        </a:lnTo>
                        <a:lnTo>
                          <a:pt x="711" y="271"/>
                        </a:lnTo>
                        <a:lnTo>
                          <a:pt x="691" y="263"/>
                        </a:lnTo>
                        <a:lnTo>
                          <a:pt x="685" y="253"/>
                        </a:lnTo>
                        <a:lnTo>
                          <a:pt x="660" y="250"/>
                        </a:lnTo>
                        <a:lnTo>
                          <a:pt x="655" y="242"/>
                        </a:lnTo>
                        <a:lnTo>
                          <a:pt x="646" y="252"/>
                        </a:lnTo>
                        <a:lnTo>
                          <a:pt x="681" y="261"/>
                        </a:lnTo>
                        <a:lnTo>
                          <a:pt x="683" y="269"/>
                        </a:lnTo>
                        <a:lnTo>
                          <a:pt x="711" y="283"/>
                        </a:lnTo>
                        <a:lnTo>
                          <a:pt x="721" y="283"/>
                        </a:lnTo>
                        <a:lnTo>
                          <a:pt x="723" y="273"/>
                        </a:lnTo>
                        <a:lnTo>
                          <a:pt x="734" y="276"/>
                        </a:lnTo>
                        <a:lnTo>
                          <a:pt x="753" y="274"/>
                        </a:lnTo>
                        <a:lnTo>
                          <a:pt x="775" y="314"/>
                        </a:lnTo>
                        <a:lnTo>
                          <a:pt x="761" y="307"/>
                        </a:lnTo>
                        <a:lnTo>
                          <a:pt x="757" y="320"/>
                        </a:lnTo>
                        <a:lnTo>
                          <a:pt x="451" y="378"/>
                        </a:lnTo>
                        <a:lnTo>
                          <a:pt x="200" y="411"/>
                        </a:lnTo>
                        <a:lnTo>
                          <a:pt x="0" y="438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1" name=""/>
                  <p:cNvSpPr/>
                  <p:nvPr/>
                </p:nvSpPr>
                <p:spPr>
                  <a:xfrm>
                    <a:off x="6444000" y="2871360"/>
                    <a:ext cx="496080" cy="459000"/>
                  </a:xfrm>
                  <a:custGeom>
                    <a:avLst/>
                    <a:gdLst/>
                    <a:ahLst/>
                    <a:rect l="l" t="t" r="r" b="b"/>
                    <a:pathLst>
                      <a:path w="451" h="447">
                        <a:moveTo>
                          <a:pt x="0" y="309"/>
                        </a:moveTo>
                        <a:lnTo>
                          <a:pt x="18" y="370"/>
                        </a:lnTo>
                        <a:lnTo>
                          <a:pt x="37" y="392"/>
                        </a:lnTo>
                        <a:lnTo>
                          <a:pt x="74" y="413"/>
                        </a:lnTo>
                        <a:lnTo>
                          <a:pt x="103" y="446"/>
                        </a:lnTo>
                        <a:lnTo>
                          <a:pt x="139" y="429"/>
                        </a:lnTo>
                        <a:lnTo>
                          <a:pt x="153" y="440"/>
                        </a:lnTo>
                        <a:lnTo>
                          <a:pt x="175" y="429"/>
                        </a:lnTo>
                        <a:lnTo>
                          <a:pt x="188" y="411"/>
                        </a:lnTo>
                        <a:lnTo>
                          <a:pt x="227" y="404"/>
                        </a:lnTo>
                        <a:lnTo>
                          <a:pt x="248" y="377"/>
                        </a:lnTo>
                        <a:lnTo>
                          <a:pt x="237" y="370"/>
                        </a:lnTo>
                        <a:lnTo>
                          <a:pt x="273" y="287"/>
                        </a:lnTo>
                        <a:lnTo>
                          <a:pt x="281" y="245"/>
                        </a:lnTo>
                        <a:lnTo>
                          <a:pt x="316" y="262"/>
                        </a:lnTo>
                        <a:lnTo>
                          <a:pt x="335" y="213"/>
                        </a:lnTo>
                        <a:lnTo>
                          <a:pt x="352" y="210"/>
                        </a:lnTo>
                        <a:lnTo>
                          <a:pt x="379" y="164"/>
                        </a:lnTo>
                        <a:lnTo>
                          <a:pt x="386" y="115"/>
                        </a:lnTo>
                        <a:lnTo>
                          <a:pt x="441" y="146"/>
                        </a:lnTo>
                        <a:lnTo>
                          <a:pt x="450" y="120"/>
                        </a:lnTo>
                        <a:lnTo>
                          <a:pt x="436" y="101"/>
                        </a:lnTo>
                        <a:lnTo>
                          <a:pt x="411" y="89"/>
                        </a:lnTo>
                        <a:lnTo>
                          <a:pt x="381" y="93"/>
                        </a:lnTo>
                        <a:lnTo>
                          <a:pt x="371" y="110"/>
                        </a:lnTo>
                        <a:lnTo>
                          <a:pt x="317" y="125"/>
                        </a:lnTo>
                        <a:lnTo>
                          <a:pt x="283" y="166"/>
                        </a:lnTo>
                        <a:lnTo>
                          <a:pt x="271" y="101"/>
                        </a:lnTo>
                        <a:lnTo>
                          <a:pt x="174" y="117"/>
                        </a:lnTo>
                        <a:lnTo>
                          <a:pt x="155" y="0"/>
                        </a:lnTo>
                        <a:lnTo>
                          <a:pt x="141" y="10"/>
                        </a:lnTo>
                        <a:lnTo>
                          <a:pt x="150" y="32"/>
                        </a:lnTo>
                        <a:lnTo>
                          <a:pt x="137" y="136"/>
                        </a:lnTo>
                        <a:lnTo>
                          <a:pt x="120" y="158"/>
                        </a:lnTo>
                        <a:lnTo>
                          <a:pt x="67" y="198"/>
                        </a:lnTo>
                        <a:lnTo>
                          <a:pt x="57" y="242"/>
                        </a:lnTo>
                        <a:lnTo>
                          <a:pt x="37" y="230"/>
                        </a:lnTo>
                        <a:lnTo>
                          <a:pt x="31" y="282"/>
                        </a:lnTo>
                        <a:lnTo>
                          <a:pt x="0" y="309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>
                    <a:off x="7433280" y="4764960"/>
                    <a:ext cx="213480" cy="7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94" h="69">
                        <a:moveTo>
                          <a:pt x="12" y="0"/>
                        </a:moveTo>
                        <a:lnTo>
                          <a:pt x="22" y="0"/>
                        </a:lnTo>
                        <a:lnTo>
                          <a:pt x="28" y="0"/>
                        </a:lnTo>
                        <a:lnTo>
                          <a:pt x="35" y="2"/>
                        </a:lnTo>
                        <a:lnTo>
                          <a:pt x="48" y="2"/>
                        </a:lnTo>
                        <a:lnTo>
                          <a:pt x="51" y="1"/>
                        </a:lnTo>
                        <a:lnTo>
                          <a:pt x="64" y="3"/>
                        </a:lnTo>
                        <a:lnTo>
                          <a:pt x="70" y="1"/>
                        </a:lnTo>
                        <a:lnTo>
                          <a:pt x="74" y="2"/>
                        </a:lnTo>
                        <a:lnTo>
                          <a:pt x="79" y="1"/>
                        </a:lnTo>
                        <a:lnTo>
                          <a:pt x="90" y="3"/>
                        </a:lnTo>
                        <a:lnTo>
                          <a:pt x="97" y="0"/>
                        </a:lnTo>
                        <a:lnTo>
                          <a:pt x="112" y="2"/>
                        </a:lnTo>
                        <a:lnTo>
                          <a:pt x="123" y="2"/>
                        </a:lnTo>
                        <a:lnTo>
                          <a:pt x="124" y="2"/>
                        </a:lnTo>
                        <a:lnTo>
                          <a:pt x="126" y="3"/>
                        </a:lnTo>
                        <a:lnTo>
                          <a:pt x="129" y="3"/>
                        </a:lnTo>
                        <a:lnTo>
                          <a:pt x="133" y="6"/>
                        </a:lnTo>
                        <a:lnTo>
                          <a:pt x="137" y="6"/>
                        </a:lnTo>
                        <a:lnTo>
                          <a:pt x="145" y="10"/>
                        </a:lnTo>
                        <a:lnTo>
                          <a:pt x="145" y="9"/>
                        </a:lnTo>
                        <a:lnTo>
                          <a:pt x="142" y="6"/>
                        </a:lnTo>
                        <a:lnTo>
                          <a:pt x="139" y="6"/>
                        </a:lnTo>
                        <a:lnTo>
                          <a:pt x="131" y="3"/>
                        </a:lnTo>
                        <a:lnTo>
                          <a:pt x="134" y="2"/>
                        </a:lnTo>
                        <a:lnTo>
                          <a:pt x="137" y="4"/>
                        </a:lnTo>
                        <a:lnTo>
                          <a:pt x="143" y="4"/>
                        </a:lnTo>
                        <a:lnTo>
                          <a:pt x="145" y="3"/>
                        </a:lnTo>
                        <a:lnTo>
                          <a:pt x="148" y="3"/>
                        </a:lnTo>
                        <a:lnTo>
                          <a:pt x="148" y="4"/>
                        </a:lnTo>
                        <a:lnTo>
                          <a:pt x="151" y="4"/>
                        </a:lnTo>
                        <a:lnTo>
                          <a:pt x="151" y="3"/>
                        </a:lnTo>
                        <a:lnTo>
                          <a:pt x="156" y="4"/>
                        </a:lnTo>
                        <a:lnTo>
                          <a:pt x="158" y="3"/>
                        </a:lnTo>
                        <a:lnTo>
                          <a:pt x="161" y="5"/>
                        </a:lnTo>
                        <a:lnTo>
                          <a:pt x="165" y="5"/>
                        </a:lnTo>
                        <a:lnTo>
                          <a:pt x="168" y="7"/>
                        </a:lnTo>
                        <a:lnTo>
                          <a:pt x="170" y="7"/>
                        </a:lnTo>
                        <a:lnTo>
                          <a:pt x="170" y="9"/>
                        </a:lnTo>
                        <a:lnTo>
                          <a:pt x="172" y="9"/>
                        </a:lnTo>
                        <a:lnTo>
                          <a:pt x="172" y="10"/>
                        </a:lnTo>
                        <a:lnTo>
                          <a:pt x="176" y="11"/>
                        </a:lnTo>
                        <a:lnTo>
                          <a:pt x="177" y="11"/>
                        </a:lnTo>
                        <a:lnTo>
                          <a:pt x="180" y="13"/>
                        </a:lnTo>
                        <a:lnTo>
                          <a:pt x="184" y="14"/>
                        </a:lnTo>
                        <a:lnTo>
                          <a:pt x="186" y="12"/>
                        </a:lnTo>
                        <a:lnTo>
                          <a:pt x="187" y="12"/>
                        </a:lnTo>
                        <a:lnTo>
                          <a:pt x="191" y="10"/>
                        </a:lnTo>
                        <a:lnTo>
                          <a:pt x="190" y="13"/>
                        </a:lnTo>
                        <a:lnTo>
                          <a:pt x="189" y="15"/>
                        </a:lnTo>
                        <a:lnTo>
                          <a:pt x="190" y="17"/>
                        </a:lnTo>
                        <a:lnTo>
                          <a:pt x="190" y="19"/>
                        </a:lnTo>
                        <a:lnTo>
                          <a:pt x="190" y="22"/>
                        </a:lnTo>
                        <a:lnTo>
                          <a:pt x="189" y="22"/>
                        </a:lnTo>
                        <a:lnTo>
                          <a:pt x="190" y="23"/>
                        </a:lnTo>
                        <a:lnTo>
                          <a:pt x="189" y="25"/>
                        </a:lnTo>
                        <a:lnTo>
                          <a:pt x="190" y="26"/>
                        </a:lnTo>
                        <a:lnTo>
                          <a:pt x="191" y="26"/>
                        </a:lnTo>
                        <a:lnTo>
                          <a:pt x="193" y="29"/>
                        </a:lnTo>
                        <a:lnTo>
                          <a:pt x="191" y="32"/>
                        </a:lnTo>
                        <a:lnTo>
                          <a:pt x="189" y="29"/>
                        </a:lnTo>
                        <a:lnTo>
                          <a:pt x="190" y="33"/>
                        </a:lnTo>
                        <a:lnTo>
                          <a:pt x="188" y="34"/>
                        </a:lnTo>
                        <a:lnTo>
                          <a:pt x="185" y="34"/>
                        </a:lnTo>
                        <a:lnTo>
                          <a:pt x="181" y="34"/>
                        </a:lnTo>
                        <a:lnTo>
                          <a:pt x="181" y="36"/>
                        </a:lnTo>
                        <a:lnTo>
                          <a:pt x="179" y="36"/>
                        </a:lnTo>
                        <a:lnTo>
                          <a:pt x="175" y="38"/>
                        </a:lnTo>
                        <a:lnTo>
                          <a:pt x="172" y="42"/>
                        </a:lnTo>
                        <a:lnTo>
                          <a:pt x="172" y="44"/>
                        </a:lnTo>
                        <a:lnTo>
                          <a:pt x="170" y="48"/>
                        </a:lnTo>
                        <a:lnTo>
                          <a:pt x="170" y="51"/>
                        </a:lnTo>
                        <a:lnTo>
                          <a:pt x="168" y="51"/>
                        </a:lnTo>
                        <a:lnTo>
                          <a:pt x="168" y="53"/>
                        </a:lnTo>
                        <a:lnTo>
                          <a:pt x="167" y="55"/>
                        </a:lnTo>
                        <a:lnTo>
                          <a:pt x="165" y="55"/>
                        </a:lnTo>
                        <a:lnTo>
                          <a:pt x="158" y="60"/>
                        </a:lnTo>
                        <a:lnTo>
                          <a:pt x="151" y="61"/>
                        </a:lnTo>
                        <a:lnTo>
                          <a:pt x="145" y="61"/>
                        </a:lnTo>
                        <a:lnTo>
                          <a:pt x="142" y="63"/>
                        </a:lnTo>
                        <a:lnTo>
                          <a:pt x="139" y="62"/>
                        </a:lnTo>
                        <a:lnTo>
                          <a:pt x="133" y="65"/>
                        </a:lnTo>
                        <a:lnTo>
                          <a:pt x="128" y="67"/>
                        </a:lnTo>
                        <a:lnTo>
                          <a:pt x="126" y="67"/>
                        </a:lnTo>
                        <a:lnTo>
                          <a:pt x="123" y="67"/>
                        </a:lnTo>
                        <a:lnTo>
                          <a:pt x="125" y="65"/>
                        </a:lnTo>
                        <a:lnTo>
                          <a:pt x="126" y="65"/>
                        </a:lnTo>
                        <a:lnTo>
                          <a:pt x="124" y="64"/>
                        </a:lnTo>
                        <a:lnTo>
                          <a:pt x="122" y="64"/>
                        </a:lnTo>
                        <a:lnTo>
                          <a:pt x="122" y="65"/>
                        </a:lnTo>
                        <a:lnTo>
                          <a:pt x="122" y="67"/>
                        </a:lnTo>
                        <a:lnTo>
                          <a:pt x="118" y="65"/>
                        </a:lnTo>
                        <a:lnTo>
                          <a:pt x="116" y="67"/>
                        </a:lnTo>
                        <a:lnTo>
                          <a:pt x="114" y="65"/>
                        </a:lnTo>
                        <a:lnTo>
                          <a:pt x="113" y="65"/>
                        </a:lnTo>
                        <a:lnTo>
                          <a:pt x="110" y="63"/>
                        </a:lnTo>
                        <a:lnTo>
                          <a:pt x="107" y="62"/>
                        </a:lnTo>
                        <a:lnTo>
                          <a:pt x="103" y="65"/>
                        </a:lnTo>
                        <a:lnTo>
                          <a:pt x="102" y="65"/>
                        </a:lnTo>
                        <a:lnTo>
                          <a:pt x="94" y="62"/>
                        </a:lnTo>
                        <a:lnTo>
                          <a:pt x="89" y="59"/>
                        </a:lnTo>
                        <a:lnTo>
                          <a:pt x="82" y="63"/>
                        </a:lnTo>
                        <a:lnTo>
                          <a:pt x="77" y="64"/>
                        </a:lnTo>
                        <a:lnTo>
                          <a:pt x="72" y="63"/>
                        </a:lnTo>
                        <a:lnTo>
                          <a:pt x="70" y="62"/>
                        </a:lnTo>
                        <a:lnTo>
                          <a:pt x="66" y="63"/>
                        </a:lnTo>
                        <a:lnTo>
                          <a:pt x="61" y="60"/>
                        </a:lnTo>
                        <a:lnTo>
                          <a:pt x="60" y="60"/>
                        </a:lnTo>
                        <a:lnTo>
                          <a:pt x="58" y="63"/>
                        </a:lnTo>
                        <a:lnTo>
                          <a:pt x="57" y="62"/>
                        </a:lnTo>
                        <a:lnTo>
                          <a:pt x="58" y="60"/>
                        </a:lnTo>
                        <a:lnTo>
                          <a:pt x="54" y="59"/>
                        </a:lnTo>
                        <a:lnTo>
                          <a:pt x="51" y="61"/>
                        </a:lnTo>
                        <a:lnTo>
                          <a:pt x="51" y="62"/>
                        </a:lnTo>
                        <a:lnTo>
                          <a:pt x="55" y="61"/>
                        </a:lnTo>
                        <a:lnTo>
                          <a:pt x="51" y="64"/>
                        </a:lnTo>
                        <a:lnTo>
                          <a:pt x="48" y="65"/>
                        </a:lnTo>
                        <a:lnTo>
                          <a:pt x="46" y="65"/>
                        </a:lnTo>
                        <a:lnTo>
                          <a:pt x="45" y="67"/>
                        </a:lnTo>
                        <a:lnTo>
                          <a:pt x="41" y="65"/>
                        </a:lnTo>
                        <a:lnTo>
                          <a:pt x="38" y="63"/>
                        </a:lnTo>
                        <a:lnTo>
                          <a:pt x="38" y="65"/>
                        </a:lnTo>
                        <a:lnTo>
                          <a:pt x="38" y="68"/>
                        </a:lnTo>
                        <a:lnTo>
                          <a:pt x="34" y="68"/>
                        </a:lnTo>
                        <a:lnTo>
                          <a:pt x="30" y="64"/>
                        </a:lnTo>
                        <a:lnTo>
                          <a:pt x="26" y="62"/>
                        </a:lnTo>
                        <a:lnTo>
                          <a:pt x="22" y="63"/>
                        </a:lnTo>
                        <a:lnTo>
                          <a:pt x="19" y="65"/>
                        </a:lnTo>
                        <a:lnTo>
                          <a:pt x="17" y="67"/>
                        </a:lnTo>
                        <a:lnTo>
                          <a:pt x="12" y="65"/>
                        </a:lnTo>
                        <a:lnTo>
                          <a:pt x="10" y="65"/>
                        </a:lnTo>
                        <a:lnTo>
                          <a:pt x="9" y="67"/>
                        </a:lnTo>
                        <a:lnTo>
                          <a:pt x="7" y="68"/>
                        </a:lnTo>
                        <a:lnTo>
                          <a:pt x="7" y="65"/>
                        </a:lnTo>
                        <a:lnTo>
                          <a:pt x="6" y="65"/>
                        </a:lnTo>
                        <a:lnTo>
                          <a:pt x="6" y="62"/>
                        </a:lnTo>
                        <a:lnTo>
                          <a:pt x="7" y="59"/>
                        </a:lnTo>
                        <a:lnTo>
                          <a:pt x="11" y="59"/>
                        </a:lnTo>
                        <a:lnTo>
                          <a:pt x="7" y="57"/>
                        </a:lnTo>
                        <a:lnTo>
                          <a:pt x="6" y="56"/>
                        </a:lnTo>
                        <a:lnTo>
                          <a:pt x="6" y="53"/>
                        </a:lnTo>
                        <a:lnTo>
                          <a:pt x="8" y="51"/>
                        </a:lnTo>
                        <a:lnTo>
                          <a:pt x="7" y="50"/>
                        </a:lnTo>
                        <a:lnTo>
                          <a:pt x="9" y="48"/>
                        </a:lnTo>
                        <a:lnTo>
                          <a:pt x="8" y="44"/>
                        </a:lnTo>
                        <a:lnTo>
                          <a:pt x="8" y="42"/>
                        </a:lnTo>
                        <a:lnTo>
                          <a:pt x="8" y="40"/>
                        </a:lnTo>
                        <a:lnTo>
                          <a:pt x="10" y="38"/>
                        </a:lnTo>
                        <a:lnTo>
                          <a:pt x="11" y="35"/>
                        </a:lnTo>
                        <a:lnTo>
                          <a:pt x="10" y="33"/>
                        </a:lnTo>
                        <a:lnTo>
                          <a:pt x="7" y="27"/>
                        </a:lnTo>
                        <a:lnTo>
                          <a:pt x="5" y="25"/>
                        </a:lnTo>
                        <a:lnTo>
                          <a:pt x="2" y="23"/>
                        </a:lnTo>
                        <a:lnTo>
                          <a:pt x="1" y="19"/>
                        </a:lnTo>
                        <a:lnTo>
                          <a:pt x="0" y="19"/>
                        </a:lnTo>
                        <a:lnTo>
                          <a:pt x="0" y="17"/>
                        </a:lnTo>
                        <a:lnTo>
                          <a:pt x="1" y="15"/>
                        </a:lnTo>
                        <a:lnTo>
                          <a:pt x="4" y="15"/>
                        </a:lnTo>
                        <a:lnTo>
                          <a:pt x="9" y="12"/>
                        </a:lnTo>
                        <a:lnTo>
                          <a:pt x="11" y="10"/>
                        </a:lnTo>
                        <a:lnTo>
                          <a:pt x="10" y="4"/>
                        </a:lnTo>
                        <a:lnTo>
                          <a:pt x="11" y="0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25200" bIns="252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194960" y="3138480"/>
                    <a:ext cx="47160" cy="123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121">
                        <a:moveTo>
                          <a:pt x="0" y="0"/>
                        </a:moveTo>
                        <a:lnTo>
                          <a:pt x="0" y="18"/>
                        </a:lnTo>
                        <a:lnTo>
                          <a:pt x="0" y="36"/>
                        </a:lnTo>
                        <a:lnTo>
                          <a:pt x="0" y="54"/>
                        </a:lnTo>
                        <a:lnTo>
                          <a:pt x="0" y="72"/>
                        </a:lnTo>
                        <a:lnTo>
                          <a:pt x="0" y="90"/>
                        </a:lnTo>
                        <a:lnTo>
                          <a:pt x="6" y="108"/>
                        </a:lnTo>
                        <a:lnTo>
                          <a:pt x="24" y="120"/>
                        </a:lnTo>
                        <a:lnTo>
                          <a:pt x="36" y="102"/>
                        </a:lnTo>
                        <a:lnTo>
                          <a:pt x="36" y="84"/>
                        </a:lnTo>
                        <a:lnTo>
                          <a:pt x="30" y="66"/>
                        </a:lnTo>
                        <a:lnTo>
                          <a:pt x="42" y="48"/>
                        </a:lnTo>
                        <a:lnTo>
                          <a:pt x="30" y="30"/>
                        </a:lnTo>
                        <a:lnTo>
                          <a:pt x="30" y="12"/>
                        </a:lnTo>
                      </a:path>
                    </a:pathLst>
                  </a:custGeom>
                  <a:solidFill>
                    <a:srgbClr val="ff9933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494" name=""/>
            <p:cNvSpPr/>
            <p:nvPr/>
          </p:nvSpPr>
          <p:spPr>
            <a:xfrm>
              <a:off x="5184720" y="3728880"/>
              <a:ext cx="577800" cy="344880"/>
            </a:xfrm>
            <a:prstGeom prst="flowChartConnector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1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5" name=""/>
          <p:cNvGraphicFramePr/>
          <p:nvPr/>
        </p:nvGraphicFramePr>
        <p:xfrm>
          <a:off x="2819520" y="5334120"/>
          <a:ext cx="4572000" cy="99036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Request for Proposal Issuanc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3399"/>
                          </a:solidFill>
                          <a:uFillTx/>
                          <a:latin typeface="Times New Roman"/>
                        </a:rPr>
                        <a:t>Award Dat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September 200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89B1-90BE-4939-B359-9600EEFDA1D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Acquisition Schedule for MAC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Three Cyc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tart-up acquisi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4 DME MACs, 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1 Primary A/B M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7 Primary A/B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7 Primary A/B MACs and 4 Home Health/ Hospice MA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3D29-5E7F-4FC1-BAB0-5D8C68423DA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Recent Activiti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DME MAC procurement was launched February 8, 2005 with the release of a Request for Information (RFI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AC Jurisdictional Maps released February 22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ublic Meetings held February 25,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orning:  Town Hall Meeting on Report to Congr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Afternoon:  Open Door Forum on DME MAC R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imary A/B MAC procurement was launched       February 25, 2005 with release of  a RF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8F98-DADA-4BFC-A94A-A270AFBFDE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CLOSING COMMENT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Look for updates on Medicare contracting reform and notifications of meetings on the Medicare Contracting Reform Websit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ms.hhs.gov/medicarereform/contractingrefo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We would appreciate any comments you have about this information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Please submit comments/questions on the discussion to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ection911@cms.hhs.gov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E0A0-06FC-417B-A197-DA14751552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Questions or Considerations for the Council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50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spects of the existing Medicare contractor operational environment do you valu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mprovement in physicians' interaction with the Medicare FFS program would you consider most important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you experienced services in dealing with other health insurers that you consider "best practices" and would recommend CMS consider requiring of M.A.C.?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5EB-2067-49E2-A73E-09072CB5A0E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Medicare Contracting Reform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2590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3399"/>
                </a:solidFill>
                <a:latin typeface="Berlin Sans FB"/>
              </a:rPr>
              <a:t>OVERVIEW OF FUTURE CONTRACTING REFORM 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286-FDC5-4CFD-8D60-564A9AC1C1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550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cms.hhs.gov/medicarereform/contractingreform</a:t>
            </a:r>
            <a:r>
              <a:rPr b="0" lang="en-US" sz="2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/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90A8-2A69-41A4-9EDD-6C6A6BEBBF8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om Gustafs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(410) 786-05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TGustafson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6F5F-83C4-4B65-BA47-E603B2C404D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GOALS OF MEDICARE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 FEE-FOR-SERVICE </a:t>
            </a:r>
            <a:br>
              <a:rPr sz="3200"/>
            </a:b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CONTRACTING REFORM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vide flexibility to CMS and its contractors to work together more effectively and better adapt to changes in the Medicare progr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mote competition, leading to more efficiency and greater accountabi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Establish better coordination and communication between CMS, contractors and provi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romote CMS’ ability to negotiate incentives to reward Medicare contractors that perform we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4B59-259C-4F59-A5DE-C734C2BD82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Times New Roman"/>
              </a:rPr>
              <a:t>MEDICARE MODERNIZATION ACT, SECTION 911: MEDICARE CONTRACTING REFORM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tegrates Medicare Part A and B contractors into a new single authority, Medicare Administrative Contractors (MAC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Federal Acquisition Regulation applies to MAC contract acquisit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6 years (10/2005-10/2011) for CMS to competitively bid and transition all Medicare FFS contract workloa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AC contracts must be recompeted every 5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751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MS must consult with providers, organizations representing beneficiaries, and contractors on performance require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CFD0-A9B0-4F39-858D-3B76CA48C7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REPORT TO CONGRESS (RTC)</a:t>
            </a: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Medicare Contracting Reform:  A Blue Print for a Better Medicar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Describes steps the Secretary intends to take to implement the MAC authority, resources and funding (including associated savings from this implementation), and key accomplishments to date of report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Signed by HHS Secretary Michael O. Leavitt and released on February 7, 2005. 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Times New Roman"/>
              </a:rPr>
              <a:t>Is available on CMS’ Medicare Contracting Reform website at: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  </a:t>
            </a:r>
            <a:r>
              <a:rPr b="0" i="1" lang="en-US" sz="2000" spc="-1" strike="noStrike">
                <a:solidFill>
                  <a:srgbClr val="003399"/>
                </a:solidFill>
                <a:latin typeface="Times New Roman"/>
              </a:rPr>
              <a:t>www.cms.hhs.gov/medicarereform/contractingreform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250A-593B-493E-A39A-F47F7FE6C7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Overview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430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MS’ mission is to ensure health care security for its beneficiar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early 36 million, (86%) of Medicare beneficiaries receive benefits through Medicare fee-for-service (FF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tion 911 of MMA, Medicare Contracting Reform, mandates several important changes to Medicare’s administrative structure that will make contracting dynamic, competitive, and performance-based, and will result in better program administratio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In addition section 911 provisions, CMS is pursuing other administrative initiatives to ensure the program is more responsive to the needs of its beneficiaries and health care provider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Number of restrictions and weaknesses in the current system hamper Medicare’s ability to deliver more efficient and effective service and meet future programmatic challen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B02C-B598-401C-9CD7-0519CC4ADFE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Future Vision for Original Medicare Administration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94920" y="2057040"/>
            <a:ext cx="7543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Medicare fee-for-service will be a premier health plan that allows for comprehensive, quality care and world-class beneficiary and provider servi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Beneficiaries will have a single point-of-contact connecting them to a seamless operations network for meeting their information need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Providers will have a single point-of-contact, the MACs, for conducting all claims-related business and obtaining information on behalf of pati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MS will achieve more comprehensive care for beneficiaries by integrating claims processing for Medicare Parts A and B, and creating a modernized administrative IT platform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2DCD-B2DE-428A-BC02-B2DD66CFD2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Benefits to Physicia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Medicare Contracting Reform will bring improved provider education and training, especially for small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Single Primary A/B MAC simplifies interfacing needs for claims process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Competition to select MACs will encourage them to deliver better service to provi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Increased focus by MACs on financial management will mean increased payment accuracy and consistency in payment decisio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15800" indent="-415800">
              <a:lnSpc>
                <a:spcPct val="80000"/>
              </a:lnSpc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Times New Roman"/>
              </a:rPr>
              <a:t>Providers will have input in contractor evaluation through satisfaction survey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A2F5-8974-49DD-9391-B5D7BD5181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imes New Roman"/>
              </a:rPr>
              <a:t>Local Medical Review Policies (LMRPs)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MRPs are being converted  to Local Coverage Decisions (LCDs)  --- to be completed as of December 31, 2005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LCDs should be more streamlined, with minimal variance between polici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buClr>
                <a:srgbClr val="0033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Times New Roman"/>
              </a:rPr>
              <a:t>MACs will be expected to consolidate LCDs in a jurisdiction and educate providers, as necessary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6365-5CBB-47EE-82E0-CA14D7CB3F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5-03-04T19:52:39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88374704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