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C54F8-1F12-479C-BC23-F55019388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ACD93-215C-4C3F-A89E-B89E046FB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93282-E7FE-40D5-A63B-E7D9A2BF8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4255E-F5F6-41FF-8260-8972F4F35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943A6-FF2C-4F0E-9435-1F0FB3C9E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5FC0E-BB21-4028-B088-03A271C8E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9C05A-C59C-41D4-9319-5B5E4636F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D5C7E-88E3-48C6-8219-B8A4E19B6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8A62B-0CA6-431B-9F9E-276211E56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19A3E-8A11-442C-9A28-8CF034CCD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F46AF-CABC-4CDC-82D6-A320D9655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CEE91-0548-4C6A-B592-BB6BAA98D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0162B-1EDD-4C59-AEBC-D77545C42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C0DC0-506D-4D4E-B340-1E7F9B024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1BB98-9CEA-4B54-871B-794D72470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E521D-109E-4F39-BA85-3AD94C127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678DB-2F95-4929-8ECB-C76626BE5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E5F06-2233-466B-9064-5429326D9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C74EA-AB33-4494-A0B9-86D6B08D1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15A5D-BCBF-47FF-A51A-5EE27FD83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59E3F-1FDC-45E1-A360-B2CAEB546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60135-9191-4753-A59E-9128DA9B8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AE7CB-6F33-4425-AA10-CE512EBC9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7EDCD-2B84-41FB-8E89-F603878C2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ffffff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2FE4E-73C1-4D4D-9273-242F89A8386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ffffff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88A20-2B23-477D-8FE2-34769EF3236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mailto:slewis2@cms.hhs.gov" TargetMode="External"/><Relationship Id="rId2" Type="http://schemas.openxmlformats.org/officeDocument/2006/relationships/hyperlink" Target="mailto:rfritter@cms.hhs.gov" TargetMode="External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cms.hhs.gov/medlearn/matters/" TargetMode="Externa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ffffff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1066680" y="31240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Medicare Prescription Drug Covera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Provider Education &amp; Outreach Strateg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Suzanne Lewis and Robin Fritt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752480" y="4343400"/>
            <a:ext cx="64008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99"/>
                </a:solidFill>
                <a:latin typeface="Times New Roman"/>
              </a:rPr>
              <a:t>Practicing Physicians Advisory Counci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Times New Roman"/>
              </a:rPr>
              <a:t>March 7, 200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3416400" y="2058840"/>
          <a:ext cx="3657600" cy="18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16400" y="2058840"/>
                    <a:ext cx="3657600" cy="1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9" name=""/>
          <p:cNvGraphicFramePr/>
          <p:nvPr/>
        </p:nvGraphicFramePr>
        <p:xfrm>
          <a:off x="6781680" y="5791320"/>
          <a:ext cx="1676520" cy="811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81680" y="5791320"/>
                    <a:ext cx="1676520" cy="81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E2262-D909-4374-90A6-2F2004604A6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ffffff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Berlin Sans FB"/>
              </a:rPr>
              <a:t>Key Website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www.cms.hhs.gov/medicarereform/pdbma/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www.cms.hhs.gov/medlearn/drugcoverage.as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www.cms.hhs.gov/medlearn/matters/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www.cms.hhs.gov/mailinglis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www.cms.hhs.gov/partnerships/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www.medicare.gov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6781680" y="5791320"/>
          <a:ext cx="1676520" cy="81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81680" y="5791320"/>
                    <a:ext cx="1676520" cy="81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09D73-6462-49AC-BA5A-D310B9ED037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ffffff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Berlin Sans FB"/>
              </a:rPr>
              <a:t>Feedback Thus Far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No time to counsel patients on drug covera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Certain clinicians want to counsel pati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Front office staff/practice managers need inf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Information needed: basic to detailed level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Pharmacists need to know about progra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AF8F5-08E9-478E-AA50-68EE0DF01C0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ffffff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Berlin Sans FB"/>
              </a:rPr>
              <a:t>Questions for the Council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6666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Preferred source of information --Contractors, professional association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6666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What’s working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6666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Other ways we can get info to you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6781680" y="5791320"/>
          <a:ext cx="1676520" cy="81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81680" y="5791320"/>
                    <a:ext cx="1676520" cy="81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D1410-9B2C-4B6E-AF82-24C72260320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ffffff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Times New Roman"/>
              </a:rPr>
              <a:t>Contact Information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Suzanne Lew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410-786-763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slewis2@cms.hhs.go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Robin Frit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410-786-7485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rfritter@cms.hhs.go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6781680" y="5791320"/>
          <a:ext cx="1676520" cy="811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81680" y="5791320"/>
                    <a:ext cx="1676520" cy="81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835FB-7B59-4023-971F-FD0ABCEDDAC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ffffff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Berlin Sans FB"/>
              </a:rPr>
              <a:t>Outlin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70000" y="2133360"/>
            <a:ext cx="7772400" cy="39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Medicare Prescription Drug Covera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Provider Education &amp; Outreach Campaig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Questions for Counci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6781680" y="5791320"/>
          <a:ext cx="1676520" cy="81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81680" y="5791320"/>
                    <a:ext cx="1676520" cy="81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33CF3-0193-45E1-A931-38537719C8D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ffffff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Berlin Sans FB"/>
              </a:rPr>
              <a:t>Medicare Prescription Drug Coverage</a:t>
            </a:r>
            <a:endParaRPr b="0" lang="en-US" sz="3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Effective January 1, 2006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Prescription drug cost assista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Patients will seek guidance and inform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Physicians influence patients’ choi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Teachable mom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6781680" y="5791320"/>
          <a:ext cx="1676520" cy="81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81680" y="5791320"/>
                    <a:ext cx="1676520" cy="81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EAC6D-B523-4806-98D2-DFD6B5C1BB4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ffffff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Berlin Sans FB"/>
              </a:rPr>
              <a:t>Provider Education &amp; Outreach Campaign</a:t>
            </a:r>
            <a:br>
              <a:rPr sz="3200"/>
            </a:br>
            <a:r>
              <a:rPr b="0" lang="en-US" sz="3200" spc="-1" strike="noStrike">
                <a:solidFill>
                  <a:srgbClr val="3333ff"/>
                </a:solidFill>
                <a:latin typeface="Berlin Sans FB"/>
              </a:rPr>
              <a:t>Provider Audiences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Physicians &amp; other Health Care Professiona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Pharmacies, Pharmacists &amp; other Pharmacy Professiona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Clinicians &amp; associated staff at Institutional Provider Fac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9B79A-A126-48F4-AFFA-BB8BD122A80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ffffff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Berlin Sans FB"/>
              </a:rPr>
              <a:t>Provider Education &amp; Outreach Campaign</a:t>
            </a:r>
            <a:br>
              <a:rPr sz="3200"/>
            </a:br>
            <a:r>
              <a:rPr b="0" lang="en-US" sz="3200" spc="-1" strike="noStrike">
                <a:solidFill>
                  <a:srgbClr val="3333ff"/>
                </a:solidFill>
                <a:latin typeface="Berlin Sans FB"/>
              </a:rPr>
              <a:t>Comprehensive three-tiered approach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Central Office – National Outreach, National Associ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Regional Offices – State &amp; Local Medical Societies &amp; Associ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FFS Contractors – Individual provid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6781680" y="5791320"/>
          <a:ext cx="1676520" cy="81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81680" y="5791320"/>
                    <a:ext cx="1676520" cy="81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ADF42-5BD7-4250-ABE8-DB5A08C07D6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ffffff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Berlin Sans FB"/>
              </a:rPr>
              <a:t>Provider Education &amp; Outreach Campaign</a:t>
            </a:r>
            <a:r>
              <a:rPr b="0" lang="en-US" sz="4000" spc="-1" strike="noStrike">
                <a:solidFill>
                  <a:srgbClr val="003399"/>
                </a:solidFill>
                <a:latin typeface="Berlin Sans FB"/>
              </a:rPr>
              <a:t> </a:t>
            </a:r>
            <a:r>
              <a:rPr b="0" lang="en-US" sz="3200" spc="-1" strike="noStrike">
                <a:solidFill>
                  <a:srgbClr val="003399"/>
                </a:solidFill>
                <a:latin typeface="Berlin Sans FB"/>
              </a:rPr>
              <a:t>Educational Products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ff"/>
                </a:solidFill>
                <a:latin typeface="Times New Roman"/>
              </a:rPr>
              <a:t>Medlearn Matters</a:t>
            </a:r>
            <a:r>
              <a:rPr b="1" lang="en-US" sz="3600" spc="-1" strike="noStrike">
                <a:solidFill>
                  <a:srgbClr val="3333ff"/>
                </a:solidFill>
                <a:latin typeface="Times New Roman"/>
              </a:rPr>
              <a:t> Articl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Popular, trusted information sour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Series of national articles in 2005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First drug coverage article 1/27/05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www.cms.hhs.gov/medlearn/matters/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6781680" y="5791320"/>
          <a:ext cx="1676520" cy="811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781680" y="5791320"/>
                    <a:ext cx="1676520" cy="81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23383-3494-48D4-9DCA-89BF4E579A9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ffffff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Berlin Sans FB"/>
              </a:rPr>
              <a:t>Provider Education &amp; Outreach Campaign</a:t>
            </a:r>
            <a:r>
              <a:rPr b="0" lang="en-US" sz="4000" spc="-1" strike="noStrike">
                <a:solidFill>
                  <a:srgbClr val="003399"/>
                </a:solidFill>
                <a:latin typeface="Berlin Sans FB"/>
              </a:rPr>
              <a:t> </a:t>
            </a:r>
            <a:r>
              <a:rPr b="0" lang="en-US" sz="2800" spc="-1" strike="noStrike">
                <a:solidFill>
                  <a:srgbClr val="003399"/>
                </a:solidFill>
                <a:latin typeface="Berlin Sans FB"/>
              </a:rPr>
              <a:t>Educational Products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170000" y="2362320"/>
            <a:ext cx="7772400" cy="36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99"/>
                </a:solidFill>
                <a:latin typeface="Times New Roman"/>
              </a:rPr>
              <a:t>Medlearn Matters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Distribu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Contractor bulletins, websites/listserv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Professional association newsletters/websit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CMS CO provider audience webpages/listserv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CMS RO webpages/istservs/newslett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CMS Exhibit Progra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6781680" y="5791320"/>
          <a:ext cx="1676520" cy="81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81680" y="5791320"/>
                    <a:ext cx="1676520" cy="81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21F58-1FF6-41E4-BE03-E757AD7852D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ffffff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Berlin Sans FB"/>
              </a:rPr>
              <a:t>Provider Education &amp; Outreach Campaign</a:t>
            </a:r>
            <a:r>
              <a:rPr b="0" lang="en-US" sz="4000" spc="-1" strike="noStrike">
                <a:solidFill>
                  <a:srgbClr val="003399"/>
                </a:solidFill>
                <a:latin typeface="Berlin Sans FB"/>
              </a:rPr>
              <a:t> </a:t>
            </a:r>
            <a:r>
              <a:rPr b="0" lang="en-US" sz="3200" spc="-1" strike="noStrike">
                <a:solidFill>
                  <a:srgbClr val="003399"/>
                </a:solidFill>
                <a:latin typeface="Berlin Sans FB"/>
              </a:rPr>
              <a:t>Educational Products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70000" y="2057040"/>
            <a:ext cx="7772400" cy="40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Drug Coverage Partnership Kit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Basic to detailed info – you choo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www.cms.hhs.gov/partnerships/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Available March 31, 2005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Poster for display in clinical setting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6781680" y="5791320"/>
          <a:ext cx="1676520" cy="81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81680" y="5791320"/>
                    <a:ext cx="1676520" cy="81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F019F-A05E-4E1A-BEC9-4C43BAF1634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ffffff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Berlin Sans FB"/>
              </a:rPr>
              <a:t>Getting &amp; Staying Connected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Information from FFS contractors and professional association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www.cms.hhs.gov/medlearn/drugcoverage.as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Listserv on drug coverage information at www.cms.hhs.gov/mailinglis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imes New Roman"/>
              </a:rPr>
              <a:t>CMS Open Door Foru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6781680" y="5791320"/>
          <a:ext cx="1676520" cy="81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81680" y="5791320"/>
                    <a:ext cx="1676520" cy="81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ED137-7CC9-4EB4-83B1-5D6903AC325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9T15:08:35Z</dcterms:created>
  <dc:creator>CMS</dc:creator>
  <dc:description/>
  <dc:language>en-US</dc:language>
  <cp:lastModifiedBy>CMS</cp:lastModifiedBy>
  <dcterms:modified xsi:type="dcterms:W3CDTF">2005-02-16T22:24:20Z</dcterms:modified>
  <cp:revision>7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810753459</vt:r8>
  </property>
  <property fmtid="{D5CDD505-2E9C-101B-9397-08002B2CF9AE}" pid="3" name="_AuthorEmail">
    <vt:lpwstr>David.Clark@cms.hhs.gov</vt:lpwstr>
  </property>
  <property fmtid="{D5CDD505-2E9C-101B-9397-08002B2CF9AE}" pid="4" name="_AuthorEmailDisplayName">
    <vt:lpwstr>Clark, David C. (CMS)</vt:lpwstr>
  </property>
  <property fmtid="{D5CDD505-2E9C-101B-9397-08002B2CF9AE}" pid="5" name="_EmailSubject">
    <vt:lpwstr>Presentation Material from the Mar 7 meeting</vt:lpwstr>
  </property>
  <property fmtid="{D5CDD505-2E9C-101B-9397-08002B2CF9AE}" pid="6" name="_NewReviewCycle">
    <vt:lpwstr/>
  </property>
</Properties>
</file>