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2747-1EA9-4E1D-AFF3-DB5FD1E6C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565B-839F-4B2F-8804-423B6C80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120F-9681-4166-ACE6-07710F0F1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F938-B916-4A3F-B58B-29524C5EB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428D-A90D-42AA-90CB-06EA7105C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F8FD6-70CA-4A11-96D6-29A40D12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18925-5F13-49DA-8429-F400F87C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C18C5-64BC-411C-8301-DD358EAC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D59B-68A1-42FB-B293-4CB8180A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6159-B5DC-4A50-A726-A6A2DB3E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BC72-074F-42AB-A976-18C40E0B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24D6-F57B-46BE-BDE5-38C628DE2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7A8D-77A9-400A-9044-6E35A268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7E3A-3CF7-4CAB-AEAE-B08AFC09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4D3F3-06E4-4B0A-BACB-0764624D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9301-DFF7-41B2-9CEE-620E873F7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17C9C-8052-4AD0-8B33-AD6832B33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3742-BEB9-4785-A4D0-244F6005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AB4D-3D20-43FB-9841-8B9D758EC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B8CC-DFB7-43F6-85B0-338B37AD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7C1D-E14C-4E6E-AD54-6EA0F54F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70EA-EEAA-4AE5-8E2A-BD6D108F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D215-BD1A-484E-B2C8-2EE6FD3E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7C9B-9309-4F43-BCEC-F3396D91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2DCD-1271-4350-ABBD-9613DBE8DA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42562-C0B7-4FB0-8FFC-9B4AFA8D7E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668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Berlin Sans FB"/>
              </a:rPr>
              <a:t>Physician Fee Schedule 2006 Proposed Rule</a:t>
            </a: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 </a:t>
            </a:r>
            <a:br>
              <a:rPr sz="4400"/>
            </a:br>
            <a:r>
              <a:rPr b="0" lang="en-US" sz="2000" spc="-1" strike="noStrike">
                <a:solidFill>
                  <a:srgbClr val="003399"/>
                </a:solidFill>
                <a:latin typeface="Berlin Sans FB"/>
              </a:rPr>
              <a:t>“Stephen Phillips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5248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Practicing Physicians Advisory Counc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March 7, 2005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416400" y="2058840"/>
          <a:ext cx="3657600" cy="1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6400" y="2058840"/>
                    <a:ext cx="365760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MEDICAR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4154-22CD-489E-A7E6-77F4049654F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Topics for the Proposed Rul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tatus of the 5 Year Review of Work RV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upplemental Survey Data: Radiology and Cardiolog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Other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B73C-49CD-4669-B7C7-F8DCBA3097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ontact Inform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tephen Philli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(410) 786-449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Stephen.Phillips@cms.hhs.go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8E4D-0159-4E75-981F-42C8437AC3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15:08:35Z</dcterms:created>
  <dc:creator>CMS</dc:creator>
  <dc:description/>
  <dc:language>en-US</dc:language>
  <cp:lastModifiedBy>CMS</cp:lastModifiedBy>
  <dcterms:modified xsi:type="dcterms:W3CDTF">2005-02-11T15:24:12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21268719</vt:r8>
  </property>
  <property fmtid="{D5CDD505-2E9C-101B-9397-08002B2CF9AE}" pid="3" name="_AuthorEmail">
    <vt:lpwstr>David.Clark@cms.hhs.gov</vt:lpwstr>
  </property>
  <property fmtid="{D5CDD505-2E9C-101B-9397-08002B2CF9AE}" pid="4" name="_AuthorEmailDisplayName">
    <vt:lpwstr>Clark, David C. (CMS)</vt:lpwstr>
  </property>
  <property fmtid="{D5CDD505-2E9C-101B-9397-08002B2CF9AE}" pid="5" name="_EmailSubject">
    <vt:lpwstr>Presentation Material from the Mar 7 meeting</vt:lpwstr>
  </property>
  <property fmtid="{D5CDD505-2E9C-101B-9397-08002B2CF9AE}" pid="6" name="_NewReviewCycle">
    <vt:lpwstr/>
  </property>
</Properties>
</file>