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ftr" idx="8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 type="sldNum" idx="9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E245-539F-4C91-890F-72EC6CA69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you can see we are traveling a lot now but soon we won’t need to travel and we wont need this Federal Job (next slid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motherapy push Dr Simon brought the concerns of the physicians to the CPT editorial committee at the meeting held February 10-13 and they were addressed by the committe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very Audit Contractors a three state demo and they can report underpayments to carriers too. Since they get a portion of what they claim the incentives could lead to aggressive techniques. We have it on the website so that docs know we are aware of the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ve Acquisition an option for docs who don’t want to be in the retail pharmacy business anymore but a lot of moving parts. I would ask that you hold your qustions for Don Thompson who will discuss the program to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8356 the physician fee schedule was off by a factor of 8 on the technical component we helped the technical experts in Baltimore to warn private payers till the corresction notice goes out (supposed to go out Mond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7D88-35A2-44A3-BB2F-FAD7EA16B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0742-53AB-467C-BDFE-B5C9D5BA9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A9EC-3E32-4A8E-8298-55D915A17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AEAB-0A44-4BCF-902B-6DF3FB1D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4F043-CF3E-415F-8D67-C9C58DE0C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C3698-2935-44AE-97FA-2B045D0D7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97C96-A52C-4D01-8A4A-BA87EBF5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F1074-8C78-4A3D-8C23-BB87F306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465A1-8F40-44FA-92B8-AF1CABAF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0F0B-4E1D-4DB6-9C9C-5B803F22E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E651-6F1D-4B58-BBD1-9057209D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B2F9-43A2-4A5A-9BC4-7A3FF3E9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6E542-8B7C-45F2-84BB-CD699528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573D7-5F3C-4B86-8E24-895D82A4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8B8E8-F9DA-4B58-9338-A901938B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1C40A-5EE9-491F-8C24-2D089E773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719A6-22F1-4E89-9CC9-A4445327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2ECC-8F62-429D-86AD-176F6252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E1D1-240F-40D1-B867-50BC6CB3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BCDA-81D5-45A4-A3D1-AE13B17D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0528-DAA0-454D-9144-58CFD1199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26F0-090C-4ADC-B882-EBDCC93E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FB5C-DA70-433C-B793-B24960914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A952-C583-497F-B2EA-2DCA4151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B8B8-6C7B-42FF-98A9-AF35888C85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2B2C-EDF1-4249-8516-7A2C3309C5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wrogers@cms.hhs.gov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hyperlink" Target="http://www.cms.hhs.gov/physicians/prit/issues.asp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2057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PRIT Report</a:t>
            </a:r>
            <a:br>
              <a:rPr sz="4400"/>
            </a:b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 William Rogers MD FACE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52480" y="40384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99"/>
                </a:solidFill>
                <a:latin typeface="Arial"/>
              </a:rPr>
              <a:t>March 7, 200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3429000" y="205740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05740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72C3-9B29-4F7D-A653-5B40452A679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0" name="" descr=""/>
          <p:cNvPicPr/>
          <p:nvPr/>
        </p:nvPicPr>
        <p:blipFill>
          <a:blip r:embed="rId3"/>
          <a:srcRect l="13792" t="7664" r="9196" b="11114"/>
          <a:stretch/>
        </p:blipFill>
        <p:spPr>
          <a:xfrm>
            <a:off x="1600200" y="0"/>
            <a:ext cx="7238880" cy="5726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F1E1-D222-4B57-BE70-2672120BB8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rcRect l="14102" t="42738" r="8974" b="28208"/>
          <a:stretch/>
        </p:blipFill>
        <p:spPr>
          <a:xfrm>
            <a:off x="1219320" y="442800"/>
            <a:ext cx="7848360" cy="2224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2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1143000" y="2438280"/>
            <a:ext cx="5486400" cy="4191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513-4563-4E65-BCB3-2501EC8A8E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T speaking calendar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uary 24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t B News Alert Conference, Washington, DC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nuary 22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alition of State Rheumatologists Advocacy Conference, Sa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rancisco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17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rican Academy of Emergency Medicine Scientific Assembly, San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ego, C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23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eater Cincinnati Society of Anesthesiologists, Newport, Kentucky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bruary 26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rican College of Rheumatology, Washington DC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h 4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s Oncology Manager’s Conference Baltimore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h 6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rican Academy of Geriatric Psychiatry, San Diego, C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h 12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erican College of Foot and Ankle Surgeons, New Orleans L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h 15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thern Medical Association, Washington DC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ril 2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tional Hispanic Medical Association, Los Angles, California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3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althNow Conference, Verona, N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B70-4A0F-476B-9269-456FC4BF1A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ROM:MR. AHMED OWUSU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E MANAGER INTERNATIO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MMERCIAL BANK GHAN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IRST LIGHT BRANC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RA, GHAN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TTN: DEAR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 GOT YOUR CONTACT DURING MY SEARCH FOR A RELIABLE, HONEST AND A TRUST WOR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ERSON TO ENTRUST THIS HUGE TRANSFER PROJECT WITH. MY NAME IS MR. AHM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WUSU. I AM THE MANAGER OF THE INTERNATIONAL COMMERCIAL BANK GHANA, FIR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GHT BRANCH. I AM A GHANAIAN MARRIED WITH TWO KID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 AM WRITING TO SOLICIT YOUR ASSISTANCE IN THE TRANSFER OF US$2,550.000.00.TH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UND IS THE EXCESS OF WHAT MY BRANCH IN WHICH I AM THE MANGER MADE AS PROF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URING THE LAST YEAR. I HAVE ALREADY SUBMITTED AN APPROVED END OF THE YE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RT FOR THE YEAR 2004 TO MY HEAD OFFICE HERE IN ACCRA AND THEY WILL NE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NOW OF THIS EXCESS. I HAVE SINCE THEN, PLACED THIS AMOUNT OF US$2,550.000.0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N A SUSPENCE ACCOUNT WITHOUT A BENEFICIAR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 AN OFFICER OF THE BANK, I CANNOT BE DIRECTLY CONNECTED TO THIS MON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HUS I AM IMPELLED TO REQUES T FOR YOUR ASSISTANCE TO RECEIVE THIS MONE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TO YOUR BANK ACCOUNT. I INTEND TO PART 30% OF THIS FUND TO YOU WHILE 70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HALL BE FOR ME. I DO NEED TO STRESS THAT THERE ARE PRACTICALLY NO RISK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VOLVED IN THIS. IT'S GOING TO BE A BANK-TO-BANK TRANSFER. ALL I NEED FR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OU IS TO STAND AS THE ORIGINAL DEPOSITOR OF THIS FUN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F YOU ACCEPT THIS OFFER, I WILL APPRECIATE YOUR TIMELY RESPONSE. PL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SPONSE TO THIS E-MAIL ADDRESS: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ahmed_tt@mail2banker.com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ITH REGARDS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-288000">
              <a:lnSpc>
                <a:spcPct val="8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r. AHMED OWUSU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38D2-059E-4657-AD0D-742E570630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Times New Roman"/>
              </a:rPr>
              <a:t>Contact Informa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William Rogers, MD FACEP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202-236-3338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rogers@cms.hhs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RIT@cms.hhs.go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CE05-BB08-4CA3-812D-E20BDC708C5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Outlin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RIT Issu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PRIT Speaking engage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E23A-FCF2-42A2-B3B9-6C772EC156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Berlin Sans FB"/>
              </a:rPr>
              <a:t>Key Website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7" name="" descr=""/>
          <p:cNvPicPr/>
          <p:nvPr/>
        </p:nvPicPr>
        <p:blipFill>
          <a:blip r:embed="rId4"/>
          <a:stretch/>
        </p:blipFill>
        <p:spPr>
          <a:xfrm>
            <a:off x="1066680" y="1587600"/>
            <a:ext cx="4445280" cy="52704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066680" y="533520"/>
            <a:ext cx="671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www.cms.hhs.gov/physicians/prit/issues.as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FD98-8FC6-4CBE-8EC9-F7442CDACC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1" name="" descr=""/>
          <p:cNvPicPr/>
          <p:nvPr/>
        </p:nvPicPr>
        <p:blipFill>
          <a:blip r:embed="rId3"/>
          <a:srcRect l="13131" t="10774" r="11112" b="7073"/>
          <a:stretch/>
        </p:blipFill>
        <p:spPr>
          <a:xfrm>
            <a:off x="1600200" y="27000"/>
            <a:ext cx="7086600" cy="5764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733920" y="3962520"/>
            <a:ext cx="25146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6A90-95DD-4432-AC77-74714150DA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5" name="" descr=""/>
          <p:cNvPicPr/>
          <p:nvPr/>
        </p:nvPicPr>
        <p:blipFill>
          <a:blip r:embed="rId3"/>
          <a:srcRect l="13404" t="10996" r="11340" b="13403"/>
          <a:stretch/>
        </p:blipFill>
        <p:spPr>
          <a:xfrm>
            <a:off x="1295280" y="0"/>
            <a:ext cx="7620120" cy="574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C176-99D1-4E99-A3A1-1C98AF4950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rcRect l="13415" t="14633" r="9757" b="13821"/>
          <a:stretch/>
        </p:blipFill>
        <p:spPr>
          <a:xfrm>
            <a:off x="1143000" y="0"/>
            <a:ext cx="8001000" cy="558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02E0-6EAC-45CC-BB11-5AF278B6C9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rcRect l="15154" t="6856" r="11112" b="4203"/>
          <a:stretch/>
        </p:blipFill>
        <p:spPr>
          <a:xfrm>
            <a:off x="1905120" y="0"/>
            <a:ext cx="6324480" cy="572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0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A4D0-399B-4535-92D8-C8F03C31D9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2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" name="" descr=""/>
          <p:cNvPicPr/>
          <p:nvPr/>
        </p:nvPicPr>
        <p:blipFill>
          <a:blip r:embed="rId3"/>
          <a:srcRect l="13275" t="8259" r="10621" b="2062"/>
          <a:stretch/>
        </p:blipFill>
        <p:spPr>
          <a:xfrm>
            <a:off x="1600200" y="0"/>
            <a:ext cx="6553080" cy="5791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E1E0-FD9F-4672-AB9D-82DCA2E9E6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7" name="" descr=""/>
          <p:cNvPicPr/>
          <p:nvPr/>
        </p:nvPicPr>
        <p:blipFill>
          <a:blip r:embed="rId3"/>
          <a:srcRect l="13131" t="18856" r="11112" b="20539"/>
          <a:stretch/>
        </p:blipFill>
        <p:spPr>
          <a:xfrm>
            <a:off x="1143000" y="334800"/>
            <a:ext cx="800100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15D-DE06-443C-A14D-E3861308434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 </cp:lastModifiedBy>
  <dcterms:modified xsi:type="dcterms:W3CDTF">2005-02-14T19:11:15Z</dcterms:modified>
  <cp:revision>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76573336</vt:r8>
  </property>
  <property fmtid="{D5CDD505-2E9C-101B-9397-08002B2CF9AE}" pid="3" name="_AuthorEmail">
    <vt:lpwstr>David.Clark@cms.hhs.gov</vt:lpwstr>
  </property>
  <property fmtid="{D5CDD505-2E9C-101B-9397-08002B2CF9AE}" pid="4" name="_AuthorEmailDisplayName">
    <vt:lpwstr>Clark, David C. (CMS)</vt:lpwstr>
  </property>
  <property fmtid="{D5CDD505-2E9C-101B-9397-08002B2CF9AE}" pid="5" name="_EmailSubject">
    <vt:lpwstr>Presentation Material from the Mar 7 meeting</vt:lpwstr>
  </property>
  <property fmtid="{D5CDD505-2E9C-101B-9397-08002B2CF9AE}" pid="6" name="_NewReviewCycle">
    <vt:lpwstr/>
  </property>
</Properties>
</file>