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C5B-ECE5-43C3-B764-28996F03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7E0-5A7E-47E7-95CF-B21DDCD3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B99-96D6-4D2B-B67F-1E99B84B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A65-8037-4438-BBC5-72CADE5B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555B-7814-466E-A956-3B8587EC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99E1-27D0-47B6-8807-6A140062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0C44-596B-44A1-B222-19CC9765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9262-F87C-45A4-BAAD-A757222F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92F5-1136-49B0-B67E-8522EF43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7A80-4951-43A2-83D6-34847490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7095-5255-45A9-A939-06CDB32F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A21-83B2-4D99-894B-73EA3C2E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7727-08BD-4665-9191-E9453375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576C-B37A-4280-A205-86E3C667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2366-6772-4CCF-B206-B9123DAB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F761-E8EA-4BFE-9361-E9BA3DBE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98CF-0A30-4DEC-BC05-AACFDCD1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D18-734E-4013-887F-34D0F502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8B4-0642-4166-9ABB-788274FE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DE4-2532-446C-AE07-033C3442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376-0719-4874-BAB0-FD4808DF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6C9-52A5-4133-9B88-309A6C8E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AA4-7783-4F2A-BA5F-BF4DECFE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6E2-D559-4B7B-9F16-E54D559F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47EE-9BD0-4670-9768-DB5124590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3B1F-2BD8-4D8E-8E09-2494C20FD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art B Dru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Competitive Acquisi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2006 Proposed Rule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Don Thomp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rch 7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07D-FFC4-4A5F-94F7-4CB5F96120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Drug Categories and Geographic Are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otential drug categ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hysician administered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rugs commonly furnished by a physician specia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ther Medicare Part B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hase-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otential geographic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ational, regional, statew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hase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C71-4399-4F05-8119-B6FB94D15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Competitive Bidding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vendor wishing to participate in the competitive acquisition program would submit a bid to Medicare for supplying the dru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vendor would first have to demonstrate that it meets rigorous standards set out in the proposed regulation for quality, program integrity, financial stability, and servi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fter meeting those standards, winning vendors would be selected based on their bid pri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0" y="60469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60469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A70-D837-458C-A426-1A14F479CE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Standards for Bid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standards in the proposed rule includ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cquire drugs directly from the manufacturer (or from an entity that acquired the drugs directly from the manufacturer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e licensed to distribute drugs in every state in which they are bidding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ave the capacity to ship 5 days per week and in emergency situation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upply audited financial statement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ave at least 3 years experience distributing Medicare Part B drug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62C-5055-41B1-B04D-508E31EFB1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Number of Winning Bid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propose to select up to five bidders for a drug category in each competitive bidding ar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propose to exclude vendors with prices higher than 106 percent of the weighted ASP of the drugs in that categ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538-3701-414D-BCB6-A195BD5CB6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Claims Process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7620120" cy="368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9F5-E2F2-4B2E-B1E3-BCC9F84871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Verification of Drug Administra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 propose that the physician could place an order for a beneficiary's entire course of treatment at one time however; the vendor may split the order into appropriately spaced shipments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physician would have the ability to modify the course of treatment and submit a separate order as necess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vendor would create a separate tracking numbers for each shipment and the physician would place the appropriate tracking numbers on the drug administration clai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ur claims processing system would use the tracking number to match the two claims and authorize payment to the vendor.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1C1-2F29-4A88-8ABC-274114770D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ia Pr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410) 786-05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Prela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927-9B81-4025-8952-837E064345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5-03-03T23:59:3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8959730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