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97688" cy="9183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97600" cy="91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61720" y="69372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9080" y="4362480"/>
            <a:ext cx="5058000" cy="41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52360" y="68904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9080" y="4361040"/>
            <a:ext cx="5058000" cy="41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tudies have shown that a relatively small number of beneficiaries with certain chronic illnesses -- including asthma, diabetes, congestive heart failure and related cardiac conditions, hypertension, coronary artery disease, cardiovascular and cerebrovascular conditions, and chronic lung disease -- account for a disproportionate share of Medicare expenditures. Patients with these conditions typically receive fragmented health care across multiple providers and multiple sites of care and require repeated costly hospitalization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2360" y="68904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9040" y="4362480"/>
            <a:ext cx="5518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omments on scenarios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Hospital 1 realizes additional Medicare payment in each of the three year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Hospital 2 realizes additional Medicare payment in second and third years only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505-F0CA-4A67-9DDD-2DDCF788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A12-6ED7-4124-869E-E35314B4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AFB-7817-497B-935E-F148E6C5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757-40A3-4458-A3D5-1356503F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6C22-32B3-4BD2-9AE7-9F5B1D5C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241A-F6C9-4393-9D90-B559D8DA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F919-A6A5-4B16-B311-48C368EC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1A6E-EE95-4C01-BC9B-E85D2511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882B-F28C-4AB1-958C-F29BC69D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B842-235B-4422-8B26-DDFD7525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184B-9E5E-4AA7-B629-CD3CC372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29B-3EA2-496F-BA48-63FB2257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7D05-5ED9-427F-8628-37484A70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EB5F-2087-419B-AD9B-BCA8AC96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F3CC-934D-4287-9E52-63CFFBEB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A522-07BA-4EC2-A3C3-DC2EBAB3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9FCA-B586-4060-8F79-41F58FD7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0CB-F279-4059-AAEA-338F0750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DF4D-24FC-406F-88D9-E71FF546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13E5-336E-4288-8EEF-5C36FE67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5EAA-B1E6-4E96-9A8F-6082696B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8361-CFDC-48B4-99FB-61C4B61C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4C77-A4FD-4F8D-B0FA-6574567F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A94-5525-4F2E-A64A-AA21C578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ffff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99CE-0719-46FC-9450-930A079CECE1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ffff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F31B-774A-4004-A295-05404D44AD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660066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authors/w/winston_churchill.html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bhcag.com/vertical/Sites/%7B887602D0-6B1A-468C-B400-ED58BF42138D%7D/uploads/%7B77153114-AD41-4F04-B7D0-9800A59B9473%7D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quotationspage.com/quotes/Laurence_J._Peter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mailto:thaywood@cms.hhs.gov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ff"/>
                </a:solidFill>
                <a:latin typeface="Arial"/>
              </a:rPr>
              <a:t>Strategies Today for Superior Health Care Tomorrow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-360" y="350496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Trent T. Haywood, MD, J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Acting Deputy Chief Medical Officer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C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February 9,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447516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2429-9CAB-47BE-8F95-15B1118401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A Payment Problem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A relatively small number of people with certain chronic illnesses -- including diabetes, hypertension, and cardiovascular and cerebrovascular conditions-- account for a disproportionate share of Medicare expenditure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5% of enrollees consume 47% of the dollars and 50% only consume 2% of the dollars (CBO, 2002)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29B0-E4B4-4842-A288-FCD6ACD677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Another Payment Problem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631880" y="1330200"/>
          <a:ext cx="5880240" cy="4199040"/>
        </p:xfrm>
        <a:graphic>
          <a:graphicData uri="http://schemas.openxmlformats.org/drawingml/2006/table">
            <a:tbl>
              <a:tblPr/>
              <a:tblGrid>
                <a:gridCol w="2254320"/>
                <a:gridCol w="1003320"/>
                <a:gridCol w="806400"/>
                <a:gridCol w="888840"/>
                <a:gridCol w="927360"/>
              </a:tblGrid>
              <a:tr h="515880">
                <a:tc gridSpan="3"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Arial"/>
                        </a:rPr>
                        <a:t>TOTAL MEDICARE PAYMENTS FOR PQI HOSPITALIZATIONS, 1995 AND 2001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Year 2001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Payments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5% Saving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0% Saving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20% Saving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CONGESTIVE HEART FAILURE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3,829,131,296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91,456,565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382,913,130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765,826,259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BACTERIAL PNEUMONIA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3,083,086,363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54,154,318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308,308,636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616,617,273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COPD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,767,023,938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88,351,197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76,702,394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353,404,788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DIABETES LONG TERM COMPLICATION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947,957,162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47,397,858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94,795,716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89,591,432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URINARY INFECTION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869,616,059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43,480,803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86,961,606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73,923,212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DEHYDRATION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755,833,815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37,791,691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75,583,382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51,166,763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LOWER EXTREMITY AMPUTATION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643,469,317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32,173,466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64,346,932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28,693,863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ADULT ASTHMA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308,802,016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5,440,101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30,880,202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61,760,403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PERFORATED APPENDIX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29,726,461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6,486,323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2,972,646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25,945,292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ANGINA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20,711,633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6,035,582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2,071,163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24,142,327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HYPERTENSION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20,096,630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6,004,832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2,009,663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24,019,326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DIABETES SHORT TERM COMPLICATION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09,323,970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5,466,199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0,932,397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21,864,794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DIABETES UNCONTROLLED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77,422,587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3,871,129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7,742,259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5,484,517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2,762,201,247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638,110,062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,276,220,125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2,552,440,249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 gridSpan="5"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Notes: Includes hospitalizations among FFS Medicare beneficiaries for AHRQ PQI measures. Dollars are nominal dollars.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C6B7-B777-48BD-AD69-8B20A60992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A Variation Problem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09680" y="1728720"/>
            <a:ext cx="5029200" cy="4919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94520" y="3201840"/>
            <a:ext cx="3954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Dartmouth Atlas of Healthcare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42CF-BFE0-47C9-95CF-D4E3526FB6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3470040" cy="4987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962520" y="990720"/>
            <a:ext cx="318456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FDB2-7E92-45A7-8D84-3599613395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558960" cy="2666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114800" y="1447920"/>
            <a:ext cx="3489480" cy="278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A1D9-E546-4E49-8F86-314E0FDE0F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2589840"/>
            <a:ext cx="67057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You can always count on Americans to do the right thing - after they've tried everything else. 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inston Churchill</a:t>
            </a:r>
            <a:br>
              <a:rPr sz="2400"/>
            </a:b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53F3-03FE-4B74-B012-CFD0E70784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2982960" cy="4038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590920" y="2209680"/>
            <a:ext cx="5257800" cy="403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653640" y="1447920"/>
            <a:ext cx="278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urrent Environment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6E3-6749-49E6-839E-BE42E5DBE1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urrent Environme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588400"/>
            <a:ext cx="624816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NCQA, ABIM TO ALIGN REQUIREMENTS, SHARE DATA; AGREEMENT WILL ALLOW JOINT APPLICATION FOR MAINTAINING BOARD CERTIFICATION, RECOGNITION 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Agreement with American Board of Internal Medicine reduces redundancy for physicians seeking recognition from NCQA and its partners  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A88E-B330-46ED-8DA7-7F816860A9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1293480"/>
            <a:ext cx="53341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California’s Pay for Performance Program for Doctors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Announces First Year Results: Estimated $50 Million Bonus Payout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65800" y="1168560"/>
            <a:ext cx="3214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Current Environment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47920" y="3581280"/>
            <a:ext cx="4952880" cy="23878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19440" y="3065400"/>
            <a:ext cx="1785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43920" bIns="-43920" anchor="ctr">
            <a:sp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194" name="%7B77153114-AD41-4F04-B7D0-9800A59B9473%7D_Web" descr="For Better Health Car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38680" y="2819520"/>
            <a:ext cx="1905120" cy="42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5562720" y="2666880"/>
          <a:ext cx="1785960" cy="838080"/>
        </p:xfrm>
        <a:graphic>
          <a:graphicData uri="http://schemas.openxmlformats.org/drawingml/2006/table">
            <a:tbl>
              <a:tblPr/>
              <a:tblGrid>
                <a:gridCol w="1785960"/>
              </a:tblGrid>
              <a:tr h="515880">
                <a:tc>
                  <a:txBody>
                    <a:bodyPr lIns="90360" rIns="90360" tIns="44280" bIns="4428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360" rIns="90360" tIns="44280" bIns="44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For Better Health Care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680-6FC5-432B-A574-E658564547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What is Quality?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IOM: “…the degree to which health services for individuals and populations increase the likelihood of desired health outcomes and are consistent with current professional knowledge”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AHRQ: “Quality health care means doing the right thing at the right time in the right way for the right person and having the best results possible”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(IOM-Institute of Medicine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(AHRQ-Agency for Healthcare Research and Quality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2D9D-645D-42A5-ADE1-F2A0378447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4114800" cy="5388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2430720" cy="395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7498-5B80-477F-89EB-6BE7FD9CE6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IOM report on performance measures, sec. 238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atalogue and review the validity of leading health care performance measures;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atalogue and evaluate the success and utility of alternative performance incentive programs in public and private sector settings; and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Identify and prioritize options to implement policies that align performance with payment under the Medicare program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740-A175-40A6-9679-E865879F32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10080" y="1905120"/>
            <a:ext cx="0" cy="27936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0" y="0"/>
            <a:ext cx="9144000" cy="6734160"/>
            <a:chOff x="0" y="0"/>
            <a:chExt cx="9144000" cy="6734160"/>
          </a:xfrm>
        </p:grpSpPr>
        <p:sp>
          <p:nvSpPr>
            <p:cNvPr id="202" name=""/>
            <p:cNvSpPr/>
            <p:nvPr/>
          </p:nvSpPr>
          <p:spPr>
            <a:xfrm>
              <a:off x="0" y="0"/>
              <a:ext cx="91440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WHAT WE CAN DO TO IMPROVE QUALITY</a:t>
              </a:r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519120" y="609480"/>
              <a:ext cx="8043840" cy="3628800"/>
              <a:chOff x="519120" y="609480"/>
              <a:chExt cx="8043840" cy="3628800"/>
            </a:xfrm>
          </p:grpSpPr>
          <p:sp>
            <p:nvSpPr>
              <p:cNvPr id="204" name=""/>
              <p:cNvSpPr/>
              <p:nvPr/>
            </p:nvSpPr>
            <p:spPr>
              <a:xfrm>
                <a:off x="4495680" y="3214800"/>
                <a:ext cx="0" cy="411120"/>
              </a:xfrm>
              <a:prstGeom prst="line">
                <a:avLst/>
              </a:prstGeom>
              <a:ln w="38160">
                <a:solidFill>
                  <a:srgbClr val="1c1c1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9120" y="3595680"/>
                <a:ext cx="8043840" cy="642600"/>
              </a:xfrm>
              <a:prstGeom prst="rect">
                <a:avLst/>
              </a:prstGeom>
              <a:noFill/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c1c1c"/>
                    </a:solidFill>
                    <a:latin typeface="Arial"/>
                  </a:rPr>
                  <a:t>IDENTIFY IMPROVEMENT OPPORTUNITIES AND</a:t>
                </a:r>
                <a:endParaRPr b="0" lang="en-US" sz="1800" spc="-1" strike="noStrike">
                  <a:solidFill>
                    <a:srgbClr val="1c1c1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c1c1c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1c1c1c"/>
                    </a:solidFill>
                    <a:latin typeface="Arial"/>
                  </a:rPr>
                  <a:t>SELECT APPROPRIATE IMPROVEMENT INTERVENTIONS</a:t>
                </a:r>
                <a:endParaRPr b="0" lang="en-US" sz="18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1066680" y="1022040"/>
                <a:ext cx="3454560" cy="2330640"/>
                <a:chOff x="1066680" y="1022040"/>
                <a:chExt cx="3454560" cy="2330640"/>
              </a:xfrm>
            </p:grpSpPr>
            <p:sp>
              <p:nvSpPr>
                <p:cNvPr id="207" name=""/>
                <p:cNvSpPr/>
                <p:nvPr/>
              </p:nvSpPr>
              <p:spPr>
                <a:xfrm flipV="1">
                  <a:off x="1066680" y="1022040"/>
                  <a:ext cx="0" cy="233028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066680" y="1022400"/>
                  <a:ext cx="959040" cy="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1066680" y="3352680"/>
                  <a:ext cx="3454560" cy="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2017800" y="2165400"/>
                <a:ext cx="4952880" cy="368280"/>
              </a:xfrm>
              <a:prstGeom prst="rect">
                <a:avLst/>
              </a:prstGeom>
              <a:noFill/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c1c1c"/>
                    </a:solidFill>
                    <a:latin typeface="Arial"/>
                  </a:rPr>
                  <a:t>ADOPT OR DEVELOP MEASURES</a:t>
                </a:r>
                <a:endParaRPr b="0" lang="en-US" sz="18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017800" y="2819520"/>
                <a:ext cx="4952880" cy="368280"/>
              </a:xfrm>
              <a:prstGeom prst="rect">
                <a:avLst/>
              </a:prstGeom>
              <a:noFill/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c1c1c"/>
                    </a:solidFill>
                    <a:latin typeface="Arial"/>
                  </a:rPr>
                  <a:t>COLLECT &amp; ANALYZE DATA</a:t>
                </a:r>
                <a:endParaRPr b="0" lang="en-US" sz="18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2017800" y="1295280"/>
                <a:ext cx="4952880" cy="596880"/>
                <a:chOff x="2017800" y="1295280"/>
                <a:chExt cx="4952880" cy="5968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4508280" y="1295280"/>
                  <a:ext cx="0" cy="22248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017800" y="1523880"/>
                  <a:ext cx="4952880" cy="368280"/>
                </a:xfrm>
                <a:prstGeom prst="rect">
                  <a:avLst/>
                </a:prstGeom>
                <a:noFill/>
                <a:ln w="1260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1c1c1c"/>
                      </a:solidFill>
                      <a:latin typeface="Arial"/>
                    </a:rPr>
                    <a:t>SELECT PRIORITY AREAS</a:t>
                  </a:r>
                  <a:endParaRPr b="0" lang="en-US" sz="18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2017800" y="609480"/>
                <a:ext cx="4952880" cy="642600"/>
              </a:xfrm>
              <a:prstGeom prst="rect">
                <a:avLst/>
              </a:prstGeom>
              <a:noFill/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c1c1c"/>
                    </a:solidFill>
                    <a:latin typeface="Arial"/>
                  </a:rPr>
                  <a:t>MANAGE  PROCESS  IN  PARTNERSHIP</a:t>
                </a:r>
                <a:endParaRPr b="0" lang="en-US" sz="1800" spc="-1" strike="noStrike">
                  <a:solidFill>
                    <a:srgbClr val="1c1c1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c1c1c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1c1c1c"/>
                    </a:solidFill>
                    <a:latin typeface="Arial"/>
                  </a:rPr>
                  <a:t>WITH STAKEHOLDERS</a:t>
                </a:r>
                <a:endParaRPr b="0" lang="en-US" sz="18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503600" y="2543040"/>
                <a:ext cx="0" cy="279360"/>
              </a:xfrm>
              <a:prstGeom prst="line">
                <a:avLst/>
              </a:prstGeom>
              <a:ln w="38160">
                <a:solidFill>
                  <a:srgbClr val="1c1c1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97480" y="3181320"/>
                <a:ext cx="0" cy="185760"/>
              </a:xfrm>
              <a:prstGeom prst="line">
                <a:avLst/>
              </a:prstGeom>
              <a:ln w="381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114480" y="4267080"/>
              <a:ext cx="8800920" cy="2210040"/>
              <a:chOff x="114480" y="4267080"/>
              <a:chExt cx="8800920" cy="221004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114480" y="4648320"/>
                <a:ext cx="8800920" cy="1828800"/>
                <a:chOff x="114480" y="4648320"/>
                <a:chExt cx="8800920" cy="18288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7682040" y="4648320"/>
                  <a:ext cx="1233360" cy="1828800"/>
                </a:xfrm>
                <a:prstGeom prst="rect">
                  <a:avLst/>
                </a:prstGeom>
                <a:noFill/>
                <a:ln w="648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ESTABLISH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&amp;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ENFORCE STANDARDS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53040" y="4648320"/>
                  <a:ext cx="1233360" cy="1828800"/>
                </a:xfrm>
                <a:prstGeom prst="rect">
                  <a:avLst/>
                </a:prstGeom>
                <a:noFill/>
                <a:ln w="648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 anchorCtr="1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STRUCTURE COVERAGE AND         PAYMENTS  TO IMPROVE CARE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14480" y="4648320"/>
                  <a:ext cx="1233360" cy="1828800"/>
                </a:xfrm>
                <a:prstGeom prst="rect">
                  <a:avLst/>
                </a:prstGeom>
                <a:noFill/>
                <a:ln w="648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SUPPORT STANDARD METHODS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890880" y="4648320"/>
                  <a:ext cx="1233720" cy="1828800"/>
                </a:xfrm>
                <a:prstGeom prst="rect">
                  <a:avLst/>
                </a:prstGeom>
                <a:noFill/>
                <a:ln w="648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 anchorCtr="1">
                  <a:noAutofit/>
                </a:bodyPr>
                <a:p>
                  <a:pPr algn="ctr">
                    <a:lnSpc>
                      <a:spcPct val="9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GIVE CONSUMERS INFOR-MATION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AND ASSISTANCE TO MAKE CHOICES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371600" y="4648320"/>
                  <a:ext cx="1233360" cy="1828800"/>
                </a:xfrm>
                <a:prstGeom prst="rect">
                  <a:avLst/>
                </a:prstGeom>
                <a:noFill/>
                <a:ln w="648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PROMOTE  OR CREATE COLLABORA-TIONS AND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PARTNER-SHIPS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624040" y="4648320"/>
                  <a:ext cx="1233720" cy="1828800"/>
                </a:xfrm>
                <a:prstGeom prst="rect">
                  <a:avLst/>
                </a:prstGeom>
                <a:noFill/>
                <a:ln w="648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GIVE 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PLANS, DOCTORS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&amp;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PROVIDERS TECHNICAL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ASSISTANCE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415200" y="4648320"/>
                  <a:ext cx="1233360" cy="1828800"/>
                </a:xfrm>
                <a:prstGeom prst="rect">
                  <a:avLst/>
                </a:prstGeom>
                <a:noFill/>
                <a:ln w="648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REWARD DESIRED PERFORM-ANCE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754200" y="4267080"/>
                <a:ext cx="7570800" cy="371520"/>
                <a:chOff x="754200" y="4267080"/>
                <a:chExt cx="7570800" cy="3715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754200" y="4267080"/>
                  <a:ext cx="0" cy="37152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796000" y="4267080"/>
                  <a:ext cx="0" cy="37152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325000" y="4267080"/>
                  <a:ext cx="0" cy="37152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540320" y="4267080"/>
                  <a:ext cx="0" cy="37152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276720" y="4267080"/>
                  <a:ext cx="0" cy="37152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017800" y="4267080"/>
                  <a:ext cx="0" cy="37152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086600" y="4267080"/>
                  <a:ext cx="0" cy="37152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5" name=""/>
            <p:cNvGrpSpPr/>
            <p:nvPr/>
          </p:nvGrpSpPr>
          <p:grpSpPr>
            <a:xfrm>
              <a:off x="762120" y="3000240"/>
              <a:ext cx="8272440" cy="3733920"/>
              <a:chOff x="762120" y="3000240"/>
              <a:chExt cx="8272440" cy="373392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762120" y="3000240"/>
                <a:ext cx="8272440" cy="3733920"/>
                <a:chOff x="762120" y="3000240"/>
                <a:chExt cx="8272440" cy="37339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62120" y="6700680"/>
                  <a:ext cx="8272440" cy="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7001280" y="3016080"/>
                  <a:ext cx="2032920" cy="36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9029880" y="3000240"/>
                  <a:ext cx="0" cy="373392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762120" y="6486480"/>
                <a:ext cx="7570800" cy="219240"/>
                <a:chOff x="762120" y="6486480"/>
                <a:chExt cx="7570800" cy="2192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62120" y="6486480"/>
                  <a:ext cx="0" cy="21924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803920" y="6486480"/>
                  <a:ext cx="0" cy="21924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332920" y="6486480"/>
                  <a:ext cx="0" cy="21924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548240" y="6486480"/>
                  <a:ext cx="0" cy="21924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284640" y="6486480"/>
                  <a:ext cx="0" cy="21924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025720" y="6486480"/>
                  <a:ext cx="0" cy="21924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094520" y="6486480"/>
                  <a:ext cx="0" cy="21924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388A-F7F0-42E9-8C8E-C468938694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Physicians and Providers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Issues: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rust or Credibility in measuremen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rust in appropriate use of measuremen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Unintended consequences or perverse incentives if not appropriate methods where needed (e.g. risk adjustment for outcomes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544-5EBB-4E5B-B3F0-84596BD1C8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Physicians and Providers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Benefi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Rewards superior performance and encourages overall improvemen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Aligns financial model to actual professional goals of improving the quality of health care servic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cus on volume is diminished as focus on quality is heightened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AED3-F433-490C-B77A-49C8A72C5D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Issues to Consider in</a:t>
            </a:r>
            <a:br>
              <a:rPr sz="4400"/>
            </a:b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Paying for Performanc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70000" y="232704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Vehicles for Encouraging Quality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Information collection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Information dissemination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nancial reward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(provide incentives, remove hindrances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E3A-5012-48E4-8409-7D6E89C02F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Issues to Consider in</a:t>
            </a:r>
            <a:br>
              <a:rPr sz="4400"/>
            </a:b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Paying for Performanc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What to Reward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Relative quality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Absolute threshold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Improvemen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How to Finance Incentiv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Across-the-board reduction to create poo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Offsetting penalti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Offsetting saving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11B0-7FFB-429E-B079-F407C48150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MS Current Activities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Hospital Quality Incentive Demonstratio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Hospital 501(b) Report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Physician Group Practice Demonstratio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Section 649 MCMP Demonstratio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Chronic Care Improvement Program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Section 646 Medicare Health Care Quality Demo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Hospital Quality Alliance – Public Report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FC6F-8EAB-4ADF-A76A-BF6A8767E1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MS Current Activities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ESRD Disease Management Demonstration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Disease Management for Severely Chronically Ill Medicare Beneficiari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are Management for High Cost Beneficiari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8AAA-CA90-4DBB-B558-4C3672E427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Premier Hospital Quality Incentive Demonstration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MS partnership with Premier, Inc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Nationwide organization of not-for-profit hospital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Members share information on quality and efficiency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Uses financial incentives to encourage hospitals to provide high quality inpatient care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Public reporting on CMS website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2A8-0E25-4172-91AC-4C316BED50A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52480" y="1676520"/>
            <a:ext cx="5105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(1)”perhaps the results as a whole would not be good enough to impress the public very favorably;” (2) it is “difficult, time-consuming, and troublesome;” and (3) “neither Trustees of Hospitals nor the Public are as yet willing to pay for this kind of work.”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5320" y="4343400"/>
            <a:ext cx="218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Codman, c.1910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867280" y="48006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818080" y="939960"/>
            <a:ext cx="2720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Past Environment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B937-F313-4439-A3E3-748B046791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Premier Hospital Quality Incentive Demonstration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Eligibility: Hospitals in Premier Perspective system as of March 31, 2003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Voluntary: about 280 hospitals participating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Demonstration project:  pilot test of concep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3478-AE91-4882-A130-6011B92BF8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0066"/>
                </a:solidFill>
                <a:latin typeface="Arial"/>
              </a:rPr>
              <a:t>The Premier Hospital Quality Incentive Demonstration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5 clinical conditions (34 measures)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Acute MI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eart Failure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Pneumonia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oronary Artery Bypass Graft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ip and Knee Replacemen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19160" y="629136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C98-4B3B-4437-B069-BF19468FF60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Source of Quality Indicators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All 10 from the starter set of the Hospital Reporting Initiative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27 by the National Quality Forum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24 from CMS 7</a:t>
            </a:r>
            <a:r>
              <a:rPr b="0" lang="en-US" sz="3200" spc="-1" strike="noStrike" baseline="30000">
                <a:solidFill>
                  <a:srgbClr val="1c1c1c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Scope of Work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15 in the JCAHO Core Measur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3 proposed by The Leapfrog Group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4 patient safety indicators from the AHRQ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4424-9F78-4A33-835C-8D4D285F374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Source of Quality Indicators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20221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Times New Roman"/>
              </a:rPr>
              <a:t>AMI</a:t>
            </a:r>
            <a:r>
              <a:rPr b="0" lang="en-US" sz="2600" spc="-1" strike="noStrike">
                <a:solidFill>
                  <a:srgbClr val="1c1c1c"/>
                </a:solidFill>
                <a:latin typeface="Times New Roman"/>
              </a:rPr>
              <a:t> - Inpatient mortality rate</a:t>
            </a:r>
            <a:r>
              <a:rPr b="0" lang="en-US" sz="2600" spc="-1" strike="noStrike" baseline="30000">
                <a:solidFill>
                  <a:srgbClr val="1c1c1c"/>
                </a:solidFill>
                <a:latin typeface="Times New Roman"/>
              </a:rPr>
              <a:t>1,2</a:t>
            </a:r>
            <a:endParaRPr b="0" lang="en-US" sz="2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Times New Roman"/>
              </a:rPr>
              <a:t>CABG</a:t>
            </a:r>
            <a:r>
              <a:rPr b="0" lang="en-US" sz="2600" spc="-1" strike="noStrike">
                <a:solidFill>
                  <a:srgbClr val="1c1c1c"/>
                </a:solidFill>
                <a:latin typeface="Times New Roman"/>
              </a:rPr>
              <a:t> - Inpatient mortality rate</a:t>
            </a:r>
            <a:r>
              <a:rPr b="0" lang="en-US" sz="2600" spc="-1" strike="noStrike" baseline="30000">
                <a:solidFill>
                  <a:srgbClr val="1c1c1c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Times New Roman"/>
              </a:rPr>
              <a:t>CABG</a:t>
            </a:r>
            <a:r>
              <a:rPr b="0" lang="en-US" sz="2600" spc="-1" strike="noStrike">
                <a:solidFill>
                  <a:srgbClr val="1c1c1c"/>
                </a:solidFill>
                <a:latin typeface="Times New Roman"/>
              </a:rPr>
              <a:t> - Post operative hemorrhage or hematoma</a:t>
            </a:r>
            <a:r>
              <a:rPr b="0" lang="en-US" sz="2600" spc="-1" strike="noStrike" baseline="30000">
                <a:solidFill>
                  <a:srgbClr val="1c1c1c"/>
                </a:solidFill>
                <a:latin typeface="Times New Roman"/>
              </a:rPr>
              <a:t>4</a:t>
            </a:r>
            <a:endParaRPr b="0" lang="en-US" sz="2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Times New Roman"/>
              </a:rPr>
              <a:t>CABG</a:t>
            </a:r>
            <a:r>
              <a:rPr b="0" lang="en-US" sz="2600" spc="-1" strike="noStrike">
                <a:solidFill>
                  <a:srgbClr val="1c1c1c"/>
                </a:solidFill>
                <a:latin typeface="Times New Roman"/>
              </a:rPr>
              <a:t> - Post operative physiologic/metabolic derangement</a:t>
            </a:r>
            <a:r>
              <a:rPr b="0" lang="en-US" sz="2600" spc="-1" strike="noStrike" baseline="30000">
                <a:solidFill>
                  <a:srgbClr val="1c1c1c"/>
                </a:solidFill>
                <a:latin typeface="Times New Roman"/>
              </a:rPr>
              <a:t>4</a:t>
            </a:r>
            <a:endParaRPr b="0" lang="en-US" sz="2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Times New Roman"/>
              </a:rPr>
              <a:t>Hip/Knee</a:t>
            </a:r>
            <a:r>
              <a:rPr b="0" lang="en-US" sz="2600" spc="-1" strike="noStrike">
                <a:solidFill>
                  <a:srgbClr val="1c1c1c"/>
                </a:solidFill>
                <a:latin typeface="Times New Roman"/>
              </a:rPr>
              <a:t> -Post operative hemorrhage or hematoma</a:t>
            </a:r>
            <a:r>
              <a:rPr b="0" lang="en-US" sz="2600" spc="-1" strike="noStrike" baseline="30000">
                <a:solidFill>
                  <a:srgbClr val="1c1c1c"/>
                </a:solidFill>
                <a:latin typeface="Times New Roman"/>
              </a:rPr>
              <a:t>4,5</a:t>
            </a:r>
            <a:endParaRPr b="0" lang="en-US" sz="2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Times New Roman"/>
              </a:rPr>
              <a:t>Hip/Knee</a:t>
            </a:r>
            <a:r>
              <a:rPr b="0" lang="en-US" sz="2600" spc="-1" strike="noStrike">
                <a:solidFill>
                  <a:srgbClr val="1c1c1c"/>
                </a:solidFill>
                <a:latin typeface="Times New Roman"/>
              </a:rPr>
              <a:t> - Post operative physiologic/metabolic derangement</a:t>
            </a:r>
            <a:r>
              <a:rPr b="0" lang="en-US" sz="2600" spc="-1" strike="noStrike" baseline="30000">
                <a:solidFill>
                  <a:srgbClr val="1c1c1c"/>
                </a:solidFill>
                <a:latin typeface="Times New Roman"/>
              </a:rPr>
              <a:t>4,5</a:t>
            </a:r>
            <a:endParaRPr b="0" lang="en-US" sz="2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Times New Roman"/>
              </a:rPr>
              <a:t>Hip/Knee</a:t>
            </a:r>
            <a:r>
              <a:rPr b="0" lang="en-US" sz="2600" spc="-1" strike="noStrike">
                <a:solidFill>
                  <a:srgbClr val="1c1c1c"/>
                </a:solidFill>
                <a:latin typeface="Times New Roman"/>
              </a:rPr>
              <a:t> - Readmission 30 days post discharge</a:t>
            </a:r>
            <a:r>
              <a:rPr b="0" lang="en-US" sz="2600" spc="-1" strike="noStrike" baseline="30000">
                <a:solidFill>
                  <a:srgbClr val="1c1c1c"/>
                </a:solidFill>
                <a:latin typeface="Times New Roman"/>
              </a:rPr>
              <a:t>5</a:t>
            </a:r>
            <a:endParaRPr b="0" lang="en-US" sz="2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BE33-DC3E-44D8-9EB5-291461027AC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Source of Quality Indicators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buClr>
                <a:srgbClr val="1c1c1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1c1c1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National Quality Forum measur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609480" indent="-609480">
              <a:buClr>
                <a:srgbClr val="1c1c1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1c1c1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Risk adjusted using JCAHO methodology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609480" indent="-609480">
              <a:buClr>
                <a:srgbClr val="1c1c1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1c1c1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Risk adjusted using 3M™ All Patient Refined DRG methodology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609480" indent="-609480">
              <a:buClr>
                <a:srgbClr val="1c1c1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AHRQ Patient Safety Indicators and risk adjusted using AHRQ methodolog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609480" indent="-609480">
              <a:buClr>
                <a:srgbClr val="1c1c1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Medicare beneficiaries only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F197-562E-4E24-9177-F8DD74789F5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Recognition &amp; Financial Rewards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70000" y="2250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op 50% of hospitals in each clinical area publicly acknowledged on CMS website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op 20% of hospitals in each clinical area receive bonus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Hospitals in top decile get 2% bonus on their Medicare DRG payments for discharges in those categori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Hospitals in second decile get 1% bonu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936-A849-452C-9CF4-DDE991FD661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Recognition &amp; Financial Rewards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20224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Baseline performance thresholds set in year 1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Separate threshold for each clinical area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Thresholds set at 80</a:t>
            </a:r>
            <a:r>
              <a:rPr b="0" lang="en-US" sz="2800" spc="-1" strike="noStrike" baseline="30000">
                <a:solidFill>
                  <a:srgbClr val="1c1c1c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 and 90</a:t>
            </a:r>
            <a:r>
              <a:rPr b="0" lang="en-US" sz="2800" spc="-1" strike="noStrike" baseline="30000">
                <a:solidFill>
                  <a:srgbClr val="1c1c1c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 percentile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Year 1 thresholds applied in year 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Hospitals below thresholds receive reduced payment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1% reduction for score below 80</a:t>
            </a:r>
            <a:r>
              <a:rPr b="0" lang="en-US" sz="2800" spc="-1" strike="noStrike" baseline="30000">
                <a:solidFill>
                  <a:srgbClr val="1c1c1c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 percentile threshold; 2% reduction for score below 90</a:t>
            </a:r>
            <a:r>
              <a:rPr b="0" lang="en-US" sz="2800" spc="-1" strike="noStrike" baseline="30000">
                <a:solidFill>
                  <a:srgbClr val="1c1c1c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 percentile threshol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Provides extra incentive for all hospitals to improve performanc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D204-4320-4C4A-AAA4-F99C7FCAB1E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0066"/>
                </a:solidFill>
                <a:latin typeface="Arial"/>
              </a:rPr>
              <a:t>One possible payment scenario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95560" y="40798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95560" y="38512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95560" y="36226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95560" y="43084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95560" y="45370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95560" y="47656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95560" y="33940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95560" y="31654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95560" y="29368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95560" y="27082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00480" y="27082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1st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43280" y="4556160"/>
            <a:ext cx="5943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91320" y="1924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Hospital 2</a:t>
            </a:r>
            <a:endParaRPr b="0" lang="en-US" sz="1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70920" y="222876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Condition X</a:t>
            </a:r>
            <a:endParaRPr b="0" lang="en-US" sz="16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32880" y="175248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Condition X</a:t>
            </a:r>
            <a:endParaRPr b="0" lang="en-US" sz="16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95200" y="137160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Condition X</a:t>
            </a:r>
            <a:endParaRPr b="0" lang="en-US" sz="16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2600" y="278136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Top Performance Threshold</a:t>
            </a:r>
            <a:endParaRPr b="0" lang="en-US" sz="1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400" y="4152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99"/>
                </a:solidFill>
                <a:latin typeface="Arial"/>
              </a:rPr>
              <a:t>Payment Adjustment  Threshold</a:t>
            </a:r>
            <a:endParaRPr b="0" lang="en-US" sz="1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00480" y="29671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2nd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00480" y="31957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3rd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00480" y="34243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4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400480" y="363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5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00480" y="38973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6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00480" y="41259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7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00480" y="43545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8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00480" y="45673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9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47840" y="47959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10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52960" y="2666880"/>
            <a:ext cx="1523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66960" y="5078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Year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O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29280" y="5078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Year Two</a:t>
            </a:r>
            <a:endParaRPr b="0" lang="en-US" sz="1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91240" y="5078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Year Three</a:t>
            </a:r>
            <a:endParaRPr b="0" lang="en-US" sz="1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57880" y="35812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57880" y="33526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57880" y="31240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57880" y="38098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57880" y="40384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57880" y="42670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57880" y="28954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57880" y="26668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57880" y="24382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57880" y="22096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62440" y="220968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1st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62440" y="24685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2nd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62440" y="26971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3rd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62440" y="29257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4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62440" y="31399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5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2440" y="339876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6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62440" y="362736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7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62440" y="385596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8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62440" y="40687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9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10160" y="42670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10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19840" y="31240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19840" y="28954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19840" y="26668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19840" y="33526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19840" y="35812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19840" y="38098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19840" y="24382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19840" y="22096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19840" y="19810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19840" y="17524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24760" y="1752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1st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24760" y="20113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2nd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24760" y="22399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3rd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24760" y="246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4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24760" y="26827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5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124760" y="29415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6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124760" y="31701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7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24760" y="33987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8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24760" y="3611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9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72480" y="38401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10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15280" y="2209680"/>
            <a:ext cx="1523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90640" y="3181320"/>
            <a:ext cx="15242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85840" y="64040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378A-85B5-4CA8-B976-EC946E0E5EB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Savings for CMS and for Hospital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Reduced CMS Costs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Reduce readmission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Reduced Hospital Costs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Lower length-of-stay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Improved outcom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Reduced morbidity and complication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Improved mortality rat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128-C020-4BC2-809A-E459F5FB628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Physician Group Practice Demonstration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0000" y="2250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Mandated by BIPA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Large (200+ physicians), multi-specialty group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Affiliations with other provider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Well-developed clinical and management information system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5505-599E-4D98-B26D-5450A72211B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Quality Problems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Lack of meeting expectations for American health care community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Incomplete assessment of performance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Incomplete infrastructure to support ideal provision of quality health care (e.g. I.T.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5B80-601E-42CC-B683-BFD39D2BD9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Physician Group Practice Demonstration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0000" y="232704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Encourage coordination of Part A and Part B servic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Promote efficiency through investment in administrative structure and proces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Reward physicians for improving health outcom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E6F2-6B02-436B-85C6-32BC00A74C3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Physician Group Practice Demonstration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0000" y="2250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Annual performance targets established for each group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Bonus earned if actual Medicare spending for assigned beneficiaries is less than the annual performance target (minus a 2% savings threshold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BD4C-2A3B-4DCA-988C-1DDEA4DB135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Physician Group Practice Demonstration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0000" y="21744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2% savings threshold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Medicare retains 20% of savings beyond threshold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Bonus to groups allocated based on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avings (70%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Quality (30%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15% limit on bonu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315-A5FD-474C-B68D-2CB7D6A782F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Physician Group Practice Demonstration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0000" y="20224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Evaluation Criteria for practices: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Organizational structur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Leadership &amp; management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Financial stability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Quality assuranc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Process and outcome measurement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Demonstration implementation pla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Locatio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38E-E2A6-4341-A77B-B6DA0D1092C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ESRD Disease Management Demonstration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0000" y="232704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apitated payment for bundle of services used by ESRD patien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Portion of payment set-aside for achievement of ESRD-related quality measur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In the final stages of waiver approval proces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433B-25AF-4F1B-9154-48D3A6776CE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Care Management Performance Demonstration (Sec. 649)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Small to medium-sized physician practices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To promote adoption and use of IT in physician office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Create infrastructure for Medicare receipt of data from electronic office-based systems for use in technical assistance and public report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To improve the ability to manage patient car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1DB-9E0D-4CD9-96C1-ED6EC79ADA6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Medicare Health Care Quality Demonstrations (Sec. 646)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70000" y="24033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cus on integrated health care system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Highlight features that improve quality and efficiency of care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In the early stages of developmen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B8C-41AE-47B2-9124-26631A2C2EB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Chronic care improvement in FFS  (Sec. 721)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Phase I, series of demos: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Develop, test and evaluate care improvement programs using randomized controlled trials. 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Offered on a voluntary basis to certain eligible beneficiaries in geographic areas that in aggregate consist of 10% of total beneficiaries (approx. 300,000 beneficiaries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Phase II, successful projects expanded nationwi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E39-EBFC-427A-8A73-F1898210F60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Timing for Action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e time to act is now, why?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(a) convergence of quality and cost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oncerns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(b) simply cannot afford to not act – status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quo is unacceptable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D0E-F613-483E-AA9C-A0D666E3898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Bureaucracy defends the status quo long past the time when the quo has lost its status.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Laurence J. Peter</a:t>
            </a:r>
            <a:br>
              <a:rPr sz="3200"/>
            </a:b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US educator &amp; writer (1919 - 1988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8F7-CC20-4A72-A244-88D46117C42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Big Quality Problem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Question: Is the perceived lack of a business case for quality an indictment itself of the current failures of the system or is it a barrier for any efforts to improve quality or link it to payment?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D13-8B30-4449-BE9A-4FB0EF86AE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0600" y="990720"/>
            <a:ext cx="8871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Arial"/>
              </a:rPr>
              <a:t>Thanks!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70000" y="3026880"/>
            <a:ext cx="7772400" cy="30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Trent T. Haywood, MD, JD</a:t>
            </a:r>
            <a:endParaRPr b="0" lang="en-US" sz="3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haywood@cms.hhs.gov</a:t>
            </a:r>
            <a:endParaRPr b="0" lang="en-US" sz="3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410-786-1034</a:t>
            </a:r>
            <a:endParaRPr b="0" lang="en-US" sz="3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5CB-90A1-4957-B795-B016A4C44E0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5481720" cy="4049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676520" y="4343400"/>
            <a:ext cx="761760" cy="152280"/>
          </a:xfrm>
          <a:prstGeom prst="rightArrow">
            <a:avLst>
              <a:gd name="adj1" fmla="val 50000"/>
              <a:gd name="adj2" fmla="val 125059"/>
            </a:avLst>
          </a:prstGeom>
          <a:solidFill>
            <a:srgbClr val="00cccc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24680" y="4343400"/>
            <a:ext cx="304920" cy="152280"/>
          </a:xfrm>
          <a:prstGeom prst="leftArrow">
            <a:avLst>
              <a:gd name="adj1" fmla="val 50000"/>
              <a:gd name="adj2" fmla="val 50059"/>
            </a:avLst>
          </a:prstGeom>
          <a:solidFill>
            <a:srgbClr val="00cccc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2157120" cy="25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EB9C-A862-4BE5-A48E-7175DAAA5F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5638680" cy="2401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400800" y="2057400"/>
            <a:ext cx="1393920" cy="1905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724280" y="3124080"/>
            <a:ext cx="1489320" cy="213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EEA0-3613-42C0-A557-23B44CE675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3660840" cy="4419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3124080" cy="300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C2A1-1E0A-4B82-BFD8-ACF3B5A4AC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68792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2F59-345C-4E5E-BB2F-4C700ED5D4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2T15:29:06Z</dcterms:created>
  <dc:creator>hcfa</dc:creator>
  <dc:description/>
  <cp:keywords/>
  <dc:language>en-US</dc:language>
  <cp:lastModifiedBy>CMS</cp:lastModifiedBy>
  <cp:lastPrinted>2002-03-13T16:56:40Z</cp:lastPrinted>
  <dcterms:modified xsi:type="dcterms:W3CDTF">2005-02-16T22:40:56Z</dcterms:modified>
  <cp:revision>615</cp:revision>
  <dc:subject/>
  <dc:title>PRO National Quality Priorit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88450440</vt:r8>
  </property>
  <property fmtid="{D5CDD505-2E9C-101B-9397-08002B2CF9AE}" pid="3" name="_AuthorEmail">
    <vt:lpwstr>David.Clark@cms.hhs.gov</vt:lpwstr>
  </property>
  <property fmtid="{D5CDD505-2E9C-101B-9397-08002B2CF9AE}" pid="4" name="_AuthorEmailDisplayName">
    <vt:lpwstr>Clark, David C. (CMS)</vt:lpwstr>
  </property>
  <property fmtid="{D5CDD505-2E9C-101B-9397-08002B2CF9AE}" pid="5" name="_EmailSubject">
    <vt:lpwstr>Presentation Material from the Mar 7 meeting</vt:lpwstr>
  </property>
  <property fmtid="{D5CDD505-2E9C-101B-9397-08002B2CF9AE}" pid="6" name="_NewReviewCycle">
    <vt:lpwstr/>
  </property>
</Properties>
</file>