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35CE-BECD-4EDB-AF5F-6DFCBDEA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3035-6EF8-4227-9B6F-2FA18BAD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9514-6A53-43A5-9067-0DDE95BD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BE77-A7DE-4727-A21C-12A3461A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D97A-2373-4844-B46D-A98B2438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C512-62CF-4322-98D1-1848C22A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076F-A420-4798-AD3E-E7BC767E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321A-344C-4259-B255-487CF3DE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D603-4921-41B7-BCE6-1791B2F4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13B4-7AA8-4C4F-842D-D6AB477F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1F81-5920-4E4F-9393-8BD66D41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5A77-EAC8-4678-8CB2-6BC919F0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FF87-97DB-4C09-BE61-9450272F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53FF-F9A3-4DDE-A663-F633B220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B520-9AAD-44D9-BA51-A4E9666C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7DA6-AFF5-44A4-A876-D5000F8B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7DE4-053A-4ECE-9B1A-F962A2CA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4FA-09E4-42D2-AEE3-65658ECF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8139-7BD8-4253-92BE-7B058A94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E3F8-5AEB-4460-B67C-3E12772E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53DC-07F9-4622-9DA4-D77B30D0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D84-878D-4676-B36E-84DF6BB5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56EA-F4B4-40CE-8046-EE3F1602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8DBC-B16B-4087-95D7-056CFE8D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4498-0F13-4596-8852-8C598E7741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3991-C03B-4014-BD88-79BFA60906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lewis2@cms.hhs.gov" TargetMode="External"/><Relationship Id="rId2" Type="http://schemas.openxmlformats.org/officeDocument/2006/relationships/hyperlink" Target="mailto:rfritter@cms.hhs.gov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ms.hhs.gov/medlearn/matters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Medicare Prescription Drug Cove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Provider Education &amp; Outreach Strate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uzanne Lewis and Robin Fri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4343400"/>
            <a:ext cx="6400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</a:rPr>
              <a:t>Practicing Physicians Advisory Counc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March 7,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1A73-869B-46D5-B57D-5896ED08DE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Key Websit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www.cms.hhs.gov/medicarereform/pdbma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www.cms.hhs.gov/medlearn/drugcoverage.a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www.cms.hhs.gov/medlearn/matter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www.cms.hhs.gov/mailing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www.cms.hhs.gov/partnership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www.medicare.go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D75B-8248-41FB-83F9-D44EE065C0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Berlin Sans FB"/>
              </a:rPr>
              <a:t>Feedback Thus F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No time to counsel patients on drug cove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ertain clinicians want to counsel pat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Front office staff/practice managers need inf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Information needed: basic to detailed lev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Pharmacists need to know about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662A-AF84-4CDD-8285-CE9A1698CE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Berlin Sans FB"/>
              </a:rPr>
              <a:t>Questions for the Counci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Preferred source of information --Contractors, professional associa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What’s work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Other ways we can get info to yo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0A09-32B8-4149-8695-C1E6E6C4F1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ntact Inform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uzanne Lew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10-786-763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lewis2@cms.hhs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obin Fri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10-786-748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rfritter@cms.hhs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63B1-5325-4CC8-8138-77D1828216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Outl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0000" y="2133360"/>
            <a:ext cx="7772400" cy="39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edicare Prescription Drug Cove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rovider Education &amp; Outreach Campa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Questions for Counc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C8EC-D6F3-425F-91AD-AEB841126A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Berlin Sans FB"/>
              </a:rPr>
              <a:t>Medicare Prescription Drug Coverag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Effective January 1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Prescription drug cost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Patients will seek guidance and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Physicians influence patients’ cho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eachable mo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23C5-20A6-4130-ABE7-2C5F4BC80B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Berlin Sans FB"/>
              </a:rPr>
              <a:t>Provider Education &amp; Outreach Campaign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Berlin Sans FB"/>
              </a:rPr>
              <a:t>Provider Audience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Physicians &amp; other Health Care Professio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Pharmacies, Pharmacists &amp; other Pharmacy Professio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linicians &amp; associated staff at Institutional Provider Fac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3B39-ABC7-4DE5-8BC3-BC7550C2D6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erlin Sans FB"/>
              </a:rPr>
              <a:t>Provider Education &amp; Outreach Campaign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Berlin Sans FB"/>
              </a:rPr>
              <a:t>Comprehensive three-tiered approach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entral Office – National Outreach, National Associ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Regional Offices – State &amp; Local Medical Societies &amp; Associ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FFS Contractors – Individual provi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00AA-6D92-43D4-9E1D-3F840CE0A8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erlin Sans FB"/>
              </a:rPr>
              <a:t>Provider Education &amp; Outreach Campaign</a:t>
            </a:r>
            <a:r>
              <a:rPr b="0" lang="en-US" sz="40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Berlin Sans FB"/>
              </a:rPr>
              <a:t>Educational Product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Medlearn Matters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Artic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opular, trusted information 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Series of national articles in 20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First drug coverage article 1/27/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ms.hhs.gov/medlearn/matters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6400-03E2-4027-BB9F-FC583D6458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erlin Sans FB"/>
              </a:rPr>
              <a:t>Provider Education &amp; Outreach Campaign</a:t>
            </a:r>
            <a:r>
              <a:rPr b="0" lang="en-US" sz="40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Berlin Sans FB"/>
              </a:rPr>
              <a:t>Educational Product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0000" y="2362320"/>
            <a:ext cx="7772400" cy="36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Medlearn Matters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Distrib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ontractor bulletins, websites/listserv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Professional association newsletters/webs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MS CO provider audience webpages/listserv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MS RO webpages/istservs/newslet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MS Exhibit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DC0E-69D0-4428-A358-F6D3E44F1C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erlin Sans FB"/>
              </a:rPr>
              <a:t>Provider Education &amp; Outreach Campaign</a:t>
            </a:r>
            <a:r>
              <a:rPr b="0" lang="en-US" sz="40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Berlin Sans FB"/>
              </a:rPr>
              <a:t>Educational Product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20570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Drug Coverage Partnership Ki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Basic to detailed info – you cho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www.cms.hhs.gov/partnerships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Available March 31, 20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oster for display in clinical set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5329-D622-4042-BCB2-5B4F683B2B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Getting &amp; Staying Connecte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formation from FFS contractors and professional associ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www.cms.hhs.gov/medlearn/drugcoverage.a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Listserv on drug coverage information at www.cms.hhs.gov/mailingl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MS Open Door Foru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ABF6-277B-4CE3-8334-D69115510E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5-02-16T22:24:20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10753459</vt:r8>
  </property>
  <property fmtid="{D5CDD505-2E9C-101B-9397-08002B2CF9AE}" pid="3" name="_AuthorEmail">
    <vt:lpwstr>David.Clark@cms.hhs.gov</vt:lpwstr>
  </property>
  <property fmtid="{D5CDD505-2E9C-101B-9397-08002B2CF9AE}" pid="4" name="_AuthorEmailDisplayName">
    <vt:lpwstr>Clark, David C. (CMS)</vt:lpwstr>
  </property>
  <property fmtid="{D5CDD505-2E9C-101B-9397-08002B2CF9AE}" pid="5" name="_EmailSubject">
    <vt:lpwstr>Presentation Material from the Mar 7 meeting</vt:lpwstr>
  </property>
  <property fmtid="{D5CDD505-2E9C-101B-9397-08002B2CF9AE}" pid="6" name="_NewReviewCycle">
    <vt:lpwstr/>
  </property>
</Properties>
</file>