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DDFC-E0AF-4259-973C-F795A6611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can see we are traveling a lot now but soon we won’t need to travel and we wont need this Federal Job (next 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otherapy push Dr Simon brought the concerns of the physicians to the CPT editorial committee at the meeting held February 10-13 and they were addressed by the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very Audit Contractors a three state demo and they can report underpayments to carriers too. Since they get a portion of what they claim the incentives could lead to aggressive techniques. We have it on the website so that docs know we are aware of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ve Acquisition an option for docs who don’t want to be in the retail pharmacy business anymore but a lot of moving parts. I would ask that you hold your qustions for Don Thompson who will discuss the program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356 the physician fee schedule was off by a factor of 8 on the technical component we helped the technical experts in Baltimore to warn private payers till the corresction notice goes out (supposed to go out Mond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AA9A-033D-4B9E-90D4-11C7BD53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EFE9-D7A9-4D6F-871E-08C7E441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A94A-819E-4721-8441-918F2F89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1D3-6916-434C-BF41-AC4D75EC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B5D3-B765-4199-9413-840635F5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E954-C977-412B-89B3-35374F25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E38B-FBB6-4595-A8DB-FD06D3A9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B5BD-901B-46FC-B7FB-8AAA05B1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5D71-B1DA-4CE3-8BA2-FC20F2D4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0C59-8647-403B-B466-2D260B42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87D0-3B8F-464E-8EC9-EC555464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52EA-AEE8-4CB8-B3F4-6B2E87EF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099B-74A3-4371-8ED4-54600C90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DF14-C4BB-4342-A72F-EDB46E31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ACC6-A97C-47F2-9453-3FED24D0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0569-619F-4081-8362-0D994AFA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D53A-4C79-4161-A7BF-4C1698E9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E5E4-91E2-4A04-91D6-A46A62EF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F79-3427-43AA-8A1E-6D12C437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1A28-6FFC-4EB0-816B-92AB858C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18D-4D99-4E18-9A99-E4B4AB98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D03-180A-4A9A-899B-1F997C1E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D3AA-6791-43EB-A60D-8B1C63F6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A58-509A-42D2-9231-DCB23E35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B68F-3410-4958-95FD-6E0EF08782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9F29-BF76-4D9C-82C3-F6C89FDF69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wrogers@cms.hhs.gov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hyperlink" Target="http://www.cms.hhs.gov/physicians/prit/issues.asp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PRIT Report</a:t>
            </a:r>
            <a:br>
              <a:rPr sz="4400"/>
            </a:b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 William Rogers MD FACE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arch 7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429000" y="205740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05740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749F-1871-4811-8D71-33670A9942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" descr=""/>
          <p:cNvPicPr/>
          <p:nvPr/>
        </p:nvPicPr>
        <p:blipFill>
          <a:blip r:embed="rId3"/>
          <a:srcRect l="13792" t="7664" r="9196" b="11114"/>
          <a:stretch/>
        </p:blipFill>
        <p:spPr>
          <a:xfrm>
            <a:off x="1600200" y="0"/>
            <a:ext cx="7238880" cy="572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52B5-64B5-470B-BBDF-563A36B8FA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14102" t="42738" r="8974" b="28208"/>
          <a:stretch/>
        </p:blipFill>
        <p:spPr>
          <a:xfrm>
            <a:off x="1219320" y="442800"/>
            <a:ext cx="7848360" cy="22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1143000" y="2438280"/>
            <a:ext cx="54864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2073-6B14-43DB-969A-E9189DC590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T speaking calend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uary 24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 B News Alert Conference, Washington, DC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uary 2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alition of State Rheumatologists Advocacy Conference, Sa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ncisco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7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rican Academy of Emergency Medicine Scientific Assembly, Sa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ego, C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23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eater Cincinnati Society of Anesthesiologists, Newport, Kentucky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26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rican College of Rheumatology, Washington DC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h 4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s Oncology Manager’s Conference Baltimore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h 6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rican Academy of Geriatric Psychiatry, San Diego, C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h 12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rican College of Foot and Ankle Surgeons, New Orleans L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h 15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thern Medical Association, Washington DC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ril 2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tional Hispanic Medical Association, Los Angles, Californi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3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lthNow Conference, Verona, N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4EC7-2F27-481A-978A-A887A2886B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OM:MR. AHMED OWUSU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MANAGER INTERNATI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MERCIAL BANK GHA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RST LIGHT BRAN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RA, GHAN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TN: DEAR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 GOT YOUR CONTACT DURING MY SEARCH FOR A RELIABLE, HONEST AND A TRUST WOR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ON TO ENTRUST THIS HUGE TRANSFER PROJECT WITH. MY NAME IS MR. AHM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WUSU. I AM THE MANAGER OF THE INTERNATIONAL COMMERCIAL BANK GHANA, FIR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GHT BRANCH. I AM A GHANAIAN MARRIED WITH TWO KID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 AM WRITING TO SOLICIT YOUR ASSISTANCE IN THE TRANSFER OF US$2,550.000.00.TH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UND IS THE EXCESS OF WHAT MY BRANCH IN WHICH I AM THE MANGER MADE AS PROF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ING THE LAST YEAR. I HAVE ALREADY SUBMITTED AN APPROVED END OF THE Y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RT FOR THE YEAR 2004 TO MY HEAD OFFICE HERE IN ACCRA AND THEY WILL NE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OW OF THIS EXCESS. I HAVE SINCE THEN, PLACED THIS AMOUNT OF US$2,550.000.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N A SUSPENCE ACCOUNT WITHOUT A BENEFICIAR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 AN OFFICER OF THE BANK, I CANNOT BE DIRECTLY CONNECTED TO THIS MON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US I AM IMPELLED TO REQUES T FOR YOUR ASSISTANCE TO RECEIVE THIS MON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O YOUR BANK ACCOUNT. I INTEND TO PART 30% OF THIS FUND TO YOU WHILE 7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HALL BE FOR ME. I DO NEED TO STRESS THAT THERE ARE PRACTICALLY NO RIS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VOLVED IN THIS. IT'S GOING TO BE A BANK-TO-BANK TRANSFER. ALL I NEED FR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OU IS TO STAND AS THE ORIGINAL DEPOSITOR OF THIS FUN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 YOU ACCEPT THIS OFFER, I WILL APPRECIATE YOUR TIMELY RESPONSE. PL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PONSE TO THIS E-MAIL ADDRESS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hmed_tt@mail2banker.co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TH REGARD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r. AHMED OWUSU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0068-ECE0-4394-96D8-CAE2D189E8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illiam Rogers, MD FACEP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202-236-333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rogers@cms.hhs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RIT@cms.hhs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434A-9293-411C-99B7-AF8843C1C7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Outl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RIT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RIT Speaking engag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0BC-52C0-4BF5-AD35-F8B98D295B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Key Websit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1066680" y="1587600"/>
            <a:ext cx="4445280" cy="52704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066680" y="533520"/>
            <a:ext cx="671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cms.hhs.gov/physicians/prit/issues.a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78C-AC41-4303-8CA5-24AC0B76F0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" descr=""/>
          <p:cNvPicPr/>
          <p:nvPr/>
        </p:nvPicPr>
        <p:blipFill>
          <a:blip r:embed="rId3"/>
          <a:srcRect l="13131" t="10774" r="11112" b="7073"/>
          <a:stretch/>
        </p:blipFill>
        <p:spPr>
          <a:xfrm>
            <a:off x="1600200" y="27000"/>
            <a:ext cx="7086600" cy="5764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733920" y="3962520"/>
            <a:ext cx="2514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AEE-C11D-4D10-BC5C-C6235B676A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" descr=""/>
          <p:cNvPicPr/>
          <p:nvPr/>
        </p:nvPicPr>
        <p:blipFill>
          <a:blip r:embed="rId3"/>
          <a:srcRect l="13404" t="10996" r="11340" b="13403"/>
          <a:stretch/>
        </p:blipFill>
        <p:spPr>
          <a:xfrm>
            <a:off x="1295280" y="0"/>
            <a:ext cx="7620120" cy="574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31B-F3F1-4BEF-B6B2-7817CD62E9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13415" t="14633" r="9757" b="13821"/>
          <a:stretch/>
        </p:blipFill>
        <p:spPr>
          <a:xfrm>
            <a:off x="1143000" y="0"/>
            <a:ext cx="8001000" cy="558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FBF8-F4C4-4DB0-921F-0E152F277B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15154" t="6856" r="11112" b="4203"/>
          <a:stretch/>
        </p:blipFill>
        <p:spPr>
          <a:xfrm>
            <a:off x="1905120" y="0"/>
            <a:ext cx="6324480" cy="572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6714-B51D-4472-B3E4-4746838852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" descr=""/>
          <p:cNvPicPr/>
          <p:nvPr/>
        </p:nvPicPr>
        <p:blipFill>
          <a:blip r:embed="rId3"/>
          <a:srcRect l="13275" t="8259" r="10621" b="2062"/>
          <a:stretch/>
        </p:blipFill>
        <p:spPr>
          <a:xfrm>
            <a:off x="1600200" y="0"/>
            <a:ext cx="6553080" cy="57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B24-AD29-4C16-8CF2-0B2F7CF448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7" name="" descr=""/>
          <p:cNvPicPr/>
          <p:nvPr/>
        </p:nvPicPr>
        <p:blipFill>
          <a:blip r:embed="rId3"/>
          <a:srcRect l="13131" t="18856" r="11112" b="20539"/>
          <a:stretch/>
        </p:blipFill>
        <p:spPr>
          <a:xfrm>
            <a:off x="1143000" y="33480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286-359A-4CBD-98B0-8067439703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 </cp:lastModifiedBy>
  <dcterms:modified xsi:type="dcterms:W3CDTF">2005-02-14T19:11:15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76573336</vt:r8>
  </property>
  <property fmtid="{D5CDD505-2E9C-101B-9397-08002B2CF9AE}" pid="3" name="_AuthorEmail">
    <vt:lpwstr>David.Clark@cms.hhs.gov</vt:lpwstr>
  </property>
  <property fmtid="{D5CDD505-2E9C-101B-9397-08002B2CF9AE}" pid="4" name="_AuthorEmailDisplayName">
    <vt:lpwstr>Clark, David C. (CMS)</vt:lpwstr>
  </property>
  <property fmtid="{D5CDD505-2E9C-101B-9397-08002B2CF9AE}" pid="5" name="_EmailSubject">
    <vt:lpwstr>Presentation Material from the Mar 7 meeting</vt:lpwstr>
  </property>
  <property fmtid="{D5CDD505-2E9C-101B-9397-08002B2CF9AE}" pid="6" name="_NewReviewCycle">
    <vt:lpwstr/>
  </property>
</Properties>
</file>