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D97-DF26-497D-82BA-9B3E60D4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087-B53E-4C5E-ADFC-F358092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E21-11A1-4C14-BA1C-BC335C7E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41D-F58F-444A-A226-5C4E1FB7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1E5D-8907-4D79-A954-7ACF8BAC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7242-D42B-43FD-A86C-97E5AC17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3216-40B6-462C-80D2-EFC4093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7411-50F2-4072-9EAF-C3F232FB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ECFB-548B-4600-81C2-34E27863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5B2E-B9F2-4642-BDFB-1C88B436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922-B9CC-4091-A774-0CBEF6C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D72-9B98-445B-AD36-0CDA29FB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2AA-1F7E-47CB-957A-666BF13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9504-1750-4F39-9551-F5129F6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6F8-39FF-4F9F-8E12-526174DB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48B-4667-42F7-B123-7EF283C5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5035-E628-4E7D-B7D6-1F38E583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BFB-CFE6-4C02-8311-C59C704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E83-F97B-4624-ABFB-FEFD1F72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8E2-2A5A-4B52-8E90-97707D7D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A1C-5B99-4B05-802F-A19430B2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1BF-F978-44C4-AAD3-5DED7A3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6E9-9188-4929-AA2D-7C6F9CA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54B-8483-4642-9D2D-0E556000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11DE-95F4-4EBF-AD99-4315362D3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18A7-A612-4D7D-B62C-51FCF6FCD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hysician Fee Schedule 2006 Proposed Rule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“Stephen Phillip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15C-6EF3-4429-A5F6-F83D542C00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Topics for the Proposed Ru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atus of the 5 Year Review of Work RV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pplemental Survey Data: Radiology and Cardiolog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ther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4A6-BEB2-436A-ACA3-410DA10508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ephen Phill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410) 786-4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ephen.Phillips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BB5-A2EF-4D9F-A011-0F4003A812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2-11T15:24:1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1268719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