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459-58AD-4926-A96D-D2FA23BB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1062-4F14-45D6-B263-1B0AA481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921-2452-434D-8A74-A68C0A05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807-00F2-4D8A-AF1C-C01A3909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3046-C942-49DF-9EDF-EE8C8245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DF12-4732-4D5C-9AA3-D419F742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11BF-93DC-4DD7-9B30-6E899AC3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D208-E7DB-4C9F-BA0B-BC5F6328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54A8-8468-4502-802F-64B8B173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78A7-F311-423E-A24E-698EE476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4577-9751-499B-94AB-1266CA4D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7C6-C2BD-49F8-9CA8-794A9DCB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ABB4-9975-4E35-AF78-4641378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8EB4-CCB4-4FD8-9D82-990E2650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7F33-C13F-46CA-8204-53D5E911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F484-8A5C-4334-AA6F-5E00B6A9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9170-27B9-4533-AE33-DFB66FC5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92B-8915-4647-B27E-39759A0F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134-6C0B-4F96-8166-A33179F0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73F-F9EE-4B05-94B2-82E275D5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5FE2-F331-4A13-9E8A-DF372520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FBD-DDAC-4A74-8D61-CF0C6BF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1D3-CE2F-469C-8BA1-ABF975F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BCE-03C2-443E-BF43-C60E9962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D5E2-5269-408E-AC4A-CB50010D3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5CB1-817B-45A0-AA60-5606D563B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4379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MD Access Surve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7162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neth Simon, M.D., M.B.A., F.A.C.S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ard Lawlor, DC, M.B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19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Physicians Advisory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3520" y="3049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do to make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re acce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physician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sue requiring your atten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1981080"/>
          <a:ext cx="7772400" cy="478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77240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219320" y="2286000"/>
            <a:ext cx="411480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mon suggestion to increase access was to increase direct outreach to physician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57040"/>
            <a:ext cx="792504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contractor sta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you aw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 physician is trying to call you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 call staff center, medical staff review,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09480" y="1981080"/>
          <a:ext cx="82296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267080" y="2362320"/>
            <a:ext cx="762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6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ncoming CSR calls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uted to yo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an MR/LPE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nic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 provider has a question that cannot be answered by CSRs or professional relations staf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85800" y="1981080"/>
          <a:ext cx="8153280" cy="47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1532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962520" y="2819520"/>
            <a:ext cx="42670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arriers have processes set up to allow a direct transfer of physician calls to CMD'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and the other MR/LPET clinician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eep tr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calls you are getting on a particular subject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velo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CSRs and professional staf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81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9480" y="2038320"/>
          <a:ext cx="815364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38320"/>
                    <a:ext cx="815364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019920" y="2590920"/>
            <a:ext cx="2438280" cy="100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% of CMD’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ir calls on certain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3962520"/>
            <a:ext cx="2438280" cy="131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13% have develop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rip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respond to common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portion of you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pent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cluding phone calls) to physicians and other providers/suppli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1981080"/>
          <a:ext cx="8153280" cy="47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153280" cy="47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495680" y="2209680"/>
            <a:ext cx="4038840" cy="1676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half of CMD's spend around 15% to 30% of their time on education and outreach, for physicians, providers &amp; suppl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Physicians complained to you of inadequate acc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666880"/>
            <a:ext cx="7086600" cy="204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% of CMD’s in survey indicated that they hav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d any complaints regarding their access to physic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recognizes the sampling effect of the surv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believes more information is required from both physicians and CMDs to better understand the extent of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reas for improvement of access and communication between CMDs and Physicians (ie. Physician outrea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 all CMDs to publish their direct phone line and email address on the carrier website and in the carrier news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that a uniform, responsive CSR process exists for all carriers to improve access to phys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hysicians have adequate access to you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5800" y="2127240"/>
          <a:ext cx="815328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27240"/>
                    <a:ext cx="815328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800600" y="2590920"/>
            <a:ext cx="3048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ity of CMD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that they provide adequate access for physici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38080" y="6094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redominan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physicians use to reac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85800" y="1981080"/>
          <a:ext cx="815328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1532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352680" y="2438280"/>
            <a:ext cx="48769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 and email were the most common methods of primary cont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50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ypic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ekly volu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alls/contacts you receive from physicia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1981080"/>
          <a:ext cx="8001000" cy="48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00100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876920" y="2590920"/>
            <a:ext cx="3200400" cy="1447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majority of CMD's reported 10 to 20 physician calls/contacts per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5867280"/>
            <a:ext cx="2057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our phone contact with physicians primarily throug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o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ls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s you 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1981080"/>
          <a:ext cx="8076960" cy="475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76960" cy="47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828800" y="41911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4191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2917800"/>
            <a:ext cx="3124440" cy="161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D telephone access with physicians is split equally between taking incoming calls and returning c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57150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ing incoming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57754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ing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rtion of your total worklo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phone calls make u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666880"/>
            <a:ext cx="57913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D time spent on phone calls ranged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i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4030560"/>
            <a:ext cx="5791320" cy="165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amount of time spent on telephone calls with physici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eel that yo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ommo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number of cal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981080"/>
          <a:ext cx="800100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0100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4343400" y="2743200"/>
            <a:ext cx="335268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ajority of CMD'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they could handle additional phone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14400" y="228600"/>
            <a:ext cx="822960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hone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ed (or a number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ch you) available to physicians and/or other providers?     If so, where is it li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1981080"/>
          <a:ext cx="8153280" cy="473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153280" cy="47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724280" y="2514600"/>
            <a:ext cx="373392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ity of CMD's report that their direct phone number is publicly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733920"/>
            <a:ext cx="3581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ost common responses of where it was listed wer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rier web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 state and loc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dical group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and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wslett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rrespond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oth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rier mail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mak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-mail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hysicians? If so, where is it lis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1981080"/>
          <a:ext cx="8229600" cy="48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2960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257800" y="3352680"/>
            <a:ext cx="3276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, the location of the listings was very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consist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arrie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usiness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Medic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ciety lis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etter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provide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 le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eaking enga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way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hen requeste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2362320"/>
            <a:ext cx="54104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D’s responded that their email address was publicly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20:57:42Z</dcterms:created>
  <dc:creator>Kenneth Simon, M.D., M.B.A.</dc:creator>
  <dc:description/>
  <dc:language>en-US</dc:language>
  <cp:lastModifiedBy>CMS</cp:lastModifiedBy>
  <dcterms:modified xsi:type="dcterms:W3CDTF">2003-05-29T13:10:06Z</dcterms:modified>
  <cp:revision>80</cp:revision>
  <dc:subject/>
  <dc:title>CMD SURV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