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34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73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34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73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848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14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14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122a"/>
            </a:gs>
            <a:gs pos="100000">
              <a:srgbClr val="772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e64"/>
                </a:gs>
                <a:gs pos="50000">
                  <a:srgbClr val="00dfca"/>
                </a:gs>
                <a:gs pos="100000">
                  <a:srgbClr val="006e6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65f7f"/>
                </a:gs>
                <a:gs pos="50000">
                  <a:srgbClr val="d989b8"/>
                </a:gs>
                <a:gs pos="100000">
                  <a:srgbClr val="965f7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c5e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b122a"/>
            </a:gs>
            <a:gs pos="100000">
              <a:srgbClr val="772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8640" y="2403360"/>
            <a:ext cx="830268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CY 2004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Physician Payment Upda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b122a"/>
            </a:gs>
            <a:gs pos="100000">
              <a:srgbClr val="772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685800" y="685800"/>
          <a:ext cx="7861320" cy="549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86132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b122a"/>
            </a:gs>
            <a:gs pos="100000">
              <a:srgbClr val="772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66560" y="504720"/>
          <a:ext cx="8361360" cy="58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504720"/>
                    <a:ext cx="836136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122a"/>
            </a:gs>
            <a:gs pos="100000">
              <a:srgbClr val="772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Studies on Physician Volume-and-Intensity Responses 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guyen and Derri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989b8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s to fee reductions in OBRA 19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989b8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 offset to price red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989b8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ponse varied by specia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ian Payment Review Com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989b8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ume response to price reductions resulting from OBRA 1987 and OBRA 19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d989b8"/>
              </a:buClr>
              <a:buSzPct val="7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ded 30-40% offset in each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122a"/>
            </a:gs>
            <a:gs pos="100000">
              <a:srgbClr val="772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he OAct Study - Data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94-199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% sample of physician expendi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ce var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variables exam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done at the locality level by specia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122a"/>
            </a:gs>
            <a:gs pos="100000">
              <a:srgbClr val="772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The OAct Study - Model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ression on the residual in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metric vs. Asymmetric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refinements and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l vs. Surgical regre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-by-year regres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ressions by special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b122a"/>
            </a:gs>
            <a:gs pos="100000">
              <a:srgbClr val="772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89080" y="517680"/>
            <a:ext cx="8562960" cy="58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41480" y="1330200"/>
            <a:ext cx="7578720" cy="4368960"/>
          </a:xfrm>
          <a:custGeom>
            <a:avLst/>
            <a:gdLst/>
            <a:ahLst/>
            <a:rect l="l" t="t" r="r" b="b"/>
            <a:pathLst>
              <a:path w="4774" h="2752">
                <a:moveTo>
                  <a:pt x="0" y="0"/>
                </a:moveTo>
                <a:lnTo>
                  <a:pt x="4773" y="0"/>
                </a:lnTo>
                <a:lnTo>
                  <a:pt x="4773" y="2751"/>
                </a:lnTo>
                <a:lnTo>
                  <a:pt x="0" y="2751"/>
                </a:lnTo>
                <a:lnTo>
                  <a:pt x="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41480" y="5221440"/>
            <a:ext cx="758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41480" y="4735440"/>
            <a:ext cx="758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41480" y="4249800"/>
            <a:ext cx="758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41480" y="3762360"/>
            <a:ext cx="758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41480" y="3274920"/>
            <a:ext cx="758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41480" y="2789280"/>
            <a:ext cx="758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1480" y="2303640"/>
            <a:ext cx="758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41480" y="1816200"/>
            <a:ext cx="758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41480" y="1330200"/>
            <a:ext cx="758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41480" y="1330200"/>
            <a:ext cx="7588080" cy="4378320"/>
          </a:xfrm>
          <a:custGeom>
            <a:avLst/>
            <a:gdLst/>
            <a:ahLst/>
            <a:rect l="l" t="t" r="r" b="b"/>
            <a:pathLst>
              <a:path w="4780" h="2758">
                <a:moveTo>
                  <a:pt x="0" y="0"/>
                </a:moveTo>
                <a:lnTo>
                  <a:pt x="4779" y="0"/>
                </a:lnTo>
                <a:lnTo>
                  <a:pt x="4779" y="2757"/>
                </a:lnTo>
                <a:lnTo>
                  <a:pt x="0" y="275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7200" y="1638360"/>
            <a:ext cx="633600" cy="4070160"/>
          </a:xfrm>
          <a:custGeom>
            <a:avLst/>
            <a:gdLst/>
            <a:ahLst/>
            <a:rect l="l" t="t" r="r" b="b"/>
            <a:pathLst>
              <a:path w="399" h="2564">
                <a:moveTo>
                  <a:pt x="0" y="0"/>
                </a:moveTo>
                <a:lnTo>
                  <a:pt x="398" y="0"/>
                </a:lnTo>
                <a:lnTo>
                  <a:pt x="398" y="2563"/>
                </a:lnTo>
                <a:lnTo>
                  <a:pt x="0" y="2563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20800" y="3024360"/>
            <a:ext cx="635040" cy="2684160"/>
          </a:xfrm>
          <a:custGeom>
            <a:avLst/>
            <a:gdLst/>
            <a:ahLst/>
            <a:rect l="l" t="t" r="r" b="b"/>
            <a:pathLst>
              <a:path w="400" h="1691">
                <a:moveTo>
                  <a:pt x="0" y="0"/>
                </a:moveTo>
                <a:lnTo>
                  <a:pt x="399" y="0"/>
                </a:lnTo>
                <a:lnTo>
                  <a:pt x="399" y="1690"/>
                </a:lnTo>
                <a:lnTo>
                  <a:pt x="0" y="1690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4556160"/>
            <a:ext cx="633240" cy="1152360"/>
          </a:xfrm>
          <a:custGeom>
            <a:avLst/>
            <a:gdLst/>
            <a:ahLst/>
            <a:rect l="l" t="t" r="r" b="b"/>
            <a:pathLst>
              <a:path w="399" h="726">
                <a:moveTo>
                  <a:pt x="0" y="0"/>
                </a:moveTo>
                <a:lnTo>
                  <a:pt x="398" y="0"/>
                </a:lnTo>
                <a:lnTo>
                  <a:pt x="398" y="725"/>
                </a:lnTo>
                <a:lnTo>
                  <a:pt x="0" y="725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51600" y="3921120"/>
            <a:ext cx="631800" cy="1787400"/>
          </a:xfrm>
          <a:custGeom>
            <a:avLst/>
            <a:gdLst/>
            <a:ahLst/>
            <a:rect l="l" t="t" r="r" b="b"/>
            <a:pathLst>
              <a:path w="398" h="1126">
                <a:moveTo>
                  <a:pt x="0" y="0"/>
                </a:moveTo>
                <a:lnTo>
                  <a:pt x="397" y="0"/>
                </a:lnTo>
                <a:lnTo>
                  <a:pt x="397" y="1125"/>
                </a:lnTo>
                <a:lnTo>
                  <a:pt x="0" y="1125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15200" y="3870360"/>
            <a:ext cx="633240" cy="1838160"/>
          </a:xfrm>
          <a:custGeom>
            <a:avLst/>
            <a:gdLst/>
            <a:ahLst/>
            <a:rect l="l" t="t" r="r" b="b"/>
            <a:pathLst>
              <a:path w="399" h="1158">
                <a:moveTo>
                  <a:pt x="0" y="0"/>
                </a:moveTo>
                <a:lnTo>
                  <a:pt x="398" y="0"/>
                </a:lnTo>
                <a:lnTo>
                  <a:pt x="398" y="1157"/>
                </a:lnTo>
                <a:lnTo>
                  <a:pt x="0" y="1157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78800" y="5456160"/>
            <a:ext cx="635040" cy="252360"/>
          </a:xfrm>
          <a:custGeom>
            <a:avLst/>
            <a:gdLst/>
            <a:ahLst/>
            <a:rect l="l" t="t" r="r" b="b"/>
            <a:pathLst>
              <a:path w="400" h="159">
                <a:moveTo>
                  <a:pt x="0" y="0"/>
                </a:moveTo>
                <a:lnTo>
                  <a:pt x="399" y="0"/>
                </a:lnTo>
                <a:lnTo>
                  <a:pt x="399" y="158"/>
                </a:lnTo>
                <a:lnTo>
                  <a:pt x="0" y="158"/>
                </a:lnTo>
                <a:lnTo>
                  <a:pt x="0" y="0"/>
                </a:lnTo>
              </a:path>
            </a:pathLst>
          </a:custGeom>
          <a:solidFill>
            <a:srgbClr val="eaec5e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41480" y="1330200"/>
            <a:ext cx="0" cy="4376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03320" y="570708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03320" y="522144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03320" y="473544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03320" y="424980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03320" y="376236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03320" y="327492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278928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03320" y="230364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03320" y="181620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03320" y="1330200"/>
            <a:ext cx="38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41480" y="5707080"/>
            <a:ext cx="7586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041480" y="5668920"/>
            <a:ext cx="0" cy="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306520" y="5668920"/>
            <a:ext cx="0" cy="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570120" y="5668920"/>
            <a:ext cx="0" cy="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4835520" y="5668920"/>
            <a:ext cx="0" cy="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099120" y="5668920"/>
            <a:ext cx="0" cy="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364520" y="5668920"/>
            <a:ext cx="0" cy="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628120" y="5668920"/>
            <a:ext cx="0" cy="38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6160" y="422280"/>
            <a:ext cx="1839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19120" y="646200"/>
            <a:ext cx="45356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c5e"/>
                </a:solidFill>
                <a:latin typeface="Arial"/>
              </a:rPr>
              <a:t>Relationship of Volume and Intensity to Pr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944160" y="898560"/>
            <a:ext cx="1263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c5e"/>
                </a:solidFill>
                <a:latin typeface="Arial"/>
              </a:rPr>
              <a:t>1994 - 199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68080" y="558972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c5e"/>
                </a:solidFill>
                <a:latin typeface="Arial"/>
              </a:rPr>
              <a:t>0.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68080" y="510372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c5e"/>
                </a:solidFill>
                <a:latin typeface="Arial"/>
              </a:rPr>
              <a:t>1.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8080" y="46180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c5e"/>
                </a:solidFill>
                <a:latin typeface="Arial"/>
              </a:rPr>
              <a:t>2.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8080" y="413064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c5e"/>
                </a:solidFill>
                <a:latin typeface="Arial"/>
              </a:rPr>
              <a:t>3.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8080" y="364500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c5e"/>
                </a:solidFill>
                <a:latin typeface="Arial"/>
              </a:rPr>
              <a:t>4.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8080" y="315756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c5e"/>
                </a:solidFill>
                <a:latin typeface="Arial"/>
              </a:rPr>
              <a:t>5.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8080" y="267192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c5e"/>
                </a:solidFill>
                <a:latin typeface="Arial"/>
              </a:rPr>
              <a:t>6.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68080" y="218592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c5e"/>
                </a:solidFill>
                <a:latin typeface="Arial"/>
              </a:rPr>
              <a:t>7.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8080" y="169848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c5e"/>
                </a:solidFill>
                <a:latin typeface="Arial"/>
              </a:rPr>
              <a:t>8.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8080" y="1212840"/>
            <a:ext cx="4694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c5e"/>
                </a:solidFill>
                <a:latin typeface="Arial"/>
              </a:rPr>
              <a:t>9.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5880" y="5770440"/>
            <a:ext cx="10562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c5e"/>
                </a:solidFill>
                <a:latin typeface="Arial"/>
              </a:rPr>
              <a:t>(-15%) - (-10%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46200" y="5770440"/>
            <a:ext cx="9860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c5e"/>
                </a:solidFill>
                <a:latin typeface="Arial"/>
              </a:rPr>
              <a:t>(-10%) - (-5%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67040" y="5770440"/>
            <a:ext cx="8733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c5e"/>
                </a:solidFill>
                <a:latin typeface="Arial"/>
              </a:rPr>
              <a:t>(-5%) - (0%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051520" y="5770440"/>
            <a:ext cx="8305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c5e"/>
                </a:solidFill>
                <a:latin typeface="Arial"/>
              </a:rPr>
              <a:t>(0%) - (5%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81640" y="577044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c5e"/>
                </a:solidFill>
                <a:latin typeface="Arial"/>
              </a:rPr>
              <a:t>(5%) - (10%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09960" y="5770440"/>
            <a:ext cx="9709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c5e"/>
                </a:solidFill>
                <a:latin typeface="Arial"/>
              </a:rPr>
              <a:t>(10%) - (15%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6160" y="42084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53040" y="5989680"/>
            <a:ext cx="1158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c5e"/>
                </a:solidFill>
                <a:latin typeface="Arial"/>
              </a:rPr>
              <a:t>Price Incr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6160" y="420840"/>
            <a:ext cx="1839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rot="16200000">
            <a:off x="-760320" y="3537360"/>
            <a:ext cx="2240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c5e"/>
                </a:solidFill>
                <a:latin typeface="Arial"/>
              </a:rPr>
              <a:t>Volume and Intensity Incr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b122a"/>
            </a:gs>
            <a:gs pos="100000">
              <a:srgbClr val="772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990720" y="1066680"/>
          <a:ext cx="7251480" cy="405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725148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122a"/>
            </a:gs>
            <a:gs pos="100000">
              <a:srgbClr val="772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appropriate offse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% offset to price re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offset for price in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ufficient information to determine variation by special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122a"/>
            </a:gs>
            <a:gs pos="100000">
              <a:srgbClr val="772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Y2004 Payment Updat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ch Estim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23880" y="3048120"/>
          <a:ext cx="6096240" cy="2654280"/>
        </p:xfrm>
        <a:graphic>
          <a:graphicData uri="http://schemas.openxmlformats.org/drawingml/2006/table">
            <a:tbl>
              <a:tblPr/>
              <a:tblGrid>
                <a:gridCol w="4419720"/>
                <a:gridCol w="167652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formance Adjust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5.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gislated Adjustmen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0.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otal Increa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4.2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122a"/>
            </a:gs>
            <a:gs pos="100000">
              <a:srgbClr val="772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CY2004 Payment Update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onents of the Change in the Estim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762120" y="2743200"/>
            <a:ext cx="8001000" cy="3832200"/>
            <a:chOff x="762120" y="2743200"/>
            <a:chExt cx="8001000" cy="3832200"/>
          </a:xfrm>
        </p:grpSpPr>
        <p:sp>
          <p:nvSpPr>
            <p:cNvPr id="48" name=""/>
            <p:cNvSpPr/>
            <p:nvPr/>
          </p:nvSpPr>
          <p:spPr>
            <a:xfrm>
              <a:off x="4952880" y="5981760"/>
              <a:ext cx="38102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29000" y="5981760"/>
              <a:ext cx="152388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4.2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62120" y="5981760"/>
              <a:ext cx="266688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3/03 Estima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952880" y="5281560"/>
              <a:ext cx="381024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otal Growth from 4.2% to 6.5% in 200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29000" y="5281560"/>
              <a:ext cx="15238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2.6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120" y="5281560"/>
              <a:ext cx="2666880" cy="7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igher Non-Drug Grow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952880" y="4687920"/>
              <a:ext cx="38102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rom 20% to 25% in 200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29000" y="4687920"/>
              <a:ext cx="152388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0.6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2120" y="4687920"/>
              <a:ext cx="266688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Higher Drug Growth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52880" y="3927600"/>
              <a:ext cx="38102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rom 2.3% to 1.5% in 200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rom 3.3% to 2.0% in 200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29000" y="3927600"/>
              <a:ext cx="152388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2.4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62120" y="3927600"/>
              <a:ext cx="266688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ower GD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952880" y="3336840"/>
              <a:ext cx="381024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rom 2.3% to 2.0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429000" y="3336840"/>
              <a:ext cx="152388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-0.3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62120" y="3336840"/>
              <a:ext cx="266688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ower ME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52880" y="2743200"/>
              <a:ext cx="381024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429000" y="2743200"/>
              <a:ext cx="152388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.7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62120" y="2743200"/>
              <a:ext cx="266688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8/02 Estima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2120" y="333684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62120" y="3927600"/>
              <a:ext cx="800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62120" y="4687920"/>
              <a:ext cx="800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5281560"/>
              <a:ext cx="80010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62120" y="598176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762120" y="6575400"/>
              <a:ext cx="80010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62120" y="2743200"/>
              <a:ext cx="0" cy="593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29000" y="2743200"/>
              <a:ext cx="0" cy="383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952880" y="2743200"/>
              <a:ext cx="0" cy="383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763120" y="2743200"/>
              <a:ext cx="0" cy="593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29000" y="2743200"/>
              <a:ext cx="1523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62120" y="2743200"/>
              <a:ext cx="2666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52880" y="2743200"/>
              <a:ext cx="38102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281560"/>
              <a:ext cx="0" cy="700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62120" y="3336840"/>
              <a:ext cx="0" cy="1944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2120" y="5981760"/>
              <a:ext cx="0" cy="593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763120" y="5281560"/>
              <a:ext cx="0" cy="7002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763120" y="3336840"/>
              <a:ext cx="0" cy="1944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763120" y="5981760"/>
              <a:ext cx="0" cy="5936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b122a"/>
            </a:gs>
            <a:gs pos="100000">
              <a:srgbClr val="772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39640" y="485640"/>
          <a:ext cx="8251920" cy="563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85640"/>
                    <a:ext cx="8251920" cy="56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3048120" y="2057400"/>
            <a:ext cx="2816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5-percent projection interval (shaded are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5880" y="2438280"/>
            <a:ext cx="2362320" cy="1805040"/>
          </a:xfrm>
          <a:prstGeom prst="rect">
            <a:avLst/>
          </a:prstGeom>
          <a:solidFill>
            <a:srgbClr val="7e004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6080" rIns="46080" tIns="92160" bIns="9216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bability the Physician Update Percentage is in the Range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ow -6.0                0.1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6.0 to -4.1              49.5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4.0 to -2.1              29.6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.0 to -0.1              16.1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0 to  1.9                4.2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ove  1.9               0.6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122a"/>
            </a:gs>
            <a:gs pos="100000">
              <a:srgbClr val="772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Preliminary CY 2002 Data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nding increases by types of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447920" y="2971800"/>
            <a:ext cx="6095880" cy="3174840"/>
            <a:chOff x="1447920" y="2971800"/>
            <a:chExt cx="6095880" cy="3174840"/>
          </a:xfrm>
        </p:grpSpPr>
        <p:sp>
          <p:nvSpPr>
            <p:cNvPr id="92" name=""/>
            <p:cNvSpPr/>
            <p:nvPr/>
          </p:nvSpPr>
          <p:spPr>
            <a:xfrm>
              <a:off x="5410080" y="5616720"/>
              <a:ext cx="213372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25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47920" y="5616720"/>
              <a:ext cx="3962160" cy="52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Drug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410080" y="5089680"/>
              <a:ext cx="21337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1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447920" y="5089680"/>
              <a:ext cx="39621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Test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10080" y="4559400"/>
              <a:ext cx="2133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7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47920" y="4559400"/>
              <a:ext cx="396216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Imag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10080" y="4029120"/>
              <a:ext cx="2133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10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47920" y="4029120"/>
              <a:ext cx="396216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ffice Visit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10080" y="3502080"/>
              <a:ext cx="21337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8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447920" y="3502080"/>
              <a:ext cx="396216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Other Procedur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2971800"/>
              <a:ext cx="213372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-1%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447920" y="2971800"/>
              <a:ext cx="396216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ajor Procedure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447920" y="2971800"/>
              <a:ext cx="6095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7920" y="3502080"/>
              <a:ext cx="6095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447920" y="4029120"/>
              <a:ext cx="6095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47920" y="4559400"/>
              <a:ext cx="6095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7920" y="5089680"/>
              <a:ext cx="6095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47920" y="5616720"/>
              <a:ext cx="6095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447920" y="6146640"/>
              <a:ext cx="60958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447920" y="2971800"/>
              <a:ext cx="0" cy="3174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410080" y="2971800"/>
              <a:ext cx="0" cy="317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43800" y="2971800"/>
              <a:ext cx="0" cy="3174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b122a"/>
            </a:gs>
            <a:gs pos="100000">
              <a:srgbClr val="772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8640" y="2403360"/>
            <a:ext cx="8302680" cy="20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Physician Volume-and-Intensity Response to a Price Chan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b122a"/>
            </a:gs>
            <a:gs pos="100000">
              <a:srgbClr val="772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</a:rPr>
              <a:t>Illustration</a:t>
            </a:r>
            <a:endParaRPr b="0" lang="en-US" sz="4400" spc="-1" strike="noStrike">
              <a:solidFill>
                <a:srgbClr val="00dfca"/>
              </a:solidFill>
              <a:latin typeface="Book Antiqu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me in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aec5e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nsity incre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co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ift from visits to consul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d989b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re expensive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b122a"/>
            </a:gs>
            <a:gs pos="100000">
              <a:srgbClr val="772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533520" y="990720"/>
          <a:ext cx="8089920" cy="48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990720"/>
                    <a:ext cx="8089920" cy="48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b122a"/>
            </a:gs>
            <a:gs pos="100000">
              <a:srgbClr val="77265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685800"/>
          <a:ext cx="8089920" cy="52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8089920" cy="52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9T10:21:14Z</dcterms:created>
  <dc:creator/>
  <dc:description/>
  <dc:language>en-US</dc:language>
  <cp:lastModifiedBy>CMS</cp:lastModifiedBy>
  <cp:lastPrinted>1999-04-22T15:09:16Z</cp:lastPrinted>
  <dcterms:modified xsi:type="dcterms:W3CDTF">2003-06-02T16:08:48Z</dcterms:modified>
  <cp:revision>7</cp:revision>
  <dc:subject/>
  <dc:title>Training</dc:title>
</cp:coreProperties>
</file>