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972-750B-4C27-9505-4965DE82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8EEE-B4A5-4445-B121-33034BDE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D289-48E3-48F4-9D31-84419700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FD9-105C-4F55-8F93-EBD63A4E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85A5-4DF8-49E5-96F7-E7595671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10E6-DED5-49CD-8117-8B6912D3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5522-C2AF-4ADE-8820-F5AEBB18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EF81D-D87F-4C0A-A863-E3A3F126A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5348-A736-493C-B180-982F1EB7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E8AF-2BCB-4769-8670-95CC016B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BCDAB-31D7-4018-87E1-34B5DF57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578-FF15-4F9B-973C-E14ABCB1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7EC0-E92B-4B7A-BB23-5BC1E7DC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6B9A1-15AE-4EFD-AF6C-41B893D4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6066D-2D60-481C-BF2C-98C217ED4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2BFE3-6803-48AC-B08F-1A3DB944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0A20-C3A5-490C-9F77-0DA9449B4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18EE-618D-4AA8-9E1B-C9A432BE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BB60-3A24-4366-862B-9E0AE1B3A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4A2-B91E-45A5-9EBC-3C96BCA3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4B8E-1DAB-4CA3-A73C-DD190E97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F2E0-37FC-4695-AE56-69D8927D5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553D-26DA-4E5F-88CC-124E225D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76CB-7078-40AA-A420-22D98EC9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" name="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" name="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" name="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12EE-6D3E-415B-B7AE-ACC1CEE49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A160B-65EE-46AA-B8CD-9F75DACE5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fd1e7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94920" y="24379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MD Access Surve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219320" y="4114800"/>
            <a:ext cx="71625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nneth Simon, M.D., M.B.A., F.A.C.S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chard Lawlor, DC, M.B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T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19,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acticing Physicians Advisory Counc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533520" y="304920"/>
            <a:ext cx="8610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ould you do to make your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ore accessi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the physician wi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ssue requiring your atten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1981080"/>
          <a:ext cx="7772400" cy="478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7772400" cy="478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219320" y="2286000"/>
            <a:ext cx="411480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mon suggestion to increase access was to increase direct outreach to physician grou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257040"/>
            <a:ext cx="7925040" cy="16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ich contractor sta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ke you awa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at a physician is trying to call you?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.g. call staff center, medical staff review, et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609480" y="1981080"/>
          <a:ext cx="8229600" cy="487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822960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4267080" y="2362320"/>
            <a:ext cx="7621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9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2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6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18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incoming CSR calls b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outed to yo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an MR/LPE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linicia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hen the provider has a question that cannot be answered by CSRs or professional relations staf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85800" y="1981080"/>
          <a:ext cx="8153280" cy="4781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1532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3962520" y="2819520"/>
            <a:ext cx="426708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arriers have processes set up to allow a direct transfer of physician calls to CMD'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5341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you and the other MR/LPET clinician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keep tra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how many calls you are getting on a particular subject 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velop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the CSRs and professional staf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8136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609480" y="2038320"/>
          <a:ext cx="8153640" cy="481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38320"/>
                    <a:ext cx="815364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0" name=""/>
          <p:cNvSpPr/>
          <p:nvPr/>
        </p:nvSpPr>
        <p:spPr>
          <a:xfrm>
            <a:off x="6019920" y="2590920"/>
            <a:ext cx="2438280" cy="100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% of CMD’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a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heir calls on certain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3962520"/>
            <a:ext cx="2438280" cy="1313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13% have develope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rip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o respond to common iss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roportion of your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pent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reac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cluding phone calls) to physicians and other providers/supplier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3" name=""/>
          <p:cNvGraphicFramePr/>
          <p:nvPr/>
        </p:nvGraphicFramePr>
        <p:xfrm>
          <a:off x="685800" y="1981080"/>
          <a:ext cx="8153280" cy="470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153280" cy="470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4495680" y="2209680"/>
            <a:ext cx="4038840" cy="1676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re than half of CMD's spend around 15% to 30% of their time on education and outreach, for physicians, providers &amp; suppli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Physicians complained to you of inadequate acces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143000" y="2666880"/>
            <a:ext cx="7086600" cy="204372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% of CMD’s in survey indicated that they hav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ad any complaints regarding their access to physic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recognizes the sampling effect of the surv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MS believes more information is required from both physicians and CMDs to better understand the extent of this probl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reas for improvement of access and communication between CMDs and Physicians (ie. Physician outreach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 all CMDs to publish their direct phone line and email address on the carrier website and in the carrier newslet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eee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sure that a uniform, responsive CSR process exists for all carriers to improve access to physic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physicians have adequate access to you?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685800" y="2127240"/>
          <a:ext cx="815328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27240"/>
                    <a:ext cx="815328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"/>
          <p:cNvSpPr/>
          <p:nvPr/>
        </p:nvSpPr>
        <p:spPr>
          <a:xfrm>
            <a:off x="4800600" y="2590920"/>
            <a:ext cx="3048120" cy="1371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ity of CMD'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that they provide adequate access for physici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838080" y="609480"/>
            <a:ext cx="7620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predominan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tho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physicians use to reach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85800" y="1981080"/>
          <a:ext cx="8153280" cy="4741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153280" cy="47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3352680" y="2438280"/>
            <a:ext cx="4876920" cy="703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hone and email were the most common methods of primary conta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506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typica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eekly volu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calls/contacts you receive from physicia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685800" y="1981080"/>
          <a:ext cx="8001000" cy="482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00100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4876920" y="2590920"/>
            <a:ext cx="3200400" cy="1447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 majority of CMD's reported 10 to 20 physician calls/contacts per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5867280"/>
            <a:ext cx="2057400" cy="533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3818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your phone contact with physicians primarily through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om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alls or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lls you retur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762120" y="1981080"/>
          <a:ext cx="8076960" cy="4759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76960" cy="47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1828800" y="419112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352680" y="41911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5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2917800"/>
            <a:ext cx="3124440" cy="1618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D telephone access with physicians is split equally between taking incoming calls and returning ca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57150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swering incoming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14400" y="577548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turning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portion of your total worklo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o phone calls make up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666880"/>
            <a:ext cx="5791320" cy="82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MD time spent on phone calls ranged from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%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25%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f their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4030560"/>
            <a:ext cx="5791320" cy="16599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amount of time spent on telephone calls with physicia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360" y="304560"/>
            <a:ext cx="784836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feel that yo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l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ommod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crea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the number of call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762120" y="1981080"/>
          <a:ext cx="8001000" cy="48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800100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4343400" y="2743200"/>
            <a:ext cx="3352680" cy="99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majority of CMD's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t they could handle additional phone ca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914400" y="228600"/>
            <a:ext cx="822960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y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irect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phone numb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sted (or a number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ach you) available to physicians and/or other providers?     If so, where is it li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1981080"/>
          <a:ext cx="8153280" cy="4735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8153280" cy="473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4724280" y="2514600"/>
            <a:ext cx="3733920" cy="1066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jority of CMD's report that their direct phone number is publicly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76920" y="3733920"/>
            <a:ext cx="35812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most common responses of where it was listed were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rier websit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ia state and local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medical group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 and o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ewslett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rresponde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nd othe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rrier mailing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make you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-mail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ublic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ailab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physicians? If so, where is it list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533520" y="1981080"/>
          <a:ext cx="8229600" cy="483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229600" cy="48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"/>
          <p:cNvSpPr/>
          <p:nvPr/>
        </p:nvSpPr>
        <p:spPr>
          <a:xfrm>
            <a:off x="5257800" y="3352680"/>
            <a:ext cx="3276720" cy="28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, the location of the listings was very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consisten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lud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Carrie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web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M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business c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Medica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ociety lis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letterh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 provider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ion let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t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peaking engag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alway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when requeste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95480" y="2362320"/>
            <a:ext cx="5410440" cy="825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D’s responded that their email address was publicly 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0T20:57:42Z</dcterms:created>
  <dc:creator>Kenneth Simon, M.D., M.B.A.</dc:creator>
  <dc:description/>
  <dc:language>en-US</dc:language>
  <cp:lastModifiedBy>CMS</cp:lastModifiedBy>
  <dcterms:modified xsi:type="dcterms:W3CDTF">2003-05-29T13:10:06Z</dcterms:modified>
  <cp:revision>80</cp:revision>
  <dc:subject/>
  <dc:title>CMD SURVE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