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89F3-21A5-45BD-AEBC-345D1850F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0C82-056B-4B28-98C8-12CF47E97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D6B0-F7FE-449D-BDDC-916997542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4268-F14C-45E0-BA27-8937376433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A51E-C7A0-4A9B-8D89-31A152C4DC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C424-C64E-4164-8F45-F60AA7B08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D39C-0C47-4B19-AD43-989ABA7CA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85AC7-D710-49ED-9778-C656315B5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A3912-8311-40C7-BE51-DF6B9D4CF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FC41-280B-4C4B-8778-803DF962D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C336-FE22-4D7D-AE3C-E7078F47E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756C-3E72-4AAB-96E0-32380B98F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C779-0841-42B5-B6A7-EA1DC312F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pat-comments@rti.org" TargetMode="External"/><Relationship Id="rId2" Type="http://schemas.openxmlformats.org/officeDocument/2006/relationships/hyperlink" Target="http://www.cms.hhs.gov/SNFPPS/Downloads/pac_reform_plan_2006.pdf" TargetMode="External"/><Relationship Id="rId3" Type="http://schemas.openxmlformats.org/officeDocument/2006/relationships/hyperlink" Target="http://www.cms.hhs.gov/SNFPPS/Downloads/pac_reform_plan_2006.pdf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Michael.Rapp@cms.hhs.gov" TargetMode="External"/><Relationship Id="rId2" Type="http://schemas.openxmlformats.org/officeDocument/2006/relationships/hyperlink" Target="mailto:Mary.Pratt@cms.hhs.gov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udith.tobin@cms.hhs.gov" TargetMode="External"/><Relationship Id="rId2" Type="http://schemas.openxmlformats.org/officeDocument/2006/relationships/hyperlink" Target="mailto:bgage@rti.org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524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Berlin Sans FB"/>
              </a:rPr>
              <a:t>Internet-based “CAR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erlin Sans FB"/>
              </a:rPr>
              <a:t>Uniform Patient Assessment Instru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chael T. Rapp, MD, 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rector, Quality Measurement &amp; Health Assessmen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fice of Clinical Standards and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nters for Medicare &amp; Medicaid Servic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5720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15E3-38C3-4A86-8A2C-71D6BBBFFC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xisting Instruments </a:t>
            </a:r>
            <a:br>
              <a:rPr sz="3200"/>
            </a:b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continued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MDS, OASIS &amp; IRF-PAI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atible data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c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assess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s and LTCH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current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to use a standardize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compare outcomes and utilization across providers,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AF6A-5E14-43E8-A1B7-E4964503B9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Previous Efforts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Needs Assessment Instrument (UNA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 of Care Record (C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Post-Acute Care (MDS-P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 Geriatrics Extended Care (GEC) Referr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Transitions Measure (C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Health Record (P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5544-5AED-4E95-9384-B4E6E9FF4D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CMS-OCSQ’s Role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ndard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assessment instrumen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atient characteristics and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ly communicate key information  between providers, consistent with IOM’s six critical 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 (safe transitions between care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-cent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(optimal use of inform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(evidence-based, useful &amp; clinically relev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y (reduced data collection burden, real-time transmi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y (informs quality and payment policy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45CF6-7989-4A2C-89F8-FD6F32397D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CARE Opportunities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of “CAR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Continuity Assessment Record &amp; Evalu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s as a continuity of care rec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clinical excel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s efficiencies available throu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technology advanc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s us forward toward an electronic health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s data predictive of outcomes and resource utilization to guide quality and payment policy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321B-B37E-453E-949E-8AEF770193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Importance to Physicians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viders’ data collection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CMS imp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IO Initiatives: Patient Pathways/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 Quality Reporting Initiative (PQ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Qualit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1EA4-B038-4E18-9EAB-F0CB502F7B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Instrument Development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i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evelop a clinically relevant, useful, efficient, internet-based instrument to support high quality clinical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ention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SQ and our primary contractor RTI are developing the CARE instru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I’s key partners incl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habilitation Institute of Chic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rthwestern University, Evan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ts national network of experts engaged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M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itiative.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i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ort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comes &amp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urem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or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52D1-CFA6-4481-A158-EE539F867A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Instrument Development</a:t>
            </a: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continued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is soliciting and responding to stakeholder involvement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ODF with 2200+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December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EP with broad industry representation (March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P subject matter expe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pril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74B8-7D60-4469-B815-A73A7B7E29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Instrument Development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continued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ing NIH-PROMIS work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item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ized adaptive tests (C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Response Theory (I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oth new and existing items to produce a scientifically-based instrument that will be widely accepted by stakehol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27A6-2C2C-48CE-8036-F270067739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Instrument Development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continued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substantially on insights from current instruments (MDS 2.0,3.0, OASIS, IRF-PA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rage data, generated from current instruments by producing a cross-walk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items to the CARE standardized measurement sc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6893-0BD7-41D0-A357-575771C845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Instrument Development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continued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a core set of assess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5 major domai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/Environ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67CD-CB81-482E-A1EC-85E08B1B51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cit Reduction Act of 2005 (DRA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: 3 Contracts Aw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-OCSQ’s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e to Phys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353C8-1400-449E-AC2E-F525610E35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Instrument Development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continued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will be use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disch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PAC settings (SNFs, IRFs, HHAs, LTCH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int &amp; Significa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C46D-C68F-48C9-8B65-25CF28E0D5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Challenges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Development Task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and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ly integr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interdependent across CMS components: OCSQ, OIS, ORDI &amp; CM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ed into very aggressive time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 are entering new territor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2505-6E0A-4F6A-AFFA-606D706112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imeline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Development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prog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progress &amp; continuing 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B PRA, Federal Regist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omment Period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ummer/Fall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 in ~ 10 market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arly 2008-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&amp; Analysis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2009-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to Congress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current instr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consolidation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ver next few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D661-3320-4C88-B66C-F2E3301EF8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Summary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s goal is to devel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ndardiz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instrument tha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ly relevant to delivering safe, efficient, effective, equitable &amp; timely patient-centered c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ed in scientific evi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for easy, rapid accommodation of clinical and technological adv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le across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frien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and accepted by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ACDB-98C4-4ED9-A62C-8E12E932AA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Questions or Considerations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highest priority items to collect on the CARE instr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ospital dis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transfer to home care 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EHR adoption, would it be desirable to be able to download CARE info &amp;/or upload EHR data to the CARE instru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you be interested in providing small group feedback on the instru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B386B-D07F-4215-82D8-A0822F5D28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send comment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pat-comments@rt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the Post-Acute Care Reform Plan may be found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www.cms.hhs.gov/SNFPP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Downloads/pac_reform_plan_2006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E91B-BA70-42D0-8E56-F15EEFED0B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ichael Rapp,  MD, 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irector, Quality Measurement &amp; Health Assess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410) 786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Michael.Rapp@cms.hh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ary Pr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irector, Division of Ambulatory &amp; Post-Acute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410) 786-6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Mary.Pratt@cms.hh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4A0E-7AF2-45DA-B837-6EFC6DDF2E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Judith Tobin, CMS-OCSQ-QMHAG-DA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ject Officer, Instru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410) 786-68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Judith.tobin@cms.hh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arbara Gage, 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incipal Investig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781) 434-17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bgage@rt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BD696-F13C-4F11-AD90-A7B22EEA34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Deficit Reduction Act of 2005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(DRA, </a:t>
            </a:r>
            <a:r>
              <a:rPr b="0" lang="en-US" sz="3200" spc="-1" strike="noStrike">
                <a:solidFill>
                  <a:srgbClr val="000066"/>
                </a:solidFill>
                <a:latin typeface="Arial Rounded MT Bold"/>
                <a:ea typeface="Arial"/>
              </a:rPr>
              <a:t>§</a:t>
            </a: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5008) </a:t>
            </a: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Requires CMS to: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uniform assessment instrument to measure and compare Medicare beneficiaries’ health and functional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provider settings,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he instrument’s usefulness in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year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starting early 200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40C9E-2F04-4B87-8287-E56DA085D3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CMS  Has Awarded  3 Contracts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SQ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Instrum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Triangle International (R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and Analysis: R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/ Internet Platform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3B6D-EACC-413C-9926-520CBDBC77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Background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t least twenty ye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ians and regulators h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ght ways to evalu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nical sta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eds of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between care setting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7B03A-923A-49EE-BD2F-8CF48F692F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Background</a:t>
            </a:r>
            <a:br>
              <a:rPr sz="3200"/>
            </a:b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continued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, Medicare benefit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policies have foc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ases of ill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fined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ecific site of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ather th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re nee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C046-77B0-4FE0-8C32-1458D085A7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Background</a:t>
            </a:r>
            <a:br>
              <a:rPr sz="3600"/>
            </a:b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continued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payments across PAC settings may differ considerably even though patients’ clinical characteristics, and services received, may be simi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8D5E-5551-4F24-A41A-F6AC1D83B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xisting Instruments 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SNFs, IRFs and HHAs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fferent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rally-mandated assessment instru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llect health statu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Fs:  Minimum Data Set  (M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HAs: Outcome &amp; Assessment Information Set (OA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Fs:  Inpatient Rehabilitation Facilit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Assessment Instrument (IRF-PA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51F2C-C811-4168-8A4A-93091BDE6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xisting Instruments</a:t>
            </a: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continued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, OASIS &amp; IRF-P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Critic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Groupers for Medicare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tates use for Medicaid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: Publicly Reported Q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&amp;Certification purposes (QI, Q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61B3-9C67-4F94-AA64-239BD1758D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7-05-30T20:20:43Z</dcterms:modified>
  <cp:revision>197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579621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/CMM)</vt:lpwstr>
  </property>
  <property fmtid="{D5CDD505-2E9C-101B-9397-08002B2CF9AE}" pid="5" name="_EmailSubject">
    <vt:lpwstr>Website Materials</vt:lpwstr>
  </property>
  <property fmtid="{D5CDD505-2E9C-101B-9397-08002B2CF9AE}" pid="6" name="_NewReviewCycle">
    <vt:lpwstr/>
  </property>
  <property fmtid="{D5CDD505-2E9C-101B-9397-08002B2CF9AE}" pid="7" name="_PreviousAdHocReviewCycleID">
    <vt:r8>294168575</vt:r8>
  </property>
</Properties>
</file>