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5E6FA-E9C8-4A85-A78B-C2A88DD83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E80A7-9103-4229-BDCF-E781297F6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D7697-4660-4781-BB2D-44FFE6384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E1638-328B-4191-BE70-43B709547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E778A-B508-4B4C-8770-D31A72FBE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DA9F8-38F8-434C-AFB1-87F4D1793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BFDAE-8672-449F-A2C9-4E8C735FF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DB2C1-7CAA-4BE3-A531-8E7B07CC9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BDCFB-FB35-44A9-A33F-7DB80D855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1F081-4BB0-4035-9628-EB8E98602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0E61A-B1EE-43B5-8D92-E0BE1009E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D2D96-C069-43AB-83C8-B03AF8C4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39A9E-6CB3-405E-9B16-4DB2F2B7B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44424-577B-4D7A-8CA9-3E55ADE1F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C1D87-28D1-4FF9-AA1C-ACD2EB4A5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70794-079E-4051-9B1F-9422AF722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C4D86-AB43-4743-BC83-925B9ACFB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75F6C-3177-4F90-8798-EB70089A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80C6F-0A02-4D07-9323-05E822B22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EC339-5DDC-48A7-B3BD-BD1D7A162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93E4F-6C15-458C-9852-FBC565A53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C34CA-8F97-4D1F-A5CA-4AF73A9F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465F-03C4-4283-9CD8-FBF16C0CD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6C1B1-F11F-49AF-A11C-368A54D2B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A644-573D-4431-A729-16DF7CC4C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94B8-2E1A-4D95-8447-1A66B8151E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ms.hhs.gov/PRIT/PRITIA/itemdetail.asp?filterType=none&amp;filterByDID=-99&amp;sortByDID=4&amp;sortOrder=ascending&amp;itemID=CMS061926&amp;intNumPerPage=10" TargetMode="External"/><Relationship Id="rId2" Type="http://schemas.openxmlformats.org/officeDocument/2006/relationships/hyperlink" Target="http://www.cms.hhs.gov/PRIT/PRITIA/itemdetail.asp?filterType=none&amp;filterByDID=-99&amp;sortByDID=4&amp;sortOrder=ascending&amp;itemID=CMS062938&amp;intNumPerPage=10" TargetMode="External"/><Relationship Id="rId3" Type="http://schemas.openxmlformats.org/officeDocument/2006/relationships/hyperlink" Target="http://www.cms.hhs.gov/PRIT/PRITIA/itemdetail.asp?filterType=none&amp;filterByDID=-99&amp;sortByDID=4&amp;sortOrder=ascending&amp;itemID=CMS062936&amp;intNumPerPage=10" TargetMode="External"/><Relationship Id="rId4" Type="http://schemas.openxmlformats.org/officeDocument/2006/relationships/hyperlink" Target="http://www.cms.hhs.gov/PRIT/PRITIA/itemdetail.asp?filterType=none&amp;filterByDID=-99&amp;sortByDID=4&amp;sortOrder=ascending&amp;itemID=CMS062933&amp;intNumPerPage=10" TargetMode="External"/><Relationship Id="rId5" Type="http://schemas.openxmlformats.org/officeDocument/2006/relationships/hyperlink" Target="http://www.cms.hhs.gov/PRIT/PRITIA/itemdetail.asp?filterType=none&amp;filterByDID=-99&amp;sortByDID=4&amp;sortOrder=ascending&amp;itemID=CMS064833&amp;intNumPerPage=10" TargetMode="External"/><Relationship Id="rId6" Type="http://schemas.openxmlformats.org/officeDocument/2006/relationships/hyperlink" Target="http://www.cms.hhs.gov/PRIT/PRITIA/itemdetail.asp?filterType=none&amp;filterByDID=-99&amp;sortByDID=4&amp;sortOrder=ascending&amp;itemID=CMS1184526&amp;intNumPerPage=10" TargetMode="External"/><Relationship Id="rId7" Type="http://schemas.openxmlformats.org/officeDocument/2006/relationships/hyperlink" Target="http://www.cms.hhs.gov/PRIT/PRITIA/itemdetail.asp?filterType=none&amp;filterByDID=-99&amp;sortByDID=4&amp;sortOrder=ascending&amp;itemID=CMS1186562&amp;intNumPerPage=10" TargetMode="External"/><Relationship Id="rId8" Type="http://schemas.openxmlformats.org/officeDocument/2006/relationships/hyperlink" Target="http://www.cms.hhs.gov/PRIT/PRITIA/itemdetail.asp?filterType=none&amp;filterByDID=-99&amp;sortByDID=4&amp;sortOrder=ascending&amp;itemID=CMS1190179&amp;intNumPerPage=10" TargetMode="External"/><Relationship Id="rId9" Type="http://schemas.openxmlformats.org/officeDocument/2006/relationships/hyperlink" Target="http://www.cms.hhs.gov/PRIT/PRITIA/itemdetail.asp?filterType=none&amp;filterByDID=-99&amp;sortByDID=4&amp;sortOrder=ascending&amp;itemID=CMS1192143&amp;intNumPerPage=10" TargetMode="External"/><Relationship Id="rId10" Type="http://schemas.openxmlformats.org/officeDocument/2006/relationships/hyperlink" Target="http://www.cms.hhs.gov/PRIT/PRITIA/itemdetail.asp?filterType=none&amp;filterByDID=-99&amp;sortByDID=4&amp;sortOrder=ascending&amp;itemID=CMS1194870&amp;intNumPerPage=10" TargetMode="External"/><Relationship Id="rId11" Type="http://schemas.openxmlformats.org/officeDocument/2006/relationships/hyperlink" Target="http://www.cms.hhs.gov/PRIT/PRITIA/itemdetail.asp?filterType=none&amp;filterByDID=-99&amp;sortByDID=4&amp;sortOrder=ascending&amp;itemID=CMS1196520&amp;intNumPerPage=10" TargetMode="External"/><Relationship Id="rId12" Type="http://schemas.openxmlformats.org/officeDocument/2006/relationships/hyperlink" Target="http://www.cms.hhs.gov/PRIT/PRITIA/itemdetail.asp?filterType=none&amp;filterByDID=-99&amp;sortByDID=4&amp;sortOrder=ascending&amp;itemID=CMS1196520&amp;intNumPerPage=10" TargetMode="External"/><Relationship Id="rId13" Type="http://schemas.openxmlformats.org/officeDocument/2006/relationships/hyperlink" Target="http://www.cms.hhs.gov/PRIT/PRITIA/itemdetail.asp?filterType=none&amp;filterByDID=-99&amp;sortByDID=4&amp;sortOrder=ascending&amp;itemID=CMS1196520&amp;intNumPerPage=10" TargetMode="External"/><Relationship Id="rId14" Type="http://schemas.openxmlformats.org/officeDocument/2006/relationships/oleObject" Target="../embeddings/oleObject1.bin"/><Relationship Id="rId15" Type="http://schemas.openxmlformats.org/officeDocument/2006/relationships/image" Target="../media/image2.png"/><Relationship Id="rId1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hyperlink" Target="mailto:William.Rogers@cms.hhs.gov" TargetMode="External"/><Relationship Id="rId2" Type="http://schemas.openxmlformats.org/officeDocument/2006/relationships/hyperlink" Target="mailto:PRIT@cms.hhs.gov" TargetMode="External"/><Relationship Id="rId3" Type="http://schemas.openxmlformats.org/officeDocument/2006/relationships/hyperlink" Target="http://www.cms.hhs.gov/PRIT" TargetMode="External"/><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45"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RIT updat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William Rogers, M.D. FACEP</a:t>
            </a:r>
            <a:endParaRPr b="0" lang="en-US" sz="2000" spc="-1" strike="noStrike">
              <a:solidFill>
                <a:srgbClr val="000000"/>
              </a:solidFill>
              <a:latin typeface="Times New Roman"/>
            </a:endParaRPr>
          </a:p>
        </p:txBody>
      </p:sp>
      <p:sp>
        <p:nvSpPr>
          <p:cNvPr id="146" name=""/>
          <p:cNvSpPr/>
          <p:nvPr/>
        </p:nvSpPr>
        <p:spPr>
          <a:xfrm>
            <a:off x="1752480" y="4038480"/>
            <a:ext cx="6400800" cy="1752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May 21, 2007</a:t>
            </a:r>
            <a:endParaRPr b="0" lang="en-US" sz="2000" spc="-1" strike="noStrike">
              <a:solidFill>
                <a:srgbClr val="000000"/>
              </a:solidFill>
              <a:latin typeface="Times New Roman"/>
            </a:endParaRPr>
          </a:p>
        </p:txBody>
      </p:sp>
      <p:graphicFrame>
        <p:nvGraphicFramePr>
          <p:cNvPr id="147" name=""/>
          <p:cNvGraphicFramePr/>
          <p:nvPr/>
        </p:nvGraphicFramePr>
        <p:xfrm>
          <a:off x="3416400" y="2058840"/>
          <a:ext cx="3657600" cy="181080"/>
        </p:xfrm>
        <a:graphic>
          <a:graphicData uri="http://schemas.openxmlformats.org/presentationml/2006/ole">
            <p:oleObj r:id="rId1" spid="">
              <p:embed/>
              <p:pic>
                <p:nvPicPr>
                  <p:cNvPr id="148"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149" name=""/>
          <p:cNvGraphicFramePr/>
          <p:nvPr/>
        </p:nvGraphicFramePr>
        <p:xfrm>
          <a:off x="6781680" y="5791320"/>
          <a:ext cx="1676520" cy="811080"/>
        </p:xfrm>
        <a:graphic>
          <a:graphicData uri="http://schemas.openxmlformats.org/presentationml/2006/ole">
            <p:oleObj r:id="rId3" spid="">
              <p:embed/>
              <p:pic>
                <p:nvPicPr>
                  <p:cNvPr id="150" name="" descr=""/>
                  <p:cNvPicPr/>
                  <p:nvPr/>
                </p:nvPicPr>
                <p:blipFill>
                  <a:blip r:embed="rId4"/>
                  <a:stretch/>
                </p:blipFill>
                <p:spPr>
                  <a:xfrm>
                    <a:off x="6781680" y="5791320"/>
                    <a:ext cx="1676520" cy="811080"/>
                  </a:xfrm>
                  <a:prstGeom prst="rect">
                    <a:avLst/>
                  </a:prstGeom>
                  <a:ln w="0">
                    <a:noFill/>
                  </a:ln>
                </p:spPr>
              </p:pic>
            </p:oleObj>
          </a:graphicData>
        </a:graphic>
      </p:graphicFrame>
      <p:sp>
        <p:nvSpPr>
          <p:cNvPr id="1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MEDICARE</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F3E7A3-BA00-4B0B-A852-21EB4716571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Outline</a:t>
            </a:r>
            <a:endParaRPr b="0" lang="en-US" sz="4400" spc="-1" strike="noStrike">
              <a:solidFill>
                <a:srgbClr val="000000"/>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IT issues</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Questions</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ontact info</a:t>
            </a:r>
            <a:endParaRPr b="0" lang="en-US" sz="3200" spc="-1" strike="noStrike">
              <a:solidFill>
                <a:srgbClr val="000000"/>
              </a:solidFill>
              <a:latin typeface="Times New Roman"/>
            </a:endParaRPr>
          </a:p>
        </p:txBody>
      </p:sp>
      <p:graphicFrame>
        <p:nvGraphicFramePr>
          <p:cNvPr id="154" name=""/>
          <p:cNvGraphicFramePr/>
          <p:nvPr/>
        </p:nvGraphicFramePr>
        <p:xfrm>
          <a:off x="6781680" y="5791320"/>
          <a:ext cx="1676520" cy="811080"/>
        </p:xfrm>
        <a:graphic>
          <a:graphicData uri="http://schemas.openxmlformats.org/presentationml/2006/ole">
            <p:oleObj r:id="rId1" spid="">
              <p:embed/>
              <p:pic>
                <p:nvPicPr>
                  <p:cNvPr id="155"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156" name="" descr=""/>
          <p:cNvPicPr/>
          <p:nvPr/>
        </p:nvPicPr>
        <p:blipFill>
          <a:blip r:embed="rId3"/>
          <a:stretch/>
        </p:blipFill>
        <p:spPr>
          <a:xfrm>
            <a:off x="4994280" y="0"/>
            <a:ext cx="4149720" cy="5769000"/>
          </a:xfrm>
          <a:prstGeom prst="rect">
            <a:avLst/>
          </a:prstGeom>
          <a:ln w="0">
            <a:noFill/>
          </a:ln>
        </p:spPr>
      </p:pic>
      <p:sp>
        <p:nvSpPr>
          <p:cNvPr id="4" name="PlaceHolder 3"/>
          <p:cNvSpPr>
            <a:spLocks noGrp="1"/>
          </p:cNvSpPr>
          <p:nvPr>
            <p:ph type="sldNum" idx="3"/>
          </p:nvPr>
        </p:nvSpPr>
        <p:spPr/>
        <p:txBody>
          <a:bodyPr/>
          <a:p>
            <a:fld id="{04C3CE2E-D2DC-4563-BE35-E6DFB479F2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57" name=""/>
          <p:cNvSpPr txBox="1"/>
          <p:nvPr/>
        </p:nvSpPr>
        <p:spPr>
          <a:xfrm>
            <a:off x="70102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29A9-F845-46F7-9857-214A479BC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
          <p:cNvSpPr txBox="1"/>
          <p:nvPr/>
        </p:nvSpPr>
        <p:spPr>
          <a:xfrm>
            <a:off x="11430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9" name="PlaceHolder 1"/>
          <p:cNvSpPr>
            <a:spLocks noGrp="1"/>
          </p:cNvSpPr>
          <p:nvPr>
            <p:ph/>
          </p:nvPr>
        </p:nvSpPr>
        <p:spPr>
          <a:xfrm>
            <a:off x="1066320" y="685440"/>
            <a:ext cx="7875720" cy="5375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1"/>
              </a:rPr>
              <a:t>Recovery Audit Contracts</a:t>
            </a:r>
            <a:r>
              <a:rPr b="1" lang="en-US" sz="2000" spc="-1" strike="noStrike">
                <a:solidFill>
                  <a:srgbClr val="000000"/>
                </a:solidFill>
                <a:latin typeface="Times New Roman"/>
              </a:rPr>
              <a:t>  01/10/2005</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2"/>
              </a:rPr>
              <a:t>Clarifying the rules concerning volunteer Graduate Medical Education</a:t>
            </a:r>
            <a:r>
              <a:rPr b="1" lang="en-US" sz="2000" spc="-1" strike="noStrike">
                <a:solidFill>
                  <a:srgbClr val="000000"/>
                </a:solidFill>
                <a:latin typeface="Times New Roman"/>
              </a:rPr>
              <a:t>  04/01/2005</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3"/>
              </a:rPr>
              <a:t>Can hospitals provide Continuing Medical Education?</a:t>
            </a:r>
            <a:r>
              <a:rPr b="1" lang="en-US" sz="2000" spc="-1" strike="noStrike">
                <a:solidFill>
                  <a:srgbClr val="000000"/>
                </a:solidFill>
                <a:latin typeface="Times New Roman"/>
              </a:rPr>
              <a:t>  05/01/2005</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4"/>
              </a:rPr>
              <a:t>Public availability of NPI numbers</a:t>
            </a:r>
            <a:r>
              <a:rPr b="1" lang="en-US" sz="2000" spc="-1" strike="noStrike">
                <a:solidFill>
                  <a:srgbClr val="000000"/>
                </a:solidFill>
                <a:latin typeface="Times New Roman"/>
              </a:rPr>
              <a:t>  02/06/200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5"/>
              </a:rPr>
              <a:t>Definition of Consultation</a:t>
            </a:r>
            <a:r>
              <a:rPr b="1" lang="en-US" sz="2000" spc="-1" strike="noStrike">
                <a:solidFill>
                  <a:srgbClr val="000000"/>
                </a:solidFill>
                <a:latin typeface="Times New Roman"/>
              </a:rPr>
              <a:t>  06/15/200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6"/>
              </a:rPr>
              <a:t>Simplifying the Work of Enrollment</a:t>
            </a:r>
            <a:r>
              <a:rPr b="1" lang="en-US" sz="2000" spc="-1" strike="noStrike">
                <a:solidFill>
                  <a:srgbClr val="000000"/>
                </a:solidFill>
                <a:latin typeface="Times New Roman"/>
              </a:rPr>
              <a:t>  07/14/200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7"/>
              </a:rPr>
              <a:t>Active Military Physicians' Ability to Bill Government Payers</a:t>
            </a:r>
            <a:r>
              <a:rPr b="1" lang="en-US" sz="2000" spc="-1" strike="noStrike">
                <a:solidFill>
                  <a:srgbClr val="000000"/>
                </a:solidFill>
                <a:latin typeface="Times New Roman"/>
              </a:rPr>
              <a:t>  09/05/200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8"/>
              </a:rPr>
              <a:t>Use of DEA numbers by Prescription Drug Plans</a:t>
            </a:r>
            <a:r>
              <a:rPr b="1" lang="en-US" sz="2000" spc="-1" strike="noStrike">
                <a:solidFill>
                  <a:srgbClr val="000000"/>
                </a:solidFill>
                <a:latin typeface="Times New Roman"/>
              </a:rPr>
              <a:t>  12/07/200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9"/>
              </a:rPr>
              <a:t>Part D Prior Authorizations for Antiretroviral Medications</a:t>
            </a:r>
            <a:r>
              <a:rPr b="1" lang="en-US" sz="2000" spc="-1" strike="noStrike">
                <a:solidFill>
                  <a:srgbClr val="000000"/>
                </a:solidFill>
                <a:latin typeface="Times New Roman"/>
              </a:rPr>
              <a:t>  01/08/2007</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10"/>
              </a:rPr>
              <a:t>Deeming</a:t>
            </a:r>
            <a:r>
              <a:rPr b="1" lang="en-US" sz="2000" spc="-1" strike="noStrike">
                <a:solidFill>
                  <a:srgbClr val="000000"/>
                </a:solidFill>
                <a:latin typeface="Times New Roman"/>
              </a:rPr>
              <a:t>  02/12/2007</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11"/>
              </a:rPr>
              <a:t>Locum </a:t>
            </a:r>
            <a:r>
              <a:rPr b="0" lang="en-US" sz="2000" spc="-1" strike="noStrike" u="sng">
                <a:solidFill>
                  <a:srgbClr val="6600cc"/>
                </a:solidFill>
                <a:uFillTx/>
                <a:latin typeface="Times New Roman"/>
                <a:hlinkClick r:id="rId12"/>
              </a:rPr>
              <a:t>Tenens</a:t>
            </a:r>
            <a:r>
              <a:rPr b="0" lang="en-US" sz="2000" spc="-1" strike="noStrike" u="sng">
                <a:solidFill>
                  <a:srgbClr val="6600cc"/>
                </a:solidFill>
                <a:uFillTx/>
                <a:latin typeface="Times New Roman"/>
                <a:hlinkClick r:id="rId13"/>
              </a:rPr>
              <a:t> for Physicians called to active duty</a:t>
            </a:r>
            <a:r>
              <a:rPr b="1" lang="en-US" sz="2000" spc="-1" strike="noStrike">
                <a:solidFill>
                  <a:srgbClr val="000000"/>
                </a:solidFill>
                <a:latin typeface="Times New Roman"/>
              </a:rPr>
              <a:t>  03/02/2007</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QRI Bonus Payments and Medicare Secondary Payer Services  04/24/2007</a:t>
            </a:r>
            <a:endParaRPr b="0" lang="en-US" sz="2000" spc="-1" strike="noStrike">
              <a:solidFill>
                <a:srgbClr val="000000"/>
              </a:solidFill>
              <a:latin typeface="Times New Roman"/>
            </a:endParaRPr>
          </a:p>
        </p:txBody>
      </p:sp>
      <p:graphicFrame>
        <p:nvGraphicFramePr>
          <p:cNvPr id="160" name=""/>
          <p:cNvGraphicFramePr/>
          <p:nvPr/>
        </p:nvGraphicFramePr>
        <p:xfrm>
          <a:off x="6781680" y="5791320"/>
          <a:ext cx="1676520" cy="811080"/>
        </p:xfrm>
        <a:graphic>
          <a:graphicData uri="http://schemas.openxmlformats.org/presentationml/2006/ole">
            <p:oleObj r:id="rId14" spid="">
              <p:embed/>
              <p:pic>
                <p:nvPicPr>
                  <p:cNvPr id="161" name="" descr=""/>
                  <p:cNvPicPr/>
                  <p:nvPr/>
                </p:nvPicPr>
                <p:blipFill>
                  <a:blip r:embed="rId15"/>
                  <a:stretch/>
                </p:blipFill>
                <p:spPr>
                  <a:xfrm>
                    <a:off x="6781680" y="5791320"/>
                    <a:ext cx="1676520" cy="81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143000" y="0"/>
            <a:ext cx="7772400" cy="568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RAC Audits in Californi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An Oncology practice in California complained that they were getting an unreasonable number of record requests from the RAC contracto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tus: We are facilitating a dialog between appropriate CMS staff and the practice to address the problem.</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Clarifying the Rules Concerning Volunteer GM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Teaching physicians feel the rules concerning use of volunteer faculty are unclear and difficult to implemen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tus: January 25: CMS released the 2008 Long Term Care Hospital proposed rule which contains proposed language addressing how a volunteer physician would document that he or she was eligible to be considered a volunteer teaching physicia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ssue Name Deeming</a:t>
            </a:r>
            <a:r>
              <a:rPr b="0" lang="en-US" sz="1600" spc="-1" strike="noStrike">
                <a:solidFill>
                  <a:srgbClr val="003399"/>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Physicians from the American Academy of Dermatology recently asked the PRIT to help them clarify CMS policy concerning 'deeming' by Medicare private fee for service plans.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tus: When you query Medicare regarding a beneficiary’s entitlement and eligibility, Medicare’s CWF system responds with information on the Medicare managed care contract number in which a beneficiary is enrolled, including the plan type description associated with the contract. Currently, CWF largely displays the label “HMO” for these contracts. In many cases, the “HMO” label is incorrect since the list of possible plan type values has grown far larger since the creation of the Medicare Advantage program. Beginning in July the CWF will specifically identify PFFS plans as such rather than identifying them as HMO. The full MLN article on this subject can be viewed at: http://www.cms.hhs.gov/MLNMattersArticles/downloads/MM5349.pdf</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63" name=""/>
          <p:cNvGraphicFramePr/>
          <p:nvPr/>
        </p:nvGraphicFramePr>
        <p:xfrm>
          <a:off x="6781680" y="5791320"/>
          <a:ext cx="1676520" cy="811080"/>
        </p:xfrm>
        <a:graphic>
          <a:graphicData uri="http://schemas.openxmlformats.org/presentationml/2006/ole">
            <p:oleObj r:id="rId1" spid="">
              <p:embed/>
              <p:pic>
                <p:nvPicPr>
                  <p:cNvPr id="164"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sldNum" idx="3"/>
          </p:nvPr>
        </p:nvSpPr>
        <p:spPr/>
        <p:txBody>
          <a:bodyPr/>
          <a:p>
            <a:fld id="{E0313C40-B5E3-4FD1-BD71-21C0D3E2CC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Can hospitals provide Continuing Medical Educati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A member of the Practicing Physicians Advisory Council asked the PRIT whether hospitals can provide free CME to members of their medical staff.</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CMS 1810-IFC was released Friday, March 26, 2004. This is an interim final rule with comment and among other things it addresses the issue of free CME provided by hospitals. It can be read at http://www.cms.hhs.gov/QuarterlyProviderUpdates/Downloads/cms1810ifc.pdf The language concerning CME is found on page 16114..</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Active Military Physicians' Ability to Bill Government Payer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We received a call from an active duty Air Force Emergency Physician who is working on weekends at a local civilian hospital where the acuity is higher than the military hospital to which he is assigned. He has been told by the billing company that they are not sure it is appropriate for them to bill other government payers for his service.</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April 11 The PRIT is aware that this issue is still unresolved.  A meeting of attorneys from HHS, NIH, and DOD is scheduled for next week and we hope that meeting will pave the way for a definitive answer.</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66" name=""/>
          <p:cNvGraphicFramePr/>
          <p:nvPr/>
        </p:nvGraphicFramePr>
        <p:xfrm>
          <a:off x="6781680" y="5791320"/>
          <a:ext cx="1676520" cy="811080"/>
        </p:xfrm>
        <a:graphic>
          <a:graphicData uri="http://schemas.openxmlformats.org/presentationml/2006/ole">
            <p:oleObj r:id="rId1" spid="">
              <p:embed/>
              <p:pic>
                <p:nvPicPr>
                  <p:cNvPr id="167"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sldNum" idx="3"/>
          </p:nvPr>
        </p:nvSpPr>
        <p:spPr/>
        <p:txBody>
          <a:bodyPr/>
          <a:p>
            <a:fld id="{987444A6-F84E-4DB2-9DDC-77E0DD4728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70000" y="76320"/>
            <a:ext cx="7772400" cy="568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Public Availability of NPI number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Will there be an online directory for NPI?</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January 5: The NPI dissemination policy will be released very soon. The MGMA and others have made it very clear how important it is for physician staff to be able to look up NPI numbers of other providers so that they can code and bill efficiently.</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Definition of Consulta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The Indiana State Medical Association and others feel confused by the definition of Transfer of Care found in transmittal 788.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tus: the PRIT is facilitating dialog between CMS staff, providers, and carrier staff to clarify this defini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Jan 11:  There are instances of a "shared care" scenario which do meet the intent of a consultation.  For example, a primary care physician consults with a specialist for a specific problem. The specialists evaluates the patient and continues to manage that aspect of the patient's care while the primary care physician continues to manage the overall patient care guided by the information from the specialis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February 21: The CPT editorial panel was not able to develop clarifying language concerning the consult issue during their final meeting in February.</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9" name="" descr=""/>
          <p:cNvPicPr/>
          <p:nvPr/>
        </p:nvPicPr>
        <p:blipFill>
          <a:blip r:embed="rId1"/>
          <a:stretch/>
        </p:blipFill>
        <p:spPr>
          <a:xfrm>
            <a:off x="228600" y="4572000"/>
            <a:ext cx="8915400" cy="2286000"/>
          </a:xfrm>
          <a:prstGeom prst="rect">
            <a:avLst/>
          </a:prstGeom>
          <a:ln w="0">
            <a:noFill/>
          </a:ln>
        </p:spPr>
      </p:pic>
      <p:sp>
        <p:nvSpPr>
          <p:cNvPr id="170" name=""/>
          <p:cNvSpPr/>
          <p:nvPr/>
        </p:nvSpPr>
        <p:spPr>
          <a:xfrm>
            <a:off x="685800" y="4800600"/>
            <a:ext cx="3352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r computers are down and we are having to do everything manuall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7FB20BE-9F8D-426E-A2C3-E40940E84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170000" y="76320"/>
            <a:ext cx="7772400" cy="568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ssue Name Simplifying the Work of Enrollmen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The 855 form is now available on the CMS website in a form that can be filled out but we have learned that unless the doctor has the full Adobe suite the completed form can not be saved.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February 13: An 855 form which can be filled out and saved on any computer should be available by late April at the lates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ssue Name Use of DEA numbers by Prescription Drug Plans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The American Optometric Association reported to the PRIT that some PDPs require that prescribers write their DEA numbers on the prescription even for non controlled substances. Because some practitioners do not have DEA numbers, this requirement prevents the patient from filling their prescription.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pril 11: We have gotten no further reports that Part D plans are requiring DEA numbers on prescriptions for drugs which are not controll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ssue Name Part D Prior Authorizations for Antiretroviral Medications</a:t>
            </a:r>
            <a:r>
              <a:rPr b="0" lang="en-US" sz="1600" spc="-1" strike="noStrike">
                <a:solidFill>
                  <a:srgbClr val="003399"/>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With the exception of Fuzeon, HIV medication prescriptions should be filled under Part D without the need for prior authorizations as long as the dosage is within FDA guidelines.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pril 11: We have gotten no further reports of requirement for prior authorizations. If this is occurring please let us know.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B400010-2B95-4230-AD50-B90CFF5948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Questions</a:t>
            </a:r>
            <a:endParaRPr b="0" lang="en-US" sz="4400" spc="-1" strike="noStrike">
              <a:solidFill>
                <a:srgbClr val="000000"/>
              </a:solidFill>
              <a:latin typeface="Times New Roman"/>
            </a:endParaRPr>
          </a:p>
        </p:txBody>
      </p:sp>
      <p:graphicFrame>
        <p:nvGraphicFramePr>
          <p:cNvPr id="173" name=""/>
          <p:cNvGraphicFramePr/>
          <p:nvPr/>
        </p:nvGraphicFramePr>
        <p:xfrm>
          <a:off x="6781680" y="5791320"/>
          <a:ext cx="1676520" cy="811080"/>
        </p:xfrm>
        <a:graphic>
          <a:graphicData uri="http://schemas.openxmlformats.org/presentationml/2006/ole">
            <p:oleObj r:id="rId1" spid="">
              <p:embed/>
              <p:pic>
                <p:nvPicPr>
                  <p:cNvPr id="174"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175" name="" descr=""/>
          <p:cNvPicPr/>
          <p:nvPr/>
        </p:nvPicPr>
        <p:blipFill>
          <a:blip r:embed="rId3"/>
          <a:stretch/>
        </p:blipFill>
        <p:spPr>
          <a:xfrm>
            <a:off x="380880" y="2286000"/>
            <a:ext cx="8458200" cy="3384720"/>
          </a:xfrm>
          <a:prstGeom prst="rect">
            <a:avLst/>
          </a:prstGeom>
          <a:ln w="0">
            <a:noFill/>
          </a:ln>
        </p:spPr>
      </p:pic>
      <p:sp>
        <p:nvSpPr>
          <p:cNvPr id="3" name="PlaceHolder 2"/>
          <p:cNvSpPr>
            <a:spLocks noGrp="1"/>
          </p:cNvSpPr>
          <p:nvPr>
            <p:ph type="sldNum" idx="3"/>
          </p:nvPr>
        </p:nvSpPr>
        <p:spPr/>
        <p:txBody>
          <a:bodyPr/>
          <a:p>
            <a:fld id="{4648D1DD-44A1-4544-A390-DF1F001C47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70000" y="2625840"/>
            <a:ext cx="7772400" cy="568008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William Rogers, M.D. FACEP</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202-260-7153 work</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202-236-3338 mobil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illiam.Rogers@cms.hhs.gov</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PRIT@cms.hhs.gov</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ww.cms.hhs.gov/PRIT</a:t>
            </a:r>
            <a:endParaRPr b="0" lang="en-US" sz="3200" spc="-1" strike="noStrike">
              <a:solidFill>
                <a:srgbClr val="000000"/>
              </a:solidFill>
              <a:latin typeface="Times New Roman"/>
            </a:endParaRPr>
          </a:p>
        </p:txBody>
      </p:sp>
      <p:graphicFrame>
        <p:nvGraphicFramePr>
          <p:cNvPr id="177" name=""/>
          <p:cNvGraphicFramePr/>
          <p:nvPr/>
        </p:nvGraphicFramePr>
        <p:xfrm>
          <a:off x="6781680" y="5791320"/>
          <a:ext cx="1676520" cy="811080"/>
        </p:xfrm>
        <a:graphic>
          <a:graphicData uri="http://schemas.openxmlformats.org/presentationml/2006/ole">
            <p:oleObj r:id="rId4" spid="">
              <p:embed/>
              <p:pic>
                <p:nvPicPr>
                  <p:cNvPr id="178" name="" descr=""/>
                  <p:cNvPicPr/>
                  <p:nvPr/>
                </p:nvPicPr>
                <p:blipFill>
                  <a:blip r:embed="rId5"/>
                  <a:stretch/>
                </p:blipFill>
                <p:spPr>
                  <a:xfrm>
                    <a:off x="6781680" y="5791320"/>
                    <a:ext cx="1676520" cy="811080"/>
                  </a:xfrm>
                  <a:prstGeom prst="rect">
                    <a:avLst/>
                  </a:prstGeom>
                  <a:ln w="0">
                    <a:noFill/>
                  </a:ln>
                </p:spPr>
              </p:pic>
            </p:oleObj>
          </a:graphicData>
        </a:graphic>
      </p:graphicFrame>
      <p:sp>
        <p:nvSpPr>
          <p:cNvPr id="179" name="PlaceHolder 2"/>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ontact Information</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8540AFE6-33B3-4925-A165-7828EDD22D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08:35Z</dcterms:created>
  <dc:creator>CMS</dc:creator>
  <dc:description/>
  <dc:language>en-US</dc:language>
  <cp:lastModifiedBy>CMS</cp:lastModifiedBy>
  <dcterms:modified xsi:type="dcterms:W3CDTF">2007-05-30T20:21:22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16191188</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site Materials</vt:lpwstr>
  </property>
  <property fmtid="{D5CDD505-2E9C-101B-9397-08002B2CF9AE}" pid="6" name="_NewReviewCycle">
    <vt:lpwstr/>
  </property>
  <property fmtid="{D5CDD505-2E9C-101B-9397-08002B2CF9AE}" pid="7" name="_PreviousAdHocReviewCycleID">
    <vt:r8>1634368844</vt:r8>
  </property>
</Properties>
</file>