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9920" y="152280"/>
            <a:ext cx="879480" cy="944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26000" y="380880"/>
            <a:ext cx="1523880" cy="16336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ma-assn.org/ama1/pub/upload/mm/362/appendixh4406.doc" TargetMode="External"/><Relationship Id="rId2" Type="http://schemas.openxmlformats.org/officeDocument/2006/relationships/hyperlink" Target="http://www.cms.hhs.gov/pvrp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ysicians Quality Measures Update on CPT II Cod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350532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T. Rapp, MD, JD, FAC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, Quality Measurement and Health Assessment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s for Medicare and Medicaid Services,  Baltimore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5840" y="-360"/>
            <a:ext cx="7500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pendix H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295280"/>
          <a:ext cx="8229600" cy="5376960"/>
        </p:xfrm>
        <a:graphic>
          <a:graphicData uri="http://schemas.openxmlformats.org/drawingml/2006/table">
            <a:tbl>
              <a:tblPr/>
              <a:tblGrid>
                <a:gridCol w="6095880"/>
                <a:gridCol w="838440"/>
                <a:gridCol w="1295280"/>
              </a:tblGrid>
              <a:tr h="537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thma Assessment</a:t>
                      </a:r>
                      <a:r>
                        <a:rPr b="0" lang="en-US" sz="1800" spc="-1" strike="noStrike" u="sng">
                          <a:solidFill>
                            <a:srgbClr val="009289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Percentage of patients aged 5-40 years with asthma who were evaluated during at least one office visit during the reporting year for the frequency (numeric) of daytime and nocturnal asthma symptoms.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o be counted in calculations of this measure, symptom frequency must be numerically quantified. Measure may also be met by physician documentation or patient completion of an asthma assessment tool/survey/questionnaire. Assessment tool may include the QualityMetric Asthma Control TestTM, National Asthma Education &amp; Prevention Program (NAEPP) Asthma Symptoms and Peak Flow Diary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ator: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in the denominator who were evaluated during at least one office visit during the reporting year for the frequency (numeric) of daytime and nocturnal asthma symptoms.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ll patients aged 5-40 years with asthma.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usion(s)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ne.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sion(s)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n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289"/>
                          </a:solidFill>
                          <a:latin typeface="Arial"/>
                        </a:rPr>
                        <a:t>1005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thma symptoms evalu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hysician Quality Measurem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VR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temporary G codes to report clinica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T II codes became available March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April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 codes &amp; CPT II codes have been incorporated into Physician Fee Schedule as zero reimbursement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reporting through the existing Medicare claim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VRP measures with CPT II cod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a Blocker on arrival with 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globin A1c control in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L control in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ressure control in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 – ARB therapy for LVS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a Blocker for prior 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op Beta Blocker for patient with isolated CA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VRP measures with CPT II cod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a Blocker on arrival with 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6F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a-blocker therapy prescribed          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a Blocker for prior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6F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a-blocker therapy prescribed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-op Beta Blocker for patient with isolated CAB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6F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a-blocker therapy prescribed 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– ARB therapy for LV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9F: Angiotensin converting enzyme (ACE) inhibitor or angiotensin receptor blocker (ARB) therapy prescrib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VRP measures with CPT II cod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moglobin A1c control in Type I and Type II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6F: Most recent hemoglobin A1c level &gt; 9.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7F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recent hemoglobin A1c level ≤ 9.0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DL control in Type I and Type II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8F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recent LDL-C &lt; 100 mg/d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9F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recent LDL-C 100-129 mg/d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50F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recent LDL-C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30 mg/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 Pressure control in Type I and Type II 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76F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recent systolic blood pressure &lt; 140 mm 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77F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recent systolic blood pressu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40 mm 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78F: Most recent diastolic blood pressure &lt; 80 mm 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79F: Most recent diastolic blood pressure 80-89 mm 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80F: Most recent diastolic blood pressur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 mm H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PVRP Medic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ecialty Cover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Measure Starter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mpass 19 Medical Specia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Medicine, Cardiology, Family Practice, Orthopedic Surgery, General Surgery, Urology, Emergency Medicine, Gastroenterology Psychiatry, General Practice, Nephrology, Vascular Surgery, Thoracic Surgery, Obstetrics/Gynecology, Cardiac Surgery, Endocrinology, Critical Care, and Gerontology, Colon &amp; Rectal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anded PVRP Medical Specialty Covera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 1, 2007 Measure set expans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logy, Ophthalmology, Dermatology, Oncology/Hematology, Pulmonology, Anesthesiology, Neurology, Rheumatology, Endocrinology, Orthopedics, &amp; Gastroenter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mpass 28 Medical Specia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80% of Part B Medicare cla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 being developed through AMA PCPI process pursuant to CMS contract with Mathema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PPAC advise any additional approaches in the reporting of clinical information by physicians in support of quality measure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rther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n CPT II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ma-assn.org/ama1/pub/upload/mm/362/appendixh4406.d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n PV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www.cms.hhs.gov/pvrp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y Measur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centage of patient population for which a desired process or outcome is achie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ims data for quality measur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diagnosis and procedure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provide sufficient clinical information to measur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health plans may supplement with lab data f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PT Category II Co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e quality measure data collection by coding certain services and tes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nationally established performanc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not be substituted for CPT Category I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ed by the Performance Measures Advisory Group (PMA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isory body to the CPT Editorial Pa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MAG includes performance measurement experts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, AMA, CMS, JCAHO, NCQA, PC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medical specialty societies, national health care professional associations, accrediting bodies, &amp; federal regulatory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tegory II Cod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vehicle to report data required to calculate m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character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in F (0001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their own section in C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January and July to be effective 6 months later, recently revised to be available after the Panel minutes are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modifiers for exclu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PTII Codes Exam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500F  Initial prenatal care visit (report at first prenatal encounter with health care professional providing obstetrical care. Report also date of visit and, in a separate field, the date of the last menstrual period - L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00F Blood pressure &lt;= 140/90 mm H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tegory II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des arranged according to the following sections derived from standard clinical documentation format; subjective, objective, assessment and plan (SOAP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site Measures  0001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Management  0500F-0503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History  1000F-1002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Examination  2000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tic/Screening Processes or Results  3000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apeutic, Preventive or Other Interventions  5000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, Patient Safety and Other Outcomes 6000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PT Category II codes are being or have been developed for the following performance measurement sets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onary Artery Dis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betes – Adu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yperten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unity Acquired Pneumo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steoarthritis of the Kn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natal-Postpartum 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ventive Care and Scre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tegory II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de is labeled as being related to a measure and measurement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7600" indent="-2761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000F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obacco use assessed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CAD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, CA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,      COPD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, DM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4,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PV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ndix H gives measure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 to refer to measurement organization for technical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4:20:03Z</dcterms:created>
  <dc:creator>DStryer</dc:creator>
  <dc:description/>
  <dc:language>en-US</dc:language>
  <cp:lastModifiedBy>CMS</cp:lastModifiedBy>
  <dcterms:modified xsi:type="dcterms:W3CDTF">2006-06-06T10:56:25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25757797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 Documents from May 22, 2006 PPAC Myg.</vt:lpwstr>
  </property>
  <property fmtid="{D5CDD505-2E9C-101B-9397-08002B2CF9AE}" pid="6" name="_NewReviewCycle">
    <vt:lpwstr/>
  </property>
  <property fmtid="{D5CDD505-2E9C-101B-9397-08002B2CF9AE}" pid="7" name="_PreviousAdHocReviewCycleID">
    <vt:r8>234908959</vt:r8>
  </property>
  <property fmtid="{D5CDD505-2E9C-101B-9397-08002B2CF9AE}" pid="8" name="_ReviewingToolsShownOnce">
    <vt:lpwstr/>
  </property>
</Properties>
</file>