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77D41E-2098-4872-82CB-B617EDC0E8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391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066680" y="4050720"/>
            <a:ext cx="7391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1C3598-1AA9-4B9B-8FD6-D60076F241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360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54240" y="1980720"/>
            <a:ext cx="360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6680" y="4050720"/>
            <a:ext cx="360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54240" y="4050720"/>
            <a:ext cx="360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10CC8B-1410-4C04-A990-DA317CCC2D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23799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66160" y="1980720"/>
            <a:ext cx="23799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65280" y="1980720"/>
            <a:ext cx="23799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066680" y="4050720"/>
            <a:ext cx="23799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66160" y="4050720"/>
            <a:ext cx="23799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65280" y="4050720"/>
            <a:ext cx="23799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252E7C-B1C0-4F83-AC49-8620BA80C68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066680" y="1980720"/>
            <a:ext cx="739152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834274-171D-412C-AF74-7AE802BF677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391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63F453-7515-4762-A9D6-347825CB17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360684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54240" y="1980720"/>
            <a:ext cx="360684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9B850C-0DAA-4EB6-A7A3-5061D609CF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D8F1E5-BF14-4B0D-AF72-BC89F2A87E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83E92A-9079-461D-8445-140161B815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360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54240" y="1980720"/>
            <a:ext cx="360684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066680" y="4050720"/>
            <a:ext cx="360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04018E-936D-43F9-A008-036F2F7500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360684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54240" y="1980720"/>
            <a:ext cx="360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54240" y="4050720"/>
            <a:ext cx="360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6DBE6F-3075-4C32-8804-D28CDC5820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360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54240" y="1980720"/>
            <a:ext cx="360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4050720"/>
            <a:ext cx="7391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5F2EEC-A288-4B37-A36B-681F6C7221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Rounded MT Bold"/>
              </a:rPr>
              <a:t>Click to edit the title text format</a:t>
            </a: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066680" y="1980720"/>
            <a:ext cx="7391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2819520" y="6248520"/>
            <a:ext cx="4038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400" spc="-1" strike="noStrike">
                <a:solidFill>
                  <a:srgbClr val="777777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777777"/>
                </a:solidFill>
                <a:latin typeface="Arial"/>
              </a:rPr>
              <a:t>Procurement Sensi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705880" y="6496200"/>
            <a:ext cx="3808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F804E-AE46-4F81-9409-9DF5164421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Arial Rounded MT Bold"/>
              </a:rPr>
              <a:t>Pay-for-Performance Update</a:t>
            </a:r>
            <a:br>
              <a:rPr sz="4000"/>
            </a:br>
            <a:r>
              <a:rPr b="0" lang="en-US" sz="800" spc="-1" strike="noStrike" u="sng">
                <a:solidFill>
                  <a:srgbClr val="000066"/>
                </a:solidFill>
                <a:uFillTx/>
                <a:latin typeface="Arial Rounded MT Bold"/>
              </a:rPr>
              <a:t> </a:t>
            </a:r>
            <a:r>
              <a:rPr b="0" lang="en-US" sz="4000" spc="-1" strike="noStrike" u="sng">
                <a:solidFill>
                  <a:srgbClr val="000066"/>
                </a:solidFill>
                <a:uFillTx/>
                <a:latin typeface="Arial Rounded MT Bold"/>
              </a:rPr>
              <a:t>  </a:t>
            </a:r>
            <a:br>
              <a:rPr sz="4000"/>
            </a:br>
            <a:r>
              <a:rPr b="0" lang="en-US" sz="2000" spc="-1" strike="noStrike">
                <a:solidFill>
                  <a:srgbClr val="000066"/>
                </a:solidFill>
                <a:latin typeface="Arial Rounded MT Bold"/>
              </a:rPr>
              <a:t> </a:t>
            </a:r>
            <a:br>
              <a:rPr sz="4000"/>
            </a:br>
            <a:r>
              <a:rPr b="0" lang="en-US" sz="2400" spc="-1" strike="noStrike">
                <a:solidFill>
                  <a:srgbClr val="000066"/>
                </a:solidFill>
                <a:latin typeface="Arial Rounded MT Bold"/>
              </a:rPr>
              <a:t> </a:t>
            </a:r>
            <a:br>
              <a:rPr sz="4000"/>
            </a:br>
            <a:r>
              <a:rPr b="0" lang="en-US" sz="4400" spc="-1" strike="noStrike">
                <a:solidFill>
                  <a:srgbClr val="000066"/>
                </a:solidFill>
                <a:latin typeface="Arial Rounded MT Bold"/>
              </a:rPr>
              <a:t>Physician Resource Use:</a:t>
            </a:r>
            <a:br>
              <a:rPr sz="4400"/>
            </a:br>
            <a:r>
              <a:rPr b="0" lang="en-US" sz="4400" spc="-1" strike="noStrike">
                <a:solidFill>
                  <a:srgbClr val="000066"/>
                </a:solidFill>
                <a:latin typeface="Arial Rounded MT Bold"/>
              </a:rPr>
              <a:t>Cost of Care Measures</a:t>
            </a:r>
            <a:endParaRPr b="0" lang="en-US" sz="44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142640" y="4038120"/>
            <a:ext cx="716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omas Valuck, MD, J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acticing Physicians Advisory Counc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ay 22, 200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Rounded MT Bold"/>
              </a:rPr>
              <a:t>CMS’ Coordination with External Groups</a:t>
            </a: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142640" y="213372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tional Committee for Quality Assurance (NCQ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luating episode grouper effectiveness at the health plan and possibly individual physician levels in a Commonwealth Fund-sponsored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ked to take a staff role in the AQA process to speed efficiency measure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E05339-FB6C-475C-AF58-12ECEA2254D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Rounded MT Bold"/>
              </a:rPr>
              <a:t>CMS’ Coordination with External Groups</a:t>
            </a: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2193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ency for Healthcare Research and Quality (AHRQ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laborating with RAND to develop an Efficiency Measurement Typology for ambulatory care and hospital sett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vernment Accountability Office (GA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ing on second MMA section 953 report on “physician compensation generally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ose private and public payer activities regarding physician effici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66F481-D934-436D-AA47-C9CE4E2EDCE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Rounded MT Bold"/>
              </a:rPr>
              <a:t>CMS' Cost of Care Measure Development</a:t>
            </a: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19320" y="2209320"/>
            <a:ext cx="769608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MS' Cost of Care Measurement Go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develop meaningful, actionable, and fair cost of care measures of actual to expected physician resource u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link cost of care measures to quality of care measures for a comprehensive assessment of physician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30FAC9-D7C2-4A9F-ACE7-0AE3C983100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Rounded MT Bold"/>
              </a:rPr>
              <a:t>CMS' Cost of Care Measure Development</a:t>
            </a: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66680" y="2209320"/>
            <a:ext cx="792504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MS' Physician Resource Use Workgroup has been addressing a March 2005 MedPAC recommend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"CMS should use Medicare claims data to measure fee-for-service physicians' resource use and share results with physicians confidentially to educate them about how they compare with aggregated peer performance.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dPAC:  Report to the Congress, March 2005, Chapter 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C0B511-3428-4FA1-892C-BF120D279B2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Rounded MT Bold"/>
              </a:rPr>
              <a:t>CMS' Cost of Care Measure Development</a:t>
            </a: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19320" y="205704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ysician Resource Use Reports for Highly Utilized Imaging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ase I:  Echocardiograms for Heart Fail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ase II:  MRs/CTs for Neck P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pisode Grouper Evalu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F21831-DAF2-420C-92E3-A9A6DE93410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Rounded MT Bold"/>
              </a:rPr>
              <a:t>Physician Resource Use Reports</a:t>
            </a: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19320" y="236196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ject Obje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determine the feasibility of developing and disseminating confidential, claims-based resource use reports to physicians, as recommended by MedPA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6F712A-6EBC-4E0A-AED8-86038802620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Rounded MT Bold"/>
              </a:rPr>
              <a:t>Physician Resource Use Reports</a:t>
            </a: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43000" y="1904760"/>
            <a:ext cx="784872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ject Foc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ly utilized imaging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ase I:  Echocardiograms for heart fail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ase II:  MRs/CTs for neck p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hio and Wisconsin physici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a- and inter-state vari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gram Safeguard Contractor  (PSC) expertise and access to Part B claims--TrustSolutions and AdvanceM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E50CF0-3170-4F7F-B88C-A4C3D432CF4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520" y="-29844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904760"/>
            <a:ext cx="7391520" cy="7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9160" bIns="291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76320" y="0"/>
          <a:ext cx="11430000" cy="7848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0"/>
                    <a:ext cx="11430000" cy="784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A33AF3-CC33-4D63-AB6F-23B8B61CD50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Rounded MT Bold"/>
              </a:rPr>
              <a:t>Physician Resource Use Reports</a:t>
            </a: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ase I Vetting with Cardiologi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nuary 23:  Cleveland Clin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nuary 24:  University of Wisconsin-Madi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nuary-February:  Partners Healthcare at Massachusetts General Hospital in Bost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33D509-979F-47B0-838B-1E4CD266B99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Rounded MT Bold"/>
              </a:rPr>
              <a:t>Physician Resource Use Reports</a:t>
            </a: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ase I Vetting Highlights:  What We He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ilar reports from private payers get a cursory look and then "go into the round file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MS data appeared inaccurate-both low and hig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reports available for individual physicians who bill with group UPIN numb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st have specialty society consensus standa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st adjust for patient mix and seve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er group must be preci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verage guidelines may increase uti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l problem is uncertified physicians who perform imaging in unaccredited fac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reports to detect fraud and ab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0DC82D-C611-41E2-9CCF-E5B0D9BF255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Rounded MT Bold"/>
              </a:rPr>
              <a:t>Presentation Overview</a:t>
            </a: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1828440"/>
            <a:ext cx="78487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king Quality and Cost:  Pay for Performance and Effici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MS' Coordination with External Entities on Cost of Care Measure Development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MS' Cost of Care Measure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ian Resource Use Reports for Highly Utilized Imaging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pisode Grouper Eval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96B46D-4A7E-4A13-AD0D-05A522BFE22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Rounded MT Bold"/>
              </a:rPr>
              <a:t>Physician Resource Use Reports</a:t>
            </a: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94920" y="1905120"/>
            <a:ext cx="7696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ase II:  MRs/CTs for Neck P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:  American College of Radiology Appropriateness Criteri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diagnosis of chronic neck p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in films should be ordered before any M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T should only be ordered when MR contraindicated, thus no patient should have both MR and 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rrow enough diagnosis to "auto adjust" for some vari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tting with primary care physici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115CAA-0A31-413A-B533-862D97958B3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4" name=""/>
          <p:cNvGraphicFramePr/>
          <p:nvPr/>
        </p:nvGraphicFramePr>
        <p:xfrm>
          <a:off x="76320" y="304920"/>
          <a:ext cx="9601200" cy="6553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304920"/>
                    <a:ext cx="9601200" cy="655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85885A-0079-4AED-9FDC-50C8A39F10F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Rounded MT Bold"/>
              </a:rPr>
              <a:t>Physician Resource Use Reports</a:t>
            </a: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371240" y="2362320"/>
            <a:ext cx="7467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ase II Vetting with Primary Care Physici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ril 12:  Medical College of Wisconsin-Milwauk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5BE7E3-AB06-48B9-82D0-AF23BBB363A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Rounded MT Bold"/>
              </a:rPr>
              <a:t>Physician Resource Use Reports</a:t>
            </a: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19320" y="2133360"/>
            <a:ext cx="769608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ase II Vetting Highlights:  What We He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e of the attendees were acquainted with the guide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uidelines were not specific to Medicare pati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 was too complex and not intui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some physicians, low volume caused a small "N" prob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3E7D8A-C345-47F1-A87C-37DBE07131F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Rounded MT Bold"/>
              </a:rPr>
              <a:t>Physician Resource Use Reports</a:t>
            </a: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69608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y Conclusions and Recommendations for the Final Eval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ians understand their practices from a patient-by-patient perspective, not from an aggregate statistics perspec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e claims data does not yield rich enough information to generate resource use reports (RURs) that are meaningful or actionable for physici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ost of widespread dissemination of these RURs would outweigh the benef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se RURs could be used as a screening tool to identify outliers for educational interven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27E799-C36C-4FCA-9A1F-12E20154462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Rounded MT Bold"/>
              </a:rPr>
              <a:t>Episode Grouper Evaluation</a:t>
            </a: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20570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ject 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compare and contrast the characteristics of each episode grouper and to understand the technology and its potential u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determine which grouper, if any, best defines comparable episodes of care at the individual physician level for the Medicare pop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6EE7CE-4D6D-463E-9BF1-041E78729AB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Rounded MT Bold"/>
              </a:rPr>
              <a:t>Episode Grouper Evaluation</a:t>
            </a: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42640" y="1752480"/>
            <a:ext cx="79246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an Episode Group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technology that reduces claims data to a set of measures that are meaningful and easily compa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ies and classifies clinically-related services and procedures that occur over time into episodes of c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s proprietary logic to map claims data to the vendor’s taxonomy of clinically homogeneous episode grou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es to both acute (time-limited) and chronic (defined time period) cond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s claims coding data from many sources, including outpatient, inpatient, laboratory, pharmaceutical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A1C2C5-DDAE-4687-A2D0-5FF44492EA22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Rounded MT Bold"/>
              </a:rPr>
              <a:t>Episode Grouper Evaluation</a:t>
            </a: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 of Episode Grouper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848720" y="2819520"/>
            <a:ext cx="9903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772400" y="274320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3886200"/>
            <a:ext cx="7010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962520" y="3886200"/>
            <a:ext cx="152280" cy="30492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819520" y="3886200"/>
            <a:ext cx="152280" cy="30492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219320" y="5638680"/>
            <a:ext cx="152280" cy="30492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858000" y="3886200"/>
            <a:ext cx="152280" cy="30492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886200"/>
            <a:ext cx="152640" cy="30492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523880" y="5638680"/>
            <a:ext cx="2133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isit or proced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752480" y="3886200"/>
            <a:ext cx="152640" cy="304920"/>
          </a:xfrm>
          <a:prstGeom prst="triangle">
            <a:avLst>
              <a:gd name="adj" fmla="val 50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3886200"/>
            <a:ext cx="152280" cy="304920"/>
          </a:xfrm>
          <a:prstGeom prst="triangle">
            <a:avLst>
              <a:gd name="adj" fmla="val 50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0" y="3886200"/>
            <a:ext cx="152280" cy="304920"/>
          </a:xfrm>
          <a:prstGeom prst="triangle">
            <a:avLst>
              <a:gd name="adj" fmla="val 50000"/>
            </a:avLst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191120" y="4952880"/>
            <a:ext cx="1218960" cy="533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343400" y="5029200"/>
            <a:ext cx="106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Epis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981080" y="4267080"/>
            <a:ext cx="221004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200400" y="426708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257800" y="39625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733920" y="57150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962520" y="563868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ru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5028840" y="4191120"/>
            <a:ext cx="22860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5333760" y="4267080"/>
            <a:ext cx="152388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666880" y="23623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pisode initiating ev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32004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181480" y="5638680"/>
            <a:ext cx="152640" cy="304920"/>
          </a:xfrm>
          <a:prstGeom prst="triangle">
            <a:avLst>
              <a:gd name="adj" fmla="val 50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15000" y="56386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cillary services--i.e., lab, radiology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971800" y="32767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1828800" y="3276720"/>
            <a:ext cx="243792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219320" y="2924280"/>
            <a:ext cx="1218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okbac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828800" y="37339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924680" y="2438280"/>
            <a:ext cx="9907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 of episode after clean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410080" y="5638680"/>
            <a:ext cx="152640" cy="304920"/>
          </a:xfrm>
          <a:prstGeom prst="triangle">
            <a:avLst>
              <a:gd name="adj" fmla="val 50000"/>
            </a:avLst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733920" y="2895480"/>
            <a:ext cx="3124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me events are not part of this epis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315200" y="35812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 . 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BDFDC4-FE1D-4A30-9C47-4CC085F2F7F3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Rounded MT Bold"/>
              </a:rPr>
              <a:t>Episode Grouper Evaluation</a:t>
            </a: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198072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uper Technology 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aims data that cannot be classified into an episode based on the grouper’s algorithms is l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sk adjustment to account for illness severity, comorbidities, complications, patient demo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tribution of claims data to individual physici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w volume may result in the small “N” prob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E3E468-9AB5-4AC2-94FD-927153E53867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Rounded MT Bold"/>
              </a:rPr>
              <a:t>Episode Grouper Evaluation</a:t>
            </a: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9072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MS' Episode Grouper Evaluation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umen is our evaluation contra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ouper software features, methodology, risk adjustment, provider attribution, and physician profi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of the claims for six conditions in four market are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o software vendors have agreed to participate, so fa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genix -- Episode Treatment Groups (ETG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dStat -- MedStat Episode Groups (MEG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ose to agreement with Cave Consulting Gro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al report due Fall 20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MS will also evaluate the soundness of the clinical logic used to construct each grouper’s classification algorith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BB75C5-E7B6-45E2-BDD7-1497AA417773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Rounded MT Bold"/>
              </a:rPr>
              <a:t>What is Pay for Performance?</a:t>
            </a: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chanism for promoting better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qualit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while avoiding unnecessary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licit payment incentives to achieve identified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al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fficienc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go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9462A6-DDB6-4FB7-9C6B-F11DA4B1133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Rounded MT Bold"/>
              </a:rPr>
              <a:t>CMS' Cost of Care Measure Development</a:t>
            </a: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9320" y="2209320"/>
            <a:ext cx="769608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P:  CMS' Cost of Care Measurement Go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develop meaningful, actionable, and fair cost of care measures of actual to expected physician resource u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link cost of care measures to quality of care measures for a comprehensive assessment of physician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22C762-F342-4762-AFD5-39938C0DFE2A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Rounded MT Bold"/>
              </a:rPr>
              <a:t>Considerations for the Council</a:t>
            </a: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219320" y="19051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can cost of care measures be made meaningful, actionable, and fair for practicing physicia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 practicing physicians use the resource use reports that are currently being circulated by private health plans in many marke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8197BE-B9C0-45D5-BF7B-0D0BABD01480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66"/>
                </a:solidFill>
                <a:latin typeface="Arial Rounded MT Bold"/>
              </a:rPr>
              <a:t>Thank You</a:t>
            </a:r>
            <a:endParaRPr b="0" lang="en-US" sz="44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219320" y="22093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ct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omas Valuck, MD, J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nters for Medicare &amp; Medicaid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nter for Medicare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410) 786-747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omas.valuck@cms.hhs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D7EBCC-4790-483C-A728-4C38A47BF61A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Rounded MT Bold"/>
              </a:rPr>
              <a:t>What Is Efficiency?</a:t>
            </a: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19320" y="18284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fficienc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One of the Institute of Medicine's Key Dimensions of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69360" indent="-37296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fe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69360" indent="-37296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ffective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69360" indent="-37296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tient-Centered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69360" indent="-37296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e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69360" indent="-37296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iciency: absence of waste, overuse, misuse, and err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69360" indent="-37296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6936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69360" indent="-3729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stitute of Medicine:  Crossing the Quality Chasm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6936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New Health System for the 21st Century, March, 2001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6936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0A7A15-59BF-4934-86C6-05E64DF7F1E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Rounded MT Bold"/>
              </a:rPr>
              <a:t>What Is Efficiency?</a:t>
            </a: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3000" y="2362320"/>
            <a:ext cx="77724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iciency:  When a given level of “output” is achieved at the lowest total c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health policy purposes, efficiency is attained when a given level of “quality of care” is achieved at the lowest total c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9BE935-D0A5-42A3-8537-B6E7805F048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Rounded MT Bold"/>
              </a:rPr>
              <a:t>What Is Efficiency?</a:t>
            </a: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19320" y="251460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st of Care Meas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ical measure of physician efficiency is the ratio of actual resource use to expected resource use, given equivalent high quality of c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353C18-BEF2-4F36-AB44-497476A17D3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Rounded MT Bold"/>
              </a:rPr>
              <a:t>What Is Efficiency?</a:t>
            </a: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219320" y="20570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st of Care Measures Bas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be fair, measures should be adjusted for relevant practice differences that the physician cannot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uld measure and report quality of care concurre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47FB94-B957-414C-8B34-47D3AEECCA1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Rounded MT Bold"/>
              </a:rPr>
              <a:t>CMS' Coordination with External Groups</a:t>
            </a: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dicare Payment Advisory Commission (MedPA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luating episode grouper software at the individual physician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lementary to CMS’ eval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nthly coordinating c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gan with the Medicare 5% s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orted results at their March and April meet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stage is 100% Medicare claims for some region for some period of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ltimately plan to link episode-based cost measures to quality mea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BB60CD-DF0E-4592-AF2C-FFBFE26EBFF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Rounded MT Bold"/>
              </a:rPr>
              <a:t>CMS’ Coordination with External Groups</a:t>
            </a: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bulatory Care Quality Alliance (AQ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fficiency Measures Subgroup of the Performance Measures Work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ing to standardize episode-based physician prof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ree predominant vendors involv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ressing similar issues as other episode grouper evalu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al is to include cost of care measures at the individual physician level in the CMS/AQA Data Sharing and Aggregation Pilot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903188-3D74-457A-90AE-A6FFC9510A1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9T15:08:35Z</dcterms:created>
  <dc:creator>CMS</dc:creator>
  <dc:description/>
  <dc:language>en-US</dc:language>
  <cp:lastModifiedBy>CMS</cp:lastModifiedBy>
  <dcterms:modified xsi:type="dcterms:W3CDTF">2006-06-06T11:00:56Z</dcterms:modified>
  <cp:revision>3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261902001</vt:r8>
  </property>
  <property fmtid="{D5CDD505-2E9C-101B-9397-08002B2CF9AE}" pid="3" name="_AuthorEmail">
    <vt:lpwstr>Kelly.Buchanan@cms.hhs.gov</vt:lpwstr>
  </property>
  <property fmtid="{D5CDD505-2E9C-101B-9397-08002B2CF9AE}" pid="4" name="_AuthorEmailDisplayName">
    <vt:lpwstr>Buchanan, Kelly (CMS/CMM)</vt:lpwstr>
  </property>
  <property fmtid="{D5CDD505-2E9C-101B-9397-08002B2CF9AE}" pid="5" name="_EmailSubject">
    <vt:lpwstr>Web Documents from May 22, 2006 PPAC Myg.</vt:lpwstr>
  </property>
  <property fmtid="{D5CDD505-2E9C-101B-9397-08002B2CF9AE}" pid="6" name="_NewReviewCycle">
    <vt:lpwstr/>
  </property>
  <property fmtid="{D5CDD505-2E9C-101B-9397-08002B2CF9AE}" pid="7" name="_PreviousAdHocReviewCycleID">
    <vt:r8>1846122011</vt:r8>
  </property>
  <property fmtid="{D5CDD505-2E9C-101B-9397-08002B2CF9AE}" pid="8" name="_ReviewingToolsShownOnce">
    <vt:lpwstr/>
  </property>
</Properties>
</file>