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02E52D-47B6-4FC8-BEE7-A28AEC5C5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7"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8A882-4689-4764-BA2E-8F86FFB13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0"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AF8B82-F8B8-4F10-932E-08280C7DED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5"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F9E002-5586-4E86-BD5F-B9059E4435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6"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36E7DE-3AF3-4848-80B3-2DD7091CBB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8"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CDF5E3-D05F-407A-80B7-C0A747977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482D2-B16C-4AE1-9B91-E9AA0D210E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A59433-B853-4F34-ACEF-DBA2D0182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21400-721E-4E70-85F0-D980183E92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5"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B70020-80AE-4150-A940-E7EE74C410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9"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B69B4-B574-4803-A619-4822B516E5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3"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06D30-4D03-4E1B-B593-B2D96BBB4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6728F-B800-4C7E-B3B5-AEF4BF1B6D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hyperlink" Target="http://www.cms.hhs.gov/providers/drugs/asp.asp"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William Rogers, MD FACEP</a:t>
            </a:r>
            <a:endParaRPr b="0" lang="en-US" sz="3600" spc="-1" strike="noStrike">
              <a:solidFill>
                <a:srgbClr val="000000"/>
              </a:solidFill>
              <a:latin typeface="Times New Roman"/>
            </a:endParaRPr>
          </a:p>
        </p:txBody>
      </p:sp>
      <p:sp>
        <p:nvSpPr>
          <p:cNvPr id="42"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ay 22, 2006</a:t>
            </a:r>
            <a:endParaRPr b="0" lang="en-US" sz="2000" spc="-1" strike="noStrike">
              <a:solidFill>
                <a:srgbClr val="000000"/>
              </a:solidFill>
              <a:latin typeface="Times New Roman"/>
            </a:endParaRPr>
          </a:p>
        </p:txBody>
      </p:sp>
      <p:graphicFrame>
        <p:nvGraphicFramePr>
          <p:cNvPr id="43" name=""/>
          <p:cNvGraphicFramePr/>
          <p:nvPr/>
        </p:nvGraphicFramePr>
        <p:xfrm>
          <a:off x="3416400" y="2058840"/>
          <a:ext cx="3657600" cy="181080"/>
        </p:xfrm>
        <a:graphic>
          <a:graphicData uri="http://schemas.openxmlformats.org/presentationml/2006/ole">
            <p:oleObj r:id="rId1" spid="">
              <p:embed/>
              <p:pic>
                <p:nvPicPr>
                  <p:cNvPr id="44"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5" name=""/>
          <p:cNvGraphicFramePr/>
          <p:nvPr/>
        </p:nvGraphicFramePr>
        <p:xfrm>
          <a:off x="6781680" y="5791320"/>
          <a:ext cx="1676520" cy="811080"/>
        </p:xfrm>
        <a:graphic>
          <a:graphicData uri="http://schemas.openxmlformats.org/presentationml/2006/ole">
            <p:oleObj r:id="rId3" spid="">
              <p:embed/>
              <p:pic>
                <p:nvPicPr>
                  <p:cNvPr id="46"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6AAB11A8-BC50-4E43-AA52-C1A3D2E477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graphicFrame>
        <p:nvGraphicFramePr>
          <p:cNvPr id="81" name=""/>
          <p:cNvGraphicFramePr/>
          <p:nvPr/>
        </p:nvGraphicFramePr>
        <p:xfrm>
          <a:off x="6781680" y="5791320"/>
          <a:ext cx="1676520" cy="811080"/>
        </p:xfrm>
        <a:graphic>
          <a:graphicData uri="http://schemas.openxmlformats.org/presentationml/2006/ole">
            <p:oleObj r:id="rId1" spid="">
              <p:embed/>
              <p:pic>
                <p:nvPicPr>
                  <p:cNvPr id="8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83" name="PlaceHolder 2"/>
          <p:cNvSpPr>
            <a:spLocks noGrp="1"/>
          </p:cNvSpPr>
          <p:nvPr>
            <p:ph/>
          </p:nvPr>
        </p:nvSpPr>
        <p:spPr>
          <a:xfrm>
            <a:off x="1066680" y="1523520"/>
            <a:ext cx="7848720" cy="3962520"/>
          </a:xfrm>
          <a:prstGeom prst="rect">
            <a:avLst/>
          </a:prstGeom>
          <a:solidFill>
            <a:srgbClr val="ffffff"/>
          </a:solidFill>
          <a:ln w="0">
            <a:noFill/>
          </a:ln>
        </p:spPr>
        <p:txBody>
          <a:bodyPr lIns="90000" rIns="90000" tIns="46800" bIns="46800"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fying the rules concerning volunteer Graduate Medical Education</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Teaching physicians feel that the rules concerning the use of volunteer faculties are unclear and difficult to implement.</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April 14: Dr. McClellan met this week with a group of teaching physicians and encouraged them to provide us with specific examples so that we can clarify CMS policy.</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ne 29: 112 members of Congress sent a letter to Dr. McClellan about this issue.  In his letter of reply, he committed to a new set of Frequently Asked Questions and an in depth review of our audit procedures concerning teaching physicians.</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b 14: In the past two weeks The PRIT and the director of CMM have met with the AOA, the Academic Family Medicine Advocacy Alliance, and with the American Academy of Family Physicians to discuss this issue.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VUs for Pediatric Codes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American Academy of Pediatrics would like CMS to publish RVUs for pediatric codes that have an "N modifier" in the physician rule.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We are exploring the implementation of this with appropriate CMS staff.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6: We met with the American Academy of Pediatrics and they will comment in support of this change in the Physician rule which is normally released in November.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ly 15: The proposed rule should be released soon.  This will be the appropriate time for comments.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ptember 1: CMS released the Proposed Physician Fee Schedule today.  This proposed rule does list values for the four codes (90467, 90468, 90473, and 90474) as the AAP had requested.  The proposed rule can be found here.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gust 8: The AAP has contacted the PRIT regarding additional codes they would like valued in the rule.  CPT codes 99173 (Vision screening) and 92551 (Hearing screening) did not have their RVUs published in the 2006 proposed physician fee schedule. The AAP will request that they be listed in the final rule.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3: The proposed physician rule will be released for public comment in June. We will work with the American Academy of Pediatrics during the comment period to request that these codes be assigned values in the physician fee schedul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3290269-836F-4C51-84E8-90F5A0B5D2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graphicFrame>
        <p:nvGraphicFramePr>
          <p:cNvPr id="85" name=""/>
          <p:cNvGraphicFramePr/>
          <p:nvPr/>
        </p:nvGraphicFramePr>
        <p:xfrm>
          <a:off x="6781680" y="5791320"/>
          <a:ext cx="1676520" cy="811080"/>
        </p:xfrm>
        <a:graphic>
          <a:graphicData uri="http://schemas.openxmlformats.org/presentationml/2006/ole">
            <p:oleObj r:id="rId1" spid="">
              <p:embed/>
              <p:pic>
                <p:nvPicPr>
                  <p:cNvPr id="86" name="" descr=""/>
                  <p:cNvPicPr/>
                  <p:nvPr/>
                </p:nvPicPr>
                <p:blipFill>
                  <a:blip r:embed="rId2"/>
                  <a:stretch/>
                </p:blipFill>
                <p:spPr>
                  <a:xfrm>
                    <a:off x="6781680" y="5791320"/>
                    <a:ext cx="1676520" cy="811080"/>
                  </a:xfrm>
                  <a:prstGeom prst="rect">
                    <a:avLst/>
                  </a:prstGeom>
                  <a:ln w="0">
                    <a:noFill/>
                  </a:ln>
                </p:spPr>
              </p:pic>
            </p:oleObj>
          </a:graphicData>
        </a:graphic>
      </p:graphicFrame>
      <p:sp>
        <p:nvSpPr>
          <p:cNvPr id="87" name="PlaceHolder 2"/>
          <p:cNvSpPr>
            <a:spLocks noGrp="1"/>
          </p:cNvSpPr>
          <p:nvPr>
            <p:ph/>
          </p:nvPr>
        </p:nvSpPr>
        <p:spPr>
          <a:xfrm>
            <a:off x="1066680" y="1523520"/>
            <a:ext cx="7772400" cy="3962520"/>
          </a:xfrm>
          <a:prstGeom prst="rect">
            <a:avLst/>
          </a:prstGeom>
          <a:solidFill>
            <a:srgbClr val="ffffff"/>
          </a:solidFill>
          <a:ln w="0">
            <a:noFill/>
          </a:ln>
        </p:spPr>
        <p:txBody>
          <a:bodyPr lIns="90000" rIns="90000" tIns="46800" bIns="46800" anchor="t">
            <a:normAutofit fontScale="96000"/>
          </a:bodyPr>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P problems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We have been contacted repeatedly by physicians who believe that some of our payments are incorrect.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We are working with manufacturer to try to improve the usefulness of the reported ASP data. Meanwhile, we’d like to continue to hear from providers who are having difficulties finding specific drugs at ASP+6. Background on ASP can be found at </a:t>
            </a:r>
            <a:r>
              <a:rPr b="0" lang="en-US" sz="1200" spc="-1" strike="noStrike" u="sng">
                <a:solidFill>
                  <a:srgbClr val="3333ff"/>
                </a:solidFill>
                <a:uFillTx/>
                <a:latin typeface="Arial"/>
                <a:hlinkClick r:id="rId3"/>
              </a:rPr>
              <a:t>http://www.cms.hhs.gov/providers/drugs/asp.asp</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ch 10: We are continuing to welcome reports by physicians of drugs that can't be obtained at our CMS designated ASP+6. As we receive these reports we are verifying them and passing them to the CMS team which is currently scrutinizing carefully our ASP list. Physicians having difficulties obtaining drugs at the ASP price should contact us.</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8: We have received information from providers about prices for IVIG, IV fluid, antibiotics, and some chemotherapeutic agents. After verifying the information the PRIT has passed it to the group responsible for maintaining the ASP price list. We continue to invite providers to let us know about specific pricing problems.</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 23: Problems with ASP pricing were discussed at PPAC today.  We will be reporting on this issue at the next PPAC.  We still invite providers who are having difficulties obtaining drugs at the ASP price to let us know.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ly 18: One manufacturer discovered a math error which led to a price that was $360 lower then it should have been.  The correction was only possible because a provider let the PRIT know they were having difficulties obtaining that drug at ASP+6.</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ptember 29: The large gaps between ASP and market prices seen when the program began have mostly disappeared.  We actively solicit input from physicians concerning any ASP problems they are experiencing.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vember 2: CMS is establishing a temporary add-on payment to cover the additional preadministration-related services required to locate and acquire adequate IVIG product and prepare for an infusion of IVIG during this current period of market instability. CMS has determined that the pricing for IVIG is accurate, and that there is no overall product shortage. For calendar year 2006 only, providers will be permitted to bill this add-on code. For more details, read the 2006 Physician Fee Schedule CMS-1325-IFC3</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b 6:  We continue to invite comments from physicians having problems with ASP.</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617DCAC9-1F2E-401B-BC6E-D5070C611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89" name="PlaceHolder 2"/>
          <p:cNvSpPr>
            <a:spLocks noGrp="1"/>
          </p:cNvSpPr>
          <p:nvPr>
            <p:ph/>
          </p:nvPr>
        </p:nvSpPr>
        <p:spPr>
          <a:xfrm>
            <a:off x="1066680" y="1523520"/>
            <a:ext cx="7848720" cy="3962520"/>
          </a:xfrm>
          <a:prstGeom prst="rect">
            <a:avLst/>
          </a:prstGeom>
          <a:solidFill>
            <a:srgbClr val="ffffff"/>
          </a:solidFill>
          <a:ln w="0">
            <a:noFill/>
          </a:ln>
        </p:spPr>
        <p:txBody>
          <a:bodyPr lIns="90000" rIns="90000" tIns="46800" bIns="46800"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very Audit Contracts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The American College of Physicians is concerned that the Recovery Audit Contracts (RACs) initiative has potential to be burdensome and intrusive to providers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 (pdf 272KB)</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ch 16: The Practicing Physician’s Advisory Council met yesterday and discussed this issue. The PRIT is participating in a series of regularly scheduled meetings concerning RACs and is working to ensure this process runs as smoothly as possible. It was also discussed by CMS Administrator Dr. McClellan at the American Medical Association’s Advocacy Conference on March 15th.</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8: The PRIT will keep the issue active since the program does not start until May. We want to make sure providers know that we are here to address their issues.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13: CMS will hold an ODF specifically on Recovery Audit Contractors (RACs) on April 28th.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27: The PRIT met today with the AMA about the impact of the RAC on their physicians.  A RAC fact sheet can be found at the link below.</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ril 28:  There was a Special ODF on Recovery Audit Contractors today.  RACs will also be discussed at the May 23 PPAC meeting.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ly 7: As of today we have heard nothing from the provider community concerning RAC audits.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ptember 19: RAC contractors are beginning to look at Part B claims.  Communication with providers is very important to us at this time.   RACs won't be looking at E&amp;M coding level at least until CMS finishes analyzing AMA resolution 819.  RACs will not look at any claims that have already been audited by Medicare.  The normal appeals process will apply to demand letters.  If an overpayment is found the RAC contractor is expected to arrange for payment to the physician or provider.</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ch 7: CMS has modified the RAC contracts to pay RACs the same contingency fee for finding underpayments as they get for finding overpayments.</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0" name=""/>
          <p:cNvGraphicFramePr/>
          <p:nvPr/>
        </p:nvGraphicFramePr>
        <p:xfrm>
          <a:off x="6781680" y="5791320"/>
          <a:ext cx="1676520" cy="811080"/>
        </p:xfrm>
        <a:graphic>
          <a:graphicData uri="http://schemas.openxmlformats.org/presentationml/2006/ole">
            <p:oleObj r:id="rId1" spid="">
              <p:embed/>
              <p:pic>
                <p:nvPicPr>
                  <p:cNvPr id="91"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A5BE36B-10AD-4032-A819-FC637D2CB3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93" name="PlaceHolder 2"/>
          <p:cNvSpPr>
            <a:spLocks noGrp="1"/>
          </p:cNvSpPr>
          <p:nvPr>
            <p:ph/>
          </p:nvPr>
        </p:nvSpPr>
        <p:spPr>
          <a:xfrm>
            <a:off x="1066680" y="1676520"/>
            <a:ext cx="7391520" cy="3962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Acquisition Progra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Oncologists and other physicians who administer drugs in their office have expressed concerns about the user friendliness of the competitive acquisition program plan for January 200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arch 9: Physician concerns were discussed at the PPAC. CMS now has a website (below) to keep providers informed as this program is develope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une 27: CMS released the Competitive Acquisition Program interim final rule.  The fact sheet and regulation are worth read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gust 3: CMS is suspending the current CAP vendor bidding process. CMS is suspending the bidding at this time to allow us to more fully review public comments to the CAP IFC (CMS-1325-IFC) as well as to implement further clarifications to the bidding process before CMS proceeds to accept bids from vendors. More information can be found at the website below.</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P bidding process will close on December 22, 2005.  Vendors will be announced early spring and physician election will occur probably in April or May.  CAP implementation will occur on July 1st, 200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vember 21:  CMS published regulations today concerning the CAP program.  Please click on the second link below for more information.</a:t>
            </a:r>
            <a:endParaRPr b="0" lang="en-US" sz="1400" spc="-1" strike="noStrike">
              <a:solidFill>
                <a:srgbClr val="000000"/>
              </a:solidFill>
              <a:latin typeface="Arial"/>
            </a:endParaRPr>
          </a:p>
        </p:txBody>
      </p:sp>
      <p:graphicFrame>
        <p:nvGraphicFramePr>
          <p:cNvPr id="94" name=""/>
          <p:cNvGraphicFramePr/>
          <p:nvPr/>
        </p:nvGraphicFramePr>
        <p:xfrm>
          <a:off x="6781680" y="5791320"/>
          <a:ext cx="1676520" cy="811080"/>
        </p:xfrm>
        <a:graphic>
          <a:graphicData uri="http://schemas.openxmlformats.org/presentationml/2006/ole">
            <p:oleObj r:id="rId1" spid="">
              <p:embed/>
              <p:pic>
                <p:nvPicPr>
                  <p:cNvPr id="95"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4B896CF-E32F-4CFC-96E1-3D920E2CE3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7"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 descr=""/>
          <p:cNvPicPr/>
          <p:nvPr/>
        </p:nvPicPr>
        <p:blipFill>
          <a:blip r:embed="rId1"/>
          <a:stretch/>
        </p:blipFill>
        <p:spPr>
          <a:xfrm>
            <a:off x="1600200" y="1676520"/>
            <a:ext cx="6114960" cy="4151160"/>
          </a:xfrm>
          <a:prstGeom prst="rect">
            <a:avLst/>
          </a:prstGeom>
          <a:ln w="0">
            <a:noFill/>
          </a:ln>
        </p:spPr>
      </p:pic>
      <p:sp>
        <p:nvSpPr>
          <p:cNvPr id="99" name=""/>
          <p:cNvSpPr/>
          <p:nvPr/>
        </p:nvSpPr>
        <p:spPr>
          <a:xfrm>
            <a:off x="1600200" y="5181480"/>
            <a:ext cx="6095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see from your copy of Newsweek that Lyndon Johnson has decided not to run for a second term as presiden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6007C58-9201-4E08-A5E1-FD55749E8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Key Websites</a:t>
            </a:r>
            <a:endParaRPr b="0" lang="en-US" sz="3600" spc="-1" strike="noStrike">
              <a:solidFill>
                <a:srgbClr val="000066"/>
              </a:solidFill>
              <a:latin typeface="Arial Rounded MT Bold"/>
            </a:endParaRPr>
          </a:p>
        </p:txBody>
      </p:sp>
      <p:sp>
        <p:nvSpPr>
          <p:cNvPr id="101"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ww.cms.hhs.gov/PRIT</a:t>
            </a:r>
            <a:endParaRPr b="0" lang="en-US" sz="2800" spc="-1" strike="noStrike">
              <a:solidFill>
                <a:srgbClr val="000000"/>
              </a:solidFill>
              <a:latin typeface="Arial"/>
            </a:endParaRPr>
          </a:p>
        </p:txBody>
      </p:sp>
      <p:graphicFrame>
        <p:nvGraphicFramePr>
          <p:cNvPr id="102" name=""/>
          <p:cNvGraphicFramePr/>
          <p:nvPr/>
        </p:nvGraphicFramePr>
        <p:xfrm>
          <a:off x="6781680" y="5791320"/>
          <a:ext cx="1676520" cy="811080"/>
        </p:xfrm>
        <a:graphic>
          <a:graphicData uri="http://schemas.openxmlformats.org/presentationml/2006/ole">
            <p:oleObj r:id="rId1" spid="">
              <p:embed/>
              <p:pic>
                <p:nvPicPr>
                  <p:cNvPr id="103"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81734C18-F5E9-4328-8835-47EA82DDA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105"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Rog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36-3338</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rPr>
              <a:t>William.Rogers@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2"/>
              </a:rPr>
              <a:t>PRIT@cms.hhs.g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6" name=""/>
          <p:cNvGraphicFramePr/>
          <p:nvPr/>
        </p:nvGraphicFramePr>
        <p:xfrm>
          <a:off x="6781680" y="5791320"/>
          <a:ext cx="1676520" cy="811080"/>
        </p:xfrm>
        <a:graphic>
          <a:graphicData uri="http://schemas.openxmlformats.org/presentationml/2006/ole">
            <p:oleObj r:id="rId3" spid="">
              <p:embed/>
              <p:pic>
                <p:nvPicPr>
                  <p:cNvPr id="10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3CB829D-64FA-4556-99EB-70F98AD02B3B}"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4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T updat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sit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info</a:t>
            </a:r>
            <a:endParaRPr b="0" lang="en-US" sz="2800" spc="-1" strike="noStrike">
              <a:solidFill>
                <a:srgbClr val="000000"/>
              </a:solidFill>
              <a:latin typeface="Arial"/>
            </a:endParaRPr>
          </a:p>
        </p:txBody>
      </p:sp>
      <p:graphicFrame>
        <p:nvGraphicFramePr>
          <p:cNvPr id="50" name=""/>
          <p:cNvGraphicFramePr/>
          <p:nvPr/>
        </p:nvGraphicFramePr>
        <p:xfrm>
          <a:off x="6781680" y="5791320"/>
          <a:ext cx="1676520" cy="811080"/>
        </p:xfrm>
        <a:graphic>
          <a:graphicData uri="http://schemas.openxmlformats.org/presentationml/2006/ole">
            <p:oleObj r:id="rId1" spid="">
              <p:embed/>
              <p:pic>
                <p:nvPicPr>
                  <p:cNvPr id="51"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2" name="" descr=""/>
          <p:cNvPicPr/>
          <p:nvPr/>
        </p:nvPicPr>
        <p:blipFill>
          <a:blip r:embed="rId3"/>
          <a:stretch/>
        </p:blipFill>
        <p:spPr>
          <a:xfrm>
            <a:off x="3505320" y="1600200"/>
            <a:ext cx="4117680" cy="457848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7E5C3A73-E181-43C4-B5BB-F3FE3474C6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graphicFrame>
        <p:nvGraphicFramePr>
          <p:cNvPr id="54" name=""/>
          <p:cNvGraphicFramePr/>
          <p:nvPr/>
        </p:nvGraphicFramePr>
        <p:xfrm>
          <a:off x="6781680" y="5791320"/>
          <a:ext cx="1676520" cy="811080"/>
        </p:xfrm>
        <a:graphic>
          <a:graphicData uri="http://schemas.openxmlformats.org/presentationml/2006/ole">
            <p:oleObj r:id="rId1" spid="">
              <p:embed/>
              <p:pic>
                <p:nvPicPr>
                  <p:cNvPr id="55" name="" descr=""/>
                  <p:cNvPicPr/>
                  <p:nvPr/>
                </p:nvPicPr>
                <p:blipFill>
                  <a:blip r:embed="rId2"/>
                  <a:stretch/>
                </p:blipFill>
                <p:spPr>
                  <a:xfrm>
                    <a:off x="6781680" y="5791320"/>
                    <a:ext cx="1676520" cy="811080"/>
                  </a:xfrm>
                  <a:prstGeom prst="rect">
                    <a:avLst/>
                  </a:prstGeom>
                  <a:ln w="0">
                    <a:noFill/>
                  </a:ln>
                </p:spPr>
              </p:pic>
            </p:oleObj>
          </a:graphicData>
        </a:graphic>
      </p:graphicFrame>
      <p:sp>
        <p:nvSpPr>
          <p:cNvPr id="56" name=""/>
          <p:cNvSpPr/>
          <p:nvPr/>
        </p:nvSpPr>
        <p:spPr>
          <a:xfrm>
            <a:off x="1219320" y="1676520"/>
            <a:ext cx="7772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genda Item D: Physicians Regulatory Issues Team (PRIT) 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D-1: </a:t>
            </a:r>
            <a:r>
              <a:rPr b="0" lang="en-US" sz="1800" spc="-1" strike="noStrike">
                <a:solidFill>
                  <a:srgbClr val="000000"/>
                </a:solidFill>
                <a:latin typeface="Arial"/>
              </a:rPr>
              <a:t>The Council recommends that CMS provide an online directory of National Provider Identifier numbers for use by physici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D-2: </a:t>
            </a:r>
            <a:r>
              <a:rPr b="0" lang="en-US" sz="1800" spc="-1" strike="noStrike">
                <a:solidFill>
                  <a:srgbClr val="000000"/>
                </a:solidFill>
                <a:latin typeface="Arial"/>
              </a:rPr>
              <a:t>The Council recommends that CMS publish in its proposed and final rules the Relative Value Units (RVUs) forwarded by the American Medical Association’s Relative Value Update Committee (RUC) for new physician services for which CMS has made a noncoverage d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D-3: </a:t>
            </a:r>
            <a:r>
              <a:rPr b="0" lang="en-US" sz="1800" spc="-1" strike="noStrike">
                <a:solidFill>
                  <a:srgbClr val="000000"/>
                </a:solidFill>
                <a:latin typeface="Arial"/>
              </a:rPr>
              <a:t>The Council recommends that CMS withdraw the proposal to create a list of “medically unbelievable edits” and resubmit the proposal through the normal, formal rulemaking process, working closely with the medical community throughou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454880E4-36B6-46C3-8292-FACA59CF80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58" name="PlaceHolder 2"/>
          <p:cNvSpPr>
            <a:spLocks noGrp="1"/>
          </p:cNvSpPr>
          <p:nvPr>
            <p:ph/>
          </p:nvPr>
        </p:nvSpPr>
        <p:spPr>
          <a:xfrm>
            <a:off x="1066680" y="1599840"/>
            <a:ext cx="7391520" cy="3962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ten consultation order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Do consultants need to verify that a written order is on the chart for the consultation they are performin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In December of 2005 transmittal 788 imposed the additional requirement that the consulting physician verify that a written request for a consultation has been made in the patient chart before billing for the consultation. The MGMA has asked that this requirement be reconsidered. The PRIT is discussing the issue with appropriate staf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ril 11: We do not expect the consulting physician to verify that the ordering physician has documented the consultation request in the patient char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rse Practitioner Services Billed in the Hospit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The carrier manual (Section 120.1 "Direct Billing and Payment" under "Nurse Practitioner (NP) and Clinical Nurse Specialist (CNS) Services.") says that Nurse Practitioner services can not be billed by the Nurse Practitioner when provided in the hospital but should be billed by the facili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We are working to change the manual and remove this passag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9" name=""/>
          <p:cNvGraphicFramePr/>
          <p:nvPr/>
        </p:nvGraphicFramePr>
        <p:xfrm>
          <a:off x="6781680" y="5791320"/>
          <a:ext cx="1676520" cy="811080"/>
        </p:xfrm>
        <a:graphic>
          <a:graphicData uri="http://schemas.openxmlformats.org/presentationml/2006/ole">
            <p:oleObj r:id="rId1" spid="">
              <p:embed/>
              <p:pic>
                <p:nvPicPr>
                  <p:cNvPr id="60"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20EACB71-4C3F-4D99-ACBB-7072C0AF4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62" name="PlaceHolder 2"/>
          <p:cNvSpPr>
            <a:spLocks noGrp="1"/>
          </p:cNvSpPr>
          <p:nvPr>
            <p:ph/>
          </p:nvPr>
        </p:nvSpPr>
        <p:spPr>
          <a:xfrm>
            <a:off x="1066680" y="1676520"/>
            <a:ext cx="7391520" cy="39621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valued Neurosugical cod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CMS did not publish the RVUs for codes 61630, 61635, 61640, 61641, and 61642, in the Physician Fee Schedule Final Rul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This issue was brought to the PRIT by a member from the Practicing Physicians Advisory Council (PPAC).  The PRIT will work with CMS policy staff on publishing these RV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3: The proposed physician rule will be released for public comment in June. We will work with the American Association of Neurological Surgeons during the comment period to request that these codes be assigned values in the physician fee schedu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betes Self Management Training (SMT) NC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ue:  Medicare does not cover diabetes SMT for some diabetics because their disease is not described by ICD-9 codes 250.00-250.93.</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us:  This issue was brought to the PRIT by a hospital reimbursement analyst.  The PRIT is discussing with the appropriate OCSQ staff the possibility of expanding SMT coverage to other forms of diabetes such as diabetes caused by pancreatectomy or due to hemochromato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63" name=""/>
          <p:cNvGraphicFramePr/>
          <p:nvPr/>
        </p:nvGraphicFramePr>
        <p:xfrm>
          <a:off x="6781680" y="5791320"/>
          <a:ext cx="1676520" cy="811080"/>
        </p:xfrm>
        <a:graphic>
          <a:graphicData uri="http://schemas.openxmlformats.org/presentationml/2006/ole">
            <p:oleObj r:id="rId1" spid="">
              <p:embed/>
              <p:pic>
                <p:nvPicPr>
                  <p:cNvPr id="64"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20EB0F1-802F-4349-AC64-A940A5609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graphicFrame>
        <p:nvGraphicFramePr>
          <p:cNvPr id="66" name=""/>
          <p:cNvGraphicFramePr/>
          <p:nvPr/>
        </p:nvGraphicFramePr>
        <p:xfrm>
          <a:off x="6781680" y="5791320"/>
          <a:ext cx="1676520" cy="811080"/>
        </p:xfrm>
        <a:graphic>
          <a:graphicData uri="http://schemas.openxmlformats.org/presentationml/2006/ole">
            <p:oleObj r:id="rId1" spid="">
              <p:embed/>
              <p:pic>
                <p:nvPicPr>
                  <p:cNvPr id="6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68" name="PlaceHolder 2"/>
          <p:cNvSpPr>
            <a:spLocks noGrp="1"/>
          </p:cNvSpPr>
          <p:nvPr>
            <p:ph/>
          </p:nvPr>
        </p:nvSpPr>
        <p:spPr>
          <a:xfrm>
            <a:off x="990720" y="1447920"/>
            <a:ext cx="8076960" cy="396216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ly Unbelievable Edits (MU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College of American Pathologists has concerns that the recently released proposed MUE would prevent them from being paid for many services. Urologists and Dermatologists have expressed similar concern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This issue was brought to the PRIT by the College of American Pathologists. We are discussing these concerns with subject matter experts at CMS. We expect to have an update by early next week.</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21:  The deadline for comments on the proposed list of MUEs has been deferred to June 19, 2006 and implementation is not anticipated until January 1, 2007. The medically unbelievable edits are not meant as Medicare payment policy, but only to identify obvious billing mistakes. Throughout this effort CMS and its contractor, Correct Coding Solutions, LLC, will work closely with the provider community and have open discussions about the rationale and statistical basis for establishing these edits based on claims data. Further, CMS will consider the use of modifiers to allow for medically necessary services that may be clinical outliers and work to develop an appeals process to allow for the reconsideration, as needed, of specific claims and specific MUE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vailability of NPI number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Will there be an online directory for NPI?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Legislation had to be passed to allow the UPIN directory to be available to the public. Similar legislation has not been passed for the NPI directory. Currently payers and providers will have to obtain NPI from referring physician which is burdensome for provider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b 6: A notice describing the rules concerning NPI dissemination is in the clearance proces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BD36153A-9E5C-440F-A654-69622CD4E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70" name="PlaceHolder 2"/>
          <p:cNvSpPr>
            <a:spLocks noGrp="1"/>
          </p:cNvSpPr>
          <p:nvPr>
            <p:ph/>
          </p:nvPr>
        </p:nvSpPr>
        <p:spPr>
          <a:xfrm>
            <a:off x="1066680" y="1447920"/>
            <a:ext cx="7391520" cy="3962160"/>
          </a:xfrm>
          <a:prstGeom prst="rect">
            <a:avLst/>
          </a:prstGeom>
          <a:noFill/>
          <a:ln w="0">
            <a:noFill/>
          </a:ln>
        </p:spPr>
        <p:txBody>
          <a:bodyPr lIns="90000" rIns="90000" tIns="46800" bIns="46800"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H Provider response tim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American Academy of Family Physicians House of Delegates passed Resolution No. 515 in September. This resolution requests that CMS reevaluate the time requirement described in regulation 485.618, which can be found on the Federal Register website (link the to http://www.gpoaccess.gov/fr/advanced.html). This regulation requires that practitioners on staff at Critical Access Hospitals respond to emergency department patients within 30 minutes.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It may be possible to define the 1/2 hour response time as required for patients who arrive at the CAH with an Emergency Medical Condition as defined in the EMTALA regulations.</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17: The PRIT met with CMS policy staff on this subject and discussed language to resolve this issu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ossover of Anesthesia Bills</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When the MCS system creates a crossover bill, it reports anesthesia times in units.  Some secondary payers pay for units rather then minutes and this leads to underpayments.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An anesthesia billing representative contacted the PRIT about this underpayment issue.  We are discussing possibly solutions with the carrier.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b 14: The PRIT met today with the Medicaid Claims processor and the Anesthesia providers.  Resolution is forthcoming.  </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ril 18th Progress by the contractor in effecting the change has been disappointing, we are addressing this with the contractor.</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 name=""/>
          <p:cNvGraphicFramePr/>
          <p:nvPr/>
        </p:nvGraphicFramePr>
        <p:xfrm>
          <a:off x="6781680" y="5791320"/>
          <a:ext cx="1676520" cy="811080"/>
        </p:xfrm>
        <a:graphic>
          <a:graphicData uri="http://schemas.openxmlformats.org/presentationml/2006/ole">
            <p:oleObj r:id="rId1" spid="">
              <p:embed/>
              <p:pic>
                <p:nvPicPr>
                  <p:cNvPr id="72"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0D1C8CF-5F19-4152-ACA8-ABA166A6E3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4"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1600200" y="1557360"/>
            <a:ext cx="6029280" cy="477684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20BE153-4F24-4D06-A94B-1284D52FD1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PRIT update</a:t>
            </a:r>
            <a:endParaRPr b="0" lang="en-US" sz="3600" spc="-1" strike="noStrike">
              <a:solidFill>
                <a:srgbClr val="000066"/>
              </a:solidFill>
              <a:latin typeface="Arial Rounded MT Bold"/>
            </a:endParaRPr>
          </a:p>
        </p:txBody>
      </p:sp>
      <p:sp>
        <p:nvSpPr>
          <p:cNvPr id="77" name="PlaceHolder 2"/>
          <p:cNvSpPr>
            <a:spLocks noGrp="1"/>
          </p:cNvSpPr>
          <p:nvPr>
            <p:ph/>
          </p:nvPr>
        </p:nvSpPr>
        <p:spPr>
          <a:xfrm>
            <a:off x="990360" y="1447920"/>
            <a:ext cx="8001000" cy="3962160"/>
          </a:xfrm>
          <a:prstGeom prst="rect">
            <a:avLst/>
          </a:prstGeom>
          <a:noFill/>
          <a:ln w="0">
            <a:noFill/>
          </a:ln>
        </p:spPr>
        <p:txBody>
          <a:bodyPr lIns="90000" rIns="90000" tIns="46800" bIns="46800"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hospitals provide Continuing Medical Education?</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A member of the Practicing Physicians Advisory Council asked the PRIT whether hospitals can provide free CME to members of their medical staff.</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The Stark rule addresses hospital services to physicians in section 411.357(m) and 411.357(k).  If CMS can create an exception for CME, hospitals would be more likely to provide this important service.  CMS is exploring various options.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une 29: The AMA has written a letter to Dr. McClellan expressing their concerns about this issue.</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uly 15: Staff is preparing a response to the AMA letter.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ctober 25: Final response to the AMA is still in internal review.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pril 6:  We are currently preparing a final rule in response ot the interim final fule published in 2004 (69 CFR 16054) to clarify that traditional on-site hospital grand rounds and other in-house education hospitals provided by hospitals are valuable and should be easily structured to avoid conflict with Stark.</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 Resubmission of Denied Claim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ransmittal 104 released by CMS on February 11, 2005 places certain restrictions on the electronic resubmission claims. Claims are sometimes denied because the person preparing the claim forgets to include the ICD-9 code necessary to allow Medicare to cover the service. The claim is denied based on the absence of that ICD-9. Providers feel that in this particular case requiring that the corrected claim be submitted in paper would be burdensome and expensive for both the doctor's office and the Medicare Carrier. </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We have discussed the issue with appropriate staff and they are considering language which would permit these resubmissions.</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eb 17: This issue will be discussed at the 3/6/06 PPAC meeting.</a:t>
            </a:r>
            <a:endParaRPr b="0" lang="en-US" sz="1400" spc="-1" strike="noStrike">
              <a:solidFill>
                <a:srgbClr val="000000"/>
              </a:solidFill>
              <a:latin typeface="Arial"/>
            </a:endParaRPr>
          </a:p>
        </p:txBody>
      </p:sp>
      <p:graphicFrame>
        <p:nvGraphicFramePr>
          <p:cNvPr id="78" name=""/>
          <p:cNvGraphicFramePr/>
          <p:nvPr/>
        </p:nvGraphicFramePr>
        <p:xfrm>
          <a:off x="6781680" y="5791320"/>
          <a:ext cx="1676520" cy="811080"/>
        </p:xfrm>
        <a:graphic>
          <a:graphicData uri="http://schemas.openxmlformats.org/presentationml/2006/ole">
            <p:oleObj r:id="rId1" spid="">
              <p:embed/>
              <p:pic>
                <p:nvPicPr>
                  <p:cNvPr id="79" name="" descr=""/>
                  <p:cNvPicPr/>
                  <p:nvPr/>
                </p:nvPicPr>
                <p:blipFill>
                  <a:blip r:embed="rId2"/>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1D1F1259-851A-4923-AFBB-D162069A0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6-06-06T11:00:02Z</dcterms:modified>
  <cp:revision>170</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7721044</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 Documents from May 22, 2006 PPAC Myg.</vt:lpwstr>
  </property>
  <property fmtid="{D5CDD505-2E9C-101B-9397-08002B2CF9AE}" pid="6" name="_NewReviewCycle">
    <vt:lpwstr/>
  </property>
  <property fmtid="{D5CDD505-2E9C-101B-9397-08002B2CF9AE}" pid="7" name="_ReviewingToolsShownOnce">
    <vt:lpwstr/>
  </property>
</Properties>
</file>