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C9165-35C3-4F95-9471-FA33678DF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BBC6-8818-4F3C-A0FD-C4A0CCEFA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1FF01-34DA-4104-A25E-8FE3EB2FD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1DE00-9A67-4DB5-9507-27053F1DE3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BE5DF-8ABB-459B-A6B2-F31111ED87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8F40E-48E5-4093-BA90-563E1EE90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13B45-04F6-4FDF-8DDB-088973400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48EE5-7D81-460C-8051-41AFC9DF0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3DC8D-8328-4642-A5BE-90AC0A8C4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BDC28-5DD5-4C3C-80D0-AF75C992F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D6075-CCB1-4315-89CA-10F788479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1749-1F1C-4950-9321-E501DAB19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&lt;footer&gt;</a:t>
            </a: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214D-BFEF-442F-8EAD-B4ED89CF7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Medically Unbelievable Edits</a:t>
            </a:r>
            <a:endParaRPr b="0" lang="en-US" sz="40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a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uty Director, Program Integrit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of Financial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362320"/>
            <a:ext cx="2362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OBJECTIV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 implausible Medicare claims submi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t inappropriate payment of clai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closely with the provider community to develop M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meant as Medicare payment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LAN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concentrate on developing anatomical 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, develop edits for typographical erro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step is to decide on other issues CMS needs to addres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TIME LIN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comments due June 19, 20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will have a second round of comments before finalizing the M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Will not implement MUEs before January 1,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OMMENT PROCES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 conduct the MUE comment process through professional organ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utilize other mechanisms later in the proces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will repeat the comment process whenever CMS revises the MUE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TEST PERIOD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final implementation of M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test perio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the impact of MUEs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re beneficiari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re providers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re contr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upon the results of the test, CMS will modify MUE criteria as appropri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Rounded MT Bold"/>
              </a:rPr>
              <a:t>PROCEDURES TO SELECT MUE CRITERIA LEVELS</a:t>
            </a: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39152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ast period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judgment of CMS health care professionals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from the health care communit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ULTIMATE OBJECTIVE FOR EACH MUE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E is one on which prudent people will agr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8T16:29:31Z</dcterms:created>
  <dc:creator>CMS</dc:creator>
  <dc:description/>
  <dc:language>en-US</dc:language>
  <cp:lastModifiedBy>CMS</cp:lastModifiedBy>
  <dcterms:modified xsi:type="dcterms:W3CDTF">2006-06-06T10:54:54Z</dcterms:modified>
  <cp:revision>9</cp:revision>
  <dc:subject/>
  <dc:title>MEDICALLY UNBELIEVEALBE EDI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03841656</vt:r8>
  </property>
  <property fmtid="{D5CDD505-2E9C-101B-9397-08002B2CF9AE}" pid="3" name="_AuthorEmail">
    <vt:lpwstr>Kelly.Buchanan@cms.hhs.gov</vt:lpwstr>
  </property>
  <property fmtid="{D5CDD505-2E9C-101B-9397-08002B2CF9AE}" pid="4" name="_AuthorEmailDisplayName">
    <vt:lpwstr>Buchanan, Kelly (CMS/CMM)</vt:lpwstr>
  </property>
  <property fmtid="{D5CDD505-2E9C-101B-9397-08002B2CF9AE}" pid="5" name="_EmailSubject">
    <vt:lpwstr>Web Documents from May 22, 2006 PPAC Myg.</vt:lpwstr>
  </property>
  <property fmtid="{D5CDD505-2E9C-101B-9397-08002B2CF9AE}" pid="6" name="_NewReviewCycle">
    <vt:lpwstr/>
  </property>
  <property fmtid="{D5CDD505-2E9C-101B-9397-08002B2CF9AE}" pid="7" name="_PreviousAdHocReviewCycleID">
    <vt:r8>-978864389</vt:r8>
  </property>
  <property fmtid="{D5CDD505-2E9C-101B-9397-08002B2CF9AE}" pid="8" name="_ReviewingToolsShownOnce">
    <vt:lpwstr/>
  </property>
</Properties>
</file>