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A47F-DB60-434B-8E5A-A5D6D04F8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4D66-EC5A-45A6-A115-6F0928289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9970-AAAB-4C10-9F4A-E049F2E44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98BB-9B8B-4F42-BE99-C8FA0459E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3C74-0A72-483D-B928-CF9D8F221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2BA1-6B51-4F73-91D4-0FEED18A1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EE2F-9A62-4F99-B271-AC2973260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721E-6E75-4198-B6A3-8E34EB7B0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DDB9-DC0E-4A23-A189-2202AD77C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AA61-B1BC-4AA4-8F4D-BD154483C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95E4-3BDF-44A5-A2C8-439A05245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D022-A473-4373-977C-C49EA60CA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1D9C-D059-4D11-8EC8-D1711E36C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ecoveryAuditDemo@cms.hhs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Recovery Audit Contractors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Jesse M. Polansky, M.D., M.P.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Medical Officer, Program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y 23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C27C-2406-43AF-93B9-024D09237D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What rights do providers have?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s have the right to discuss issues with the 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Administrative Appeal rights re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/Carrier/DMERC will hear the first level of app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level will be conducted by the QIC (Qualified Independent Contrac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ird level will be conducted through the ALJ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6AEC-464A-4181-A1B9-3A94910810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Is there a financial incentive for the RACs to identify large numbers of overpayments?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n incentive to identify valid overpaym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rovider is successful at the first appeal level the RAC does not receive payment for the overpayment ident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C is required to defend its decisions through the appeal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FB3D3-28F0-4F76-B621-B4B6C3B1C2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INTERNAL CONTROLS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is establishing an internal control function to prevent determinations that do not comport with Medicare poli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EFFA-F947-46BF-ADA2-530B890048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EVALUATION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is required to submit a Report to Congress NLT 6 months after the end of the Demons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is in the procurement process to select an Independent Evaluation Contr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C431-88E8-46CF-9433-C177B03B80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COMMENTS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any questions or concerns about the Recovery Audit Contractors, please contact CMS at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RecoveryAuditDemo@cms.hhs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B83B-4F37-43EA-92B6-B1278A7442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MMA Section 306: Recovery Audit Contractor Demonstration Project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 year demonstration project to evaluate the savings to the Medicare program when Recovery Audit Contractors are used to identify underpayments and recover overpay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stinct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im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8E3B-7A6B-42B3-9B84-B7446ABB4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Section 306: Recovery Audit Contractor Demonstration Project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s will not conduct prepayment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RACs will not identify overpayments related to the correct coding of evaluation and management c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is reviewing AMA’s resolution 819, and may revise E&amp;M review instru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s will perform identification and recovery functions for services with claim paid dates in the prior 3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7F1B3-B9AF-475F-92D4-24DACD688D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Section 306: Recovery Audit Contractor Demonstration Project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payment process will not change for Medicare provi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1A476-8658-4050-B245-82D3C9D216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Section 306: Recovery Audit Contractor Demonstration Project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s identifying MSP occurrences will only identify situations where another employer or insurer should have paid the clai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identify situations involving workman’s compensation, automobile cases, liability cases, VA benefits or Federal Black Lung benef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C8FA-7182-44A8-A2A5-32A78956D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Recovery Audit Contractors (RACs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Recovery Audit Contractors in three st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states will have RACs who will conduct claim revie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and Florida will each have RACs who will conduct Medicare Secondary Payer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303A-6CB4-4C64-99FE-E2BA79155A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IMS REVIEW CONTR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G-Schultz International, I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id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Data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olly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47800" y="75960"/>
            <a:ext cx="76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Recovery Audit Contractors (RACs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61FF-2AFD-4788-AD29-6BFB340FBD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Recovery Audit Contractors (RACs)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SP CONTR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ied Collection Service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id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onsulting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59A6-F469-42FE-BA6F-BA95B3D225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What will the RAC do?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Medicare Underpayments and Overpayments and Recoup Overpay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be complet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heir proprietary software, resources and methods where appl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omplex medical review including medical record reviews; possibly on-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B0FE-C6E9-4954-A5B6-1B3ABC6E47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5-05-02T14:40:42Z</dcterms:modified>
  <cp:revision>167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3148007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or 5/23</vt:lpwstr>
  </property>
  <property fmtid="{D5CDD505-2E9C-101B-9397-08002B2CF9AE}" pid="6" name="_NewReviewCycle">
    <vt:lpwstr/>
  </property>
  <property fmtid="{D5CDD505-2E9C-101B-9397-08002B2CF9AE}" pid="7" name="_PreviousAdHocReviewCycleID">
    <vt:r8>76320322</vt:r8>
  </property>
</Properties>
</file>