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82762-C1F4-4693-87F1-B3025C7AF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534B-EF35-4C15-9383-2DA4A3343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7DCE-E3E1-4380-98CF-CDE041993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A37B-B448-4DCF-86C2-3A2C70A6AA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BCCB-83B6-4F5B-8F33-6DF881B103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A1F1-970F-4D3F-B3EC-42B04FC76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DC40-DF61-4D07-B9CC-E70CED54D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9DF6-9865-474E-84EF-8A601C4BE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7026-2C2E-48C7-9AF5-241CF138A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6620-D230-4958-AFC6-74CABF3AA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C06B-85FF-436F-BAC2-EE8D9ABD6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EF21-A3AC-4064-B154-0EA8AE332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C6AA-F0C8-459F-9F18-7AFE2A6F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nppes.cms.hhs.gov/" TargetMode="External"/><Relationship Id="rId2" Type="http://schemas.openxmlformats.org/officeDocument/2006/relationships/hyperlink" Target="http://www.cms.hhs.gov/hipaa/hipaa2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atricia.peyton@cms.hhs.go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National Provider Identifier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Kim Bra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y 2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5D4C-DD0A-4D7A-9692-89D35B5562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4CD3-6637-415A-A1AE-FC93D51ADA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hysicians prefer to get their own NPIs or allow an organization do it for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ysician’s representative (e.g., office manager) will be able to go on-line and get the NPI on behalf of the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FC04-64F8-4B40-BE5F-2530ECF63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NPPES.cms.hhs.gov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to apply for an NPI and obtain som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2"/>
              </a:rPr>
              <a:t>http://www.cms.hhs.gov/hipaa/hipaa2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 for material such as the NPI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AFDC-D8A3-46AD-8853-407BB7A51D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urrent Statu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ystem live today for web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per application forms availabl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Enumerator help desk available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0113-91D2-409B-B2F1-AD5FB33A6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Future Pla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per applications to be processed beginning 7/1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ulk enumeration starts this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a dissemination notice this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ne-stop shopping for Medicare/NPI nex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ACFD-9D73-467A-994C-F197A7549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utreach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letter distributed 5/6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AA Round Tables in June and 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let 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presentations to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8A3E-2D67-4A25-B78F-EC97B781F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tricia Pey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Patricia.peyton@cms.hhs.gov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en Dietr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74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elen.Dietrick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69EB-BD09-4667-816F-7DD21FAC82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5-09T21:03:20Z</dcterms:modified>
  <cp:revision>168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728411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or 5/23</vt:lpwstr>
  </property>
  <property fmtid="{D5CDD505-2E9C-101B-9397-08002B2CF9AE}" pid="6" name="_NewReviewCycle">
    <vt:lpwstr/>
  </property>
  <property fmtid="{D5CDD505-2E9C-101B-9397-08002B2CF9AE}" pid="7" name="_PreviousAdHocReviewCycleID">
    <vt:r8>2073339590</vt:r8>
  </property>
</Properties>
</file>