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7CF6-515F-4EE7-969F-7D8FFEC99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4200-BD14-4DAF-99A0-F8D826044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EDDC-9EA1-4773-9923-FB0AA5A6C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5E96-E85B-4D68-951C-78FB99908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6913-0073-4852-9248-8F15E9C69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6796-EDE7-468A-9775-D48240F24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BB23-BC33-4946-AC62-876393DDC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472B-9DAC-4AD2-BBAB-19FAF1629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0A6F-7118-4359-AD28-4DE9774D8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621D-D72D-477F-ACA8-7094241D4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75DD-123C-482C-A801-B75FEA037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C6C4-9F0A-4613-96C0-ABF74DBA7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3BE4-C60C-4726-8200-4283895B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nppes.cms.hhs.gov/" TargetMode="External"/><Relationship Id="rId2" Type="http://schemas.openxmlformats.org/officeDocument/2006/relationships/hyperlink" Target="http://www.cms.hhs.gov/hipaa/hipaa2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atricia.peyton@cms.hhs.go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ational Provider Identifier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Kim Bra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y 2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82A5-5EE8-421F-BA99-089C2AC309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772F-6DFE-4741-A7D9-52C9A3307B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hysicians prefer to get their own NPIs or allow an organization do it for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ysician’s representative (e.g., office manager) will be able to go on-line and get the NPI on behalf of the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97F3-F5F0-4883-80F7-F4F4B60204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NPPES.cms.hhs.gov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to apply for an NPI and obtain so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ipaa/hipaa2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for material such as the NPI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C2E0-77A4-4C78-9F2D-7C547D1D17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urrent Statu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ystem live today for web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per application forms availabl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numerator help desk availabl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3340-BD22-41F6-800D-07A269457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Future Plan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per applications to be processed beginning 7/1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ulk enumeration starts this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ata dissemination notice this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e-stop shopping for Medicare/NPI nex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C993-F841-48D2-BD0E-B9B858772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utreach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letter distributed 5/6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AA Round Tables in June and 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let 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presentations to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EB9B-ABED-4F43-9E23-DFF69BEAB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tricia Pe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Patricia.peyton@cms.hhs.gov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len Dietr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74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len.Dietrick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CE90-18C9-4694-80EF-3FEC80D5C8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5-09T21:03:20Z</dcterms:modified>
  <cp:revision>168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284110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or 5/23</vt:lpwstr>
  </property>
  <property fmtid="{D5CDD505-2E9C-101B-9397-08002B2CF9AE}" pid="6" name="_NewReviewCycle">
    <vt:lpwstr/>
  </property>
  <property fmtid="{D5CDD505-2E9C-101B-9397-08002B2CF9AE}" pid="7" name="_PreviousAdHocReviewCycleID">
    <vt:r8>2073339590</vt:r8>
  </property>
</Properties>
</file>