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AD52-2994-474D-AB09-D049D509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D6A2-FE3E-4ED3-9E15-7E255C69F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1793-76C0-43AC-AC12-1BFBE695A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E5B9-8261-4ABE-80E5-75B25D860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0714-A7AE-492E-91FC-A957A5534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767E-B61F-4A84-8F1C-EFDC3B69A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DF56-3774-47CD-A012-8D7D40233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0254-7697-482A-A52E-7D796C6C7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76C8-D25F-46FB-955F-57CF7A2EE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BB12-ACC1-433B-A7AC-721E77D7D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ED2F-0AD1-47AB-A341-8133749B7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45FB-1FA0-4540-A4D9-76DDA0992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1A1-D27A-448E-A979-48F2310A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ecoveryAuditDemo@cms.hhs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overy Audit Contractors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Jesse M. Polansky, M.D., M.P.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dical Officer, Program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y 2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00AB-5784-4591-8411-37863371FC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What rights do providers have?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 have the right to discuss issues with the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Administrative Appeal rights re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/Carrier/DMERC will hear the first level of app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level will be conducted by the QIC (Qualified Independent Contrac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level will be conducted through the ALJ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093E-966C-4419-87B2-89DF7EAEC0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Is there a financial incentive for the RACs to identify large numbers of overpayments?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incentive to identify valid overpay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ovider is successful at the first appeal level the RAC does not receive payment for the overpayment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C is required to defend its decisions through the appeal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0697-B94E-45A2-813C-F5BA5077E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INTERNAL CONTROLS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establishing an internal control function to prevent determinations that do not comport with Medicare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87B1-7B79-4699-879A-087355A2D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EVALUATION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required to submit a Report to Congress NLT 6 months after the end of the Demon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in the procurement process to select an Independent Evaluation Con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6F0C-D9C9-4501-88B5-0177251BF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MMENTS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ny questions or concerns about the Recovery Audit Contractors, please contact CMS a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RecoveryAuditDemo@cms.hhs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10EB-375F-4C84-A7DE-107F17FC4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MMA 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 year demonstration project to evaluate the savings to the Medicare program when Recovery Audit Contractors are used to identify underpayments and recover overpay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stinct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8C53-9CB8-4C07-B2A2-E9B3AACE2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s will not conduct prepayment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RACs will not identify overpayments related to the correct coding of evaluation and management c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reviewing AMA’s resolution 819, and may revise E&amp;M review instru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s will perform identification and recovery functions for services with claim paid dates in the prior 3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50C7-1A5B-41E8-8586-75CF83E66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ayment process will not change for Medicare provi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FC78-CF86-4EFC-B78C-5A49CCD0B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s identifying MSP occurrences will only identify situations where another employer or insurer should have paid the clai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identify situations involving workman’s compensation, automobile cases, liability cases, VA benefits or Federal Black Lung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6C2F-02AC-45C1-A22A-8847205F2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Recovery Audit Contractors in three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states will have RACs who will conduct claim revie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and Florida will each have RACs who will conduct Medicare Secondary Payer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971B-66BF-4EBA-87B6-3D9D3CA046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IMS REVIEW CONTR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G-Schultz International, 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Data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olly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47800" y="7596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0BB8-39C8-4842-8A3B-BF7F24396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SP CONTR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ied Collection Servic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onsult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FD80-A8B2-4B7B-9A80-05496E6AB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What will the RAC do?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edicare Underpayments and Overpayments and Recoup Overpay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be comple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eir proprietary software, resources and methods where appl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omplex medical review including medical record reviews; possibly on-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E2D2-9DE3-468D-B14D-6B64F6BC0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5-02T14:40:42Z</dcterms:modified>
  <cp:revision>167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3148007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or 5/23</vt:lpwstr>
  </property>
  <property fmtid="{D5CDD505-2E9C-101B-9397-08002B2CF9AE}" pid="6" name="_NewReviewCycle">
    <vt:lpwstr/>
  </property>
  <property fmtid="{D5CDD505-2E9C-101B-9397-08002B2CF9AE}" pid="7" name="_PreviousAdHocReviewCycleID">
    <vt:r8>76320322</vt:r8>
  </property>
</Properties>
</file>