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AE79-E9DD-45CB-8932-8FA54F2AB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59D6-8BB7-4CD4-BF8F-E14EA37B8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95A6-6B8C-42C1-ACC5-206FE6CB3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B614-2389-4ED0-BD76-10BA09AAD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FB81-EA73-43BD-940F-E6678F531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4E99-FA2C-479E-9085-4D1F279B9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F001-4D3E-4FB3-AEF6-2263A1A66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EBDB-F23C-463C-9EBE-EC13F344F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F20E-1572-4334-9876-9EE5B399D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33E2-AB05-4B51-B6BA-6FE97FA56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9E05-4114-4922-A358-B5C6DACA8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0BBD-F2FE-4A4D-AB9E-56FD8A37C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D0E1-7E51-4C1C-B76E-F67BB972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art B Dru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Competitive Acquisition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ugust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03B0-792D-4E93-96AA-3E8BC2754C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Summary of Interim Final Rul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blished on July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ment period for IFC closes September 6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e national acquisitio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ngle drug category of 181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9A11-C293-4F79-9731-FBC69520E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Summary of Interim Final Rule (cont’d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810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bidd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y co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ing requirements of CAP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BBD0-9CE7-4B8A-9422-57C047D06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Bidding Proces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ld conference call for potential bidders on July 8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dding began with publication of the final rule on July 5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ds were due to CMS on August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suspended bidding on August 3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BA87-8A18-4FCA-8527-D3C9AB1E7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Revised Implementation Time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ments still being accepted on IFC until September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ticipate publishing final rule late in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dding will be reopened after publication of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ysician election period will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information can be found at http://www.cms.hhs.gov/providers/drugs/compbi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2CF0-59EB-407A-B773-5DE90B8F5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 Bassan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30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.bassan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5DD2-CA2A-41AC-8F8E-EECFD2CBB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8-19T02:34:17Z</dcterms:modified>
  <cp:revision>172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