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6307D-39F5-4621-89BF-51D63DC615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600200" y="68580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304920" y="3657600"/>
            <a:ext cx="6248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533520" y="4343400"/>
            <a:ext cx="5790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41200" y="152280"/>
            <a:ext cx="3251160" cy="24386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228600" y="2666520"/>
            <a:ext cx="6400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09120" y="4190760"/>
            <a:ext cx="58676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6160-0121-4700-8B43-157C51708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043C-A34A-4668-AE97-327B308F3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615B-9010-420E-A9A6-9EC67A3AD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0659-FC8A-490A-B4B5-AC76ABF36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71F2-1BAE-4477-AF17-0157AE9B1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D34A-9DCA-4E6E-8601-6902299E6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9FBB-B651-48F7-944C-59D59E2FE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BCC7-EBA6-4152-B448-D370E3D32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2328-2095-480E-BE97-27C534B02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2023-9A10-4096-97D1-0D970729B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72A3-ECC3-4310-A9FE-042DAC664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5184-CEB9-4719-B796-BCA3CA77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511BB-BA46-48B4-A5A5-78E977893D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IP: The CMS Surgical Quality 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295280" y="426708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vid R. Hunt, M.D., F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dical Offi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MS Quality Improvement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752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DF04-C585-45F7-9DE1-194C7C52A43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rgical Complications: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522520" y="1604880"/>
          <a:ext cx="6297480" cy="5362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2520" y="1604880"/>
                    <a:ext cx="6297480" cy="536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1905120" y="17524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05120" y="19810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42670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05120" y="53341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617220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800" y="1523880"/>
            <a:ext cx="183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PIRA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60080" y="403848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DI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5840" y="5181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5840" y="60199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05120" y="365760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0440" y="342900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ARDIAC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0D4D-8D0E-4E32-9B53-9B7C780313A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2438280"/>
            <a:ext cx="85341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(W1)"/>
              </a:rPr>
              <a:t>MEASUREMENT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 (W1)"/>
              </a:rPr>
              <a:t>&amp;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 (W1)"/>
              </a:rPr>
              <a:t>REPORTING..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B03B-DE8D-46FD-BB3F-9B7F38498F32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cess vs. Outcome?!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905280" y="271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cover" descr=""/>
          <p:cNvPicPr/>
          <p:nvPr/>
        </p:nvPicPr>
        <p:blipFill>
          <a:blip r:embed="rId1"/>
          <a:stretch/>
        </p:blipFill>
        <p:spPr>
          <a:xfrm>
            <a:off x="2819520" y="1828800"/>
            <a:ext cx="3809880" cy="40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6ABC-D28E-4986-844E-0380BEE8C5DD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1447560"/>
            <a:ext cx="83059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third part of the Art of Medicine is that which cures by the hand...The effects of this treatment are more obvious than any other kind...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57146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 re medic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relius Cornelius Cels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728D-DCDC-4CE2-AE1C-D57DE5484613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SCIP Domai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ach measure rests on solid evidence base (Level 1: RC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eral consensu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ynergistic campaig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main measures based on results of VA NSQIP progr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6EF3-4CCD-4951-ADAD-54ADC026AFDA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here to Stand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fe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ioperative M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nous Thromboembolic Events (VT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piratory Complic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RD Vascular Ac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6604-7B88-4A24-834C-7CA72FCB8A2B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2209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SSI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imely antiobiot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rrect antibiot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mpt discontinuance of antibiot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per hair remo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rmoglycemia in cardiac surge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rmothermia in colon surge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1E41-13FD-46AF-8CB7-08C1DD7DE455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8960" y="185400"/>
            <a:ext cx="510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VT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ommended prophylaxis orde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ommended prophylaxis giv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C2DA-A520-45C1-B194-863D64035CF9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erioperative MI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 blocker maintenance for those on </a:t>
            </a:r>
            <a:r>
              <a:rPr b="0" lang="el-GR" sz="4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 blocker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 blockers for those at ri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6045-1A3E-4376-B04E-C3C3A6A33F8E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ostop VAP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42640" y="15238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OB at 30 degre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UD Prophylaxi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eaning protoco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AAFB-2704-4AC5-AB16-560DD5EC4899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ake Home Messag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rgeons must lead qua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ccess is wholly dependent on partn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path forward requires a system, resources, and cour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49B6-3614-4612-933C-9D776CD2B265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560" y="2286000"/>
            <a:ext cx="8458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(W1)"/>
              </a:rPr>
              <a:t>IT SYSTEMS ADOPTION AND USE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FD7B-7A77-4EF4-BB17-BF1B7C09E180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560" y="2286000"/>
            <a:ext cx="8458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(W1)"/>
              </a:rPr>
              <a:t>PROCESS REDESIGN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0E14-194B-4153-9A90-075D6BE37B87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nual Address in Medicine, Yale University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uesday, June 27, 19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We need a </a:t>
            </a:r>
            <a:r>
              <a:rPr b="1" lang="en-US" sz="5400" spc="-1" strike="noStrike" u="sng">
                <a:solidFill>
                  <a:srgbClr val="cc0000"/>
                </a:solidFill>
                <a:uFillTx/>
                <a:latin typeface="Arial"/>
              </a:rPr>
              <a:t>system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, and surely we shall have it!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72440" y="304920"/>
            <a:ext cx="726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illiam Stewart Halsted, M.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A29C-F696-4BE9-A1E9-E5153E862D27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219320" y="0"/>
            <a:ext cx="6781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w Big An Opportunit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04920" y="1523880"/>
          <a:ext cx="851832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523880"/>
                    <a:ext cx="8518320" cy="48006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E764-2E77-474E-AABF-9289AD7032BD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040" y="2437920"/>
            <a:ext cx="85345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 (W1)"/>
              </a:rPr>
              <a:t>CULTURE CHANGE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0871-23E6-4DA0-9C2B-1E9316E68889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urgical Culin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0987-B902-42B9-8CB0-055B14042029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6398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3048120" y="3809880"/>
            <a:ext cx="5410080" cy="29718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590920" y="3809880"/>
            <a:ext cx="5410080" cy="30481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249D-3F1A-4975-B56F-0A6E2E54B7A4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37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809880" y="1600200"/>
            <a:ext cx="5334120" cy="16765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75EB-68DE-4836-AD35-5D40AA785B8D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Questions??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does SCIP align with other surgical QI initiatives (e.g. IHI 100K, JCAHO)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n/will SCIP move beyond inpatient surger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SCIP data collection is very resource intensive.  Who will pay for thi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8F89-0DCE-4060-867F-72B38C674EF5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040" y="38088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CIP Who Pay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4191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S/JCAHO: Measure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S: Data aggregation/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S,CDC, JCAHO: Data tool spe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S: Data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IP Part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76560" y="1447560"/>
            <a:ext cx="4800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IP Partners: Interventions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IP Partners: Commun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l vendors: Collection tool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pital: Data col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pital/Medical Staff: Process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2513-F4BA-4889-A763-3F3093BBB9B2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CIP Goa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o reduce preventable surgical morbidity and mortality 25% by 2010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75F2-53C2-4E74-8992-C8BC7586695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2057040"/>
            <a:ext cx="8001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s to diseases make a habit of two things - to help, or at least, to do no harm.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2133720" y="5028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pidemics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44440" y="304920"/>
            <a:ext cx="372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ippocrat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1BF1-89A7-4E08-8910-C33C0E40A89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4920" y="1981080"/>
            <a:ext cx="85341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(W1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33520" y="1523880"/>
            <a:ext cx="8229240" cy="5028840"/>
            <a:chOff x="533520" y="1523880"/>
            <a:chExt cx="8229240" cy="5028840"/>
          </a:xfrm>
        </p:grpSpPr>
        <p:sp>
          <p:nvSpPr>
            <p:cNvPr id="62" name=""/>
            <p:cNvSpPr/>
            <p:nvPr/>
          </p:nvSpPr>
          <p:spPr>
            <a:xfrm>
              <a:off x="533520" y="1523880"/>
              <a:ext cx="8229240" cy="5028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Quality = Help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041920" y="3641400"/>
              <a:ext cx="5212080" cy="291132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Safety = Do no harm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66F9-ECF4-42E6-9B37-8E503AB93E4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2057040"/>
            <a:ext cx="8534160" cy="366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The right care for every person every time.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69200" y="228600"/>
            <a:ext cx="246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Vision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13E1-3A4F-436F-AFF2-797CBC505EC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MS Quality Strategi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(W1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(W1)"/>
              </a:rPr>
              <a:t>PERFORMANCE MEASUREMENT AND REPOR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(W1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(W1)"/>
              </a:rPr>
              <a:t>SYSTEMS ADOPTION AND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(W1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(W1)"/>
              </a:rPr>
              <a:t>PROCESS RE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(W1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(W1)"/>
              </a:rPr>
              <a:t>ORGANIZATIONAL CULTURE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D4E4-AC64-45AE-8EDA-446A5A5CE84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Right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af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ffectiv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atient Center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051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ffici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imel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quitab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C5DB-B660-4A2D-B166-7C25AE7D415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63360" y="22680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CIP Steering Committe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1523520"/>
            <a:ext cx="4343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n College of Surge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n Society of Anesthes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OR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n Hospital Assoc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CA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81120" y="1447920"/>
            <a:ext cx="4343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itute for Healthcare Impr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teran’s Admini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HR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D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195E-0F83-4C09-BDEE-3DA57B1F28C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16:16Z</dcterms:created>
  <dc:creator>David Hunt</dc:creator>
  <dc:description/>
  <dc:language>en-US</dc:language>
  <cp:lastModifiedBy>CMS</cp:lastModifiedBy>
  <cp:lastPrinted>2005-05-22T17:12:29Z</cp:lastPrinted>
  <dcterms:modified xsi:type="dcterms:W3CDTF">2005-08-19T02:41:33Z</dcterms:modified>
  <cp:revision>149</cp:revision>
  <dc:subject/>
  <dc:title>A Grammar of Surgical Qualit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