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CD52-3232-4C53-AD68-71B59502E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2B17-E530-48A5-999E-8B2F77297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8AE7-02CD-42A3-B040-0E13B3FE8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A5B4-E749-49B3-899D-98E636EBC6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2751-293B-4D51-BA55-ABEEEA66D2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7988-E30C-45A2-8352-79455F473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65C8-C891-4545-AC54-9B1AB9398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E8F5-0603-41E1-B59B-468C1883F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2DF2-06AB-449E-AC28-374343ADD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F97F9-3CA1-42DA-8E6C-2F88A5E02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7EF3-8F80-4A1B-BA5D-7AFCE0EDA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9D59-0046-416E-9EE8-00CCBD92B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20A8-5A26-44C6-90E2-517191A09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ms.hhs.gov/physicians/pfs/" TargetMode="External"/><Relationship Id="rId2" Type="http://schemas.openxmlformats.org/officeDocument/2006/relationships/hyperlink" Target="http://www.cms.hhs.gov/physicians/pfs/" TargetMode="External"/><Relationship Id="rId3" Type="http://schemas.openxmlformats.org/officeDocument/2006/relationships/hyperlink" Target="http://www.cms.hhs.gov/physicians/pfs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roposed 2006 Policies for the Physician Fee Schedule Payment System </a:t>
            </a:r>
            <a:br>
              <a:rPr sz="32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Stephen Phill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August 22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675C-441A-4868-A6EE-B269315E7F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ephen Phil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/786-44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ephen.Phillips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EAB8-24FD-44EE-8A63-343886278E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ottom-up Calculation of Practice Expense RVUs and Elimination of Nonphysician Work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yment Adjustment for Certain Imaging Procedures Performed in Conjunction with Similar Procedures on Contiguous Body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finements to the Calculation of Malpractice RV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A8CB-CE37-4A41-86CC-81797E51C1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Practice Expense Changes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are proposing to rely solely on the CPEP/RUC data to determine the direct practice expense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would continue to use the AMA specialty-level data for indirect practice expense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 a result of the refined data, we are also proposing to eliminate the nonphysician work pool, which is a special method that has been used to calculate practice expense RVUs for services without physician work RV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6F5A-A0B4-4EAE-81CF-FE823BBDD8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Practice Expense Changes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intain indirect costs at current levels (except for specialties that submitted supplemental survey data), and solicit comments about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ansition to full bottom-up methodology over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1F8B4-FE7A-4A5E-8EA5-FBDB96491D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Multiple Imaging Procedure Discount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dentified 11 families of imaging procedures by imaging modality and contiguous body ar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pose to extend the multiple procedure reduction to technical component(TC) only services, and the TC portion of global services, for the identified procedur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milar proposal for Outpatient Prospective Pay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2D35-AC0C-4303-A564-1470E1C479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Refinements to Malpractice RVU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pose to remove the malpractice data for specialties that occur less than 5 percent of the time in our data for a procedur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pose to use the lowest risk factor of 1.00 for specialties such as clinical psychology, licensed clinical social work, chiropractors, and physical therapis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D11A-76D7-4934-AB9E-FA3B94D170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Other Issu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gative 4.3 percent update (due to Sustainable Growth Rate calc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pansion of Approved Telehealth Services to Include Medical Nutritio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hanges t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ographic practice cost index payment localities in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ice of the expiration of the moratorium on imposition of the caps on therapy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olicit comments on changing the payments for teaching anesthesiolog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E1D4-4201-44D0-A0B5-BCF96A09E3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Questions or Considerations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981080"/>
            <a:ext cx="7391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e would appreciate the Council’s views about any operational impacts of these proposals (positive or negativ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8BC3-8B6D-4047-9CF6-B590114C93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proposed rule is available on the Internet: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www.cms.hhs.gov/physicians/pfs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10A7-C27F-4C57-ACC3-E4CAE1D3AF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5-08-19T02:29:18Z</dcterms:modified>
  <cp:revision>174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