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8BA01A-0467-4B21-9345-E98F58086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E4BE03-948C-45D7-8C42-B3E49A0FE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C3B5A-B8B7-4052-88D1-58BEB16178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0DD38E-EC94-4070-860E-E34A8AE7D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1A0570-5A69-4DD8-AB12-E646B3644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B14CFD-7F78-4AE6-A338-9A78B59B9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48C22F-A4E1-48B9-A1EB-E810AD324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87C25D-1ECC-46D1-A738-33C4A0D565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D392C-2B38-4CFF-A180-9C64B985CF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315D7-FECB-4C6F-88FA-A4F732246C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CCC773-C94A-458C-9F4A-A84CC90F2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A9DC4-D5A0-4184-A035-BF3F2CDF90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918E-687E-4EBD-87E6-BE94199332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2438280"/>
            <a:ext cx="7772400" cy="1828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2006 Medicare Hospital Outpatient Prospective Paymen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Jim Hart Director, Outpatient 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Carol Bazell, M.D., Medical Officer, Center for </a:t>
            </a:r>
            <a:r>
              <a:rPr b="0" lang="en-US" sz="2400" spc="-1" strike="noStrike">
                <a:solidFill>
                  <a:srgbClr val="003399"/>
                </a:solidFill>
                <a:latin typeface="Arial"/>
              </a:rPr>
              <a:t>Medicare</a:t>
            </a:r>
            <a:r>
              <a:rPr b="0" lang="en-US" sz="2000" spc="-1" strike="noStrike">
                <a:solidFill>
                  <a:srgbClr val="003399"/>
                </a:solidFill>
                <a:latin typeface="Berlin Sans FB"/>
              </a:rPr>
              <a:t> 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508F7D6A-3023-4508-A772-F6D488490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E4923D1-5DC1-4B4C-9C81-F474F35002FC}"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4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utpatient Prospective Payment System Proposed Rule</a:t>
            </a:r>
            <a:endParaRPr b="0" lang="en-US" sz="28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pays hospitals for outpatient department services based on groups of clinically similar services called Ambulatory Payment Classifications (APCs).</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MS annually revises the payment amounts based on claims data and updates for inflation.</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stimated CY 2005 Spending: $25 Billions</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PS was implemented in August of CY 200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640242A-D07F-4D0F-AD3A-DE8C955B7B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49" name=""/>
          <p:cNvSpPr/>
          <p:nvPr/>
        </p:nvSpPr>
        <p:spPr>
          <a:xfrm>
            <a:off x="1295280" y="1752480"/>
            <a:ext cx="68580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1600200"/>
            <a:ext cx="7315200" cy="9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posed Policies for the CY 2006 OPPS</a:t>
            </a:r>
            <a:endParaRPr b="0" lang="en-US" sz="28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Biologicals, and Radiopharmaceuticals</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quisition costs</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harmacy department overhead</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anesp and Procrit</a:t>
            </a:r>
            <a:endParaRPr b="0" lang="en-US" sz="24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to Rural Hospitals</a:t>
            </a:r>
            <a:endParaRPr b="0" lang="en-US" sz="24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ultiple Imaging Procedure Discounting</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8E18F2A9-BC28-412C-ADC5-78A8C68A81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5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Biologicals, and Radiopharmaceuticals</a:t>
            </a:r>
            <a:endParaRPr b="0" lang="en-US" sz="24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dicare Part B pays for oncology and other injectible drugs provided in outpatient hospital departments.</a:t>
            </a: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urrent 2005 Payments: $2 billions</a:t>
            </a:r>
            <a:endParaRPr b="0" lang="en-US" sz="16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ices based on 83% of the Average Wholesale Price (AWP).</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WP is much like the sticker price of a car and does not reflect the market price of the drug.</a:t>
            </a:r>
            <a:endParaRPr b="0" lang="en-US" sz="14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dicare Modernization Act and 2006 Payments</a:t>
            </a:r>
            <a:endParaRPr b="0" lang="en-US" sz="16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ayment shall be equal to the average acquisition cost for the drug as determined by the Secretary.</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cretary shall take into account an MMA mandated GAO survey of hospital drug acquisition costs.</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Secretary may determine additional payment amounts for drug overhead.</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Secretary shall take into account an MMA mandated MedPac study of hospital pharmacy overhead cost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12E1109-C20B-4AD3-BDAD-128E2D4AB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and Biologicals</a:t>
            </a:r>
            <a:endParaRPr b="0" lang="en-US" sz="24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cquisition Costs- Average Sale Price (ASP) plus 6 percent.</a:t>
            </a:r>
            <a:endParaRPr b="0" lang="en-US" sz="18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e ASP represents the average market price for a drug and is based on US sales, including sales to both hospitals and physician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rug manufacturers submit the ASP data to CMS quarterly.</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P+6% is generally consistent with the GAO survey data and is what we pay for these drugs when they are provided in physician offices and clinic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urrent 2005 payments are on average equal to AsP+22%</a:t>
            </a:r>
            <a:endParaRPr b="0" lang="en-US" sz="16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harmacy Overhead- Create 3 new payment categories (APCs)</a:t>
            </a:r>
            <a:endParaRPr b="0" lang="en-US" sz="18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e 3 new overhead APCs: oral drugs; cytotoxic injections/infusions.  Begin collecting claims data in 2006 or use in 2008 payment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n the interim, pay an additional 2% of ASP over the drug payment to cover pharmacy overhead.</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enerally consistent with the MedPac recommendation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AC1F7B7-F84B-43A1-A847-00A7E5D9A5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Radiopharmaceutical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mporary 2006 Policy for Radiopharmaceuticals</a:t>
            </a:r>
            <a:endParaRPr b="0" lang="en-US" sz="24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adiopharmaceutical manufacturers are not currently required to submit ASP data.</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pose to require radiopharmaceutical manufacturers to submit ASP data beginning in 2006 for use in 2007</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he interim, pay each 2006 claim by applying a hospital specific discount to the hospital’s</a:t>
            </a:r>
            <a:r>
              <a:rPr b="1" lang="en-US" sz="2000" spc="-1" strike="noStrike">
                <a:solidFill>
                  <a:srgbClr val="003399"/>
                </a:solidFill>
                <a:latin typeface="Arial"/>
              </a:rPr>
              <a:t> </a:t>
            </a:r>
            <a:r>
              <a:rPr b="0" lang="en-US" sz="2000" spc="-1" strike="noStrike">
                <a:solidFill>
                  <a:srgbClr val="003399"/>
                </a:solidFill>
                <a:latin typeface="Arial"/>
              </a:rPr>
              <a:t>charge on that claim</a:t>
            </a:r>
            <a:r>
              <a:rPr b="1" lang="en-US" sz="2000" spc="-1" strike="noStrike">
                <a:solidFill>
                  <a:srgbClr val="003399"/>
                </a:solidFill>
                <a:latin typeface="Arial"/>
              </a:rPr>
              <a:t>.</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k comment on appropriate radiopharmaceutical overhead categori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90A44F6-87F2-46D8-A306-D9410B72C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yment for Aranesp and Procrit</a:t>
            </a:r>
            <a:endParaRPr b="0" lang="en-US" sz="28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crit (Johnson &amp; Johnson) and Aranesp (Amgen) both treat chemotherapy induced anemi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nce CY 2003, the hospital payment rate for Aranesp has been based on the payment for an equivalent dose of Procrit.</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MS proposes eliminating this policy as we begin market based ASP payments.  Based on recent market data, payments for both drugs would decline 12 percent.</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ile the continuation of elimination of the current policy does not differentially impact the payment for either drug at the present time, to the extent the market prices for Aranesp and Procrit differ in the future this may not always be the ca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6C3857B-798C-431A-9EEB-7872F4209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yments to Rural Hospitals</a:t>
            </a:r>
            <a:endParaRPr b="0" lang="en-US" sz="2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xpiration of Hold Harmless Provision</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ural Sole Community Hospitals and small rural hospitals are currently held harmless to the payments they received prior to the implementation of the OPPS in 2000.</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is statutory hold-harmless period is due to expire at the end of CY 2005.</a:t>
            </a:r>
            <a:endParaRPr b="0" lang="en-US" sz="1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ayment adjustment for rural Sole Community Hospital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ased on cost analyses, we are proposing a 6.6% increase for rural Sole Community Hospital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Other rural hospitals did not show cost difference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 will present our analysis in the rule and seek comment about both the level and limiting the adjustment to rural Sole Community Hospital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AF98DBA-F8F0-48B0-AAE1-D763958C2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ultiple Imaging Procedure Discounting</a:t>
            </a:r>
            <a:endParaRPr b="0" lang="en-US" sz="2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edPac Recommendation</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MS should discount payments when multiple diagnostic imaging procedures are performed in the same session with the patient.</a:t>
            </a:r>
            <a:endParaRPr b="0" lang="en-US" sz="1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06 Proposed Policy</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dentified 11 families of imaging procedures (based on imaging modality and contiguous body area).</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 50% reduction for multiple diagnostic imaging procedures performed within a family.</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nalysis of duplicate resources led to the proposed policy of 50%.</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ame reduction will be proposed for imaging procedures performed in free-standing imaging facilities and physician off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EC080F1-EE82-4E59-B69B-9B3073FDA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9:03Z</dcterms:modified>
  <cp:revision>172</cp:revision>
  <dc:subject/>
  <dc:title>Medicare Contracting Reform:  Report to Congress</dc:title>
</cp:coreProperties>
</file>