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FAF93-E222-4821-8850-3830D3EF9C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42647-ECE5-4234-8634-465B17E232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7FCC4-5AFD-4C38-BB17-DB1EF39FCE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616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52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616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52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CDB4C-0075-49FF-8EB1-DBD2BF7226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53B67-A158-4B47-BB7A-FEAA8E2A41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60C38-03F7-4BB8-B358-51AF04E634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35955-1DCF-43DB-BEE0-B894F1FF59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97FFC-B117-427E-80E7-11677200B8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15E13-5E2C-492A-99E9-EDAE34CE38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A3E76-8315-4486-B25E-5CD9ED0AA6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8E3D3-9B5E-4163-B29D-1E9DFFFB74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DDC7C-EEAF-4F0C-922B-C882813EE6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81952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777777"/>
                </a:solidFill>
                <a:latin typeface="Arial"/>
              </a:rPr>
              <a:t>Procurement Sens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0CFB-CFD9-47DC-A99A-7D0BDBEDA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valerie.hart@cms.hhs.gov" TargetMode="External"/><Relationship Id="rId2" Type="http://schemas.openxmlformats.org/officeDocument/2006/relationships/hyperlink" Target="mailto:suzanne.lewis@cms.hhs.gov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cms.hhs.gov/nppes" TargetMode="External"/><Relationship Id="rId2" Type="http://schemas.openxmlformats.org/officeDocument/2006/relationships/hyperlink" Target="http://www.cms.hhs.gov/hipaa/hipaa2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 </a:t>
            </a: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National Provider Identifier (NPI) Outreach</a:t>
            </a:r>
            <a:br>
              <a:rPr sz="4400"/>
            </a:b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Valerie Hart, Director, Division of Provider Information, Planning and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441972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Practicing Physicians Advisory Counc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August 22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416400" y="2058840"/>
          <a:ext cx="3657600" cy="1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6400" y="2058840"/>
                    <a:ext cx="365760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MEDICARE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1DF63-0420-4635-A925-58F23E455B5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Questions or Considerations for the Council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re there other effective ways to directly reach physicians with our NPI messages, as well as other cont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4196E-572B-43B3-9513-E4252A3790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Contact Information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Valerie 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410-786-66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valerie.hart@cms.hhs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uzanne Lew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410-786-76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suzanne.lewis@cms.hhs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6E49E-601D-4F8A-ACC4-9DD456E8CB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Outline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ational Provider Identifier (NP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PI Out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PI Outreach Subgroup Information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Outreach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Hot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Key 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Questions for the Cou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11183-24F8-497A-B3EC-D09D890607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National Provider Identifier (NPI)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IPAA-mandated standard unique health identifi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ll covered health care providers (Medicare &amp; non-Medicare) must apply for an N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pplications accepted as of May 23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st health plans must accept NPIs by May 2007; small health plans in 200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C406B-F472-455A-95E0-0CF36A61FE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NPI Outreach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Getting the Message Out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r enumeration-related messages the target is </a:t>
            </a:r>
            <a:r>
              <a:rPr b="0" lang="en-US" sz="2000" spc="-1" strike="noStrike" u="sng">
                <a:solidFill>
                  <a:srgbClr val="003399"/>
                </a:solidFill>
                <a:uFillTx/>
                <a:latin typeface="Arial"/>
              </a:rPr>
              <a:t>all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ontent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 content developed at the nationa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Keep information consistent as it is dissemin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gency-wide NPI Outreach Sub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mbership inclu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Components with reach to key constituents who have access to individual prov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RO staff with provider relationships at the regional and local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E5087-99C4-4CA8-9AC1-C334B5EB9F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Outreach Subgroup Information Flow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2209680"/>
            <a:ext cx="1600200" cy="457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CMS Policy 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Operational Exper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2209680"/>
            <a:ext cx="1942920" cy="457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NPI Outre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Subgroup Cha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86280" y="1600200"/>
            <a:ext cx="2781000" cy="333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New NPI </a:t>
            </a: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688840" y="1880640"/>
            <a:ext cx="261360" cy="27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86080" y="1938240"/>
            <a:ext cx="295920" cy="239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314880" y="2437920"/>
            <a:ext cx="2286000" cy="2160"/>
            <a:chOff x="3314880" y="2437920"/>
            <a:chExt cx="2286000" cy="2160"/>
          </a:xfrm>
        </p:grpSpPr>
        <p:sp>
          <p:nvSpPr>
            <p:cNvPr id="60" name=""/>
            <p:cNvSpPr/>
            <p:nvPr/>
          </p:nvSpPr>
          <p:spPr>
            <a:xfrm flipV="1">
              <a:off x="4458240" y="2437920"/>
              <a:ext cx="11426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3314880" y="2438280"/>
              <a:ext cx="11426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124080" y="25750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99"/>
                </a:solidFill>
                <a:latin typeface="Times New Roman"/>
              </a:rPr>
              <a:t>Work together to craft outreach 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29480" y="3298680"/>
            <a:ext cx="1942920" cy="435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NPI Outre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Subgroup Memb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81680" y="2819520"/>
            <a:ext cx="0" cy="266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81680" y="384804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10280" y="281952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99"/>
                </a:solidFill>
                <a:latin typeface="Times New Roman"/>
              </a:rPr>
              <a:t>Distribution of Outreach Message to Subgroup Memb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3886200"/>
            <a:ext cx="205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99"/>
                </a:solidFill>
                <a:latin typeface="Times New Roman"/>
              </a:rPr>
              <a:t>Subgroup Members Distribu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99"/>
                </a:solidFill>
                <a:latin typeface="Times New Roman"/>
              </a:rPr>
              <a:t>Outreach Message to Constitu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4632480"/>
            <a:ext cx="1028880" cy="473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FFS Medic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Contra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4632480"/>
            <a:ext cx="1143000" cy="473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Managed C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Organiz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4632480"/>
            <a:ext cx="1257480" cy="473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State Medica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Agenc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4648320"/>
            <a:ext cx="1257480" cy="457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State Surv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Agenc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24480" y="4648320"/>
            <a:ext cx="1257480" cy="457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Private Insur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4974480" y="968760"/>
            <a:ext cx="338040" cy="6782040"/>
          </a:xfrm>
          <a:custGeom>
            <a:avLst/>
            <a:gdLst>
              <a:gd name="textAreaLeft" fmla="*/ 0 w 338040"/>
              <a:gd name="textAreaRight" fmla="*/ 122040 w 338040"/>
              <a:gd name="textAreaTop" fmla="*/ 176760 h 6782040"/>
              <a:gd name="textAreaBottom" fmla="*/ 6605280 h 678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5400000">
            <a:off x="4914360" y="2095200"/>
            <a:ext cx="457200" cy="6782040"/>
          </a:xfrm>
          <a:custGeom>
            <a:avLst/>
            <a:gdLst>
              <a:gd name="textAreaLeft" fmla="*/ 0 w 457200"/>
              <a:gd name="textAreaRight" fmla="*/ 164880 w 457200"/>
              <a:gd name="textAreaTop" fmla="*/ 176760 h 6782040"/>
              <a:gd name="textAreaBottom" fmla="*/ 6605280 h 678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6019920"/>
            <a:ext cx="1676520" cy="3045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Individual Provid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38680" y="5562720"/>
            <a:ext cx="190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99"/>
                </a:solidFill>
                <a:latin typeface="Times New Roman"/>
              </a:rPr>
              <a:t>Constituents Distribute Outreach Message at the Local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96080" y="4648320"/>
            <a:ext cx="1219320" cy="457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National Provider Associ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04E28-45CC-4DFB-9858-EAF6E92126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FFS Example: Subgroup Information Flow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523880"/>
            <a:ext cx="1600200" cy="609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MESSAGE: Release of Medicare Implementation D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43200" y="3962520"/>
            <a:ext cx="15238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99"/>
                </a:solidFill>
                <a:latin typeface="Times New Roman"/>
              </a:rPr>
              <a:t>Possible Dissemin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99"/>
                </a:solidFill>
                <a:latin typeface="Times New Roman"/>
              </a:rPr>
              <a:t>Methods to FF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99"/>
                </a:solidFill>
                <a:latin typeface="Times New Roman"/>
              </a:rPr>
              <a:t>Medicare Provid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2286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2743200"/>
            <a:ext cx="1600200" cy="762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PCG Subgroup Member Evaluates Message &amp; Determines Appropriate 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2880" y="3581280"/>
            <a:ext cx="1981440" cy="457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Post to CMS Webs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52880" y="4800600"/>
            <a:ext cx="198144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Instruct Contractors to Publish MM Article &amp; Post Message On Website, Newsletters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52880" y="4191120"/>
            <a:ext cx="1981440" cy="457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Distribute Provider Partnership Directory 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19720" y="2590920"/>
            <a:ext cx="380880" cy="3352680"/>
          </a:xfrm>
          <a:custGeom>
            <a:avLst/>
            <a:gdLst>
              <a:gd name="textAreaLeft" fmla="*/ 243360 w 380880"/>
              <a:gd name="textAreaRight" fmla="*/ 381240 w 38088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0800000">
            <a:off x="7086600" y="2514240"/>
            <a:ext cx="380880" cy="3429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52880" y="2362320"/>
            <a:ext cx="1981440" cy="457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Create Medlearn Matters Artic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52880" y="2971800"/>
            <a:ext cx="1981440" cy="457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Distribute Provider Listserv 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52880" y="5562720"/>
            <a:ext cx="1981440" cy="457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Distribute To Regional Off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5B40B-7EF1-4FFA-9519-C04A57E2AF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Outreach Data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or Reporting Period of May 19 – June 3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113 external outreach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cluding first NPI Round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61 email/listserv communications reaching &gt; than 150,000 subscri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7 web pos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5 educational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A82BB-43EB-4261-B392-544870B598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Key Website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ational Plan and Provider Enumeration System (NPP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s://cms.hhs.gov/np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pply online for your NP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Latest NPI news on CMS’ HIPAA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http://www.cms.hhs.gov/hipaa/hip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ming Soon!  NPI website for FFS Medicare Providers on Med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94691-E06C-434E-A971-03BC5FC239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Hot Topic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arts and Sub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lectronic File Interchange (EF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ata Disse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B1FC7-0AA5-4618-95BB-D7059B3BB7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15:25:08Z</dcterms:created>
  <dc:creator>CMS</dc:creator>
  <dc:description/>
  <dc:language>en-US</dc:language>
  <cp:lastModifiedBy>CMS</cp:lastModifiedBy>
  <dcterms:modified xsi:type="dcterms:W3CDTF">2005-08-18T12:28:05Z</dcterms:modified>
  <cp:revision>198</cp:revision>
  <dc:subject/>
  <dc:title>Medicare Contracting Reform:  Report to Cong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57397891</vt:r8>
  </property>
  <property fmtid="{D5CDD505-2E9C-101B-9397-08002B2CF9AE}" pid="3" name="_AuthorEmail">
    <vt:lpwstr>Kelly.Buchanan@cms.hhs.gov</vt:lpwstr>
  </property>
  <property fmtid="{D5CDD505-2E9C-101B-9397-08002B2CF9AE}" pid="4" name="_AuthorEmailDisplayName">
    <vt:lpwstr>Buchanan, Kelly (CMS)</vt:lpwstr>
  </property>
  <property fmtid="{D5CDD505-2E9C-101B-9397-08002B2CF9AE}" pid="5" name="_EmailSubject">
    <vt:lpwstr>PowerPoint Presentations</vt:lpwstr>
  </property>
  <property fmtid="{D5CDD505-2E9C-101B-9397-08002B2CF9AE}" pid="6" name="_NewReviewCycle">
    <vt:lpwstr/>
  </property>
  <property fmtid="{D5CDD505-2E9C-101B-9397-08002B2CF9AE}" pid="7" name="_PreviousAdHocReviewCycleID">
    <vt:r8>-811934582</vt:r8>
  </property>
  <property fmtid="{D5CDD505-2E9C-101B-9397-08002B2CF9AE}" pid="8" name="_ReviewingToolsShownOnce">
    <vt:lpwstr/>
  </property>
</Properties>
</file>