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0959-F191-4572-8235-9F626F186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98F5-E4E0-4DF1-BF34-6C1BCF641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9B2D-447E-4859-9695-65E6EB011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EFC2-B008-42BC-B832-4F1768012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5558-03DE-469C-A739-0CF20CA54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357F-2329-4044-B74A-504902FAB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0AEE-586E-48E3-BAD3-9103BB5FA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3DF4-A783-4D75-AC4A-52D23EC24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EF55-FE2F-4FD5-AC6D-C539F655C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0C63-3694-43E4-BB81-925269F39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5850-EAF2-472D-BF9D-1FEF61155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57F9-BB7E-4231-A424-455CFD415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C30-4BA0-4A1B-A7F2-782A70DF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art B Dru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Competitive Acquisition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1137-157F-49AE-B3CC-7440073C5A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Summary of Interim Final Rul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blished on July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ent period for IFC closes September 6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e national acquisitio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ngle drug category of 181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249F-F1BD-4554-90CD-9F9294CE6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Summary of Interim Final Rule (cont’d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bidd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y co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ing requirements of CAP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29BB-1D78-4FEB-9532-DF6BAEB60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Bidding Proces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d conference call for potential bidders on July 8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ding began with publication of the final rule on July 5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s were due to CMS on August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suspended bidding on August 3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B05E-AAFC-46EF-A22A-9F137250B5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evised Implementation Time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ents still being accepted on IFC until September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ticipate publishing final rule late in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idding will be reopened after publication of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ysician election period will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information can be found at http://www.cms.hhs.gov/providers/drugs/compbi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86A9-5B53-4C94-9B44-38693A998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 Bassan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30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.bassan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C08E-EE42-482C-8128-EA8E0429D8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9T02:34:17Z</dcterms:modified>
  <cp:revision>172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