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67C1-D592-41EE-8F7B-1DF988347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981B6-47F5-48E4-8F06-3241CCA34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8001-3C08-48B9-9359-891D1D44C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1F51-375B-4540-A639-DFA1F45A81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5226-BCCA-454E-95C1-8D58D3CF89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736F2-7319-44CE-BF02-32281F531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AD78B-01E8-4BA6-B1F5-9D4917881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7E99-6471-4C1D-974D-E924C1943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21D6-3299-4706-A905-A663AB857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0C08-7607-4E82-BB22-6C9D3B054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EF35-5D4B-430E-8EE9-E3FD364D0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6670-1375-4C41-9448-8BB322C9A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3FC6-2D47-40CB-8D89-8DC4A2A19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ms.hhs.gov/physicians/pfs/" TargetMode="External"/><Relationship Id="rId2" Type="http://schemas.openxmlformats.org/officeDocument/2006/relationships/hyperlink" Target="http://www.cms.hhs.gov/physicians/pfs/" TargetMode="External"/><Relationship Id="rId3" Type="http://schemas.openxmlformats.org/officeDocument/2006/relationships/hyperlink" Target="http://www.cms.hhs.gov/physicians/pfs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roposed 2006 Policies for the Physician Fee Schedule Payment System </a:t>
            </a:r>
            <a:br>
              <a:rPr sz="32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Stephen Phill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August 22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35BA-3D0D-4631-A48C-0AED8E5B29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ephen Phil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/786-44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ephen.Phillips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AE64-BF4F-421E-B5C8-57AFDAAEE9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ottom-up Calculation of Practice Expense RVUs and Elimination of Nonphysician Work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yment Adjustment for Certain Imaging Procedures Performed in Conjunction with Similar Procedures on Contiguous Body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finements to the Calculation of Malpractice RV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07C5-E191-4F30-87FD-F19D72A82C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Practice Expense Changes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are proposing to rely solely on the CPEP/RUC data to determine the direct practice expense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would continue to use the AMA specialty-level data for indirect practice expense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 a result of the refined data, we are also proposing to eliminate the nonphysician work pool, which is a special method that has been used to calculate practice expense RVUs for services without physician work RV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62A1-B584-4A25-9967-C0AF16E89F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Rounded MT Bold"/>
              </a:rPr>
              <a:t>Practice Expense Changes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intain indirect costs at current levels (except for specialties that submitted supplemental survey data), and solicit comments about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ansition to full bottom-up methodology over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6E75-BBB0-4A0C-944C-52A3A27A91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Multiple Imaging Procedure Discount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dentified 11 families of imaging procedures by imaging modality and contiguous body ar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pose to extend the multiple procedure reduction to technical component(TC) only services, and the TC portion of global services, for the identified procedur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milar proposal for Outpatient Prospective Pay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70BB-F231-403B-B7D8-6992203472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Refinements to Malpractice RVU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pose to remove the malpractice data for specialties that occur less than 5 percent of the time in our data for a procedur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pose to use the lowest risk factor of 1.00 for specialties such as clinical psychology, licensed clinical social work, chiropractors, and physical therapis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B5AE-30E5-400F-AA36-0B1C03D17C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Other Issu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gative 4.3 percent update (due to Sustainable Growth Rate calc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pansion of Approved Telehealth Services to Include Medical Nutritio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hanges t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ographic practice cost index payment localities in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ice of the expiration of the moratorium on imposition of the caps on therapy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olicit comments on changing the payments for teaching anesthesiolog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07F0-AF9A-4F34-9B27-E3EA54FCB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Questions or Considerations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981080"/>
            <a:ext cx="7391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e would appreciate the Council’s views about any operational impacts of these proposals (positive or negativ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C9E37-D7E2-4B67-96EF-CF7F36885E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proposed rule is available on the Internet: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www.cms.hhs.gov/physicians/pfs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EB41-3735-40B3-9271-944324F55B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5-08-19T02:29:18Z</dcterms:modified>
  <cp:revision>174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