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FC09-E230-4D0F-A562-FFB3A0CAC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4E58-8360-4F59-8126-90CE9D05A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926F-4A1B-40CF-88CA-0EB69A367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B68B-7439-49C1-9316-B43B8CF69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BCD5-BF66-424B-B2E2-395DA34C0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A27F-AB99-4D52-B4EF-12AE76376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F183-D140-479A-9B4B-A2472447E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F6FC-BED6-44CD-AFA2-C8F7A7AB2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ED17-9144-48E4-9B96-6050840D4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583E-D182-478A-8B0F-76D8ACAFD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2308-C763-4530-81EB-E7A609D5F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1127-E88F-4DAD-B0B8-7DD21778C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C131-6BA9-4315-984D-DCCC5E23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alerie.hart@cms.hhs.gov" TargetMode="External"/><Relationship Id="rId2" Type="http://schemas.openxmlformats.org/officeDocument/2006/relationships/hyperlink" Target="mailto:suzanne.lewis@cms.hhs.gov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cms.hhs.gov/nppes" TargetMode="External"/><Relationship Id="rId2" Type="http://schemas.openxmlformats.org/officeDocument/2006/relationships/hyperlink" Target="http://www.cms.hhs.gov/hipaa/hipaa2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National Provider Identifier (NPI) Outreach</a:t>
            </a:r>
            <a:br>
              <a:rPr sz="4400"/>
            </a:b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Valerie Hart, Director, Division of Provider Information, Planning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August 22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1D9E-36A7-42A7-B867-7F549FC071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e there other effective ways to directly reach physicians with our NPI messages, as well as other con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F042-0CE6-4916-BCF1-D331AF7B26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alerie 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66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valerie.hart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uzanne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76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suzanne.lewis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512E-57D1-4AB4-9F66-6C67E35F91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tional Provider Identifier (N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PI 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PI Outreach Subgroup Informa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utreac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t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Key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uestions for th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FA0D-17FC-4DB2-BD57-F55A15BFAB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National Provider Identifier (NPI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IPAA-mandated standard unique health identif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covered health care providers (Medicare &amp; non-Medicare) must apply for an N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lications accepted as of May 23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st health plans must accept NPIs by May 2007; small health plans in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CECC-249F-4422-9A60-63C5E3EAA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NPI Outreach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tting the Message Out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r enumeration-related messages the target is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t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content developed at the 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 information consistent as it is dissemin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gency-wide NPI Outreach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mbership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mponents with reach to key constituents who have access to individual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 staff with provider relationships at the regional and lo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7883-1630-42FA-AF9A-0A1E916D09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reach Subgroup Information Flo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09680"/>
            <a:ext cx="160020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CMS Policy 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Operational Exp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2209680"/>
            <a:ext cx="194292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PI Outr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ubgroup Ch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6280" y="1600200"/>
            <a:ext cx="2781000" cy="3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ew NPI </a:t>
            </a: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88840" y="1880640"/>
            <a:ext cx="261360" cy="27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86080" y="1938240"/>
            <a:ext cx="295920" cy="23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14880" y="2437920"/>
            <a:ext cx="2286000" cy="2160"/>
            <a:chOff x="3314880" y="2437920"/>
            <a:chExt cx="2286000" cy="2160"/>
          </a:xfrm>
        </p:grpSpPr>
        <p:sp>
          <p:nvSpPr>
            <p:cNvPr id="60" name=""/>
            <p:cNvSpPr/>
            <p:nvPr/>
          </p:nvSpPr>
          <p:spPr>
            <a:xfrm flipV="1">
              <a:off x="4458240" y="2437920"/>
              <a:ext cx="1142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314880" y="2438280"/>
              <a:ext cx="1142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124080" y="25750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Work together to craft outreach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9480" y="3298680"/>
            <a:ext cx="1942920" cy="435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PI Outr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ubgroup Memb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281952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84804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1952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Distribution of Outreach Message to Subgroup Memb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886200"/>
            <a:ext cx="20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Subgroup Members Distrib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Outreach Message to Constitu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632480"/>
            <a:ext cx="1028880" cy="473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FFS Medic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Contra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632480"/>
            <a:ext cx="1143000" cy="473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Managed C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632480"/>
            <a:ext cx="1257480" cy="473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tate Medic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g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648320"/>
            <a:ext cx="125748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tate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g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4648320"/>
            <a:ext cx="125748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Private Insur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974480" y="968760"/>
            <a:ext cx="338040" cy="6782040"/>
          </a:xfrm>
          <a:custGeom>
            <a:avLst/>
            <a:gdLst>
              <a:gd name="textAreaLeft" fmla="*/ 0 w 338040"/>
              <a:gd name="textAreaRight" fmla="*/ 122040 w 338040"/>
              <a:gd name="textAreaTop" fmla="*/ 176760 h 6782040"/>
              <a:gd name="textAreaBottom" fmla="*/ 6605280 h 678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914360" y="2095200"/>
            <a:ext cx="457200" cy="6782040"/>
          </a:xfrm>
          <a:custGeom>
            <a:avLst/>
            <a:gdLst>
              <a:gd name="textAreaLeft" fmla="*/ 0 w 457200"/>
              <a:gd name="textAreaRight" fmla="*/ 164880 w 457200"/>
              <a:gd name="textAreaTop" fmla="*/ 176760 h 6782040"/>
              <a:gd name="textAreaBottom" fmla="*/ 6605280 h 678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6019920"/>
            <a:ext cx="1676520" cy="3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Individual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556272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Constituents Distribute Outreach Message at the Loca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4648320"/>
            <a:ext cx="121932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ational Provider Associ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FDF1-F0C3-455A-BDD0-7B0FA9A1BF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FFS Example: Subgroup Information Flo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523880"/>
            <a:ext cx="160020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MESSAGE: Release of Medicare Implementation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3962520"/>
            <a:ext cx="1523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Possible Dissemin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Methods to FF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Times New Roman"/>
              </a:rPr>
              <a:t>Medicare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2286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743200"/>
            <a:ext cx="1600200" cy="76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PCG Subgroup Member Evaluates Message &amp; Determines Appropriate 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358128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Post to CMS Web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4800600"/>
            <a:ext cx="198144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Instruct Contractors to Publish MM Article &amp; Post Message On Website, Newsletter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19112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Distribute Provider Partnership Directory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2590920"/>
            <a:ext cx="380880" cy="3352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7086600" y="2514240"/>
            <a:ext cx="380880" cy="3429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236232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Create Medlearn Matters Arti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97180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Distribute Provider Listserv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562720"/>
            <a:ext cx="198144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Distribute To Regional Off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B814-1A5E-4F0E-9B6A-06AB0349B4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Outreach Data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Reporting Period of May 19 – June 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13 external outreach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uding first NPI Round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61 email/listserv communications reaching &gt; than 150,000 subscr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7 web pos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5 education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0A80-5E93-42AD-BC7A-C11D5DDF8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tional Plan and Provider Enumeration System (NP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cms.hhs.gov/np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pply online for your NP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test NPI news on CMS’ HIPAA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ipaa/hip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ing Soon!  NPI website for FFS Medicare Providers on Med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68F3-B62C-4CA5-859C-D256614231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Hot Topic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rts and Sub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ectronic File Interchange (EF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FF69-64C8-4F27-B3FD-43D17D3489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8-18T12:28:05Z</dcterms:modified>
  <cp:revision>198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57397891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)</vt:lpwstr>
  </property>
  <property fmtid="{D5CDD505-2E9C-101B-9397-08002B2CF9AE}" pid="5" name="_EmailSubject">
    <vt:lpwstr>PowerPoint Presentations</vt:lpwstr>
  </property>
  <property fmtid="{D5CDD505-2E9C-101B-9397-08002B2CF9AE}" pid="6" name="_NewReviewCycle">
    <vt:lpwstr/>
  </property>
  <property fmtid="{D5CDD505-2E9C-101B-9397-08002B2CF9AE}" pid="7" name="_PreviousAdHocReviewCycleID">
    <vt:r8>-811934582</vt:r8>
  </property>
  <property fmtid="{D5CDD505-2E9C-101B-9397-08002B2CF9AE}" pid="8" name="_ReviewingToolsShownOnce">
    <vt:lpwstr/>
  </property>
</Properties>
</file>