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E4B3-72A9-446E-966D-739F23C9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600200" y="68580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3657600"/>
            <a:ext cx="624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41200" y="152280"/>
            <a:ext cx="3251160" cy="243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26665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120" y="4190760"/>
            <a:ext cx="5867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3B2-54A7-44C1-9151-9A109C4C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1AA-5F49-4CE1-BEFB-7F66A10F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B58-1762-4B83-A7DE-71B93A63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7B6-62DA-44C8-92FE-ECBFED21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BF1-1858-4043-B9CC-A89812FE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855-025B-46E7-A198-51DE838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A16-2689-4A43-ACF0-BF579947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098-2370-41C9-80E6-89863F6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D21-319C-4A8D-8E66-0720C25E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296-DCD4-4B1A-8A3D-4677418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ED7-7813-47F7-ACF7-A712B7D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967-F62F-4333-960E-D0B7DC1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17CE-DADA-415E-962E-4C5761CA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P: The CMS Surgical Quality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2670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R. Hunt, M.D., F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S Quality Improvemen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481-ADFB-4EFF-AF4A-FD2300587A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rgical Complication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22520" y="1604880"/>
          <a:ext cx="6297480" cy="53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604880"/>
                    <a:ext cx="629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1752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981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4267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1722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0" y="152388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008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5840" y="5181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5840" y="6019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6576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0440" y="3429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RDIA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90D-BABA-4944-ACF4-90EC1A561B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43828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(W1)"/>
              </a:rPr>
              <a:t>MEASUREMENT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 (W1)"/>
              </a:rPr>
              <a:t>&amp;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 (W1)"/>
              </a:rPr>
              <a:t>REPORTING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F90-5AC3-440A-9C4B-3D95667C30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vs. Outcome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0528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80988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062-F96C-4482-B257-DC3F99DD25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hird part of the Art of Medicine is that which cures by the hand...The effects of this treatment are more obvious than any other kind.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re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relius Cornelius Cel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F70-60D6-4358-9E41-6EDEA6A291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CIP Dom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measure rests on solid evidence base (Level 1: R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nsens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ergistic campa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measures based on results of VA NSQIP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218-122C-4118-8B4E-05A79CBCC1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re to Stan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perative 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ous Thromboembolic Events (V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iratory Co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RD Vascular A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682-C848-4D71-B3C6-53E564A506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S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ly antiobio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anti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pt discontinuance of anti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r hair rem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oglycemia in cardiac surg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othermia in colon surg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F82-CAFA-4A8E-A2EE-3E4898C54F3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8540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prophylaxis or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prophylaxis g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710-93FB-4503-834D-060D0EEE03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operative 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locker maintenance for those on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lock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lockers for those at ri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A65-3A36-42B5-BF6C-390D060A59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stop VA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B at 30 degr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D Prophylax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aning protoc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819-E932-48ED-8E2B-B31B434E4B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ke Home Messa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geons must lead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ccess is wholly dependent on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th forward requires a system, resources, and 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E55-2E4C-45C0-B43E-E413328B79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(W1)"/>
              </a:rPr>
              <a:t>IT SYSTEMS ADOPTION AND US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D55-5485-40B5-92DB-491A804EBA9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(W1)"/>
              </a:rPr>
              <a:t>PROCESS REDESIG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54E-53FD-43B4-9B55-597B8196463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Address in Medicine, Yale Univer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esday, June 27, 1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e need a </a:t>
            </a: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system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 and surely we shall have it!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2440" y="304920"/>
            <a:ext cx="72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iam Stewart Halsted, M.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D35-68AB-4B84-B10A-B61F7A6C06D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ig An Opport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523880"/>
          <a:ext cx="8518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51832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171-965D-476B-B2D1-0A2BC43B4E9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 (W1)"/>
              </a:rPr>
              <a:t>CULTURE CHANG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F16-D5BF-412C-8E6C-A0A38ADA749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gical Cul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860-9893-4E97-8102-4A0F740540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54100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90920" y="3809880"/>
            <a:ext cx="5410080" cy="3048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A8E-3C4D-4538-90B5-CEC8E14B5F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9880" y="1600200"/>
            <a:ext cx="53341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287-ACB3-4344-A65F-9BFB1642E9C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SCIP align with other surgical QI initiatives (e.g. IHI 100K, JCAH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/will SCIP move beyond inpatient surg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CIP data collection is very resource intensive.  Who will pay fo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059-182D-4967-8D0F-1C2D6D4EC36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IP Who Pay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/JCAHO: Meas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: Data aggregation/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,CDC, JCAHO: Data tool sp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: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P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76560" y="1447560"/>
            <a:ext cx="4800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P Partners: Intervention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P Partners: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vendors: Collection too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: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Medical Staff: Proces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61B-3895-4207-B9E4-40884994AF9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CIP Go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reduce preventable surgical morbidity and mortality 25% by 2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924-63DC-48A4-8EC5-96EF63F677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0570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 to diseases make a habit of two things - to help, or at least, to do no harm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720" y="5028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demic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4440" y="304920"/>
            <a:ext cx="37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ppocr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77C-5BFA-4CDD-9A90-FA58715815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1523880"/>
            <a:ext cx="8229240" cy="5028840"/>
            <a:chOff x="533520" y="1523880"/>
            <a:chExt cx="8229240" cy="5028840"/>
          </a:xfrm>
        </p:grpSpPr>
        <p:sp>
          <p:nvSpPr>
            <p:cNvPr id="62" name=""/>
            <p:cNvSpPr/>
            <p:nvPr/>
          </p:nvSpPr>
          <p:spPr>
            <a:xfrm>
              <a:off x="533520" y="1523880"/>
              <a:ext cx="8229240" cy="5028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Quality = Hel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41920" y="3641400"/>
              <a:ext cx="5212080" cy="2911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afety = Do no har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EFE-B680-44B0-8CFC-8A17195903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34160" cy="366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right care for every person every time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920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s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8A9-7E3E-4FD3-9BF1-BD53E0FCAC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MS Quality Strateg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PERFORMANCE MEASUREMENT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SYSTEMS ADOPTION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PROCESS RE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(W1)"/>
              </a:rPr>
              <a:t>ORGANIZATIONAL CULTUR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0A1-C026-40A6-BCB5-ECD4C52FB4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igh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tient Cent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1A7-40EC-4FA5-8B53-D328B74BAA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3360" y="2268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P Steering Committe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ollege of Surge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Society of Anesthe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C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e for Healthcar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’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829-C060-4718-8A03-647309CDE58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16:16Z</dcterms:created>
  <dc:creator>David Hunt</dc:creator>
  <dc:description/>
  <dc:language>en-US</dc:language>
  <cp:lastModifiedBy>CMS</cp:lastModifiedBy>
  <cp:lastPrinted>2005-05-22T17:12:29Z</cp:lastPrinted>
  <dcterms:modified xsi:type="dcterms:W3CDTF">2005-08-19T02:41:33Z</dcterms:modified>
  <cp:revision>149</cp:revision>
  <dc:subject/>
  <dc:title>A Grammar of Surgical Qu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