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2790-9943-4631-B780-7CCB34E7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92F3-7D56-4149-B9BC-FDD09BB17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1E81-9EA0-455F-81DC-5760D199C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17AC-3FD8-4399-A2DA-7F271CD33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8549-09A1-47E7-A78D-A9F61C18E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918E-EBB2-4208-A0E5-CBD8E93A1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78B0-9FA9-458B-A51E-3A3156998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4C3E-3771-48AB-81A2-89E02AB43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E9D9-A3F9-4E26-8CBE-2B91F2597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82EB-7378-4030-8597-3B8366C16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CE8B-5184-49DE-BA4B-530995A84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6E72-2A08-4229-ABE2-3866B1BF9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8A9-7FA2-4BE2-AD7F-8964AC0A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ms.hhs.gov/NationalProvIdentStand/" TargetMode="External"/><Relationship Id="rId2" Type="http://schemas.openxmlformats.org/officeDocument/2006/relationships/hyperlink" Target="https://nppes.cms.hhs.gov/" TargetMode="External"/><Relationship Id="rId3" Type="http://schemas.openxmlformats.org/officeDocument/2006/relationships/hyperlink" Target="https://nppes.cms.hhs.gov/NPPES/NPIRegistryHome.do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PPES Data Dissemination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Jim Bossenmeyer and Patricia Pey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8537-EB80-4EA6-BF3D-22C8508C2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tricia Pe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tricia.Peyto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9BD2-A43E-4383-940B-60ADC61D2C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 – NPPES Data Dissemin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PES Data Dissemination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tting Ready for Dat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I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wnloadabl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7A60-0BCB-4DA4-82F4-D43339894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NPI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NationalProvIdentStan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PPES (providers may view/edit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s://nppes.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PI Registry (starting 9/4/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s://nppes.cms.hhs.gov/NPPES/NPIRegistryHome.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wnloadable file (ready 2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week in 9/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ttp://nppesdata.cms.hhs.gov/CMS_NPI_files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8BCD-B71C-4BAC-A389-06264DE85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NPPES Data Dissemination Notic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blished May 30, 2007 in th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Feder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sts the NPPES data elements that are FOIA-disclosable and that CMS will mak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scribes the methods by which data will be mad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ustom requests to be handled under FOIA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E97A-710C-478D-81B7-8A610D9EC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Non-disclosable NPPES Data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SN (Individuals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e of birth (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te of birth (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untry of birth (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tact Person information (Individuals and Organ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a for providers who have deactivated their NPIs (Individuals and Organ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4C98-7278-4F73-9D99-757D4A752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Getting Ready for Data Dissemination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delayed disclosure of data to allow providers time to edit the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sure i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move “sensitive” data from optional fields (e.g., SSNs or DEA Numbers reported in “Other Provider Identifier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uidance document created to assist provi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efforts to ensure non-release of SSNs reported in FOIA-disclosable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13DD-0A74-4012-B4FE-939A65E996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PI Registry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rational on September 4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ery-only real-tim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ery by name, NPI, ZIP code,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view “Results” and select provid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iew display of FOIA-disclosable data for selected provid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0B8F-14DA-408A-A29F-5F281E27ED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Downloadable Fil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vailable 2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week in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napshot” of FOIA-disclosable data for all providers in NPPES as of a certai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le contains Read Me document, Code Value document, Header File, and dat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ach month, a full replacement file is available for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chnical expertise of user is required to download the file and manipulate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D300-91D8-4F62-835F-F5619BAF0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ther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fee or charge to use the NPI Registry or download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rIDs and passwords are not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assistance from CMS or NPI Enumerator for file download or data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7F03-AF34-48B5-AC72-B4C6007B6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8-17T13:23:40Z</dcterms:modified>
  <cp:revision>172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5051226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site Update</vt:lpwstr>
  </property>
  <property fmtid="{D5CDD505-2E9C-101B-9397-08002B2CF9AE}" pid="6" name="_NewReviewCycle">
    <vt:lpwstr/>
  </property>
  <property fmtid="{D5CDD505-2E9C-101B-9397-08002B2CF9AE}" pid="7" name="_PreviousAdHocReviewCycleID">
    <vt:r8>-157677028</vt:r8>
  </property>
</Properties>
</file>