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A181D6-A0FE-4EE0-A547-1656ADC7ED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391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066680" y="4050720"/>
            <a:ext cx="7391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CA80B9-6AA9-44DB-998F-3B963CB96F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360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54240" y="1980720"/>
            <a:ext cx="360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6680" y="4050720"/>
            <a:ext cx="360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54240" y="4050720"/>
            <a:ext cx="360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7FB087-4CED-4ADD-8AC3-2FC3A6A570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23799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66160" y="1980720"/>
            <a:ext cx="23799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65280" y="1980720"/>
            <a:ext cx="23799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066680" y="4050720"/>
            <a:ext cx="23799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66160" y="4050720"/>
            <a:ext cx="23799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65280" y="4050720"/>
            <a:ext cx="23799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66450C-47D5-4B89-A76D-34489983953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066680" y="1980720"/>
            <a:ext cx="739152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C1B7C3-8C58-4981-A869-769C5F24B7E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391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1415DB-1CFF-4C04-993D-17D67545BA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360684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54240" y="1980720"/>
            <a:ext cx="360684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24AF6E-2C73-4DB2-A0E1-F27D0AFAC1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9AEF97-8849-4065-B895-1F4C392D51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208F8D-18AB-45F8-B64F-FE36559732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360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54240" y="1980720"/>
            <a:ext cx="360684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066680" y="4050720"/>
            <a:ext cx="360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063404-B33D-445E-944C-D98E508105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360684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54240" y="1980720"/>
            <a:ext cx="360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54240" y="4050720"/>
            <a:ext cx="360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607D96-68A5-4B6A-ABAD-707910A86E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360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54240" y="1980720"/>
            <a:ext cx="360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4050720"/>
            <a:ext cx="7391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CCE7BF-BC67-4B34-B104-A74C192EFD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Rounded MT Bold"/>
              </a:rPr>
              <a:t>Click to edit the title text format</a:t>
            </a: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066680" y="1980720"/>
            <a:ext cx="7391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2819520" y="6248520"/>
            <a:ext cx="4038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400" spc="-1" strike="noStrike">
                <a:solidFill>
                  <a:srgbClr val="777777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777777"/>
                </a:solidFill>
                <a:latin typeface="Arial"/>
              </a:rPr>
              <a:t>Procurement Sensi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705880" y="6496200"/>
            <a:ext cx="3808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218EF-0E7E-469C-AFCB-1F62D70879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066680" y="31240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Berlin Sans FB"/>
              </a:rPr>
              <a:t>2008 Physician Fee Schedule NPRM</a:t>
            </a:r>
            <a:br>
              <a:rPr sz="4400"/>
            </a:br>
            <a:r>
              <a:rPr b="0" lang="en-US" sz="2400" spc="-1" strike="noStrike">
                <a:solidFill>
                  <a:srgbClr val="003399"/>
                </a:solidFill>
                <a:latin typeface="Berlin Sans FB"/>
              </a:rPr>
              <a:t>Amy Bassa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52480" y="4419720"/>
            <a:ext cx="6400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99"/>
                </a:solidFill>
                <a:latin typeface="Arial"/>
              </a:rPr>
              <a:t>Practicing Physicians Advisory Counc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416400" y="2058840"/>
          <a:ext cx="3657600" cy="18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16400" y="2058840"/>
                    <a:ext cx="3657600" cy="1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Berlin Sans FB"/>
              </a:rPr>
              <a:t>MEDICARE</a:t>
            </a: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R OFFICIAL USE ONL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9BF263-A86D-4F5B-9B1F-91096002A82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Berlin Sans FB"/>
              </a:rPr>
              <a:t>2008 Physician Fee Schedule NPRM</a:t>
            </a: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3915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CMS-1385-P July 12, 2007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Proposed rule addresses a variety of policy issues inclu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Physician Fee Schedule Iss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Part B Drug Iss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Clinical Lab Fee Sched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ESRD pay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IDTF standa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Physician Self-referral Iss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Tax Relief and Health Care Act of 2006 implem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E-prescribing exem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R OFFICIAL USE ONL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4FEEEF-72E2-4D26-8286-F56F4866E6D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 Rounded MT Bold"/>
              </a:rPr>
              <a:t>Physician fee schedule related issues in NPRM</a:t>
            </a:r>
            <a:br>
              <a:rPr sz="2800"/>
            </a:br>
            <a:endParaRPr b="0" lang="en-US" sz="28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391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ompletion of 5 year re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Year 2 of new practice expense methodology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Utilization rate discu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Geographic Practice Cost Indices (GPCI) upd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Three options for California locality reconfigu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Malpractice RVUs for TC discu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R OFFICIAL USE ONL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9429C0-C844-4B88-9B62-D04AA54ED3F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 Rounded MT Bold"/>
              </a:rPr>
              <a:t>Physician fee schedule related issues in NPRM (cont’d)</a:t>
            </a:r>
            <a:endParaRPr b="0" lang="en-US" sz="28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391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Therapy service chan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Therapy qualifications for Part A se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Certification for Plan of C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arifying/conforming changes for COR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Addition to list of telehealth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Implementation of Physician Assistance and Quality Initiative F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Discussion of expiring provis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R OFFICIAL USE ONL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506BCD-C2B7-4F2A-8610-6061F298E42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Berlin Sans FB"/>
              </a:rPr>
              <a:t>Key Websites</a:t>
            </a: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1760" y="1599840"/>
            <a:ext cx="7391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ttp://www.cms.hhs.gov/PhysicianFeeSche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R OFFICIAL USE ONL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4F4441-59C0-413E-803E-F38731578BD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 Rounded MT Bold"/>
              </a:rPr>
              <a:t>Contact Information</a:t>
            </a: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391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Amy Bassano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410-786-30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Amy.bassano@cms.hhs.g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R OFFICIAL USE ONL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B196ED-B67D-4A2E-9E66-18186CD4420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3T15:25:08Z</dcterms:created>
  <dc:creator>CMS</dc:creator>
  <dc:description/>
  <dc:language>en-US</dc:language>
  <cp:lastModifiedBy>CMS</cp:lastModifiedBy>
  <dcterms:modified xsi:type="dcterms:W3CDTF">2007-08-08T20:44:10Z</dcterms:modified>
  <cp:revision>170</cp:revision>
  <dc:subject/>
  <dc:title>Medicare Contracting Reform:  Report to Congres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300367248</vt:r8>
  </property>
  <property fmtid="{D5CDD505-2E9C-101B-9397-08002B2CF9AE}" pid="3" name="_AuthorEmail">
    <vt:lpwstr>Kelly.Buchanan@cms.hhs.gov</vt:lpwstr>
  </property>
  <property fmtid="{D5CDD505-2E9C-101B-9397-08002B2CF9AE}" pid="4" name="_AuthorEmailDisplayName">
    <vt:lpwstr>Buchanan, Kelly (CMS/CMM)</vt:lpwstr>
  </property>
  <property fmtid="{D5CDD505-2E9C-101B-9397-08002B2CF9AE}" pid="5" name="_EmailSubject">
    <vt:lpwstr>Website Update</vt:lpwstr>
  </property>
  <property fmtid="{D5CDD505-2E9C-101B-9397-08002B2CF9AE}" pid="6" name="_NewReviewCycle">
    <vt:lpwstr/>
  </property>
  <property fmtid="{D5CDD505-2E9C-101B-9397-08002B2CF9AE}" pid="7" name="_PreviousAdHocReviewCycleID">
    <vt:r8>991291294</vt:r8>
  </property>
</Properties>
</file>