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8255-C40F-4F2A-A801-5F4A5EA46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CCA0-1D22-4290-9553-50BEB2CCA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32D1-C75D-4DD5-A02B-09B6F4917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B0A4-06FE-4A86-AE54-0D1821F6A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0A61-A1E8-47FD-81A1-0D6DE2A83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732E-0B89-401C-9238-C567E0D00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F531-A7E3-4676-A523-B9B2E4372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FDDD-947F-4CAA-B509-8427F79C2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4DF1-1106-4CA4-AD12-BD1C40491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5EAA-326B-48AE-92EF-98AA29EC1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2213-41C3-4BFC-9D68-D2289A761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2D93-7424-4978-8C2E-4043017DA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ECE8-D95B-4A53-AC94-EF87591CE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2438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roposed CY 2008 Medicare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Berlin Sans FB"/>
              </a:rPr>
              <a:t>Hospital Outpatient Prospective           Payment System and Ambulatory Surgical Center Payment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Don Thompson, Acting Deputy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Hospital and Ambulatory Polic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ugust 27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AE2C-2500-47DD-9E4F-B3FF32380E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Expanded ASC Procedure Lis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nal rule expands access to approximately 790 additional surgical procedures in the ASC set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cludes all surgical procedures except those that pose a significant safety risk or are expected to require an overnight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 2008 NPRM proposes additional procedures for the ASC list, bringing total to about 3,300 covered surgic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A3C0-0440-4557-B4D1-5037361CF1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Other Polici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vice-Intensiv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s under OPPS, ASC payment for high-cost devices packaged into associated procedure payment – same payment for the device will be made under the OPPS and ASC pay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udget neutrality adjustment applied only to service component of ASC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vered Ancillary Services</a:t>
            </a:r>
            <a:r>
              <a:rPr b="0" lang="en-US" sz="21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Defined as services integral to and provided immediately before, during, or after covered surgical proced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Radiology services paid separately under OP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Drugs and biologicals paid separately under OP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D4C5-CD2C-411D-8885-A3B40A839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Transition for Implementation of Revised Rate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yment based on blend of revised payment rates and CY 2007 payment 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8:  25/7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9:  50/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10:  75/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11:  100% revise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F3D3-7DF7-4C54-8D5C-62CDAB51D5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Updating the Revised ASC Payment System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nal CY 2008 ASC budget neutrality adjustment and rates to be published in the CY 2008 OPPS/ASC final rule available around November 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C payment system will be updated annually in the OPPS/ASC rulemaking cycle, allowing for changes in medical practice and public comment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F update beginning in CY 2010 based on Consumer Price Index for All Urban Consumers (CPI-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8531-001E-429F-8DC1-9942FCD1C3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2008 OPPS/ASC NPRM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 public display - July 1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blished in the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Federa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Regist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– August 2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blic comments accepted through September 14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C285-1684-4DD5-91B7-27074ADAFB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patient Prospective Paymen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HospitalOutpatientPP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bulatory Surgical Center Paymen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ASCPaym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999E-0392-4D57-A5B2-CD0A61946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               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ssemination of information to physicians and ASCs regarding the revised ASC payment system, particularly with respect to new AS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fforts to encourage quality in ASCs, including suggestions for appropriate qual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8029-FDD6-4F8D-92E5-2D3926C10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n Thompson, M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cting Deput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spital and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nald.Thompson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F59C-E59B-4EB4-B266-E6C7C4CEE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ver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utpatient Prospective Pay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Quality Meas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anded Packa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mbulatory Surgical Center Pay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vised Payment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anded List of AS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vice-Intensiv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SC-Covered Ancill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nsition for Implementation of Revis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pdating the Revised ASC Pay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D05A-A543-44E4-9764-0AEFB2FEA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OPPS: Background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PS rates based on relative payment weights calculated for groups of services (APCs) that are similar in terms of clinical characteristics and resour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annually updates APC groups and weights using most rec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aim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s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ag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069D-EB49-40A6-9058-C3F350FC6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Quality Measur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8 OPPS expenditures estimated to increase by 10.5% from CY 2007 to $35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 outpatient spending accounted for 1/3 of 2007 Medicare premium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ed reporting standards are first step toward value-based purchas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D AMI transfers, surgical care improvement, heart failure, community-acquired pneumonia, and dia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s that fail to report would receive 2.0 percentage point reduction to payment update, beginning in C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E00E-D215-4282-8DCE-3A59BDE52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Expanded Packaging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nce 2000, overall packaging has decreased and procedure groupings have grown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maller payment bundles provide payment incentives to increase servic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rger payment bundles promote efficiency and provide maximal flexibility to manag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urrent policy:  packaged services include low cost drugs and supplies, amo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5CF6-FDF6-4642-9E66-2AB12EF52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Expanded Packaging (cont.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8 proposal:  extend current packaging to supportive and ancill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uidanc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age proces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raopera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aging supervision and interpret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agnostic radiopharmaceut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tras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serv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AB5A-AFC7-401F-9D7E-569836991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ASC Payment System: Background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urrent system provides payment for more than 2,500 surgical procedures across 9 payment 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nically dis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st rebased in March 1990 using 1986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yments range from $333 to $13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MA required CMS to revise payment system by January 1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issued NPRM outlining new payment methodology in Augus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nal revised methodology adopted in July 16, 2007 fin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DAEA-84EB-42D5-8813-C9906A998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ASC Final Rule Revised Payment Methodology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PPS relative payment weights multiplied by ASC conversion factor (CF) for C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Y 2008 OPPS/ASC NPRM includes proposed r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posed payments range from $3.15 to $24,704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Y 2008 proposed CF = $41.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Uses IPPS pre-reclassification wage indices with OMB geographic loc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abor-related factor is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ayment capped for new ASC procedures that are usually performed in the physician office setting at the physician offi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neficiary copayment 20%, except for screening flexible sigmoidoscopies and colonoscopies where the law requires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any final payment policies parallel the OPPS, consistent with PPAC’s recommendation that uniform payment policies should apply across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8E3D-D7F8-4E7E-B2EC-952D8EAB1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ASC Final Rule Revised Payment Methodology (cont.)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er MMA, revised payment system must be budge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8 NPRM proposes budget neutrality adjustment at approximately 65% of OPPS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ccounts for shifts in site of service and lower costs in ASCs relative to hospital outpatient departments (consistent with GAO Report recommend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subsequent years, CMS will scale weights so that changes to OPPS weights do not increase or decrease aggregate ASC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A9E8-4079-4B10-846D-7B39577464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4:00:00Z</dcterms:created>
  <dc:creator/>
  <dc:description/>
  <dc:language>en-US</dc:language>
  <cp:lastModifiedBy/>
  <dcterms:modified xsi:type="dcterms:W3CDTF">2007-08-13T17:43:43Z</dcterms:modified>
  <cp:revision>1</cp:revision>
  <dc:subject/>
  <dc:title>MEDIC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8557211</vt:r8>
  </property>
  <property fmtid="{D5CDD505-2E9C-101B-9397-08002B2CF9AE}" pid="3" name="_NewReviewCycle">
    <vt:lpwstr/>
  </property>
  <property fmtid="{D5CDD505-2E9C-101B-9397-08002B2CF9AE}" pid="4" name="_PreviousAdHocReviewCycleID">
    <vt:r8>-656798640</vt:r8>
  </property>
</Properties>
</file>