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12D-BC44-4F6E-B0C3-95A24AD4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3D8-86DE-4483-948F-89227937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D67-9096-4275-A7AE-7467237B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F40-CD02-4E46-BE59-CD8FBE98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BAB-21F9-4558-9C27-D592B3A8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558-CDC6-461E-B86D-344BD6A6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7BB-0B6A-44E7-80B1-F4AA493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787-4304-47F6-B97C-59DC3030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8DA-A891-40B5-A1AD-5F0B1563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A17-5D40-4C26-9536-3E565C64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92E-8E8A-4872-BB7B-5ED48D6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F50-CC84-4CD8-98B9-C002319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203-D39F-4DE8-8B46-67A243167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Valeria.Allen@cms.hhs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Lucida Sans Unicode"/>
              </a:rPr>
              <a:t>MEDICALLY UNLIKELY EDITS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Lucida Sans Unicode"/>
              </a:rPr>
              <a:t>(MU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renda Thew, Division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enters for Medicare &amp; Medicai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vision of Benefit Integ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ntractor Medical Dir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640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al MUEs Reviewed by 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M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UEs based on Clinical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Groups of HCPCS/CP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/Pat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F3E-85FE-43A4-AB16-B437DCE59A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Proces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Healthcare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4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747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Medical/Surgical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747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rofessional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747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747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48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E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796-2B68-45D2-A0EA-15B108710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208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2080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U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2080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Com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1604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1604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A38-2C7C-4F54-93B2-787D65153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cted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aid Claims Error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of Medically Reasonable and Necessa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 Value Ab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 Value Allowing Vast Majority of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at Carrier, D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C27-B7B8-4EAC-969E-8E2259F0F3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33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3348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 Nature of M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3348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IA Requests for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1292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348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ment of M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1292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Coding Solutions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348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Unlikely Edits (CU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d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12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9B0-6E65-4F21-80A0-A584B6D59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s vs. MUEs 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*= Same as MU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cope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Es - N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UEs - Local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Reduce paid Claim Error Rat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event </a:t>
            </a: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fraud,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waste and abus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09A-C26B-4ACC-A0EF-0C1D318F45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s of Service edit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ch HCPCS/CPE Code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e beneficiary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e provider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e Date of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7EA-C568-4BDD-A2F9-478CBFFA33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/MAC, PSC, CMS CO/RO/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Intermediaries (OPPS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/B MAC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AC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67E-0FE3-4082-8D06-F08BC18DA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E Ap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ifferent from M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ver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ry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lar thresho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0CB-59D4-453A-962D-FE1F619534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 About Ed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88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Correct Coding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Coding Solutions, L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O. Box 9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mel, IN 46082-09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317-571-17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57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287-C770-402C-A832-7A64B31BF45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ly Unlikely Edits (MU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80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8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CM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8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aid Claims Error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8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78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78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Intermediaries (OP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78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/B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78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90E-18E1-408A-98A0-2846AE9ED3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mments/Questions About MU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 Allen (C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leria.Allen@cms.hhs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 410-786-91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D5A-84FD-4B46-981A-314512D21CF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Service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CPCS/CP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Benef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Date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572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85D-2CB0-48BE-9716-3CBC39C0D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 Adju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664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laim Line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664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/D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06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Line Den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664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406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Provi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tire Claim with reas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57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A41-4673-48E5-A07A-B0C1782DC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 and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 – Distinct Procedural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1 – Repeat Clinical Diagnostic Laborator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– Repeat Procedure By Same Phy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 -  Repeat Procedure By Another Phy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tomic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T,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1, E2,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, F2,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, T2,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, RC,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EF8-E061-4C44-8D62-9BCB98065F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eria For Ed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ic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T Code Descri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T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Procedure/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Anal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57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A1E-AD30-4D30-8C51-4D0236E74C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Upda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 schedule as NC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18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718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1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718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99 HCPCS/CP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18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D6B-7105-4979-8D3D-B366D1DF4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8065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065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S L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574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ll HCPCS/CPT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rovisional M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19F-F053-48AC-BD07-4E49B03A8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ntractor Medical Dir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44440"/>
            <a:ext cx="82296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88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 CMD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CMD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 CMD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88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logist CMD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40" y="4572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ly Unlikely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023-F669-4ED0-819A-747DF947F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5:35:50Z</dcterms:created>
  <dc:creator> </dc:creator>
  <dc:description/>
  <dc:language>en-US</dc:language>
  <cp:lastModifiedBy>CMS</cp:lastModifiedBy>
  <dcterms:modified xsi:type="dcterms:W3CDTF">2007-08-23T14:28:3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82495262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site Update</vt:lpwstr>
  </property>
  <property fmtid="{D5CDD505-2E9C-101B-9397-08002B2CF9AE}" pid="6" name="_NewReviewCycle">
    <vt:lpwstr/>
  </property>
  <property fmtid="{D5CDD505-2E9C-101B-9397-08002B2CF9AE}" pid="7" name="_PreviousAdHocReviewCycleID">
    <vt:r8>-57271046</vt:r8>
  </property>
</Properties>
</file>