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3232-A68A-4856-8004-07427F468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5FF6-139C-4F91-BA0F-9CBDDD4AE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EB7C-9C0F-4225-9C82-6ABFD0526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9744-AB95-4C3F-82E1-17F16F6D9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A919-04C9-4D84-A155-058A4BE28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2092-E31E-4F76-8A8E-7D50F619A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9508-3B0B-4C1B-8912-6672B9F0E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C80C-4982-4CD2-A339-B95170321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06ED-55B8-47A6-BD30-8ADF3B992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3BD2-3314-4FDF-A4C0-72D3F9F80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7C5B-89AC-4B43-85BD-B77307939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502B-F396-41EF-8EBD-90F3150C7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5727-0A03-46B6-B6DC-BAEB058CB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cms.hhs.gov/mcd/ncpc_view_document.asp?id=8" TargetMode="External"/><Relationship Id="rId2" Type="http://schemas.openxmlformats.org/officeDocument/2006/relationships/hyperlink" Target="http://www.cms.hhs.gov/center/coverage.asp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osemarie.hakim@cms.hhs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1240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verage with Evidence Develop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Rosemarie  Hakim, Ph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verage &amp; Analysi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8132-13F7-4BE3-9FAD-1D61149E07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 of CED studies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domized 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s of NC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chlear Implantation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not covered for hearing los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% an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T for A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not covered for mild cognitive impairm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me oxyg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not covered for 0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P 56-65 mmHg or 0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t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89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EC67-18A0-4923-B2BD-40548957A6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6553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verage with Evidence Development Guidanc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1"/>
              </a:rPr>
              <a:t>https://www.cms.hhs.gov/mcd/ncpc_view_document.asp?id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verag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http://www.cms.hhs.gov/center/coverage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4356-B85E-42C0-A3D3-D3D30B0C82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osemarie B. Hakim, P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410) 786 34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Rosemarie.hakim@cms.hhs.gov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7002-9FBA-4BE6-9441-A139A76D01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oals of CED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mote innovation while obtaining value in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mpt coverage serves to speed access to promising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mote potentially high valu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mprove evidence available to patients, clinicians, policy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rget treatments to subpopulations with greatest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form future changes in coverage for the item or servic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2980-F7BD-4CEF-B9CC-685269AF4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 Rounded MT Bold"/>
              </a:rPr>
              <a:t>CED is always a result of an NCD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971800"/>
            <a:ext cx="1295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Comic Sans MS"/>
                <a:ea typeface="ＭＳ Ｐゴシック"/>
              </a:rPr>
              <a:t>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/>
          <p:nvPr/>
        </p:nvCxnSpPr>
        <p:spPr>
          <a:xfrm>
            <a:off x="1905120" y="1905120"/>
            <a:ext cx="1219680" cy="2815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lg" type="triangle" w="lg"/>
          </a:ln>
        </p:spPr>
      </p:cxnSp>
      <p:sp>
        <p:nvSpPr>
          <p:cNvPr id="53" name=""/>
          <p:cNvSpPr/>
          <p:nvPr/>
        </p:nvSpPr>
        <p:spPr>
          <a:xfrm>
            <a:off x="4267080" y="434340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Comic Sans MS"/>
                <a:ea typeface="ＭＳ Ｐゴシック"/>
              </a:rPr>
              <a:t>3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/>
          <p:nvPr/>
        </p:nvCxnSpPr>
        <p:spPr>
          <a:xfrm flipH="1">
            <a:off x="2742840" y="2819520"/>
            <a:ext cx="813600" cy="17388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lg" type="triangle" w="lg"/>
          </a:ln>
        </p:spPr>
      </p:cxnSp>
      <p:cxnSp>
        <p:nvCxnSpPr>
          <p:cNvPr id="55" name=""/>
          <p:cNvCxnSpPr/>
          <p:nvPr/>
        </p:nvCxnSpPr>
        <p:spPr>
          <a:xfrm flipV="1">
            <a:off x="7238520" y="2133000"/>
            <a:ext cx="2520" cy="19818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lg" type="triangle" w="lg"/>
          </a:ln>
        </p:spPr>
      </p:cxnSp>
      <p:cxnSp>
        <p:nvCxnSpPr>
          <p:cNvPr id="56" name=""/>
          <p:cNvCxnSpPr/>
          <p:nvPr/>
        </p:nvCxnSpPr>
        <p:spPr>
          <a:xfrm flipV="1">
            <a:off x="3733560" y="5028840"/>
            <a:ext cx="2057760" cy="244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 flipH="1" flipV="1">
            <a:off x="1676160" y="2437920"/>
            <a:ext cx="75960" cy="213372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20040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Comic Sans MS"/>
                <a:ea typeface="ＭＳ Ｐゴシック"/>
              </a:rPr>
              <a:t>6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553080" y="2590920"/>
            <a:ext cx="0" cy="137160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724280"/>
            <a:ext cx="1676520" cy="0"/>
          </a:xfrm>
          <a:prstGeom prst="line">
            <a:avLst/>
          </a:prstGeom>
          <a:ln w="9360">
            <a:solidFill>
              <a:srgbClr val="33cc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1170720"/>
            <a:ext cx="2666880" cy="821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99ff"/>
            </a:solidFill>
            <a:miter/>
          </a:ln>
          <a:effectLst>
            <a:outerShdw dist="63504" dir="2216091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Final Decision &amp;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041120"/>
            <a:ext cx="2133720" cy="1165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99ff"/>
            </a:solidFill>
            <a:miter/>
          </a:ln>
          <a:effectLst>
            <a:outerShdw dist="63504" dir="2216091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National Coverage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677480"/>
            <a:ext cx="2509560" cy="8211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99ff"/>
            </a:solidFill>
            <a:miter/>
          </a:ln>
          <a:effectLst>
            <a:outerShdw dist="63504" dir="2216091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Draft Decision Memo Po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242960"/>
            <a:ext cx="2509920" cy="11653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99ff"/>
            </a:solidFill>
            <a:miter/>
          </a:ln>
          <a:effectLst>
            <a:outerShdw dist="63504" dir="2216091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Public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650960"/>
            <a:ext cx="1904760" cy="11653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99ff"/>
            </a:solidFill>
            <a:miter/>
          </a:ln>
          <a:effectLst>
            <a:outerShdw dist="63504" dir="2216091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Technology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4FC0-A0E2-41BA-BB2A-D16FC78354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</a:rPr>
              <a:t>Evidentiary Standard</a:t>
            </a: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982960"/>
            <a:ext cx="73152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ersua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oor/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249552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266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Evidence of Bene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1622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Non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3162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3105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CMS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25718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romi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1622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?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C869-0B93-484C-80C0-FE4F4D7BE3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3 possible NCD outcomes</a:t>
            </a: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ncoverage – the item or service is not covered at all,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change in coverage – leave coverage policy as it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verage with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patients with certain clinical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certain facilities or providers with specific experience or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ly patients in a qualifying CED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26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105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C544-1578-40F4-AE36-39262482E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Coverage with Evidence Development </a:t>
            </a:r>
            <a:endParaRPr b="0" lang="en-US" sz="3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e may require 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da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otherwise rigorous studies did not evaluate outcomes relevant to Medicare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da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studies did not address risks and benefits of off-label or other unanticipate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da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studies did not evaluate conditions prevalent in the Medicar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4538-E90D-4E3B-A370-84D35F4CDC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Coverage with Evidence Development </a:t>
            </a:r>
            <a:endParaRPr b="0" lang="en-US" sz="3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 may require CED (cont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da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there is little or no published research about new applications for diagnostic services and devices already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da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sufficient evidence is available only for specific patients or providers and not the patient/providers specified in an NCD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A611-9CB8-4F8A-ABE9-BAF6FFCAC4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Coverage with Evidence Development </a:t>
            </a:r>
            <a:endParaRPr b="0" lang="en-US" sz="3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An NCD would require a CED study only under these circumsta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da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imes New Roman"/>
              </a:rPr>
              <a:t>The evidence includes assurance of basic safety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da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imes New Roman"/>
              </a:rPr>
              <a:t>The item or service has a high potential to provid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da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imes New Roman"/>
              </a:rPr>
              <a:t>significant benefit to Medicare beneficiaries; an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da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imes New Roman"/>
              </a:rPr>
              <a:t>There are significant barriers to conducting clinical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EBB8-6C6C-4CB7-A2D1-FB13A4331B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 of CED studies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gis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s of NC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CD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secondary prevention – ACC-NCD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Cancer staging/diagnosi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P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ificial Hearts and Related Devices (VADs) - INTERMA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EB80-6DA2-4376-838A-F10DE359C5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7-08-21T19:40:59Z</dcterms:modified>
  <cp:revision>172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7717847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Website Update</vt:lpwstr>
  </property>
  <property fmtid="{D5CDD505-2E9C-101B-9397-08002B2CF9AE}" pid="6" name="_NewReviewCycle">
    <vt:lpwstr/>
  </property>
  <property fmtid="{D5CDD505-2E9C-101B-9397-08002B2CF9AE}" pid="7" name="_PreviousAdHocReviewCycleID">
    <vt:r8>567542459</vt:r8>
  </property>
</Properties>
</file>