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10F56-CAE5-4BB9-B2F5-8BEFB39563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ED836-43E2-429F-9004-82C62ACB4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FBB71-3F86-4BF9-99C5-DFFD4E5C2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D1187-4EBF-4BA8-BE6D-C82D58C8F43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745D8-6012-4E61-812A-523AFFF170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9B830-75D2-4EB6-980E-DB03A48469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12B87D-42C1-4EDE-97B1-F7AFE4D6C2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7A204-F9A5-43F0-996D-52AE0F24F8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D3A8F-B5C5-4EBC-AEA1-66F85FB017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71641A-9818-4E71-8C59-A46A7FF33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6A197-19C2-4BB3-8C25-70FC480162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D778F-9106-4287-A5E6-EEC57B846B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3BAF-EF27-4622-AF0F-88E5A5D5E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Arial Rounded MT Bold"/>
              </a:rPr>
              <a:t>Pay-for-Performance Update</a:t>
            </a:r>
            <a:br>
              <a:rPr sz="4000"/>
            </a:br>
            <a:r>
              <a:rPr b="0" lang="en-US" sz="800" spc="-1" strike="noStrike" u="sng">
                <a:solidFill>
                  <a:srgbClr val="000066"/>
                </a:solidFill>
                <a:uFillTx/>
                <a:latin typeface="Arial Rounded MT Bold"/>
              </a:rPr>
              <a:t> </a:t>
            </a:r>
            <a:r>
              <a:rPr b="0" lang="en-US" sz="4000" spc="-1" strike="noStrike" u="sng">
                <a:solidFill>
                  <a:srgbClr val="000066"/>
                </a:solidFill>
                <a:uFillTx/>
                <a:latin typeface="Arial Rounded MT Bold"/>
              </a:rPr>
              <a:t>  </a:t>
            </a:r>
            <a:br>
              <a:rPr sz="4000"/>
            </a:br>
            <a:r>
              <a:rPr b="0" lang="en-US" sz="20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br>
              <a:rPr sz="4000"/>
            </a:br>
            <a:r>
              <a:rPr b="0" lang="en-US" sz="2400" spc="-1" strike="noStrike">
                <a:solidFill>
                  <a:srgbClr val="000066"/>
                </a:solidFill>
                <a:latin typeface="Arial Rounded MT Bold"/>
              </a:rPr>
              <a:t> </a:t>
            </a:r>
            <a:br>
              <a:rPr sz="4000"/>
            </a:br>
            <a:r>
              <a:rPr b="0" lang="en-US" sz="4400" spc="-1" strike="noStrike">
                <a:solidFill>
                  <a:srgbClr val="000066"/>
                </a:solidFill>
                <a:latin typeface="Arial Rounded MT Bold"/>
              </a:rPr>
              <a:t>Physician Resource Use:</a:t>
            </a:r>
            <a:br>
              <a:rPr sz="4400"/>
            </a:br>
            <a:r>
              <a:rPr b="0" lang="en-US" sz="4400" spc="-1" strike="noStrike">
                <a:solidFill>
                  <a:srgbClr val="000066"/>
                </a:solidFill>
                <a:latin typeface="Arial Rounded MT Bold"/>
              </a:rPr>
              <a:t>Cost of Care Measures</a:t>
            </a:r>
            <a:endParaRPr b="0" lang="en-US" sz="4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142640" y="4038120"/>
            <a:ext cx="716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mas Valuck, MD, 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ing Physicians Advisory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ugust 28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’ Coordination with External Group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ulatory Care Quality Alliance (AQ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 Measures Subgroup of the Performance Measures Work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ing to standardize episode-based physician prof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predominant vendors invol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cing similar issues as other episode grouper evalu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is to include cost of care measures at the individual physician level in the public-private Better Quality Information transparency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FBA13-B1FA-4F66-A15C-1BF93DC1B9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’ Coordination with External Group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2640" y="220968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Committee for Quality Assurance (NCQ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episode grouper effectiveness at the health plan and possibly individual physician levels in a Commonwealth Fund-sponsored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ling informal staff role in the AQA process to speed efficiency measu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77995-BA39-4BC8-9E47-950ADACE54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’ Coordination with External Group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93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cy for Healthcare Research and Quality (AHRQ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llaborating with RAND to develop an Efficiency Measurement Typology for ambulatory care and hospital set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Accountability Office (GA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ing on second MMA section 953 report on “physician compensation generally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se to evaluate private and public payer activities regarding physician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B2E00-6520-44CF-A8AC-F69BDCEF902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' Cost of Care Measure Developmen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2286000"/>
            <a:ext cx="76960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' Cost of Care Measurement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meaningful, actionable, and fair cost of care measures of actual to expected physician resource 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ink cost of care measures to quality of care measures for a comprehensive assessment of physician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B66C9-2F28-4415-A6CC-408B395936F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' Cost of Care Measure Developmen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9250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' Physician Resource Use Workgroup has been addressing a March 2005 MedPAC recommendation, which MedPAC reiterated in their June 2006 Report to Congr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CMS should use Medicare claims data to measure fee-for-service physicians' resource use and share results with physicians confidentially to educate them about how they compare with aggregated peer performance.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dPAC:  Report to the Congress, March 2005, Chapter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3E674B-97E5-4AEE-A108-972F1B7AE1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' Cost of Care Measure Developmen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ysician Resource Use Reports for Highly Utilized Imaging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:  Echocardiograms for Heart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I:  MRs/CTs for Neck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pisode Grouper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EC278-9D42-4575-8F45-594CCF7021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Imaging Resource Use Repor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236196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Obj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the feasibility and usefulness of disseminating confidential, claims-based resource use reports to physicians, as recommended by MedP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D46867-8348-494D-9DD7-D064A204E33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Imaging Resource Use Repor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848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Foc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ly utilized imaging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I:  Echocardiograms for heart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ase II:  MRs/CTs for neck p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 focus on one type of procedure (imaging), compared with broad focus of episode grouper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hio and Wisconsin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a- and inter-state vari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Safeguard Contractor (PSC) expertise and access to Part B claims--TrustSolutions and AdvanceM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B98F9-32F5-4344-8B49-2146B204B8C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-29844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1904760"/>
            <a:ext cx="739152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76320" y="0"/>
          <a:ext cx="11430000" cy="784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0"/>
                    <a:ext cx="11430000" cy="784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E575F-7117-4D18-ACF9-6031270A09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Imaging Resource Use Repor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24379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 Vetting with Cardiolog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3:  Cleveland Cli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 24:  University of Wisconsin-Mad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uary-February:  Partners Healthcare at Massachusetts General Hospital in Bo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28F38-6AAB-44EB-B1DA-70FE540360B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Presentation Overview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8487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ing Quality and Cost:  Pay for Performance and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' Coordination with External Entities on Cost of Care Measure Development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' Cost of Care Measure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ian Resource Use Reports for Highly Utilized Imaging Services (comple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pisode Grouper Evaluation (in progr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D051C-F811-4F2A-8142-26E9510CB99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Imaging Resource Use Repor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 Vetting Highlights:  What We He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reports from private payers get a cursory look and then "go into the round fil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 data appeared inaccurate-both low and hig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reports available for individual physicians who bill with group UPIN nu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have specialty society consensus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t adjust for patient mix and seve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er group must be prec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verage guidelines may increase uti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problem is uncertified physicians who perform imaging in unaccredited fac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reports to detect fraud and ab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BD135-5171-4E3E-8706-336D1B6143C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Imaging Resource Use Repor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9492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I:  MRs/CTs for Neck P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:  American College of Radiology Appropriateness Criter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diagnosis of chronic neck p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in films should be ordered before any M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T should only be ordered when MR contraindicated, thus no patient should have both MR and 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rrower condition for more homogeneous groups of patients and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tting with primary care physici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56650-1B59-4004-92B1-E740125009D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"/>
          <p:cNvGraphicFramePr/>
          <p:nvPr/>
        </p:nvGraphicFramePr>
        <p:xfrm>
          <a:off x="76320" y="304920"/>
          <a:ext cx="9601200" cy="65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304920"/>
                    <a:ext cx="960120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98DA6-F2E1-46BE-93E1-02537A8E2C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Imaging Resource Use Repor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2590920"/>
            <a:ext cx="7391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I Vetting with Primary Care Physic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12:  Medical College of Wisconsin-Milwauk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5866B-15D4-42A7-A02C-7130D03C47C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Imaging Resource Use Repor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696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I Vetting Highlights:  What We He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e of the attendees were acquainted with the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delines were not specific to Medicar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 was too complex and not intu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ome physicians, low volume caused a small "N"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5BE8E-1AD5-482A-8B25-66D6A3D929D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Imaging Resource Use Repor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Lear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ians understand their practices from a patient-by-patient perspective, not from an aggregate statistics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ims data for a specific procedure or service alone does not yield rich enough information to generate resource use reports that are meaningful or actionable for phys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ost of widespread dissemination of these resource use reports would outweigh the 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resource use reports could be used as a screening tool to identify outliers for educational inter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7DF6B-D4EE-4521-919C-BC97AACB524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ject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nderstand episode grouper technology and its potential 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are and contrast the characteristics of selected, commercially-available episode group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termine which grouper, if any, best defines comparable episodes of care at the individual physician level for the Medicare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67568-17AB-4EF1-80DC-B43F1132694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524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an Episode Group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 technology that organizes claims data into a set of clinically coherent and and easily compared epis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proprietary logic to map claims data to the vendor’s taxonomy of clinically homogeneous episod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s to both acute and chronic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s claims coding data from many sources, including ambulatory, hospital inpatient and outpatient, laboratory, pharmaceutical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99D89-737F-4E18-8592-33B7C740035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n Episode Grouper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8720" y="2819520"/>
            <a:ext cx="99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2743200"/>
            <a:ext cx="1066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962520" y="3886200"/>
            <a:ext cx="15228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19520" y="3886200"/>
            <a:ext cx="15228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5638680"/>
            <a:ext cx="15228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0" y="3886200"/>
            <a:ext cx="15228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3886200"/>
            <a:ext cx="152640" cy="304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5638680"/>
            <a:ext cx="213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sit or proced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3886200"/>
            <a:ext cx="152640" cy="3049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57600" y="3886200"/>
            <a:ext cx="152280" cy="3049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3886200"/>
            <a:ext cx="152280" cy="304920"/>
          </a:xfrm>
          <a:prstGeom prst="triangle">
            <a:avLst>
              <a:gd name="adj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4952880"/>
            <a:ext cx="121896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43400" y="502920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Epis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981080" y="4267080"/>
            <a:ext cx="22100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426708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96252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571500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962520" y="56386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u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028840" y="41911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5333760" y="4267080"/>
            <a:ext cx="152388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23623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pisode initiating ev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0040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81480" y="5638680"/>
            <a:ext cx="152640" cy="304920"/>
          </a:xfrm>
          <a:prstGeom prst="triangle">
            <a:avLst>
              <a:gd name="adj" fmla="val 50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56386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cillary services--i.e., lab, radiology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971800" y="3276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828800" y="3276720"/>
            <a:ext cx="243792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2924280"/>
            <a:ext cx="121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okbac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28800" y="3733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924680" y="2438280"/>
            <a:ext cx="990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 of episode after clean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410080" y="5638680"/>
            <a:ext cx="152640" cy="304920"/>
          </a:xfrm>
          <a:prstGeom prst="triangle">
            <a:avLst>
              <a:gd name="adj" fmla="val 50000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33920" y="2895480"/>
            <a:ext cx="312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me events are not part of this epis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315200" y="358128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58DFD-AE19-4FCE-B76A-FF0D90B2AB2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680" y="20570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sode Grouper Evaluation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episode grouper technology work with CMS claims dat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well does episode grouper technology adjust for differences among patients, such as severity of illness or presence of comorbid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episode grouper technology be used to produce meaningful, actionable, and fair physician resource use repor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817E1-B3AA-48CD-9CF6-1E9C07E29E5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What is Pay for Performance?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chanism for promoting better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hile avoiding unnecessar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icit payment incentives to achieve identifie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ffici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59BD2-6DCB-4164-91B0-D8199DC774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MS' Episode Grouper Evalu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phase evaluation, based on the three evaluation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umen is our evaluation contr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valuating episode grouper software methodology, risk adjustment, provider attribution and physician profi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software vendors have agreed to participa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genix -- Episode Treatment Groups (ET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dStat -- MedStat Episode Groups (MEG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report due late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MS will also evaluate the soundness of the clinical logic used to construct each grouper’s classification algorith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5175E-1379-416C-BD78-5544D8C322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90720" y="152388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-517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:  Data Configuration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ing 100% of Medicare fee-for-service claims from four states (Colorado, Florida, Oregon, Pennsylvani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ing on six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abe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.  Stro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art failu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.  Prostate can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6400" indent="-36936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P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Hip fra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by establishing databases to examine episode grouper performance by CMS claim type (e.g., Part B, hospital inpatient and outpatient, home heal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0D08C-2CE2-4BAA-A45D-B2FCBACCAFD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8001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:  Preliminary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ilarities between episode groupers at the macro level on common sense characteristics provide reciprocal 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assign similar dollar amount of claims to episo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th produce similar distributions of costs per episode and episode counts per beneficiary (i.e., 25th, 50th, and 90th percentiles are essentially the s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differences between episode groupers at the micro level prevent head-to-head compari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episode defin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DC6481-A0D9-493E-8985-467BAD16C1E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:  Open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the advantages and disadvantages of the different episode defini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most appropriate reporting timefra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episodes that straddle years be address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revenue and procedure codes effect group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inpatient expenses in the presence of concurrent episodes be assign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5045F-B102-4DA2-B1A8-C12949E569A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90720" y="198072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I:  Risk Adju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pisode grouper's unique risk adjustment tools will be exam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uniform external risk adjustment tool will also be used to evaluate how different types of risk affect episode groupe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MS' HCC risk adjustmen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determine how risk adjustment can refine episodes to enhance fairness in physician resource use repor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99B73-8C3F-4F40-B486-00F4D3A2E92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80769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ase III:  Groupers as Physician Resource Use Reporting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ing on developing resource use reports for six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test composite reporting for multiple dise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technical conc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uracy and reliability of physician attribution using episode assignment 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volume episodes and the small "N"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eatment of out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bility and consistency of physician resource use reports over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1DA51-BABF-4C97-9BE4-CF00B7A65F7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Logic of Episode Grou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MS is evaluating episode grouper clinic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he episode definitions and grouping algorithms have face validity for practicing physicia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the groupers' matching of specific patients' claims to specific episodes logic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9FE54-CEE1-4392-B114-9D04BBB1EEF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ical Logic of Episode Group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ed simple, intermediate, and complex patient case studies for the six conditions from medical specialty socie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umen will identify Medicare patients fitting the case studies and will provide deidentified claims data and episode grouper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groups of practicing, board-certified physicians will examine the case studies, claims data, and episode grouper results to determine whether the episode groupings are log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C9A81-7FC8-42D9-9B8A-84EDC7459C6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Episode Grouper Evalu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066320" y="205704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 Expect to G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of the capabilities and limitations of episode groupers in handling Medicar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of practicing physician perspectives on episode grouper clinical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ing of the kind and quality of adjusted physician resource use reports that episode groupers can prod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C99F9-384E-4EF0-B5D8-152AD738A83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' Cost of Care Measure Developmen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22093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P:  CMS' Cost of Care Measurement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evelop meaningful, actionable, and fair cost of care measures of actual to expected physician resource u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link cost of care measures to quality of care measures for a comprehensive assessment of physician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D8BE8-335F-4B23-B36F-1197C8DF6EA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What Is Efficiency?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828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One of the Institute of Medicine's Key Dimensions of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tient-Centered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iciency: absence of waste, overuse, misuse, and err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-3729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stitute of Medicine:  Crossing the Quality Chasm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New Health System for the 21st Century, March, 200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693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27F4C-DFEE-4FEA-918D-11711DB175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onsiderations for the Council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20570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an cost of care measures be made meaningful, actionable, and fair for practicing physicia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 practicing physicians use the resource use reports that are currently being circulated by private health plans in many mar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FCDCF-7B47-44FF-A214-838A96781E9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Arial Rounded MT Bold"/>
              </a:rPr>
              <a:t>Thank You</a:t>
            </a:r>
            <a:endParaRPr b="0" lang="en-US" sz="44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2285640"/>
            <a:ext cx="77724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omas Valuck, MD, J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s for Medicare &amp; Medicai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er for Medicar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410) 786-74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omas.valuck@cms.hhs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5AC4A-3630-43D8-A92E-1551E959E21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What Is Efficiency?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3000" y="22856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y:  When a given level of “output” is achieved at the lowest total c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health policy purposes, efficiency is attained when a given level of “quality of care” is achieved at the lowest total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3167C-F9B2-4666-8078-2E86396D1B1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What Is Efficiency?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209320"/>
            <a:ext cx="76960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Care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ical measure of physician efficiency is the ratio of actual resource use (numerator) to expected resource use (denominator), given equivalent high quality of 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D2F9C-600E-487B-9FCF-8806576A294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What Is Efficiency?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t of Care Measurement Bas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uld measure and report quality of care con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be fair, measures should be adjusted for relevant practice differences that the physician cannot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A1632-9F1C-4BE2-9524-90A34DF0054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' Coordination with External Group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39152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Payment Advisory Commission (MedPA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bulatory Care Quality Alliance (AQ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Committee for Quality Assurance (NCQ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ncy for Healthcare Research and Quality (AHRQ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Accountability Office (GA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09A9D-AD51-4456-9FB8-9BF64E229A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MS' Coordination with External Group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care Payment Advisory Commission (MedP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ing episode grouper software at the individual physician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lementary to CMS’ eval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 coordinating c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an with the Medicare 5% s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orted results at their March and April meetings and June 2006 Report to Cong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stage is 100% Medicare claims for some region for some period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is to link episode-based cost measures to quality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37C335-476A-4BBB-9EE3-ADD385970A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5:08:35Z</dcterms:created>
  <dc:creator>CMS</dc:creator>
  <dc:description/>
  <dc:language>en-US</dc:language>
  <cp:lastModifiedBy>CMS</cp:lastModifiedBy>
  <dcterms:modified xsi:type="dcterms:W3CDTF">2006-08-18T15:19:2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8406919</vt:r8>
  </property>
  <property fmtid="{D5CDD505-2E9C-101B-9397-08002B2CF9AE}" pid="3" name="_AuthorEmail">
    <vt:lpwstr>robin.phillips@cms.hhs.gov</vt:lpwstr>
  </property>
  <property fmtid="{D5CDD505-2E9C-101B-9397-08002B2CF9AE}" pid="4" name="_AuthorEmailDisplayName">
    <vt:lpwstr>Phillips, Robin R. (CMS/CMM)</vt:lpwstr>
  </property>
  <property fmtid="{D5CDD505-2E9C-101B-9397-08002B2CF9AE}" pid="5" name="_EmailSubject">
    <vt:lpwstr>August 28th PPAC files</vt:lpwstr>
  </property>
  <property fmtid="{D5CDD505-2E9C-101B-9397-08002B2CF9AE}" pid="6" name="_NewReviewCycle">
    <vt:lpwstr/>
  </property>
  <property fmtid="{D5CDD505-2E9C-101B-9397-08002B2CF9AE}" pid="7" name="_PreviousAdHocReviewCycleID">
    <vt:r8>1051115263</vt:r8>
  </property>
</Properties>
</file>