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7542A-2BBC-4164-8182-AC3FDC16FF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B59C8-0BD3-453D-BCC6-8E4D7B203F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6961-7537-4640-9269-93A62591C2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A6155-D08D-409B-AD1C-9BB590B106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1250A-BB55-4ECB-A77C-E89B0728D6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DB1A2-AE12-404B-9836-DA8AAF34EF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01AA0-F396-4567-94D4-D05D861275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8D69-966D-4C88-81FE-01085BE6EE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AC3D9-56D7-4303-BC9A-831652FADE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2951F-D4AC-4A5F-A998-0E6DCF1D1E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D678F-06E4-46E1-93AF-F22145845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30D22-CEB2-4207-96A4-CD2C998BA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2ED04-9FF6-49EC-BF77-F48E78095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200"/>
            </a:br>
            <a:r>
              <a:rPr b="0" lang="en-US" sz="3200" spc="-1" strike="noStrike">
                <a:solidFill>
                  <a:srgbClr val="000066"/>
                </a:solidFill>
                <a:latin typeface="Arial Rounded MT Bold"/>
              </a:rPr>
              <a:t>Regulatory Update</a:t>
            </a:r>
            <a:endParaRPr b="0" lang="en-US" sz="32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er for Medicar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pital and Ambulatory Policy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ork RVU Review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dget Neutrality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increase (unadjusted) $4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ing 10% adjustment to all work R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change to actual RVU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to make payments budget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actice Expense Methodology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 Exp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s in running off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rect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5% of PFS payments ($30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actice Expense Methodology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nted to create better mousetr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made se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was rel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that was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bruary Town-Hall meeting to gather ideas and listen to concer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actice Expense Methodology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Bottom-Up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rocedure-level data for direct cost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r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es surveys done by 8 specialty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iminates “zero-work pool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s 4 year phase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ear 1 25%, Year 2 50%, Year 3 7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implementation Year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-1321-P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nual Update to Physician Fe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 polic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other discretionary Part B payment policy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I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-1321-P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opt AMA PERC recommendations for direct inputs including supplies for many 90-day global perio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to pay separately for splint and cast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e work RVU for medical nutrition thera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-1321-P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FS updated based on SGR form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GR based in part on medical inflation using Medicare Economic 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I adjusted for productivity using BLS methodology &amp;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in Methodology &amp; data have decreased MEI 0.6% from tar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7 PFS decrease of 5.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DRA Related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Prev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sound screening for Abdominal Aortic Aneur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application of Part-B deductible for Colorectal Cancer Screen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 Diabetes Self Management Training and Medical Nutrition Therapy to FQHC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DRA Related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g payment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current 25% reduction on technical component for multiple images (MRI, CAT, &amp; ultrasound) on contiguous body parts in the same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 OPPS cap for most imaging procedures (mammography exclud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the lesser of the two amou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DRA Related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sion of Therapy C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ef explanation of c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exceptions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 readers to resources for mor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 Basics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1 million physicians and practitioners are paid under the physician fee sched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000 different services provided in physician offices, hospitals and other settings are covered under the P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ed in 1992 to replace reasonable charge method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8(b) of SSA authorized use of fee schedule for physician’s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art B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F supplier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es 14 supplier standards based on DMEPOS standards that must be met prior to enrollment and must be maintained to avoid having billing privileges rev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art B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opening comment period on ASP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changes to price calculation under AS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ice that final will include clotting factor furnishing f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of WAMP &amp; AMP thres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art B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RD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hod to calculate drug add-on adjus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o wage index adjustment using most recent hospital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art B Policy Chang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L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t-out Provisions for dieticians and nutrition profession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lab billings to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consultation on new clinical diagnostic lab pri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iteria to establish certifying bodies for advance practice nur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iteration of CMS position on chiropractic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Discussion Items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formal propos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iration of MMA mandated GPCI flo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ropractic services demonst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Information and Transparency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rap-Up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period for 5-year review ended August 21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ent on physician fee schedule due by 5:00 p.m. October 10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ta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- Various Issues - Amy Basano/John Warren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ss Measurement - Bill Larson/ Marcel Salive ( OCS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ification of Nurse practitioners - Regina Walker-Wren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ropractic Demonstration - Sid Trieger (ORD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nical Lab Fee Schedule - Amy Bassano/John Warren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ta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ing Issues - Carolyn Mullen/Amy Bassano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 section 5114 (FQHC) - Amy Bassano/John Warren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RD Issues - Gene Richter/Lana Price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mpt Colorectal Screening from deductible - Diane Milstead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CI - Stephanie Monroe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ta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T/Transparency - Tom Valuk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TF Issues - Jim Bossenmeyer (OF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aging - Carolyn Mullen/Amy Bassano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 Lab billing - Jim Menas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  proposals -  Pam West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 Labs - Don Romano/Dave Walczak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vate Contracts-opt out - Fred Grabau/Don Romano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tac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ier Access to claims / reassignment - Don Romano/Dave Walczak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ehealth - Craig Dobyski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apy Cap - Dorothy Shannon (CM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rasound screening for AAA - Bill Larson/Marcel Salive ( OCS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hysician Fee Schedule Basics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8 contains three el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 schedule for physician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tainable growth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ing char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48 al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RVUs for work, practice expense and mal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and RVU adjustments to be budget-neutral (changes ≤ $20,000,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s RVUs to be reviewed every 5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-1512-PN</a:t>
            </a: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	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d notice appeared 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ederal Regist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v. 71, No. 125, pp. 37170-37430) on 29 June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d 60 day notice and comment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be finalized in the consolidated final Medicare Physician Fee Schedule rule to be published in early November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-1512-P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s forth two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of 5-year review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s changes to methodology to calculate practice ex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ther provisions in this r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ork RVU Re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w requires this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5-year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 not review malpractice (PLI) RVU or PE RVU, only work R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, PLI RVUs undergo constant refi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itional review is unwarr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ork RVU Re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ing of the time it takes to perform a procedure and the intensity of performing the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ounts for nearly 50% of payments under PFS ($35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ork RVU Re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 RUC 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00 codes went to RU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36 referred to C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1 withdra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13 codes reviewed by RU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9 RUC recommendations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3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increased above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 mainta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 decreased below recomme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5-Year Review </a:t>
            </a:r>
            <a:br>
              <a:rPr sz="3600"/>
            </a:b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ork RVU Re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changes to payment for time physicians use to care for pati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 in largest revisions ever proposed for E&amp;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9213 increases 3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&amp;M are in top 10 frequently billed physicia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6:56:12Z</dcterms:created>
  <dc:creator>John Warren</dc:creator>
  <dc:description/>
  <dc:language>en-US</dc:language>
  <cp:lastModifiedBy>CMS</cp:lastModifiedBy>
  <dcterms:modified xsi:type="dcterms:W3CDTF">2006-08-18T16:49:45Z</dcterms:modified>
  <cp:revision>9</cp:revision>
  <dc:subject/>
  <dc:title>Physician Fee Schedule Regulatory Upd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97740180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August 28th PPAC files</vt:lpwstr>
  </property>
  <property fmtid="{D5CDD505-2E9C-101B-9397-08002B2CF9AE}" pid="6" name="_NewReviewCycle">
    <vt:lpwstr/>
  </property>
  <property fmtid="{D5CDD505-2E9C-101B-9397-08002B2CF9AE}" pid="7" name="_PreviousAdHocReviewCycleID">
    <vt:r8>-1345234004</vt:r8>
  </property>
</Properties>
</file>