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F977-A4B5-4145-86F1-EBB866844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CD1-056F-447A-8FAE-FDF59D04D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F0A1-80AF-459F-A542-D2B159121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DFCA-CFA4-41EB-8E56-274F01AD5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BFA30-E5DF-4BDC-BDA8-F12F71DB1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3616D-67F1-447C-8904-13E81EF2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0508-CBBF-4ECE-85CB-D1C75F9F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F9C34-22D8-458B-9AB8-1C0B51D07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62A18-EA9A-4748-855B-C69419B72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F5A60-14CB-4BFE-8A19-0CCB7967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DA52-75D7-41D1-A029-FE67EBBE3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35E6-130C-42D1-A7BD-BB522776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F114-9C86-4765-8BBA-F2171826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4BAAB-66AF-40DC-879F-2CF62E1E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17DB-56D5-4B29-87B2-2C7A89DB2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E7BF9-05D4-4946-9A9A-CB4DCB0AD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854C-D8F6-4D5C-B220-C5E710010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9044-EE41-4778-89D3-E2D3356B2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914E-AAAB-4C9D-86F1-78A6183CD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0A72-7785-45A6-B490-64DEBA97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5800" y="1767960"/>
            <a:ext cx="777240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CA9-A352-46D0-A8C3-7B520FF3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75DD-895F-4410-B4FD-B0EE799B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831D-A531-411D-BF28-7C55C4E8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6AB-90AB-485E-A229-3D405B30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9228-8741-4824-B8C0-1569A1CCC28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AE30-2D6E-45B0-819A-734576373C1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MEDICALLY UNLIKELY EDITS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UPDATE</a:t>
            </a:r>
            <a:br>
              <a:rPr sz="4800"/>
            </a:br>
            <a:r>
              <a:rPr b="0" lang="en-US" sz="4800" spc="-1" strike="noStrike">
                <a:solidFill>
                  <a:srgbClr val="dbbd71"/>
                </a:solidFill>
                <a:latin typeface="Arial"/>
              </a:rPr>
              <a:t>August 28, 2006</a:t>
            </a:r>
            <a:endParaRPr b="0" lang="en-US" sz="48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tect implausible Medicare claims submiss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vert inappropriate payment of claim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closely with the provider community to develop MU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meant as Medicare payment polic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PLAN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anuary 2007 - anatomical edit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ril 2007 – final phase of anatomical edits and additional edits based on CPT descriptors, CPT instructions, CMS policies, etc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uture - TBD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OMMENT PROCES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ent Period for January 2007 edits ends September 23, 200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ment Period for April 2007 edits is planned to be October 1 - December 1, 200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S will solicit comments on the MUEs through professional organizations and other interested partie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S will have at least a 60 day comment period prior to any MUE quarterly relea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bbd71"/>
                </a:solidFill>
                <a:latin typeface="Arial"/>
              </a:rPr>
              <a:t>PROCESS for SELECTING FUTURE MUEs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oal is to implement (through quarterly releases) the full set of MUEs that was first released in January 2006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we develop future quarterly releases, the MUEs will be based on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ata for past periods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inical judgment of CMS health care professionals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ents from the health care community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Operational MUE Issues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eals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the ed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 individual claim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difi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Questions?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a Zone, Deputy Direct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MS Program Integrity Grou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10.786.59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sa.Zone@cms.hhs.go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8T16:29:31Z</dcterms:created>
  <dc:creator>CMS</dc:creator>
  <dc:description/>
  <dc:language>en-US</dc:language>
  <cp:lastModifiedBy>CMS</cp:lastModifiedBy>
  <dcterms:modified xsi:type="dcterms:W3CDTF">2006-08-18T15:20:19Z</dcterms:modified>
  <cp:revision>6</cp:revision>
  <dc:subject/>
  <dc:title>MEDICALLY UNBELIEVEALBE EDIT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92836694</vt:r8>
  </property>
  <property fmtid="{D5CDD505-2E9C-101B-9397-08002B2CF9AE}" pid="3" name="_AuthorEmail">
    <vt:lpwstr>robin.phillips@cms.hhs.gov</vt:lpwstr>
  </property>
  <property fmtid="{D5CDD505-2E9C-101B-9397-08002B2CF9AE}" pid="4" name="_AuthorEmailDisplayName">
    <vt:lpwstr>Phillips, Robin R. (CMS/CMM)</vt:lpwstr>
  </property>
  <property fmtid="{D5CDD505-2E9C-101B-9397-08002B2CF9AE}" pid="5" name="_EmailSubject">
    <vt:lpwstr>August 28th PPAC files</vt:lpwstr>
  </property>
  <property fmtid="{D5CDD505-2E9C-101B-9397-08002B2CF9AE}" pid="6" name="_NewReviewCycle">
    <vt:lpwstr/>
  </property>
  <property fmtid="{D5CDD505-2E9C-101B-9397-08002B2CF9AE}" pid="7" name="_PreviousAdHocReviewCycleID">
    <vt:r8>-2078737009</vt:r8>
  </property>
</Properties>
</file>