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E5B1-EBC7-4F36-86A1-5F0B4167F8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7D94-2A39-42AF-9271-C3AD165FE9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0B147-8362-4508-B3F6-207D3584D9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6616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65280" y="198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666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6616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65280" y="4050720"/>
            <a:ext cx="23799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4E902-FACF-4AD3-9063-870F1993F3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5694BE-C4A2-470E-9C33-2E2F9533164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AE7C3-92C5-4DF5-B021-77A145D521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01EC4-3E17-4A94-8D4C-7E71BF00CE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4F7F9-E43E-4D92-A62D-A1A02BB060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DDBB-1E3F-49B2-8B2D-04AD44855F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FBC8D-D570-4C54-BB3E-E79B0472B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54240" y="405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93DD1-C849-41E1-B99B-055711E21B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54240" y="1980720"/>
            <a:ext cx="360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4050720"/>
            <a:ext cx="739152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52622-441B-4402-8D40-AA51EEE56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2819520" y="6248520"/>
            <a:ext cx="4038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400" spc="-1" strike="noStrike">
                <a:solidFill>
                  <a:srgbClr val="7777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777777"/>
                </a:solidFill>
                <a:latin typeface="Arial"/>
              </a:rPr>
              <a:t>Procurement Sensi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705880" y="6496200"/>
            <a:ext cx="380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F95FD-26B1-4D0C-9547-D89D27F2BA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Berlin Sans FB"/>
              </a:rPr>
              <a:t>Medicare Advantage Payment Rates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Solomon Mussey, A.S.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D02A7-3039-4754-98D1-1117677679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Legislative Estima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MA Preventive Servi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itial preventive ex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ardiovascular blood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iabetes screening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69E93-8E9D-4165-B5CC-BB4A4C5E557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Kent Cle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63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Kent.Clemens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66CE4-21CA-4C66-8242-FAB9BB7935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Key Websi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edicare Advantage Payment Rate information is located at:  http://www.cms.hhs.gov/MedicareAdvtgSpecRateStats/RSD/list.asp#TopOf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05981-ED83-4FD0-94E7-8082D6CBABF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Medicare Advantage Ra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 2004, MMA established MA payment rates as the greater of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inimum payment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Minimum percentage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Blended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FS am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09452-B3A1-462B-AF04-5E777477808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Medicare Advantage Ra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n 2005 and later, MA payment rates are the greater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Last years rate increased by the minimum percentage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FFS rate, if a rebasing y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51B49-6830-44F4-95F9-B20F096F74B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Arial Rounded MT Bold"/>
              </a:rPr>
              <a:t>New Benefit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How are new benefits built into the MA r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New legislative benefits are built into the minimum percentage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Other benefit increases, such as NCDs, are generally small and not explicitly accounted for in rate incr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231E-8489-4651-BEFC-FDA174DADC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Contact Information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lomon Muss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410-786-638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lomon.Mussey@cms.hhs.g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98D58-6159-4D3F-B40A-7CEC040AB9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06668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 </a:t>
            </a: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 Legislative Estimates</a:t>
            </a:r>
            <a:br>
              <a:rPr sz="4400"/>
            </a:br>
            <a:r>
              <a:rPr b="0" lang="en-US" sz="2000" spc="-1" strike="noStrike">
                <a:solidFill>
                  <a:srgbClr val="003399"/>
                </a:solidFill>
                <a:latin typeface="Berlin Sans FB"/>
              </a:rPr>
              <a:t> M. Kent Clemens, F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441972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99"/>
                </a:solidFill>
                <a:latin typeface="Arial"/>
              </a:rPr>
              <a:t>Practicing Physicians Advisory Counc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3416400" y="2058840"/>
          <a:ext cx="3657600" cy="1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058840"/>
                    <a:ext cx="3657600" cy="1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Berlin Sans FB"/>
              </a:rPr>
              <a:t>MEDICARE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8E2C5-BE32-4430-AD85-B01D2B809F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Legislative Estima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Consider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Physician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Assump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8D5F3-0D46-4D3E-9691-82C5DF8B5D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 Rounded MT Bold"/>
              </a:rPr>
              <a:t>Legislative Estimates</a:t>
            </a:r>
            <a:endParaRPr b="0" lang="en-US" sz="3600" spc="-1" strike="noStrike">
              <a:solidFill>
                <a:srgbClr val="000066"/>
              </a:solidFill>
              <a:latin typeface="Arial Rounded MT Bol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98072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wo-Year Look Back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“…</a:t>
            </a: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the sustainable growth rates for that year and the preceding 2 years shall be determined on the basis of the best data available to the Secretary as of September 1 of the year preceding the year for which the calculation is made…”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Arial"/>
              </a:rPr>
              <a:t>Social Security Act 1848(f)(4)(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6781680" y="5791320"/>
          <a:ext cx="1676520" cy="81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1680" y="5791320"/>
                    <a:ext cx="16765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R OFFICIAL USE ONL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FAC0A-775C-4482-B503-1ECED03481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3T15:25:08Z</dcterms:created>
  <dc:creator>CMS</dc:creator>
  <dc:description/>
  <dc:language>en-US</dc:language>
  <cp:lastModifiedBy>CMS</cp:lastModifiedBy>
  <dcterms:modified xsi:type="dcterms:W3CDTF">2006-08-28T14:02:45Z</dcterms:modified>
  <cp:revision>172</cp:revision>
  <dc:subject/>
  <dc:title>Medicare Contracting Reform:  Report to Congres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87052879</vt:r8>
  </property>
  <property fmtid="{D5CDD505-2E9C-101B-9397-08002B2CF9AE}" pid="3" name="_AuthorEmail">
    <vt:lpwstr>robin.phillips@cms.hhs.gov</vt:lpwstr>
  </property>
  <property fmtid="{D5CDD505-2E9C-101B-9397-08002B2CF9AE}" pid="4" name="_AuthorEmailDisplayName">
    <vt:lpwstr>Phillips, Robin R. (CMS/CMM)</vt:lpwstr>
  </property>
  <property fmtid="{D5CDD505-2E9C-101B-9397-08002B2CF9AE}" pid="5" name="_EmailSubject">
    <vt:lpwstr>August 28th PPAC files</vt:lpwstr>
  </property>
  <property fmtid="{D5CDD505-2E9C-101B-9397-08002B2CF9AE}" pid="6" name="_NewReviewCycle">
    <vt:lpwstr/>
  </property>
  <property fmtid="{D5CDD505-2E9C-101B-9397-08002B2CF9AE}" pid="7" name="_PreviousAdHocReviewCycleID">
    <vt:r8>1057860631</vt:r8>
  </property>
</Properties>
</file>