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gif" ContentType="image/gif"/>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7AA31B-C403-4637-B29C-DB8B3C5140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371CFB-CE09-4A5C-A2CF-C5242F591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E8CDD4-59C0-49A2-8F3B-A6024B5D6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19352-EDC8-40CC-882B-4C8D8C09B6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B4E1A-5032-4C89-ACA2-A1B748B17D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779A41-0D17-433A-ACB0-903699C182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66189-F567-4BB4-8D00-15AD27CBD1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E30620-5B37-412B-8D5E-1BA9EA451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A7155-872E-44DB-8060-C670D8801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0631D-3F3D-4489-9D94-34AC0872B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3FAB6-5313-46D0-80AD-16612176A4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1B5B36-04CE-4002-8ECD-3B4DB7BD6D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3D4AC-95A3-4318-A7A1-C1EF039E9D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ic Prescribing</a:t>
            </a:r>
            <a:endParaRPr b="0" lang="en-US" sz="4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ed by: Don Romano, Dire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vision of Technical Payment Polic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enter for Medicare Manageme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gust 28, 200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68580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Electronic Health Records</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lection of Recip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ors may use selection criteria that are not directly related to the volume or value of referrals from the recipient or other business generated between the parti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Electronic Health Records</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lue of Protected Technology</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recipients must pay 15 percent of the donor’s cost for the donated technology and training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onor may not finance the physician recipient’s payment or loan funds to the physician recipient for use by the physician recipient to pay for the items and servic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609480"/>
            <a:ext cx="8229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Electronic Health Records</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piration of the Excep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 sunsets on December 31, 2013.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447560"/>
            <a:ext cx="7772400" cy="21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3399"/>
                </a:solidFill>
                <a:latin typeface="Arial"/>
              </a:rPr>
              <a:t>Physicians’ Referrals to Health Care Entities With Which They Have Financial Relationships</a:t>
            </a:r>
            <a:endParaRPr b="0" lang="en-US" sz="32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3366ff"/>
                </a:solidFill>
                <a:latin typeface="Arial"/>
              </a:rPr>
              <a:t>Exceptions for Certain Electronic Prescribing and Electronic Health Records Arrange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Arial"/>
              </a:rPr>
              <a:t>Statutory Authority</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nic Prescribing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Exception §411.357(v)</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Section 101 of the MMA</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onic Health Records Exception   §411.357(w)</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2800" spc="-1" strike="noStrike">
                <a:solidFill>
                  <a:srgbClr val="000000"/>
                </a:solidFill>
                <a:latin typeface="Arial"/>
              </a:rPr>
              <a:t>Section 1877(b)(4) of the Social Security Ac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8" name="" descr=""/>
          <p:cNvPicPr/>
          <p:nvPr/>
        </p:nvPicPr>
        <p:blipFill>
          <a:blip r:embed="rId1"/>
          <a:stretch/>
        </p:blipFill>
        <p:spPr>
          <a:xfrm>
            <a:off x="7062840" y="0"/>
            <a:ext cx="2081160" cy="3121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685440"/>
            <a:ext cx="82296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333399"/>
                </a:solidFill>
                <a:latin typeface="Arial"/>
              </a:rPr>
              <a:t>Electronic Prescribing</a:t>
            </a:r>
            <a:br>
              <a:rPr sz="4000"/>
            </a:br>
            <a:r>
              <a:rPr b="0" i="1" lang="en-US" sz="4000" spc="-1" strike="noStrike">
                <a:solidFill>
                  <a:srgbClr val="333399"/>
                </a:solidFill>
                <a:latin typeface="Arial"/>
                <a:ea typeface="Arial"/>
              </a:rPr>
              <a:t>§411.357(v)</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vered Technology inclu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ems and services that are necessary and used solely to transmit and receive electronic prescription inform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ardware, software, internet connectivity, and training and support services.</a:t>
            </a:r>
            <a:endParaRPr b="0" lang="en-US" sz="3200" spc="-1" strike="noStrike">
              <a:solidFill>
                <a:srgbClr val="000000"/>
              </a:solidFill>
              <a:latin typeface="Arial"/>
            </a:endParaRPr>
          </a:p>
        </p:txBody>
      </p:sp>
      <p:pic>
        <p:nvPicPr>
          <p:cNvPr id="51" name="" descr=""/>
          <p:cNvPicPr/>
          <p:nvPr/>
        </p:nvPicPr>
        <p:blipFill>
          <a:blip r:embed="rId1"/>
          <a:stretch/>
        </p:blipFill>
        <p:spPr>
          <a:xfrm>
            <a:off x="7162920" y="457200"/>
            <a:ext cx="1724040" cy="1760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Arial"/>
              </a:rPr>
              <a:t>Electronic Prescribing</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ndards with Which Donated Technology Must Compl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pplicable standards for electronic prescribing under Part D (currently, the first set of these standards is codified at §423.16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onors and Recipi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s required by statute, hospitals to members of their medical staffs; group practices to physician members; PDP sponsors and MA organizations to prescribing physicia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333399"/>
                </a:solidFill>
                <a:latin typeface="Arial"/>
              </a:rPr>
              <a:t>Electronic Prescribing</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ection of Recipient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onors may not take into account directly or indirectly the volume or value of referrals from the recipient or other business generated between the part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ue of Protected Technolog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 limit on the value of donations of electronic prescribing technology.</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xpiration of the Excep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N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00"/>
                </a:solidFill>
                <a:latin typeface="Arial"/>
              </a:rPr>
              <a:t>Electronic Health Records </a:t>
            </a:r>
            <a:r>
              <a:rPr b="0" i="1" lang="en-US" sz="4000" spc="-1" strike="noStrike">
                <a:solidFill>
                  <a:srgbClr val="ff0000"/>
                </a:solidFill>
                <a:latin typeface="Arial"/>
                <a:ea typeface="Arial"/>
              </a:rPr>
              <a:t>§411.357(w)</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vered Technology includ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necessary and used predominantly to create, maintain, transmit, or receive electronic health records.  Software packages may include functions related to patient administration, for example, scheduling functions, billing, and clinical suppor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must include electronic prescribing capability.</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ormation technology and training services, which would include, for example, internet connectivity and help desk support services. </a:t>
            </a:r>
            <a:endParaRPr b="0" lang="en-US" sz="2800" spc="-1" strike="noStrike">
              <a:solidFill>
                <a:srgbClr val="000000"/>
              </a:solidFill>
              <a:latin typeface="Arial"/>
            </a:endParaRPr>
          </a:p>
        </p:txBody>
      </p:sp>
      <p:pic>
        <p:nvPicPr>
          <p:cNvPr id="58" name="" descr=""/>
          <p:cNvPicPr/>
          <p:nvPr/>
        </p:nvPicPr>
        <p:blipFill>
          <a:blip r:embed="rId1"/>
          <a:stretch/>
        </p:blipFill>
        <p:spPr>
          <a:xfrm>
            <a:off x="6248520" y="838080"/>
            <a:ext cx="2019240" cy="114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Electronic Health Records</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ndard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prescribing capability must comply with the applicable standards for electronic prescribing under Part D (currently, the first set of these standards is codified at §423.160).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ctronic health records software must be interoperable. Software may be deemed interoperable under certain circumstanc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80880" y="6854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0000"/>
                </a:solidFill>
                <a:latin typeface="Arial"/>
              </a:rPr>
              <a:t>Electronic Health Records</a:t>
            </a:r>
            <a:endParaRPr b="0" lang="en-US" sz="4400" spc="-1" strike="noStrike">
              <a:solidFill>
                <a:srgbClr val="000000"/>
              </a:solidFill>
              <a:latin typeface="Arial"/>
            </a:endParaRPr>
          </a:p>
        </p:txBody>
      </p:sp>
      <p:sp>
        <p:nvSpPr>
          <p:cNvPr id="62"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onors and Recip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tities that furnish designated health services (DHS) to any physicia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15:19:14Z</dcterms:created>
  <dc:creator>Linda Howard</dc:creator>
  <dc:description/>
  <dc:language>en-US</dc:language>
  <cp:lastModifiedBy>CMS</cp:lastModifiedBy>
  <dcterms:modified xsi:type="dcterms:W3CDTF">2006-08-22T15:57:16Z</dcterms:modified>
  <cp:revision>4</cp:revision>
  <dc:subject/>
  <dc:title>Physicians’ Referrals to Health Care Entities With Which They Have Financial Relationship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2141824258</vt:r8>
  </property>
  <property fmtid="{D5CDD505-2E9C-101B-9397-08002B2CF9AE}" pid="3" name="_AuthorEmail">
    <vt:lpwstr>robin.phillips@cms.hhs.gov</vt:lpwstr>
  </property>
  <property fmtid="{D5CDD505-2E9C-101B-9397-08002B2CF9AE}" pid="4" name="_AuthorEmailDisplayName">
    <vt:lpwstr>Phillips, Robin R. (CMS/CMM)</vt:lpwstr>
  </property>
  <property fmtid="{D5CDD505-2E9C-101B-9397-08002B2CF9AE}" pid="5" name="_EmailSubject">
    <vt:lpwstr>August 28th PPAC files</vt:lpwstr>
  </property>
  <property fmtid="{D5CDD505-2E9C-101B-9397-08002B2CF9AE}" pid="6" name="_NewReviewCycle">
    <vt:lpwstr/>
  </property>
  <property fmtid="{D5CDD505-2E9C-101B-9397-08002B2CF9AE}" pid="7" name="_PreviousAdHocReviewCycleID">
    <vt:r8>203500909</vt:r8>
  </property>
</Properties>
</file>