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8BA-19AA-4C69-BCC5-B0A67CF9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51E-8DCE-4D50-86F6-F9E36EB7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512-3159-416E-805F-BE8262AA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642-A211-4571-96AE-DD4598A9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FABA-8461-4278-AD29-BED452DE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D4C8-06F6-4B6B-BF3C-09D3D194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D087-1551-4562-8871-E43A4E96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5E4F-3817-4B0C-9AF3-AE57C962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B12E-C59F-4CA0-BEFC-3317578C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CAE7-0A53-476E-92EC-7F31E8D5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0D0E-6954-4BC6-9653-D3387F57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13D-E50B-49AA-9CCE-35F725A5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1758-2A2F-4FD9-8113-4264B9BC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AA45-BF76-4F7B-B410-0F7C0DD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7C05-7CB8-4772-AEEC-9877C205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FB9F-24DB-4854-AD4E-58477C0C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14D8-19F8-4B9C-A592-354F8E19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7F7-0841-4250-9038-E8A5151C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6CA-2E08-40DB-8C95-961FBBEA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BEF-B878-48BC-A912-A3940ABA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302-51BC-482C-B0CC-5F184707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D0E-59A3-4AC6-B724-044132E5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3B3-30FE-49B7-B5A5-340AAAB7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8D5-923F-4D72-9C24-601A0690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B5B8-FF33-4930-800C-6FC4AACA6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E5F3-2DF7-4E8D-9CEB-792402596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Connie.Leonard@cms.hhs.gov" TargetMode="External"/><Relationship Id="rId2" Type="http://schemas.openxmlformats.org/officeDocument/2006/relationships/hyperlink" Target="mailto:Melanie.Combs@cms.hhs.gov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Recovery Audit Contractors (RACs)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FY 2006 Find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Jerry Walters, Director Financial Services Group, C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Connie Leonard, RAC Project Officer, C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Melanie Combs, RN, RAC Technical Advi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12/4/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DC5-6772-43D7-BEF2-D4A8E4E2A0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FY 2006 Improper Payments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by Provider Type </a:t>
            </a:r>
            <a:r>
              <a:rPr b="0" i="1" lang="en-US" sz="3200" spc="-1" strike="noStrike">
                <a:solidFill>
                  <a:srgbClr val="003399"/>
                </a:solidFill>
                <a:latin typeface="Berlin Sans FB"/>
              </a:rPr>
              <a:t>(Claim RACs Only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600200" y="2355840"/>
          <a:ext cx="6934320" cy="32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5840"/>
                    <a:ext cx="693432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A99-624E-41A4-8CD2-CF123A5988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FY 2006 Improper Payments 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by Provider Type </a:t>
            </a:r>
            <a:r>
              <a:rPr b="0" i="1" lang="en-US" sz="3200" spc="-1" strike="noStrike">
                <a:solidFill>
                  <a:srgbClr val="003399"/>
                </a:solidFill>
                <a:latin typeface="Berlin Sans FB"/>
              </a:rPr>
              <a:t>(Claim RACs only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4480" y="1600200"/>
          <a:ext cx="8629560" cy="4608360"/>
        </p:xfrm>
        <a:graphic>
          <a:graphicData uri="http://schemas.openxmlformats.org/drawingml/2006/table">
            <a:tbl>
              <a:tblPr/>
              <a:tblGrid>
                <a:gridCol w="968040"/>
                <a:gridCol w="897120"/>
                <a:gridCol w="878040"/>
                <a:gridCol w="973080"/>
                <a:gridCol w="642960"/>
                <a:gridCol w="693720"/>
                <a:gridCol w="922320"/>
                <a:gridCol w="866520"/>
                <a:gridCol w="968400"/>
                <a:gridCol w="819360"/>
              </a:tblGrid>
              <a:tr h="611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million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der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million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mproper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verpayments + Underpayment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million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ct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5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he Que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Identifi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i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c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h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Identifi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cted/ Paid Bac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he Que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Identifi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ians, Ambulance,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, Other carrier-bill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4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7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4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7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ME, prosthetics, orthotics, suppli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patient Hospt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2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4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6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2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4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6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F,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patient Hospit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9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74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24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2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82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34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4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24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289.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7.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32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299.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5AA-82BF-4893-BB2E-D23B3217D45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666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FY 2006 Average Overpayment Amounts </a:t>
            </a:r>
            <a:r>
              <a:rPr b="0" i="1" lang="en-US" sz="3600" spc="-1" strike="noStrike">
                <a:solidFill>
                  <a:srgbClr val="003399"/>
                </a:solidFill>
                <a:latin typeface="Berlin Sans FB"/>
              </a:rPr>
              <a:t>(Claim RACs onl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4480" y="1828800"/>
          <a:ext cx="8610480" cy="4586400"/>
        </p:xfrm>
        <a:graphic>
          <a:graphicData uri="http://schemas.openxmlformats.org/drawingml/2006/table">
            <a:tbl>
              <a:tblPr/>
              <a:tblGrid>
                <a:gridCol w="974520"/>
                <a:gridCol w="1381320"/>
                <a:gridCol w="1136520"/>
                <a:gridCol w="1138320"/>
                <a:gridCol w="1461960"/>
                <a:gridCol w="1217520"/>
                <a:gridCol w="1300320"/>
              </a:tblGrid>
              <a:tr h="579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75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 LETT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 PROVIDER du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 LETT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 PROVIDER du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 LETT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 PROVIDER du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b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 Carrier-Bill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patient Hospita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2,3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patient Hospitals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5,8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64,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E22-9E9A-4D27-B735-E5F292F6CC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FY 2006 Appeal Information </a:t>
            </a:r>
            <a:r>
              <a:rPr b="0" i="1" lang="en-US" sz="3600" spc="-1" strike="noStrike">
                <a:solidFill>
                  <a:srgbClr val="003399"/>
                </a:solidFill>
                <a:latin typeface="Berlin Sans FB"/>
              </a:rPr>
              <a:t>(Claim RACs onl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43000" y="2209680"/>
          <a:ext cx="7799400" cy="3936960"/>
        </p:xfrm>
        <a:graphic>
          <a:graphicData uri="http://schemas.openxmlformats.org/drawingml/2006/table">
            <a:tbl>
              <a:tblPr/>
              <a:tblGrid>
                <a:gridCol w="1676520"/>
                <a:gridCol w="1623960"/>
                <a:gridCol w="1347840"/>
                <a:gridCol w="1500120"/>
                <a:gridCol w="1650960"/>
              </a:tblGrid>
              <a:tr h="101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f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vid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5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ians, Ambulance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, Other carrier-bill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ME, prosthetics, orthotics, suppl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patient Hospta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F, Inpatient Hospita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3F4-98E2-4B5A-8607-6454AFCB72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Examples of Overpaid DRG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43000" y="1295280"/>
          <a:ext cx="7620120" cy="55008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28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kin graft &amp;/or debridement for skin ulcer or cellulitis (26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INCORRECT CODING:  Provider billed for “excisional” debridement but…                                                                                                     The coding guidelines define excisional debridement as cutting and removing tissue while non-excisional debridement involves scraping away tissue.   The RACs found a number of cases where the  medical record failed to meet the definition of excisional debridement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und debridement and skin graft, exc. hand for musculoskeletal and connective tissue disease (217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INCORRECT CODING:  same as abo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Medical back problems (24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NOT MEDICALLY NECESSARY:  Services could have been provided as an outpatient (probably represent cases where the provider admitted the beneficiary for 3 days in order to qualify for SNF coverage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E99-149D-4E68-BAEF-51597567CB5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Examples of Overpaid  HCP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70000" y="1946160"/>
          <a:ext cx="7628040" cy="3821400"/>
        </p:xfrm>
        <a:graphic>
          <a:graphicData uri="http://schemas.openxmlformats.org/drawingml/2006/table">
            <a:tbl>
              <a:tblPr/>
              <a:tblGrid>
                <a:gridCol w="7628040"/>
              </a:tblGrid>
              <a:tr h="14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Injection, pegfilgrastim 6mg (J2505) -- Neulas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INCORRECT CODING:  Provider billed one service per 1mg but….                                                                                                       Definition of this code is one unit per 6mg vial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peech/hearing therapy (92507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INCORRECT CODING:  Provider billed one service for each 15 minutes but….                                                                                                       . Definition of this code is one unit per s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lood transfusion service (3643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INCORRECT CODING:  Provider billed one service per unit of blood but….                                                                                                       . Definition of this code is one unit per transfusion s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33D-400B-4F83-B1DA-A108CAC1D0A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Summary of Finding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1080" y="1752480"/>
            <a:ext cx="782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Cs 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dentify overpayments and underpay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ACs are identifying about $19M/mo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echnical and procedural hurdles have been identifi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solutions are being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EB3-C1B3-433A-A1E9-59E64C55CD2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Next Step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vember 2006: CMS Released a RAC Status Docu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6080" indent="-3812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play overpayments &amp; underpay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2038320" indent="-380880"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y provider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2038320" indent="-380880"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y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2038320" indent="-380880"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y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6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alyze Fin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velop Corrective Ac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6080" indent="-3812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tai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6080" indent="-3812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ate-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2895480"/>
            <a:ext cx="29718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es of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 Status 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BE9-B03F-4D7A-B67B-837A1B0F7A5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28800" y="2499840"/>
            <a:ext cx="63244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nie Leon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onnie.Leonard@cms.hhs.gov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elanie Combs, R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lanie.Combs@cms.hhs.gov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266-F6C2-4AF0-AA39-EE7E34B7907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ww.cms.hhs.gov/R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17B-F2C8-4A19-9615-FFB4E44624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scription of the Demon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ndings – FY 2006 Improper Pay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tion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y jurisdi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y Provider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verage Overpayment Am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xamples of Overpaid DRG &amp; HCPC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562-65C9-40A8-8424-FB732CCDA0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Questions for the Counci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y Questions for CMS about the RAC Dem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could we improve this slide presenta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ith Respect to the FY 2006 RAC Status Documen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re we capturing the right da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 there a better way to display the data we capture?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 the document too long, too short, or just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477-8A87-4F8E-899E-842446A25A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Questions for the Counci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322280" y="209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could we improve this slide presenta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ith Respect to the FY 2006 RAC Status Documen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re we capturing the right da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 there a better way to display the data we capture?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 the document too long, too short, or just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299-40D8-4CAF-91DD-75F31E39A3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Description of Demonstr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edicare Modernization Act Section 306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quired CMS to evaluate the use of RA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o identify Medicare underpayments and overpay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o recover overpay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wo Types of RAC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laim R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edicare Secondary Payer (MSP) R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410080"/>
            <a:ext cx="3276360" cy="114300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3 Claim RACs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A: PRG Shult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L: Health Data Insights, In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NY: Connolly Consul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5410080"/>
            <a:ext cx="3276720" cy="114300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3 MSP RACs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A: Diversified Collections Gro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L: Public Consulting Grou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NY: Public Consulting Gro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991-6437-4B3A-8081-530DC94896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Description of Demonstr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ACs are paid contingency fe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r overpayments collected from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r underpayments identified and returned to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3-year demonstration (3/05 – 3/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ACs were given 4 years of clai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October 1, 2001 – September 31, 20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database was created to exclude claims from the RACs claims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re previously reviewed by a Medicare contractor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re involved in a benefit integrity investig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496-B531-4A93-BB7A-38D085E828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523880" y="1752480"/>
          <a:ext cx="7418520" cy="2955960"/>
        </p:xfrm>
        <a:graphic>
          <a:graphicData uri="http://schemas.openxmlformats.org/drawingml/2006/table">
            <a:tbl>
              <a:tblPr/>
              <a:tblGrid>
                <a:gridCol w="838440"/>
                <a:gridCol w="1371600"/>
                <a:gridCol w="304560"/>
                <a:gridCol w="1524240"/>
                <a:gridCol w="380880"/>
                <a:gridCol w="1295280"/>
                <a:gridCol w="260640"/>
                <a:gridCol w="1442880"/>
              </a:tblGrid>
              <a:tr h="10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payments Collec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milli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payments Paid Back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milli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The Que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milli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mproper Payments Identifi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milli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68.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2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23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303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s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$14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5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 to the Trust F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9220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FY 2006 Improper Payments</a:t>
            </a:r>
            <a:br>
              <a:rPr sz="4400"/>
            </a:br>
            <a:r>
              <a:rPr b="0" i="1" lang="en-US" sz="3200" spc="-1" strike="noStrike">
                <a:solidFill>
                  <a:srgbClr val="003399"/>
                </a:solidFill>
                <a:latin typeface="Berlin Sans FB"/>
              </a:rPr>
              <a:t>(MSP and Claim RACs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32116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llected”</a:t>
            </a: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 = dollars in the bank (cases lost on appeal have been backed out… contingency fees have NOT been backed out)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in the queue”</a:t>
            </a: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 = dollars determined by the RAC to be overpayments but still in the collection process at the RAC or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                           </a:t>
            </a: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carrier/DMERC/FI; overpayment demand letter has been sent to the provider in about half the c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identified”</a:t>
            </a: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 = dollars collected + dollars in the que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sts”</a:t>
            </a: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 = RAC contingency fees ($12M) + carrier/DMERC/FI costs ($1M) + RAC Evaluation/Database ($1.5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434340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4038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08040" y="1984320"/>
            <a:ext cx="11970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08040" y="1984320"/>
            <a:ext cx="11970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05B-B0B0-42C4-9E8E-00759D220F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FY 2006 Improper Payments</a:t>
            </a:r>
            <a:br>
              <a:rPr sz="4400"/>
            </a:br>
            <a:r>
              <a:rPr b="0" i="1" lang="en-US" sz="3200" spc="-1" strike="noStrike">
                <a:solidFill>
                  <a:srgbClr val="003399"/>
                </a:solidFill>
                <a:latin typeface="Berlin Sans FB"/>
              </a:rPr>
              <a:t>(MSP and Claim RACs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3880" y="2328840"/>
          <a:ext cx="7086600" cy="33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28840"/>
                    <a:ext cx="708660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245600" y="5924520"/>
            <a:ext cx="7296120" cy="398880"/>
          </a:xfrm>
          <a:prstGeom prst="rect">
            <a:avLst/>
          </a:prstGeom>
          <a:solidFill>
            <a:srgbClr val="c5e2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aim RACs generated the majority of the collections ($64.6 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974-F741-4924-9BEC-207697E10C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FY 2006 Improper Payments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by Type of Improper Payment  </a:t>
            </a:r>
            <a:r>
              <a:rPr b="0" i="1" lang="en-US" sz="3200" spc="-1" strike="noStrike">
                <a:solidFill>
                  <a:srgbClr val="003399"/>
                </a:solidFill>
                <a:latin typeface="Berlin Sans FB"/>
              </a:rPr>
              <a:t>(Claim RACs Only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47920" y="2328840"/>
          <a:ext cx="7162560" cy="33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28840"/>
                    <a:ext cx="716256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518840" y="5772240"/>
            <a:ext cx="7053840" cy="398880"/>
          </a:xfrm>
          <a:prstGeom prst="rect">
            <a:avLst/>
          </a:prstGeom>
          <a:solidFill>
            <a:srgbClr val="c5e2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Cs found $ 10.4M in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derpayment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from Jul05 – Aug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F8D-8BE8-41B5-9F92-F1C1B3A97C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FY 2006 Improper Payments 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by Jurisdiction </a:t>
            </a:r>
            <a:r>
              <a:rPr b="0" i="1" lang="en-US" sz="3200" spc="-1" strike="noStrike">
                <a:solidFill>
                  <a:srgbClr val="003399"/>
                </a:solidFill>
                <a:latin typeface="Berlin Sans FB"/>
              </a:rPr>
              <a:t>(Claim RACs only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1600200"/>
          <a:ext cx="8839080" cy="457344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990720"/>
                <a:gridCol w="990720"/>
                <a:gridCol w="685800"/>
                <a:gridCol w="761760"/>
                <a:gridCol w="914400"/>
                <a:gridCol w="914400"/>
                <a:gridCol w="914400"/>
                <a:gridCol w="914400"/>
              </a:tblGrid>
              <a:tr h="828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million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der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million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mproper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verpayments + Underpayment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million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ct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5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he Que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Identifi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i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c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h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Identifi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cted/ Paid Bac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he Que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Identifi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7f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5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1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9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3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5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2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50.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5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25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5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4.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24.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89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3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9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8BC-3ABF-4B52-BC13-13B58088B6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6-12-19T16:34:5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1401486</vt:r8>
  </property>
  <property fmtid="{D5CDD505-2E9C-101B-9397-08002B2CF9AE}" pid="3" name="_AuthorEmail">
    <vt:lpwstr>robin.phillips@cms.hhs.gov</vt:lpwstr>
  </property>
  <property fmtid="{D5CDD505-2E9C-101B-9397-08002B2CF9AE}" pid="4" name="_AuthorEmailDisplayName">
    <vt:lpwstr>Phillips, Robin R. (CMS/CMM)</vt:lpwstr>
  </property>
  <property fmtid="{D5CDD505-2E9C-101B-9397-08002B2CF9AE}" pid="5" name="_EmailSubject">
    <vt:lpwstr>PPAC - December 4th - Web posting</vt:lpwstr>
  </property>
  <property fmtid="{D5CDD505-2E9C-101B-9397-08002B2CF9AE}" pid="6" name="_NewReviewCycle">
    <vt:lpwstr/>
  </property>
  <property fmtid="{D5CDD505-2E9C-101B-9397-08002B2CF9AE}" pid="7" name="_PreviousAdHocReviewCycleID">
    <vt:r8>1888097788</vt:r8>
  </property>
</Properties>
</file>