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119-2ABA-4632-94C4-8941A4CA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900-DE75-4FCD-AD2A-D7A81D1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5B3-4B82-46E8-8B6F-68D80797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BF7-4E00-4A65-88AE-3D89AC90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6D4C-E03C-43D0-A27B-2DCF04E2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9540-E551-4F92-9858-91E303A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FB8E-E992-4FD5-8D74-3A50990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236-8B9B-4349-ACAA-F3593F07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AC98-0945-4C05-B535-2173322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160-67CE-491E-8421-6CC2EAAB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5AF-E540-40D1-8EC4-C834E9A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568-4407-4716-9D1C-28377F64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2AE5-69E7-441E-8461-F9D0EEF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7D1-44EB-4338-BE5F-B0A884D2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ED9-E4BF-4DDB-873C-F0605A0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BAA0-D681-438D-881B-ABBE7D90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9ED0-3998-4B41-AA22-238D134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E3F-16DE-4CAA-95FA-0333A5B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7C3-F894-4BC1-8986-C79A33A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EBB-9BF1-4D06-9BD5-C49A7A33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9F2-1481-42BC-8026-86532F5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AD6-3436-4A9C-A502-9E212E1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064-6B0F-41AC-94FD-420835E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96D-7F91-46B4-B258-F6B0DC36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1848-3445-4060-8F41-6AC90B9D0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8D6D-5544-499D-B805-E060221E5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hysician Fee Schedule Update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Amy Bassano and Edith Hambr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ecember 4,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633-C197-4A27-980C-6574ECDA21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2007 Fee Schedule Proposed Ru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MS -1512-PN June 29,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sults of 5-year review o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poses changes to methodology to calculate practice exp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MS-1321-P August 22,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nual update to physician fee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A policy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arious other Part B payment policy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9D3-0463-4AED-9C9B-B5F1EB2B6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2007 Final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 display at Federal Register on Nov. 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blished in Federal Register Dec. 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undreds of comment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009-53C4-4274-BAEB-D28C6A1E6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Major Provisions of Final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major changes in policy from proposed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5 year review o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actice exp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nouncement of 2007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aging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ltrasound screening for Abdominal Aortic Aneury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aiver of Part B deductible for Colorectal cancer scre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EB5-2538-4FE0-B4FC-38932ED1D0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iscussion Items in Final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apy C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ceptions process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nounces cap amount for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iration of MMA mandated 1.0 GPCI fl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alth Information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FC6-F7E3-4769-90CE-267515964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ther Part B policy issues in Final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DTF supplier standards finalized with several small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P reporting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SR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nical Lab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mbulance Fee Schedu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d Lab” provision not finalized in this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A56-027C-45BB-938B-226F5E410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my Bassano (410)786-30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my.bassano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813-1E7C-4DF8-B176-FC28C56794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12-19T16:09:4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6199030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PPAC - December 4th - Web posting</vt:lpwstr>
  </property>
  <property fmtid="{D5CDD505-2E9C-101B-9397-08002B2CF9AE}" pid="6" name="_NewReviewCycle">
    <vt:lpwstr/>
  </property>
</Properties>
</file>