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4F1B-D2FE-45C8-948E-B98DAAFD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345E-7493-4B91-800D-EB41DE52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002B-2495-4538-B7EF-57D887FD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E2B-C03D-47EE-BB7E-1C1A7D32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6B9-CF1C-4678-8E07-EEA00635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480-4248-419C-9576-7BD7197D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8B1-4E7F-4D48-B698-12560C57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9351-6A78-48AB-AD5F-EC751188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FC27-5621-41E5-A586-DDD4A03F7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05F9-BC45-4BBC-9909-15A3C65C0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F6C0-7BE4-4937-AB47-7FA8A783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EB4-45F3-4BCF-9C9F-349A8893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9808-4114-4A0F-9C86-A976C9A8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F7A-D2C8-4CA7-8D4B-05DE8926A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39B-0E11-480F-AEAC-CC7304902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7499-8282-40E1-8B2F-447BA78B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885A-BD94-46B8-BDAE-CF7144C0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71A-4CF1-4C10-AF26-C4F19B18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087-F4F4-42DD-B89B-FAE0F366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6B5B-9D7F-4E6E-9F96-7CA60912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86A-C35B-417F-8919-119D0E39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0C6-191D-4D2F-AD68-41C994E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7D5-D0FE-41BE-808C-E91DC87A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15A-CD4C-45EB-8C94-F78F95A7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F995-7D21-4D14-A71C-6CF674C8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1EC-02D1-4891-8A57-B3E2117D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E70-62B6-4474-BECD-9C9C3CA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2646-6787-4B15-A3C9-F1B51A2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67C-9199-470A-87E5-A2F0B3F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589F-5449-41AF-818D-BBFB3843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CC9-9139-4F6C-8FF2-1F5F1D7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C1A-7306-46C4-A243-1D7327CF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0C6C-CC56-4C04-975E-689CCE7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7F0-E85E-4C3B-A094-E25FACB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885-AF3F-4CED-8648-6E86637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5DA-2123-4CE8-B3B1-4B671545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BFE-8604-42DA-885C-D4B0DFD5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EA3-4474-4732-A9C6-31FE1420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491-C954-403C-91F8-7710DC72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F2F-04BD-4A61-81F2-C4D3381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A6D-E087-4E96-BFDC-B1EC2DD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0DA-F9E1-4CF4-9E48-746BD4D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E1D-2BA8-4947-AF4B-B58C0E60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4AF-85D0-4AEB-BFD5-93A6A274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1868-8A99-4216-9944-D6223CAAEC9D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37" name=""/>
          <p:cNvGraphicFramePr/>
          <p:nvPr/>
        </p:nvGraphicFramePr>
        <p:xfrm>
          <a:off x="6751800" y="6031080"/>
          <a:ext cx="167616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51800" y="6031080"/>
                    <a:ext cx="1676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7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9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5"/>
          </p:nvPr>
        </p:nvSpPr>
        <p:spPr>
          <a:xfrm>
            <a:off x="35812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A9FC-A02E-4EBB-8675-8A2A8B2890E2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780240" y="6018120"/>
          <a:ext cx="1676520" cy="81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0240" y="6018120"/>
                    <a:ext cx="167652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22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 Contractor Provider Satisfaction Survey (MCPSS)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7560" y="3123720"/>
            <a:ext cx="7391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2007 Administratio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December 4, 2006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About the Scores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ores range from 1-6, where 1 is “not at all satisfied” and 6 was “completely satisfied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ores presented by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ractor and Provider Ty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ractor and Business f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vider Type and Business f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73A-9368-4918-A820-A84F9A31A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2006 Results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viders report satisfa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2362320"/>
          <a:ext cx="655308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362320"/>
                    <a:ext cx="65530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785-02B5-463F-BD11-500E8D345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MCPSS 2006 Results: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Part B Providers</a:t>
            </a:r>
            <a:endParaRPr b="0" lang="en-US" sz="40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inor differences in composite survey scores for Part B provid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881360" y="2666880"/>
          <a:ext cx="566244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1360" y="2666880"/>
                    <a:ext cx="56624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104-F9FC-4E74-96AA-F64DD8B7BC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MCPSS 2006 Results </a:t>
            </a:r>
            <a:endParaRPr b="0" lang="en-US" sz="40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371600" y="990720"/>
          <a:ext cx="7162920" cy="5549760"/>
        </p:xfrm>
        <a:graphic>
          <a:graphicData uri="http://schemas.openxmlformats.org/drawingml/2006/table">
            <a:tbl>
              <a:tblPr/>
              <a:tblGrid>
                <a:gridCol w="2055960"/>
                <a:gridCol w="763560"/>
                <a:gridCol w="925560"/>
                <a:gridCol w="903240"/>
                <a:gridCol w="990360"/>
                <a:gridCol w="1524240"/>
              </a:tblGrid>
              <a:tr h="66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tractor Typ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arri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RHH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DMER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PHYSICIA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mposite Scor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4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Inquiri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mmunic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4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3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laims Processing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8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9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ppeal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2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Enroll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8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Med. Review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5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udit &amp; Reimburse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.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122-1F12-4352-9C35-9C1FD1449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Predictors of Satisfac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purpose of this analysis was to identify the factors that drive providers’ overall satisfaction with Medicare contractors.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s can guide contractor efforts to improve overall satisfaction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041-F43B-432C-8BEC-15D6D17CE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523880" y="3581280"/>
          <a:ext cx="58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58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Predictors of Satisfac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05120" y="1676520"/>
          <a:ext cx="548640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676520"/>
                    <a:ext cx="548640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BAD-E614-4AA2-9CEE-040E51B67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2007 MCPSS Administra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ill allow CMS to establish a basis for trend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provements made to the methodology (based on 2006 experience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o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3399"/>
                </a:solidFill>
                <a:latin typeface="Times New Roman"/>
              </a:rPr>
              <a:t>Shorten “cycle time” from administration to reporting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imes New Roman"/>
              </a:rPr>
              <a:t>Expand outreach to increase awareness and saliency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C16-C660-4C17-B2E5-E62459B5B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MCPSS Sample in 2007 </a:t>
            </a:r>
            <a:endParaRPr b="0" lang="en-US" sz="40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Sample size 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Recurring sampled providers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Provider types 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New secondary focus on State level estimates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6E8-1F89-4DC1-95A2-6A0FAB429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2007 Data Collec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13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ta Collection Perio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January 2007 – April 2007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mproved Methods to Shorten “Cycle Time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mproved screening procedures to locate respond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of interim data to test procedur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B58-3C86-4856-9D6F-80E6F9ED0D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Response Rates in 2007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2007, Westat has developed strategies for narrowing the ga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utreach Effor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oritization of providers in strata that had low 2006 response ra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-prioritization midway thru data collection (based on actual 2007 performance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384-B0D0-4B64-8E66-DFD3B66D5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99"/>
                </a:solidFill>
                <a:latin typeface="Berlin Sans FB"/>
              </a:rPr>
              <a:t>Overview</a:t>
            </a:r>
            <a:endParaRPr b="0" lang="en-US" sz="46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avid Clar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vision of Provider Relations &amp; Evaluations, Provider Communications Grou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sive testing conducted in 200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put from subject matter experts at C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gnitive testing with provid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s different in the 2007 instru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horter by ten ques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ference period is now “12 months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stions on NPI, for C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cludes questions that will be used by CMS to further analyze provider satisfa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2007 Survey Instrument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43B-49FF-4B1D-B9B4-1D584E1B67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Review of Key Milestones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1752480"/>
          <a:ext cx="7086240" cy="4038480"/>
        </p:xfrm>
        <a:graphic>
          <a:graphicData uri="http://schemas.openxmlformats.org/drawingml/2006/table">
            <a:tbl>
              <a:tblPr/>
              <a:tblGrid>
                <a:gridCol w="5073120"/>
                <a:gridCol w="201312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edia kit for provider outreach/communications available at www.mcpsstudy.or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ctober 23, 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reate hyperlink on Contractor’s  Web site to MCPSS web page at: www.cms.hhs.gov/mcpss and www.mcpsstudy.or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y December 15, 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ta Collection Begi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n or before January 2, 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ta collection reports and study updates will be availab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eginning January 15, 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ost messages on your IVR or ACD systems and SPR notices to encourage participation survey among nonresponding provider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ebruary 1 2007 throug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pril 15, 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ta Collection Clos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pril 28, 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esults available via online reporting syste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arly July 2007 (or sooner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F2B-07EE-4765-ACBB-4E11193CA3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Berlin Sans FB"/>
              </a:rPr>
              <a:t>Questions for Council Members</a:t>
            </a:r>
            <a:endParaRPr b="0" lang="en-US" sz="42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Recommendations on ways that we can further increase survey compliance among physician practices?</a:t>
            </a:r>
            <a:br>
              <a:rPr sz="2500"/>
            </a:b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How can we reduce refusals?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Are there select physicians and stakeholder groups whose endorsement of  MCPSS may increase participation?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376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Contact Informa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CPSS Helpline at Westat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cpss@westat.co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r Contr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Lauren Shrader: 1-888-721-710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r Provid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Joshua Rubin: 1-888-863-3561</a:t>
            </a:r>
            <a:r>
              <a:rPr b="0" lang="en-US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M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ladys Valentin: Gladys.Valentin@cms.hhs.gov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olette Shatto: Colette.Shatto@cms.hhs.gov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or updates on the MCPS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www.mcpsstudy.org OR www.cms.hhs.gov/mcp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5E6-1C8E-42F1-A2C8-C660DC5E37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8120" y="35856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verview of Presentation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6560" indent="-736560">
              <a:spcBef>
                <a:spcPts val="649"/>
              </a:spcBef>
              <a:spcAft>
                <a:spcPts val="108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Overview of the MCPSS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736560" indent="-736560">
              <a:spcBef>
                <a:spcPts val="649"/>
              </a:spcBef>
              <a:spcAft>
                <a:spcPts val="108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Results from the 2006 MCPSS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736560" indent="-736560">
              <a:spcBef>
                <a:spcPts val="649"/>
              </a:spcBef>
              <a:spcAft>
                <a:spcPts val="108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The 2007 Survey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lvl="1" marL="1092240" indent="-635040">
              <a:spcAft>
                <a:spcPts val="213"/>
              </a:spcAft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Changes in the Survey Methodology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lvl="1" marL="1092240" indent="-635040">
              <a:spcAft>
                <a:spcPts val="1089"/>
              </a:spcAft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Times New Roman"/>
              </a:rPr>
              <a:t>Expectations for 2007 Survey Results</a:t>
            </a: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  <a:p>
            <a:pPr marL="736560" indent="0">
              <a:spcBef>
                <a:spcPts val="649"/>
              </a:spcBef>
              <a:spcAft>
                <a:spcPts val="10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CCF-6B43-4B9D-9C09-9FCB16CC9E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Overview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CPSS 2006 National Implement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690840" indent="-26568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53 Contractor samples (representing 42 FFS Medicare Contractors)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690840" indent="-26568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Initial sample of 28,800 providers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690840" indent="-26568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Weighted Response Rate of 65%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CPSS 2007 National Implement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690840" indent="-26568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50 Contractor samples (representing 39 FFS Medicare Contractors / MACs)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690840" indent="-26568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Initial sample 36,000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1B7-6599-48EF-BBE4-B0D77D13E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Methodology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CPSS 2006 National Implement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Web, and non-response follow-up by telephone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Jan 3, 2006-May 5, 2006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CPSS 2007 National Implement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Web and telephone, with non-response follow-up by telephone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Screening began Nov. 28, 2006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Times New Roman"/>
              </a:rPr>
              <a:t>Web survey begins Jan. 2, 2007</a:t>
            </a:r>
            <a:endParaRPr b="0" lang="en-US" sz="31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C1D-85A2-4973-885C-F51CE6B90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2006 Results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Vasudha Narayanan, MCPSS Project Direc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amela Giambo, MCPSS Deputy P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st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C92-6C11-4986-B1FB-E50ABA536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CPSS 2006 Response Rates</a:t>
            </a:r>
            <a:endParaRPr b="0" lang="en-US" sz="44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1828800"/>
          <a:ext cx="5486400" cy="4056120"/>
        </p:xfrm>
        <a:graphic>
          <a:graphicData uri="http://schemas.openxmlformats.org/drawingml/2006/table">
            <a:tbl>
              <a:tblPr/>
              <a:tblGrid>
                <a:gridCol w="4376520"/>
                <a:gridCol w="1109880"/>
              </a:tblGrid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otal Sampl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,83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mpleted Survey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6,12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Partial Comple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efusal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neligible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,05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ndl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,5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ther Non-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,09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Unknown Eligibility [i.e., Non-locatables and Language Problems]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,59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esponse Rat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4.8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AAF-2609-48B7-B6DA-0055B41F2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MCPSS 2006 Response Rat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by Contractor Type</a:t>
            </a:r>
            <a:endParaRPr b="0" lang="en-US" sz="40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0" y="2057400"/>
          <a:ext cx="5410080" cy="39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7400"/>
                    <a:ext cx="541008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B17-6B3A-4A3D-9FB3-2907E3ECB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Part B 2006 Response Rates: </a:t>
            </a:r>
            <a:endParaRPr b="0" lang="en-US" sz="4000" spc="-1" strike="noStrike">
              <a:solidFill>
                <a:srgbClr val="003399"/>
              </a:solidFill>
              <a:latin typeface="Berlin Sans FB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00200" y="1752480"/>
          <a:ext cx="6095880" cy="4186440"/>
        </p:xfrm>
        <a:graphic>
          <a:graphicData uri="http://schemas.openxmlformats.org/drawingml/2006/table">
            <a:tbl>
              <a:tblPr/>
              <a:tblGrid>
                <a:gridCol w="3886200"/>
                <a:gridCol w="990720"/>
                <a:gridCol w="1218960"/>
              </a:tblGrid>
              <a:tr h="52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Provider Typ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arrier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Physicia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Total Sampl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11,5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2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mpleted Survey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6,62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1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Partial Comple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2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Refusal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9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Ineligibl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Bundl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Other Non-Respon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1,8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21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Unknown Eligibility (i.e., Non-locatables and Language Problem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1,61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9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ponse Rat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1.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1.6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7C4-B5AD-48F9-9506-D037C13A1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12-19T16:06:5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32175330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PPAC - December 4th - Web posting</vt:lpwstr>
  </property>
  <property fmtid="{D5CDD505-2E9C-101B-9397-08002B2CF9AE}" pid="6" name="_NewReviewCycle">
    <vt:lpwstr/>
  </property>
  <property fmtid="{D5CDD505-2E9C-101B-9397-08002B2CF9AE}" pid="7" name="_PreviousAdHocReviewCycleID">
    <vt:r8>951365237</vt:r8>
  </property>
</Properties>
</file>