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D3308-C451-423C-B01D-8072C433A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DFFD7-7417-44BF-85E9-904011956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6C7D1-1EB4-46EC-AEA8-61037A38C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46DFE-8590-435E-B731-9F4574247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699F2-30EE-4FAB-A9B1-32D0943ED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5D020-16C5-462E-AE4F-A7C16F683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BC4FE-69F6-451E-859D-E2AB9B247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DA040-50D6-418B-A74B-1802D0D98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21364-FF01-43A3-83D5-6B1AB8CCF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7A6EA-9E21-43C3-BE7C-9C5CFFA6B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18C53-8335-4A12-B0FD-4F23EF125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ED3BA-4107-41F7-833C-6B790F4F9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09FAC-0195-4FAC-BF6F-84E94FA73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EC6C8-2E8F-4FEF-8D86-BBFB65F6E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77182-56CB-49EB-8A24-AACDAA952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767BA-712F-40F6-803E-813D063C3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30970-4147-4A95-8348-EC7C7947D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53EDC-13B8-4BB1-962B-F133E0D43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F49AF-D43F-4CC1-B46C-4F39F6BA2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8220E-3B65-4002-ABCB-556506817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7F830-2FFE-4D65-8AE3-89309701E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B487E-0CDE-489B-9B33-9DA0E4816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8D7F7-AE31-4A0A-89A7-46D47304B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0A5E-093D-4D4D-9BC8-ADD4A7943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4DDC-539F-4228-9217-4A05EDF12D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5D3C-EB92-472D-A117-55EA1939A3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mailto:William.Rogers@cms.hhs.gov" TargetMode="External"/><Relationship Id="rId2" Type="http://schemas.openxmlformats.org/officeDocument/2006/relationships/hyperlink" Target="mailto:PRIT@cms.hhs.gov" TargetMode="External"/><Relationship Id="rId3" Type="http://schemas.openxmlformats.org/officeDocument/2006/relationships/hyperlink" Target="http://www.cms.hhs.gov/PRIT" TargetMode="External"/><Relationship Id="rId4" Type="http://schemas.openxmlformats.org/officeDocument/2006/relationships/oleObject" Target="../embeddings/oleObject1.bin"/><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45"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PRIT update</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William Rogers, M.D. FACEP</a:t>
            </a:r>
            <a:endParaRPr b="0" lang="en-US" sz="2000" spc="-1" strike="noStrike">
              <a:solidFill>
                <a:srgbClr val="ffffff"/>
              </a:solidFill>
              <a:latin typeface="Times New Roman"/>
            </a:endParaRPr>
          </a:p>
        </p:txBody>
      </p:sp>
      <p:sp>
        <p:nvSpPr>
          <p:cNvPr id="146" name=""/>
          <p:cNvSpPr/>
          <p:nvPr/>
        </p:nvSpPr>
        <p:spPr>
          <a:xfrm>
            <a:off x="1752480" y="4038480"/>
            <a:ext cx="6400800" cy="1752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ffff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December 4</a:t>
            </a:r>
            <a:endParaRPr b="0" lang="en-US" sz="2000" spc="-1" strike="noStrike">
              <a:solidFill>
                <a:srgbClr val="ffffff"/>
              </a:solidFill>
              <a:latin typeface="Times New Roman"/>
            </a:endParaRPr>
          </a:p>
        </p:txBody>
      </p:sp>
      <p:graphicFrame>
        <p:nvGraphicFramePr>
          <p:cNvPr id="147" name=""/>
          <p:cNvGraphicFramePr/>
          <p:nvPr/>
        </p:nvGraphicFramePr>
        <p:xfrm>
          <a:off x="3416400" y="2058840"/>
          <a:ext cx="3657600" cy="181080"/>
        </p:xfrm>
        <a:graphic>
          <a:graphicData uri="http://schemas.openxmlformats.org/presentationml/2006/ole">
            <p:oleObj r:id="rId1" spid="">
              <p:embed/>
              <p:pic>
                <p:nvPicPr>
                  <p:cNvPr id="148"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149" name=""/>
          <p:cNvGraphicFramePr/>
          <p:nvPr/>
        </p:nvGraphicFramePr>
        <p:xfrm>
          <a:off x="6781680" y="5791320"/>
          <a:ext cx="1676520" cy="811080"/>
        </p:xfrm>
        <a:graphic>
          <a:graphicData uri="http://schemas.openxmlformats.org/presentationml/2006/ole">
            <p:oleObj r:id="rId3" spid="">
              <p:embed/>
              <p:pic>
                <p:nvPicPr>
                  <p:cNvPr id="150" name="" descr=""/>
                  <p:cNvPicPr/>
                  <p:nvPr/>
                </p:nvPicPr>
                <p:blipFill>
                  <a:blip r:embed="rId4"/>
                  <a:stretch/>
                </p:blipFill>
                <p:spPr>
                  <a:xfrm>
                    <a:off x="6781680" y="5791320"/>
                    <a:ext cx="1676520" cy="811080"/>
                  </a:xfrm>
                  <a:prstGeom prst="rect">
                    <a:avLst/>
                  </a:prstGeom>
                  <a:ln w="0">
                    <a:noFill/>
                  </a:ln>
                </p:spPr>
              </p:pic>
            </p:oleObj>
          </a:graphicData>
        </a:graphic>
      </p:graphicFrame>
      <p:sp>
        <p:nvSpPr>
          <p:cNvPr id="1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MEDICARE</a:t>
            </a:r>
            <a:endParaRPr b="0" lang="en-US" sz="4400" spc="-1" strike="noStrike">
              <a:solidFill>
                <a:srgbClr val="00ffff"/>
              </a:solidFill>
              <a:latin typeface="Times New Roman"/>
            </a:endParaRPr>
          </a:p>
        </p:txBody>
      </p:sp>
      <p:sp>
        <p:nvSpPr>
          <p:cNvPr id="3" name="PlaceHolder 2"/>
          <p:cNvSpPr>
            <a:spLocks noGrp="1"/>
          </p:cNvSpPr>
          <p:nvPr>
            <p:ph type="sldNum" idx="3"/>
          </p:nvPr>
        </p:nvSpPr>
        <p:spPr/>
        <p:txBody>
          <a:bodyPr/>
          <a:p>
            <a:fld id="{E8051760-2B1B-4C67-BDEE-390A8D71B5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170000" y="0"/>
            <a:ext cx="7772400" cy="5680080"/>
          </a:xfrm>
          <a:prstGeom prst="rect">
            <a:avLst/>
          </a:prstGeom>
          <a:noFill/>
          <a:ln w="0">
            <a:noFill/>
          </a:ln>
        </p:spPr>
        <p:txBody>
          <a:bodyPr lIns="90000" rIns="90000" tIns="46800" bIns="46800" anchor="t">
            <a:normAutofit fontScale="88000"/>
          </a:bodyPr>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Nonvalued Neurosurgical codes</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ssue: CMS did not publish the RVUs for codes 61630, 61635, 61640, 61641, and 61642, in the Physician Fee Schedule Final Rule. </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atus:  This issue was brought to the PRIT by a member from the Practicing Physicians Advisory Council (PPAC).  The PRIT will work with CMS policy staff on publishing these RVUs.</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4/3: The proposed physician rule will be released for public comment in June. We will work with the American Association of Neurological Surgeons during the comment period to request that these codes be assigned values in the physician fee schedule.</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August 28:  The PPAC made a formal recommendation to CMS that the Physician Fee Schedule publish all values for all codes, even codes that Medicare does not cover.  </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November 1: The 2007 Physician Fee Schedule now contains the RVUs for the codes the neurosurgeons requested.  </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Public availability of NPI numbers</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ssue:  Will there be an online directory for NPI? </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atus: Regulation had to be cleared to allow the UPIN directory to be available to the public. Similar legislation has not been passed for the NPI directory. Currently payers and providers will have to obtain NPI from referring physician which is burdensome for providers.</a:t>
            </a:r>
            <a:br>
              <a:rPr sz="1800"/>
            </a:br>
            <a:r>
              <a:rPr b="0" lang="en-US" sz="1800" spc="-1" strike="noStrike">
                <a:solidFill>
                  <a:srgbClr val="003399"/>
                </a:solidFill>
                <a:latin typeface="Times New Roman"/>
              </a:rPr>
              <a:t>Feb 6: A notice describing the rules concerning NPI dissemination is in the clearance process.</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May 22: The PPAC emphasized the importance of making NPIs available to physicians and their office staff in an online database.  </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August 28: The PPAC strongly endorsed the proposal to develop this directory and make it available to physicians and their office staff.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A78249F7-0B79-413C-8E9D-B9916895B5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170000" y="492120"/>
            <a:ext cx="7772400" cy="568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Can hospitals provide Continuing Medical Educatio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Issue:  A member of the Practicing Physicians Advisory Council asked the PRIT whether hospitals can provide free CME to members of their medical staff.</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Status:  The Stark rule addresses hospital services to physicians in section 411.357(m) and 411.357(k).  If CMS can create an exception for CME, hospitals would be more likely to provide this important service.  CMS is exploring various options.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June 29: The AMA has written a letter to Dr. McClellan expressing their concerns about this issue.</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July 15: Staff is preparing a response to the AMA letter.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October 25: Final response to the AMA is still in internal review.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April 6:  We are currently preparing a final rule in response to the interim final rule published in 2004 (69 CFR 16054) to clarify that traditional on-site hospital grand rounds and other in-house educational programs provided by hospitals are valuable and should be easily structured to avoid conflict with Stark.</a:t>
            </a:r>
            <a:endParaRPr b="0" lang="en-US" sz="1800" spc="-1" strike="noStrike">
              <a:solidFill>
                <a:srgbClr val="ffffff"/>
              </a:solidFill>
              <a:latin typeface="Times New Roman"/>
            </a:endParaRPr>
          </a:p>
        </p:txBody>
      </p:sp>
      <p:graphicFrame>
        <p:nvGraphicFramePr>
          <p:cNvPr id="176" name=""/>
          <p:cNvGraphicFramePr/>
          <p:nvPr/>
        </p:nvGraphicFramePr>
        <p:xfrm>
          <a:off x="6781680" y="5791320"/>
          <a:ext cx="1676520" cy="811080"/>
        </p:xfrm>
        <a:graphic>
          <a:graphicData uri="http://schemas.openxmlformats.org/presentationml/2006/ole">
            <p:oleObj r:id="rId1" spid="">
              <p:embed/>
              <p:pic>
                <p:nvPicPr>
                  <p:cNvPr id="177" name="" descr=""/>
                  <p:cNvPicPr/>
                  <p:nvPr/>
                </p:nvPicPr>
                <p:blipFill>
                  <a:blip r:embed="rId2"/>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sldNum" idx="3"/>
          </p:nvPr>
        </p:nvSpPr>
        <p:spPr/>
        <p:txBody>
          <a:bodyPr/>
          <a:p>
            <a:fld id="{CC3DCFC4-E86F-44B4-A152-127002BB02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70000" y="380880"/>
            <a:ext cx="7772400" cy="568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Clarifying the rules concerning volunteer Graduate Medical Educatio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Issue: Teaching physicians feel that the rules concerning the use of volunteer faculties are unclear and difficult to implement.</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Status: April 14: Dr. McClellan met this week with a group of teaching physicians and encouraged them to provide us with specific examples so that we can clarify CMS policy.</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June 29, 2005: 112 members of Congress sent a letter to Dr. McClellan about this issue.  In his letter of reply, he committed to a new set of Frequently Asked Questions and an in depth review of our audit procedures concerning teaching physician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Feb 14: In the past two weeks The PRIT and the director of CMM have met with the AOA, the Academic Family Medicine Advocacy Alliance, and with the American Academy of Family Physicians to discuss this issue.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June 14: The American Academy of Family Physicians, Society of Teachers of Family Medicine, Association of Departments of Family Medicine, Association of Family Practice Residency Directors, North American Primary Care Research Group, and the American Osteopathic Association met today with CMS administrator Mark McClellan, MD PhD about this issue.  A proposed resolution was drafted and is being fast tracke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August 28:  The PPAC endorsed the physician group proposal to fix this issue and asked CMS for a speedy resolution.</a:t>
            </a:r>
            <a:endParaRPr b="0" lang="en-US" sz="1800" spc="-1" strike="noStrike">
              <a:solidFill>
                <a:srgbClr val="ffffff"/>
              </a:solidFill>
              <a:latin typeface="Times New Roman"/>
            </a:endParaRPr>
          </a:p>
        </p:txBody>
      </p:sp>
      <p:graphicFrame>
        <p:nvGraphicFramePr>
          <p:cNvPr id="179" name=""/>
          <p:cNvGraphicFramePr/>
          <p:nvPr/>
        </p:nvGraphicFramePr>
        <p:xfrm>
          <a:off x="6781680" y="5791320"/>
          <a:ext cx="1676520" cy="811080"/>
        </p:xfrm>
        <a:graphic>
          <a:graphicData uri="http://schemas.openxmlformats.org/presentationml/2006/ole">
            <p:oleObj r:id="rId1" spid="">
              <p:embed/>
              <p:pic>
                <p:nvPicPr>
                  <p:cNvPr id="180" name="" descr=""/>
                  <p:cNvPicPr/>
                  <p:nvPr/>
                </p:nvPicPr>
                <p:blipFill>
                  <a:blip r:embed="rId2"/>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sldNum" idx="3"/>
          </p:nvPr>
        </p:nvSpPr>
        <p:spPr/>
        <p:txBody>
          <a:bodyPr/>
          <a:p>
            <a:fld id="{C3ABBB0E-FDBB-410E-9CBB-DF6A6EEE8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170000" y="380880"/>
            <a:ext cx="7772400" cy="568008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RVUs for Pediatric Codes  </a:t>
            </a:r>
            <a:endParaRPr b="0" lang="en-US" sz="1800" spc="-1" strike="noStrike">
              <a:solidFill>
                <a:srgbClr val="ffffff"/>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Issue: American Academy of Pediatrics would like CMS to publish RVUs for pediatric codes that have an "N modifier" in the physician rule.  </a:t>
            </a:r>
            <a:endParaRPr b="0" lang="en-US" sz="1800" spc="-1" strike="noStrike">
              <a:solidFill>
                <a:srgbClr val="ffffff"/>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Status: We are exploring the implementation of this with appropriate CMS staff.  </a:t>
            </a:r>
            <a:endParaRPr b="0" lang="en-US" sz="1800" spc="-1" strike="noStrike">
              <a:solidFill>
                <a:srgbClr val="ffffff"/>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May 6: We met with the American Academy of Pediatrics and they will comment in support of this change in the Physician rule which is normally released in November.  </a:t>
            </a:r>
            <a:endParaRPr b="0" lang="en-US" sz="1800" spc="-1" strike="noStrike">
              <a:solidFill>
                <a:srgbClr val="ffffff"/>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July 15: The proposed rule should be released soon.  This will be the appropriate time for comments.  </a:t>
            </a:r>
            <a:endParaRPr b="0" lang="en-US" sz="1800" spc="-1" strike="noStrike">
              <a:solidFill>
                <a:srgbClr val="ffffff"/>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September 1: CMS released the Proposed Physician Fee Schedule today.  This proposed rule does list values for the four codes (90467, 90468, 90473, and 90474) as the AAP had requested.  The proposed rule can be found here. </a:t>
            </a:r>
            <a:endParaRPr b="0" lang="en-US" sz="1800" spc="-1" strike="noStrike">
              <a:solidFill>
                <a:srgbClr val="ffffff"/>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August 8: The AAP has contacted the PRIT regarding additional codes they would like valued in the rule.  CPT codes 99173 (Vision screening) and 92551 (Hearing screening) did not have their RVUs published in the 2006 proposed physician fee schedule. The AAP will request that they be listed in the final rule.  </a:t>
            </a:r>
            <a:endParaRPr b="0" lang="en-US" sz="1800" spc="-1" strike="noStrike">
              <a:solidFill>
                <a:srgbClr val="ffffff"/>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April 3: The proposed physician rule will be released for public comment in June. We will work with the American Academy of Pediatrics during the comment period to request that these codes be assigned values in the physician fee schedule.</a:t>
            </a:r>
            <a:endParaRPr b="0" lang="en-US" sz="1800" spc="-1" strike="noStrike">
              <a:solidFill>
                <a:srgbClr val="ffffff"/>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August 28:  The PPAC made a formal recommendation to CMS that the Physician Fee Schedule publish all values for all codes, even codes that Medicare does not cover.  </a:t>
            </a:r>
            <a:endParaRPr b="0" lang="en-US" sz="1800" spc="-1" strike="noStrike">
              <a:solidFill>
                <a:srgbClr val="ffffff"/>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November 1: The 2007 Physician Fee Schedule now contains the RVUs for the codes the pediatricians requested.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CB413770-792A-419B-A134-E03A563E4A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170000" y="0"/>
            <a:ext cx="7772400" cy="5680080"/>
          </a:xfrm>
          <a:prstGeom prst="rect">
            <a:avLst/>
          </a:prstGeom>
          <a:noFill/>
          <a:ln w="0">
            <a:noFill/>
          </a:ln>
        </p:spPr>
        <p:txBody>
          <a:bodyPr lIns="90000" rIns="90000" tIns="46800" bIns="46800" anchor="t">
            <a:normAutofit fontScale="89000"/>
          </a:bodyPr>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Recovery Audit Contracts  </a:t>
            </a:r>
            <a:endParaRPr b="0" lang="en-US" sz="1600" spc="-1" strike="noStrike">
              <a:solidFill>
                <a:srgbClr val="ffffff"/>
              </a:solidFill>
              <a:latin typeface="Times New Roman"/>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Issue: The American College of Physicians is concerned that the Recovery Audit Contracts (RACs) initiative has potential to be burdensome and intrusive to providers  </a:t>
            </a:r>
            <a:endParaRPr b="0" lang="en-US" sz="1600" spc="-1" strike="noStrike">
              <a:solidFill>
                <a:srgbClr val="ffffff"/>
              </a:solidFill>
              <a:latin typeface="Times New Roman"/>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Status: February 7: This initiative is slated to start in 3 states in May 2005. Physicians will be able to appeal to their carriers any overpayments the contractors may find. The contractors will also pass along underpayment information to the carrier so the carrier can appropriately pay the money to the physicians. More information can be found at this Medlearn Matters article: SE0469 (pdf 272KB)</a:t>
            </a:r>
            <a:endParaRPr b="0" lang="en-US" sz="1600" spc="-1" strike="noStrike">
              <a:solidFill>
                <a:srgbClr val="ffffff"/>
              </a:solidFill>
              <a:latin typeface="Times New Roman"/>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March 16: The Practicing Physician’s Advisory Council met yesterday and discussed this issue. The PRIT is participating in a series of regularly scheduled meetings concerning RACs and is working to ensure this process runs as smoothly as possible. It was also discussed by CMS Administrator Dr. McClellan at the American Medical Association’s Advocacy Conference on March 15th.</a:t>
            </a:r>
            <a:endParaRPr b="0" lang="en-US" sz="1600" spc="-1" strike="noStrike">
              <a:solidFill>
                <a:srgbClr val="ffffff"/>
              </a:solidFill>
              <a:latin typeface="Times New Roman"/>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April 8: The PRIT will keep the issue active since the program does not start until May. We want to make sure providers know that we are here to address their issues. </a:t>
            </a:r>
            <a:endParaRPr b="0" lang="en-US" sz="1600" spc="-1" strike="noStrike">
              <a:solidFill>
                <a:srgbClr val="ffffff"/>
              </a:solidFill>
              <a:latin typeface="Times New Roman"/>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April 27: The PRIT met today with the AMA about the impact of the RAC on their physicians.  A RAC fact sheet can be found at the link below.</a:t>
            </a:r>
            <a:endParaRPr b="0" lang="en-US" sz="1600" spc="-1" strike="noStrike">
              <a:solidFill>
                <a:srgbClr val="ffffff"/>
              </a:solidFill>
              <a:latin typeface="Times New Roman"/>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April 28:  There was a Special ODF on Recovery Audit Contractors today.  RACs will also be discussed at the May 23 PPAC meeting. </a:t>
            </a:r>
            <a:endParaRPr b="0" lang="en-US" sz="1600" spc="-1" strike="noStrike">
              <a:solidFill>
                <a:srgbClr val="ffffff"/>
              </a:solidFill>
              <a:latin typeface="Times New Roman"/>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September 19: RAC contractors are beginning to look at Part B claims.  Communication with providers is very important to us at this time.   RACs won't be looking at E&amp;M coding level at least until CMS finishes analyzing AMA resolution 819.  RACs will not look at any claims that have already been audited by Medicare.  The normal appeals process will apply to demand letters.  If an overpayment is found the RAC contractor is expected to arrange for payment to the physician or provider.</a:t>
            </a:r>
            <a:endParaRPr b="0" lang="en-US" sz="1600" spc="-1" strike="noStrike">
              <a:solidFill>
                <a:srgbClr val="ffffff"/>
              </a:solidFill>
              <a:latin typeface="Times New Roman"/>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March 7: CMS has modified the RAC contracts to pay RACs the same contingency fee for finding underpayments as they get for finding overpayments.</a:t>
            </a:r>
            <a:endParaRPr b="0" lang="en-US" sz="1600" spc="-1" strike="noStrike">
              <a:solidFill>
                <a:srgbClr val="ffffff"/>
              </a:solidFill>
              <a:latin typeface="Times New Roman"/>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May 11: A Florida physician contacted the PRIT because claims which had been reviewed a few years before by the carrier had been pulled for review by the Recovery Audit Contractor. The contractor, on hearing of this, suspended the review and is working on a system to prevent this from happening to other physicians in all 3 RAC states in the futur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A7558E39-F11C-4CA4-8A15-2A3737D5B1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70000" y="0"/>
            <a:ext cx="7772400" cy="5680080"/>
          </a:xfrm>
          <a:prstGeom prst="rect">
            <a:avLst/>
          </a:prstGeom>
          <a:noFill/>
          <a:ln w="0">
            <a:noFill/>
          </a:ln>
        </p:spPr>
        <p:txBody>
          <a:bodyPr lIns="90000" rIns="90000" tIns="46800" bIns="46800"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Competitive Acquisition Program  </a:t>
            </a:r>
            <a:endParaRPr b="0" lang="en-US" sz="1600" spc="-1" strike="noStrike">
              <a:solidFill>
                <a:srgbClr val="ffffff"/>
              </a:solidFill>
              <a:latin typeface="Times New Roman"/>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Issue: Oncologists and other physicians who administer drugs in their office have expressed concerns about the user friendliness of the competitive acquisition program plan for January 2006. </a:t>
            </a:r>
            <a:endParaRPr b="0" lang="en-US" sz="1600" spc="-1" strike="noStrike">
              <a:solidFill>
                <a:srgbClr val="ffffff"/>
              </a:solidFill>
              <a:latin typeface="Times New Roman"/>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Status: March 9: Physician concerns were discussed at the PPAC. CMS now has a website (below) to keep providers informed as this program is developed:</a:t>
            </a:r>
            <a:endParaRPr b="0" lang="en-US" sz="1600" spc="-1" strike="noStrike">
              <a:solidFill>
                <a:srgbClr val="ffffff"/>
              </a:solidFill>
              <a:latin typeface="Times New Roman"/>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August 3: CMS is suspending the current CAP vendor bidding process. CMS is suspending the bidding at this time to allow us to more fully review public comments to the CAP IFC (CMS-1325-IFC) as well as to implement further clarifications to the bidding process before CMS proceeds to accept bids from vendors. More information can be found at the website below.</a:t>
            </a:r>
            <a:endParaRPr b="0" lang="en-US" sz="1600" spc="-1" strike="noStrike">
              <a:solidFill>
                <a:srgbClr val="ffffff"/>
              </a:solidFill>
              <a:latin typeface="Times New Roman"/>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May 8: The Physician Election Period for the Medicare Part B Drug Competitive Acquisition Program (CAP) will begin on May 8, 2006 and conclude on June 2, 2006. The CAP is a voluntary program that offers physicians the option to acquire many drugs they use in their practice from an approved CAP vendor, thus reducing the time they spend buying and billing for drugs. If physicians are interested in electing into CAP starting July 1, 2006, they must submit a Physician Election form to the local carrier between May 8 and June 2.  Please note that completed and signed physician election forms should be returned by mail to your local carrier. Forms must be postmarked on or before June 2, 2006.</a:t>
            </a:r>
            <a:endParaRPr b="0" lang="en-US" sz="1600" spc="-1" strike="noStrike">
              <a:solidFill>
                <a:srgbClr val="ffffff"/>
              </a:solidFill>
              <a:latin typeface="Times New Roman"/>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In conjunction with the election period, the Centers for Medicare &amp; Medicaid Services (CMS), along with Noridian Administrative Services (NAS), will host an "Ask the Contractor" teleconference for physicians and their staff to ask questions regarding CAP. This call will provide an opportunity to learn more about the program and how to participate. The call will take place Thursday, May 11, 2006, 1:00-2:30 p.m. EST.  Call in Number: 1-866-216-6835 Access Code: 329694.  </a:t>
            </a:r>
            <a:endParaRPr b="0" lang="en-US" sz="1600" spc="-1" strike="noStrike">
              <a:solidFill>
                <a:srgbClr val="ffffff"/>
              </a:solidFill>
              <a:latin typeface="Times New Roman"/>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May 31: CMS announced an extension to the physician election period for the CAP. The extension began on June 3, 2006 and will continue through June 30, 2006. Physicians whose completed physician election forms are postmarked on or after June 3, but no later than June 30, 2006, will begin participation in the CAP starting on August 1, 2006.</a:t>
            </a:r>
            <a:endParaRPr b="0" lang="en-US" sz="1600" spc="-1" strike="noStrike">
              <a:solidFill>
                <a:srgbClr val="ffffff"/>
              </a:solidFill>
              <a:latin typeface="Times New Roman"/>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	</a:t>
            </a:r>
            <a:r>
              <a:rPr b="0" lang="en-US" sz="1600" spc="-1" strike="noStrike">
                <a:solidFill>
                  <a:srgbClr val="3333ff"/>
                </a:solidFill>
                <a:latin typeface="Times New Roman"/>
              </a:rPr>
              <a:t>July 19 Physicians who enrolled in the CAP before June 2nd are permitted to order drugs from BioScrip beginning on July 1, 2006. The PRIT invites physicians having problems with the CAP to call or email us.</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D4329900-3CA3-40DB-AB6D-DE8D9EB5BD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Questions</a:t>
            </a:r>
            <a:endParaRPr b="0" lang="en-US" sz="4400" spc="-1" strike="noStrike">
              <a:solidFill>
                <a:srgbClr val="00ffff"/>
              </a:solidFill>
              <a:latin typeface="Times New Roman"/>
            </a:endParaRPr>
          </a:p>
        </p:txBody>
      </p:sp>
      <p:graphicFrame>
        <p:nvGraphicFramePr>
          <p:cNvPr id="185" name=""/>
          <p:cNvGraphicFramePr/>
          <p:nvPr/>
        </p:nvGraphicFramePr>
        <p:xfrm>
          <a:off x="6781680" y="5791320"/>
          <a:ext cx="1676520" cy="811080"/>
        </p:xfrm>
        <a:graphic>
          <a:graphicData uri="http://schemas.openxmlformats.org/presentationml/2006/ole">
            <p:oleObj r:id="rId1" spid="">
              <p:embed/>
              <p:pic>
                <p:nvPicPr>
                  <p:cNvPr id="186"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187" name="" descr=""/>
          <p:cNvPicPr/>
          <p:nvPr/>
        </p:nvPicPr>
        <p:blipFill>
          <a:blip r:embed="rId3"/>
          <a:stretch/>
        </p:blipFill>
        <p:spPr>
          <a:xfrm>
            <a:off x="1143000" y="914400"/>
            <a:ext cx="4800600" cy="5943600"/>
          </a:xfrm>
          <a:prstGeom prst="rect">
            <a:avLst/>
          </a:prstGeom>
          <a:ln w="0">
            <a:noFill/>
          </a:ln>
        </p:spPr>
      </p:pic>
      <p:sp>
        <p:nvSpPr>
          <p:cNvPr id="3" name="PlaceHolder 2"/>
          <p:cNvSpPr>
            <a:spLocks noGrp="1"/>
          </p:cNvSpPr>
          <p:nvPr>
            <p:ph type="sldNum" idx="3"/>
          </p:nvPr>
        </p:nvSpPr>
        <p:spPr/>
        <p:txBody>
          <a:bodyPr/>
          <a:p>
            <a:fld id="{E871BFE9-3BC0-48E5-82E2-FF81C73FF0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170000" y="2625840"/>
            <a:ext cx="7772400" cy="5680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William Rogers, M.D. FACEP</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202-260-7153 work</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202-236-3338 mobil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illiam.Rogers@cms.hhs.gov</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PRIT@cms.hhs.gov</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ww.cms.hhs.gov/PRIT</a:t>
            </a:r>
            <a:endParaRPr b="0" lang="en-US" sz="3200" spc="-1" strike="noStrike">
              <a:solidFill>
                <a:srgbClr val="ffffff"/>
              </a:solidFill>
              <a:latin typeface="Times New Roman"/>
            </a:endParaRPr>
          </a:p>
        </p:txBody>
      </p:sp>
      <p:graphicFrame>
        <p:nvGraphicFramePr>
          <p:cNvPr id="189" name=""/>
          <p:cNvGraphicFramePr/>
          <p:nvPr/>
        </p:nvGraphicFramePr>
        <p:xfrm>
          <a:off x="6781680" y="5791320"/>
          <a:ext cx="1676520" cy="811080"/>
        </p:xfrm>
        <a:graphic>
          <a:graphicData uri="http://schemas.openxmlformats.org/presentationml/2006/ole">
            <p:oleObj r:id="rId4" spid="">
              <p:embed/>
              <p:pic>
                <p:nvPicPr>
                  <p:cNvPr id="190" name="" descr=""/>
                  <p:cNvPicPr/>
                  <p:nvPr/>
                </p:nvPicPr>
                <p:blipFill>
                  <a:blip r:embed="rId5"/>
                  <a:stretch/>
                </p:blipFill>
                <p:spPr>
                  <a:xfrm>
                    <a:off x="6781680" y="5791320"/>
                    <a:ext cx="1676520" cy="811080"/>
                  </a:xfrm>
                  <a:prstGeom prst="rect">
                    <a:avLst/>
                  </a:prstGeom>
                  <a:ln w="0">
                    <a:noFill/>
                  </a:ln>
                </p:spPr>
              </p:pic>
            </p:oleObj>
          </a:graphicData>
        </a:graphic>
      </p:graphicFrame>
      <p:sp>
        <p:nvSpPr>
          <p:cNvPr id="191" name="PlaceHolder 2"/>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ontact Information</a:t>
            </a:r>
            <a:endParaRPr b="0" lang="en-US" sz="4400" spc="-1" strike="noStrike">
              <a:solidFill>
                <a:srgbClr val="00ffff"/>
              </a:solidFill>
              <a:latin typeface="Times New Roman"/>
            </a:endParaRPr>
          </a:p>
        </p:txBody>
      </p:sp>
      <p:sp>
        <p:nvSpPr>
          <p:cNvPr id="4" name="PlaceHolder 3"/>
          <p:cNvSpPr>
            <a:spLocks noGrp="1"/>
          </p:cNvSpPr>
          <p:nvPr>
            <p:ph type="sldNum" idx="3"/>
          </p:nvPr>
        </p:nvSpPr>
        <p:spPr/>
        <p:txBody>
          <a:bodyPr/>
          <a:p>
            <a:fld id="{1E0B46BC-B70B-4734-90F5-343E10F569D6}"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Outline</a:t>
            </a: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IT issu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Question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ontact info</a:t>
            </a:r>
            <a:endParaRPr b="0" lang="en-US" sz="3200" spc="-1" strike="noStrike">
              <a:solidFill>
                <a:srgbClr val="ffffff"/>
              </a:solidFill>
              <a:latin typeface="Times New Roman"/>
            </a:endParaRPr>
          </a:p>
        </p:txBody>
      </p:sp>
      <p:graphicFrame>
        <p:nvGraphicFramePr>
          <p:cNvPr id="154" name=""/>
          <p:cNvGraphicFramePr/>
          <p:nvPr/>
        </p:nvGraphicFramePr>
        <p:xfrm>
          <a:off x="6781680" y="5791320"/>
          <a:ext cx="1676520" cy="811080"/>
        </p:xfrm>
        <a:graphic>
          <a:graphicData uri="http://schemas.openxmlformats.org/presentationml/2006/ole">
            <p:oleObj r:id="rId1" spid="">
              <p:embed/>
              <p:pic>
                <p:nvPicPr>
                  <p:cNvPr id="155"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156" name="" descr=""/>
          <p:cNvPicPr/>
          <p:nvPr/>
        </p:nvPicPr>
        <p:blipFill>
          <a:blip r:embed="rId3"/>
          <a:stretch/>
        </p:blipFill>
        <p:spPr>
          <a:xfrm>
            <a:off x="3657600" y="0"/>
            <a:ext cx="5486400" cy="5486400"/>
          </a:xfrm>
          <a:prstGeom prst="rect">
            <a:avLst/>
          </a:prstGeom>
          <a:ln w="0">
            <a:noFill/>
          </a:ln>
        </p:spPr>
      </p:pic>
      <p:sp>
        <p:nvSpPr>
          <p:cNvPr id="4" name="PlaceHolder 3"/>
          <p:cNvSpPr>
            <a:spLocks noGrp="1"/>
          </p:cNvSpPr>
          <p:nvPr>
            <p:ph type="sldNum" idx="3"/>
          </p:nvPr>
        </p:nvSpPr>
        <p:spPr/>
        <p:txBody>
          <a:bodyPr/>
          <a:p>
            <a:fld id="{FB1DD41B-12C5-451C-88AC-66BDDB6038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066320" y="685440"/>
            <a:ext cx="7875720" cy="5375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RAC Audits in California</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11/06/2006</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Bundling of Two Colony Stimulating Factor Drugs at a Discounted Rate</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11/06/2006</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Provider's ability to participate with the A/B MAC</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9/22/2006</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Active Military Physicians' Ability to Bill Government Payers</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9/05/2006</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Availability of PDP exceptions and appeals forms on a plan's website</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6/20/2006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Definition of Consultation</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6/15/2006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Recovery Audit Contracts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1/10/2005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Competitive Acquisition Program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3/01/2005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Clarifying the rules concerning volunteer Graduate Medical Education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4/01/2005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Can hospitals provide Continuing Medical Education?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5/01/2005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RVUs for Pediatric Codes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5/01/2005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CAH Provider response time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10/14/2005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Medically Unbelievable Edits (MUE)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12/01/2005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Public availability of NPI numbers</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2/06/2006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Nurse Practitioner Services Billed in the Hospital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2/23/2006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Nonvalued Neurosurgical codes</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2/23/2006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Written consultation orders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3/30/2006</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Phy’s ability to file cov. determ. requests and prior auths (inc exceptions)</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5/08/2006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Duration of Prior authorizations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5/17/2006</a:t>
            </a:r>
            <a:r>
              <a:rPr b="0" lang="en-US" sz="1400" spc="-1" strike="noStrike">
                <a:solidFill>
                  <a:srgbClr val="003399"/>
                </a:solidFill>
                <a:latin typeface="Times New Roman"/>
              </a:rPr>
              <a:t>	</a:t>
            </a:r>
            <a:r>
              <a:rPr b="0" lang="en-US" sz="1400" spc="-1" strike="noStrike">
                <a:solidFill>
                  <a:srgbClr val="003399"/>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Simplifying the Work of Enrollment</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7/14/2006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Inaccuracies in the E&amp;M service guide</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7/14/2006</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Can a patient sign an (CMS-1696) form before a PDP denial occurs?</a:t>
            </a:r>
            <a:r>
              <a:rPr b="0" lang="en-US" sz="1400" spc="-1" strike="noStrike">
                <a:solidFill>
                  <a:srgbClr val="003399"/>
                </a:solidFill>
                <a:latin typeface="Times New Roman"/>
              </a:rPr>
              <a:t>	</a:t>
            </a:r>
            <a:r>
              <a:rPr b="0" lang="en-US" sz="1400" spc="-1" strike="noStrike">
                <a:solidFill>
                  <a:srgbClr val="003399"/>
                </a:solidFill>
                <a:latin typeface="Times New Roman"/>
              </a:rPr>
              <a:t>	</a:t>
            </a:r>
            <a:r>
              <a:rPr b="0" lang="en-US" sz="1400" spc="-1" strike="noStrike">
                <a:solidFill>
                  <a:srgbClr val="003399"/>
                </a:solidFill>
                <a:latin typeface="Times New Roman"/>
              </a:rPr>
              <a:t>07/31/2006</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58" name=""/>
          <p:cNvGraphicFramePr/>
          <p:nvPr/>
        </p:nvGraphicFramePr>
        <p:xfrm>
          <a:off x="6781680" y="5791320"/>
          <a:ext cx="1676520" cy="811080"/>
        </p:xfrm>
        <a:graphic>
          <a:graphicData uri="http://schemas.openxmlformats.org/presentationml/2006/ole">
            <p:oleObj r:id="rId1" spid="">
              <p:embed/>
              <p:pic>
                <p:nvPicPr>
                  <p:cNvPr id="159" name="" descr=""/>
                  <p:cNvPicPr/>
                  <p:nvPr/>
                </p:nvPicPr>
                <p:blipFill>
                  <a:blip r:embed="rId2"/>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sldNum" idx="3"/>
          </p:nvPr>
        </p:nvSpPr>
        <p:spPr/>
        <p:txBody>
          <a:bodyPr/>
          <a:p>
            <a:fld id="{34DDA1A5-A2A0-40F7-B2F8-55B2DFD314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170000" y="380880"/>
            <a:ext cx="7772400" cy="568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RAC Audits in California</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ssue: Urologists in California have complained that they have been receiving a large number of vaguely written letters requesting documentation concerning therapy with Leupron. They are happy to comply but are unsure of exactly which records they should be sending.</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atus: We have asked for a copy of the letter and will contact the RAC contractor to see if we can simplify and clarify the letter.</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Bundling of Two Colony Stimulating Factor Drugs at a Discounted Rate</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ssue: Oncologists have contacted us about a complicated pricing structure they are seeing for some of the colony stimulating factors. This pricing structure offers the oncologists a discount if they purchase two different drugs as a bundled package; they find however that if they attempt to purchase either of the drugs individually they can not obtain them at the ASP price.</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atus: We are collecting detailed information concerning the bundling offer and the prices involved.</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161" name=""/>
          <p:cNvGraphicFramePr/>
          <p:nvPr/>
        </p:nvGraphicFramePr>
        <p:xfrm>
          <a:off x="6781680" y="5791320"/>
          <a:ext cx="1676520" cy="811080"/>
        </p:xfrm>
        <a:graphic>
          <a:graphicData uri="http://schemas.openxmlformats.org/presentationml/2006/ole">
            <p:oleObj r:id="rId1" spid="">
              <p:embed/>
              <p:pic>
                <p:nvPicPr>
                  <p:cNvPr id="162" name="" descr=""/>
                  <p:cNvPicPr/>
                  <p:nvPr/>
                </p:nvPicPr>
                <p:blipFill>
                  <a:blip r:embed="rId2"/>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sldNum" idx="3"/>
          </p:nvPr>
        </p:nvSpPr>
        <p:spPr/>
        <p:txBody>
          <a:bodyPr/>
          <a:p>
            <a:fld id="{5D13A87B-FF7F-45CB-88DE-F5EC845731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70000" y="380880"/>
            <a:ext cx="7772400" cy="568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Provider's ability to participate with the A/B Medicare Administrative Contractors (MAC)</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ssue:  Physicians have asked the PRIT if the A/B MACs will use </a:t>
            </a:r>
            <a:r>
              <a:rPr b="0" lang="en-US" sz="1800" spc="-1" strike="noStrike">
                <a:solidFill>
                  <a:srgbClr val="003399"/>
                </a:solidFill>
                <a:latin typeface="Times New Roman"/>
              </a:rPr>
              <a:t>	</a:t>
            </a:r>
            <a:r>
              <a:rPr b="0" lang="en-US" sz="1800" spc="-1" strike="noStrike">
                <a:solidFill>
                  <a:srgbClr val="003399"/>
                </a:solidFill>
                <a:latin typeface="Times New Roman"/>
              </a:rPr>
              <a:t>existing Carrier Advisory Committees (CACs) as a way for physicians to interact with their regional A/B MA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atus:  As it is with the current carriers, MACs will be expected to have an advisory committee for each state included in their jurisdictions.  How Part A issues and Part B issues will be discussed is to be determined and the PRIT invites providers to contact us with their concerns or suggestion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Active Military Physicians' Ability to Bill Government Payer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ssue: We received a call from an active duty Air Force Emergency Physician who is working on weekends at a local civilian hospital where the acuity is higher than the military hospital to which he is assigned. He has been told by the billing company that they are not sure it is appropriate for them to bill other government payers for his service.</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atus: We are getting more details from the physician and his civilian employer.</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11/3: We have had several conversations with OGC and expect an opinion soon.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164" name=""/>
          <p:cNvGraphicFramePr/>
          <p:nvPr/>
        </p:nvGraphicFramePr>
        <p:xfrm>
          <a:off x="6781680" y="5791320"/>
          <a:ext cx="1676520" cy="811080"/>
        </p:xfrm>
        <a:graphic>
          <a:graphicData uri="http://schemas.openxmlformats.org/presentationml/2006/ole">
            <p:oleObj r:id="rId1" spid="">
              <p:embed/>
              <p:pic>
                <p:nvPicPr>
                  <p:cNvPr id="165" name="" descr=""/>
                  <p:cNvPicPr/>
                  <p:nvPr/>
                </p:nvPicPr>
                <p:blipFill>
                  <a:blip r:embed="rId2"/>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sldNum" idx="3"/>
          </p:nvPr>
        </p:nvSpPr>
        <p:spPr/>
        <p:txBody>
          <a:bodyPr/>
          <a:p>
            <a:fld id="{965A1F28-02E7-4FA5-BC39-618CF4044F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170000" y="76320"/>
            <a:ext cx="7772400" cy="568008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Can a patient sign an "Appointment of Representative" (CMS-1696) form before a PDP denial occurs?</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Beneficiaries and physicians in rural areas have complained about the need for a patient to drive long distances just to sign an "Appointment of Representative" form.</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tatus: By law only the patient or his/her appointed representative can request a reconsideration (level 2 appeal) or higher level of appeal on a denied Part D drug claim.   A physician can become a patient’s appointed representative if the CMS-1696 form is completed and signed by the physician and the patient.  The Appointment of Representative form is valid for one year.  The AOR may be signed before a claim is denied.  When a physician elects to serve as an appointed representative, the physician assumes responsibility for managing the appeal, submitting required evidence and paperwork, and keeping the patient informed on the status of the appeal. </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Definition of Consultation</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The Indiana State Medical Association and others feel confused by the definition of Transfer of Care found in transmittal 788. </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tatus: the PRIT is facilitating dialog between CMS staff, providers, and carrier staff to clarify this definition.</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July 10: The PRIT has been contacted by the Infectious Disease Society of America, the American College of Physicians, the American Medical Association and several other specialty societies about clarifying the definition of a consult in transmittal 788. We are working with them to address the issue.</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August 28: This issue was discussed at the August 28 2006 meeting of the Practicing Physician’s Advisory Council.  </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Oct 23: The AMA sent a letter to the CMS administration requesting clarification on this issue.  </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F5FB3CAB-B065-4414-A9C2-F30AB176B4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9" name="" descr=""/>
          <p:cNvPicPr/>
          <p:nvPr/>
        </p:nvPicPr>
        <p:blipFill>
          <a:blip r:embed="rId1"/>
          <a:stretch/>
        </p:blipFill>
        <p:spPr>
          <a:xfrm>
            <a:off x="1066680" y="0"/>
            <a:ext cx="6591600" cy="6858000"/>
          </a:xfrm>
          <a:prstGeom prst="rect">
            <a:avLst/>
          </a:prstGeom>
          <a:ln w="0">
            <a:noFill/>
          </a:ln>
        </p:spPr>
      </p:pic>
      <p:sp>
        <p:nvSpPr>
          <p:cNvPr id="4" name="PlaceHolder 3"/>
          <p:cNvSpPr>
            <a:spLocks noGrp="1"/>
          </p:cNvSpPr>
          <p:nvPr>
            <p:ph type="sldNum" idx="3"/>
          </p:nvPr>
        </p:nvSpPr>
        <p:spPr/>
        <p:txBody>
          <a:bodyPr/>
          <a:p>
            <a:fld id="{1763BEFE-D018-4623-9152-C840008AD1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170000" y="380880"/>
            <a:ext cx="7772400" cy="568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Simplifying the Work of Enrollment</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The 855 form is now available on the CMS website in a form that can be filled out but we have learned that unless the doctor has the full Adobe suite the completed form can not be saved.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tatus: We are working on a fix for this problem.</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November 9: CMS is in discussion with Adobe with the intentions of allowing physicians to save completed 855s even if they do not own the full Adobe Acrobat suite.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vailability of PDP exceptions and appeals forms on a plan's website</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ssue:  Prescription Drug Plans are required to comply with the March 16th CMS requirement to have the forms needed to file an exception request or an appeal easily accessible on their websit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tatus: CMS has checked every PDP's website to ensure compliance. Many are compliant but some are not. CMS has sent letters to the plans that are not compliant and the PRIT will be monitoring their websites for changes. The PRIT invites you to contact us if you encounter a PDP website that does not provide you and your staff with the forms and other information you need.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8/30: The PRIT has not heard from any physicians about difficulties finding prior auth/appeal forms online.  We invite physicians to contact us if they find a PDP website to be deficient in that regard.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71" name=""/>
          <p:cNvGraphicFramePr/>
          <p:nvPr/>
        </p:nvGraphicFramePr>
        <p:xfrm>
          <a:off x="6781680" y="5791320"/>
          <a:ext cx="1676520" cy="811080"/>
        </p:xfrm>
        <a:graphic>
          <a:graphicData uri="http://schemas.openxmlformats.org/presentationml/2006/ole">
            <p:oleObj r:id="rId1" spid="">
              <p:embed/>
              <p:pic>
                <p:nvPicPr>
                  <p:cNvPr id="172" name="" descr=""/>
                  <p:cNvPicPr/>
                  <p:nvPr/>
                </p:nvPicPr>
                <p:blipFill>
                  <a:blip r:embed="rId2"/>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sldNum" idx="3"/>
          </p:nvPr>
        </p:nvSpPr>
        <p:spPr/>
        <p:txBody>
          <a:bodyPr/>
          <a:p>
            <a:fld id="{E45E3EA6-4616-48AE-953C-0DF14C3894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170000" y="0"/>
            <a:ext cx="7772400" cy="5680080"/>
          </a:xfrm>
          <a:prstGeom prst="rect">
            <a:avLst/>
          </a:prstGeom>
          <a:noFill/>
          <a:ln w="0">
            <a:noFill/>
          </a:ln>
        </p:spPr>
        <p:txBody>
          <a:bodyPr lIns="90000" rIns="90000" tIns="46800" bIns="46800" anchor="t">
            <a:normAutofit fontScale="92000"/>
          </a:bodyPr>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Physician's ability to file coverage determination requests and prior auths (including exceptions)</a:t>
            </a:r>
            <a:endParaRPr b="0" lang="en-US" sz="1800" spc="-1" strike="noStrike">
              <a:solidFill>
                <a:srgbClr val="ffffff"/>
              </a:solidFill>
              <a:latin typeface="Times New Roman"/>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ssue: Physicians have complained that they have been required to file a form signed by the beneficiary appointing them as the patient's legal representative before the plan would accept a prior authorization or exception request from the physician.</a:t>
            </a:r>
            <a:endParaRPr b="0" lang="en-US" sz="1800" spc="-1" strike="noStrike">
              <a:solidFill>
                <a:srgbClr val="ffffff"/>
              </a:solidFill>
              <a:latin typeface="Times New Roman"/>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atus: CMS guidance below makes it clear that physicians do not need to be the appointed representative to submit prior authorization and coverage determination requests.  Requests Made by Prescribing Physicians: A coverage determination or prior authorization can be requested by a Part D plan enrollee, by an appointed representative or by the prescribing physician.  These first tier requests do not require the physician to be an appointed representative.  Prescribing physicians can also request an expedited redetermination (first level of appeal) on behalf of a patient, but cannot request a standard redetermination (first level of appeal), a reconsideration (second level of appeal) or subsequent levels of appeal, unless the physician is the enrollee's appointed representative. Form CMS-1696 or an equivalent writing can be used to appoint a representative. Form CMS-1696 is available at the link below.</a:t>
            </a:r>
            <a:endParaRPr b="0" lang="en-US" sz="1800" spc="-1" strike="noStrike">
              <a:solidFill>
                <a:srgbClr val="ffffff"/>
              </a:solidFill>
              <a:latin typeface="Times New Roman"/>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Nurse Practitioner Services Billed in the Hospital</a:t>
            </a:r>
            <a:endParaRPr b="0" lang="en-US" sz="1800" spc="-1" strike="noStrike">
              <a:solidFill>
                <a:srgbClr val="ffffff"/>
              </a:solidFill>
              <a:latin typeface="Times New Roman"/>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ssue:  The carrier manual (Section 120.1 "Direct Billing and Payment" under "Nurse Practitioner (NP) and Clinical Nurse Specialist (CNS) Services.") says that Nurse Practitioner services can not be billed by the Nurse Practitioner when provided in the hospital but should be billed by the facility.</a:t>
            </a:r>
            <a:endParaRPr b="0" lang="en-US" sz="1800" spc="-1" strike="noStrike">
              <a:solidFill>
                <a:srgbClr val="ffffff"/>
              </a:solidFill>
              <a:latin typeface="Times New Roman"/>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Status:   We are working to change the manual and remove this passage.</a:t>
            </a:r>
            <a:endParaRPr b="0" lang="en-US" sz="1800" spc="-1" strike="noStrike">
              <a:solidFill>
                <a:srgbClr val="ffffff"/>
              </a:solidFill>
              <a:latin typeface="Times New Roman"/>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June 15: The revised instruction is in the final approval process and should be approved soon.  </a:t>
            </a:r>
            <a:endParaRPr b="0" lang="en-US" sz="1800" spc="-1" strike="noStrike">
              <a:solidFill>
                <a:srgbClr val="ffffff"/>
              </a:solidFill>
              <a:latin typeface="Times New Roman"/>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4114D3EE-FA62-427A-82CA-4063DF22E2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08:35Z</dcterms:created>
  <dc:creator>CMS</dc:creator>
  <dc:description/>
  <dc:language>en-US</dc:language>
  <cp:lastModifiedBy>CMS</cp:lastModifiedBy>
  <dcterms:modified xsi:type="dcterms:W3CDTF">2006-12-19T16:33:27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81644642</vt:r8>
  </property>
  <property fmtid="{D5CDD505-2E9C-101B-9397-08002B2CF9AE}" pid="3" name="_AuthorEmail">
    <vt:lpwstr>robin.phillips@cms.hhs.gov</vt:lpwstr>
  </property>
  <property fmtid="{D5CDD505-2E9C-101B-9397-08002B2CF9AE}" pid="4" name="_AuthorEmailDisplayName">
    <vt:lpwstr>Phillips, Robin R. (CMS/CMM)</vt:lpwstr>
  </property>
  <property fmtid="{D5CDD505-2E9C-101B-9397-08002B2CF9AE}" pid="5" name="_EmailSubject">
    <vt:lpwstr>PPAC - December 4th - Web posting</vt:lpwstr>
  </property>
  <property fmtid="{D5CDD505-2E9C-101B-9397-08002B2CF9AE}" pid="6" name="_NewReviewCycle">
    <vt:lpwstr/>
  </property>
  <property fmtid="{D5CDD505-2E9C-101B-9397-08002B2CF9AE}" pid="7" name="_PreviousAdHocReviewCycleID">
    <vt:r8>-1536851250</vt:r8>
  </property>
</Properties>
</file>