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A5E3-BA6C-47AE-ABA7-DC65ABC69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011B-3B58-4E81-9B56-4F7D51879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D289-C10D-4FA9-98FB-13B426859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5B4A-66B2-414D-9735-59020C25A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1FC45-166E-41DE-929C-E10969EB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11424-E87A-47CE-9C07-4A73FDE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E49B1-AB7A-4208-89C2-FF1C13BF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17FC9-429C-4488-92F5-3D46C3D2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4D23C-7D5A-4499-B557-3BFE43E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20CB5-A2D1-4E3C-850F-878F1056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0DC80-113F-4C68-BE0E-7302DD1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F837-7CCC-4CE3-83F4-B6CA3CCE3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7DBF4-95CB-429F-BE09-16E66EF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8CE17-CE45-40E4-BBB1-8402237F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FED48-062F-458C-AFE9-BCEF9F88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645CE-B80C-460C-876A-68CC1A81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6DBC2-6327-48B4-A605-0F1BC31D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2393-6181-4A62-A57E-89C742447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2EBBF-1E4B-4ABD-B88C-8A3177D63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C5F3-EE50-4F9B-A39A-829611B99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6ABB-7EF0-4026-90A9-2AE80DC81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A508-A9B0-44C4-A4CE-FD079E92A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73C1-AEEB-4E06-9F23-9CF337EAC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90FB-7D7C-461D-8130-A56C3B55C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953-CA56-4587-BC58-1A79D656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AF75-722F-452D-9AC2-F72896B9E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thomas.valuck@cms.hhs.go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enters for Medicare &amp; Medicaid Services</a:t>
            </a:r>
            <a:br>
              <a:rPr sz="3600"/>
            </a:br>
            <a:br>
              <a:rPr sz="3600"/>
            </a:br>
            <a:br>
              <a:rPr sz="3200"/>
            </a:br>
            <a:r>
              <a:rPr b="0" lang="en-US" sz="4800" spc="-1" strike="noStrike">
                <a:solidFill>
                  <a:srgbClr val="000066"/>
                </a:solidFill>
                <a:latin typeface="Arial Rounded MT Bold"/>
              </a:rPr>
              <a:t>Physician Quality and Cost Measures Update</a:t>
            </a:r>
            <a:endParaRPr b="0" lang="en-US" sz="4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7720" y="42670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ing Physicians Advisor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4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B. Valuck, MD, 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06C5-0EF0-4FA1-9005-AC886822E4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DRAFT</a:t>
            </a: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AA26-7555-46AA-A388-55127EECC9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Voluntary Reporting Program (PVRP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l of Potential Measures for PVRP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d October 16, 2006 at http://www.cms.hhs.gov/PVRP/Downloads/qualmeasures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6 unique measures covering 32 of 39 Medicare-designated medical speci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pool of potential measures for PVRP 2007 will be posted in Dec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7358-B3E3-4FBC-83CE-63CC54899F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Voluntary Reporting Program (PVRP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parameters for final 2007 measure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scope to cover as many medical specialties as feasible, without unduly burdening any one specialty with a disproportionate number of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preference to AQA-adopted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preference to NQF-endorsed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QA/NQF endorsed measures are not available, consider input from relevant professional associations and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preference to measures for which electronic data collection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2007 PVRP measure set will be posted in Dec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AEEF-AA70-489D-B615-15EDD5C53D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Cost Measures Over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2362320"/>
            <a:ext cx="784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Quality and Cost:  Pay for Performa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Coordination with External Entities on Cost of Care Measure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Episode Grouper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7E0CC-03CE-4919-8253-10D58435EE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e of the Institute of Medicine's Key Dimension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cy: absence of waste, overuse, misuse,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e of Medicine:  Crossing the Quality Chas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ew Health System for the 21st Century, March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9CB0-8443-483D-AA8C-6F7126503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:  When a given level of “output” is achieved at the lowest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ealth policy purposes, efficiency is attained when a given level of “quality of care” is achieved at the lowest total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8B47-F820-40CD-ABD8-E9BD479674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ar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measure of physician efficiency is the ratio of actual resource use (numerator) to expected resource use (denominator), given equivalent high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1B69-44EB-4800-A542-910D5CD162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are Measurement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measure and report quality of care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fair, measures should be adjusted for relevant practice differences that the physician canno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194A-06ED-4727-B31A-BDF2DB8951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Payment Advisory Commission (MedPA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ulatory Care Quality Alliance (A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Committee for Quality Assurance (NC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Quality Forum (NQ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C32C-23B1-4DCE-8E36-310BCE9CFF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' Physician Resource Use Workgroup has been addressing a March 2005 MedPAC recommendation, which MedPAC reiterated in their June 2006 Report to Cong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CMS should use Medicare claims data to measure fee-for-service physicians' resource use and share results with physicians confidentially to educate them about how they compare with aggregated peer performance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PAC:  Report to the Congress, March 2005, Chapt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0C96-5B52-4131-A95E-96F8D631D9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Physician Measures Overview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for Performanc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Qualit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Voluntary Reporting Program (PV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Cos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sode Groupe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Scanning and Opportunities f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A039-E67B-460B-BDA7-AC94C95BC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Cost of Care Measurement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meaningful, actionable, and fair cost of care measures of actual to expected physician resource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nk cost of care measures to quality of care measures for a comprehensive assessment of physicia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519C-DAD0-4357-8B83-0196EB0033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Episode Grou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technology that organizes claims data into a set of clinically coherent and and easily compared 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roprietary logic to map claims data to the vendor’s taxonomy of clinically homogeneous episod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both acute and chron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aims coding data from many sources, including ambulatory, hospital inpatient and outpatient, laboratory, pharmaceutica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5968-0FCA-4D5E-84E3-4293D76877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Episode Grouper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2819520"/>
            <a:ext cx="99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743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563868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88620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5638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 or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388620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4952880"/>
            <a:ext cx="12189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5029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pis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426708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42670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5638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028840" y="41911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333760" y="426708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23623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isode initiating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56386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5638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s--i.e., lab, radiology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828800" y="3276720"/>
            <a:ext cx="24379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9242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2438280"/>
            <a:ext cx="99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of episode after clean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56386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28954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events are not part of this epis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6000-E30D-416C-BF1A-B50511898D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sode Grouper Evaluatio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episode grouper technology work with CMS claims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ll does episode grouper technology adjust for differences among patients, such as severity of illness or presence of comorbid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pisode grouper technology be used to produce meaningful, actionable, and fair physician resource use rep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4B3F-F1FB-4FBE-9F40-427DAB67A1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Episode Grouper Evalu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hase evaluation, based on the three evaluatio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men is our evaluation con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episode grouper software methodology, risk adjustment, provider attribution and physician pro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oftware vendors have agreed to particip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enix -- Episode Treatment Groups (ET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Stat -- MedStat Episode Groups (ME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 due late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will also evaluate the soundness of the clinical logic used to construct each grouper’s classificat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1D8C-4DC2-44A6-AB38-189515837D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:  Data Configur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100% of Medicare fee-for-service claims from four states (Colorado, Florida, Oregon, Pennsylv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six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Str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fail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Prostate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Hip 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by establishing databases to examine episode grouper performance by CMS claim type (e.g., Part B, hospital inpatient and outpatient, home heal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1291A-2006-42E6-A2BB-917057C17F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:  Risk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pisode grouper's unique risk adjustment tools will be exa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form external risk adjustment tool will also be used to evaluate how different types of risk affect episode groupe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' HCC risk adjustmen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determine how risk adjustment can refine episodes to enhance fairness in physician resource use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A632-68EB-474B-B66E-E08F2CF13E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I:  Groupers as Physician Resource Use Report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developing resource use reports for six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test composite reporting for multiple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4DC8-520B-43E8-8EDD-AC1769BFA8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ggregation of prospective payment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comparis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volume episodes and the small "N"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time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of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 and consistency of physician resource use repor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1107-C723-4989-BFB0-8539173111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Logic of Episode Grou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MS is evaluating episode grouper clinic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 episode definitions and grouping algorithms have face validity for practicing physicia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groupers' matching of specific patients' claims to specific episodes logi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2841-F04D-400A-BDEE-9EF5F95D86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’ Quality Improvement Roadmap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through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quality and report comparativ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 for performance – improve quality and avoid unnecessa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doption of effective health informati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innovation and the evidence base for effective use of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0FF4-FB12-413F-8B88-9951F9F1C7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Logic of Episode Grou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simple, intermediate, and complex patient case studies for the six conditions from medical specialty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umen will identify Medicare patients fitting the case studies and will provide deidentified claims data and episode group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groups of practicing, board-certified physicians will examine the case studies, claims data, and episode grouper results to determine whether the episode groupings are 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399D-8A41-4163-861C-7ACE79CF0B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Horizon Scanning and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Opportunities for Particip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M Payment Incentiv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-part series: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thways to Quality Health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 studies on value-based purchasing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P legislation in 2006 lame duck session?  In next Congr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S Proposed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king public comment on the P4P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S Demonstrations and Pi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ic reports and opportunities to particip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S Implementation of DRA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pital and home health P4R; gainsharing 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for 2006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cy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ing to increase number of pilot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lliances and Quality Alliance Steering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A and HQA adoption of measure sets and oversight of transparenc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9D60-845B-4DEC-B90C-4EEBC3D306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Arial Rounded MT Bold"/>
              </a:rPr>
              <a:t>Thank You</a:t>
            </a:r>
            <a:endParaRPr b="0" lang="en-US" sz="4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52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B. Valuck, MD, J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thomas.valuck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10) 786-74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1B48-CB0E-47AF-903A-4B08BD6294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Does Pay for Performance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Mean to CMS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for promoting better quality, while avoiding unnecessar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payment incentives to achieve identified quality and efficienc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B564-42E8-4530-8036-9A24B0AE03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, cost, patient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and 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ay for Performance Elemen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52520" y="182844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measures or comp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inment and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us or dif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s and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E0D4-F5CD-4235-8213-24B7022E59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Voluntary Reporting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rogram (PVRP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ed January 1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and implement measures across all physician speci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ign and implement a data collection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physicians with confidential feedback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B107-C0A4-44E8-92C8-3A9E2DE2B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Voluntary Reporting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rogram (PVRP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ary reporting of quality data along with administrative claims to decrease report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et of 16 measures covering 19 medical speci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ed using G-codes (HCPCS codes) and CPT Category II codes, including exclusion codes, for each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specifications developed to guide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Q-IT reporting of quality measures using EHRs counts for PV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ing using patient registry data and EHRs for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95E4-7DC1-4B0C-BA41-D3C534A519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Voluntary Reporting Program (PVRP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Initia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3889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irin at arrival for acute myocardial infar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-blockers at arrival for acute myocardial infar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globin A1c control for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-density lipoprotein control for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blood pressure control for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 inhibitors or ARBs for left ventricular systolic dys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-blockers for history of acute myocardial infar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78600" y="2438280"/>
            <a:ext cx="38890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s assessment for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depressants for 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ysis dose for ES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atocrit level for ES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eriovenous fistula for di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biotic prophylaxis f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mboembolism prophylaxis f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mammary artery use for CA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operative beta-blocker for isolated CA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8954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5E0E-833D-4F99-9245-6ADE6D03C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Voluntary Reporting Program (PVRP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ng physicians will receive feedback on their data accuracy, reporting rates, and performanc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s must register to receive reports at qualityne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tial reports for second quarter CY2006 participants (April-June) will be available in 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077C-2946-4056-B2F1-FB7F2098FF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 </dc:creator>
  <dc:description/>
  <dc:language>en-US</dc:language>
  <cp:lastModifiedBy>CMS</cp:lastModifiedBy>
  <dcterms:modified xsi:type="dcterms:W3CDTF">2006-12-19T16:08:35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06286343</vt:r8>
  </property>
  <property fmtid="{D5CDD505-2E9C-101B-9397-08002B2CF9AE}" pid="3" name="_AuthorEmail">
    <vt:lpwstr>robin.phillips@cms.hhs.gov</vt:lpwstr>
  </property>
  <property fmtid="{D5CDD505-2E9C-101B-9397-08002B2CF9AE}" pid="4" name="_AuthorEmailDisplayName">
    <vt:lpwstr>Phillips, Robin R. (CMS/CMM)</vt:lpwstr>
  </property>
  <property fmtid="{D5CDD505-2E9C-101B-9397-08002B2CF9AE}" pid="5" name="_EmailSubject">
    <vt:lpwstr>PPAC - December 4th - Web posting</vt:lpwstr>
  </property>
  <property fmtid="{D5CDD505-2E9C-101B-9397-08002B2CF9AE}" pid="6" name="_NewReviewCycle">
    <vt:lpwstr/>
  </property>
  <property fmtid="{D5CDD505-2E9C-101B-9397-08002B2CF9AE}" pid="7" name="_PreviousAdHocReviewCycleID">
    <vt:r8>-637916283</vt:r8>
  </property>
</Properties>
</file>