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627-1CFD-4CE7-A309-C424DCD8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AF6F-5820-43AB-9079-260FF427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148-5A4F-43C1-ABE3-F0381CA4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E02-7209-406A-88AC-EC14EC64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812E-F2EE-4310-BC89-C24A911C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56BD-AA01-4EC3-9828-3D2F019C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508D-B0C5-4D00-8333-16B11D5D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DAAB-5DF7-4C84-BD53-3BE81E51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6070-F1DA-4189-824F-0561EA1D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E80F-9AED-48E3-944C-8F22CC92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6A58-1AEC-42B5-B592-DF5DCFC7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9844-8D58-47A0-A271-DB600D7D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A60F-FD1C-4A77-A603-777DAD1A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686E-D85C-44BB-8FE1-15FDA500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5C44-F146-4218-AFFF-ECE3E5C8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B50C-F094-4460-AEA8-96E87C7D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5FB0-3493-48BF-BABC-37FD7A49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EB5-0E97-4BB0-A8A5-BDE7404F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ADA4-5F8C-4921-AA99-7707F1FB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4161-1C2D-491C-AF89-82467A27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BE7-26B4-4104-9986-0A2E2E99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3164-B299-4637-98A4-2822A181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20FC-9AE0-4777-BB6A-12C2D96A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532C-CDD8-4868-88F3-B399B623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6B8C-67FB-487F-BF13-F30852DC0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" name=""/>
          <p:cNvGraphicFramePr/>
          <p:nvPr/>
        </p:nvGraphicFramePr>
        <p:xfrm>
          <a:off x="6934320" y="6046920"/>
          <a:ext cx="1676160" cy="81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6046920"/>
                    <a:ext cx="16761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6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8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4804-976B-4BA9-8EA8-B4C5F66C8B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2438280"/>
            <a:ext cx="7696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Hospital Outpatient Prospective Payment System and Ambulatory Surgical Center Payment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Carol Bazell, M.D., M. P. H, Acting Director, Division of Outpatient 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ember 4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CY 2007 Medicare Upda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0BA-E54B-44A8-A1AE-FA6F221732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Devices Replaced Without Cost or with Credit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59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006:  One payment rate for device insertion, even if the device was replaced without cost to the hospital or with a credit toward a costlier devic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007:  Reduce APC payments in these cases by amount of estimated device cost packaged into the APC payment rat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ayment reduced for certain APCs and their associated expensive devices, but only if the hospital reports receiving the device without cost or with a cred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57C-304D-4A61-9D07-E5D28CF450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Payment for Drugs, Biologicals, and Radiopharmaceutical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59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$50 packaging threshold updated annually, in $5 increments, using the Producer Price Index (PPI) for prescription drug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Y 2007 packaging threshold: $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5HT3 antiemetics exempt from packaging policy for CY 2007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rugs and Biologicals: ASP+6 percent for acquisition  and pharmacy overhead costs (identical to CY 2006 payment polic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adiopharmaceuticals: Paid at cost using the hospital overall CC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ECE-863A-489D-BA98-66B6D287C1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Drug Administration Services  </a:t>
            </a: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7454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Y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006:  Hospitals reported a combination of alphanumeric HCPCS codes and CPT c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Y 2007:  Hospitals report CPT drug administration codes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ayment:  6-level APC struct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emporary extension of special payment for preadministration-related services for the administration of IVIG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966A-464A-4F9D-AAFD-93C7BB821A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Brachytherapy Sourc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6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er MMA, brachytherapy sources paid at cost from 2004 through 20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Y 2007: Payment based on CY 2005 claims-based median cost per source. If no claims data, will utilize external da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nsistent with GAO report recommenda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utlier payments will be available for brachytherapy sources for CY 200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48FE-857A-4DDB-AB84-B88D00FDFD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ASC Overview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Arial"/>
              </a:rPr>
              <a:t>Nine payment group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Arial"/>
              </a:rPr>
              <a:t>Clinically disparat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Arial"/>
              </a:rPr>
              <a:t>Medicare paying $2.5 billion for about 4.5 million procedures performed annually in ASCs; 150 codes account for 90% of procedures; cataract surgery is highest volume procedure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Arial"/>
              </a:rPr>
              <a:t>Secretary specifies list of procedures safely performed in ASC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Arial"/>
              </a:rPr>
              <a:t>List of procedures updated every 2 year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Arial"/>
              </a:rPr>
              <a:t>Payment updates based on CPI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Arial"/>
              </a:rPr>
              <a:t>MMA mandates zero update through 2009.  Current payment rates are at FY 2002 level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3F5-5BD0-43E3-BDAF-8A743D95A8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Final CY 2007 ASC Upda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Y 2007 policies: CMS-1506-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9 services added to the current ASC lis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Jan 1, 2007:  2571 payable codes on ASC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mplements section 5103 of DRA:  For 2007, no procedure will be paid more in an ASC than in hospital OP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duces payment for 275 proced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mplements revised process for approval and requests to change payment for NTI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7D9-8F68-422D-8090-B61990C2E7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Proposed Changes for CY 2008 ASC Payment System: Overview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69608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Y 2008 final policies: To be published mid-2007, for January 1, 2008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ill be budget neutral, per MMA requir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AO to report to the Congress if OPPS APCs and relative weights are relevant for ASC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ould include all surgical procedures except those posing a significant safety risk or requiring an overnight st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/3 of the proposed additions are currently office-based proced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5B5-D259-4166-AC83-C2648F88FD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CY 2008 ASC Payment System: How Would Payment Rates Be Set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OPPS relative payment weights multiplied by the ASC conversion f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 subsequent years, scale weights so that changes to OPPS weights do not increase or decrease aggregate ASC pay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se IPPS wage index and current ASC labor/non-labor ra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Bottom Line: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posed conversion factor of $39.68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ayment rates from $3.68 to $16,1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71D3-EC4E-4A73-ACC1-4F9CC6452A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CY 2008 ASC Payment System:  Implementation Propos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98240" y="2209320"/>
            <a:ext cx="77454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008 payment transition: 50% of applicable CY 2007 payment rate plus 50% of applicable CY 2008 payment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ull payment under the new methodology in CY 200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ntinue current packaging, and include payment for surgically implanted devices, prosthetics, and implantable DME in the ASC facility f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2394-6573-42EC-8A52-B5CBFCF169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Contact Inform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arol Bazell, M.D., M.P.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cting Director, Division of Outpatient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ospital and Ambulatory Policy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enter for Medicar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10-786-69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arol.Bazell@cms.hhs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6B1-BCD4-4C0A-97E9-E633123ED1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Outl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Quality Measures for CY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nic and Emergency Department Visits and Critical Care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vice-Dependent A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vices Replaced Without Cost or with 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5FF-1684-4DDD-9298-AA0887B25E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Outline (continued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rugs, Biologicals,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adiopharmaceutica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rug Administr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rachytherapy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Y 2007 Ambulatory Surgical Center Payment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oposal for CY 2008: Revised Ambulatory Surgical Center Pay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3DA-9C93-4C6A-A3F0-ABBC33AD3B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Questions for the Counci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1828800"/>
            <a:ext cx="769608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ow well do physicians currently understand the outpatient hospital inpatient list?  Hospitals have asked that CMS work to improve physicians’ understanding of this list – what would be the best approach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ow do pharmacy overhead costs differ in a physician’s office as compared to an outpatient hospital clin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s current practice changing regarding the role of outpatient hospital observation care?  Are there specific clinical conditions where outpatient observation is particularly appropri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F73-6C20-4735-8F22-FECCC429EA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Key Websit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22840" y="650880"/>
            <a:ext cx="374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2362320"/>
            <a:ext cx="7162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utpatient Prospective Payment Sy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ms.hhs.gov/HospitalOutpatientPP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mbulatory Surgical Center Payment Syst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ttp://www.cms.hhs.gov/ASCPayment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033-F8AD-4107-B269-457E8E6E8B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Backgroun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ospital outpatient prospective payment rates: Based on relative payment weights calculated for groups of services (APCs) that are similar in terms of clinical characteristics and resource co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MS annually updates APC groups and weights using most rec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aim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st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age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610-B6DF-4288-8F3F-576A87CE11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OPPS Quality Initiative Launche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Y 2007 inflation update: 3.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Y 2007 estimated impact to hospitals: 3.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stimated CY 2006 Spending: $29.8 B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stimated CY 2007 Spending: $32.5 B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jected 9.2 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irst step toward value-based purchasing in OPPS:  Beginning in 2009, hospitals that fail to meet OPPS quality measure reporting standards (specific outpatient measures) would receive OPPS update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inus 2.0 percentage poi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162920" y="6046920"/>
          <a:ext cx="144756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046920"/>
                    <a:ext cx="14475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E251-CAC7-45D4-8FD8-0F846E45AC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Clinic and Emergency Department Visits and Critical Care Servic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82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ospitals continue to report CPT codes for vis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ayment at 5 levels, instead of 3 leve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MS to work with the AHA, AHIMA and others to develop national guidelines; no implementation prior to CY 200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ayment for critical care services at two levels, depending on whether trauma activation occu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ype A versus Type B Emergency Depart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edicated Emergency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MTALA regulations: 42 CFR 489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C0F-271D-4F9B-8290-D31C5A30F0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Device-Dependent AP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ayment: Based on the median cost of proced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Only used single procedure claims that contain correct device codes and no token charges (i.e. charges &lt; $1.01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o other adjustments mad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edian costs for most of these APCs increase compared to the adjusted median costs used to set the 2006 payment rate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4CB-3F1F-4755-A0B5-804A215AD5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6-12-19T16:32:19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57748644</vt:r8>
  </property>
  <property fmtid="{D5CDD505-2E9C-101B-9397-08002B2CF9AE}" pid="3" name="_AuthorEmail">
    <vt:lpwstr>robin.phillips@cms.hhs.gov</vt:lpwstr>
  </property>
  <property fmtid="{D5CDD505-2E9C-101B-9397-08002B2CF9AE}" pid="4" name="_AuthorEmailDisplayName">
    <vt:lpwstr>Phillips, Robin R. (CMS/CMM)</vt:lpwstr>
  </property>
  <property fmtid="{D5CDD505-2E9C-101B-9397-08002B2CF9AE}" pid="5" name="_EmailSubject">
    <vt:lpwstr>PPAC - December 4th - Web posting</vt:lpwstr>
  </property>
  <property fmtid="{D5CDD505-2E9C-101B-9397-08002B2CF9AE}" pid="6" name="_NewReviewCycle">
    <vt:lpwstr/>
  </property>
</Properties>
</file>