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781A-3D3C-43A4-997D-D94B5D975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5F0A-7166-48EC-BEA0-BC7467F34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16991-4297-4739-97C9-EDD31147D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E43F5-0825-47C4-8313-34C137B2CC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7B10B-FF6F-4697-89B7-B72E80D3D7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8393-6375-469E-ABE4-960A12B59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66BF-1ED9-4A2E-AB75-EEB8A59A4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1C8D1-7EC4-46F7-8560-5651CF29B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7850-D6F1-46B5-B2DA-81D13D72C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DAA0-4C64-4178-8DC2-172088934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D9A2-8C2C-4CE8-B223-7FB7EA771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B9C1A-625E-475A-BF11-5A43A4456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5DF3-7370-43B3-9B94-C2B9E8A8D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Update on the Competitive Acquisition Program (CAP)</a:t>
            </a:r>
            <a:br>
              <a:rPr sz="4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Amy Bass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ecember 5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5B10-DF85-4282-AC55-F009DBAA8C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Recent Changes to CAP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006 Physician Fee Schedule final rule included finalization of certain CAP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stablish processes for approved vendors to furnish      additional drugs in 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stablish processes for approved vendors to furnish new drugs in 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pdate the list of CAP drugs to incorporate the latest changes in the drug market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prove consistency between CAP and Medicare Part B drug policy on unused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stablish framework for vendors to enter into arrangements with CAP physici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D8529-434F-4ACA-BFF2-BE4EFBF14A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Recent Changes to CAP (cont’d)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separate IFC published on the same day as the PFS Final rule says that units of drugs supplied under CAP will be excluded from ASP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r first three yea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Vendors must assist manufacturers with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39E35-EF20-4091-9227-8269B9A6DD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Updated CAP Timelin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idding began with publication of rule on November 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idding closes December 2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hysician election to be held in 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P to be implemented July 1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dditional information available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ms.hhs.gov/providers/drugs/compbi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D8093-44EA-4404-BE3A-BB202224D1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my Bassano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410)786-30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my.bassano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4DC1C-38CD-4137-9B67-1C8F9CABA2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5-11-22T17:01:36Z</dcterms:modified>
  <cp:revision>167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79697655</vt:r8>
  </property>
  <property fmtid="{D5CDD505-2E9C-101B-9397-08002B2CF9AE}" pid="3" name="_AuthorEmail">
    <vt:lpwstr>amy.bassano@cms.hhs.gov</vt:lpwstr>
  </property>
  <property fmtid="{D5CDD505-2E9C-101B-9397-08002B2CF9AE}" pid="4" name="_AuthorEmailDisplayName">
    <vt:lpwstr>Bassano, Amy (CMS/CMM)</vt:lpwstr>
  </property>
  <property fmtid="{D5CDD505-2E9C-101B-9397-08002B2CF9AE}" pid="5" name="_EmailSubject">
    <vt:lpwstr>PPAC Presentations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