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C4E9C-04F3-4119-8396-19F53948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6C5E9-993B-4AC9-AAFA-9BA093D79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3D0E6-6F18-4DFE-93CF-77B65E613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04913-946B-4B81-9E88-AC17191CB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D495-9E8D-42DD-960E-EAE914663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E2342-B2BB-45DA-8E51-FCC61EE39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663B0-EE8B-4FE9-B840-B48692402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63A5-9DF0-4397-A237-B1F42F3D9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FB0D9-2490-45B7-8422-F6B24092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A93D-4750-425A-97F3-DD94B8D9F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82ED-EF69-41B9-A7A1-15FF19EA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020F-7008-4272-9B3B-904DA0777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5AA0-BC46-408E-81AB-17E783FD8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Trent.Haywood@cms.hhs.gov" TargetMode="External"/><Relationship Id="rId2" Type="http://schemas.openxmlformats.org/officeDocument/2006/relationships/hyperlink" Target="mailto:Michael.Rapp@cms.hhs.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ian Voluntary Reporting Progr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9548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t Haywood, MD, JD</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uty Chief Medical Office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hael T. Rapp, MD, JD</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 Quality Measurement and Health Assessment Group</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Clinical Standards and Qualit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s for Medicare and Medicaid Service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timore, Mary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pital Voluntary Reporting Initiativ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10 quality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20 quality meas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MMA added 0.4% incentive to hospitals to report the initial 10 quality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2003) approximately 400 hospitals participated. Now approximately 4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pital Voluntary Reporting Initiativ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 volunt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collected by retrospective chart abstrac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ted to QIO data warehou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ation for QualityNetEx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transmission and receipt of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ay be suppressed by hospitals after preview for ten measures not part of reporting incentiv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ian Voluntary Reporting Program</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s Volunt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occurs by submitting G code on claims for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claims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trospective chart abstraction requi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gistration process for data submission requir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reports to physicia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reports will include</a:t>
            </a:r>
            <a:endParaRPr b="0" lang="en-US" sz="32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and count) of applicable patients for whom G code reported</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and count) of patients for whom the desired performance achieved</a:t>
            </a:r>
            <a:endParaRPr b="0" lang="en-US" sz="2800" spc="-1" strike="noStrike">
              <a:solidFill>
                <a:srgbClr val="000000"/>
              </a:solidFill>
              <a:latin typeface="Arial"/>
            </a:endParaRPr>
          </a:p>
          <a:p>
            <a:pPr lvl="1" marL="542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42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Reports to physicia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reports are optional to physic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at practice (Tax ID number) not UPIN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through secure QIO internet site (QualityNetExch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ation process required to receive information re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to Physicia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eive confidential information repor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pare performance with physicians in region, state, and nation To participate in trial of clinical information repor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lp contribute to refinement and evaluation of clinical data repor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in preparation for pay for  performance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reports to physicia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will inform physici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to which successful in identifying patients on whom to report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success in quality performance for selected condi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328760" y="700200"/>
          <a:ext cx="6486480" cy="5457600"/>
        </p:xfrm>
        <a:graphic>
          <a:graphicData uri="http://schemas.openxmlformats.org/presentationml/2006/ole">
            <p:oleObj progId="Excel.Sheet.12" r:id="rId1" spid="">
              <p:embed/>
              <p:pic>
                <p:nvPicPr>
                  <p:cNvPr id="74" name="" descr=""/>
                  <p:cNvPicPr/>
                  <p:nvPr/>
                </p:nvPicPr>
                <p:blipFill>
                  <a:blip r:embed="rId2"/>
                  <a:stretch/>
                </p:blipFill>
                <p:spPr>
                  <a:xfrm>
                    <a:off x="1328760" y="700200"/>
                    <a:ext cx="6486480" cy="54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nical Data Reporting PVRP</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data necessary to measure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 claims data not sufficient for quality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abstra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Medical Reco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 claims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chanism for Clinical Quality Data Reporting - PVRP</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codes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PHS temporary code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port the process or outcome</a:t>
            </a:r>
            <a:endParaRPr b="0" lang="en-US" sz="28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chieved</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on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all Purpos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mprove quality of care provided to Medicare FFS benefici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easure Specification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omin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sion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age calc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ercentage of patients with diabetes whose most recent HbA1C test was less than 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 Codes relation to quality measur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baseline="30000">
                <a:solidFill>
                  <a:srgbClr val="000000"/>
                </a:solidFill>
                <a:latin typeface="Arial"/>
              </a:rPr>
              <a:t>st</a:t>
            </a:r>
            <a:r>
              <a:rPr b="0" lang="en-US" sz="3200" spc="-1" strike="noStrike">
                <a:solidFill>
                  <a:srgbClr val="000000"/>
                </a:solidFill>
                <a:latin typeface="Arial"/>
              </a:rPr>
              <a:t> G Code - achie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counted in numer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baseline="30000">
                <a:solidFill>
                  <a:srgbClr val="000000"/>
                </a:solidFill>
                <a:latin typeface="Arial"/>
              </a:rPr>
              <a:t>nd</a:t>
            </a:r>
            <a:r>
              <a:rPr b="0" lang="en-US" sz="3200" spc="-1" strike="noStrike">
                <a:solidFill>
                  <a:srgbClr val="000000"/>
                </a:solidFill>
                <a:latin typeface="Arial"/>
              </a:rPr>
              <a:t> G Code – not achie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Not counted in numer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baseline="30000">
                <a:solidFill>
                  <a:srgbClr val="000000"/>
                </a:solidFill>
                <a:latin typeface="Arial"/>
              </a:rPr>
              <a:t>rd</a:t>
            </a:r>
            <a:r>
              <a:rPr b="0" lang="en-US" sz="3200" spc="-1" strike="noStrike">
                <a:solidFill>
                  <a:srgbClr val="000000"/>
                </a:solidFill>
                <a:latin typeface="Arial"/>
              </a:rPr>
              <a:t> G Code &amp; 4</a:t>
            </a:r>
            <a:r>
              <a:rPr b="0" lang="en-US" sz="3200" spc="-1" strike="noStrike" baseline="30000">
                <a:solidFill>
                  <a:srgbClr val="000000"/>
                </a:solidFill>
                <a:latin typeface="Arial"/>
              </a:rPr>
              <a:t>th</a:t>
            </a:r>
            <a:r>
              <a:rPr b="0" lang="en-US" sz="3200" spc="-1" strike="noStrike">
                <a:solidFill>
                  <a:srgbClr val="000000"/>
                </a:solidFill>
                <a:latin typeface="Arial"/>
              </a:rPr>
              <a:t> G Code - ex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Not counted in either numerator or denomin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nominator Cod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population for whom G Code (numerator appl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D-9 C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C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nominator Codes relation to the Quality Measur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atient claim form includes any of the identified denominator co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d in the denomina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excluded by use of 3</a:t>
            </a:r>
            <a:r>
              <a:rPr b="0" lang="en-US" sz="2800" spc="-1" strike="noStrike" baseline="30000">
                <a:solidFill>
                  <a:srgbClr val="000000"/>
                </a:solidFill>
                <a:latin typeface="Arial"/>
              </a:rPr>
              <a:t>rd</a:t>
            </a:r>
            <a:r>
              <a:rPr b="0" lang="en-US" sz="2800" spc="-1" strike="noStrike">
                <a:solidFill>
                  <a:srgbClr val="000000"/>
                </a:solidFill>
                <a:latin typeface="Arial"/>
              </a:rPr>
              <a:t> or 4</a:t>
            </a:r>
            <a:r>
              <a:rPr b="0" lang="en-US" sz="2800" spc="-1" strike="noStrike" baseline="30000">
                <a:solidFill>
                  <a:srgbClr val="000000"/>
                </a:solidFill>
                <a:latin typeface="Arial"/>
              </a:rPr>
              <a:t>th</a:t>
            </a:r>
            <a:r>
              <a:rPr b="0" lang="en-US" sz="2800" spc="-1" strike="noStrike">
                <a:solidFill>
                  <a:srgbClr val="000000"/>
                </a:solidFill>
                <a:latin typeface="Arial"/>
              </a:rPr>
              <a:t> G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ary Criteri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decided by physician based on G c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pecified by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Procedur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Coder determines whether denominator specified ICD-9 and CPT codes are applic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enominator specified code is applicable, then report one of the listed G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nominator</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 Hemoglobin A1c control in patient with Type I or Type II diabetes mellit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nomin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atients with diabe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D-9-CM: 250.0-250.9 (DM), 357.2 (polyneuropathy in DM), 362.0 (DM retinopathy), 366.41 (DM cataract), 648.0 (DM in pregnancy, not gestation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mp;M visit:  99201-99205, 99211-99215 (E&amp;M), 99341-99350 (home visit); 99304-99310 (nursing facility); 99324-99328, 99334-99337 (domiciliary visit); G034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or</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Hemoglobin A1c control in patient with Type I or Type II diabetes mellitu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umer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8016: Diabetic patient with most recent HbA1c level (within the last 6 months) documented as less  than or equal to 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8015: Diabetic patient with most recent HbA1c level (within the last 6 months) documented as greater than 9%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8017: Clinician documented that diabetic patient was not eligible candidate for HbA1c measu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8018: Clinician has not provided care for the diabetic patient for the required time for HbA1c measure (6 month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Hemoglobin A1c control in patient with Type I or Type II diabetes mellit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truc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measure is reported using the appropriate quality G-code indicator whenever the listed ICD-9 codes are used and the listed E&amp;M services are provided to patients with diabetes mellitus for the primary management of diabetes mellitus. It is not anticipated that clinicians would use this indicator if the clinician is not providing services for the primary management of diabetes mellit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nominator</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Osteoporosis screening in elderly female</a:t>
            </a:r>
            <a:r>
              <a:rPr b="0" lang="en-US" sz="2000" spc="-1" strike="noStrike">
                <a:solidFill>
                  <a:srgbClr val="000000"/>
                </a:solidFill>
                <a:latin typeface="Arial"/>
              </a:rPr>
              <a:t> </a:t>
            </a:r>
            <a:r>
              <a:rPr b="1" lang="en-US" sz="2000" spc="-1" strike="noStrike">
                <a:solidFill>
                  <a:srgbClr val="000000"/>
                </a:solidFill>
                <a:latin typeface="Arial"/>
              </a:rPr>
              <a:t>patien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nomin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emale patients 75 years of age or older:</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mp;M visit: 99201-99205, 99211-99215 (E&amp;M); 99241-99245 (office consult); 99304-99306, 99307-99310 (nursing facility); 99341-99350 (home vis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patients 75 years of age or olde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Goal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itiate mechanism to measure physician quality of care provided to beneficiaries and to ultimately reward physicians for quality of care perform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ator</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Osteoporosis assessment in elderly female</a:t>
            </a:r>
            <a:r>
              <a:rPr b="0" lang="en-US" sz="2400" spc="-1" strike="noStrike">
                <a:solidFill>
                  <a:srgbClr val="000000"/>
                </a:solidFill>
                <a:latin typeface="Arial"/>
              </a:rPr>
              <a:t> </a:t>
            </a:r>
            <a:r>
              <a:rPr b="1" lang="en-US" sz="2400" spc="-1" strike="noStrike">
                <a:solidFill>
                  <a:srgbClr val="000000"/>
                </a:solidFill>
                <a:latin typeface="Arial"/>
              </a:rPr>
              <a:t>pati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umera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8051</a:t>
            </a:r>
            <a:r>
              <a:rPr b="0" lang="en-US" sz="2400" spc="-1" strike="noStrike">
                <a:solidFill>
                  <a:srgbClr val="000000"/>
                </a:solidFill>
                <a:latin typeface="Arial"/>
              </a:rPr>
              <a:t>: Patient (female) documented to have been assessed for osteoporosi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8052</a:t>
            </a:r>
            <a:r>
              <a:rPr b="0" lang="en-US" sz="2400" spc="-1" strike="noStrike">
                <a:solidFill>
                  <a:srgbClr val="000000"/>
                </a:solidFill>
                <a:latin typeface="Arial"/>
              </a:rPr>
              <a:t>: Patient (female) not documented to have been assessed for osteoporosi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8053</a:t>
            </a:r>
            <a:r>
              <a:rPr b="0" lang="en-US" sz="2400" spc="-1" strike="noStrike">
                <a:solidFill>
                  <a:srgbClr val="000000"/>
                </a:solidFill>
                <a:latin typeface="Arial"/>
              </a:rPr>
              <a:t>: Clinician documented that patient was not an eligible candidate for osteoporosis assessment mea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Title : Osteoporosis screening in elderly female</a:t>
            </a:r>
            <a:r>
              <a:rPr b="0" lang="en-US" sz="2000" spc="-1" strike="noStrike">
                <a:solidFill>
                  <a:srgbClr val="000000"/>
                </a:solidFill>
                <a:latin typeface="Arial"/>
              </a:rPr>
              <a:t> </a:t>
            </a:r>
            <a:r>
              <a:rPr b="1" lang="en-US" sz="2000" spc="-1" strike="noStrike">
                <a:solidFill>
                  <a:srgbClr val="000000"/>
                </a:solidFill>
                <a:latin typeface="Arial"/>
              </a:rPr>
              <a:t>patien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struction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measure is reported using the appropriate quality G-code indicator whenever the listed CPT services are provided to geriatric patients. This indicator, as well as other indicators related to assessments, should be provided only on an annual basis. It is anticipated that the clinical assessment would include counseling the patient about the risk of osteoporosis and the potential need for preventive therap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codes offer efficient means to report clinical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claims submission process rather than separate data sub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data can be identified at time of visit rather than through chart abstra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important purpose to help assess health care qua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mportant aggregated information to which physicians generally do not have a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with traditional approach of physicians to quality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the Council</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advise for using claims data for the reporting of quality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we do to improve the system to maximize physician particip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envision other mechanisms to collect data to avoid chart abstra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hat extent do you believe hospital data collection alone can be used to assess physician servi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nt Haywood, MD, J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uty Chief Medical Offic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Trent.Haywood@cms.hhs.gov</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chael T. Rapp, MD, J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or, Quality Measurement and Health Assessment Gro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Michael.Rapp@cms.hhs.gov</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c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quality care should be financially rewar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quality care benefits patients and may reduce overall 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quality care costs more to prov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quality care is worth mor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to Reward Physician Quality</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onsensus quality measures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id, reliable, and evidence bas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 for reporting of clinical quality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formance measurement using clinical quality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feedback to practition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centive to report clinical quality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centive to reward practitioners and reimburse for additional costs related to high quality performa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Physician Consensus Quality Measur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 Physicians Consortium for Performance Improvement (PCP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ittee on Quality Assurance (NCQ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Specialty organ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through contr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orsement of Physician Quality Measur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Quality Foru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ulatory Care Quality Measur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PI and NCQA develop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contributes to endorsement funding</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us Physicians Measures Development</a:t>
            </a:r>
            <a:endParaRPr b="0" lang="en-US" sz="4400" spc="-1" strike="noStrike">
              <a:solidFill>
                <a:srgbClr val="000000"/>
              </a:solidFill>
              <a:latin typeface="Arial"/>
            </a:endParaRPr>
          </a:p>
        </p:txBody>
      </p:sp>
      <p:sp>
        <p:nvSpPr>
          <p:cNvPr id="56" name="PlaceHolder 2"/>
          <p:cNvSpPr>
            <a:spLocks noGrp="1"/>
          </p:cNvSpPr>
          <p:nvPr>
            <p:ph/>
          </p:nvPr>
        </p:nvSpPr>
        <p:spPr>
          <a:xfrm>
            <a:off x="457200" y="1371240"/>
            <a:ext cx="8305920" cy="47545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Care Measur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betes Measur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measures for other physicians</a:t>
            </a:r>
            <a:endParaRPr b="0" lang="en-US" sz="32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pecialty societies at work</a:t>
            </a:r>
            <a:endParaRPr b="0" lang="en-US" sz="24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MS contract with Mathematica Policy Research with subcontracts to AMA and NCQA to develop physician “specialty” measures</a:t>
            </a:r>
            <a:endParaRPr b="0" lang="en-US" sz="2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Voluntary Reporting Initiativ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 Surgical Complications Improvement Program (SCIP)</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pital Voluntary Reporting Initiativ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ed by AHA, FAH, AAM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ed by JCAHO, CMS, NQF and AHR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improve performance and make more information about quality available to the publ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6:18:53Z</dcterms:created>
  <dc:creator>CMS</dc:creator>
  <dc:description/>
  <dc:language>en-US</dc:language>
  <cp:lastModifiedBy>CMS</cp:lastModifiedBy>
  <dcterms:modified xsi:type="dcterms:W3CDTF">2005-11-29T19:25:26Z</dcterms:modified>
  <cp:revision>17</cp:revision>
  <dc:subject/>
  <dc:title>Physician Voluntary Reporting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6417239</vt:r8>
  </property>
  <property fmtid="{D5CDD505-2E9C-101B-9397-08002B2CF9AE}" pid="3" name="_AuthorEmail">
    <vt:lpwstr>David.Clark@cms.hhs.gov</vt:lpwstr>
  </property>
  <property fmtid="{D5CDD505-2E9C-101B-9397-08002B2CF9AE}" pid="4" name="_AuthorEmailDisplayName">
    <vt:lpwstr>Clark, David C. (CMS/CMM)</vt:lpwstr>
  </property>
  <property fmtid="{D5CDD505-2E9C-101B-9397-08002B2CF9AE}" pid="5" name="_EmailSubject">
    <vt:lpwstr>Revised Dr. Rapp Presentation</vt:lpwstr>
  </property>
  <property fmtid="{D5CDD505-2E9C-101B-9397-08002B2CF9AE}" pid="6" name="_NewReviewCycle">
    <vt:lpwstr/>
  </property>
  <property fmtid="{D5CDD505-2E9C-101B-9397-08002B2CF9AE}" pid="7" name="_ReviewingToolsShownOnce">
    <vt:lpwstr/>
  </property>
</Properties>
</file>