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1B942-A75F-4F81-97AD-772FAF7E9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7694-467A-447C-AE74-F489672EF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F316F-BB62-486B-ADCA-068B39891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685BA-3EA3-4E9F-A5E1-DC0FF8743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5AA8B-9A21-4D40-AE73-53C2C11C6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7A8B-3053-4197-BB70-505D086E7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98ABA-BBBE-4B50-90BE-CCFB6F6E7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68708-5840-4E75-A46D-EA10FAC67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2C2FE-A75F-43CE-8DAC-D14F1B0F3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65BC-87AD-4BF5-8F36-C7E753596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D04A6-A2BD-44D8-BAAA-FE7AA6B0E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8904C-925E-45AD-8B80-6DA384CD9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B1E80-FA6D-4B6A-937A-2287A54A3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E6759-B430-4E3E-A902-1918038CF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58BCC-B04B-4FA8-AFFA-2B4CECD47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48E61-8699-4D28-AE4E-8181AE8AD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5C4DE-19CF-4719-AEBB-667DFDF66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75B0-D806-4B85-B218-874720DBC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9B3A-D278-4072-9171-27B7C8C9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2E68-311A-4ADE-BB18-4F2507632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945D6-0CC1-474E-A1AD-0A06D7D2D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F5EA-4972-4031-866F-E6399E674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9D31-66BF-4D40-A318-4187F0DDC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7AEF-A3A7-44D2-B761-E1475F676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3451-3509-4E9B-8B30-C78F301F9A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FFFD-19C7-47AA-81E8-D21DEE8F30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7"/>
                </a:solidFill>
                <a:latin typeface="Arial"/>
              </a:rPr>
              <a:t> </a:t>
            </a:r>
            <a:r>
              <a:rPr b="0" lang="en-US" sz="4000" spc="-1" strike="noStrike">
                <a:solidFill>
                  <a:srgbClr val="ffff07"/>
                </a:solidFill>
                <a:latin typeface="Arial"/>
              </a:rPr>
              <a:t>PRIT REPORT</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7"/>
                </a:solidFill>
                <a:latin typeface="Times New Roman"/>
              </a:rPr>
              <a:t>Dr William Roger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1752480" y="4038480"/>
            <a:ext cx="6400800" cy="1752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7"/>
                </a:solidFill>
                <a:latin typeface="Arial"/>
              </a:rPr>
              <a:t>Practicing Physicians Advisory Council</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7"/>
                </a:solidFill>
                <a:latin typeface="Arial"/>
              </a:rPr>
              <a:t>December 5, 2005</a:t>
            </a:r>
            <a:endParaRPr b="0" lang="en-US" sz="2400" spc="-1" strike="noStrike">
              <a:solidFill>
                <a:srgbClr val="ffffff"/>
              </a:solidFill>
              <a:latin typeface="Times New Roman"/>
            </a:endParaRPr>
          </a:p>
        </p:txBody>
      </p:sp>
      <p:graphicFrame>
        <p:nvGraphicFramePr>
          <p:cNvPr id="147" name=""/>
          <p:cNvGraphicFramePr/>
          <p:nvPr/>
        </p:nvGraphicFramePr>
        <p:xfrm>
          <a:off x="3416400" y="2058840"/>
          <a:ext cx="3657600" cy="181080"/>
        </p:xfrm>
        <a:graphic>
          <a:graphicData uri="http://schemas.openxmlformats.org/presentationml/2006/ole">
            <p:oleObj r:id="rId1" spid="">
              <p:embed/>
              <p:pic>
                <p:nvPicPr>
                  <p:cNvPr id="148"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149" name=""/>
          <p:cNvGraphicFramePr/>
          <p:nvPr/>
        </p:nvGraphicFramePr>
        <p:xfrm>
          <a:off x="6781680" y="5791320"/>
          <a:ext cx="1676520" cy="811080"/>
        </p:xfrm>
        <a:graphic>
          <a:graphicData uri="http://schemas.openxmlformats.org/presentationml/2006/ole">
            <p:oleObj r:id="rId3" spid="">
              <p:embed/>
              <p:pic>
                <p:nvPicPr>
                  <p:cNvPr id="150" name="" descr=""/>
                  <p:cNvPicPr/>
                  <p:nvPr/>
                </p:nvPicPr>
                <p:blipFill>
                  <a:blip r:embed="rId4"/>
                  <a:stretch/>
                </p:blipFill>
                <p:spPr>
                  <a:xfrm>
                    <a:off x="6781680" y="5791320"/>
                    <a:ext cx="1676520" cy="811080"/>
                  </a:xfrm>
                  <a:prstGeom prst="rect">
                    <a:avLst/>
                  </a:prstGeom>
                  <a:ln w="0">
                    <a:noFill/>
                  </a:ln>
                </p:spPr>
              </p:pic>
            </p:oleObj>
          </a:graphicData>
        </a:graphic>
      </p:graphicFrame>
      <p:sp>
        <p:nvSpPr>
          <p:cNvPr id="1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7"/>
                </a:solidFill>
                <a:latin typeface="Times New Roman"/>
              </a:rPr>
              <a:t>MEDICARE</a:t>
            </a:r>
            <a:endParaRPr b="0" lang="en-US" sz="5400" spc="-1" strike="noStrike">
              <a:solidFill>
                <a:srgbClr val="00ffff"/>
              </a:solidFill>
              <a:latin typeface="Times New Roman"/>
            </a:endParaRPr>
          </a:p>
        </p:txBody>
      </p:sp>
      <p:sp>
        <p:nvSpPr>
          <p:cNvPr id="3" name="PlaceHolder 2"/>
          <p:cNvSpPr>
            <a:spLocks noGrp="1"/>
          </p:cNvSpPr>
          <p:nvPr>
            <p:ph type="sldNum" idx="3"/>
          </p:nvPr>
        </p:nvSpPr>
        <p:spPr/>
        <p:txBody>
          <a:bodyPr/>
          <a:p>
            <a:fld id="{25C5B396-1E78-4C10-A52E-8781B5C150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6781680" y="6046920"/>
          <a:ext cx="1676520" cy="811080"/>
        </p:xfrm>
        <a:graphic>
          <a:graphicData uri="http://schemas.openxmlformats.org/presentationml/2006/ole">
            <p:oleObj r:id="rId1" spid="">
              <p:embed/>
              <p:pic>
                <p:nvPicPr>
                  <p:cNvPr id="171"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72" name=""/>
          <p:cNvSpPr/>
          <p:nvPr/>
        </p:nvSpPr>
        <p:spPr>
          <a:xfrm>
            <a:off x="1066680" y="-50040"/>
            <a:ext cx="8077320" cy="65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Recovery Audit Contrac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ssue: The American College of Physicians is concerned that the Recovery Audit Contracts (RACs) initiative has potential to be burdensome and intrusive to providers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tatus: January 14: The PRIT is interested in hearing from providers that have had positive or negative experiences with a RAC.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ebruary 7: This initiative is slated to start in 3 states in May 2005. Physicians will be able to appeal to their carriers any overpayments the contractors may find. The contractors will also pass along underpayment information to the carrier so the carrier can appropriately pay the money to the physicians. More information can be found at this Medlearn Matters article: SE0469 (pdf 272KB)</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March 16: The Practicing Physician’s Advisory Council met yesterday and discussed this issue. The PRIT is participating in a series of regularly scheduled meetings concerning RACs and is working to ensure this process runs as smoothly as possible. It was also discussed by CMS Administrator Dr. McClellan at the American Medical Association’s Advocacy Conference on March 15th.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pril 8: The PRIT will keep the issue active since the program does not start until May. We want to make sure providers know that we are here to address their issues.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pril 13: CMS will hold an Open Door Forum specifically on Recovery Audit Contractors (RACs) on April 28th.  For more information about this ODF, visit http://www.cms.hhs.gov/opendoor/schedule.asp</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pril 27: The PRIT met today with the AMA about the impact of the RAC on their physicians.  A RAC fact sheet can be found at http://www.cms.hhs.gov/opendoor/042005/rac_fac.pdf</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pril 28:  There was a Special ODF on Recovery Audit Contractors today.  RACs will also be discussed at the May 23 PPAC meeting.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July 7: As of today we have heard nothing from the provider community concerning RAC audits.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eptember 19: RAC contractors are beginning to look at Part B claims.  Communication with providers is very important to us at this time.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ctober 25: A second Medlearn Matters article on RACs was released.  The physician community has not contacted us about any RAC audits.  </a:t>
            </a:r>
            <a:endParaRPr b="0" lang="en-US" sz="1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 name="PlaceHolder 1"/>
          <p:cNvSpPr>
            <a:spLocks noGrp="1"/>
          </p:cNvSpPr>
          <p:nvPr>
            <p:ph type="sldNum" idx="3"/>
          </p:nvPr>
        </p:nvSpPr>
        <p:spPr/>
        <p:txBody>
          <a:bodyPr/>
          <a:p>
            <a:fld id="{420C607A-0BD3-4AE9-8FD6-19C80BCAC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73" name=""/>
          <p:cNvGraphicFramePr/>
          <p:nvPr/>
        </p:nvGraphicFramePr>
        <p:xfrm>
          <a:off x="6781680" y="6046920"/>
          <a:ext cx="1676520" cy="811080"/>
        </p:xfrm>
        <a:graphic>
          <a:graphicData uri="http://schemas.openxmlformats.org/presentationml/2006/ole">
            <p:oleObj r:id="rId1" spid="">
              <p:embed/>
              <p:pic>
                <p:nvPicPr>
                  <p:cNvPr id="174"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75" name=""/>
          <p:cNvSpPr/>
          <p:nvPr/>
        </p:nvSpPr>
        <p:spPr>
          <a:xfrm>
            <a:off x="1066680" y="-1800"/>
            <a:ext cx="807732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Competitive Acquisition Progra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Oncologists and other physicians who administer drugs in their office have expressed concerns about the user friendliness of the competitive acquisition program plan for January 2006.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January 14: We are discussing ways to beta test this process before the program start dat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ch 9: Physician concerns were discussed at the PPAC. CMS now has a website to keep providers informed as this program is developed: http://www.cms.hhs.gov/providers/drugs/compbid/default.as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ne 27: CMS released the Competitive Acquisition Program interim final rule.  The fact sheet and regulation are worth read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gust 3: CMS is suspending the current CAP vendor bidding process. CMS is suspending the bidding at this time to allow us to more fully review public comments to the CAP IFC (CMS-1325-IFC) as well as to implement further clarifications to the bidding process before CMS proceeds to accept bids from vendors. More information can be found here: http://www.cms.hhs.gov/providers/drugs/compbid/default.as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60D9E7-63E4-48F7-9145-10A4F592B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
          <p:cNvSpPr/>
          <p:nvPr/>
        </p:nvSpPr>
        <p:spPr>
          <a:xfrm>
            <a:off x="1143000" y="-92160"/>
            <a:ext cx="80010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Cardiac Rehab Supervis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There is debate about whether Emergency physicians should be permitted to supervise Phase II cardiac rehab under some circumstanc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April 23: This issue was brought to the PRIT by a hospital in Oregon. We are currently examining option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ne 16:The OIG will soon publish a report on this subject. We cannot formulate a new regulation until that report is release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ly 14: While internal development at a policy proceeds we still are awaiting the final OIG repor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gust 16: OIG report slated for publication in Septemb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ptember 14: We spoke to the ACC CAC and they reinforced the importance of this issue to their members. The Committee on Technology and Innovation is addressing the issue seriously but an interim fix may be possib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ne 29: The Office of Clinical Standards and Quality (OCSQ) has opened a new national coverage decision which can be tracked online.  Public comment is very important to help CMS develop a well formulated coverage decis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25:  AHRQ is evaluating the scientific evidence concerning cardiac rehab and preparing a report which we hope to have on the Coverage website within a month. The report will be very important to the draft coverage decision which will follow it.  </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9656750-BDC4-47C6-8EB9-B5CFA62D7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6781680" y="6046920"/>
          <a:ext cx="1676520" cy="811080"/>
        </p:xfrm>
        <a:graphic>
          <a:graphicData uri="http://schemas.openxmlformats.org/presentationml/2006/ole">
            <p:oleObj r:id="rId1" spid="">
              <p:embed/>
              <p:pic>
                <p:nvPicPr>
                  <p:cNvPr id="178"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79" name=""/>
          <p:cNvSpPr/>
          <p:nvPr/>
        </p:nvSpPr>
        <p:spPr>
          <a:xfrm>
            <a:off x="1066680" y="-17640"/>
            <a:ext cx="807732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Clarifying the rules concerning volunteer Graduate Medical Edu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Teaching physicians feel that the rules concerning the use of volunteer faculties are unclear and difficult to impleme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April 14: Dr. McClellan met this week with a group of teaching physicians and encouraged them to provide us with specific examples so that we can clarify CMS polic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ne 29: 112 members of Congress sent a letter to Dr. McClellan about this issue.  In his letter of reply, he committed to a new set of Frequently Asked Questions and an in depth review of our audit procedures concerning teaching physician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93C122B-FD60-47EC-933F-32054585A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7"/>
                </a:solidFill>
                <a:latin typeface="Times New Roman"/>
              </a:rPr>
              <a:t>Contact Information</a:t>
            </a:r>
            <a:endParaRPr b="0" lang="en-US" sz="44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William Rogers, MD FACEP </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202-236-3338</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illiam.Rogers@cms.hhs.gov</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PRIT@cms.hhs.gov</a:t>
            </a:r>
            <a:endParaRPr b="0" lang="en-US" sz="3200" spc="-1" strike="noStrike">
              <a:solidFill>
                <a:srgbClr val="ffffff"/>
              </a:solidFill>
              <a:latin typeface="Times New Roman"/>
            </a:endParaRPr>
          </a:p>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http://www.cms.hhs.gov/physicians/prit/</a:t>
            </a:r>
            <a:endParaRPr b="0" lang="en-US" sz="3200" spc="-1" strike="noStrike">
              <a:solidFill>
                <a:srgbClr val="ffffff"/>
              </a:solidFill>
              <a:latin typeface="Times New Roman"/>
            </a:endParaRPr>
          </a:p>
        </p:txBody>
      </p:sp>
      <p:graphicFrame>
        <p:nvGraphicFramePr>
          <p:cNvPr id="182" name=""/>
          <p:cNvGraphicFramePr/>
          <p:nvPr/>
        </p:nvGraphicFramePr>
        <p:xfrm>
          <a:off x="6781680" y="5791320"/>
          <a:ext cx="1676520" cy="811080"/>
        </p:xfrm>
        <a:graphic>
          <a:graphicData uri="http://schemas.openxmlformats.org/presentationml/2006/ole">
            <p:oleObj r:id="rId3" spid="">
              <p:embed/>
              <p:pic>
                <p:nvPicPr>
                  <p:cNvPr id="183"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sldNum" idx="3"/>
          </p:nvPr>
        </p:nvSpPr>
        <p:spPr/>
        <p:txBody>
          <a:bodyPr/>
          <a:p>
            <a:fld id="{FE1B66EC-24DB-43D1-90EA-49EFE606483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7"/>
                </a:solidFill>
                <a:latin typeface="Times New Roman"/>
              </a:rPr>
              <a:t>Outline</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ffff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7"/>
                </a:solidFill>
                <a:latin typeface="Times New Roman"/>
              </a:rPr>
              <a:t>PRIT Update</a:t>
            </a:r>
            <a:endParaRPr b="0" lang="en-US" sz="3200" spc="-1" strike="noStrike">
              <a:solidFill>
                <a:srgbClr val="ffffff"/>
              </a:solidFill>
              <a:latin typeface="Times New Roman"/>
            </a:endParaRPr>
          </a:p>
        </p:txBody>
      </p:sp>
      <p:graphicFrame>
        <p:nvGraphicFramePr>
          <p:cNvPr id="154" name=""/>
          <p:cNvGraphicFramePr/>
          <p:nvPr/>
        </p:nvGraphicFramePr>
        <p:xfrm>
          <a:off x="6781680" y="5791320"/>
          <a:ext cx="1676520" cy="811080"/>
        </p:xfrm>
        <a:graphic>
          <a:graphicData uri="http://schemas.openxmlformats.org/presentationml/2006/ole">
            <p:oleObj r:id="rId1" spid="">
              <p:embed/>
              <p:pic>
                <p:nvPicPr>
                  <p:cNvPr id="155"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156" name="" descr=""/>
          <p:cNvPicPr/>
          <p:nvPr/>
        </p:nvPicPr>
        <p:blipFill>
          <a:blip r:embed="rId3"/>
          <a:stretch/>
        </p:blipFill>
        <p:spPr>
          <a:xfrm>
            <a:off x="4075200" y="304920"/>
            <a:ext cx="4883040" cy="5459400"/>
          </a:xfrm>
          <a:prstGeom prst="rect">
            <a:avLst/>
          </a:prstGeom>
          <a:ln w="0">
            <a:noFill/>
          </a:ln>
        </p:spPr>
      </p:pic>
      <p:sp>
        <p:nvSpPr>
          <p:cNvPr id="4" name="PlaceHolder 3"/>
          <p:cNvSpPr>
            <a:spLocks noGrp="1"/>
          </p:cNvSpPr>
          <p:nvPr>
            <p:ph type="sldNum" idx="3"/>
          </p:nvPr>
        </p:nvSpPr>
        <p:spPr/>
        <p:txBody>
          <a:bodyPr/>
          <a:p>
            <a:fld id="{BCE61ECF-4D5E-48ED-9578-209E765CCD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6781680" y="5970600"/>
          <a:ext cx="1676520" cy="811080"/>
        </p:xfrm>
        <a:graphic>
          <a:graphicData uri="http://schemas.openxmlformats.org/presentationml/2006/ole">
            <p:oleObj r:id="rId1" spid="">
              <p:embed/>
              <p:pic>
                <p:nvPicPr>
                  <p:cNvPr id="158" name="" descr=""/>
                  <p:cNvPicPr/>
                  <p:nvPr/>
                </p:nvPicPr>
                <p:blipFill>
                  <a:blip r:embed="rId2"/>
                  <a:stretch/>
                </p:blipFill>
                <p:spPr>
                  <a:xfrm>
                    <a:off x="6781680" y="5970600"/>
                    <a:ext cx="1676520" cy="811080"/>
                  </a:xfrm>
                  <a:prstGeom prst="rect">
                    <a:avLst/>
                  </a:prstGeom>
                  <a:ln w="0">
                    <a:noFill/>
                  </a:ln>
                </p:spPr>
              </p:pic>
            </p:oleObj>
          </a:graphicData>
        </a:graphic>
      </p:graphicFrame>
      <p:sp>
        <p:nvSpPr>
          <p:cNvPr id="159" name=""/>
          <p:cNvSpPr/>
          <p:nvPr/>
        </p:nvSpPr>
        <p:spPr>
          <a:xfrm>
            <a:off x="1066680" y="0"/>
            <a:ext cx="79250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Laboratory frequency edits and formulary chang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When PDPs make changes to their formularies and patients have to change their medications, lab tests are sometimes required.  Several physicians have expressed concerns that frequency edits could make this an expensive proposition for the benefici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We are determining the scope of this proble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Staffing Rural Health Clinic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The American Academy of Family Physicians passed Resolution No. 505 which requests that CMS repeal the requirement that 50% of providers at a Rural Health Clinic (RHC) be mid level practitioner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We have researched the issue and found it is a legal requirement of the Social Security Act specifically Section 1861(aa)(2)(J) therefore removal of this requirement would require Congressional ac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4A41E34-0811-49BE-8DE0-84EDE0D6ED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6781680" y="6046920"/>
          <a:ext cx="1676520" cy="811080"/>
        </p:xfrm>
        <a:graphic>
          <a:graphicData uri="http://schemas.openxmlformats.org/presentationml/2006/ole">
            <p:oleObj r:id="rId1" spid="">
              <p:embed/>
              <p:pic>
                <p:nvPicPr>
                  <p:cNvPr id="161"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62" name=""/>
          <p:cNvSpPr/>
          <p:nvPr/>
        </p:nvSpPr>
        <p:spPr>
          <a:xfrm>
            <a:off x="1066680" y="0"/>
            <a:ext cx="792504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CAH Provider response tim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The American Academy of Family Physicians House of Delegates passed Resolution No. 515 in September. This resolution requests that CMS reevaluate the time requirement described in regulation 485.618, which can be found on the </a:t>
            </a:r>
            <a:r>
              <a:rPr b="0" lang="en-US" sz="2000" spc="-1" strike="noStrike" u="sng">
                <a:solidFill>
                  <a:srgbClr val="ffffff"/>
                </a:solidFill>
                <a:uFillTx/>
                <a:latin typeface="Times New Roman"/>
              </a:rPr>
              <a:t>Federal Register website</a:t>
            </a:r>
            <a:r>
              <a:rPr b="0" lang="en-US" sz="2000" spc="-1" strike="noStrike">
                <a:solidFill>
                  <a:srgbClr val="ffffff"/>
                </a:solidFill>
                <a:latin typeface="Times New Roman"/>
              </a:rPr>
              <a:t>. This regulation requires that practitioners on staff at Critical Access Hospitals respond to emergency department patients within 30 minu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We are looking at ways we might modify the time requireme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Crossover of Anesthesia Bill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When the MCS system creates a crossover bill, it reports anesthesia times in units.  Some secondary payers pay for units rather then minutes and this leads to underpay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An anesthesia billing representative contacted the PRIT about this underpayment issue.  We are discussing possibly solutions with the carri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26B41C5-F26C-42F0-8B4D-3B196FB545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
          <p:cNvSpPr/>
          <p:nvPr/>
        </p:nvSpPr>
        <p:spPr>
          <a:xfrm>
            <a:off x="1066680" y="85320"/>
            <a:ext cx="7772400" cy="649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Format of Remittance Notices to Physician Practi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A physician practice found that the format of the remittance notice made it difficult to add up the PSA bonus payments made to each of the group's physicians. They would like to be able to have a report which aggregated payments by provider rather than by date of servic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CMS’ OIS is developing software which will allow providers to manipulate the data in the electronic remittance notice, it will also allow the office staff to convert the remittance notice to an excel spreadsheet. This software will be provided free of charge for Medicare participating providers. An October release date is expected and a Medlearn matters will provide more details. The PRIT will post more information here when this software becomes availab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11: CMS has released the Medicare Remit Easy Print software. The MREP software reads the electronic remittance advice (ERA), and providers can view and print the remittance advice in a human readable format that is based on the current Medicare paper format. In order to use the software, providers need to receive the ERA from their contractors or vendors. Providers are to go to their respective contractor web sites, and the CMS site is linked from the contractor sites for downloading the software.</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F5571C1-D494-42DC-BC9E-3A49E286E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
          <p:cNvSpPr/>
          <p:nvPr/>
        </p:nvSpPr>
        <p:spPr>
          <a:xfrm>
            <a:off x="1143000" y="-2160"/>
            <a:ext cx="800100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Use of Macros in Teaching Documenta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Are teaching physicians permitted to use Macros when dictating or typing their portion of the medical record?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The American Academy of Medical Colleges (AAMC) met with CMS policy experts and the PRIT.  The AAMC submitted language which they would like CMS to approve concerning this issu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ortance of this subject to teaching physician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vember 8: When using an electronic medical record, it is acceptable to use a macro as the required personal documentation if the teaching physician adds it personally in a secured (password protected) system. Teaching physician documentation must sufficiently describe the specific services furnished to the specific patient on the specific date. If the teaching physician's only contribution to the medical record is limited to a macro, the sole use of macros by the resident, without any additional customized information is insufficient to support a medical necessity determination and could lead to a finding of potential fraud and abuse. In this context, the term 'macro' means a command in a computer or dictation application that automatically generates predetermined sentences. Macros can be executed by hitting a combination of computer keys, clicking a check box on a computer screen or saying certain terms while dictat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997C0B6-3DB7-4CA1-9BD4-5D4CAF79F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
          <p:cNvSpPr/>
          <p:nvPr/>
        </p:nvSpPr>
        <p:spPr>
          <a:xfrm>
            <a:off x="1066680" y="-2160"/>
            <a:ext cx="807732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Can hospitals provide Continuing Medical Educa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A member of the PPAC asked the PRIT whether hospitals can provide free CME to members of their medical staff.</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The Stark rule addresses hospital services to physicians in section 411.357(m) and 411.357(k).  If CMS can create an exception for CME, hospitals would be more likely to provide this important service.  CMS is exploring various option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ne 29: The AMA has written a letter to Dr. McClellan expressing their concerns about this iss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25: Final response to the AMA is still in internal review.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Electronic Resubmission of Denied Claim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Transmittal 104 released by CMS on 2/11/2005 places certain restrictions on the electronic resubmission claims. Claims are sometimes denied because the person preparing the claim forgets to include the ICD-9 code necessary to allow Medicare to cover the service. The claim is denied based on the absence of that ICD-9. Providers feel that in this particular case requiring that the corrected claim be submitted in paper would be burdensome and expensive for both the doctor's office and the carri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We have discussed the issue with appropriate staff and they are considering language which would permit these resubmission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8D22E38-3E0A-42E6-9690-11E5AD175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6781680" y="6046920"/>
          <a:ext cx="1676520" cy="811080"/>
        </p:xfrm>
        <a:graphic>
          <a:graphicData uri="http://schemas.openxmlformats.org/presentationml/2006/ole">
            <p:oleObj r:id="rId1" spid="">
              <p:embed/>
              <p:pic>
                <p:nvPicPr>
                  <p:cNvPr id="167" name="" descr=""/>
                  <p:cNvPicPr/>
                  <p:nvPr/>
                </p:nvPicPr>
                <p:blipFill>
                  <a:blip r:embed="rId2"/>
                  <a:stretch/>
                </p:blipFill>
                <p:spPr>
                  <a:xfrm>
                    <a:off x="6781680" y="6046920"/>
                    <a:ext cx="1676520" cy="811080"/>
                  </a:xfrm>
                  <a:prstGeom prst="rect">
                    <a:avLst/>
                  </a:prstGeom>
                  <a:ln w="0">
                    <a:noFill/>
                  </a:ln>
                </p:spPr>
              </p:pic>
            </p:oleObj>
          </a:graphicData>
        </a:graphic>
      </p:graphicFrame>
      <p:sp>
        <p:nvSpPr>
          <p:cNvPr id="168" name=""/>
          <p:cNvSpPr/>
          <p:nvPr/>
        </p:nvSpPr>
        <p:spPr>
          <a:xfrm>
            <a:off x="1066680" y="58320"/>
            <a:ext cx="77724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RVUs for Pediatric Cod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sue: American Academy of Pediatrics would like CMS to publish RVUs for pediatric codes that have an "N modifier" in the physician ru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us: May 6: We met with the American Academy of Pediatrics and they will comment in support of this change in the Physician rule which is normally released in Novembe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ly 15: The proposed rule should be released soon.  This will be the appropriate time for comme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ptember 1: CMS released the Proposed Physician Fee Schedule today.  This proposed rule does list values for the four codes (90467, 90468, 90473, and 90474) as the AAP had requested.  The proposed rule can be found he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gust 8: The AAP has contacted the PRIT regarding additional codes they would like valued in the rule.  CPT codes 99173 (Vision screening) and 92551 (Hearing screening) did not have their RVUs published in the 2006 proposed physician fee schedule. The AAP will request that they be listed in the final ru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B3E306-B1CC-4666-A2DF-6CA32CDCD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
          <p:cNvSpPr/>
          <p:nvPr/>
        </p:nvSpPr>
        <p:spPr>
          <a:xfrm>
            <a:off x="1066680" y="-62280"/>
            <a:ext cx="7772400" cy="6792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7"/>
                </a:solidFill>
                <a:latin typeface="Times New Roman"/>
              </a:rPr>
              <a:t>ASP problem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ssue: We have been contacted repeatedly by physicians who believe that some of our payments are incorrec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us: We are reviewing the entire list of ASP prices for accuracy and expect to release a corrected list within two months. CMS is very aware of the impact this has on practices. We are working aggressively to correct the errors.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e are working with manufacturer to try to improve the usefulness of the reported ASP data. Meanwhile, we’d like to continue to hear from providers who are having difficulties finding specific drugs at ASP+6. Background on ASP can be found at http://www.cms.hhs.gov/providers/drugs/asp.asp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rch 10: We are continuing to welcome reports by physicians of drugs that can't be obtained at our CMS designated ASP+6. As we receive these reports we are verifying them and passing them to the CMS team which is currently scrutinizing carefully our ASP list. Physicians having difficulties obtaining drugs at the ASP price should contact us.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ril 8: We have received information from providers about prices for IVIG, IV fluid, antibiotics, and some chemotherapeutic agents. After verifying the information the PRIT has passed it to the group responsible for maintaining the ASP price list. We continue to invite providers to let us know about specific pricing problem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y 23: Problems with ASP pricing were discussed at PPAC today.  We will be reporting on this issue at the next PPAC.  We still invite providers who are having difficulties obtaining drugs at the ASP price to let us know.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ly 18: One manufacturer discovered a math error which led to a price that was $360 lower then it should have been.  The correction was only possible because a provider let the PRIT know they were having difficulties obtaining that drug at ASP+6.</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ptember 29: The large gaps between ASP and market prices seen when the program began have mostly disappeared.  We actively solicit input from physicians concerning any ASP problems they are experiencing.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vember 2: CMS is establishing a temporary add-on payment to cover the additional preadministration-related services required to locate and acquire adequate IVIG product and prepare for an infusion of IVIG during this current period of market instability. CMS has determined that the pricing for IVIG is accurate, and that there is no overall product shortage. For calendar year 2006 only, providers will be permitted to bill this add-on code. For more details, read the 2006 Physician Fee Schedule CMS-1325-IFC3</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64950384-7373-489E-9A6E-35D1CD09EB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08:35Z</dcterms:created>
  <dc:creator>CMS</dc:creator>
  <dc:description/>
  <dc:language>en-US</dc:language>
  <cp:lastModifiedBy>CMS</cp:lastModifiedBy>
  <dcterms:modified xsi:type="dcterms:W3CDTF">2005-11-22T17:00:50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37331956</vt:r8>
  </property>
  <property fmtid="{D5CDD505-2E9C-101B-9397-08002B2CF9AE}" pid="3" name="_AuthorEmail">
    <vt:lpwstr>Robert.Bennett@cms.hhs.gov</vt:lpwstr>
  </property>
  <property fmtid="{D5CDD505-2E9C-101B-9397-08002B2CF9AE}" pid="4" name="_AuthorEmailDisplayName">
    <vt:lpwstr>Bennett, Robert C. (CMS)</vt:lpwstr>
  </property>
  <property fmtid="{D5CDD505-2E9C-101B-9397-08002B2CF9AE}" pid="5" name="_EmailSubject">
    <vt:lpwstr>PPAC 5 Dec 05.ppt</vt:lpwstr>
  </property>
  <property fmtid="{D5CDD505-2E9C-101B-9397-08002B2CF9AE}" pid="6" name="_NewReviewCycle">
    <vt:lpwstr/>
  </property>
  <property fmtid="{D5CDD505-2E9C-101B-9397-08002B2CF9AE}" pid="7" name="_ReviewingToolsShownOnce">
    <vt:lpwstr/>
  </property>
</Properties>
</file>