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8217-EF73-4094-AB21-9D9FA6D22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977B-85DD-4424-880E-4BA2B95F0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94DC-55B4-4DBF-ABB8-051A3734C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9766-8FE5-4D9F-8C3F-6A9A4FF529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0674-180B-40DD-9363-CB7CFD7118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04AD-2393-451A-A4E2-C5D5B8C18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B9A5-A60C-4A57-8145-573870AF0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0AE9-7D97-47FB-A2BA-54C809797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0300-5288-4BBC-85B3-57E152E56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1A8F-0F81-4A1A-8D7E-6376CE20F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B568-81BA-4EE0-8187-304D7B062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37A3-A883-479D-AB3B-5346DAB03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206C-FBA8-4F84-9842-6D8EFC433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ms.hhs.gov/providers/p4p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ms.hhs.gov/providers/p4p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valerie.hart@cms.hhs.go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Physician Voluntary Reporting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reach &amp; Education Strategy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ecember 5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Pay For Performance Initiativ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2928-28AE-42CF-A117-2E841AE0C6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Audienc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ealth Care Professionals who bill for services covered by physician fe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A6F0-8DCE-42B0-9E9F-81DF2B11F5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Outreach Strategy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emin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Office – Nat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Offices – Local &amp; State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Contractors – Physicians &amp; Others who submit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B6C0-4F7A-40F0-968D-060846376F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Produc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hysician Voluntary Reporting Program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entralized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nks to pertinent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ms.hhs.gov/providers/p4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1F98-58AB-4EEB-947A-2B51102016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Produc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Medlearn Matter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Art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istserv messages to Provider Partner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istserv messages to Specific Provide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ighlights on related CMS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2532-AFB3-4A10-AEF3-F93289AE38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Dissemination Method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ost information on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nd information via various listser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rtner with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hibi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pen Door For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edicare Contr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MS Regional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66EF-DA9E-46AA-A3CB-5FAB875EAC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ms.hhs.gov/providers/p4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33C1-9977-4961-9B55-AFDE2A770A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Questions or Considera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e there other effective ways to directly reach physicians with our PVRP mess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B7E80-4C32-45BF-872F-69A57CA1E3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obin Fr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74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obin.fritter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6AFB-8164-426B-A70F-6C0D3AC856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11-29T19:29:32Z</dcterms:modified>
  <cp:revision>203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8861530</vt:r8>
  </property>
  <property fmtid="{D5CDD505-2E9C-101B-9397-08002B2CF9AE}" pid="3" name="_AuthorEmail">
    <vt:lpwstr>Robin.Fritter@cms.hhs.gov</vt:lpwstr>
  </property>
  <property fmtid="{D5CDD505-2E9C-101B-9397-08002B2CF9AE}" pid="4" name="_AuthorEmailDisplayName">
    <vt:lpwstr>Fritter, Robin R. (CMS/CMM)</vt:lpwstr>
  </property>
  <property fmtid="{D5CDD505-2E9C-101B-9397-08002B2CF9AE}" pid="5" name="_EmailSubject">
    <vt:lpwstr>PPT Slides for PPAC</vt:lpwstr>
  </property>
  <property fmtid="{D5CDD505-2E9C-101B-9397-08002B2CF9AE}" pid="6" name="_NewReviewCycle">
    <vt:lpwstr/>
  </property>
  <property fmtid="{D5CDD505-2E9C-101B-9397-08002B2CF9AE}" pid="7" name="_PreviousAdHocReviewCycleID">
    <vt:r8>700623846</vt:r8>
  </property>
  <property fmtid="{D5CDD505-2E9C-101B-9397-08002B2CF9AE}" pid="8" name="_ReviewingToolsShownOnce">
    <vt:lpwstr/>
  </property>
</Properties>
</file>