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CED-B494-47FD-907B-C59632A6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40C-571E-4336-8339-E4192353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22E-5303-4A4D-AA4A-0104C457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5AF-C450-4AF6-8485-3A352216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721-7DAF-4CA5-B8D6-1C7C595B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739C-6ED1-4176-946C-9A16FDB3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F04-18E8-4C6B-AD10-AB3C309B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779-A8AA-4591-AF14-3B5C9BBB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2F6-CBE0-4A90-BB9C-F144333D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49A-6260-4C00-94B6-F2EB87BA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1C6-2034-47D7-8B80-E3FA8455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85AC-B709-4855-9339-9EA69A5C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AFAE-AE61-44BB-9995-8B53592FE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61976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al 2006 Policies for the Medicare Hospital Outpatient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pective Payme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81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5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15200" y="5975280"/>
            <a:ext cx="1765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 on the Hospital Outpati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spective Payment System (OP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pays hospitals for outpatient department services based on groups of clinically similar services called Ambulatory Payment Classifications (APC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annually revises the payment amounts based on claims data and updates for inf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CY 2005 Spending: $26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S was implemented in August of C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378560" y="6203880"/>
            <a:ext cx="1765440" cy="654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1523880"/>
            <a:ext cx="716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ed Policie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the CY 2006 O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022400"/>
            <a:ext cx="7772400" cy="38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s for Medicare Part B Drugs, Biologicals, and Radiopharmaceut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rmacy department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s to Rural Hospit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maging Procedure Dis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78560" y="6203880"/>
            <a:ext cx="1765440" cy="65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76520" y="1523880"/>
            <a:ext cx="716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ments for Medicare Part B Drugs, Biologicals, and Radiopharmaceut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8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re Part B pays for oncology and other injectable drugs provided in outpatient hospital depart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2005 Payments: $2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s based on 83% of the Average Wholesale Price (AWP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P is much like the sticker price of a car and does not reflect the market price of the dru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re Modernization Act and 2006 Pay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 shall be equal  to the average acquisition cost for  the drug as determined by the Secretar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retary shall take into account an MMA mandated GAO survey of hospital drug acquisition co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retary may determine additional payment amounts for drug overhe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retary shall take into account an MMA mandated MedPAC study of hospital pharmacy overhead co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78560" y="6203880"/>
            <a:ext cx="1765440" cy="654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6520" y="1523880"/>
            <a:ext cx="716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ments for Medicare Part B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ugs and Biolog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72840"/>
            <a:ext cx="77724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sitio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P represents the average market price for a drug and is based on US sales, including sales to both hospitals and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g manufacturers submit the ASP data to CMS quart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to pay ASP+6% for acquisition as most consistent with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rule: pay both acquisition and overhead at ASP+6 based on update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rmacy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to create 3 new overhead APCs and to begin collecting claims data in 2006 for use in 2008 pa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interim, proposed to pay an additional 2% over the drug payment to cover pharmacy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rule: did not finalize proposal to collect data on new codes; overhead payment included in ASP+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378560" y="6203880"/>
            <a:ext cx="1765440" cy="654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6520" y="1523880"/>
            <a:ext cx="716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ments for Medicare Part B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opharmaceut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3528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 Policy for Radiopharmaceutic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pharmaceutical manufacturers are not currently required to submit ASP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e to require radiopharmaceutical manufacturers to submit ASP data beginning in 2006 for use in 2007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interim, pay each 2006 claim by applying hospital charge-to-cost ratio to the hospital’s charge. Payment would include radiopharmaceutical overhe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rule: adopted the proposal to pay charges reduced to costs while we continue to study alternative payment meth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rule: did not  finalize the proposal to require ASP reporting because there is no viable way to determine pricing per dose from ASP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378560" y="6203880"/>
            <a:ext cx="1765440" cy="654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76520" y="1523880"/>
            <a:ext cx="716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ments to Rural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iration of Hold Harmless Pro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ral Sole Community Hospitals and small rural hospitals are currently held harmless to the payments they received prior to the implementation of the OPPS in 2000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tatutory hold-harmless period is due to expire at the end of CY 2005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adjustment for rural Sole Community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MA requires the Secretary to conduct a study of rural hospital costs relative to urban hospital costs, and increase payments if appropri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cost analyses, proposed a 6.4% increase for rural Sole Community Hospital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ural hospitals did not show cost differ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ule: based on updated cost analyses, a 7.1% increase for Sole Community Hospit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378560" y="6203880"/>
            <a:ext cx="1765440" cy="654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76520" y="1523880"/>
            <a:ext cx="716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e Imaging Procedure Dis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426680"/>
            <a:ext cx="777240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PAC 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should discount payments when multiple diagnostic imaging procedures are performed in the same session with the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 Proposed Policy: 50% reduction for multiple diagnostic imaging procedures performed within a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 Final Policy: have not finalized the proposal in response to comments that the efficiencies may already be captured in the payment methodology; continue to study payment structure for ima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78560" y="6203880"/>
            <a:ext cx="1765440" cy="654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6520" y="1523880"/>
            <a:ext cx="716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8:26:27Z</dcterms:created>
  <dc:creator>Rebecca Kane</dc:creator>
  <dc:description/>
  <dc:language>en-US</dc:language>
  <cp:lastModifiedBy>CMS</cp:lastModifiedBy>
  <dcterms:modified xsi:type="dcterms:W3CDTF">2005-11-21T19:46:37Z</dcterms:modified>
  <cp:revision>33</cp:revision>
  <dc:subject/>
  <dc:title>The Hospital Outpatient Prospective Payment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74458754</vt:r8>
  </property>
  <property fmtid="{D5CDD505-2E9C-101B-9397-08002B2CF9AE}" pid="3" name="_AuthorEmail">
    <vt:lpwstr>James.Hart@cms.hhs.gov</vt:lpwstr>
  </property>
  <property fmtid="{D5CDD505-2E9C-101B-9397-08002B2CF9AE}" pid="4" name="_AuthorEmailDisplayName">
    <vt:lpwstr>Hart, James L. (CMS/CMM)</vt:lpwstr>
  </property>
  <property fmtid="{D5CDD505-2E9C-101B-9397-08002B2CF9AE}" pid="5" name="_EmailSubject">
    <vt:lpwstr>Powerpoint Files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