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4C40-CEEA-4751-AF9A-53D6B0B55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09FC-346A-4311-97B0-9AD5B186E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6691-6ABC-4438-BE78-1AC055EDC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F5ED-8648-4485-ABE3-2222DA144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EAF2-38C0-48CB-8957-83BDCD942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DBB5-7DF1-4289-82BE-BAD454D49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E339-F3FF-4445-823E-EE3FB3F5D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966A-7425-4551-90BC-B5D33A93D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1B6C-1BE7-43C1-A7B4-573AF0E04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A3EE-C0F8-4B22-B1AC-650C036C9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3826-7E4E-4619-82CD-2937E240A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E214-A37D-479D-B5F3-29BDDFBAC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6B2-827F-4C31-AD39-51F6A737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physicians/pfs/" TargetMode="External"/><Relationship Id="rId2" Type="http://schemas.openxmlformats.org/officeDocument/2006/relationships/hyperlink" Target="http://www.cms.hhs.gov/physicians/pfs/" TargetMode="External"/><Relationship Id="rId3" Type="http://schemas.openxmlformats.org/officeDocument/2006/relationships/hyperlink" Target="http://www.cms.hhs.gov/physicians/pfs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2006 Policies for the Physician Fee Schedule </a:t>
            </a:r>
            <a:br>
              <a:rPr sz="32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Terrence 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ecember 5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75F2-1F10-45D0-9147-FDC84E0F6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Medicare Telehealth Servic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006, CMS will add individual Medical Nutritional Therapy to the list of Medicare telehealth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CPCS codes G0270, 97802 and 9780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D4DE-1C94-4B3A-B1AD-02B5FB3A4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herapy Cap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833 (g) (1) of the Act applies an annual, per beneficiary combined cap on outpatient physical therapy and speech-language pathology services, and a similar separate cap on outpatient occupational therapy services under Medicare Part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624 of MMA placed a moratorium on the application of these caps from December 8, 2003 through December 31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s will become effective again beginning January 1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llar amount for the therapy caps for CY 2006 is $1,7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D2E2-039C-4B90-939F-C2BB179F45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overage of Screening for Glaucoma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61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screening for glaucoma is covered for the following high risk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with diabetes mellit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with a family history of glauco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n-Americans age 50 or 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006, we will include Hispanic-Americans age 65 and older to the glaucoma screening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1144-C9CB-420F-9B9F-8E238F913C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Oncology Demonstration Project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new one year oncology demonstration project for CY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rting will no longer be specific to chemotherapy administration, but instead will be associated with physician evaluation and management (E/M) visits for established patients with c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E903-FE38-4BC2-AE55-C45F7628D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hemotherapy Demonstration Project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ian payment for particip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payment amount of $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qualify for the payment, the physician must submit one G-code from each of the following three categories when an E/M service of level 2,3,4, or 5 is bi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the primary focus of the E/M servi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the current disease st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whether current management adhere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guide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F6A0-E573-4079-9278-7C999FC4AB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19810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would appreciate the Council’s views about any operational impacts of these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194C-5C9C-4C6E-B908-570ACDA5D9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final rule is available on the Interne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www.cms.hhs.gov/physicians/pfs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8835-F468-43AB-8BC2-B27CCE3BFB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rrence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44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errence.Kay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10B9-DEC4-4F1B-BF67-AC8FB3002B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Issu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gative 4.4 percent update (due to Sustainable Growth Rate calc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actice expense RV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ultiple procedure payment reduction for  certain imag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finements to the calculation of Malpractice 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AB71-CF92-47C8-996F-7BCFD3464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ther Issu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ansion of approved telehealth services to include Medical Nutri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ice of the expiration of the moratorium on imposition of the caps on therap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laucoma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oncolog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4FCB-3781-4CAE-A90B-B2876E4BC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version Factor 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hysician Fee Schedule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Conversion factor- $37.8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Conversion factor- $36.17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 Convers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Conversion factor- $ 17.75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Conversion factor- $ 16.95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66EC-B52F-451E-A7E1-8980408C7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actice Expense RVU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expense RVUs co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 costs of running a practice (e.g. clinical staff, medical equipment, and medical supplie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rect costs (e.g. administrative staff, ren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are budget neutral by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B097-791A-4618-BA6F-E0C7AE124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MS Practice Expe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inal Decisions for 2006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t implement the proposal to shift from a “top-down” to a “bottom-up” approach for direct expense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mplement the supplementary PE survey for urology for the drug administration codes as required by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se the 2005 practice expense RVUs for 2006 except for new codes and the drug administratio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F642-81FF-4CA4-A840-9E7BD0F7A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MS Practice Expe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xt Step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our proposals to change the PE methodology in 2007 are transparent, understandable and informed by input from the medical communit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urther information early next year prior to the 2007 proposed rule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2421-0048-4D24-A8BC-B64E7B0916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ultiple Imaging Procedure Discount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 new policy --apply a multiple procedure reduction to the technical component for selected imaging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lies to 11 selected families of imaging procedures by imaging modality and contiguous body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pply to CPT codes 76830- Trans-vaginal ultrasound and 76645- Ultrasound of the bre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n the payment reduction, with a 25 percent reduction in CY 2006 and a 50 percent reduction in CY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4976-0325-4176-ACAC-4B20254B5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291960"/>
            <a:ext cx="89913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Malpractice Cost Indic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Percent Specialty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d from the data any specialty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less than 5 percent of th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ty Cross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lowest risk factors for: clinical psychology; clinical social work; occupational therapy; optometry; chiropractic and physical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6D0B-6BEA-4E9A-8CCC-166D01779E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11-21T19:41:22Z</dcterms:modified>
  <cp:revision>183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305702</vt:r8>
  </property>
  <property fmtid="{D5CDD505-2E9C-101B-9397-08002B2CF9AE}" pid="3" name="_AuthorEmail">
    <vt:lpwstr>Terrence.Kay@cms.hhs.gov</vt:lpwstr>
  </property>
  <property fmtid="{D5CDD505-2E9C-101B-9397-08002B2CF9AE}" pid="4" name="_AuthorEmailDisplayName">
    <vt:lpwstr>Kay, Terrence L. (CMS/OCSQ)</vt:lpwstr>
  </property>
  <property fmtid="{D5CDD505-2E9C-101B-9397-08002B2CF9AE}" pid="5" name="_EmailSubject">
    <vt:lpwstr>PPAC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