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move the slide</a:t>
            </a:r>
            <a:endParaRPr b="1" lang="en-US" sz="4400" spc="-1" strike="noStrike">
              <a:solidFill>
                <a:srgbClr val="ffffff"/>
              </a:solidFill>
              <a:latin typeface="Tahoma"/>
            </a:endParaRPr>
          </a:p>
        </p:txBody>
      </p:sp>
      <p:sp>
        <p:nvSpPr>
          <p:cNvPr id="107"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o edit the notes format</a:t>
            </a:r>
            <a:endParaRPr b="0" lang="en-US" sz="1000" spc="-1" strike="noStrike">
              <a:solidFill>
                <a:srgbClr val="000000"/>
              </a:solidFill>
              <a:latin typeface="Tahoma"/>
            </a:endParaRPr>
          </a:p>
        </p:txBody>
      </p:sp>
      <p:sp>
        <p:nvSpPr>
          <p:cNvPr id="108" name="PlaceHolder 5"/>
          <p:cNvSpPr>
            <a:spLocks noGrp="1"/>
          </p:cNvSpPr>
          <p:nvPr>
            <p:ph type="ftr" idx="6"/>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7"/>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23E11-9A5A-47D8-B72C-473D036D39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092240" y="685800"/>
            <a:ext cx="4673520" cy="3505320"/>
          </a:xfrm>
          <a:prstGeom prst="rect">
            <a:avLst/>
          </a:prstGeom>
          <a:ln w="0">
            <a:noFill/>
          </a:ln>
        </p:spPr>
      </p:sp>
      <p:sp>
        <p:nvSpPr>
          <p:cNvPr id="25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ood Morning.  Welcome to the first small group session.  As Marla mentioned this morning, I am _________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nrollment process is critical to the accurate payment to managed care organizations, so we are going to spend about an hour and 15 minutes describing the components of the proces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will refer to Chapter 19 of the </a:t>
            </a:r>
            <a:r>
              <a:rPr b="0" i="1" lang="en-US" sz="1000" spc="-1" strike="noStrike">
                <a:solidFill>
                  <a:srgbClr val="000000"/>
                </a:solidFill>
                <a:latin typeface="Tahoma"/>
              </a:rPr>
              <a:t>Medicare Managed Care Manual</a:t>
            </a:r>
            <a:r>
              <a:rPr b="0" lang="en-US" sz="1000" spc="-1" strike="noStrike">
                <a:solidFill>
                  <a:srgbClr val="000000"/>
                </a:solidFill>
                <a:latin typeface="Tahoma"/>
              </a:rPr>
              <a:t> quite a bit during this module, so you want to have that handy.  It can be found behind the </a:t>
            </a:r>
            <a:r>
              <a:rPr b="1" lang="en-US" sz="1000" spc="-1" strike="noStrike">
                <a:solidFill>
                  <a:srgbClr val="000000"/>
                </a:solidFill>
                <a:latin typeface="Tahoma"/>
              </a:rPr>
              <a:t>blue</a:t>
            </a:r>
            <a:r>
              <a:rPr b="0" lang="en-US" sz="1000" spc="-1" strike="noStrike">
                <a:solidFill>
                  <a:srgbClr val="000000"/>
                </a:solidFill>
                <a:latin typeface="Tahoma"/>
              </a:rPr>
              <a:t> separator in your manual.</a:t>
            </a:r>
            <a:endParaRPr b="0" lang="en-US" sz="10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092240" y="685800"/>
            <a:ext cx="4673520" cy="3505320"/>
          </a:xfrm>
          <a:prstGeom prst="rect">
            <a:avLst/>
          </a:prstGeom>
          <a:ln w="0">
            <a:noFill/>
          </a:ln>
        </p:spPr>
      </p:sp>
      <p:sp>
        <p:nvSpPr>
          <p:cNvPr id="27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ules for disenrollment are very similar to those for enrollment.  AEP, SEP, and OEP all apply.  ICEP is not an acceptable disenrollment perio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nerally, disenrollments are to be submitted within 30 days of the date of receipt of a disenrollment reques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y questions?</a:t>
            </a:r>
            <a:endParaRPr b="0" lang="en-US" sz="10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092240" y="685800"/>
            <a:ext cx="4673520" cy="3505320"/>
          </a:xfrm>
          <a:prstGeom prst="rect">
            <a:avLst/>
          </a:prstGeom>
          <a:ln w="0">
            <a:noFill/>
          </a:ln>
        </p:spPr>
      </p:sp>
      <p:sp>
        <p:nvSpPr>
          <p:cNvPr id="27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I mentioned earlier, it is the M+C organization’s responsibility to inform CMS of any members that meet the special status criteria.  This has a direct impact on the payment calculation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correction transaction is the method used to communicate this information.  The correction transaction is applied to the payment month.</a:t>
            </a:r>
            <a:endParaRPr b="0" lang="en-US" sz="10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092240" y="685800"/>
            <a:ext cx="4673520" cy="3505320"/>
          </a:xfrm>
          <a:prstGeom prst="rect">
            <a:avLst/>
          </a:prstGeom>
          <a:ln w="0">
            <a:noFill/>
          </a:ln>
        </p:spPr>
      </p:sp>
      <p:sp>
        <p:nvSpPr>
          <p:cNvPr id="276" name="PlaceHolder 2"/>
          <p:cNvSpPr>
            <a:spLocks noGrp="1"/>
          </p:cNvSpPr>
          <p:nvPr>
            <p:ph type="body"/>
          </p:nvPr>
        </p:nvSpPr>
        <p:spPr>
          <a:xfrm>
            <a:off x="914040" y="4419720"/>
            <a:ext cx="5181480" cy="44193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at are the special status categories?  The special status categories include Hospice, ESRD, Working Aged, Institutional, and Medicaid. Notice the Working Aged is shaded green.  We will discuss why in a mo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MS’ beneficiary-level payments are broken into different rates applicable to each county of the M+C organization’s Medicare service area. The amount of monthly reimbursement that an M+C organization will receive for a Medicare beneficiary is determined, in part, by whether the beneficiary qualifies to be placed in one of the Hospice, ESRD, Institutional, and Medicaid special status categori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 beneficiary is placed in any one or more of the special status categories, the payment for the beneficiary is computed at the applicable 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Working Aged is different because it is used to calculate a factor that is applied at the contract level. We will discuss this in greater detail in a few moment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slide illustrates the priority ranking or hierarchy so if the beneficiary qualifies for more than one special status they will receive payment on the higher ranked special statu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at I mean by that is:  If a patient has ESRD and is Institutionalized the payment rate is based on the ESR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a beneficiary is Medicaid eligible and Working Aged, the plan will receive payment for Medicaid, and the plan will get credit on a contract level for the Working Aged.</a:t>
            </a:r>
            <a:endParaRPr b="0" lang="en-US" sz="10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092240" y="685800"/>
            <a:ext cx="4673520" cy="3505320"/>
          </a:xfrm>
          <a:prstGeom prst="rect">
            <a:avLst/>
          </a:prstGeom>
          <a:ln w="0">
            <a:noFill/>
          </a:ln>
        </p:spPr>
      </p:sp>
      <p:sp>
        <p:nvSpPr>
          <p:cNvPr id="27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highest ranking special status is Hospice.  A Hospice patient is one whose life expectancy is 6 months or less if his/her illness runs its normal course.  This determination is based on certification from the patient’s treating physicia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neficiaries elect to receive the hospice benefit, which is communicated from the CMS claims processing system to the MMCS system.  M+C organizations are automatically notified of this election via the CMS Transaction Reply/Monthly Activity report, which we will discuss in detail during the Reports and Reconciliation Modul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Hospice rates are tracked and paid at the Plan Benefit Package (PBP) level.  CMS pays the Hospice directly for services related to the terminal illness of the beneficiary.  For services provided by the M+C organization unrelated to the terminal illness, billing must be directed to CMS fee-for-service claims processors.</a:t>
            </a:r>
            <a:endParaRPr b="0" lang="en-US" sz="10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092240" y="685800"/>
            <a:ext cx="4673520" cy="3505320"/>
          </a:xfrm>
          <a:prstGeom prst="rect">
            <a:avLst/>
          </a:prstGeom>
          <a:ln w="0">
            <a:noFill/>
          </a:ln>
        </p:spPr>
      </p:sp>
      <p:sp>
        <p:nvSpPr>
          <p:cNvPr id="28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slide illustrates the defined periods for Hospice.  There are two 90 day periods and a third period that is unlimi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time Hospice is elected there must be a beginning and an ending date.  Payments are based on full months.  So when the beneficiary hospice status is in effect on the first day of the month, the hospice rate is paid.  If the effective date for Hospice is after the first, the non-hospice rate is pai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rospective payment can be given for Hospice and this information will appear on the monthly report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the hospice period is terminated after the first day of the month, the M+C organization must continue to bill fee-for-service Medicare for the remainder of that mont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MS will reject any request for Hospice patients to enroll in PACE organizations.</a:t>
            </a:r>
            <a:endParaRPr b="0" lang="en-US" sz="10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092240" y="685800"/>
            <a:ext cx="4673520" cy="3505320"/>
          </a:xfrm>
          <a:prstGeom prst="rect">
            <a:avLst/>
          </a:prstGeom>
          <a:ln w="0">
            <a:noFill/>
          </a:ln>
        </p:spPr>
      </p:sp>
      <p:sp>
        <p:nvSpPr>
          <p:cNvPr id="28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SRD is ranked #2 in the hierarchy of special status.  I mentioned earlier that ESRD is one of the qualifying illnesses that can make a patient eligible for Medicare.  Here we are talking about a special status that impacts payment.  The ESRD factor has been incorporated into the risk adjustment payment.  You will learn more about this in the payment modul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hat is ESRD?  It is a complete or near complete failure of the kidneys to function.  This has to be diagnosed and certified by the attending physician and a CMS Form 2728-U4 must be completed.  You can find a copy of this form in the Appendix of the </a:t>
            </a:r>
            <a:r>
              <a:rPr b="0" i="1" lang="en-US" sz="1000" spc="-1" strike="noStrike">
                <a:solidFill>
                  <a:srgbClr val="000000"/>
                </a:solidFill>
                <a:latin typeface="Tahoma"/>
              </a:rPr>
              <a:t>Medicare Managed Care Manual.</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neficiaries with ESRD can enroll in an M+C organization only if they satisfy one of the following criteria:</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patient was a commercially-insured member of your plan the month preceding his/her month of enrollment in Medic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a:t>
            </a:r>
            <a:r>
              <a:rPr b="0" lang="en-US" sz="1000" spc="-1" strike="noStrike">
                <a:solidFill>
                  <a:srgbClr val="000000"/>
                </a:solidFill>
                <a:latin typeface="Tahoma"/>
              </a:rPr>
              <a:t>The ESRD patient had a kidney transplant and no longer requires regular dialysis.</a:t>
            </a:r>
            <a:endParaRPr b="0" lang="en-US" sz="1000" spc="-1" strike="noStrike">
              <a:solidFill>
                <a:srgbClr val="000000"/>
              </a:solidFill>
              <a:latin typeface="Tahoma"/>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CE plans can enroll ESRD patients that meet these condition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C organizations will be notified of an ESRD status via the Transaction Reply/Monthly Activity Report.</a:t>
            </a:r>
            <a:endParaRPr b="0" lang="en-US" sz="10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092240" y="685800"/>
            <a:ext cx="4673520" cy="3505320"/>
          </a:xfrm>
          <a:prstGeom prst="rect">
            <a:avLst/>
          </a:prstGeom>
          <a:ln w="0">
            <a:noFill/>
          </a:ln>
        </p:spPr>
      </p:sp>
      <p:sp>
        <p:nvSpPr>
          <p:cNvPr id="28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hird priority ranking on our special status list is Working Aged.  These beneficiaries are defined as those who become eligible for Medicare due to their age, but have maintained commercial insurance coverage through either their own current employment or that of a spous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ginning January 2004, CMS modified the process for Working Aged from a beneficiary-specific calculation to a contract-level calculation based on an annual M+C Organization Working Aged factor.</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ach year M+C organizations must survey each beneficiary that appears on its March Monthly Membership Report to identify those beneficiaries who are Working Aged.  This survey must be completed by September of each year.  M+C organizations then compile the data into two groups: those who responded that they are are working aged, and those who did not respond to the survey.  M+C organizations create two Excel files, one for each of these groups.  Those members who responded and are “non-working aged” should not be listed on either fil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2004 payments, this data should have been submitted by December 15, 2003.  Upon receipt of the diskettes, CMS notified plans of its receipt and calculated an M+C Organization Working Aged factor.  Each Working Aged beneficiary or non-respondent is listed on the MMR report with a Working Aged flag set to “Y”.</a:t>
            </a:r>
            <a:endParaRPr b="0" lang="en-US" sz="10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092240" y="685800"/>
            <a:ext cx="4673520" cy="3505320"/>
          </a:xfrm>
          <a:prstGeom prst="rect">
            <a:avLst/>
          </a:prstGeom>
          <a:ln w="0">
            <a:noFill/>
          </a:ln>
        </p:spPr>
      </p:sp>
      <p:sp>
        <p:nvSpPr>
          <p:cNvPr id="286" name="PlaceHolder 2"/>
          <p:cNvSpPr>
            <a:spLocks noGrp="1"/>
          </p:cNvSpPr>
          <p:nvPr>
            <p:ph type="body"/>
          </p:nvPr>
        </p:nvSpPr>
        <p:spPr>
          <a:xfrm>
            <a:off x="533520" y="4419360"/>
            <a:ext cx="5943600" cy="46479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r next status category is Institutionalized.  To be considered Institutionalized, the beneficiary must have been a resident in a Medicare-certified or Medicaid-certified medical facility for a minimum of 30 consecutive days, which includes the 30</a:t>
            </a:r>
            <a:r>
              <a:rPr b="0" lang="en-US" sz="1000" spc="-1" strike="noStrike" baseline="30000">
                <a:solidFill>
                  <a:srgbClr val="000000"/>
                </a:solidFill>
                <a:latin typeface="Tahoma"/>
              </a:rPr>
              <a:t>th</a:t>
            </a:r>
            <a:r>
              <a:rPr b="0" lang="en-US" sz="1000" spc="-1" strike="noStrike">
                <a:solidFill>
                  <a:srgbClr val="000000"/>
                </a:solidFill>
                <a:latin typeface="Tahoma"/>
              </a:rPr>
              <a:t> day, the last day of the month for which the higher institutional rate is paid.  MCOs are responsible for reporting institutionalized statuses, and must do so every month by submitting a monthly correction record.  Otherwise, payments will not be accu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30 consecutive days for Institutionalized consideration refers to the demographic model.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risk adjustment purposes, a long-term Institutionalized enrollee is defined as someone who resides in an institution for more than 90 days as identified using information reported by Medicare certified nursing homes in the Minimum Data Set (MD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edicare- or Medicaid-certified medical facilities includ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killed nursing facility, nursing facility, intermediate care facility, psychiatric hospital or unit, rehabilitation hospital, long-term care hospital, and swing-bed hospital.</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ursing Home Certifiable (NHC) status can only be reported by the Social HMO Demonstration organizations.  The NHC status information submitted by other M+C organizations will be rejec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beneficiary must be enrolled in your M+C organization for the current mont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lease note that only CMS can process retroactive institutional payment adjustments.  If you need to process a retroactive adjustment, contact Integregard.  Integregard’s contact information in located on the CMS website.  If you need further assistance, contact DEPO.</a:t>
            </a:r>
            <a:endParaRPr b="0" lang="en-US" sz="10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092240" y="685800"/>
            <a:ext cx="4673520" cy="3505320"/>
          </a:xfrm>
          <a:prstGeom prst="rect">
            <a:avLst/>
          </a:prstGeom>
          <a:ln w="0">
            <a:noFill/>
          </a:ln>
        </p:spPr>
      </p:sp>
      <p:sp>
        <p:nvSpPr>
          <p:cNvPr id="28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kay, so far we have covered Hospice, ESRD, Working Aged, and Institutionalized.  Our last special status is Medicaid/Medical Assistance Only.  While Medicare is a federal insurance program, Medicaid is a joint Federal/State program that is administered by the State.  There are different types of Medicaid benefits.  While there are minimum benefits that each State must provide, States have some freedom to create their own special status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ne way States use Medicaid funds is by paying for all or part of a beneficiary’s Medicare premiums.  These beneficiaries are categorized into the Medicaid special status.  For these beneficiaries, State agencies report directly to CMS’ Third Party Master Premium Billing (TPM) system, which CMS uses to bill States for the Part B premiums.  The TPM system updates the MMCS system.  In most cases, M+C organizations will be notified automatically of Medicaid statuses via the Transaction Reply/Monthly Activity Repor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me Medicaid patients, however, have more limited benefits.  These patients, known as Medical Assistance Only, or MAO, provide such services as free dental care or prescription drugs from the State, but do not receive any financial assistance, such as premium assistance.  In certain States, M+C organizations must identify MAO beneficiaries and report that information to CM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092240" y="685800"/>
            <a:ext cx="4673520" cy="3505320"/>
          </a:xfrm>
          <a:prstGeom prst="rect">
            <a:avLst/>
          </a:prstGeom>
          <a:ln w="0">
            <a:noFill/>
          </a:ln>
        </p:spPr>
      </p:sp>
      <p:sp>
        <p:nvSpPr>
          <p:cNvPr id="29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Now that we have defined the requirements of enrollments and disenrollments as well as corrections.  I would like to demonstrate the process of submitting an enroll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have an opportunity to work in your system in the next module.  I would like to get you familiar with the data required to submit an enrollment and disenrollment by watching me submit an enrollment.  It would be helpful for you to use the Record Layout job aid as I enter the data.</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Hold up the job aid until everyone has theirs ou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092240" y="685800"/>
            <a:ext cx="4673520" cy="3505320"/>
          </a:xfrm>
          <a:prstGeom prst="rect">
            <a:avLst/>
          </a:prstGeom>
          <a:ln w="0">
            <a:noFill/>
          </a:ln>
        </p:spPr>
      </p:sp>
      <p:sp>
        <p:nvSpPr>
          <p:cNvPr id="254"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ultimate goal of this module is to give you an understanding of the key components of the enrollment process.  Those components are enrollment, disenrollment, and corrections.  We also want you to walk away from this training with an overall understanding concerning your role in the process.</a:t>
            </a:r>
            <a:endParaRPr b="0" lang="en-US" sz="10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092240" y="685800"/>
            <a:ext cx="4673520" cy="3505320"/>
          </a:xfrm>
          <a:prstGeom prst="rect">
            <a:avLst/>
          </a:prstGeom>
          <a:ln w="0">
            <a:noFill/>
          </a:ln>
        </p:spPr>
      </p:sp>
      <p:sp>
        <p:nvSpPr>
          <p:cNvPr id="29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You will see that the process for entering an enrollee is a simple two step process.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tep 1 is to access the new enrollment screen and Step 2 is processing the enroll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 First I am going to access the New Enrollment Screen.  Watch me as I do thi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Facilitator switches to MMC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rom the MMCS main menu, click on the Beneficiaries menu item.  Now click on the New Enrollment submenu item to view the Beneficiaries: New Enrollment (M221) scree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you can see there are 12 fields that must be complete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aim Number(#) is your Health Insurance Claim number.  Let us talk about this a minu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Switch to PowerPoint.]</a:t>
            </a:r>
            <a:endParaRPr b="0" lang="en-US" sz="10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092240" y="685800"/>
            <a:ext cx="4673520" cy="3505320"/>
          </a:xfrm>
          <a:prstGeom prst="rect">
            <a:avLst/>
          </a:prstGeom>
          <a:ln w="0">
            <a:noFill/>
          </a:ln>
        </p:spPr>
      </p:sp>
      <p:sp>
        <p:nvSpPr>
          <p:cNvPr id="294" name="PlaceHolder 2"/>
          <p:cNvSpPr>
            <a:spLocks noGrp="1"/>
          </p:cNvSpPr>
          <p:nvPr>
            <p:ph type="body"/>
          </p:nvPr>
        </p:nvSpPr>
        <p:spPr>
          <a:xfrm>
            <a:off x="456840" y="4191120"/>
            <a:ext cx="6095880" cy="487656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he Health Insurance Claim Number or HIC is the number assigned by CMS, it will be the social security number of the beneficiary followed by a one-digit alpha numeric Beneficiary Identification Code or BIC.  Generally, the primary beneficiary is A, the spouse is B, a child is C, and a divorced spouse is D.  If there is more than once child, then a number is also included in the HIC number to identify the child.  For example, C1 for first child, C2 for second child, etc.</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HIC numbers that are assigned by the Railroad Retirement Board (RRB) begin with an alphabetic prefix followed by numbers.  Prior to 1964, the numbers were assigned in numeric order.  Beginning in 1964, the Railroad Retirement Board began using the beneficiary’s social security number.</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acilitator switch to MMCS.]</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or our purpose here I am going to enter 123456789A, which indicates the primary beneficiary.</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Last Name  Brow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irst Name Bell</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Middle Initial A</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he Birth date must be entered as MM/DD/YYYY format, so I am going to enter 05/16/1940.</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ex is a drop down box, so I will select F</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hich brings us to the contract number.  Our contract number is H1234.</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Our Plan Benefit Package identifier is 123.</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he effective date is entered in MM/DD/YYYY format (04/01/2004).  Remember, the enrollments and disenrollments must be processed within 30 days of the signed application.  For our example, let us say that the application was signed 03/03/04.</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ext is the ESRD Override.  This field should only be  used if the beneficiary was prior commercial or had a transplant and no longer dialyzing.  For example, select A.</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he Request Type is a drop down and for our purpose we would select enrollment.  As you can see, initial enrollment is an optio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Now we click on the Enroll button and that begins the processing of our enrollment.  A status message will be displayed, either providing confirmation that the enrollment request has been submitted or indicating a problem has been encountered requiring an update to one of the fields.</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witch to PowerPoint.]</a:t>
            </a:r>
            <a:endParaRPr b="0" lang="en-US" sz="8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092240" y="685800"/>
            <a:ext cx="4673520" cy="3505320"/>
          </a:xfrm>
          <a:prstGeom prst="rect">
            <a:avLst/>
          </a:prstGeom>
          <a:ln w="0">
            <a:noFill/>
          </a:ln>
        </p:spPr>
      </p:sp>
      <p:sp>
        <p:nvSpPr>
          <p:cNvPr id="29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MMCS, the process for disenrolling a beneficiary is relatively simple.</a:t>
            </a:r>
            <a:endParaRPr b="0" lang="en-US" sz="10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092240" y="685800"/>
            <a:ext cx="4673520" cy="3352680"/>
          </a:xfrm>
          <a:prstGeom prst="rect">
            <a:avLst/>
          </a:prstGeom>
          <a:ln w="0">
            <a:noFill/>
          </a:ln>
        </p:spPr>
      </p:sp>
      <p:sp>
        <p:nvSpPr>
          <p:cNvPr id="298" name="PlaceHolder 2"/>
          <p:cNvSpPr>
            <a:spLocks noGrp="1"/>
          </p:cNvSpPr>
          <p:nvPr>
            <p:ph type="body"/>
          </p:nvPr>
        </p:nvSpPr>
        <p:spPr>
          <a:xfrm>
            <a:off x="380520" y="4038480"/>
            <a:ext cx="6172200" cy="51055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his is a three step process.</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ccess the Beneficiary, Access the Update Enrollment Screen and Disenroll the Beneficiary.</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Facilitator switch to MMCS.]</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rom the MMCS main menu, click on the Beneficiaries menu item.  The Find submenu is already selected and displays the Beneficiaries:  Find (M201) scree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Enter the HIC of the Beneficiary that you would like to access.</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o let us access the beneficiary that I just enrolled.  123456789A.</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ck the Find butto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hich brings us to the Beneficiaries: Search Results screen (M202).</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Find the beneficiary who will be disenrolled and click on the associated Update Enrollment link in the Action colum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You are now at the Update Enrollment (M212) scree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To disenroll we simply enter an end date in MM/DD/YYYY format.  We will enter 08/25/2004.</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We then need to select a disenroll reason by clicking on the arrow.  We will use moving to a new location.</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Click submit button and the disenrollment is processed</a:t>
            </a: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Switch to PowerPoint.]</a:t>
            </a:r>
            <a:endParaRPr b="0" lang="en-US" sz="8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092240" y="685800"/>
            <a:ext cx="4673520" cy="3505320"/>
          </a:xfrm>
          <a:prstGeom prst="rect">
            <a:avLst/>
          </a:prstGeom>
          <a:ln w="0">
            <a:noFill/>
          </a:ln>
        </p:spPr>
      </p:sp>
      <p:sp>
        <p:nvSpPr>
          <p:cNvPr id="30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talked earlier about processing and effective dates.  I think it is important to emphasize a few tips that could help you meet your deadlin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Files submitted and received by 7:30 p.m. ET will be received for processing.</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Files received after 7:30 p.m. will not be processed until the next day.</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Files are not accepted on Saturday, Sunday, and days that MMCS is dow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On the monthly data cutoff dates, for example September 16, all data must be received by 5:00 p.m.</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092240" y="685800"/>
            <a:ext cx="4673520" cy="3505320"/>
          </a:xfrm>
          <a:prstGeom prst="rect">
            <a:avLst/>
          </a:prstGeom>
          <a:ln w="0">
            <a:noFill/>
          </a:ln>
        </p:spPr>
      </p:sp>
      <p:sp>
        <p:nvSpPr>
          <p:cNvPr id="30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ll that concludes the Enrollment Components module.  You should feel comfortable with your understanding of your rol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 hope that you are all clear on the enrollment and disenrollment process requirement, the submission timeline, and the enrollment period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there any questions?</a:t>
            </a:r>
            <a:endParaRPr b="0" lang="en-US" sz="10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092240" y="685800"/>
            <a:ext cx="4673520" cy="3505320"/>
          </a:xfrm>
          <a:prstGeom prst="rect">
            <a:avLst/>
          </a:prstGeom>
          <a:ln w="0">
            <a:noFill/>
          </a:ln>
        </p:spPr>
      </p:sp>
      <p:sp>
        <p:nvSpPr>
          <p:cNvPr id="25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o to achieve that goal, I will identify the role of CMS and the MCO.  I will define enrollment, disenrollment, and corrections and describe the submission requirements and timeline.  In doing that we will define the enrollment periods that apply to submitting enrollment and disenrollment for M+C organizations.  You will learn the importance of identifying and communicating “Special Status” categorie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ally, we will walk through the Transaction Record Layout for enrollments, disenrollments, and correction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have our work cut out for us, so let us get started!</a:t>
            </a:r>
            <a:endParaRPr b="0" lang="en-US" sz="10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092240" y="685800"/>
            <a:ext cx="4673520" cy="3505320"/>
          </a:xfrm>
          <a:prstGeom prst="rect">
            <a:avLst/>
          </a:prstGeom>
          <a:ln w="0">
            <a:noFill/>
          </a:ln>
        </p:spPr>
      </p:sp>
      <p:sp>
        <p:nvSpPr>
          <p:cNvPr id="25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t is probably a good idea to begin by looking at the big picture.  When we talk about the Enrollment Process, which includes disenrollment and correction, for the most part the process begins with the Medicare Beneficiary.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Generally speaking, the Medicare beneficiary informs the MCO that they are enrolling or disenrolling.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MCOs are required to submit information electronically to CMS about Medicare members, including enrollment, disenrollment, and health statu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MS uses this information to provide payment based on the membership data.  CMS is also responsible for providing timely accurate reports so that MCOs may verify that payment information.  You will learn about those reports in the Reports and Reconciliation Module.</a:t>
            </a:r>
            <a:endParaRPr b="0" lang="en-US" sz="1000" spc="-1" strike="noStrike">
              <a:solidFill>
                <a:srgbClr val="000000"/>
              </a:solidFill>
              <a:latin typeface="Tahoma"/>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092240" y="685800"/>
            <a:ext cx="4673520" cy="3505320"/>
          </a:xfrm>
          <a:prstGeom prst="rect">
            <a:avLst/>
          </a:prstGeom>
          <a:ln w="0">
            <a:noFill/>
          </a:ln>
        </p:spPr>
      </p:sp>
      <p:sp>
        <p:nvSpPr>
          <p:cNvPr id="260" name=""/>
          <p:cNvSpPr/>
          <p:nvPr/>
        </p:nvSpPr>
        <p:spPr>
          <a:xfrm>
            <a:off x="914400" y="4419720"/>
            <a:ext cx="5029200" cy="4190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
        <p:nvSpPr>
          <p:cNvPr id="262" name=""/>
          <p:cNvSpPr/>
          <p:nvPr/>
        </p:nvSpPr>
        <p:spPr>
          <a:xfrm>
            <a:off x="838080" y="4343400"/>
            <a:ext cx="5334120" cy="486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should be real clear about what we mean by enrollment, disenrollment, and correct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nrollment occurs basically for two reason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A person who is eligible for Medicare selects your MC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A current commercial member becomes eligible for Medicare and switches over to your Medicare line of busines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enrollments can be voluntary, which means that the beneficiary decides for a variety of reasons to discontinue membership in your MCO.</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enrollments can also be involuntary for reasons such as the MCO contract is terminated with CM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d then there are Correction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correction applies only to M+C organizations, not cost-based MCOs.  Corrections are required to inform CMS of Special Health Status that affects payment.  One example of this is Medicaid.  We will discuss this in greater detail in a few moment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we all clear on the difference between enrollment, disenrollment, and correction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nswer questions.]</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092240" y="685800"/>
            <a:ext cx="4673520" cy="3505320"/>
          </a:xfrm>
          <a:prstGeom prst="rect">
            <a:avLst/>
          </a:prstGeom>
          <a:ln w="0">
            <a:noFill/>
          </a:ln>
        </p:spPr>
      </p:sp>
      <p:sp>
        <p:nvSpPr>
          <p:cNvPr id="264" name="PlaceHolder 2"/>
          <p:cNvSpPr>
            <a:spLocks noGrp="1"/>
          </p:cNvSpPr>
          <p:nvPr>
            <p:ph type="body"/>
          </p:nvPr>
        </p:nvSpPr>
        <p:spPr>
          <a:xfrm>
            <a:off x="304560" y="4266720"/>
            <a:ext cx="6553080" cy="4876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ow that we understand the difference in the three components, let us move right into the requirements.  The requirements are different for cost-based MCOs vs. M+C organizations. </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We will first discuss cost-based MCOs.  </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nrollment effective date that is submitted must be 1 to 3 months after the current date.  Any other date will be rejected by CMS.</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Instructor writes on board as they read aloud---</a:t>
            </a:r>
            <a:r>
              <a:rPr b="0" lang="en-US" sz="900" spc="-1" strike="noStrike">
                <a:solidFill>
                  <a:srgbClr val="000000"/>
                </a:solidFill>
                <a:latin typeface="Tahoma"/>
              </a:rPr>
              <a:t>  Enrollment submitted by the May deadline with the effective date of July.  Is that acceptable? </a:t>
            </a:r>
            <a:r>
              <a:rPr b="1" lang="en-US" sz="900" spc="-1" strike="noStrike">
                <a:solidFill>
                  <a:srgbClr val="000000"/>
                </a:solidFill>
                <a:latin typeface="Tahoma"/>
              </a:rPr>
              <a:t>Allow participants to answer, and answer any questions..The answer is yes.]</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 general, the voluntary disenrollments must be processed effective the month following the month the request was received.</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ahoma"/>
              </a:rPr>
              <a:t>UNLESS</a:t>
            </a:r>
            <a:r>
              <a:rPr b="0" lang="en-US" sz="900" spc="-1" strike="noStrike">
                <a:solidFill>
                  <a:srgbClr val="000000"/>
                </a:solidFill>
                <a:latin typeface="Tahoma"/>
              </a:rPr>
              <a:t>  a later effective date was requested by the beneficiary.  If this is the case, CMS will accept effective dates up to 3 months in the future.</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lease turn in your Medicare Managed Care Manual to Section 20.3.1 Cost-Based MCOs Only.   There is an important point that I would like you to highlight on this page.</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se the first of the month, of the month that the beneficiary no longer wants to be enrolled in the MCO, as the effective date.  </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sing the Processing Calendar job aid that you have, let us review.  September 2005, Plan Date enrollment is due by September 16 for effective dates of September, October, and November.  They will be effective the first day of either of those months.</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oes that make sense to everyone? </a:t>
            </a:r>
            <a:r>
              <a:rPr b="1" lang="en-US" sz="900" spc="-1" strike="noStrike">
                <a:solidFill>
                  <a:srgbClr val="000000"/>
                </a:solidFill>
                <a:latin typeface="Tahoma"/>
              </a:rPr>
              <a:t>[Answer any questions.]</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s I mentioned earlier, corrections do not apply to cost-based MCOs.</a:t>
            </a: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o we will move to the requirements for M+C organizations.</a:t>
            </a:r>
            <a:endParaRPr b="0" lang="en-US" sz="9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092240" y="685800"/>
            <a:ext cx="4673520" cy="3505320"/>
          </a:xfrm>
          <a:prstGeom prst="rect">
            <a:avLst/>
          </a:prstGeom>
          <a:ln w="0">
            <a:noFill/>
          </a:ln>
        </p:spPr>
      </p:sp>
      <p:sp>
        <p:nvSpPr>
          <p:cNvPr id="266"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four periods that apply to the enrollment process for M+C organizations.  These are called election periods.  Each period has a defined effective date.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itial Coverage Period (ICP).  Basically, this happens only once in a Medicare Beneficiary’s lifetime.  That is when they become eligible for both Part A and Part B Medicare.  It takes place three months prior to the person’s entitlement.  For example, if the person turns 65 in March, this period will begin in the previous December.  The beneficiary’s effective date, however, is the first day of March.  Age is one indicator, but they may have become eligible for Medicare due to disability or End-Stage Renal Diseas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nual Election Period (AEP).  Occurs every year between November 15 and December 31 and the enrollment goes into effect the following January.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pecial Election Period (SEP).  Allows the beneficiary the opportunity to enroll in an M+C organization for extenuating circumstances, such as MCO contract termination or beneficiary moving to a different geographic area.  The effective date varies depending on the situatio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inally, the Open Enrollment Period (OEP).  Through January 2005, a Medicare Beneficiary may enroll in your plan anytime you are accepting new enrollees.  The effective date is the first day of the month after receipt of the signed applicatio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092240" y="685800"/>
            <a:ext cx="4673520" cy="3505320"/>
          </a:xfrm>
          <a:prstGeom prst="rect">
            <a:avLst/>
          </a:prstGeom>
          <a:ln w="0">
            <a:noFill/>
          </a:ln>
        </p:spPr>
      </p:sp>
      <p:sp>
        <p:nvSpPr>
          <p:cNvPr id="26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gardless of the election period, enrollment must be submitted and completed in the month prior to the effective date.  The enrollment request record may be submitted with an effective date of the current pay month and up to 2 months beyond the current mont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ny questions?</a:t>
            </a:r>
            <a:endParaRPr b="0" lang="en-US" sz="10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092240" y="685800"/>
            <a:ext cx="4673520" cy="3505320"/>
          </a:xfrm>
          <a:prstGeom prst="rect">
            <a:avLst/>
          </a:prstGeom>
          <a:ln w="0">
            <a:noFill/>
          </a:ln>
        </p:spPr>
      </p:sp>
      <p:sp>
        <p:nvSpPr>
          <p:cNvPr id="27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f you are an M+C organization that provides health services to an employer group, you may enroll Medicare beneficiaries who are employer group members retroactively up to 90 days from the current payment d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effective date of the enrollment can be no earlier than the 1st of the month after the signature date on the election form and no more than 90 days earlier than the current prospective payment month.</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Instructor writes on board and reads aloud. ]</a:t>
            </a:r>
            <a:r>
              <a:rPr b="0" lang="en-US" sz="1000" spc="-1" strike="noStrike">
                <a:solidFill>
                  <a:srgbClr val="000000"/>
                </a:solidFill>
                <a:latin typeface="Tahoma"/>
              </a:rPr>
              <a:t> The current processing month is September. The current payment date is October 1st.  July, August, and September are all acceptable effective dates.  Remember the signature can be no earlier than June 30th based on this example.</a:t>
            </a:r>
            <a:endParaRPr b="0" lang="en-US" sz="10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FF785-0889-46D2-82F6-0321DEEB00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2"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26F44834-6F6D-47C2-B31C-6ED78946DA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80130644-2EAF-469D-A6C5-3877A5EE04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0"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B26BE2A4-5768-4B6D-89FE-CE3EEA7856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395114D-E590-4150-8665-715EB859C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C586D36-4ABC-4955-9380-D7E9F41B87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81E4229-54A3-44C1-878D-78056FB09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2"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12810B0-D479-4CA4-BCA6-3BA570E205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DD059A-6F01-4ECA-9CC1-ADAE019A35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B6EB5E-46F7-4631-84E5-68703AB05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7"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24B60-633C-4CEF-B0EA-3A7032F56B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1"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sp>
        <p:nvSpPr>
          <p:cNvPr id="4" name="PlaceHolder 3"/>
          <p:cNvSpPr>
            <a:spLocks noGrp="1"/>
          </p:cNvSpPr>
          <p:nvPr>
            <p:ph type="sldNum" idx="1"/>
          </p:nvPr>
        </p:nvSpPr>
        <p:spPr/>
        <p:txBody>
          <a:bodyPr/>
          <a:p>
            <a:fld id="{6B7219DE-5BD0-4A03-BE72-23DEBA530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1"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0433B71-182F-4479-A84F-6698C6AA4CD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BF1C66-DCA1-468E-B247-F045DD4C7A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9"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5D9F13-4E14-4A25-9B15-C17DD81AF6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2"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956B45D-89C2-4721-AC8B-79B63A70A83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7"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27DEDD-0930-407E-A4EC-7B781898FD1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827E1146-71ED-476E-B1BA-47634F6E5D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5"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F064FCE5-687D-4B46-B0DA-CCCB9CAFBC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sldNum" idx="1"/>
          </p:nvPr>
        </p:nvSpPr>
        <p:spPr/>
        <p:txBody>
          <a:bodyPr/>
          <a:p>
            <a:fld id="{00D1C573-77C5-4495-B241-D9E32CFFF7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Tahoma"/>
            </a:endParaRPr>
          </a:p>
        </p:txBody>
      </p:sp>
      <p:sp>
        <p:nvSpPr>
          <p:cNvPr id="3" name="PlaceHolder 2"/>
          <p:cNvSpPr>
            <a:spLocks noGrp="1"/>
          </p:cNvSpPr>
          <p:nvPr>
            <p:ph type="sldNum" idx="1"/>
          </p:nvPr>
        </p:nvSpPr>
        <p:spPr/>
        <p:txBody>
          <a:bodyPr/>
          <a:p>
            <a:fld id="{960E07CC-81EE-4A42-96CF-BBDA09AF58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0"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B9B2D0D-3E7F-48BA-9916-4E072868ED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4"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26413B06-8FBB-45FE-B20C-74E91AF14B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8"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668817A-57AA-445D-90EE-8AFB801227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14400" y="1600200"/>
            <a:ext cx="8229600" cy="5257800"/>
          </a:xfrm>
          <a:prstGeom prst="rect">
            <a:avLst/>
          </a:prstGeom>
          <a:gradFill rotWithShape="0">
            <a:gsLst>
              <a:gs pos="0">
                <a:srgbClr val="3333cc"/>
              </a:gs>
              <a:gs pos="100000">
                <a:srgbClr val="aeae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38080" y="0"/>
            <a:ext cx="7632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5393400">
            <a:off x="-1687320" y="33436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pic>
        <p:nvPicPr>
          <p:cNvPr id="4" name="j0316888" descr=""/>
          <p:cNvPicPr/>
          <p:nvPr/>
        </p:nvPicPr>
        <p:blipFill>
          <a:blip r:embed="rId2"/>
          <a:stretch/>
        </p:blipFill>
        <p:spPr>
          <a:xfrm>
            <a:off x="304920" y="0"/>
            <a:ext cx="1904760" cy="1266840"/>
          </a:xfrm>
          <a:prstGeom prst="rect">
            <a:avLst/>
          </a:prstGeom>
          <a:ln w="0">
            <a:noFill/>
          </a:ln>
        </p:spPr>
      </p:pic>
      <p:sp>
        <p:nvSpPr>
          <p:cNvPr id="5" name=""/>
          <p:cNvSpPr/>
          <p:nvPr/>
        </p:nvSpPr>
        <p:spPr>
          <a:xfrm>
            <a:off x="76320" y="504720"/>
            <a:ext cx="1600200" cy="106704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2280" y="65412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2004</a:t>
            </a:r>
            <a:endParaRPr b="0" lang="en-US" sz="4000" spc="-1" strike="noStrike">
              <a:solidFill>
                <a:srgbClr val="000000"/>
              </a:solidFill>
              <a:latin typeface="Times New Roman"/>
            </a:endParaRPr>
          </a:p>
        </p:txBody>
      </p:sp>
      <p:sp>
        <p:nvSpPr>
          <p:cNvPr id="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8" name="PlaceHolder 2"/>
          <p:cNvSpPr>
            <a:spLocks noGrp="1"/>
          </p:cNvSpPr>
          <p:nvPr>
            <p:ph type="body"/>
          </p:nvPr>
        </p:nvSpPr>
        <p:spPr>
          <a:xfrm>
            <a:off x="121932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53760" indent="-2512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058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0796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104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0A732-93B3-40AF-B6E7-617741D940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F33EF-CF95-435D-8B74-7BEF18A703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3352680" y="1371600"/>
            <a:ext cx="579132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0"/>
            <a:ext cx="8077320" cy="137160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90720" y="0"/>
            <a:ext cx="7596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7539120" y="204840"/>
            <a:ext cx="1375920" cy="1014120"/>
            <a:chOff x="7539120" y="204840"/>
            <a:chExt cx="1375920" cy="1014120"/>
          </a:xfrm>
        </p:grpSpPr>
        <p:pic>
          <p:nvPicPr>
            <p:cNvPr id="55" name="hhsbird2" descr=""/>
            <p:cNvPicPr/>
            <p:nvPr/>
          </p:nvPicPr>
          <p:blipFill>
            <a:blip r:embed="rId2"/>
            <a:stretch/>
          </p:blipFill>
          <p:spPr>
            <a:xfrm>
              <a:off x="7539120" y="204840"/>
              <a:ext cx="761760" cy="633240"/>
            </a:xfrm>
            <a:prstGeom prst="rect">
              <a:avLst/>
            </a:prstGeom>
            <a:ln w="0">
              <a:noFill/>
            </a:ln>
          </p:spPr>
        </p:pic>
        <p:pic>
          <p:nvPicPr>
            <p:cNvPr id="56" name="" descr=""/>
            <p:cNvPicPr/>
            <p:nvPr/>
          </p:nvPicPr>
          <p:blipFill>
            <a:blip r:embed="rId3"/>
            <a:stretch/>
          </p:blipFill>
          <p:spPr>
            <a:xfrm>
              <a:off x="7920000" y="690480"/>
              <a:ext cx="995040" cy="528480"/>
            </a:xfrm>
            <a:prstGeom prst="rect">
              <a:avLst/>
            </a:prstGeom>
            <a:ln w="0">
              <a:noFill/>
            </a:ln>
          </p:spPr>
        </p:pic>
      </p:grpSp>
      <p:sp>
        <p:nvSpPr>
          <p:cNvPr id="57" name=""/>
          <p:cNvSpPr/>
          <p:nvPr/>
        </p:nvSpPr>
        <p:spPr>
          <a:xfrm rot="5400000">
            <a:off x="-2933640" y="2933640"/>
            <a:ext cx="6858000" cy="99072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00400" y="1295280"/>
            <a:ext cx="5943600" cy="76320"/>
          </a:xfrm>
          <a:prstGeom prst="rect">
            <a:avLst/>
          </a:prstGeom>
          <a:gradFill rotWithShape="0">
            <a:gsLst>
              <a:gs pos="0">
                <a:srgbClr val="fefefe"/>
              </a:gs>
              <a:gs pos="100000">
                <a:srgbClr val="ff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9" name=""/>
          <p:cNvGrpSpPr/>
          <p:nvPr/>
        </p:nvGrpSpPr>
        <p:grpSpPr>
          <a:xfrm>
            <a:off x="76320" y="0"/>
            <a:ext cx="3124080" cy="2212920"/>
            <a:chOff x="76320" y="0"/>
            <a:chExt cx="3124080" cy="2212920"/>
          </a:xfrm>
        </p:grpSpPr>
        <p:pic>
          <p:nvPicPr>
            <p:cNvPr id="60" name="j0316888" descr=""/>
            <p:cNvPicPr/>
            <p:nvPr/>
          </p:nvPicPr>
          <p:blipFill>
            <a:blip r:embed="rId4"/>
            <a:stretch/>
          </p:blipFill>
          <p:spPr>
            <a:xfrm>
              <a:off x="533520" y="0"/>
              <a:ext cx="2666880" cy="1773360"/>
            </a:xfrm>
            <a:prstGeom prst="rect">
              <a:avLst/>
            </a:prstGeom>
            <a:ln w="0">
              <a:noFill/>
            </a:ln>
          </p:spPr>
        </p:pic>
        <p:sp>
          <p:nvSpPr>
            <p:cNvPr id="61" name=""/>
            <p:cNvSpPr/>
            <p:nvPr/>
          </p:nvSpPr>
          <p:spPr>
            <a:xfrm>
              <a:off x="76320" y="838440"/>
              <a:ext cx="2514600" cy="137448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2280" y="99072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Tahoma"/>
                </a:rPr>
                <a:t>2004</a:t>
              </a:r>
              <a:endParaRPr b="0" lang="en-US" sz="6600" spc="-1" strike="noStrike">
                <a:solidFill>
                  <a:srgbClr val="000000"/>
                </a:solidFill>
                <a:latin typeface="Times New Roman"/>
              </a:endParaRPr>
            </a:p>
          </p:txBody>
        </p:sp>
      </p:grpSp>
      <p:pic>
        <p:nvPicPr>
          <p:cNvPr id="63" name="" descr=""/>
          <p:cNvPicPr/>
          <p:nvPr/>
        </p:nvPicPr>
        <p:blipFill>
          <a:blip r:embed="rId5"/>
          <a:srcRect l="0" t="0" r="5338" b="6885"/>
          <a:stretch/>
        </p:blipFill>
        <p:spPr>
          <a:xfrm>
            <a:off x="228600" y="6407280"/>
            <a:ext cx="685800" cy="450720"/>
          </a:xfrm>
          <a:prstGeom prst="rect">
            <a:avLst/>
          </a:prstGeom>
          <a:ln w="0">
            <a:noFill/>
          </a:ln>
        </p:spPr>
      </p:pic>
      <p:sp>
        <p:nvSpPr>
          <p:cNvPr id="64" name=""/>
          <p:cNvSpPr/>
          <p:nvPr/>
        </p:nvSpPr>
        <p:spPr>
          <a:xfrm rot="5393400">
            <a:off x="-1686960" y="387684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sp>
        <p:nvSpPr>
          <p:cNvPr id="65" name=""/>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421E-02F0-4388-9EA6-425A54C2A6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Click to edit the outline text format</a:t>
            </a:r>
            <a:endParaRPr b="0" i="1"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1981080"/>
            <a:ext cx="79246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Enrollment Components</a:t>
            </a:r>
            <a:endParaRPr b="1" lang="en-US" sz="5400" spc="-1" strike="noStrike">
              <a:solidFill>
                <a:srgbClr val="ffffff"/>
              </a:solidFill>
              <a:latin typeface="Tahoma"/>
            </a:endParaRPr>
          </a:p>
        </p:txBody>
      </p:sp>
      <p:sp>
        <p:nvSpPr>
          <p:cNvPr id="111" name="PlaceHolder 2"/>
          <p:cNvSpPr>
            <a:spLocks noGrp="1"/>
          </p:cNvSpPr>
          <p:nvPr>
            <p:ph type="subTitle"/>
          </p:nvPr>
        </p:nvSpPr>
        <p:spPr>
          <a:xfrm>
            <a:off x="1066320" y="5333760"/>
            <a:ext cx="807732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spen Systems Corporation</a:t>
            </a:r>
            <a:endParaRPr b="0" i="1" lang="en-US" sz="2800" spc="-1" strike="noStrike">
              <a:solidFill>
                <a:srgbClr val="ffffff"/>
              </a:solidFill>
              <a:latin typeface="Tahoma"/>
            </a:endParaRPr>
          </a:p>
        </p:txBody>
      </p:sp>
      <p:sp>
        <p:nvSpPr>
          <p:cNvPr id="4" name="PlaceHolder 3"/>
          <p:cNvSpPr>
            <a:spLocks noGrp="1"/>
          </p:cNvSpPr>
          <p:nvPr>
            <p:ph type="sldNum" idx="4"/>
          </p:nvPr>
        </p:nvSpPr>
        <p:spPr/>
        <p:txBody>
          <a:bodyPr/>
          <a:p>
            <a:fld id="{51C9B28B-5E19-4B31-BF4C-F30CCAF6BE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564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C Disenrollment Submission Requirements</a:t>
            </a:r>
            <a:endParaRPr b="1" lang="en-US" sz="3600" spc="-1" strike="noStrike">
              <a:solidFill>
                <a:srgbClr val="ffffff"/>
              </a:solidFill>
              <a:latin typeface="Tahoma"/>
            </a:endParaRPr>
          </a:p>
        </p:txBody>
      </p:sp>
      <p:sp>
        <p:nvSpPr>
          <p:cNvPr id="167"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fontScale="95000"/>
          </a:bodyPr>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submitted during an election period.</a:t>
            </a:r>
            <a:endParaRPr b="0" lang="en-US" sz="28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EP effective January 1 of the next year.</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P effective dates vary.</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EP effective the first day of the month after receipt of request.</a:t>
            </a:r>
            <a:endParaRPr b="0" lang="en-US" sz="2400" spc="-1" strike="noStrike">
              <a:solidFill>
                <a:srgbClr val="ffffff"/>
              </a:solidFill>
              <a:latin typeface="Tahoma"/>
            </a:endParaRPr>
          </a:p>
          <a:p>
            <a:pPr lvl="1" marL="705600" indent="-2714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CEP not a valid disenrollment period.</a:t>
            </a:r>
            <a:endParaRPr b="0" lang="en-US" sz="2400" spc="-1" strike="noStrike">
              <a:solidFill>
                <a:srgbClr val="ffffff"/>
              </a:solidFill>
              <a:latin typeface="Tahoma"/>
            </a:endParaRPr>
          </a:p>
          <a:p>
            <a:pPr marL="325800" indent="-325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submitted within 30 days of receipt of request.</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DFEB5084-115F-4ACF-B0B9-4E38EE4720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orms CMS which of the M+C organization’s members meet the special status criteri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s always applied to the payment month.</a:t>
            </a:r>
            <a:endParaRPr b="0" lang="en-US" sz="3200" spc="-1" strike="noStrike">
              <a:solidFill>
                <a:srgbClr val="ffffff"/>
              </a:solidFill>
              <a:latin typeface="Tahoma"/>
            </a:endParaRPr>
          </a:p>
        </p:txBody>
      </p:sp>
      <p:sp>
        <p:nvSpPr>
          <p:cNvPr id="169" name="PlaceHolder 2"/>
          <p:cNvSpPr>
            <a:spLocks noGrp="1"/>
          </p:cNvSpPr>
          <p:nvPr>
            <p:ph type="title"/>
          </p:nvPr>
        </p:nvSpPr>
        <p:spPr>
          <a:xfrm>
            <a:off x="2362320" y="22824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C Correction Transaction Submission Requirements</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077405EC-BB09-4B59-BB67-401CFA30C2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3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pecial Status</a:t>
            </a:r>
            <a:endParaRPr b="1" lang="en-US" sz="4400" spc="-1" strike="noStrike">
              <a:solidFill>
                <a:srgbClr val="ffffff"/>
              </a:solidFill>
              <a:latin typeface="Tahoma"/>
            </a:endParaRPr>
          </a:p>
        </p:txBody>
      </p:sp>
      <p:grpSp>
        <p:nvGrpSpPr>
          <p:cNvPr id="171" name=""/>
          <p:cNvGrpSpPr/>
          <p:nvPr/>
        </p:nvGrpSpPr>
        <p:grpSpPr>
          <a:xfrm>
            <a:off x="1600200" y="1905120"/>
            <a:ext cx="5638680" cy="3733560"/>
            <a:chOff x="1600200" y="1905120"/>
            <a:chExt cx="5638680" cy="3733560"/>
          </a:xfrm>
        </p:grpSpPr>
        <p:grpSp>
          <p:nvGrpSpPr>
            <p:cNvPr id="172" name=""/>
            <p:cNvGrpSpPr/>
            <p:nvPr/>
          </p:nvGrpSpPr>
          <p:grpSpPr>
            <a:xfrm>
              <a:off x="1600200" y="1905120"/>
              <a:ext cx="2895480" cy="685800"/>
              <a:chOff x="1600200" y="1905120"/>
              <a:chExt cx="2895480" cy="685800"/>
            </a:xfrm>
          </p:grpSpPr>
          <p:sp>
            <p:nvSpPr>
              <p:cNvPr id="173" name=""/>
              <p:cNvSpPr/>
              <p:nvPr/>
            </p:nvSpPr>
            <p:spPr>
              <a:xfrm>
                <a:off x="1600200" y="1905120"/>
                <a:ext cx="289548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52480" y="1981080"/>
                <a:ext cx="233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ospice</a:t>
                </a:r>
                <a:endParaRPr b="0" lang="en-US" sz="2400" spc="-1" strike="noStrike">
                  <a:solidFill>
                    <a:srgbClr val="000000"/>
                  </a:solidFill>
                  <a:latin typeface="Times New Roman"/>
                </a:endParaRPr>
              </a:p>
            </p:txBody>
          </p:sp>
        </p:grpSp>
        <p:grpSp>
          <p:nvGrpSpPr>
            <p:cNvPr id="175" name=""/>
            <p:cNvGrpSpPr/>
            <p:nvPr/>
          </p:nvGrpSpPr>
          <p:grpSpPr>
            <a:xfrm>
              <a:off x="3581280" y="4191120"/>
              <a:ext cx="2895840" cy="685800"/>
              <a:chOff x="3581280" y="4191120"/>
              <a:chExt cx="2895840" cy="685800"/>
            </a:xfrm>
          </p:grpSpPr>
          <p:sp>
            <p:nvSpPr>
              <p:cNvPr id="176" name=""/>
              <p:cNvSpPr/>
              <p:nvPr/>
            </p:nvSpPr>
            <p:spPr>
              <a:xfrm>
                <a:off x="3581280" y="4191120"/>
                <a:ext cx="289584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040280" y="4267080"/>
                <a:ext cx="20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stitutional</a:t>
                </a:r>
                <a:endParaRPr b="0" lang="en-US" sz="2400" spc="-1" strike="noStrike">
                  <a:solidFill>
                    <a:srgbClr val="000000"/>
                  </a:solidFill>
                  <a:latin typeface="Times New Roman"/>
                </a:endParaRPr>
              </a:p>
            </p:txBody>
          </p:sp>
        </p:grpSp>
        <p:grpSp>
          <p:nvGrpSpPr>
            <p:cNvPr id="178" name=""/>
            <p:cNvGrpSpPr/>
            <p:nvPr/>
          </p:nvGrpSpPr>
          <p:grpSpPr>
            <a:xfrm>
              <a:off x="2133720" y="2666880"/>
              <a:ext cx="2895480" cy="685800"/>
              <a:chOff x="2133720" y="2666880"/>
              <a:chExt cx="2895480" cy="685800"/>
            </a:xfrm>
          </p:grpSpPr>
          <p:sp>
            <p:nvSpPr>
              <p:cNvPr id="179" name=""/>
              <p:cNvSpPr/>
              <p:nvPr/>
            </p:nvSpPr>
            <p:spPr>
              <a:xfrm>
                <a:off x="2133720" y="2666880"/>
                <a:ext cx="289548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590920" y="274320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RD</a:t>
                </a:r>
                <a:endParaRPr b="0" lang="en-US" sz="2400" spc="-1" strike="noStrike">
                  <a:solidFill>
                    <a:srgbClr val="000000"/>
                  </a:solidFill>
                  <a:latin typeface="Times New Roman"/>
                </a:endParaRPr>
              </a:p>
            </p:txBody>
          </p:sp>
        </p:grpSp>
        <p:grpSp>
          <p:nvGrpSpPr>
            <p:cNvPr id="181" name=""/>
            <p:cNvGrpSpPr/>
            <p:nvPr/>
          </p:nvGrpSpPr>
          <p:grpSpPr>
            <a:xfrm>
              <a:off x="2895480" y="3429000"/>
              <a:ext cx="2895840" cy="685800"/>
              <a:chOff x="2895480" y="3429000"/>
              <a:chExt cx="2895840" cy="685800"/>
            </a:xfrm>
          </p:grpSpPr>
          <p:sp>
            <p:nvSpPr>
              <p:cNvPr id="182" name=""/>
              <p:cNvSpPr/>
              <p:nvPr/>
            </p:nvSpPr>
            <p:spPr>
              <a:xfrm>
                <a:off x="2895480" y="3429000"/>
                <a:ext cx="2895840" cy="685800"/>
              </a:xfrm>
              <a:prstGeom prst="rect">
                <a:avLst/>
              </a:prstGeom>
              <a:gradFill rotWithShape="0">
                <a:gsLst>
                  <a:gs pos="0">
                    <a:srgbClr val="66ff33"/>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200400" y="3505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orking Aged</a:t>
                </a:r>
                <a:endParaRPr b="0" lang="en-US" sz="2400" spc="-1" strike="noStrike">
                  <a:solidFill>
                    <a:srgbClr val="000000"/>
                  </a:solidFill>
                  <a:latin typeface="Times New Roman"/>
                </a:endParaRPr>
              </a:p>
            </p:txBody>
          </p:sp>
        </p:grpSp>
        <p:grpSp>
          <p:nvGrpSpPr>
            <p:cNvPr id="184" name=""/>
            <p:cNvGrpSpPr/>
            <p:nvPr/>
          </p:nvGrpSpPr>
          <p:grpSpPr>
            <a:xfrm>
              <a:off x="4343400" y="4952880"/>
              <a:ext cx="2895480" cy="685800"/>
              <a:chOff x="4343400" y="4952880"/>
              <a:chExt cx="2895480" cy="685800"/>
            </a:xfrm>
          </p:grpSpPr>
          <p:sp>
            <p:nvSpPr>
              <p:cNvPr id="185" name=""/>
              <p:cNvSpPr/>
              <p:nvPr/>
            </p:nvSpPr>
            <p:spPr>
              <a:xfrm>
                <a:off x="4343400" y="4952880"/>
                <a:ext cx="2895480" cy="685800"/>
              </a:xfrm>
              <a:prstGeom prst="rect">
                <a:avLst/>
              </a:prstGeom>
              <a:gradFill rotWithShape="0">
                <a:gsLst>
                  <a:gs pos="0">
                    <a:srgbClr val="ffcc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670640" y="5029200"/>
                <a:ext cx="156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edicaid</a:t>
                </a:r>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7FE82B36-269A-46EB-95E3-080E0BD169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1219320" y="1752480"/>
            <a:ext cx="7772400" cy="46483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fe expectancy is 6 months or less if the illness runs its course </a:t>
            </a:r>
            <a:r>
              <a:rPr b="1" lang="en-US" sz="2800" spc="-1" strike="noStrike">
                <a:solidFill>
                  <a:srgbClr val="ffffff"/>
                </a:solidFill>
                <a:latin typeface="Tahoma"/>
              </a:rPr>
              <a:t>and</a:t>
            </a:r>
            <a:endParaRPr b="0" lang="en-US" sz="2800" spc="-1" strike="noStrike">
              <a:solidFill>
                <a:srgbClr val="ffffff"/>
              </a:solidFill>
              <a:latin typeface="Tahoma"/>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physician has certified that the beneficiary is terminally ill.</a:t>
            </a:r>
            <a:endParaRPr b="0" lang="en-US" sz="2800" spc="-1" strike="noStrike">
              <a:solidFill>
                <a:srgbClr val="ffffff"/>
              </a:solidFill>
              <a:latin typeface="Tahoma"/>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 organization is notified by CMS Transaction Reply/Monthly Report.</a:t>
            </a:r>
            <a:endParaRPr b="0" lang="en-US" sz="2800" spc="-1" strike="noStrike">
              <a:solidFill>
                <a:srgbClr val="ffffff"/>
              </a:solidFill>
              <a:latin typeface="Tahoma"/>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ices related to the terminal illness will be paid directly by CMS to the Hospice.</a:t>
            </a:r>
            <a:endParaRPr b="0" lang="en-US" sz="2800" spc="-1" strike="noStrike">
              <a:solidFill>
                <a:srgbClr val="ffffff"/>
              </a:solidFill>
              <a:latin typeface="Tahoma"/>
            </a:endParaRPr>
          </a:p>
          <a:p>
            <a:pPr marL="339480" indent="-3394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ices unrelated to the terminal illness must be submitted through the FFS claims process.</a:t>
            </a:r>
            <a:endParaRPr b="0" lang="en-US" sz="2800" spc="-1" strike="noStrike">
              <a:solidFill>
                <a:srgbClr val="ffffff"/>
              </a:solidFill>
              <a:latin typeface="Tahoma"/>
            </a:endParaRPr>
          </a:p>
        </p:txBody>
      </p:sp>
      <p:sp>
        <p:nvSpPr>
          <p:cNvPr id="188" name="PlaceHolder 2"/>
          <p:cNvSpPr>
            <a:spLocks noGrp="1"/>
          </p:cNvSpPr>
          <p:nvPr>
            <p:ph type="title"/>
          </p:nvPr>
        </p:nvSpPr>
        <p:spPr>
          <a:xfrm>
            <a:off x="22093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spice</a:t>
            </a:r>
            <a:endParaRPr b="1" lang="en-US" sz="4400" spc="-1" strike="noStrike">
              <a:solidFill>
                <a:srgbClr val="ffffff"/>
              </a:solidFill>
              <a:latin typeface="Tahoma"/>
            </a:endParaRPr>
          </a:p>
        </p:txBody>
      </p:sp>
      <p:sp>
        <p:nvSpPr>
          <p:cNvPr id="4" name="PlaceHolder 3"/>
          <p:cNvSpPr>
            <a:spLocks noGrp="1"/>
          </p:cNvSpPr>
          <p:nvPr>
            <p:ph type="sldNum" idx="1"/>
          </p:nvPr>
        </p:nvSpPr>
        <p:spPr/>
        <p:txBody>
          <a:bodyPr/>
          <a:p>
            <a:fld id="{D14D6F73-1436-4157-8669-08C6AC1B0B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H</a:t>
            </a:r>
            <a:r>
              <a:rPr b="1" lang="en-US" sz="4400" spc="-1" strike="noStrike">
                <a:solidFill>
                  <a:srgbClr val="ffffff"/>
                </a:solidFill>
                <a:latin typeface="Tahoma"/>
              </a:rPr>
              <a:t>ospice </a:t>
            </a:r>
            <a:r>
              <a:rPr b="1" lang="en-US" sz="2000" spc="-1" strike="noStrike">
                <a:solidFill>
                  <a:srgbClr val="ffffff"/>
                </a:solidFill>
                <a:latin typeface="Tahoma"/>
              </a:rPr>
              <a:t>(continued)</a:t>
            </a:r>
            <a:endParaRPr b="1" lang="en-US" sz="2000" spc="-1" strike="noStrike">
              <a:solidFill>
                <a:srgbClr val="ffffff"/>
              </a:solidFill>
              <a:latin typeface="Tahoma"/>
            </a:endParaRPr>
          </a:p>
        </p:txBody>
      </p:sp>
      <p:grpSp>
        <p:nvGrpSpPr>
          <p:cNvPr id="190" name=""/>
          <p:cNvGrpSpPr/>
          <p:nvPr/>
        </p:nvGrpSpPr>
        <p:grpSpPr>
          <a:xfrm>
            <a:off x="1371600" y="1676520"/>
            <a:ext cx="7086600" cy="1676160"/>
            <a:chOff x="1371600" y="1676520"/>
            <a:chExt cx="7086600" cy="1676160"/>
          </a:xfrm>
        </p:grpSpPr>
        <p:grpSp>
          <p:nvGrpSpPr>
            <p:cNvPr id="191" name=""/>
            <p:cNvGrpSpPr/>
            <p:nvPr/>
          </p:nvGrpSpPr>
          <p:grpSpPr>
            <a:xfrm>
              <a:off x="1371600" y="2057400"/>
              <a:ext cx="1828800" cy="914400"/>
              <a:chOff x="1371600" y="2057400"/>
              <a:chExt cx="1828800" cy="914400"/>
            </a:xfrm>
          </p:grpSpPr>
          <p:sp>
            <p:nvSpPr>
              <p:cNvPr id="192" name=""/>
              <p:cNvSpPr/>
              <p:nvPr/>
            </p:nvSpPr>
            <p:spPr>
              <a:xfrm>
                <a:off x="1371600" y="2057400"/>
                <a:ext cx="1828800" cy="914400"/>
              </a:xfrm>
              <a:prstGeom prst="rect">
                <a:avLst/>
              </a:prstGeom>
              <a:gradFill rotWithShape="0">
                <a:gsLst>
                  <a:gs pos="0">
                    <a:srgbClr val="ffffff"/>
                  </a:gs>
                  <a:gs pos="100000">
                    <a:srgbClr val="ffcc00"/>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447920" y="2133720"/>
                <a:ext cx="1641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a:t>
                </a:r>
                <a:r>
                  <a:rPr b="1" lang="en-US" sz="2400" spc="-1" strike="noStrike" baseline="30000">
                    <a:solidFill>
                      <a:srgbClr val="000000"/>
                    </a:solidFill>
                    <a:latin typeface="Tahoma"/>
                  </a:rPr>
                  <a:t>st</a:t>
                </a:r>
                <a:r>
                  <a:rPr b="1" lang="en-US" sz="2400" spc="-1" strike="noStrike">
                    <a:solidFill>
                      <a:srgbClr val="000000"/>
                    </a:solidFill>
                    <a:latin typeface="Tahoma"/>
                  </a:rPr>
                  <a: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0 days</a:t>
                </a:r>
                <a:endParaRPr b="0" lang="en-US" sz="2400" spc="-1" strike="noStrike">
                  <a:solidFill>
                    <a:srgbClr val="000000"/>
                  </a:solidFill>
                  <a:latin typeface="Times New Roman"/>
                </a:endParaRPr>
              </a:p>
            </p:txBody>
          </p:sp>
        </p:grpSp>
        <p:grpSp>
          <p:nvGrpSpPr>
            <p:cNvPr id="194" name=""/>
            <p:cNvGrpSpPr/>
            <p:nvPr/>
          </p:nvGrpSpPr>
          <p:grpSpPr>
            <a:xfrm>
              <a:off x="3657600" y="2057400"/>
              <a:ext cx="1828800" cy="917640"/>
              <a:chOff x="3657600" y="2057400"/>
              <a:chExt cx="1828800" cy="917640"/>
            </a:xfrm>
          </p:grpSpPr>
          <p:sp>
            <p:nvSpPr>
              <p:cNvPr id="195" name=""/>
              <p:cNvSpPr/>
              <p:nvPr/>
            </p:nvSpPr>
            <p:spPr>
              <a:xfrm>
                <a:off x="3657600" y="2057400"/>
                <a:ext cx="1828800" cy="914400"/>
              </a:xfrm>
              <a:prstGeom prst="rect">
                <a:avLst/>
              </a:prstGeom>
              <a:gradFill rotWithShape="0">
                <a:gsLst>
                  <a:gs pos="0">
                    <a:srgbClr val="ffcc00"/>
                  </a:gs>
                  <a:gs pos="100000">
                    <a:srgbClr val="3333cc"/>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765960" y="2149560"/>
                <a:ext cx="1647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1" lang="en-US" sz="2400" spc="-1" strike="noStrike" baseline="30000">
                    <a:solidFill>
                      <a:srgbClr val="000000"/>
                    </a:solidFill>
                    <a:latin typeface="Tahoma"/>
                  </a:rPr>
                  <a:t>nd</a:t>
                </a:r>
                <a:r>
                  <a:rPr b="1" lang="en-US" sz="2400" spc="-1" strike="noStrike">
                    <a:solidFill>
                      <a:srgbClr val="000000"/>
                    </a:solidFill>
                    <a:latin typeface="Tahoma"/>
                  </a:rPr>
                  <a: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0 days</a:t>
                </a:r>
                <a:endParaRPr b="0" lang="en-US" sz="2400" spc="-1" strike="noStrike">
                  <a:solidFill>
                    <a:srgbClr val="000000"/>
                  </a:solidFill>
                  <a:latin typeface="Times New Roman"/>
                </a:endParaRPr>
              </a:p>
            </p:txBody>
          </p:sp>
        </p:grpSp>
        <p:grpSp>
          <p:nvGrpSpPr>
            <p:cNvPr id="197" name=""/>
            <p:cNvGrpSpPr/>
            <p:nvPr/>
          </p:nvGrpSpPr>
          <p:grpSpPr>
            <a:xfrm>
              <a:off x="5867280" y="1676520"/>
              <a:ext cx="2590920" cy="1676160"/>
              <a:chOff x="5867280" y="1676520"/>
              <a:chExt cx="2590920" cy="1676160"/>
            </a:xfrm>
          </p:grpSpPr>
          <p:sp>
            <p:nvSpPr>
              <p:cNvPr id="198" name=""/>
              <p:cNvSpPr/>
              <p:nvPr/>
            </p:nvSpPr>
            <p:spPr>
              <a:xfrm>
                <a:off x="5867280" y="1676520"/>
                <a:ext cx="2590920" cy="1676160"/>
              </a:xfrm>
              <a:prstGeom prst="rightArrow">
                <a:avLst>
                  <a:gd name="adj1" fmla="val 50000"/>
                  <a:gd name="adj2" fmla="val 38644"/>
                </a:avLst>
              </a:prstGeom>
              <a:gradFill rotWithShape="0">
                <a:gsLst>
                  <a:gs pos="0">
                    <a:srgbClr val="ffffff"/>
                  </a:gs>
                  <a:gs pos="100000">
                    <a:srgbClr val="3333cc"/>
                  </a:gs>
                </a:gsLst>
                <a:lin ang="135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084000" y="2133720"/>
                <a:ext cx="1694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1" lang="en-US" sz="2400" spc="-1" strike="noStrike" baseline="30000">
                    <a:solidFill>
                      <a:srgbClr val="000000"/>
                    </a:solidFill>
                    <a:latin typeface="Tahoma"/>
                  </a:rPr>
                  <a:t>rd</a:t>
                </a:r>
                <a:r>
                  <a:rPr b="1" lang="en-US" sz="2400" spc="-1" strike="noStrike">
                    <a:solidFill>
                      <a:srgbClr val="000000"/>
                    </a:solidFill>
                    <a:latin typeface="Tahoma"/>
                  </a:rPr>
                  <a:t> Perio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limited</a:t>
                </a:r>
                <a:endParaRPr b="0" lang="en-US" sz="2400" spc="-1" strike="noStrike">
                  <a:solidFill>
                    <a:srgbClr val="000000"/>
                  </a:solidFill>
                  <a:latin typeface="Times New Roman"/>
                </a:endParaRPr>
              </a:p>
            </p:txBody>
          </p:sp>
        </p:grpSp>
      </p:grpSp>
      <p:sp>
        <p:nvSpPr>
          <p:cNvPr id="200" name="PlaceHolder 2"/>
          <p:cNvSpPr>
            <a:spLocks noGrp="1"/>
          </p:cNvSpPr>
          <p:nvPr>
            <p:ph/>
          </p:nvPr>
        </p:nvSpPr>
        <p:spPr>
          <a:xfrm>
            <a:off x="1219320" y="3276720"/>
            <a:ext cx="7772400" cy="27432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yments are for full months onl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CE plans cannot enroll beneficiaries that have elected Hospice.</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AD2F0505-5FCB-4F1F-93BB-DA4E88E440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mplete or near complete failure of the kidneys to function.</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agnosed by an attending physician certifying ESRD status and completing a CMS Form 2728-U4.</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not join M+C organizations unles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mercial member the month prior to enrollment into Medicare.</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ceived a transplant and is no longer required to undergo regular dialysis.</a:t>
            </a: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plans can enroll ESRD patients.</a:t>
            </a:r>
            <a:endParaRPr b="0" lang="en-US" sz="2800" spc="-1" strike="noStrike">
              <a:solidFill>
                <a:srgbClr val="ffffff"/>
              </a:solidFill>
              <a:latin typeface="Tahoma"/>
            </a:endParaRPr>
          </a:p>
        </p:txBody>
      </p:sp>
      <p:sp>
        <p:nvSpPr>
          <p:cNvPr id="202" name="PlaceHolder 2"/>
          <p:cNvSpPr>
            <a:spLocks noGrp="1"/>
          </p:cNvSpPr>
          <p:nvPr>
            <p:ph type="title"/>
          </p:nvPr>
        </p:nvSpPr>
        <p:spPr>
          <a:xfrm>
            <a:off x="228564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SRD</a:t>
            </a:r>
            <a:endParaRPr b="1" lang="en-US" sz="4400" spc="-1" strike="noStrike">
              <a:solidFill>
                <a:srgbClr val="ffffff"/>
              </a:solidFill>
              <a:latin typeface="Tahoma"/>
            </a:endParaRPr>
          </a:p>
        </p:txBody>
      </p:sp>
      <p:sp>
        <p:nvSpPr>
          <p:cNvPr id="4" name="PlaceHolder 3"/>
          <p:cNvSpPr>
            <a:spLocks noGrp="1"/>
          </p:cNvSpPr>
          <p:nvPr>
            <p:ph type="sldNum" idx="1"/>
          </p:nvPr>
        </p:nvSpPr>
        <p:spPr/>
        <p:txBody>
          <a:bodyPr/>
          <a:p>
            <a:fld id="{6ADADD7D-5957-42D3-A252-6DB5B91F8B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1218960" y="1676160"/>
            <a:ext cx="7467480" cy="46479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beneficiary age 65 or older who has group health plan coverage due to current employment or spouse’s current employmen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Os must survey each beneficiary that appears on its March Monthly Membership Repor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d to calculate an annual contract level adjustment factor. (Factor used in the monthly payment process.)</a:t>
            </a:r>
            <a:endParaRPr b="0" lang="en-US" sz="2800" spc="-1" strike="noStrike">
              <a:solidFill>
                <a:srgbClr val="ffffff"/>
              </a:solidFill>
              <a:latin typeface="Tahoma"/>
            </a:endParaRPr>
          </a:p>
        </p:txBody>
      </p:sp>
      <p:sp>
        <p:nvSpPr>
          <p:cNvPr id="204" name="PlaceHolder 2"/>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Working Aged</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F2466BD6-AFB5-4F0A-9D70-6F6C67EE77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42640" y="1600200"/>
            <a:ext cx="8001000" cy="46483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ciary confined a minimum of </a:t>
            </a:r>
            <a:endParaRPr b="0" lang="en-US" sz="28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0 consecutive days prior to 1</a:t>
            </a:r>
            <a:r>
              <a:rPr b="0" lang="en-US" sz="2400" spc="-1" strike="noStrike" baseline="30000">
                <a:solidFill>
                  <a:srgbClr val="ffffff"/>
                </a:solidFill>
                <a:latin typeface="Tahoma"/>
              </a:rPr>
              <a:t>st</a:t>
            </a:r>
            <a:r>
              <a:rPr b="0" lang="en-US" sz="2400" spc="-1" strike="noStrike">
                <a:solidFill>
                  <a:srgbClr val="ffffff"/>
                </a:solidFill>
                <a:latin typeface="Tahoma"/>
              </a:rPr>
              <a:t> day of the next payment month for demographic model.</a:t>
            </a:r>
            <a:endParaRPr b="0" lang="en-US" sz="2400" spc="-1" strike="noStrike">
              <a:solidFill>
                <a:srgbClr val="ffffff"/>
              </a:solidFill>
              <a:latin typeface="Tahoma"/>
            </a:endParaRPr>
          </a:p>
          <a:p>
            <a:pPr lvl="1" marL="676080" indent="-2599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90 consecutive days for risk adjustment model.</a:t>
            </a:r>
            <a:endParaRPr b="0" lang="en-US" sz="2400" spc="-1" strike="noStrike">
              <a:solidFill>
                <a:srgbClr val="ffffff"/>
              </a:solidFill>
              <a:latin typeface="Tahoma"/>
            </a:endParaRPr>
          </a:p>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edical facility is a Medicare-certified or Medicaid-certified institution.</a:t>
            </a:r>
            <a:endParaRPr b="0" lang="en-US" sz="2800" spc="-1" strike="noStrike">
              <a:solidFill>
                <a:srgbClr val="ffffff"/>
              </a:solidFill>
              <a:latin typeface="Tahoma"/>
            </a:endParaRPr>
          </a:p>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neficiary must be enrolled in MCO for the current month.</a:t>
            </a:r>
            <a:endParaRPr b="0" lang="en-US" sz="2800" spc="-1" strike="noStrike">
              <a:solidFill>
                <a:srgbClr val="ffffff"/>
              </a:solidFill>
              <a:latin typeface="Tahoma"/>
            </a:endParaRPr>
          </a:p>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rrection transaction must be submitted each month the beneficiary is institutionalized.</a:t>
            </a:r>
            <a:endParaRPr b="0" lang="en-US" sz="2800" spc="-1" strike="noStrike">
              <a:solidFill>
                <a:srgbClr val="ffffff"/>
              </a:solidFill>
              <a:latin typeface="Tahoma"/>
            </a:endParaRPr>
          </a:p>
          <a:p>
            <a:pPr marL="312120" indent="-3121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ursing Home Certifiable can only be reported by Social HMO Demonstration organizations.</a:t>
            </a:r>
            <a:endParaRPr b="0" lang="en-US" sz="2800" spc="-1" strike="noStrike">
              <a:solidFill>
                <a:srgbClr val="ffffff"/>
              </a:solidFill>
              <a:latin typeface="Tahoma"/>
            </a:endParaRPr>
          </a:p>
        </p:txBody>
      </p:sp>
      <p:sp>
        <p:nvSpPr>
          <p:cNvPr id="206" name="PlaceHolder 2"/>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Institutionalized</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219E564B-C81E-4052-BA01-A9ECE046A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e Medicaid Agency pays some or all of Medicare Part A and/or Part B premium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O is automatically notified by the Transaction Reply/Monthly Activity Report.</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Assistance Only (MAO) does not receive cash financial aid.</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8" name="PlaceHolder 2"/>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dicaid</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3FE1154C-D99F-4667-A99D-98E06640EA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641680" y="2362320"/>
            <a:ext cx="48135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Enrollmen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Transactio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Demonstration</a:t>
            </a:r>
            <a:endParaRPr b="0" lang="en-US" sz="4800" spc="-1" strike="noStrike">
              <a:solidFill>
                <a:srgbClr val="000000"/>
              </a:solidFill>
              <a:latin typeface="Times New Roman"/>
            </a:endParaRPr>
          </a:p>
        </p:txBody>
      </p:sp>
      <p:sp>
        <p:nvSpPr>
          <p:cNvPr id="2" name="PlaceHolder 1"/>
          <p:cNvSpPr>
            <a:spLocks noGrp="1"/>
          </p:cNvSpPr>
          <p:nvPr>
            <p:ph type="sldNum" idx="1"/>
          </p:nvPr>
        </p:nvSpPr>
        <p:spPr/>
        <p:txBody>
          <a:bodyPr/>
          <a:p>
            <a:fld id="{035A443B-4E3F-4C28-88EE-4EFD5B3BE6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urpose</a:t>
            </a:r>
            <a:endParaRPr b="1" lang="en-US" sz="4400" spc="-1" strike="noStrike">
              <a:solidFill>
                <a:srgbClr val="ffffff"/>
              </a:solidFill>
              <a:latin typeface="Tahoma"/>
            </a:endParaRPr>
          </a:p>
        </p:txBody>
      </p:sp>
      <p:sp>
        <p:nvSpPr>
          <p:cNvPr id="1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iliarize the MCOs with the key components of the enrollment process and identify their role in the process.</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81C31444-D7AA-4652-959E-7169F586EB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1:  Getting to the Beneficiaries: New Enrollment (M221) scree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2:  Process the enroll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2"/>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nroll a Beneficiary</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8D623034-E73F-4F56-ADCC-F170DF4C52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1080" y="2282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nrollment/Disenrollment Transaction Claim Number</a:t>
            </a:r>
            <a:endParaRPr b="1" lang="en-US" sz="3600" spc="-1" strike="noStrike">
              <a:solidFill>
                <a:srgbClr val="ffffff"/>
              </a:solidFill>
              <a:latin typeface="Tahoma"/>
            </a:endParaRPr>
          </a:p>
        </p:txBody>
      </p:sp>
      <p:grpSp>
        <p:nvGrpSpPr>
          <p:cNvPr id="213" name=""/>
          <p:cNvGrpSpPr/>
          <p:nvPr/>
        </p:nvGrpSpPr>
        <p:grpSpPr>
          <a:xfrm>
            <a:off x="1661760" y="1600200"/>
            <a:ext cx="6320520" cy="4923720"/>
            <a:chOff x="1661760" y="1600200"/>
            <a:chExt cx="6320520" cy="4923720"/>
          </a:xfrm>
        </p:grpSpPr>
        <p:grpSp>
          <p:nvGrpSpPr>
            <p:cNvPr id="214" name=""/>
            <p:cNvGrpSpPr/>
            <p:nvPr/>
          </p:nvGrpSpPr>
          <p:grpSpPr>
            <a:xfrm>
              <a:off x="4676760" y="1600200"/>
              <a:ext cx="2843280" cy="1604160"/>
              <a:chOff x="4676760" y="1600200"/>
              <a:chExt cx="2843280" cy="1604160"/>
            </a:xfrm>
          </p:grpSpPr>
          <p:sp>
            <p:nvSpPr>
              <p:cNvPr id="215" name=""/>
              <p:cNvSpPr/>
              <p:nvPr/>
            </p:nvSpPr>
            <p:spPr>
              <a:xfrm>
                <a:off x="4676760" y="1600200"/>
                <a:ext cx="283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111223333A</a:t>
                </a:r>
                <a:endParaRPr b="0" lang="en-US" sz="3600" spc="-1" strike="noStrike">
                  <a:solidFill>
                    <a:srgbClr val="000000"/>
                  </a:solidFill>
                  <a:latin typeface="Times New Roman"/>
                </a:endParaRPr>
              </a:p>
            </p:txBody>
          </p:sp>
          <p:sp>
            <p:nvSpPr>
              <p:cNvPr id="216" name=""/>
              <p:cNvSpPr/>
              <p:nvPr/>
            </p:nvSpPr>
            <p:spPr>
              <a:xfrm rot="5408400">
                <a:off x="5752080" y="1486440"/>
                <a:ext cx="382680" cy="1981440"/>
              </a:xfrm>
              <a:custGeom>
                <a:avLst/>
                <a:gdLst>
                  <a:gd name="textAreaLeft" fmla="*/ 0 w 382680"/>
                  <a:gd name="textAreaRight" fmla="*/ 138240 w 38268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rot="5408400">
                <a:off x="6940800" y="2353320"/>
                <a:ext cx="533520" cy="245880"/>
              </a:xfrm>
              <a:custGeom>
                <a:avLst/>
                <a:gdLst>
                  <a:gd name="textAreaLeft" fmla="*/ 0 w 533520"/>
                  <a:gd name="textAreaRight" fmla="*/ 192600 w 533520"/>
                  <a:gd name="textAreaTop" fmla="*/ 6120 h 245880"/>
                  <a:gd name="textAreaBottom" fmla="*/ 239760 h 2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615280" y="274464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SN</a:t>
                </a:r>
                <a:endParaRPr b="0" lang="en-US" sz="2400" spc="-1" strike="noStrike">
                  <a:solidFill>
                    <a:srgbClr val="000000"/>
                  </a:solidFill>
                  <a:latin typeface="Times New Roman"/>
                </a:endParaRPr>
              </a:p>
            </p:txBody>
          </p:sp>
          <p:sp>
            <p:nvSpPr>
              <p:cNvPr id="219" name=""/>
              <p:cNvSpPr/>
              <p:nvPr/>
            </p:nvSpPr>
            <p:spPr>
              <a:xfrm>
                <a:off x="6822720" y="2744640"/>
                <a:ext cx="69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BIC</a:t>
                </a:r>
                <a:endParaRPr b="0" lang="en-US" sz="2400" spc="-1" strike="noStrike">
                  <a:solidFill>
                    <a:srgbClr val="000000"/>
                  </a:solidFill>
                  <a:latin typeface="Times New Roman"/>
                </a:endParaRPr>
              </a:p>
            </p:txBody>
          </p:sp>
        </p:grpSp>
        <p:sp>
          <p:nvSpPr>
            <p:cNvPr id="220" name=""/>
            <p:cNvSpPr/>
            <p:nvPr/>
          </p:nvSpPr>
          <p:spPr>
            <a:xfrm>
              <a:off x="1661760" y="1754280"/>
              <a:ext cx="1439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C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Number</a:t>
              </a:r>
              <a:endParaRPr b="0" lang="en-US" sz="2400" spc="-1" strike="noStrike">
                <a:solidFill>
                  <a:srgbClr val="000000"/>
                </a:solidFill>
                <a:latin typeface="Times New Roman"/>
              </a:endParaRPr>
            </a:p>
          </p:txBody>
        </p:sp>
        <p:sp>
          <p:nvSpPr>
            <p:cNvPr id="221" name=""/>
            <p:cNvSpPr/>
            <p:nvPr/>
          </p:nvSpPr>
          <p:spPr>
            <a:xfrm>
              <a:off x="1717920" y="3124080"/>
              <a:ext cx="87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RR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P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1964</a:t>
              </a:r>
              <a:endParaRPr b="0" lang="en-US" sz="2400" spc="-1" strike="noStrike">
                <a:solidFill>
                  <a:srgbClr val="000000"/>
                </a:solidFill>
                <a:latin typeface="Times New Roman"/>
              </a:endParaRPr>
            </a:p>
          </p:txBody>
        </p:sp>
        <p:grpSp>
          <p:nvGrpSpPr>
            <p:cNvPr id="222" name=""/>
            <p:cNvGrpSpPr/>
            <p:nvPr/>
          </p:nvGrpSpPr>
          <p:grpSpPr>
            <a:xfrm>
              <a:off x="4723560" y="3260880"/>
              <a:ext cx="2588040" cy="1602720"/>
              <a:chOff x="4723560" y="3260880"/>
              <a:chExt cx="2588040" cy="1602720"/>
            </a:xfrm>
          </p:grpSpPr>
          <p:sp>
            <p:nvSpPr>
              <p:cNvPr id="223" name=""/>
              <p:cNvSpPr/>
              <p:nvPr/>
            </p:nvSpPr>
            <p:spPr>
              <a:xfrm>
                <a:off x="4799160" y="3260880"/>
                <a:ext cx="247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WA123456</a:t>
                </a:r>
                <a:endParaRPr b="0" lang="en-US" sz="3600" spc="-1" strike="noStrike">
                  <a:solidFill>
                    <a:srgbClr val="000000"/>
                  </a:solidFill>
                  <a:latin typeface="Times New Roman"/>
                </a:endParaRPr>
              </a:p>
            </p:txBody>
          </p:sp>
          <p:sp>
            <p:nvSpPr>
              <p:cNvPr id="224" name=""/>
              <p:cNvSpPr/>
              <p:nvPr/>
            </p:nvSpPr>
            <p:spPr>
              <a:xfrm rot="5408400">
                <a:off x="5065920" y="3907440"/>
                <a:ext cx="533520" cy="459000"/>
              </a:xfrm>
              <a:custGeom>
                <a:avLst/>
                <a:gdLst>
                  <a:gd name="textAreaLeft" fmla="*/ 0 w 533520"/>
                  <a:gd name="textAreaRight" fmla="*/ 192600 w 533520"/>
                  <a:gd name="textAreaTop" fmla="*/ 11880 h 459000"/>
                  <a:gd name="textAreaBottom" fmla="*/ 447120 h 45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rot="5408400">
                <a:off x="6247440" y="3486960"/>
                <a:ext cx="306360" cy="1218960"/>
              </a:xfrm>
              <a:custGeom>
                <a:avLst/>
                <a:gdLst>
                  <a:gd name="textAreaLeft" fmla="*/ 0 w 306360"/>
                  <a:gd name="textAreaRight" fmla="*/ 110520 w 306360"/>
                  <a:gd name="textAreaTop" fmla="*/ 31680 h 1218960"/>
                  <a:gd name="textAreaBottom" fmla="*/ 1187280 h 1218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723560" y="440388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Prefix</a:t>
                </a:r>
                <a:endParaRPr b="0" lang="en-US" sz="2400" spc="-1" strike="noStrike">
                  <a:solidFill>
                    <a:srgbClr val="000000"/>
                  </a:solidFill>
                  <a:latin typeface="Times New Roman"/>
                </a:endParaRPr>
              </a:p>
            </p:txBody>
          </p:sp>
          <p:sp>
            <p:nvSpPr>
              <p:cNvPr id="227" name=""/>
              <p:cNvSpPr/>
              <p:nvPr/>
            </p:nvSpPr>
            <p:spPr>
              <a:xfrm>
                <a:off x="5864400" y="4403880"/>
                <a:ext cx="144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Random</a:t>
                </a:r>
                <a:endParaRPr b="0" lang="en-US" sz="2400" spc="-1" strike="noStrike">
                  <a:solidFill>
                    <a:srgbClr val="000000"/>
                  </a:solidFill>
                  <a:latin typeface="Times New Roman"/>
                </a:endParaRPr>
              </a:p>
            </p:txBody>
          </p:sp>
        </p:grpSp>
        <p:sp>
          <p:nvSpPr>
            <p:cNvPr id="228" name=""/>
            <p:cNvSpPr/>
            <p:nvPr/>
          </p:nvSpPr>
          <p:spPr>
            <a:xfrm>
              <a:off x="1717920" y="4724280"/>
              <a:ext cx="875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RR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Po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1964</a:t>
              </a:r>
              <a:endParaRPr b="0" lang="en-US" sz="2400" spc="-1" strike="noStrike">
                <a:solidFill>
                  <a:srgbClr val="000000"/>
                </a:solidFill>
                <a:latin typeface="Times New Roman"/>
              </a:endParaRPr>
            </a:p>
          </p:txBody>
        </p:sp>
        <p:grpSp>
          <p:nvGrpSpPr>
            <p:cNvPr id="229" name=""/>
            <p:cNvGrpSpPr/>
            <p:nvPr/>
          </p:nvGrpSpPr>
          <p:grpSpPr>
            <a:xfrm>
              <a:off x="4707720" y="4921200"/>
              <a:ext cx="3274560" cy="1602720"/>
              <a:chOff x="4707720" y="4921200"/>
              <a:chExt cx="3274560" cy="1602720"/>
            </a:xfrm>
          </p:grpSpPr>
          <p:sp>
            <p:nvSpPr>
              <p:cNvPr id="230" name=""/>
              <p:cNvSpPr/>
              <p:nvPr/>
            </p:nvSpPr>
            <p:spPr>
              <a:xfrm>
                <a:off x="4724640" y="4921200"/>
                <a:ext cx="3257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WA123456789</a:t>
                </a:r>
                <a:endParaRPr b="0" lang="en-US" sz="3600" spc="-1" strike="noStrike">
                  <a:solidFill>
                    <a:srgbClr val="000000"/>
                  </a:solidFill>
                  <a:latin typeface="Times New Roman"/>
                </a:endParaRPr>
              </a:p>
            </p:txBody>
          </p:sp>
          <p:sp>
            <p:nvSpPr>
              <p:cNvPr id="231" name=""/>
              <p:cNvSpPr/>
              <p:nvPr/>
            </p:nvSpPr>
            <p:spPr>
              <a:xfrm rot="5408400">
                <a:off x="4990320" y="5568120"/>
                <a:ext cx="533520" cy="458640"/>
              </a:xfrm>
              <a:custGeom>
                <a:avLst/>
                <a:gdLst>
                  <a:gd name="textAreaLeft" fmla="*/ 0 w 533520"/>
                  <a:gd name="textAreaRight" fmla="*/ 192600 w 533520"/>
                  <a:gd name="textAreaTop" fmla="*/ 11880 h 458640"/>
                  <a:gd name="textAreaBottom" fmla="*/ 446760 h 45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rot="5408400">
                <a:off x="6513840" y="4806000"/>
                <a:ext cx="382320" cy="1981080"/>
              </a:xfrm>
              <a:custGeom>
                <a:avLst/>
                <a:gdLst>
                  <a:gd name="textAreaLeft" fmla="*/ 0 w 382320"/>
                  <a:gd name="textAreaRight" fmla="*/ 137880 w 38232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7720" y="606420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Prefix</a:t>
                </a:r>
                <a:endParaRPr b="0" lang="en-US" sz="2400" spc="-1" strike="noStrike">
                  <a:solidFill>
                    <a:srgbClr val="000000"/>
                  </a:solidFill>
                  <a:latin typeface="Times New Roman"/>
                </a:endParaRPr>
              </a:p>
            </p:txBody>
          </p:sp>
          <p:sp>
            <p:nvSpPr>
              <p:cNvPr id="234" name=""/>
              <p:cNvSpPr/>
              <p:nvPr/>
            </p:nvSpPr>
            <p:spPr>
              <a:xfrm>
                <a:off x="6377400" y="6064200"/>
                <a:ext cx="76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SSN</a:t>
                </a:r>
                <a:endParaRPr b="0" lang="en-US" sz="2400" spc="-1" strike="noStrike">
                  <a:solidFill>
                    <a:srgbClr val="000000"/>
                  </a:solidFill>
                  <a:latin typeface="Times New Roman"/>
                </a:endParaRPr>
              </a:p>
            </p:txBody>
          </p:sp>
        </p:grpSp>
        <p:sp>
          <p:nvSpPr>
            <p:cNvPr id="235" name=""/>
            <p:cNvSpPr/>
            <p:nvPr/>
          </p:nvSpPr>
          <p:spPr>
            <a:xfrm>
              <a:off x="3352680" y="2057400"/>
              <a:ext cx="1143000" cy="228600"/>
            </a:xfrm>
            <a:prstGeom prst="rightArrow">
              <a:avLst>
                <a:gd name="adj1" fmla="val 50000"/>
                <a:gd name="adj2" fmla="val 1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3352680" y="3581280"/>
              <a:ext cx="1143000" cy="228600"/>
            </a:xfrm>
            <a:prstGeom prst="rightArrow">
              <a:avLst>
                <a:gd name="adj1" fmla="val 50000"/>
                <a:gd name="adj2" fmla="val 1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352680" y="5257800"/>
              <a:ext cx="1143000" cy="228600"/>
            </a:xfrm>
            <a:prstGeom prst="rightArrow">
              <a:avLst>
                <a:gd name="adj1" fmla="val 50000"/>
                <a:gd name="adj2" fmla="val 1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46DBBB80-414C-4E82-9FB8-C674D5730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641680" y="2362320"/>
            <a:ext cx="4813560" cy="2287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Disenrollment</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Transactio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Tahoma"/>
              </a:rPr>
              <a:t>Demonstration</a:t>
            </a:r>
            <a:endParaRPr b="0" lang="en-US" sz="4800" spc="-1" strike="noStrike">
              <a:solidFill>
                <a:srgbClr val="000000"/>
              </a:solidFill>
              <a:latin typeface="Times New Roman"/>
            </a:endParaRPr>
          </a:p>
        </p:txBody>
      </p:sp>
      <p:sp>
        <p:nvSpPr>
          <p:cNvPr id="2" name="PlaceHolder 1"/>
          <p:cNvSpPr>
            <a:spLocks noGrp="1"/>
          </p:cNvSpPr>
          <p:nvPr>
            <p:ph type="sldNum" idx="1"/>
          </p:nvPr>
        </p:nvSpPr>
        <p:spPr/>
        <p:txBody>
          <a:bodyPr/>
          <a:p>
            <a:fld id="{1C456A99-7060-4A10-AA4F-DE2A3CADC5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1 :  Access Beneficiar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2:  Access the Update Enrollment(M212) scree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2: Disenroll Beneficiary</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2"/>
          <p:cNvSpPr>
            <a:spLocks noGrp="1"/>
          </p:cNvSpPr>
          <p:nvPr>
            <p:ph type="title"/>
          </p:nvPr>
        </p:nvSpPr>
        <p:spPr>
          <a:xfrm>
            <a:off x="243792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isenrollment</a:t>
            </a:r>
            <a:endParaRPr b="1" lang="en-US" sz="3600" spc="-1" strike="noStrike">
              <a:solidFill>
                <a:srgbClr val="ffffff"/>
              </a:solidFill>
              <a:latin typeface="Tahoma"/>
            </a:endParaRPr>
          </a:p>
        </p:txBody>
      </p:sp>
      <p:sp>
        <p:nvSpPr>
          <p:cNvPr id="4" name="PlaceHolder 3"/>
          <p:cNvSpPr>
            <a:spLocks noGrp="1"/>
          </p:cNvSpPr>
          <p:nvPr>
            <p:ph type="sldNum" idx="1"/>
          </p:nvPr>
        </p:nvSpPr>
        <p:spPr/>
        <p:txBody>
          <a:bodyPr/>
          <a:p>
            <a:fld id="{81B56737-A26E-41C3-AA17-0D27431EA6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438280" y="7596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ubmission Tips</a:t>
            </a:r>
            <a:endParaRPr b="1" lang="en-US" sz="3600" spc="-1" strike="noStrike">
              <a:solidFill>
                <a:srgbClr val="ffffff"/>
              </a:solidFill>
              <a:latin typeface="Tahoma"/>
            </a:endParaRPr>
          </a:p>
        </p:txBody>
      </p:sp>
      <p:sp>
        <p:nvSpPr>
          <p:cNvPr id="242" name="PlaceHolder 2"/>
          <p:cNvSpPr>
            <a:spLocks noGrp="1"/>
          </p:cNvSpPr>
          <p:nvPr>
            <p:ph/>
          </p:nvPr>
        </p:nvSpPr>
        <p:spPr>
          <a:xfrm>
            <a:off x="3276360" y="1752480"/>
            <a:ext cx="5715000" cy="4572000"/>
          </a:xfrm>
          <a:prstGeom prst="rect">
            <a:avLst/>
          </a:prstGeom>
          <a:noFill/>
          <a:ln w="0">
            <a:noFill/>
          </a:ln>
        </p:spPr>
        <p:txBody>
          <a:bodyPr lIns="90000" rIns="90000" tIns="46800" bIns="46800" anchor="t">
            <a:normAutofit fontScale="96000"/>
          </a:bodyPr>
          <a:p>
            <a:pPr marL="585000" indent="-5850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day through Friday 6:00 a.m. to 7:30 p.m. ET, data will be received for monthly processing. </a:t>
            </a:r>
            <a:endParaRPr b="0" lang="en-US" sz="2400" spc="-1" strike="noStrike">
              <a:solidFill>
                <a:srgbClr val="ffffff"/>
              </a:solidFill>
              <a:latin typeface="Tahoma"/>
            </a:endParaRPr>
          </a:p>
          <a:p>
            <a:pPr marL="585000" indent="-5850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nday through Friday after 7:30 p.m. ET, data will not be received for monthly processing until the next day.</a:t>
            </a:r>
            <a:endParaRPr b="0" lang="en-US" sz="2400" spc="-1" strike="noStrike">
              <a:solidFill>
                <a:srgbClr val="ffffff"/>
              </a:solidFill>
              <a:latin typeface="Tahoma"/>
            </a:endParaRPr>
          </a:p>
          <a:p>
            <a:pPr marL="585000" indent="-5850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aturday, Sunday, and MMCS (MCCOY) Down Days data will not be received for monthly processing.</a:t>
            </a:r>
            <a:endParaRPr b="0" lang="en-US" sz="2400" spc="-1" strike="noStrike">
              <a:solidFill>
                <a:srgbClr val="ffffff"/>
              </a:solidFill>
              <a:latin typeface="Tahoma"/>
            </a:endParaRPr>
          </a:p>
          <a:p>
            <a:pPr marL="585000" indent="-585000">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ta due by 5:00 p.m. ET for plan payment cutoff.</a:t>
            </a:r>
            <a:endParaRPr b="0" lang="en-US" sz="2400" spc="-1" strike="noStrike">
              <a:solidFill>
                <a:srgbClr val="ffffff"/>
              </a:solidFill>
              <a:latin typeface="Tahoma"/>
            </a:endParaRPr>
          </a:p>
        </p:txBody>
      </p:sp>
      <p:grpSp>
        <p:nvGrpSpPr>
          <p:cNvPr id="243" name=""/>
          <p:cNvGrpSpPr/>
          <p:nvPr/>
        </p:nvGrpSpPr>
        <p:grpSpPr>
          <a:xfrm>
            <a:off x="1066680" y="2362320"/>
            <a:ext cx="2210040" cy="2133360"/>
            <a:chOff x="1066680" y="2362320"/>
            <a:chExt cx="2210040" cy="2133360"/>
          </a:xfrm>
        </p:grpSpPr>
        <p:grpSp>
          <p:nvGrpSpPr>
            <p:cNvPr id="244" name=""/>
            <p:cNvGrpSpPr/>
            <p:nvPr/>
          </p:nvGrpSpPr>
          <p:grpSpPr>
            <a:xfrm>
              <a:off x="1066680" y="2362320"/>
              <a:ext cx="2210040" cy="2133360"/>
              <a:chOff x="1066680" y="2362320"/>
              <a:chExt cx="2210040" cy="2133360"/>
            </a:xfrm>
          </p:grpSpPr>
          <p:sp>
            <p:nvSpPr>
              <p:cNvPr id="245" name=""/>
              <p:cNvSpPr/>
              <p:nvPr/>
            </p:nvSpPr>
            <p:spPr>
              <a:xfrm>
                <a:off x="1066680" y="2362320"/>
                <a:ext cx="2133720" cy="2133360"/>
              </a:xfrm>
              <a:prstGeom prst="rect">
                <a:avLst/>
              </a:prstGeom>
              <a:solidFill>
                <a:srgbClr val="ffcc00"/>
              </a:solidFill>
              <a:ln w="381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6" name="BD04924_" descr=""/>
              <p:cNvPicPr/>
              <p:nvPr/>
            </p:nvPicPr>
            <p:blipFill>
              <a:blip r:embed="rId1"/>
              <a:stretch/>
            </p:blipFill>
            <p:spPr>
              <a:xfrm>
                <a:off x="1143000" y="2362320"/>
                <a:ext cx="960480" cy="1295280"/>
              </a:xfrm>
              <a:prstGeom prst="rect">
                <a:avLst/>
              </a:prstGeom>
              <a:ln w="0">
                <a:noFill/>
              </a:ln>
            </p:spPr>
          </p:pic>
          <p:sp>
            <p:nvSpPr>
              <p:cNvPr id="247" name=""/>
              <p:cNvSpPr/>
              <p:nvPr/>
            </p:nvSpPr>
            <p:spPr>
              <a:xfrm>
                <a:off x="1447920" y="3657600"/>
                <a:ext cx="1828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Submission Deadlines</a:t>
                </a:r>
                <a:endParaRPr b="0" lang="en-US" sz="2000" spc="-1" strike="noStrike">
                  <a:solidFill>
                    <a:srgbClr val="000000"/>
                  </a:solidFill>
                  <a:latin typeface="Times New Roman"/>
                </a:endParaRPr>
              </a:p>
            </p:txBody>
          </p:sp>
        </p:grpSp>
        <p:sp>
          <p:nvSpPr>
            <p:cNvPr id="248" name=""/>
            <p:cNvSpPr/>
            <p:nvPr/>
          </p:nvSpPr>
          <p:spPr>
            <a:xfrm>
              <a:off x="2057400" y="2438280"/>
              <a:ext cx="1143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TIP!</a:t>
              </a:r>
              <a:endParaRPr b="0" lang="en-US" sz="3200" spc="-1" strike="noStrike">
                <a:solidFill>
                  <a:srgbClr val="000000"/>
                </a:solidFill>
                <a:latin typeface="Times New Roman"/>
              </a:endParaRPr>
            </a:p>
          </p:txBody>
        </p:sp>
      </p:grpSp>
      <p:sp>
        <p:nvSpPr>
          <p:cNvPr id="4" name="PlaceHolder 3"/>
          <p:cNvSpPr>
            <a:spLocks noGrp="1"/>
          </p:cNvSpPr>
          <p:nvPr>
            <p:ph type="sldNum" idx="1"/>
          </p:nvPr>
        </p:nvSpPr>
        <p:spPr/>
        <p:txBody>
          <a:bodyPr/>
          <a:p>
            <a:fld id="{A1DB2E46-90AD-4AC6-9032-7B615B142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mmary</a:t>
            </a:r>
            <a:endParaRPr b="1" lang="en-US" sz="4400" spc="-1" strike="noStrike">
              <a:solidFill>
                <a:srgbClr val="ffffff"/>
              </a:solidFill>
              <a:latin typeface="Tahoma"/>
            </a:endParaRPr>
          </a:p>
        </p:txBody>
      </p:sp>
      <p:sp>
        <p:nvSpPr>
          <p:cNvPr id="25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 your role in the proces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enrollment, disenrollment, and correction process requirement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submission timelin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the enrollment period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the Special Statu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Transaction Record Layout.</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C28EE7F1-7776-40F1-A6D3-7A4B5A3F82E9}"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jectives</a:t>
            </a:r>
            <a:endParaRPr b="1" lang="en-US" sz="4400" spc="-1" strike="noStrike">
              <a:solidFill>
                <a:srgbClr val="ffffff"/>
              </a:solidFill>
              <a:latin typeface="Tahoma"/>
            </a:endParaRPr>
          </a:p>
        </p:txBody>
      </p:sp>
      <p:sp>
        <p:nvSpPr>
          <p:cNvPr id="115"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role of CMS and the MCO.</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enrollment, disenrollment, and correction process requirement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ntify the submission timelin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the enrollment period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ine the Special Status.</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scribe the Transaction Record Layout.</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C5973C85-A7CE-4BC9-924E-668A0FAD71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nrollment Process</a:t>
            </a:r>
            <a:endParaRPr b="1" lang="en-US" sz="4400" spc="-1" strike="noStrike">
              <a:solidFill>
                <a:srgbClr val="ffffff"/>
              </a:solidFill>
              <a:latin typeface="Tahoma"/>
            </a:endParaRPr>
          </a:p>
        </p:txBody>
      </p:sp>
      <p:grpSp>
        <p:nvGrpSpPr>
          <p:cNvPr id="117" name=""/>
          <p:cNvGrpSpPr/>
          <p:nvPr/>
        </p:nvGrpSpPr>
        <p:grpSpPr>
          <a:xfrm>
            <a:off x="1143000" y="1219320"/>
            <a:ext cx="7848360" cy="5214600"/>
            <a:chOff x="1143000" y="1219320"/>
            <a:chExt cx="7848360" cy="5214600"/>
          </a:xfrm>
        </p:grpSpPr>
        <p:grpSp>
          <p:nvGrpSpPr>
            <p:cNvPr id="118" name=""/>
            <p:cNvGrpSpPr/>
            <p:nvPr/>
          </p:nvGrpSpPr>
          <p:grpSpPr>
            <a:xfrm>
              <a:off x="1143000" y="3505320"/>
              <a:ext cx="2361960" cy="2349000"/>
              <a:chOff x="1143000" y="3505320"/>
              <a:chExt cx="2361960" cy="2349000"/>
            </a:xfrm>
          </p:grpSpPr>
          <p:grpSp>
            <p:nvGrpSpPr>
              <p:cNvPr id="119" name=""/>
              <p:cNvGrpSpPr/>
              <p:nvPr/>
            </p:nvGrpSpPr>
            <p:grpSpPr>
              <a:xfrm>
                <a:off x="1143000" y="3505320"/>
                <a:ext cx="2361960" cy="2349000"/>
                <a:chOff x="1143000" y="3505320"/>
                <a:chExt cx="2361960" cy="2349000"/>
              </a:xfrm>
            </p:grpSpPr>
            <p:sp>
              <p:nvSpPr>
                <p:cNvPr id="120" name=""/>
                <p:cNvSpPr/>
                <p:nvPr/>
              </p:nvSpPr>
              <p:spPr>
                <a:xfrm>
                  <a:off x="1143000" y="3505320"/>
                  <a:ext cx="2361960" cy="1710720"/>
                </a:xfrm>
                <a:custGeom>
                  <a:avLst/>
                  <a:gdLst/>
                  <a:ahLst/>
                  <a:rect l="l" t="t" r="r" b="b"/>
                  <a:pathLst>
                    <a:path w="2292" h="1660">
                      <a:moveTo>
                        <a:pt x="1791" y="1660"/>
                      </a:moveTo>
                      <a:lnTo>
                        <a:pt x="2292" y="1175"/>
                      </a:lnTo>
                      <a:lnTo>
                        <a:pt x="1119" y="0"/>
                      </a:lnTo>
                      <a:lnTo>
                        <a:pt x="0" y="1235"/>
                      </a:lnTo>
                      <a:lnTo>
                        <a:pt x="408" y="1651"/>
                      </a:lnTo>
                      <a:lnTo>
                        <a:pt x="452" y="1639"/>
                      </a:lnTo>
                      <a:lnTo>
                        <a:pt x="494" y="1628"/>
                      </a:lnTo>
                      <a:lnTo>
                        <a:pt x="538" y="1618"/>
                      </a:lnTo>
                      <a:lnTo>
                        <a:pt x="582" y="1608"/>
                      </a:lnTo>
                      <a:lnTo>
                        <a:pt x="627" y="1599"/>
                      </a:lnTo>
                      <a:lnTo>
                        <a:pt x="671" y="1591"/>
                      </a:lnTo>
                      <a:lnTo>
                        <a:pt x="714" y="1583"/>
                      </a:lnTo>
                      <a:lnTo>
                        <a:pt x="759" y="1576"/>
                      </a:lnTo>
                      <a:lnTo>
                        <a:pt x="803" y="1570"/>
                      </a:lnTo>
                      <a:lnTo>
                        <a:pt x="848" y="1565"/>
                      </a:lnTo>
                      <a:lnTo>
                        <a:pt x="893" y="1560"/>
                      </a:lnTo>
                      <a:lnTo>
                        <a:pt x="938" y="1556"/>
                      </a:lnTo>
                      <a:lnTo>
                        <a:pt x="983" y="1553"/>
                      </a:lnTo>
                      <a:lnTo>
                        <a:pt x="1027" y="1551"/>
                      </a:lnTo>
                      <a:lnTo>
                        <a:pt x="1072" y="1550"/>
                      </a:lnTo>
                      <a:lnTo>
                        <a:pt x="1117" y="1550"/>
                      </a:lnTo>
                      <a:lnTo>
                        <a:pt x="1164" y="1550"/>
                      </a:lnTo>
                      <a:lnTo>
                        <a:pt x="1210" y="1551"/>
                      </a:lnTo>
                      <a:lnTo>
                        <a:pt x="1256" y="1553"/>
                      </a:lnTo>
                      <a:lnTo>
                        <a:pt x="1301" y="1556"/>
                      </a:lnTo>
                      <a:lnTo>
                        <a:pt x="1346" y="1560"/>
                      </a:lnTo>
                      <a:lnTo>
                        <a:pt x="1390" y="1565"/>
                      </a:lnTo>
                      <a:lnTo>
                        <a:pt x="1434" y="1570"/>
                      </a:lnTo>
                      <a:lnTo>
                        <a:pt x="1476" y="1577"/>
                      </a:lnTo>
                      <a:lnTo>
                        <a:pt x="1518" y="1584"/>
                      </a:lnTo>
                      <a:lnTo>
                        <a:pt x="1559" y="1593"/>
                      </a:lnTo>
                      <a:lnTo>
                        <a:pt x="1599" y="1603"/>
                      </a:lnTo>
                      <a:lnTo>
                        <a:pt x="1640" y="1612"/>
                      </a:lnTo>
                      <a:lnTo>
                        <a:pt x="1678" y="1623"/>
                      </a:lnTo>
                      <a:lnTo>
                        <a:pt x="1717" y="1635"/>
                      </a:lnTo>
                      <a:lnTo>
                        <a:pt x="1754" y="1647"/>
                      </a:lnTo>
                      <a:lnTo>
                        <a:pt x="1791" y="1660"/>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1175400" y="5178240"/>
                  <a:ext cx="2158200" cy="676080"/>
                </a:xfrm>
                <a:custGeom>
                  <a:avLst/>
                  <a:gdLst/>
                  <a:ahLst/>
                  <a:rect l="l" t="t" r="r" b="b"/>
                  <a:pathLst>
                    <a:path w="2095" h="656">
                      <a:moveTo>
                        <a:pt x="1135" y="3"/>
                      </a:moveTo>
                      <a:lnTo>
                        <a:pt x="1097" y="5"/>
                      </a:lnTo>
                      <a:lnTo>
                        <a:pt x="1060" y="7"/>
                      </a:lnTo>
                      <a:lnTo>
                        <a:pt x="1022" y="11"/>
                      </a:lnTo>
                      <a:lnTo>
                        <a:pt x="985" y="15"/>
                      </a:lnTo>
                      <a:lnTo>
                        <a:pt x="948" y="20"/>
                      </a:lnTo>
                      <a:lnTo>
                        <a:pt x="910" y="26"/>
                      </a:lnTo>
                      <a:lnTo>
                        <a:pt x="874" y="33"/>
                      </a:lnTo>
                      <a:lnTo>
                        <a:pt x="837" y="38"/>
                      </a:lnTo>
                      <a:lnTo>
                        <a:pt x="799" y="47"/>
                      </a:lnTo>
                      <a:lnTo>
                        <a:pt x="762" y="55"/>
                      </a:lnTo>
                      <a:lnTo>
                        <a:pt x="725" y="63"/>
                      </a:lnTo>
                      <a:lnTo>
                        <a:pt x="689" y="72"/>
                      </a:lnTo>
                      <a:lnTo>
                        <a:pt x="652" y="82"/>
                      </a:lnTo>
                      <a:lnTo>
                        <a:pt x="615" y="93"/>
                      </a:lnTo>
                      <a:lnTo>
                        <a:pt x="580" y="104"/>
                      </a:lnTo>
                      <a:lnTo>
                        <a:pt x="544" y="116"/>
                      </a:lnTo>
                      <a:lnTo>
                        <a:pt x="507" y="127"/>
                      </a:lnTo>
                      <a:lnTo>
                        <a:pt x="471" y="140"/>
                      </a:lnTo>
                      <a:lnTo>
                        <a:pt x="437" y="154"/>
                      </a:lnTo>
                      <a:lnTo>
                        <a:pt x="401" y="168"/>
                      </a:lnTo>
                      <a:lnTo>
                        <a:pt x="367" y="181"/>
                      </a:lnTo>
                      <a:lnTo>
                        <a:pt x="332" y="196"/>
                      </a:lnTo>
                      <a:lnTo>
                        <a:pt x="297" y="211"/>
                      </a:lnTo>
                      <a:lnTo>
                        <a:pt x="263" y="227"/>
                      </a:lnTo>
                      <a:lnTo>
                        <a:pt x="228" y="244"/>
                      </a:lnTo>
                      <a:lnTo>
                        <a:pt x="195" y="261"/>
                      </a:lnTo>
                      <a:lnTo>
                        <a:pt x="161" y="278"/>
                      </a:lnTo>
                      <a:lnTo>
                        <a:pt x="129" y="295"/>
                      </a:lnTo>
                      <a:lnTo>
                        <a:pt x="96" y="314"/>
                      </a:lnTo>
                      <a:lnTo>
                        <a:pt x="63" y="332"/>
                      </a:lnTo>
                      <a:lnTo>
                        <a:pt x="31" y="352"/>
                      </a:lnTo>
                      <a:lnTo>
                        <a:pt x="0" y="371"/>
                      </a:lnTo>
                      <a:lnTo>
                        <a:pt x="29" y="355"/>
                      </a:lnTo>
                      <a:lnTo>
                        <a:pt x="59" y="340"/>
                      </a:lnTo>
                      <a:lnTo>
                        <a:pt x="88" y="325"/>
                      </a:lnTo>
                      <a:lnTo>
                        <a:pt x="118" y="310"/>
                      </a:lnTo>
                      <a:lnTo>
                        <a:pt x="148" y="295"/>
                      </a:lnTo>
                      <a:lnTo>
                        <a:pt x="179" y="282"/>
                      </a:lnTo>
                      <a:lnTo>
                        <a:pt x="209" y="268"/>
                      </a:lnTo>
                      <a:lnTo>
                        <a:pt x="240" y="255"/>
                      </a:lnTo>
                      <a:lnTo>
                        <a:pt x="271" y="241"/>
                      </a:lnTo>
                      <a:lnTo>
                        <a:pt x="302" y="230"/>
                      </a:lnTo>
                      <a:lnTo>
                        <a:pt x="333" y="217"/>
                      </a:lnTo>
                      <a:lnTo>
                        <a:pt x="364" y="206"/>
                      </a:lnTo>
                      <a:lnTo>
                        <a:pt x="397" y="194"/>
                      </a:lnTo>
                      <a:lnTo>
                        <a:pt x="429" y="184"/>
                      </a:lnTo>
                      <a:lnTo>
                        <a:pt x="460" y="173"/>
                      </a:lnTo>
                      <a:lnTo>
                        <a:pt x="492" y="164"/>
                      </a:lnTo>
                      <a:lnTo>
                        <a:pt x="524" y="154"/>
                      </a:lnTo>
                      <a:lnTo>
                        <a:pt x="557" y="146"/>
                      </a:lnTo>
                      <a:lnTo>
                        <a:pt x="590" y="136"/>
                      </a:lnTo>
                      <a:lnTo>
                        <a:pt x="622" y="128"/>
                      </a:lnTo>
                      <a:lnTo>
                        <a:pt x="655" y="121"/>
                      </a:lnTo>
                      <a:lnTo>
                        <a:pt x="688" y="115"/>
                      </a:lnTo>
                      <a:lnTo>
                        <a:pt x="720" y="108"/>
                      </a:lnTo>
                      <a:lnTo>
                        <a:pt x="754" y="102"/>
                      </a:lnTo>
                      <a:lnTo>
                        <a:pt x="786" y="96"/>
                      </a:lnTo>
                      <a:lnTo>
                        <a:pt x="819" y="90"/>
                      </a:lnTo>
                      <a:lnTo>
                        <a:pt x="853" y="86"/>
                      </a:lnTo>
                      <a:lnTo>
                        <a:pt x="885" y="82"/>
                      </a:lnTo>
                      <a:lnTo>
                        <a:pt x="919" y="79"/>
                      </a:lnTo>
                      <a:lnTo>
                        <a:pt x="952" y="75"/>
                      </a:lnTo>
                      <a:lnTo>
                        <a:pt x="984" y="73"/>
                      </a:lnTo>
                      <a:lnTo>
                        <a:pt x="1018" y="71"/>
                      </a:lnTo>
                      <a:lnTo>
                        <a:pt x="1050" y="70"/>
                      </a:lnTo>
                      <a:lnTo>
                        <a:pt x="1081" y="68"/>
                      </a:lnTo>
                      <a:lnTo>
                        <a:pt x="1113" y="68"/>
                      </a:lnTo>
                      <a:lnTo>
                        <a:pt x="1144" y="68"/>
                      </a:lnTo>
                      <a:lnTo>
                        <a:pt x="1174" y="70"/>
                      </a:lnTo>
                      <a:lnTo>
                        <a:pt x="1205" y="71"/>
                      </a:lnTo>
                      <a:lnTo>
                        <a:pt x="1235" y="72"/>
                      </a:lnTo>
                      <a:lnTo>
                        <a:pt x="1264" y="74"/>
                      </a:lnTo>
                      <a:lnTo>
                        <a:pt x="1294" y="76"/>
                      </a:lnTo>
                      <a:lnTo>
                        <a:pt x="1323" y="80"/>
                      </a:lnTo>
                      <a:lnTo>
                        <a:pt x="1352" y="83"/>
                      </a:lnTo>
                      <a:lnTo>
                        <a:pt x="1379" y="88"/>
                      </a:lnTo>
                      <a:lnTo>
                        <a:pt x="1407" y="93"/>
                      </a:lnTo>
                      <a:lnTo>
                        <a:pt x="1435" y="97"/>
                      </a:lnTo>
                      <a:lnTo>
                        <a:pt x="1462" y="103"/>
                      </a:lnTo>
                      <a:lnTo>
                        <a:pt x="1489" y="109"/>
                      </a:lnTo>
                      <a:lnTo>
                        <a:pt x="1515" y="116"/>
                      </a:lnTo>
                      <a:lnTo>
                        <a:pt x="1541" y="123"/>
                      </a:lnTo>
                      <a:lnTo>
                        <a:pt x="1566" y="129"/>
                      </a:lnTo>
                      <a:lnTo>
                        <a:pt x="1591" y="138"/>
                      </a:lnTo>
                      <a:lnTo>
                        <a:pt x="1617" y="146"/>
                      </a:lnTo>
                      <a:lnTo>
                        <a:pt x="1641" y="155"/>
                      </a:lnTo>
                      <a:lnTo>
                        <a:pt x="1665" y="163"/>
                      </a:lnTo>
                      <a:lnTo>
                        <a:pt x="1688" y="173"/>
                      </a:lnTo>
                      <a:lnTo>
                        <a:pt x="1711" y="182"/>
                      </a:lnTo>
                      <a:lnTo>
                        <a:pt x="1733" y="193"/>
                      </a:lnTo>
                      <a:lnTo>
                        <a:pt x="1756" y="203"/>
                      </a:lnTo>
                      <a:lnTo>
                        <a:pt x="1778" y="215"/>
                      </a:lnTo>
                      <a:lnTo>
                        <a:pt x="1799" y="226"/>
                      </a:lnTo>
                      <a:lnTo>
                        <a:pt x="1820" y="238"/>
                      </a:lnTo>
                      <a:lnTo>
                        <a:pt x="1840" y="250"/>
                      </a:lnTo>
                      <a:lnTo>
                        <a:pt x="1860" y="263"/>
                      </a:lnTo>
                      <a:lnTo>
                        <a:pt x="1824" y="244"/>
                      </a:lnTo>
                      <a:lnTo>
                        <a:pt x="1787" y="225"/>
                      </a:lnTo>
                      <a:lnTo>
                        <a:pt x="1749" y="208"/>
                      </a:lnTo>
                      <a:lnTo>
                        <a:pt x="1711" y="192"/>
                      </a:lnTo>
                      <a:lnTo>
                        <a:pt x="1672" y="178"/>
                      </a:lnTo>
                      <a:lnTo>
                        <a:pt x="1632" y="165"/>
                      </a:lnTo>
                      <a:lnTo>
                        <a:pt x="1589" y="154"/>
                      </a:lnTo>
                      <a:lnTo>
                        <a:pt x="1547" y="144"/>
                      </a:lnTo>
                      <a:lnTo>
                        <a:pt x="1503" y="135"/>
                      </a:lnTo>
                      <a:lnTo>
                        <a:pt x="1458" y="129"/>
                      </a:lnTo>
                      <a:lnTo>
                        <a:pt x="1411" y="124"/>
                      </a:lnTo>
                      <a:lnTo>
                        <a:pt x="1363" y="120"/>
                      </a:lnTo>
                      <a:lnTo>
                        <a:pt x="1314" y="117"/>
                      </a:lnTo>
                      <a:lnTo>
                        <a:pt x="1262" y="117"/>
                      </a:lnTo>
                      <a:lnTo>
                        <a:pt x="1210" y="117"/>
                      </a:lnTo>
                      <a:lnTo>
                        <a:pt x="1156" y="119"/>
                      </a:lnTo>
                      <a:lnTo>
                        <a:pt x="1121" y="121"/>
                      </a:lnTo>
                      <a:lnTo>
                        <a:pt x="1087" y="124"/>
                      </a:lnTo>
                      <a:lnTo>
                        <a:pt x="1052" y="127"/>
                      </a:lnTo>
                      <a:lnTo>
                        <a:pt x="1018" y="131"/>
                      </a:lnTo>
                      <a:lnTo>
                        <a:pt x="983" y="135"/>
                      </a:lnTo>
                      <a:lnTo>
                        <a:pt x="948" y="141"/>
                      </a:lnTo>
                      <a:lnTo>
                        <a:pt x="915" y="147"/>
                      </a:lnTo>
                      <a:lnTo>
                        <a:pt x="880" y="153"/>
                      </a:lnTo>
                      <a:lnTo>
                        <a:pt x="846" y="159"/>
                      </a:lnTo>
                      <a:lnTo>
                        <a:pt x="813" y="168"/>
                      </a:lnTo>
                      <a:lnTo>
                        <a:pt x="778" y="176"/>
                      </a:lnTo>
                      <a:lnTo>
                        <a:pt x="745" y="184"/>
                      </a:lnTo>
                      <a:lnTo>
                        <a:pt x="710" y="193"/>
                      </a:lnTo>
                      <a:lnTo>
                        <a:pt x="677" y="202"/>
                      </a:lnTo>
                      <a:lnTo>
                        <a:pt x="643" y="212"/>
                      </a:lnTo>
                      <a:lnTo>
                        <a:pt x="611" y="224"/>
                      </a:lnTo>
                      <a:lnTo>
                        <a:pt x="577" y="234"/>
                      </a:lnTo>
                      <a:lnTo>
                        <a:pt x="544" y="247"/>
                      </a:lnTo>
                      <a:lnTo>
                        <a:pt x="512" y="259"/>
                      </a:lnTo>
                      <a:lnTo>
                        <a:pt x="479" y="271"/>
                      </a:lnTo>
                      <a:lnTo>
                        <a:pt x="447" y="285"/>
                      </a:lnTo>
                      <a:lnTo>
                        <a:pt x="415" y="299"/>
                      </a:lnTo>
                      <a:lnTo>
                        <a:pt x="383" y="313"/>
                      </a:lnTo>
                      <a:lnTo>
                        <a:pt x="352" y="328"/>
                      </a:lnTo>
                      <a:lnTo>
                        <a:pt x="320" y="343"/>
                      </a:lnTo>
                      <a:lnTo>
                        <a:pt x="289" y="358"/>
                      </a:lnTo>
                      <a:lnTo>
                        <a:pt x="258" y="374"/>
                      </a:lnTo>
                      <a:lnTo>
                        <a:pt x="228" y="390"/>
                      </a:lnTo>
                      <a:lnTo>
                        <a:pt x="198" y="407"/>
                      </a:lnTo>
                      <a:lnTo>
                        <a:pt x="168" y="424"/>
                      </a:lnTo>
                      <a:lnTo>
                        <a:pt x="138" y="442"/>
                      </a:lnTo>
                      <a:lnTo>
                        <a:pt x="110" y="460"/>
                      </a:lnTo>
                      <a:lnTo>
                        <a:pt x="136" y="445"/>
                      </a:lnTo>
                      <a:lnTo>
                        <a:pt x="164" y="431"/>
                      </a:lnTo>
                      <a:lnTo>
                        <a:pt x="190" y="418"/>
                      </a:lnTo>
                      <a:lnTo>
                        <a:pt x="218" y="405"/>
                      </a:lnTo>
                      <a:lnTo>
                        <a:pt x="246" y="391"/>
                      </a:lnTo>
                      <a:lnTo>
                        <a:pt x="273" y="378"/>
                      </a:lnTo>
                      <a:lnTo>
                        <a:pt x="301" y="367"/>
                      </a:lnTo>
                      <a:lnTo>
                        <a:pt x="329" y="354"/>
                      </a:lnTo>
                      <a:lnTo>
                        <a:pt x="357" y="343"/>
                      </a:lnTo>
                      <a:lnTo>
                        <a:pt x="386" y="331"/>
                      </a:lnTo>
                      <a:lnTo>
                        <a:pt x="415" y="321"/>
                      </a:lnTo>
                      <a:lnTo>
                        <a:pt x="444" y="310"/>
                      </a:lnTo>
                      <a:lnTo>
                        <a:pt x="473" y="300"/>
                      </a:lnTo>
                      <a:lnTo>
                        <a:pt x="501" y="290"/>
                      </a:lnTo>
                      <a:lnTo>
                        <a:pt x="530" y="280"/>
                      </a:lnTo>
                      <a:lnTo>
                        <a:pt x="560" y="271"/>
                      </a:lnTo>
                      <a:lnTo>
                        <a:pt x="589" y="263"/>
                      </a:lnTo>
                      <a:lnTo>
                        <a:pt x="619" y="255"/>
                      </a:lnTo>
                      <a:lnTo>
                        <a:pt x="648" y="247"/>
                      </a:lnTo>
                      <a:lnTo>
                        <a:pt x="678" y="240"/>
                      </a:lnTo>
                      <a:lnTo>
                        <a:pt x="708" y="233"/>
                      </a:lnTo>
                      <a:lnTo>
                        <a:pt x="738" y="226"/>
                      </a:lnTo>
                      <a:lnTo>
                        <a:pt x="768" y="221"/>
                      </a:lnTo>
                      <a:lnTo>
                        <a:pt x="798" y="215"/>
                      </a:lnTo>
                      <a:lnTo>
                        <a:pt x="827" y="210"/>
                      </a:lnTo>
                      <a:lnTo>
                        <a:pt x="857" y="206"/>
                      </a:lnTo>
                      <a:lnTo>
                        <a:pt x="887" y="201"/>
                      </a:lnTo>
                      <a:lnTo>
                        <a:pt x="917" y="197"/>
                      </a:lnTo>
                      <a:lnTo>
                        <a:pt x="948" y="194"/>
                      </a:lnTo>
                      <a:lnTo>
                        <a:pt x="978" y="192"/>
                      </a:lnTo>
                      <a:lnTo>
                        <a:pt x="1008" y="189"/>
                      </a:lnTo>
                      <a:lnTo>
                        <a:pt x="1038" y="187"/>
                      </a:lnTo>
                      <a:lnTo>
                        <a:pt x="1069" y="186"/>
                      </a:lnTo>
                      <a:lnTo>
                        <a:pt x="1101" y="185"/>
                      </a:lnTo>
                      <a:lnTo>
                        <a:pt x="1131" y="185"/>
                      </a:lnTo>
                      <a:lnTo>
                        <a:pt x="1161" y="185"/>
                      </a:lnTo>
                      <a:lnTo>
                        <a:pt x="1190" y="185"/>
                      </a:lnTo>
                      <a:lnTo>
                        <a:pt x="1219" y="186"/>
                      </a:lnTo>
                      <a:lnTo>
                        <a:pt x="1248" y="188"/>
                      </a:lnTo>
                      <a:lnTo>
                        <a:pt x="1276" y="191"/>
                      </a:lnTo>
                      <a:lnTo>
                        <a:pt x="1303" y="193"/>
                      </a:lnTo>
                      <a:lnTo>
                        <a:pt x="1331" y="196"/>
                      </a:lnTo>
                      <a:lnTo>
                        <a:pt x="1358" y="200"/>
                      </a:lnTo>
                      <a:lnTo>
                        <a:pt x="1384" y="204"/>
                      </a:lnTo>
                      <a:lnTo>
                        <a:pt x="1409" y="209"/>
                      </a:lnTo>
                      <a:lnTo>
                        <a:pt x="1435" y="214"/>
                      </a:lnTo>
                      <a:lnTo>
                        <a:pt x="1460" y="219"/>
                      </a:lnTo>
                      <a:lnTo>
                        <a:pt x="1484" y="225"/>
                      </a:lnTo>
                      <a:lnTo>
                        <a:pt x="1509" y="232"/>
                      </a:lnTo>
                      <a:lnTo>
                        <a:pt x="1532" y="239"/>
                      </a:lnTo>
                      <a:lnTo>
                        <a:pt x="1556" y="246"/>
                      </a:lnTo>
                      <a:lnTo>
                        <a:pt x="1579" y="254"/>
                      </a:lnTo>
                      <a:lnTo>
                        <a:pt x="1601" y="262"/>
                      </a:lnTo>
                      <a:lnTo>
                        <a:pt x="1623" y="271"/>
                      </a:lnTo>
                      <a:lnTo>
                        <a:pt x="1644" y="280"/>
                      </a:lnTo>
                      <a:lnTo>
                        <a:pt x="1666" y="290"/>
                      </a:lnTo>
                      <a:lnTo>
                        <a:pt x="1687" y="300"/>
                      </a:lnTo>
                      <a:lnTo>
                        <a:pt x="1708" y="312"/>
                      </a:lnTo>
                      <a:lnTo>
                        <a:pt x="1727" y="322"/>
                      </a:lnTo>
                      <a:lnTo>
                        <a:pt x="1747" y="333"/>
                      </a:lnTo>
                      <a:lnTo>
                        <a:pt x="1767" y="346"/>
                      </a:lnTo>
                      <a:lnTo>
                        <a:pt x="1786" y="358"/>
                      </a:lnTo>
                      <a:lnTo>
                        <a:pt x="1805" y="370"/>
                      </a:lnTo>
                      <a:lnTo>
                        <a:pt x="1823" y="384"/>
                      </a:lnTo>
                      <a:lnTo>
                        <a:pt x="1791" y="363"/>
                      </a:lnTo>
                      <a:lnTo>
                        <a:pt x="1756" y="345"/>
                      </a:lnTo>
                      <a:lnTo>
                        <a:pt x="1721" y="328"/>
                      </a:lnTo>
                      <a:lnTo>
                        <a:pt x="1683" y="312"/>
                      </a:lnTo>
                      <a:lnTo>
                        <a:pt x="1644" y="297"/>
                      </a:lnTo>
                      <a:lnTo>
                        <a:pt x="1604" y="283"/>
                      </a:lnTo>
                      <a:lnTo>
                        <a:pt x="1562" y="271"/>
                      </a:lnTo>
                      <a:lnTo>
                        <a:pt x="1519" y="261"/>
                      </a:lnTo>
                      <a:lnTo>
                        <a:pt x="1475" y="252"/>
                      </a:lnTo>
                      <a:lnTo>
                        <a:pt x="1429" y="245"/>
                      </a:lnTo>
                      <a:lnTo>
                        <a:pt x="1382" y="239"/>
                      </a:lnTo>
                      <a:lnTo>
                        <a:pt x="1333" y="235"/>
                      </a:lnTo>
                      <a:lnTo>
                        <a:pt x="1285" y="233"/>
                      </a:lnTo>
                      <a:lnTo>
                        <a:pt x="1234" y="233"/>
                      </a:lnTo>
                      <a:lnTo>
                        <a:pt x="1182" y="234"/>
                      </a:lnTo>
                      <a:lnTo>
                        <a:pt x="1129" y="238"/>
                      </a:lnTo>
                      <a:lnTo>
                        <a:pt x="1099" y="240"/>
                      </a:lnTo>
                      <a:lnTo>
                        <a:pt x="1068" y="244"/>
                      </a:lnTo>
                      <a:lnTo>
                        <a:pt x="1038" y="247"/>
                      </a:lnTo>
                      <a:lnTo>
                        <a:pt x="1008" y="250"/>
                      </a:lnTo>
                      <a:lnTo>
                        <a:pt x="977" y="255"/>
                      </a:lnTo>
                      <a:lnTo>
                        <a:pt x="947" y="261"/>
                      </a:lnTo>
                      <a:lnTo>
                        <a:pt x="917" y="267"/>
                      </a:lnTo>
                      <a:lnTo>
                        <a:pt x="887" y="272"/>
                      </a:lnTo>
                      <a:lnTo>
                        <a:pt x="857" y="279"/>
                      </a:lnTo>
                      <a:lnTo>
                        <a:pt x="826" y="286"/>
                      </a:lnTo>
                      <a:lnTo>
                        <a:pt x="798" y="294"/>
                      </a:lnTo>
                      <a:lnTo>
                        <a:pt x="768" y="302"/>
                      </a:lnTo>
                      <a:lnTo>
                        <a:pt x="738" y="312"/>
                      </a:lnTo>
                      <a:lnTo>
                        <a:pt x="708" y="321"/>
                      </a:lnTo>
                      <a:lnTo>
                        <a:pt x="679" y="330"/>
                      </a:lnTo>
                      <a:lnTo>
                        <a:pt x="649" y="340"/>
                      </a:lnTo>
                      <a:lnTo>
                        <a:pt x="620" y="351"/>
                      </a:lnTo>
                      <a:lnTo>
                        <a:pt x="591" y="361"/>
                      </a:lnTo>
                      <a:lnTo>
                        <a:pt x="562" y="373"/>
                      </a:lnTo>
                      <a:lnTo>
                        <a:pt x="534" y="384"/>
                      </a:lnTo>
                      <a:lnTo>
                        <a:pt x="505" y="397"/>
                      </a:lnTo>
                      <a:lnTo>
                        <a:pt x="477" y="409"/>
                      </a:lnTo>
                      <a:lnTo>
                        <a:pt x="448" y="422"/>
                      </a:lnTo>
                      <a:lnTo>
                        <a:pt x="421" y="436"/>
                      </a:lnTo>
                      <a:lnTo>
                        <a:pt x="393" y="450"/>
                      </a:lnTo>
                      <a:lnTo>
                        <a:pt x="365" y="464"/>
                      </a:lnTo>
                      <a:lnTo>
                        <a:pt x="339" y="479"/>
                      </a:lnTo>
                      <a:lnTo>
                        <a:pt x="312" y="494"/>
                      </a:lnTo>
                      <a:lnTo>
                        <a:pt x="286" y="509"/>
                      </a:lnTo>
                      <a:lnTo>
                        <a:pt x="259" y="525"/>
                      </a:lnTo>
                      <a:lnTo>
                        <a:pt x="233" y="541"/>
                      </a:lnTo>
                      <a:lnTo>
                        <a:pt x="208" y="557"/>
                      </a:lnTo>
                      <a:lnTo>
                        <a:pt x="231" y="544"/>
                      </a:lnTo>
                      <a:lnTo>
                        <a:pt x="254" y="532"/>
                      </a:lnTo>
                      <a:lnTo>
                        <a:pt x="278" y="520"/>
                      </a:lnTo>
                      <a:lnTo>
                        <a:pt x="301" y="507"/>
                      </a:lnTo>
                      <a:lnTo>
                        <a:pt x="325" y="496"/>
                      </a:lnTo>
                      <a:lnTo>
                        <a:pt x="349" y="484"/>
                      </a:lnTo>
                      <a:lnTo>
                        <a:pt x="373" y="474"/>
                      </a:lnTo>
                      <a:lnTo>
                        <a:pt x="398" y="464"/>
                      </a:lnTo>
                      <a:lnTo>
                        <a:pt x="422" y="453"/>
                      </a:lnTo>
                      <a:lnTo>
                        <a:pt x="447" y="443"/>
                      </a:lnTo>
                      <a:lnTo>
                        <a:pt x="471" y="432"/>
                      </a:lnTo>
                      <a:lnTo>
                        <a:pt x="497" y="423"/>
                      </a:lnTo>
                      <a:lnTo>
                        <a:pt x="521" y="414"/>
                      </a:lnTo>
                      <a:lnTo>
                        <a:pt x="546" y="406"/>
                      </a:lnTo>
                      <a:lnTo>
                        <a:pt x="572" y="397"/>
                      </a:lnTo>
                      <a:lnTo>
                        <a:pt x="597" y="389"/>
                      </a:lnTo>
                      <a:lnTo>
                        <a:pt x="622" y="381"/>
                      </a:lnTo>
                      <a:lnTo>
                        <a:pt x="649" y="374"/>
                      </a:lnTo>
                      <a:lnTo>
                        <a:pt x="674" y="367"/>
                      </a:lnTo>
                      <a:lnTo>
                        <a:pt x="700" y="360"/>
                      </a:lnTo>
                      <a:lnTo>
                        <a:pt x="726" y="353"/>
                      </a:lnTo>
                      <a:lnTo>
                        <a:pt x="751" y="347"/>
                      </a:lnTo>
                      <a:lnTo>
                        <a:pt x="778" y="341"/>
                      </a:lnTo>
                      <a:lnTo>
                        <a:pt x="803" y="337"/>
                      </a:lnTo>
                      <a:lnTo>
                        <a:pt x="830" y="331"/>
                      </a:lnTo>
                      <a:lnTo>
                        <a:pt x="856" y="327"/>
                      </a:lnTo>
                      <a:lnTo>
                        <a:pt x="882" y="323"/>
                      </a:lnTo>
                      <a:lnTo>
                        <a:pt x="908" y="320"/>
                      </a:lnTo>
                      <a:lnTo>
                        <a:pt x="935" y="316"/>
                      </a:lnTo>
                      <a:lnTo>
                        <a:pt x="960" y="313"/>
                      </a:lnTo>
                      <a:lnTo>
                        <a:pt x="987" y="310"/>
                      </a:lnTo>
                      <a:lnTo>
                        <a:pt x="1013" y="308"/>
                      </a:lnTo>
                      <a:lnTo>
                        <a:pt x="1066" y="305"/>
                      </a:lnTo>
                      <a:lnTo>
                        <a:pt x="1119" y="303"/>
                      </a:lnTo>
                      <a:lnTo>
                        <a:pt x="1170" y="305"/>
                      </a:lnTo>
                      <a:lnTo>
                        <a:pt x="1220" y="307"/>
                      </a:lnTo>
                      <a:lnTo>
                        <a:pt x="1269" y="312"/>
                      </a:lnTo>
                      <a:lnTo>
                        <a:pt x="1317" y="317"/>
                      </a:lnTo>
                      <a:lnTo>
                        <a:pt x="1363" y="324"/>
                      </a:lnTo>
                      <a:lnTo>
                        <a:pt x="1408" y="333"/>
                      </a:lnTo>
                      <a:lnTo>
                        <a:pt x="1452" y="345"/>
                      </a:lnTo>
                      <a:lnTo>
                        <a:pt x="1494" y="356"/>
                      </a:lnTo>
                      <a:lnTo>
                        <a:pt x="1535" y="370"/>
                      </a:lnTo>
                      <a:lnTo>
                        <a:pt x="1574" y="385"/>
                      </a:lnTo>
                      <a:lnTo>
                        <a:pt x="1611" y="403"/>
                      </a:lnTo>
                      <a:lnTo>
                        <a:pt x="1648" y="421"/>
                      </a:lnTo>
                      <a:lnTo>
                        <a:pt x="1683" y="441"/>
                      </a:lnTo>
                      <a:lnTo>
                        <a:pt x="1715" y="461"/>
                      </a:lnTo>
                      <a:lnTo>
                        <a:pt x="1686" y="445"/>
                      </a:lnTo>
                      <a:lnTo>
                        <a:pt x="1657" y="430"/>
                      </a:lnTo>
                      <a:lnTo>
                        <a:pt x="1626" y="416"/>
                      </a:lnTo>
                      <a:lnTo>
                        <a:pt x="1594" y="404"/>
                      </a:lnTo>
                      <a:lnTo>
                        <a:pt x="1560" y="393"/>
                      </a:lnTo>
                      <a:lnTo>
                        <a:pt x="1526" y="383"/>
                      </a:lnTo>
                      <a:lnTo>
                        <a:pt x="1490" y="374"/>
                      </a:lnTo>
                      <a:lnTo>
                        <a:pt x="1453" y="367"/>
                      </a:lnTo>
                      <a:lnTo>
                        <a:pt x="1415" y="360"/>
                      </a:lnTo>
                      <a:lnTo>
                        <a:pt x="1376" y="355"/>
                      </a:lnTo>
                      <a:lnTo>
                        <a:pt x="1336" y="352"/>
                      </a:lnTo>
                      <a:lnTo>
                        <a:pt x="1294" y="351"/>
                      </a:lnTo>
                      <a:lnTo>
                        <a:pt x="1253" y="350"/>
                      </a:lnTo>
                      <a:lnTo>
                        <a:pt x="1209" y="351"/>
                      </a:lnTo>
                      <a:lnTo>
                        <a:pt x="1165" y="353"/>
                      </a:lnTo>
                      <a:lnTo>
                        <a:pt x="1120" y="356"/>
                      </a:lnTo>
                      <a:lnTo>
                        <a:pt x="1094" y="359"/>
                      </a:lnTo>
                      <a:lnTo>
                        <a:pt x="1066" y="362"/>
                      </a:lnTo>
                      <a:lnTo>
                        <a:pt x="1040" y="367"/>
                      </a:lnTo>
                      <a:lnTo>
                        <a:pt x="1013" y="370"/>
                      </a:lnTo>
                      <a:lnTo>
                        <a:pt x="987" y="375"/>
                      </a:lnTo>
                      <a:lnTo>
                        <a:pt x="960" y="381"/>
                      </a:lnTo>
                      <a:lnTo>
                        <a:pt x="934" y="386"/>
                      </a:lnTo>
                      <a:lnTo>
                        <a:pt x="907" y="392"/>
                      </a:lnTo>
                      <a:lnTo>
                        <a:pt x="879" y="399"/>
                      </a:lnTo>
                      <a:lnTo>
                        <a:pt x="854" y="406"/>
                      </a:lnTo>
                      <a:lnTo>
                        <a:pt x="827" y="413"/>
                      </a:lnTo>
                      <a:lnTo>
                        <a:pt x="801" y="421"/>
                      </a:lnTo>
                      <a:lnTo>
                        <a:pt x="774" y="429"/>
                      </a:lnTo>
                      <a:lnTo>
                        <a:pt x="749" y="438"/>
                      </a:lnTo>
                      <a:lnTo>
                        <a:pt x="723" y="447"/>
                      </a:lnTo>
                      <a:lnTo>
                        <a:pt x="697" y="457"/>
                      </a:lnTo>
                      <a:lnTo>
                        <a:pt x="672" y="466"/>
                      </a:lnTo>
                      <a:lnTo>
                        <a:pt x="645" y="476"/>
                      </a:lnTo>
                      <a:lnTo>
                        <a:pt x="620" y="487"/>
                      </a:lnTo>
                      <a:lnTo>
                        <a:pt x="596" y="498"/>
                      </a:lnTo>
                      <a:lnTo>
                        <a:pt x="571" y="510"/>
                      </a:lnTo>
                      <a:lnTo>
                        <a:pt x="545" y="521"/>
                      </a:lnTo>
                      <a:lnTo>
                        <a:pt x="521" y="533"/>
                      </a:lnTo>
                      <a:lnTo>
                        <a:pt x="497" y="545"/>
                      </a:lnTo>
                      <a:lnTo>
                        <a:pt x="473" y="558"/>
                      </a:lnTo>
                      <a:lnTo>
                        <a:pt x="448" y="571"/>
                      </a:lnTo>
                      <a:lnTo>
                        <a:pt x="425" y="585"/>
                      </a:lnTo>
                      <a:lnTo>
                        <a:pt x="401" y="598"/>
                      </a:lnTo>
                      <a:lnTo>
                        <a:pt x="378" y="612"/>
                      </a:lnTo>
                      <a:lnTo>
                        <a:pt x="355" y="626"/>
                      </a:lnTo>
                      <a:lnTo>
                        <a:pt x="332" y="641"/>
                      </a:lnTo>
                      <a:lnTo>
                        <a:pt x="310" y="656"/>
                      </a:lnTo>
                      <a:lnTo>
                        <a:pt x="350" y="634"/>
                      </a:lnTo>
                      <a:lnTo>
                        <a:pt x="391" y="613"/>
                      </a:lnTo>
                      <a:lnTo>
                        <a:pt x="432" y="593"/>
                      </a:lnTo>
                      <a:lnTo>
                        <a:pt x="474" y="573"/>
                      </a:lnTo>
                      <a:lnTo>
                        <a:pt x="516" y="555"/>
                      </a:lnTo>
                      <a:lnTo>
                        <a:pt x="559" y="538"/>
                      </a:lnTo>
                      <a:lnTo>
                        <a:pt x="603" y="522"/>
                      </a:lnTo>
                      <a:lnTo>
                        <a:pt x="647" y="506"/>
                      </a:lnTo>
                      <a:lnTo>
                        <a:pt x="690" y="492"/>
                      </a:lnTo>
                      <a:lnTo>
                        <a:pt x="734" y="480"/>
                      </a:lnTo>
                      <a:lnTo>
                        <a:pt x="779" y="468"/>
                      </a:lnTo>
                      <a:lnTo>
                        <a:pt x="823" y="458"/>
                      </a:lnTo>
                      <a:lnTo>
                        <a:pt x="868" y="450"/>
                      </a:lnTo>
                      <a:lnTo>
                        <a:pt x="913" y="442"/>
                      </a:lnTo>
                      <a:lnTo>
                        <a:pt x="958" y="435"/>
                      </a:lnTo>
                      <a:lnTo>
                        <a:pt x="1003" y="430"/>
                      </a:lnTo>
                      <a:lnTo>
                        <a:pt x="1064" y="426"/>
                      </a:lnTo>
                      <a:lnTo>
                        <a:pt x="1124" y="423"/>
                      </a:lnTo>
                      <a:lnTo>
                        <a:pt x="1181" y="424"/>
                      </a:lnTo>
                      <a:lnTo>
                        <a:pt x="1237" y="428"/>
                      </a:lnTo>
                      <a:lnTo>
                        <a:pt x="1291" y="434"/>
                      </a:lnTo>
                      <a:lnTo>
                        <a:pt x="1341" y="442"/>
                      </a:lnTo>
                      <a:lnTo>
                        <a:pt x="1390" y="453"/>
                      </a:lnTo>
                      <a:lnTo>
                        <a:pt x="1436" y="466"/>
                      </a:lnTo>
                      <a:lnTo>
                        <a:pt x="1480" y="482"/>
                      </a:lnTo>
                      <a:lnTo>
                        <a:pt x="1521" y="499"/>
                      </a:lnTo>
                      <a:lnTo>
                        <a:pt x="1559" y="520"/>
                      </a:lnTo>
                      <a:lnTo>
                        <a:pt x="1594" y="542"/>
                      </a:lnTo>
                      <a:lnTo>
                        <a:pt x="1626" y="566"/>
                      </a:lnTo>
                      <a:lnTo>
                        <a:pt x="1655" y="593"/>
                      </a:lnTo>
                      <a:lnTo>
                        <a:pt x="1681" y="621"/>
                      </a:lnTo>
                      <a:lnTo>
                        <a:pt x="1703" y="651"/>
                      </a:lnTo>
                      <a:lnTo>
                        <a:pt x="2095" y="286"/>
                      </a:lnTo>
                      <a:lnTo>
                        <a:pt x="2074" y="268"/>
                      </a:lnTo>
                      <a:lnTo>
                        <a:pt x="2054" y="250"/>
                      </a:lnTo>
                      <a:lnTo>
                        <a:pt x="2032" y="233"/>
                      </a:lnTo>
                      <a:lnTo>
                        <a:pt x="2010" y="217"/>
                      </a:lnTo>
                      <a:lnTo>
                        <a:pt x="1987" y="201"/>
                      </a:lnTo>
                      <a:lnTo>
                        <a:pt x="1963" y="186"/>
                      </a:lnTo>
                      <a:lnTo>
                        <a:pt x="1938" y="171"/>
                      </a:lnTo>
                      <a:lnTo>
                        <a:pt x="1913" y="156"/>
                      </a:lnTo>
                      <a:lnTo>
                        <a:pt x="1888" y="142"/>
                      </a:lnTo>
                      <a:lnTo>
                        <a:pt x="1861" y="129"/>
                      </a:lnTo>
                      <a:lnTo>
                        <a:pt x="1835" y="117"/>
                      </a:lnTo>
                      <a:lnTo>
                        <a:pt x="1807" y="104"/>
                      </a:lnTo>
                      <a:lnTo>
                        <a:pt x="1778" y="94"/>
                      </a:lnTo>
                      <a:lnTo>
                        <a:pt x="1749" y="82"/>
                      </a:lnTo>
                      <a:lnTo>
                        <a:pt x="1719" y="72"/>
                      </a:lnTo>
                      <a:lnTo>
                        <a:pt x="1689" y="63"/>
                      </a:lnTo>
                      <a:lnTo>
                        <a:pt x="1659" y="53"/>
                      </a:lnTo>
                      <a:lnTo>
                        <a:pt x="1628" y="45"/>
                      </a:lnTo>
                      <a:lnTo>
                        <a:pt x="1596" y="38"/>
                      </a:lnTo>
                      <a:lnTo>
                        <a:pt x="1564" y="32"/>
                      </a:lnTo>
                      <a:lnTo>
                        <a:pt x="1530" y="25"/>
                      </a:lnTo>
                      <a:lnTo>
                        <a:pt x="1497" y="19"/>
                      </a:lnTo>
                      <a:lnTo>
                        <a:pt x="1464" y="14"/>
                      </a:lnTo>
                      <a:lnTo>
                        <a:pt x="1429" y="11"/>
                      </a:lnTo>
                      <a:lnTo>
                        <a:pt x="1394" y="6"/>
                      </a:lnTo>
                      <a:lnTo>
                        <a:pt x="1359" y="4"/>
                      </a:lnTo>
                      <a:lnTo>
                        <a:pt x="1322" y="2"/>
                      </a:lnTo>
                      <a:lnTo>
                        <a:pt x="1286" y="0"/>
                      </a:lnTo>
                      <a:lnTo>
                        <a:pt x="1249" y="0"/>
                      </a:lnTo>
                      <a:lnTo>
                        <a:pt x="1211" y="0"/>
                      </a:lnTo>
                      <a:lnTo>
                        <a:pt x="1173" y="2"/>
                      </a:lnTo>
                      <a:lnTo>
                        <a:pt x="1135" y="3"/>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2" name="j0137845" descr=""/>
              <p:cNvPicPr/>
              <p:nvPr/>
            </p:nvPicPr>
            <p:blipFill>
              <a:blip r:embed="rId1"/>
              <a:stretch/>
            </p:blipFill>
            <p:spPr>
              <a:xfrm>
                <a:off x="1817640" y="3898800"/>
                <a:ext cx="1152720" cy="1612080"/>
              </a:xfrm>
              <a:prstGeom prst="rect">
                <a:avLst/>
              </a:prstGeom>
              <a:ln w="0">
                <a:noFill/>
              </a:ln>
            </p:spPr>
          </p:pic>
        </p:grpSp>
        <p:grpSp>
          <p:nvGrpSpPr>
            <p:cNvPr id="123" name=""/>
            <p:cNvGrpSpPr/>
            <p:nvPr/>
          </p:nvGrpSpPr>
          <p:grpSpPr>
            <a:xfrm>
              <a:off x="3886200" y="1219320"/>
              <a:ext cx="2590560" cy="2576520"/>
              <a:chOff x="3886200" y="1219320"/>
              <a:chExt cx="2590560" cy="2576520"/>
            </a:xfrm>
          </p:grpSpPr>
          <p:grpSp>
            <p:nvGrpSpPr>
              <p:cNvPr id="124" name=""/>
              <p:cNvGrpSpPr/>
              <p:nvPr/>
            </p:nvGrpSpPr>
            <p:grpSpPr>
              <a:xfrm>
                <a:off x="3886200" y="1219320"/>
                <a:ext cx="2590560" cy="2576520"/>
                <a:chOff x="3886200" y="1219320"/>
                <a:chExt cx="2590560" cy="2576520"/>
              </a:xfrm>
            </p:grpSpPr>
            <p:sp>
              <p:nvSpPr>
                <p:cNvPr id="125" name=""/>
                <p:cNvSpPr/>
                <p:nvPr/>
              </p:nvSpPr>
              <p:spPr>
                <a:xfrm>
                  <a:off x="3886200" y="1219320"/>
                  <a:ext cx="2590560" cy="1876320"/>
                </a:xfrm>
                <a:custGeom>
                  <a:avLst/>
                  <a:gdLst/>
                  <a:ahLst/>
                  <a:rect l="l" t="t" r="r" b="b"/>
                  <a:pathLst>
                    <a:path w="2292" h="1660">
                      <a:moveTo>
                        <a:pt x="1791" y="1660"/>
                      </a:moveTo>
                      <a:lnTo>
                        <a:pt x="2292" y="1175"/>
                      </a:lnTo>
                      <a:lnTo>
                        <a:pt x="1119" y="0"/>
                      </a:lnTo>
                      <a:lnTo>
                        <a:pt x="0" y="1235"/>
                      </a:lnTo>
                      <a:lnTo>
                        <a:pt x="408" y="1651"/>
                      </a:lnTo>
                      <a:lnTo>
                        <a:pt x="452" y="1639"/>
                      </a:lnTo>
                      <a:lnTo>
                        <a:pt x="494" y="1628"/>
                      </a:lnTo>
                      <a:lnTo>
                        <a:pt x="538" y="1618"/>
                      </a:lnTo>
                      <a:lnTo>
                        <a:pt x="582" y="1608"/>
                      </a:lnTo>
                      <a:lnTo>
                        <a:pt x="627" y="1599"/>
                      </a:lnTo>
                      <a:lnTo>
                        <a:pt x="671" y="1591"/>
                      </a:lnTo>
                      <a:lnTo>
                        <a:pt x="714" y="1583"/>
                      </a:lnTo>
                      <a:lnTo>
                        <a:pt x="759" y="1576"/>
                      </a:lnTo>
                      <a:lnTo>
                        <a:pt x="803" y="1570"/>
                      </a:lnTo>
                      <a:lnTo>
                        <a:pt x="848" y="1565"/>
                      </a:lnTo>
                      <a:lnTo>
                        <a:pt x="893" y="1560"/>
                      </a:lnTo>
                      <a:lnTo>
                        <a:pt x="938" y="1556"/>
                      </a:lnTo>
                      <a:lnTo>
                        <a:pt x="983" y="1553"/>
                      </a:lnTo>
                      <a:lnTo>
                        <a:pt x="1027" y="1551"/>
                      </a:lnTo>
                      <a:lnTo>
                        <a:pt x="1072" y="1550"/>
                      </a:lnTo>
                      <a:lnTo>
                        <a:pt x="1117" y="1550"/>
                      </a:lnTo>
                      <a:lnTo>
                        <a:pt x="1164" y="1550"/>
                      </a:lnTo>
                      <a:lnTo>
                        <a:pt x="1210" y="1551"/>
                      </a:lnTo>
                      <a:lnTo>
                        <a:pt x="1256" y="1553"/>
                      </a:lnTo>
                      <a:lnTo>
                        <a:pt x="1301" y="1556"/>
                      </a:lnTo>
                      <a:lnTo>
                        <a:pt x="1346" y="1560"/>
                      </a:lnTo>
                      <a:lnTo>
                        <a:pt x="1390" y="1565"/>
                      </a:lnTo>
                      <a:lnTo>
                        <a:pt x="1434" y="1570"/>
                      </a:lnTo>
                      <a:lnTo>
                        <a:pt x="1476" y="1577"/>
                      </a:lnTo>
                      <a:lnTo>
                        <a:pt x="1518" y="1584"/>
                      </a:lnTo>
                      <a:lnTo>
                        <a:pt x="1559" y="1593"/>
                      </a:lnTo>
                      <a:lnTo>
                        <a:pt x="1599" y="1603"/>
                      </a:lnTo>
                      <a:lnTo>
                        <a:pt x="1640" y="1612"/>
                      </a:lnTo>
                      <a:lnTo>
                        <a:pt x="1678" y="1623"/>
                      </a:lnTo>
                      <a:lnTo>
                        <a:pt x="1717" y="1635"/>
                      </a:lnTo>
                      <a:lnTo>
                        <a:pt x="1754" y="1647"/>
                      </a:lnTo>
                      <a:lnTo>
                        <a:pt x="1791" y="1660"/>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921840" y="3054240"/>
                  <a:ext cx="2367000" cy="741600"/>
                </a:xfrm>
                <a:custGeom>
                  <a:avLst/>
                  <a:gdLst/>
                  <a:ahLst/>
                  <a:rect l="l" t="t" r="r" b="b"/>
                  <a:pathLst>
                    <a:path w="2095" h="656">
                      <a:moveTo>
                        <a:pt x="1135" y="3"/>
                      </a:moveTo>
                      <a:lnTo>
                        <a:pt x="1097" y="5"/>
                      </a:lnTo>
                      <a:lnTo>
                        <a:pt x="1060" y="7"/>
                      </a:lnTo>
                      <a:lnTo>
                        <a:pt x="1022" y="11"/>
                      </a:lnTo>
                      <a:lnTo>
                        <a:pt x="985" y="15"/>
                      </a:lnTo>
                      <a:lnTo>
                        <a:pt x="948" y="20"/>
                      </a:lnTo>
                      <a:lnTo>
                        <a:pt x="910" y="26"/>
                      </a:lnTo>
                      <a:lnTo>
                        <a:pt x="874" y="33"/>
                      </a:lnTo>
                      <a:lnTo>
                        <a:pt x="837" y="38"/>
                      </a:lnTo>
                      <a:lnTo>
                        <a:pt x="799" y="47"/>
                      </a:lnTo>
                      <a:lnTo>
                        <a:pt x="762" y="55"/>
                      </a:lnTo>
                      <a:lnTo>
                        <a:pt x="725" y="63"/>
                      </a:lnTo>
                      <a:lnTo>
                        <a:pt x="689" y="72"/>
                      </a:lnTo>
                      <a:lnTo>
                        <a:pt x="652" y="82"/>
                      </a:lnTo>
                      <a:lnTo>
                        <a:pt x="615" y="93"/>
                      </a:lnTo>
                      <a:lnTo>
                        <a:pt x="580" y="104"/>
                      </a:lnTo>
                      <a:lnTo>
                        <a:pt x="544" y="116"/>
                      </a:lnTo>
                      <a:lnTo>
                        <a:pt x="507" y="127"/>
                      </a:lnTo>
                      <a:lnTo>
                        <a:pt x="471" y="140"/>
                      </a:lnTo>
                      <a:lnTo>
                        <a:pt x="437" y="154"/>
                      </a:lnTo>
                      <a:lnTo>
                        <a:pt x="401" y="168"/>
                      </a:lnTo>
                      <a:lnTo>
                        <a:pt x="367" y="181"/>
                      </a:lnTo>
                      <a:lnTo>
                        <a:pt x="332" y="196"/>
                      </a:lnTo>
                      <a:lnTo>
                        <a:pt x="297" y="211"/>
                      </a:lnTo>
                      <a:lnTo>
                        <a:pt x="263" y="227"/>
                      </a:lnTo>
                      <a:lnTo>
                        <a:pt x="228" y="244"/>
                      </a:lnTo>
                      <a:lnTo>
                        <a:pt x="195" y="261"/>
                      </a:lnTo>
                      <a:lnTo>
                        <a:pt x="161" y="278"/>
                      </a:lnTo>
                      <a:lnTo>
                        <a:pt x="129" y="295"/>
                      </a:lnTo>
                      <a:lnTo>
                        <a:pt x="96" y="314"/>
                      </a:lnTo>
                      <a:lnTo>
                        <a:pt x="63" y="332"/>
                      </a:lnTo>
                      <a:lnTo>
                        <a:pt x="31" y="352"/>
                      </a:lnTo>
                      <a:lnTo>
                        <a:pt x="0" y="371"/>
                      </a:lnTo>
                      <a:lnTo>
                        <a:pt x="29" y="355"/>
                      </a:lnTo>
                      <a:lnTo>
                        <a:pt x="59" y="340"/>
                      </a:lnTo>
                      <a:lnTo>
                        <a:pt x="88" y="325"/>
                      </a:lnTo>
                      <a:lnTo>
                        <a:pt x="118" y="310"/>
                      </a:lnTo>
                      <a:lnTo>
                        <a:pt x="148" y="295"/>
                      </a:lnTo>
                      <a:lnTo>
                        <a:pt x="179" y="282"/>
                      </a:lnTo>
                      <a:lnTo>
                        <a:pt x="209" y="268"/>
                      </a:lnTo>
                      <a:lnTo>
                        <a:pt x="240" y="255"/>
                      </a:lnTo>
                      <a:lnTo>
                        <a:pt x="271" y="241"/>
                      </a:lnTo>
                      <a:lnTo>
                        <a:pt x="302" y="230"/>
                      </a:lnTo>
                      <a:lnTo>
                        <a:pt x="333" y="217"/>
                      </a:lnTo>
                      <a:lnTo>
                        <a:pt x="364" y="206"/>
                      </a:lnTo>
                      <a:lnTo>
                        <a:pt x="397" y="194"/>
                      </a:lnTo>
                      <a:lnTo>
                        <a:pt x="429" y="184"/>
                      </a:lnTo>
                      <a:lnTo>
                        <a:pt x="460" y="173"/>
                      </a:lnTo>
                      <a:lnTo>
                        <a:pt x="492" y="164"/>
                      </a:lnTo>
                      <a:lnTo>
                        <a:pt x="524" y="154"/>
                      </a:lnTo>
                      <a:lnTo>
                        <a:pt x="557" y="146"/>
                      </a:lnTo>
                      <a:lnTo>
                        <a:pt x="590" y="136"/>
                      </a:lnTo>
                      <a:lnTo>
                        <a:pt x="622" y="128"/>
                      </a:lnTo>
                      <a:lnTo>
                        <a:pt x="655" y="121"/>
                      </a:lnTo>
                      <a:lnTo>
                        <a:pt x="688" y="115"/>
                      </a:lnTo>
                      <a:lnTo>
                        <a:pt x="720" y="108"/>
                      </a:lnTo>
                      <a:lnTo>
                        <a:pt x="754" y="102"/>
                      </a:lnTo>
                      <a:lnTo>
                        <a:pt x="786" y="96"/>
                      </a:lnTo>
                      <a:lnTo>
                        <a:pt x="819" y="90"/>
                      </a:lnTo>
                      <a:lnTo>
                        <a:pt x="853" y="86"/>
                      </a:lnTo>
                      <a:lnTo>
                        <a:pt x="885" y="82"/>
                      </a:lnTo>
                      <a:lnTo>
                        <a:pt x="919" y="79"/>
                      </a:lnTo>
                      <a:lnTo>
                        <a:pt x="952" y="75"/>
                      </a:lnTo>
                      <a:lnTo>
                        <a:pt x="984" y="73"/>
                      </a:lnTo>
                      <a:lnTo>
                        <a:pt x="1018" y="71"/>
                      </a:lnTo>
                      <a:lnTo>
                        <a:pt x="1050" y="70"/>
                      </a:lnTo>
                      <a:lnTo>
                        <a:pt x="1081" y="68"/>
                      </a:lnTo>
                      <a:lnTo>
                        <a:pt x="1113" y="68"/>
                      </a:lnTo>
                      <a:lnTo>
                        <a:pt x="1144" y="68"/>
                      </a:lnTo>
                      <a:lnTo>
                        <a:pt x="1174" y="70"/>
                      </a:lnTo>
                      <a:lnTo>
                        <a:pt x="1205" y="71"/>
                      </a:lnTo>
                      <a:lnTo>
                        <a:pt x="1235" y="72"/>
                      </a:lnTo>
                      <a:lnTo>
                        <a:pt x="1264" y="74"/>
                      </a:lnTo>
                      <a:lnTo>
                        <a:pt x="1294" y="76"/>
                      </a:lnTo>
                      <a:lnTo>
                        <a:pt x="1323" y="80"/>
                      </a:lnTo>
                      <a:lnTo>
                        <a:pt x="1352" y="83"/>
                      </a:lnTo>
                      <a:lnTo>
                        <a:pt x="1379" y="88"/>
                      </a:lnTo>
                      <a:lnTo>
                        <a:pt x="1407" y="93"/>
                      </a:lnTo>
                      <a:lnTo>
                        <a:pt x="1435" y="97"/>
                      </a:lnTo>
                      <a:lnTo>
                        <a:pt x="1462" y="103"/>
                      </a:lnTo>
                      <a:lnTo>
                        <a:pt x="1489" y="109"/>
                      </a:lnTo>
                      <a:lnTo>
                        <a:pt x="1515" y="116"/>
                      </a:lnTo>
                      <a:lnTo>
                        <a:pt x="1541" y="123"/>
                      </a:lnTo>
                      <a:lnTo>
                        <a:pt x="1566" y="129"/>
                      </a:lnTo>
                      <a:lnTo>
                        <a:pt x="1591" y="138"/>
                      </a:lnTo>
                      <a:lnTo>
                        <a:pt x="1617" y="146"/>
                      </a:lnTo>
                      <a:lnTo>
                        <a:pt x="1641" y="155"/>
                      </a:lnTo>
                      <a:lnTo>
                        <a:pt x="1665" y="163"/>
                      </a:lnTo>
                      <a:lnTo>
                        <a:pt x="1688" y="173"/>
                      </a:lnTo>
                      <a:lnTo>
                        <a:pt x="1711" y="182"/>
                      </a:lnTo>
                      <a:lnTo>
                        <a:pt x="1733" y="193"/>
                      </a:lnTo>
                      <a:lnTo>
                        <a:pt x="1756" y="203"/>
                      </a:lnTo>
                      <a:lnTo>
                        <a:pt x="1778" y="215"/>
                      </a:lnTo>
                      <a:lnTo>
                        <a:pt x="1799" y="226"/>
                      </a:lnTo>
                      <a:lnTo>
                        <a:pt x="1820" y="238"/>
                      </a:lnTo>
                      <a:lnTo>
                        <a:pt x="1840" y="250"/>
                      </a:lnTo>
                      <a:lnTo>
                        <a:pt x="1860" y="263"/>
                      </a:lnTo>
                      <a:lnTo>
                        <a:pt x="1824" y="244"/>
                      </a:lnTo>
                      <a:lnTo>
                        <a:pt x="1787" y="225"/>
                      </a:lnTo>
                      <a:lnTo>
                        <a:pt x="1749" y="208"/>
                      </a:lnTo>
                      <a:lnTo>
                        <a:pt x="1711" y="192"/>
                      </a:lnTo>
                      <a:lnTo>
                        <a:pt x="1672" y="178"/>
                      </a:lnTo>
                      <a:lnTo>
                        <a:pt x="1632" y="165"/>
                      </a:lnTo>
                      <a:lnTo>
                        <a:pt x="1589" y="154"/>
                      </a:lnTo>
                      <a:lnTo>
                        <a:pt x="1547" y="144"/>
                      </a:lnTo>
                      <a:lnTo>
                        <a:pt x="1503" y="135"/>
                      </a:lnTo>
                      <a:lnTo>
                        <a:pt x="1458" y="129"/>
                      </a:lnTo>
                      <a:lnTo>
                        <a:pt x="1411" y="124"/>
                      </a:lnTo>
                      <a:lnTo>
                        <a:pt x="1363" y="120"/>
                      </a:lnTo>
                      <a:lnTo>
                        <a:pt x="1314" y="117"/>
                      </a:lnTo>
                      <a:lnTo>
                        <a:pt x="1262" y="117"/>
                      </a:lnTo>
                      <a:lnTo>
                        <a:pt x="1210" y="117"/>
                      </a:lnTo>
                      <a:lnTo>
                        <a:pt x="1156" y="119"/>
                      </a:lnTo>
                      <a:lnTo>
                        <a:pt x="1121" y="121"/>
                      </a:lnTo>
                      <a:lnTo>
                        <a:pt x="1087" y="124"/>
                      </a:lnTo>
                      <a:lnTo>
                        <a:pt x="1052" y="127"/>
                      </a:lnTo>
                      <a:lnTo>
                        <a:pt x="1018" y="131"/>
                      </a:lnTo>
                      <a:lnTo>
                        <a:pt x="983" y="135"/>
                      </a:lnTo>
                      <a:lnTo>
                        <a:pt x="948" y="141"/>
                      </a:lnTo>
                      <a:lnTo>
                        <a:pt x="915" y="147"/>
                      </a:lnTo>
                      <a:lnTo>
                        <a:pt x="880" y="153"/>
                      </a:lnTo>
                      <a:lnTo>
                        <a:pt x="846" y="159"/>
                      </a:lnTo>
                      <a:lnTo>
                        <a:pt x="813" y="168"/>
                      </a:lnTo>
                      <a:lnTo>
                        <a:pt x="778" y="176"/>
                      </a:lnTo>
                      <a:lnTo>
                        <a:pt x="745" y="184"/>
                      </a:lnTo>
                      <a:lnTo>
                        <a:pt x="710" y="193"/>
                      </a:lnTo>
                      <a:lnTo>
                        <a:pt x="677" y="202"/>
                      </a:lnTo>
                      <a:lnTo>
                        <a:pt x="643" y="212"/>
                      </a:lnTo>
                      <a:lnTo>
                        <a:pt x="611" y="224"/>
                      </a:lnTo>
                      <a:lnTo>
                        <a:pt x="577" y="234"/>
                      </a:lnTo>
                      <a:lnTo>
                        <a:pt x="544" y="247"/>
                      </a:lnTo>
                      <a:lnTo>
                        <a:pt x="512" y="259"/>
                      </a:lnTo>
                      <a:lnTo>
                        <a:pt x="479" y="271"/>
                      </a:lnTo>
                      <a:lnTo>
                        <a:pt x="447" y="285"/>
                      </a:lnTo>
                      <a:lnTo>
                        <a:pt x="415" y="299"/>
                      </a:lnTo>
                      <a:lnTo>
                        <a:pt x="383" y="313"/>
                      </a:lnTo>
                      <a:lnTo>
                        <a:pt x="352" y="328"/>
                      </a:lnTo>
                      <a:lnTo>
                        <a:pt x="320" y="343"/>
                      </a:lnTo>
                      <a:lnTo>
                        <a:pt x="289" y="358"/>
                      </a:lnTo>
                      <a:lnTo>
                        <a:pt x="258" y="374"/>
                      </a:lnTo>
                      <a:lnTo>
                        <a:pt x="228" y="390"/>
                      </a:lnTo>
                      <a:lnTo>
                        <a:pt x="198" y="407"/>
                      </a:lnTo>
                      <a:lnTo>
                        <a:pt x="168" y="424"/>
                      </a:lnTo>
                      <a:lnTo>
                        <a:pt x="138" y="442"/>
                      </a:lnTo>
                      <a:lnTo>
                        <a:pt x="110" y="460"/>
                      </a:lnTo>
                      <a:lnTo>
                        <a:pt x="136" y="445"/>
                      </a:lnTo>
                      <a:lnTo>
                        <a:pt x="164" y="431"/>
                      </a:lnTo>
                      <a:lnTo>
                        <a:pt x="190" y="418"/>
                      </a:lnTo>
                      <a:lnTo>
                        <a:pt x="218" y="405"/>
                      </a:lnTo>
                      <a:lnTo>
                        <a:pt x="246" y="391"/>
                      </a:lnTo>
                      <a:lnTo>
                        <a:pt x="273" y="378"/>
                      </a:lnTo>
                      <a:lnTo>
                        <a:pt x="301" y="367"/>
                      </a:lnTo>
                      <a:lnTo>
                        <a:pt x="329" y="354"/>
                      </a:lnTo>
                      <a:lnTo>
                        <a:pt x="357" y="343"/>
                      </a:lnTo>
                      <a:lnTo>
                        <a:pt x="386" y="331"/>
                      </a:lnTo>
                      <a:lnTo>
                        <a:pt x="415" y="321"/>
                      </a:lnTo>
                      <a:lnTo>
                        <a:pt x="444" y="310"/>
                      </a:lnTo>
                      <a:lnTo>
                        <a:pt x="473" y="300"/>
                      </a:lnTo>
                      <a:lnTo>
                        <a:pt x="501" y="290"/>
                      </a:lnTo>
                      <a:lnTo>
                        <a:pt x="530" y="280"/>
                      </a:lnTo>
                      <a:lnTo>
                        <a:pt x="560" y="271"/>
                      </a:lnTo>
                      <a:lnTo>
                        <a:pt x="589" y="263"/>
                      </a:lnTo>
                      <a:lnTo>
                        <a:pt x="619" y="255"/>
                      </a:lnTo>
                      <a:lnTo>
                        <a:pt x="648" y="247"/>
                      </a:lnTo>
                      <a:lnTo>
                        <a:pt x="678" y="240"/>
                      </a:lnTo>
                      <a:lnTo>
                        <a:pt x="708" y="233"/>
                      </a:lnTo>
                      <a:lnTo>
                        <a:pt x="738" y="226"/>
                      </a:lnTo>
                      <a:lnTo>
                        <a:pt x="768" y="221"/>
                      </a:lnTo>
                      <a:lnTo>
                        <a:pt x="798" y="215"/>
                      </a:lnTo>
                      <a:lnTo>
                        <a:pt x="827" y="210"/>
                      </a:lnTo>
                      <a:lnTo>
                        <a:pt x="857" y="206"/>
                      </a:lnTo>
                      <a:lnTo>
                        <a:pt x="887" y="201"/>
                      </a:lnTo>
                      <a:lnTo>
                        <a:pt x="917" y="197"/>
                      </a:lnTo>
                      <a:lnTo>
                        <a:pt x="948" y="194"/>
                      </a:lnTo>
                      <a:lnTo>
                        <a:pt x="978" y="192"/>
                      </a:lnTo>
                      <a:lnTo>
                        <a:pt x="1008" y="189"/>
                      </a:lnTo>
                      <a:lnTo>
                        <a:pt x="1038" y="187"/>
                      </a:lnTo>
                      <a:lnTo>
                        <a:pt x="1069" y="186"/>
                      </a:lnTo>
                      <a:lnTo>
                        <a:pt x="1101" y="185"/>
                      </a:lnTo>
                      <a:lnTo>
                        <a:pt x="1131" y="185"/>
                      </a:lnTo>
                      <a:lnTo>
                        <a:pt x="1161" y="185"/>
                      </a:lnTo>
                      <a:lnTo>
                        <a:pt x="1190" y="185"/>
                      </a:lnTo>
                      <a:lnTo>
                        <a:pt x="1219" y="186"/>
                      </a:lnTo>
                      <a:lnTo>
                        <a:pt x="1248" y="188"/>
                      </a:lnTo>
                      <a:lnTo>
                        <a:pt x="1276" y="191"/>
                      </a:lnTo>
                      <a:lnTo>
                        <a:pt x="1303" y="193"/>
                      </a:lnTo>
                      <a:lnTo>
                        <a:pt x="1331" y="196"/>
                      </a:lnTo>
                      <a:lnTo>
                        <a:pt x="1358" y="200"/>
                      </a:lnTo>
                      <a:lnTo>
                        <a:pt x="1384" y="204"/>
                      </a:lnTo>
                      <a:lnTo>
                        <a:pt x="1409" y="209"/>
                      </a:lnTo>
                      <a:lnTo>
                        <a:pt x="1435" y="214"/>
                      </a:lnTo>
                      <a:lnTo>
                        <a:pt x="1460" y="219"/>
                      </a:lnTo>
                      <a:lnTo>
                        <a:pt x="1484" y="225"/>
                      </a:lnTo>
                      <a:lnTo>
                        <a:pt x="1509" y="232"/>
                      </a:lnTo>
                      <a:lnTo>
                        <a:pt x="1532" y="239"/>
                      </a:lnTo>
                      <a:lnTo>
                        <a:pt x="1556" y="246"/>
                      </a:lnTo>
                      <a:lnTo>
                        <a:pt x="1579" y="254"/>
                      </a:lnTo>
                      <a:lnTo>
                        <a:pt x="1601" y="262"/>
                      </a:lnTo>
                      <a:lnTo>
                        <a:pt x="1623" y="271"/>
                      </a:lnTo>
                      <a:lnTo>
                        <a:pt x="1644" y="280"/>
                      </a:lnTo>
                      <a:lnTo>
                        <a:pt x="1666" y="290"/>
                      </a:lnTo>
                      <a:lnTo>
                        <a:pt x="1687" y="300"/>
                      </a:lnTo>
                      <a:lnTo>
                        <a:pt x="1708" y="312"/>
                      </a:lnTo>
                      <a:lnTo>
                        <a:pt x="1727" y="322"/>
                      </a:lnTo>
                      <a:lnTo>
                        <a:pt x="1747" y="333"/>
                      </a:lnTo>
                      <a:lnTo>
                        <a:pt x="1767" y="346"/>
                      </a:lnTo>
                      <a:lnTo>
                        <a:pt x="1786" y="358"/>
                      </a:lnTo>
                      <a:lnTo>
                        <a:pt x="1805" y="370"/>
                      </a:lnTo>
                      <a:lnTo>
                        <a:pt x="1823" y="384"/>
                      </a:lnTo>
                      <a:lnTo>
                        <a:pt x="1791" y="363"/>
                      </a:lnTo>
                      <a:lnTo>
                        <a:pt x="1756" y="345"/>
                      </a:lnTo>
                      <a:lnTo>
                        <a:pt x="1721" y="328"/>
                      </a:lnTo>
                      <a:lnTo>
                        <a:pt x="1683" y="312"/>
                      </a:lnTo>
                      <a:lnTo>
                        <a:pt x="1644" y="297"/>
                      </a:lnTo>
                      <a:lnTo>
                        <a:pt x="1604" y="283"/>
                      </a:lnTo>
                      <a:lnTo>
                        <a:pt x="1562" y="271"/>
                      </a:lnTo>
                      <a:lnTo>
                        <a:pt x="1519" y="261"/>
                      </a:lnTo>
                      <a:lnTo>
                        <a:pt x="1475" y="252"/>
                      </a:lnTo>
                      <a:lnTo>
                        <a:pt x="1429" y="245"/>
                      </a:lnTo>
                      <a:lnTo>
                        <a:pt x="1382" y="239"/>
                      </a:lnTo>
                      <a:lnTo>
                        <a:pt x="1333" y="235"/>
                      </a:lnTo>
                      <a:lnTo>
                        <a:pt x="1285" y="233"/>
                      </a:lnTo>
                      <a:lnTo>
                        <a:pt x="1234" y="233"/>
                      </a:lnTo>
                      <a:lnTo>
                        <a:pt x="1182" y="234"/>
                      </a:lnTo>
                      <a:lnTo>
                        <a:pt x="1129" y="238"/>
                      </a:lnTo>
                      <a:lnTo>
                        <a:pt x="1099" y="240"/>
                      </a:lnTo>
                      <a:lnTo>
                        <a:pt x="1068" y="244"/>
                      </a:lnTo>
                      <a:lnTo>
                        <a:pt x="1038" y="247"/>
                      </a:lnTo>
                      <a:lnTo>
                        <a:pt x="1008" y="250"/>
                      </a:lnTo>
                      <a:lnTo>
                        <a:pt x="977" y="255"/>
                      </a:lnTo>
                      <a:lnTo>
                        <a:pt x="947" y="261"/>
                      </a:lnTo>
                      <a:lnTo>
                        <a:pt x="917" y="267"/>
                      </a:lnTo>
                      <a:lnTo>
                        <a:pt x="887" y="272"/>
                      </a:lnTo>
                      <a:lnTo>
                        <a:pt x="857" y="279"/>
                      </a:lnTo>
                      <a:lnTo>
                        <a:pt x="826" y="286"/>
                      </a:lnTo>
                      <a:lnTo>
                        <a:pt x="798" y="294"/>
                      </a:lnTo>
                      <a:lnTo>
                        <a:pt x="768" y="302"/>
                      </a:lnTo>
                      <a:lnTo>
                        <a:pt x="738" y="312"/>
                      </a:lnTo>
                      <a:lnTo>
                        <a:pt x="708" y="321"/>
                      </a:lnTo>
                      <a:lnTo>
                        <a:pt x="679" y="330"/>
                      </a:lnTo>
                      <a:lnTo>
                        <a:pt x="649" y="340"/>
                      </a:lnTo>
                      <a:lnTo>
                        <a:pt x="620" y="351"/>
                      </a:lnTo>
                      <a:lnTo>
                        <a:pt x="591" y="361"/>
                      </a:lnTo>
                      <a:lnTo>
                        <a:pt x="562" y="373"/>
                      </a:lnTo>
                      <a:lnTo>
                        <a:pt x="534" y="384"/>
                      </a:lnTo>
                      <a:lnTo>
                        <a:pt x="505" y="397"/>
                      </a:lnTo>
                      <a:lnTo>
                        <a:pt x="477" y="409"/>
                      </a:lnTo>
                      <a:lnTo>
                        <a:pt x="448" y="422"/>
                      </a:lnTo>
                      <a:lnTo>
                        <a:pt x="421" y="436"/>
                      </a:lnTo>
                      <a:lnTo>
                        <a:pt x="393" y="450"/>
                      </a:lnTo>
                      <a:lnTo>
                        <a:pt x="365" y="464"/>
                      </a:lnTo>
                      <a:lnTo>
                        <a:pt x="339" y="479"/>
                      </a:lnTo>
                      <a:lnTo>
                        <a:pt x="312" y="494"/>
                      </a:lnTo>
                      <a:lnTo>
                        <a:pt x="286" y="509"/>
                      </a:lnTo>
                      <a:lnTo>
                        <a:pt x="259" y="525"/>
                      </a:lnTo>
                      <a:lnTo>
                        <a:pt x="233" y="541"/>
                      </a:lnTo>
                      <a:lnTo>
                        <a:pt x="208" y="557"/>
                      </a:lnTo>
                      <a:lnTo>
                        <a:pt x="231" y="544"/>
                      </a:lnTo>
                      <a:lnTo>
                        <a:pt x="254" y="532"/>
                      </a:lnTo>
                      <a:lnTo>
                        <a:pt x="278" y="520"/>
                      </a:lnTo>
                      <a:lnTo>
                        <a:pt x="301" y="507"/>
                      </a:lnTo>
                      <a:lnTo>
                        <a:pt x="325" y="496"/>
                      </a:lnTo>
                      <a:lnTo>
                        <a:pt x="349" y="484"/>
                      </a:lnTo>
                      <a:lnTo>
                        <a:pt x="373" y="474"/>
                      </a:lnTo>
                      <a:lnTo>
                        <a:pt x="398" y="464"/>
                      </a:lnTo>
                      <a:lnTo>
                        <a:pt x="422" y="453"/>
                      </a:lnTo>
                      <a:lnTo>
                        <a:pt x="447" y="443"/>
                      </a:lnTo>
                      <a:lnTo>
                        <a:pt x="471" y="432"/>
                      </a:lnTo>
                      <a:lnTo>
                        <a:pt x="497" y="423"/>
                      </a:lnTo>
                      <a:lnTo>
                        <a:pt x="521" y="414"/>
                      </a:lnTo>
                      <a:lnTo>
                        <a:pt x="546" y="406"/>
                      </a:lnTo>
                      <a:lnTo>
                        <a:pt x="572" y="397"/>
                      </a:lnTo>
                      <a:lnTo>
                        <a:pt x="597" y="389"/>
                      </a:lnTo>
                      <a:lnTo>
                        <a:pt x="622" y="381"/>
                      </a:lnTo>
                      <a:lnTo>
                        <a:pt x="649" y="374"/>
                      </a:lnTo>
                      <a:lnTo>
                        <a:pt x="674" y="367"/>
                      </a:lnTo>
                      <a:lnTo>
                        <a:pt x="700" y="360"/>
                      </a:lnTo>
                      <a:lnTo>
                        <a:pt x="726" y="353"/>
                      </a:lnTo>
                      <a:lnTo>
                        <a:pt x="751" y="347"/>
                      </a:lnTo>
                      <a:lnTo>
                        <a:pt x="778" y="341"/>
                      </a:lnTo>
                      <a:lnTo>
                        <a:pt x="803" y="337"/>
                      </a:lnTo>
                      <a:lnTo>
                        <a:pt x="830" y="331"/>
                      </a:lnTo>
                      <a:lnTo>
                        <a:pt x="856" y="327"/>
                      </a:lnTo>
                      <a:lnTo>
                        <a:pt x="882" y="323"/>
                      </a:lnTo>
                      <a:lnTo>
                        <a:pt x="908" y="320"/>
                      </a:lnTo>
                      <a:lnTo>
                        <a:pt x="935" y="316"/>
                      </a:lnTo>
                      <a:lnTo>
                        <a:pt x="960" y="313"/>
                      </a:lnTo>
                      <a:lnTo>
                        <a:pt x="987" y="310"/>
                      </a:lnTo>
                      <a:lnTo>
                        <a:pt x="1013" y="308"/>
                      </a:lnTo>
                      <a:lnTo>
                        <a:pt x="1066" y="305"/>
                      </a:lnTo>
                      <a:lnTo>
                        <a:pt x="1119" y="303"/>
                      </a:lnTo>
                      <a:lnTo>
                        <a:pt x="1170" y="305"/>
                      </a:lnTo>
                      <a:lnTo>
                        <a:pt x="1220" y="307"/>
                      </a:lnTo>
                      <a:lnTo>
                        <a:pt x="1269" y="312"/>
                      </a:lnTo>
                      <a:lnTo>
                        <a:pt x="1317" y="317"/>
                      </a:lnTo>
                      <a:lnTo>
                        <a:pt x="1363" y="324"/>
                      </a:lnTo>
                      <a:lnTo>
                        <a:pt x="1408" y="333"/>
                      </a:lnTo>
                      <a:lnTo>
                        <a:pt x="1452" y="345"/>
                      </a:lnTo>
                      <a:lnTo>
                        <a:pt x="1494" y="356"/>
                      </a:lnTo>
                      <a:lnTo>
                        <a:pt x="1535" y="370"/>
                      </a:lnTo>
                      <a:lnTo>
                        <a:pt x="1574" y="385"/>
                      </a:lnTo>
                      <a:lnTo>
                        <a:pt x="1611" y="403"/>
                      </a:lnTo>
                      <a:lnTo>
                        <a:pt x="1648" y="421"/>
                      </a:lnTo>
                      <a:lnTo>
                        <a:pt x="1683" y="441"/>
                      </a:lnTo>
                      <a:lnTo>
                        <a:pt x="1715" y="461"/>
                      </a:lnTo>
                      <a:lnTo>
                        <a:pt x="1686" y="445"/>
                      </a:lnTo>
                      <a:lnTo>
                        <a:pt x="1657" y="430"/>
                      </a:lnTo>
                      <a:lnTo>
                        <a:pt x="1626" y="416"/>
                      </a:lnTo>
                      <a:lnTo>
                        <a:pt x="1594" y="404"/>
                      </a:lnTo>
                      <a:lnTo>
                        <a:pt x="1560" y="393"/>
                      </a:lnTo>
                      <a:lnTo>
                        <a:pt x="1526" y="383"/>
                      </a:lnTo>
                      <a:lnTo>
                        <a:pt x="1490" y="374"/>
                      </a:lnTo>
                      <a:lnTo>
                        <a:pt x="1453" y="367"/>
                      </a:lnTo>
                      <a:lnTo>
                        <a:pt x="1415" y="360"/>
                      </a:lnTo>
                      <a:lnTo>
                        <a:pt x="1376" y="355"/>
                      </a:lnTo>
                      <a:lnTo>
                        <a:pt x="1336" y="352"/>
                      </a:lnTo>
                      <a:lnTo>
                        <a:pt x="1294" y="351"/>
                      </a:lnTo>
                      <a:lnTo>
                        <a:pt x="1253" y="350"/>
                      </a:lnTo>
                      <a:lnTo>
                        <a:pt x="1209" y="351"/>
                      </a:lnTo>
                      <a:lnTo>
                        <a:pt x="1165" y="353"/>
                      </a:lnTo>
                      <a:lnTo>
                        <a:pt x="1120" y="356"/>
                      </a:lnTo>
                      <a:lnTo>
                        <a:pt x="1094" y="359"/>
                      </a:lnTo>
                      <a:lnTo>
                        <a:pt x="1066" y="362"/>
                      </a:lnTo>
                      <a:lnTo>
                        <a:pt x="1040" y="367"/>
                      </a:lnTo>
                      <a:lnTo>
                        <a:pt x="1013" y="370"/>
                      </a:lnTo>
                      <a:lnTo>
                        <a:pt x="987" y="375"/>
                      </a:lnTo>
                      <a:lnTo>
                        <a:pt x="960" y="381"/>
                      </a:lnTo>
                      <a:lnTo>
                        <a:pt x="934" y="386"/>
                      </a:lnTo>
                      <a:lnTo>
                        <a:pt x="907" y="392"/>
                      </a:lnTo>
                      <a:lnTo>
                        <a:pt x="879" y="399"/>
                      </a:lnTo>
                      <a:lnTo>
                        <a:pt x="854" y="406"/>
                      </a:lnTo>
                      <a:lnTo>
                        <a:pt x="827" y="413"/>
                      </a:lnTo>
                      <a:lnTo>
                        <a:pt x="801" y="421"/>
                      </a:lnTo>
                      <a:lnTo>
                        <a:pt x="774" y="429"/>
                      </a:lnTo>
                      <a:lnTo>
                        <a:pt x="749" y="438"/>
                      </a:lnTo>
                      <a:lnTo>
                        <a:pt x="723" y="447"/>
                      </a:lnTo>
                      <a:lnTo>
                        <a:pt x="697" y="457"/>
                      </a:lnTo>
                      <a:lnTo>
                        <a:pt x="672" y="466"/>
                      </a:lnTo>
                      <a:lnTo>
                        <a:pt x="645" y="476"/>
                      </a:lnTo>
                      <a:lnTo>
                        <a:pt x="620" y="487"/>
                      </a:lnTo>
                      <a:lnTo>
                        <a:pt x="596" y="498"/>
                      </a:lnTo>
                      <a:lnTo>
                        <a:pt x="571" y="510"/>
                      </a:lnTo>
                      <a:lnTo>
                        <a:pt x="545" y="521"/>
                      </a:lnTo>
                      <a:lnTo>
                        <a:pt x="521" y="533"/>
                      </a:lnTo>
                      <a:lnTo>
                        <a:pt x="497" y="545"/>
                      </a:lnTo>
                      <a:lnTo>
                        <a:pt x="473" y="558"/>
                      </a:lnTo>
                      <a:lnTo>
                        <a:pt x="448" y="571"/>
                      </a:lnTo>
                      <a:lnTo>
                        <a:pt x="425" y="585"/>
                      </a:lnTo>
                      <a:lnTo>
                        <a:pt x="401" y="598"/>
                      </a:lnTo>
                      <a:lnTo>
                        <a:pt x="378" y="612"/>
                      </a:lnTo>
                      <a:lnTo>
                        <a:pt x="355" y="626"/>
                      </a:lnTo>
                      <a:lnTo>
                        <a:pt x="332" y="641"/>
                      </a:lnTo>
                      <a:lnTo>
                        <a:pt x="310" y="656"/>
                      </a:lnTo>
                      <a:lnTo>
                        <a:pt x="350" y="634"/>
                      </a:lnTo>
                      <a:lnTo>
                        <a:pt x="391" y="613"/>
                      </a:lnTo>
                      <a:lnTo>
                        <a:pt x="432" y="593"/>
                      </a:lnTo>
                      <a:lnTo>
                        <a:pt x="474" y="573"/>
                      </a:lnTo>
                      <a:lnTo>
                        <a:pt x="516" y="555"/>
                      </a:lnTo>
                      <a:lnTo>
                        <a:pt x="559" y="538"/>
                      </a:lnTo>
                      <a:lnTo>
                        <a:pt x="603" y="522"/>
                      </a:lnTo>
                      <a:lnTo>
                        <a:pt x="647" y="506"/>
                      </a:lnTo>
                      <a:lnTo>
                        <a:pt x="690" y="492"/>
                      </a:lnTo>
                      <a:lnTo>
                        <a:pt x="734" y="480"/>
                      </a:lnTo>
                      <a:lnTo>
                        <a:pt x="779" y="468"/>
                      </a:lnTo>
                      <a:lnTo>
                        <a:pt x="823" y="458"/>
                      </a:lnTo>
                      <a:lnTo>
                        <a:pt x="868" y="450"/>
                      </a:lnTo>
                      <a:lnTo>
                        <a:pt x="913" y="442"/>
                      </a:lnTo>
                      <a:lnTo>
                        <a:pt x="958" y="435"/>
                      </a:lnTo>
                      <a:lnTo>
                        <a:pt x="1003" y="430"/>
                      </a:lnTo>
                      <a:lnTo>
                        <a:pt x="1064" y="426"/>
                      </a:lnTo>
                      <a:lnTo>
                        <a:pt x="1124" y="423"/>
                      </a:lnTo>
                      <a:lnTo>
                        <a:pt x="1181" y="424"/>
                      </a:lnTo>
                      <a:lnTo>
                        <a:pt x="1237" y="428"/>
                      </a:lnTo>
                      <a:lnTo>
                        <a:pt x="1291" y="434"/>
                      </a:lnTo>
                      <a:lnTo>
                        <a:pt x="1341" y="442"/>
                      </a:lnTo>
                      <a:lnTo>
                        <a:pt x="1390" y="453"/>
                      </a:lnTo>
                      <a:lnTo>
                        <a:pt x="1436" y="466"/>
                      </a:lnTo>
                      <a:lnTo>
                        <a:pt x="1480" y="482"/>
                      </a:lnTo>
                      <a:lnTo>
                        <a:pt x="1521" y="499"/>
                      </a:lnTo>
                      <a:lnTo>
                        <a:pt x="1559" y="520"/>
                      </a:lnTo>
                      <a:lnTo>
                        <a:pt x="1594" y="542"/>
                      </a:lnTo>
                      <a:lnTo>
                        <a:pt x="1626" y="566"/>
                      </a:lnTo>
                      <a:lnTo>
                        <a:pt x="1655" y="593"/>
                      </a:lnTo>
                      <a:lnTo>
                        <a:pt x="1681" y="621"/>
                      </a:lnTo>
                      <a:lnTo>
                        <a:pt x="1703" y="651"/>
                      </a:lnTo>
                      <a:lnTo>
                        <a:pt x="2095" y="286"/>
                      </a:lnTo>
                      <a:lnTo>
                        <a:pt x="2074" y="268"/>
                      </a:lnTo>
                      <a:lnTo>
                        <a:pt x="2054" y="250"/>
                      </a:lnTo>
                      <a:lnTo>
                        <a:pt x="2032" y="233"/>
                      </a:lnTo>
                      <a:lnTo>
                        <a:pt x="2010" y="217"/>
                      </a:lnTo>
                      <a:lnTo>
                        <a:pt x="1987" y="201"/>
                      </a:lnTo>
                      <a:lnTo>
                        <a:pt x="1963" y="186"/>
                      </a:lnTo>
                      <a:lnTo>
                        <a:pt x="1938" y="171"/>
                      </a:lnTo>
                      <a:lnTo>
                        <a:pt x="1913" y="156"/>
                      </a:lnTo>
                      <a:lnTo>
                        <a:pt x="1888" y="142"/>
                      </a:lnTo>
                      <a:lnTo>
                        <a:pt x="1861" y="129"/>
                      </a:lnTo>
                      <a:lnTo>
                        <a:pt x="1835" y="117"/>
                      </a:lnTo>
                      <a:lnTo>
                        <a:pt x="1807" y="104"/>
                      </a:lnTo>
                      <a:lnTo>
                        <a:pt x="1778" y="94"/>
                      </a:lnTo>
                      <a:lnTo>
                        <a:pt x="1749" y="82"/>
                      </a:lnTo>
                      <a:lnTo>
                        <a:pt x="1719" y="72"/>
                      </a:lnTo>
                      <a:lnTo>
                        <a:pt x="1689" y="63"/>
                      </a:lnTo>
                      <a:lnTo>
                        <a:pt x="1659" y="53"/>
                      </a:lnTo>
                      <a:lnTo>
                        <a:pt x="1628" y="45"/>
                      </a:lnTo>
                      <a:lnTo>
                        <a:pt x="1596" y="38"/>
                      </a:lnTo>
                      <a:lnTo>
                        <a:pt x="1564" y="32"/>
                      </a:lnTo>
                      <a:lnTo>
                        <a:pt x="1530" y="25"/>
                      </a:lnTo>
                      <a:lnTo>
                        <a:pt x="1497" y="19"/>
                      </a:lnTo>
                      <a:lnTo>
                        <a:pt x="1464" y="14"/>
                      </a:lnTo>
                      <a:lnTo>
                        <a:pt x="1429" y="11"/>
                      </a:lnTo>
                      <a:lnTo>
                        <a:pt x="1394" y="6"/>
                      </a:lnTo>
                      <a:lnTo>
                        <a:pt x="1359" y="4"/>
                      </a:lnTo>
                      <a:lnTo>
                        <a:pt x="1322" y="2"/>
                      </a:lnTo>
                      <a:lnTo>
                        <a:pt x="1286" y="0"/>
                      </a:lnTo>
                      <a:lnTo>
                        <a:pt x="1249" y="0"/>
                      </a:lnTo>
                      <a:lnTo>
                        <a:pt x="1211" y="0"/>
                      </a:lnTo>
                      <a:lnTo>
                        <a:pt x="1173" y="2"/>
                      </a:lnTo>
                      <a:lnTo>
                        <a:pt x="1135" y="3"/>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7" name="BL00533_" descr=""/>
              <p:cNvPicPr/>
              <p:nvPr/>
            </p:nvPicPr>
            <p:blipFill>
              <a:blip r:embed="rId2"/>
              <a:stretch/>
            </p:blipFill>
            <p:spPr>
              <a:xfrm>
                <a:off x="4626360" y="1774440"/>
                <a:ext cx="1079640" cy="1409400"/>
              </a:xfrm>
              <a:prstGeom prst="rect">
                <a:avLst/>
              </a:prstGeom>
              <a:ln w="0">
                <a:noFill/>
              </a:ln>
            </p:spPr>
          </p:pic>
        </p:grpSp>
        <p:grpSp>
          <p:nvGrpSpPr>
            <p:cNvPr id="128" name=""/>
            <p:cNvGrpSpPr/>
            <p:nvPr/>
          </p:nvGrpSpPr>
          <p:grpSpPr>
            <a:xfrm>
              <a:off x="6858000" y="3592440"/>
              <a:ext cx="2133360" cy="2122560"/>
              <a:chOff x="6858000" y="3592440"/>
              <a:chExt cx="2133360" cy="2122560"/>
            </a:xfrm>
          </p:grpSpPr>
          <p:grpSp>
            <p:nvGrpSpPr>
              <p:cNvPr id="129" name=""/>
              <p:cNvGrpSpPr/>
              <p:nvPr/>
            </p:nvGrpSpPr>
            <p:grpSpPr>
              <a:xfrm>
                <a:off x="6858000" y="3592440"/>
                <a:ext cx="2133360" cy="2122560"/>
                <a:chOff x="6858000" y="3592440"/>
                <a:chExt cx="2133360" cy="2122560"/>
              </a:xfrm>
            </p:grpSpPr>
            <p:sp>
              <p:nvSpPr>
                <p:cNvPr id="130" name=""/>
                <p:cNvSpPr/>
                <p:nvPr/>
              </p:nvSpPr>
              <p:spPr>
                <a:xfrm>
                  <a:off x="6858000" y="3592440"/>
                  <a:ext cx="2133360" cy="1545480"/>
                </a:xfrm>
                <a:custGeom>
                  <a:avLst/>
                  <a:gdLst/>
                  <a:ahLst/>
                  <a:rect l="l" t="t" r="r" b="b"/>
                  <a:pathLst>
                    <a:path w="2292" h="1660">
                      <a:moveTo>
                        <a:pt x="1791" y="1660"/>
                      </a:moveTo>
                      <a:lnTo>
                        <a:pt x="2292" y="1175"/>
                      </a:lnTo>
                      <a:lnTo>
                        <a:pt x="1119" y="0"/>
                      </a:lnTo>
                      <a:lnTo>
                        <a:pt x="0" y="1235"/>
                      </a:lnTo>
                      <a:lnTo>
                        <a:pt x="408" y="1651"/>
                      </a:lnTo>
                      <a:lnTo>
                        <a:pt x="452" y="1639"/>
                      </a:lnTo>
                      <a:lnTo>
                        <a:pt x="494" y="1628"/>
                      </a:lnTo>
                      <a:lnTo>
                        <a:pt x="538" y="1618"/>
                      </a:lnTo>
                      <a:lnTo>
                        <a:pt x="582" y="1608"/>
                      </a:lnTo>
                      <a:lnTo>
                        <a:pt x="627" y="1599"/>
                      </a:lnTo>
                      <a:lnTo>
                        <a:pt x="671" y="1591"/>
                      </a:lnTo>
                      <a:lnTo>
                        <a:pt x="714" y="1583"/>
                      </a:lnTo>
                      <a:lnTo>
                        <a:pt x="759" y="1576"/>
                      </a:lnTo>
                      <a:lnTo>
                        <a:pt x="803" y="1570"/>
                      </a:lnTo>
                      <a:lnTo>
                        <a:pt x="848" y="1565"/>
                      </a:lnTo>
                      <a:lnTo>
                        <a:pt x="893" y="1560"/>
                      </a:lnTo>
                      <a:lnTo>
                        <a:pt x="938" y="1556"/>
                      </a:lnTo>
                      <a:lnTo>
                        <a:pt x="983" y="1553"/>
                      </a:lnTo>
                      <a:lnTo>
                        <a:pt x="1027" y="1551"/>
                      </a:lnTo>
                      <a:lnTo>
                        <a:pt x="1072" y="1550"/>
                      </a:lnTo>
                      <a:lnTo>
                        <a:pt x="1117" y="1550"/>
                      </a:lnTo>
                      <a:lnTo>
                        <a:pt x="1164" y="1550"/>
                      </a:lnTo>
                      <a:lnTo>
                        <a:pt x="1210" y="1551"/>
                      </a:lnTo>
                      <a:lnTo>
                        <a:pt x="1256" y="1553"/>
                      </a:lnTo>
                      <a:lnTo>
                        <a:pt x="1301" y="1556"/>
                      </a:lnTo>
                      <a:lnTo>
                        <a:pt x="1346" y="1560"/>
                      </a:lnTo>
                      <a:lnTo>
                        <a:pt x="1390" y="1565"/>
                      </a:lnTo>
                      <a:lnTo>
                        <a:pt x="1434" y="1570"/>
                      </a:lnTo>
                      <a:lnTo>
                        <a:pt x="1476" y="1577"/>
                      </a:lnTo>
                      <a:lnTo>
                        <a:pt x="1518" y="1584"/>
                      </a:lnTo>
                      <a:lnTo>
                        <a:pt x="1559" y="1593"/>
                      </a:lnTo>
                      <a:lnTo>
                        <a:pt x="1599" y="1603"/>
                      </a:lnTo>
                      <a:lnTo>
                        <a:pt x="1640" y="1612"/>
                      </a:lnTo>
                      <a:lnTo>
                        <a:pt x="1678" y="1623"/>
                      </a:lnTo>
                      <a:lnTo>
                        <a:pt x="1717" y="1635"/>
                      </a:lnTo>
                      <a:lnTo>
                        <a:pt x="1754" y="1647"/>
                      </a:lnTo>
                      <a:lnTo>
                        <a:pt x="1791" y="1660"/>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7160" y="5104080"/>
                  <a:ext cx="1949400" cy="610920"/>
                </a:xfrm>
                <a:custGeom>
                  <a:avLst/>
                  <a:gdLst/>
                  <a:ahLst/>
                  <a:rect l="l" t="t" r="r" b="b"/>
                  <a:pathLst>
                    <a:path w="2095" h="656">
                      <a:moveTo>
                        <a:pt x="1135" y="3"/>
                      </a:moveTo>
                      <a:lnTo>
                        <a:pt x="1097" y="5"/>
                      </a:lnTo>
                      <a:lnTo>
                        <a:pt x="1060" y="7"/>
                      </a:lnTo>
                      <a:lnTo>
                        <a:pt x="1022" y="11"/>
                      </a:lnTo>
                      <a:lnTo>
                        <a:pt x="985" y="15"/>
                      </a:lnTo>
                      <a:lnTo>
                        <a:pt x="948" y="20"/>
                      </a:lnTo>
                      <a:lnTo>
                        <a:pt x="910" y="26"/>
                      </a:lnTo>
                      <a:lnTo>
                        <a:pt x="874" y="33"/>
                      </a:lnTo>
                      <a:lnTo>
                        <a:pt x="837" y="38"/>
                      </a:lnTo>
                      <a:lnTo>
                        <a:pt x="799" y="47"/>
                      </a:lnTo>
                      <a:lnTo>
                        <a:pt x="762" y="55"/>
                      </a:lnTo>
                      <a:lnTo>
                        <a:pt x="725" y="63"/>
                      </a:lnTo>
                      <a:lnTo>
                        <a:pt x="689" y="72"/>
                      </a:lnTo>
                      <a:lnTo>
                        <a:pt x="652" y="82"/>
                      </a:lnTo>
                      <a:lnTo>
                        <a:pt x="615" y="93"/>
                      </a:lnTo>
                      <a:lnTo>
                        <a:pt x="580" y="104"/>
                      </a:lnTo>
                      <a:lnTo>
                        <a:pt x="544" y="116"/>
                      </a:lnTo>
                      <a:lnTo>
                        <a:pt x="507" y="127"/>
                      </a:lnTo>
                      <a:lnTo>
                        <a:pt x="471" y="140"/>
                      </a:lnTo>
                      <a:lnTo>
                        <a:pt x="437" y="154"/>
                      </a:lnTo>
                      <a:lnTo>
                        <a:pt x="401" y="168"/>
                      </a:lnTo>
                      <a:lnTo>
                        <a:pt x="367" y="181"/>
                      </a:lnTo>
                      <a:lnTo>
                        <a:pt x="332" y="196"/>
                      </a:lnTo>
                      <a:lnTo>
                        <a:pt x="297" y="211"/>
                      </a:lnTo>
                      <a:lnTo>
                        <a:pt x="263" y="227"/>
                      </a:lnTo>
                      <a:lnTo>
                        <a:pt x="228" y="244"/>
                      </a:lnTo>
                      <a:lnTo>
                        <a:pt x="195" y="261"/>
                      </a:lnTo>
                      <a:lnTo>
                        <a:pt x="161" y="278"/>
                      </a:lnTo>
                      <a:lnTo>
                        <a:pt x="129" y="295"/>
                      </a:lnTo>
                      <a:lnTo>
                        <a:pt x="96" y="314"/>
                      </a:lnTo>
                      <a:lnTo>
                        <a:pt x="63" y="332"/>
                      </a:lnTo>
                      <a:lnTo>
                        <a:pt x="31" y="352"/>
                      </a:lnTo>
                      <a:lnTo>
                        <a:pt x="0" y="371"/>
                      </a:lnTo>
                      <a:lnTo>
                        <a:pt x="29" y="355"/>
                      </a:lnTo>
                      <a:lnTo>
                        <a:pt x="59" y="340"/>
                      </a:lnTo>
                      <a:lnTo>
                        <a:pt x="88" y="325"/>
                      </a:lnTo>
                      <a:lnTo>
                        <a:pt x="118" y="310"/>
                      </a:lnTo>
                      <a:lnTo>
                        <a:pt x="148" y="295"/>
                      </a:lnTo>
                      <a:lnTo>
                        <a:pt x="179" y="282"/>
                      </a:lnTo>
                      <a:lnTo>
                        <a:pt x="209" y="268"/>
                      </a:lnTo>
                      <a:lnTo>
                        <a:pt x="240" y="255"/>
                      </a:lnTo>
                      <a:lnTo>
                        <a:pt x="271" y="241"/>
                      </a:lnTo>
                      <a:lnTo>
                        <a:pt x="302" y="230"/>
                      </a:lnTo>
                      <a:lnTo>
                        <a:pt x="333" y="217"/>
                      </a:lnTo>
                      <a:lnTo>
                        <a:pt x="364" y="206"/>
                      </a:lnTo>
                      <a:lnTo>
                        <a:pt x="397" y="194"/>
                      </a:lnTo>
                      <a:lnTo>
                        <a:pt x="429" y="184"/>
                      </a:lnTo>
                      <a:lnTo>
                        <a:pt x="460" y="173"/>
                      </a:lnTo>
                      <a:lnTo>
                        <a:pt x="492" y="164"/>
                      </a:lnTo>
                      <a:lnTo>
                        <a:pt x="524" y="154"/>
                      </a:lnTo>
                      <a:lnTo>
                        <a:pt x="557" y="146"/>
                      </a:lnTo>
                      <a:lnTo>
                        <a:pt x="590" y="136"/>
                      </a:lnTo>
                      <a:lnTo>
                        <a:pt x="622" y="128"/>
                      </a:lnTo>
                      <a:lnTo>
                        <a:pt x="655" y="121"/>
                      </a:lnTo>
                      <a:lnTo>
                        <a:pt x="688" y="115"/>
                      </a:lnTo>
                      <a:lnTo>
                        <a:pt x="720" y="108"/>
                      </a:lnTo>
                      <a:lnTo>
                        <a:pt x="754" y="102"/>
                      </a:lnTo>
                      <a:lnTo>
                        <a:pt x="786" y="96"/>
                      </a:lnTo>
                      <a:lnTo>
                        <a:pt x="819" y="90"/>
                      </a:lnTo>
                      <a:lnTo>
                        <a:pt x="853" y="86"/>
                      </a:lnTo>
                      <a:lnTo>
                        <a:pt x="885" y="82"/>
                      </a:lnTo>
                      <a:lnTo>
                        <a:pt x="919" y="79"/>
                      </a:lnTo>
                      <a:lnTo>
                        <a:pt x="952" y="75"/>
                      </a:lnTo>
                      <a:lnTo>
                        <a:pt x="984" y="73"/>
                      </a:lnTo>
                      <a:lnTo>
                        <a:pt x="1018" y="71"/>
                      </a:lnTo>
                      <a:lnTo>
                        <a:pt x="1050" y="70"/>
                      </a:lnTo>
                      <a:lnTo>
                        <a:pt x="1081" y="68"/>
                      </a:lnTo>
                      <a:lnTo>
                        <a:pt x="1113" y="68"/>
                      </a:lnTo>
                      <a:lnTo>
                        <a:pt x="1144" y="68"/>
                      </a:lnTo>
                      <a:lnTo>
                        <a:pt x="1174" y="70"/>
                      </a:lnTo>
                      <a:lnTo>
                        <a:pt x="1205" y="71"/>
                      </a:lnTo>
                      <a:lnTo>
                        <a:pt x="1235" y="72"/>
                      </a:lnTo>
                      <a:lnTo>
                        <a:pt x="1264" y="74"/>
                      </a:lnTo>
                      <a:lnTo>
                        <a:pt x="1294" y="76"/>
                      </a:lnTo>
                      <a:lnTo>
                        <a:pt x="1323" y="80"/>
                      </a:lnTo>
                      <a:lnTo>
                        <a:pt x="1352" y="83"/>
                      </a:lnTo>
                      <a:lnTo>
                        <a:pt x="1379" y="88"/>
                      </a:lnTo>
                      <a:lnTo>
                        <a:pt x="1407" y="93"/>
                      </a:lnTo>
                      <a:lnTo>
                        <a:pt x="1435" y="97"/>
                      </a:lnTo>
                      <a:lnTo>
                        <a:pt x="1462" y="103"/>
                      </a:lnTo>
                      <a:lnTo>
                        <a:pt x="1489" y="109"/>
                      </a:lnTo>
                      <a:lnTo>
                        <a:pt x="1515" y="116"/>
                      </a:lnTo>
                      <a:lnTo>
                        <a:pt x="1541" y="123"/>
                      </a:lnTo>
                      <a:lnTo>
                        <a:pt x="1566" y="129"/>
                      </a:lnTo>
                      <a:lnTo>
                        <a:pt x="1591" y="138"/>
                      </a:lnTo>
                      <a:lnTo>
                        <a:pt x="1617" y="146"/>
                      </a:lnTo>
                      <a:lnTo>
                        <a:pt x="1641" y="155"/>
                      </a:lnTo>
                      <a:lnTo>
                        <a:pt x="1665" y="163"/>
                      </a:lnTo>
                      <a:lnTo>
                        <a:pt x="1688" y="173"/>
                      </a:lnTo>
                      <a:lnTo>
                        <a:pt x="1711" y="182"/>
                      </a:lnTo>
                      <a:lnTo>
                        <a:pt x="1733" y="193"/>
                      </a:lnTo>
                      <a:lnTo>
                        <a:pt x="1756" y="203"/>
                      </a:lnTo>
                      <a:lnTo>
                        <a:pt x="1778" y="215"/>
                      </a:lnTo>
                      <a:lnTo>
                        <a:pt x="1799" y="226"/>
                      </a:lnTo>
                      <a:lnTo>
                        <a:pt x="1820" y="238"/>
                      </a:lnTo>
                      <a:lnTo>
                        <a:pt x="1840" y="250"/>
                      </a:lnTo>
                      <a:lnTo>
                        <a:pt x="1860" y="263"/>
                      </a:lnTo>
                      <a:lnTo>
                        <a:pt x="1824" y="244"/>
                      </a:lnTo>
                      <a:lnTo>
                        <a:pt x="1787" y="225"/>
                      </a:lnTo>
                      <a:lnTo>
                        <a:pt x="1749" y="208"/>
                      </a:lnTo>
                      <a:lnTo>
                        <a:pt x="1711" y="192"/>
                      </a:lnTo>
                      <a:lnTo>
                        <a:pt x="1672" y="178"/>
                      </a:lnTo>
                      <a:lnTo>
                        <a:pt x="1632" y="165"/>
                      </a:lnTo>
                      <a:lnTo>
                        <a:pt x="1589" y="154"/>
                      </a:lnTo>
                      <a:lnTo>
                        <a:pt x="1547" y="144"/>
                      </a:lnTo>
                      <a:lnTo>
                        <a:pt x="1503" y="135"/>
                      </a:lnTo>
                      <a:lnTo>
                        <a:pt x="1458" y="129"/>
                      </a:lnTo>
                      <a:lnTo>
                        <a:pt x="1411" y="124"/>
                      </a:lnTo>
                      <a:lnTo>
                        <a:pt x="1363" y="120"/>
                      </a:lnTo>
                      <a:lnTo>
                        <a:pt x="1314" y="117"/>
                      </a:lnTo>
                      <a:lnTo>
                        <a:pt x="1262" y="117"/>
                      </a:lnTo>
                      <a:lnTo>
                        <a:pt x="1210" y="117"/>
                      </a:lnTo>
                      <a:lnTo>
                        <a:pt x="1156" y="119"/>
                      </a:lnTo>
                      <a:lnTo>
                        <a:pt x="1121" y="121"/>
                      </a:lnTo>
                      <a:lnTo>
                        <a:pt x="1087" y="124"/>
                      </a:lnTo>
                      <a:lnTo>
                        <a:pt x="1052" y="127"/>
                      </a:lnTo>
                      <a:lnTo>
                        <a:pt x="1018" y="131"/>
                      </a:lnTo>
                      <a:lnTo>
                        <a:pt x="983" y="135"/>
                      </a:lnTo>
                      <a:lnTo>
                        <a:pt x="948" y="141"/>
                      </a:lnTo>
                      <a:lnTo>
                        <a:pt x="915" y="147"/>
                      </a:lnTo>
                      <a:lnTo>
                        <a:pt x="880" y="153"/>
                      </a:lnTo>
                      <a:lnTo>
                        <a:pt x="846" y="159"/>
                      </a:lnTo>
                      <a:lnTo>
                        <a:pt x="813" y="168"/>
                      </a:lnTo>
                      <a:lnTo>
                        <a:pt x="778" y="176"/>
                      </a:lnTo>
                      <a:lnTo>
                        <a:pt x="745" y="184"/>
                      </a:lnTo>
                      <a:lnTo>
                        <a:pt x="710" y="193"/>
                      </a:lnTo>
                      <a:lnTo>
                        <a:pt x="677" y="202"/>
                      </a:lnTo>
                      <a:lnTo>
                        <a:pt x="643" y="212"/>
                      </a:lnTo>
                      <a:lnTo>
                        <a:pt x="611" y="224"/>
                      </a:lnTo>
                      <a:lnTo>
                        <a:pt x="577" y="234"/>
                      </a:lnTo>
                      <a:lnTo>
                        <a:pt x="544" y="247"/>
                      </a:lnTo>
                      <a:lnTo>
                        <a:pt x="512" y="259"/>
                      </a:lnTo>
                      <a:lnTo>
                        <a:pt x="479" y="271"/>
                      </a:lnTo>
                      <a:lnTo>
                        <a:pt x="447" y="285"/>
                      </a:lnTo>
                      <a:lnTo>
                        <a:pt x="415" y="299"/>
                      </a:lnTo>
                      <a:lnTo>
                        <a:pt x="383" y="313"/>
                      </a:lnTo>
                      <a:lnTo>
                        <a:pt x="352" y="328"/>
                      </a:lnTo>
                      <a:lnTo>
                        <a:pt x="320" y="343"/>
                      </a:lnTo>
                      <a:lnTo>
                        <a:pt x="289" y="358"/>
                      </a:lnTo>
                      <a:lnTo>
                        <a:pt x="258" y="374"/>
                      </a:lnTo>
                      <a:lnTo>
                        <a:pt x="228" y="390"/>
                      </a:lnTo>
                      <a:lnTo>
                        <a:pt x="198" y="407"/>
                      </a:lnTo>
                      <a:lnTo>
                        <a:pt x="168" y="424"/>
                      </a:lnTo>
                      <a:lnTo>
                        <a:pt x="138" y="442"/>
                      </a:lnTo>
                      <a:lnTo>
                        <a:pt x="110" y="460"/>
                      </a:lnTo>
                      <a:lnTo>
                        <a:pt x="136" y="445"/>
                      </a:lnTo>
                      <a:lnTo>
                        <a:pt x="164" y="431"/>
                      </a:lnTo>
                      <a:lnTo>
                        <a:pt x="190" y="418"/>
                      </a:lnTo>
                      <a:lnTo>
                        <a:pt x="218" y="405"/>
                      </a:lnTo>
                      <a:lnTo>
                        <a:pt x="246" y="391"/>
                      </a:lnTo>
                      <a:lnTo>
                        <a:pt x="273" y="378"/>
                      </a:lnTo>
                      <a:lnTo>
                        <a:pt x="301" y="367"/>
                      </a:lnTo>
                      <a:lnTo>
                        <a:pt x="329" y="354"/>
                      </a:lnTo>
                      <a:lnTo>
                        <a:pt x="357" y="343"/>
                      </a:lnTo>
                      <a:lnTo>
                        <a:pt x="386" y="331"/>
                      </a:lnTo>
                      <a:lnTo>
                        <a:pt x="415" y="321"/>
                      </a:lnTo>
                      <a:lnTo>
                        <a:pt x="444" y="310"/>
                      </a:lnTo>
                      <a:lnTo>
                        <a:pt x="473" y="300"/>
                      </a:lnTo>
                      <a:lnTo>
                        <a:pt x="501" y="290"/>
                      </a:lnTo>
                      <a:lnTo>
                        <a:pt x="530" y="280"/>
                      </a:lnTo>
                      <a:lnTo>
                        <a:pt x="560" y="271"/>
                      </a:lnTo>
                      <a:lnTo>
                        <a:pt x="589" y="263"/>
                      </a:lnTo>
                      <a:lnTo>
                        <a:pt x="619" y="255"/>
                      </a:lnTo>
                      <a:lnTo>
                        <a:pt x="648" y="247"/>
                      </a:lnTo>
                      <a:lnTo>
                        <a:pt x="678" y="240"/>
                      </a:lnTo>
                      <a:lnTo>
                        <a:pt x="708" y="233"/>
                      </a:lnTo>
                      <a:lnTo>
                        <a:pt x="738" y="226"/>
                      </a:lnTo>
                      <a:lnTo>
                        <a:pt x="768" y="221"/>
                      </a:lnTo>
                      <a:lnTo>
                        <a:pt x="798" y="215"/>
                      </a:lnTo>
                      <a:lnTo>
                        <a:pt x="827" y="210"/>
                      </a:lnTo>
                      <a:lnTo>
                        <a:pt x="857" y="206"/>
                      </a:lnTo>
                      <a:lnTo>
                        <a:pt x="887" y="201"/>
                      </a:lnTo>
                      <a:lnTo>
                        <a:pt x="917" y="197"/>
                      </a:lnTo>
                      <a:lnTo>
                        <a:pt x="948" y="194"/>
                      </a:lnTo>
                      <a:lnTo>
                        <a:pt x="978" y="192"/>
                      </a:lnTo>
                      <a:lnTo>
                        <a:pt x="1008" y="189"/>
                      </a:lnTo>
                      <a:lnTo>
                        <a:pt x="1038" y="187"/>
                      </a:lnTo>
                      <a:lnTo>
                        <a:pt x="1069" y="186"/>
                      </a:lnTo>
                      <a:lnTo>
                        <a:pt x="1101" y="185"/>
                      </a:lnTo>
                      <a:lnTo>
                        <a:pt x="1131" y="185"/>
                      </a:lnTo>
                      <a:lnTo>
                        <a:pt x="1161" y="185"/>
                      </a:lnTo>
                      <a:lnTo>
                        <a:pt x="1190" y="185"/>
                      </a:lnTo>
                      <a:lnTo>
                        <a:pt x="1219" y="186"/>
                      </a:lnTo>
                      <a:lnTo>
                        <a:pt x="1248" y="188"/>
                      </a:lnTo>
                      <a:lnTo>
                        <a:pt x="1276" y="191"/>
                      </a:lnTo>
                      <a:lnTo>
                        <a:pt x="1303" y="193"/>
                      </a:lnTo>
                      <a:lnTo>
                        <a:pt x="1331" y="196"/>
                      </a:lnTo>
                      <a:lnTo>
                        <a:pt x="1358" y="200"/>
                      </a:lnTo>
                      <a:lnTo>
                        <a:pt x="1384" y="204"/>
                      </a:lnTo>
                      <a:lnTo>
                        <a:pt x="1409" y="209"/>
                      </a:lnTo>
                      <a:lnTo>
                        <a:pt x="1435" y="214"/>
                      </a:lnTo>
                      <a:lnTo>
                        <a:pt x="1460" y="219"/>
                      </a:lnTo>
                      <a:lnTo>
                        <a:pt x="1484" y="225"/>
                      </a:lnTo>
                      <a:lnTo>
                        <a:pt x="1509" y="232"/>
                      </a:lnTo>
                      <a:lnTo>
                        <a:pt x="1532" y="239"/>
                      </a:lnTo>
                      <a:lnTo>
                        <a:pt x="1556" y="246"/>
                      </a:lnTo>
                      <a:lnTo>
                        <a:pt x="1579" y="254"/>
                      </a:lnTo>
                      <a:lnTo>
                        <a:pt x="1601" y="262"/>
                      </a:lnTo>
                      <a:lnTo>
                        <a:pt x="1623" y="271"/>
                      </a:lnTo>
                      <a:lnTo>
                        <a:pt x="1644" y="280"/>
                      </a:lnTo>
                      <a:lnTo>
                        <a:pt x="1666" y="290"/>
                      </a:lnTo>
                      <a:lnTo>
                        <a:pt x="1687" y="300"/>
                      </a:lnTo>
                      <a:lnTo>
                        <a:pt x="1708" y="312"/>
                      </a:lnTo>
                      <a:lnTo>
                        <a:pt x="1727" y="322"/>
                      </a:lnTo>
                      <a:lnTo>
                        <a:pt x="1747" y="333"/>
                      </a:lnTo>
                      <a:lnTo>
                        <a:pt x="1767" y="346"/>
                      </a:lnTo>
                      <a:lnTo>
                        <a:pt x="1786" y="358"/>
                      </a:lnTo>
                      <a:lnTo>
                        <a:pt x="1805" y="370"/>
                      </a:lnTo>
                      <a:lnTo>
                        <a:pt x="1823" y="384"/>
                      </a:lnTo>
                      <a:lnTo>
                        <a:pt x="1791" y="363"/>
                      </a:lnTo>
                      <a:lnTo>
                        <a:pt x="1756" y="345"/>
                      </a:lnTo>
                      <a:lnTo>
                        <a:pt x="1721" y="328"/>
                      </a:lnTo>
                      <a:lnTo>
                        <a:pt x="1683" y="312"/>
                      </a:lnTo>
                      <a:lnTo>
                        <a:pt x="1644" y="297"/>
                      </a:lnTo>
                      <a:lnTo>
                        <a:pt x="1604" y="283"/>
                      </a:lnTo>
                      <a:lnTo>
                        <a:pt x="1562" y="271"/>
                      </a:lnTo>
                      <a:lnTo>
                        <a:pt x="1519" y="261"/>
                      </a:lnTo>
                      <a:lnTo>
                        <a:pt x="1475" y="252"/>
                      </a:lnTo>
                      <a:lnTo>
                        <a:pt x="1429" y="245"/>
                      </a:lnTo>
                      <a:lnTo>
                        <a:pt x="1382" y="239"/>
                      </a:lnTo>
                      <a:lnTo>
                        <a:pt x="1333" y="235"/>
                      </a:lnTo>
                      <a:lnTo>
                        <a:pt x="1285" y="233"/>
                      </a:lnTo>
                      <a:lnTo>
                        <a:pt x="1234" y="233"/>
                      </a:lnTo>
                      <a:lnTo>
                        <a:pt x="1182" y="234"/>
                      </a:lnTo>
                      <a:lnTo>
                        <a:pt x="1129" y="238"/>
                      </a:lnTo>
                      <a:lnTo>
                        <a:pt x="1099" y="240"/>
                      </a:lnTo>
                      <a:lnTo>
                        <a:pt x="1068" y="244"/>
                      </a:lnTo>
                      <a:lnTo>
                        <a:pt x="1038" y="247"/>
                      </a:lnTo>
                      <a:lnTo>
                        <a:pt x="1008" y="250"/>
                      </a:lnTo>
                      <a:lnTo>
                        <a:pt x="977" y="255"/>
                      </a:lnTo>
                      <a:lnTo>
                        <a:pt x="947" y="261"/>
                      </a:lnTo>
                      <a:lnTo>
                        <a:pt x="917" y="267"/>
                      </a:lnTo>
                      <a:lnTo>
                        <a:pt x="887" y="272"/>
                      </a:lnTo>
                      <a:lnTo>
                        <a:pt x="857" y="279"/>
                      </a:lnTo>
                      <a:lnTo>
                        <a:pt x="826" y="286"/>
                      </a:lnTo>
                      <a:lnTo>
                        <a:pt x="798" y="294"/>
                      </a:lnTo>
                      <a:lnTo>
                        <a:pt x="768" y="302"/>
                      </a:lnTo>
                      <a:lnTo>
                        <a:pt x="738" y="312"/>
                      </a:lnTo>
                      <a:lnTo>
                        <a:pt x="708" y="321"/>
                      </a:lnTo>
                      <a:lnTo>
                        <a:pt x="679" y="330"/>
                      </a:lnTo>
                      <a:lnTo>
                        <a:pt x="649" y="340"/>
                      </a:lnTo>
                      <a:lnTo>
                        <a:pt x="620" y="351"/>
                      </a:lnTo>
                      <a:lnTo>
                        <a:pt x="591" y="361"/>
                      </a:lnTo>
                      <a:lnTo>
                        <a:pt x="562" y="373"/>
                      </a:lnTo>
                      <a:lnTo>
                        <a:pt x="534" y="384"/>
                      </a:lnTo>
                      <a:lnTo>
                        <a:pt x="505" y="397"/>
                      </a:lnTo>
                      <a:lnTo>
                        <a:pt x="477" y="409"/>
                      </a:lnTo>
                      <a:lnTo>
                        <a:pt x="448" y="422"/>
                      </a:lnTo>
                      <a:lnTo>
                        <a:pt x="421" y="436"/>
                      </a:lnTo>
                      <a:lnTo>
                        <a:pt x="393" y="450"/>
                      </a:lnTo>
                      <a:lnTo>
                        <a:pt x="365" y="464"/>
                      </a:lnTo>
                      <a:lnTo>
                        <a:pt x="339" y="479"/>
                      </a:lnTo>
                      <a:lnTo>
                        <a:pt x="312" y="494"/>
                      </a:lnTo>
                      <a:lnTo>
                        <a:pt x="286" y="509"/>
                      </a:lnTo>
                      <a:lnTo>
                        <a:pt x="259" y="525"/>
                      </a:lnTo>
                      <a:lnTo>
                        <a:pt x="233" y="541"/>
                      </a:lnTo>
                      <a:lnTo>
                        <a:pt x="208" y="557"/>
                      </a:lnTo>
                      <a:lnTo>
                        <a:pt x="231" y="544"/>
                      </a:lnTo>
                      <a:lnTo>
                        <a:pt x="254" y="532"/>
                      </a:lnTo>
                      <a:lnTo>
                        <a:pt x="278" y="520"/>
                      </a:lnTo>
                      <a:lnTo>
                        <a:pt x="301" y="507"/>
                      </a:lnTo>
                      <a:lnTo>
                        <a:pt x="325" y="496"/>
                      </a:lnTo>
                      <a:lnTo>
                        <a:pt x="349" y="484"/>
                      </a:lnTo>
                      <a:lnTo>
                        <a:pt x="373" y="474"/>
                      </a:lnTo>
                      <a:lnTo>
                        <a:pt x="398" y="464"/>
                      </a:lnTo>
                      <a:lnTo>
                        <a:pt x="422" y="453"/>
                      </a:lnTo>
                      <a:lnTo>
                        <a:pt x="447" y="443"/>
                      </a:lnTo>
                      <a:lnTo>
                        <a:pt x="471" y="432"/>
                      </a:lnTo>
                      <a:lnTo>
                        <a:pt x="497" y="423"/>
                      </a:lnTo>
                      <a:lnTo>
                        <a:pt x="521" y="414"/>
                      </a:lnTo>
                      <a:lnTo>
                        <a:pt x="546" y="406"/>
                      </a:lnTo>
                      <a:lnTo>
                        <a:pt x="572" y="397"/>
                      </a:lnTo>
                      <a:lnTo>
                        <a:pt x="597" y="389"/>
                      </a:lnTo>
                      <a:lnTo>
                        <a:pt x="622" y="381"/>
                      </a:lnTo>
                      <a:lnTo>
                        <a:pt x="649" y="374"/>
                      </a:lnTo>
                      <a:lnTo>
                        <a:pt x="674" y="367"/>
                      </a:lnTo>
                      <a:lnTo>
                        <a:pt x="700" y="360"/>
                      </a:lnTo>
                      <a:lnTo>
                        <a:pt x="726" y="353"/>
                      </a:lnTo>
                      <a:lnTo>
                        <a:pt x="751" y="347"/>
                      </a:lnTo>
                      <a:lnTo>
                        <a:pt x="778" y="341"/>
                      </a:lnTo>
                      <a:lnTo>
                        <a:pt x="803" y="337"/>
                      </a:lnTo>
                      <a:lnTo>
                        <a:pt x="830" y="331"/>
                      </a:lnTo>
                      <a:lnTo>
                        <a:pt x="856" y="327"/>
                      </a:lnTo>
                      <a:lnTo>
                        <a:pt x="882" y="323"/>
                      </a:lnTo>
                      <a:lnTo>
                        <a:pt x="908" y="320"/>
                      </a:lnTo>
                      <a:lnTo>
                        <a:pt x="935" y="316"/>
                      </a:lnTo>
                      <a:lnTo>
                        <a:pt x="960" y="313"/>
                      </a:lnTo>
                      <a:lnTo>
                        <a:pt x="987" y="310"/>
                      </a:lnTo>
                      <a:lnTo>
                        <a:pt x="1013" y="308"/>
                      </a:lnTo>
                      <a:lnTo>
                        <a:pt x="1066" y="305"/>
                      </a:lnTo>
                      <a:lnTo>
                        <a:pt x="1119" y="303"/>
                      </a:lnTo>
                      <a:lnTo>
                        <a:pt x="1170" y="305"/>
                      </a:lnTo>
                      <a:lnTo>
                        <a:pt x="1220" y="307"/>
                      </a:lnTo>
                      <a:lnTo>
                        <a:pt x="1269" y="312"/>
                      </a:lnTo>
                      <a:lnTo>
                        <a:pt x="1317" y="317"/>
                      </a:lnTo>
                      <a:lnTo>
                        <a:pt x="1363" y="324"/>
                      </a:lnTo>
                      <a:lnTo>
                        <a:pt x="1408" y="333"/>
                      </a:lnTo>
                      <a:lnTo>
                        <a:pt x="1452" y="345"/>
                      </a:lnTo>
                      <a:lnTo>
                        <a:pt x="1494" y="356"/>
                      </a:lnTo>
                      <a:lnTo>
                        <a:pt x="1535" y="370"/>
                      </a:lnTo>
                      <a:lnTo>
                        <a:pt x="1574" y="385"/>
                      </a:lnTo>
                      <a:lnTo>
                        <a:pt x="1611" y="403"/>
                      </a:lnTo>
                      <a:lnTo>
                        <a:pt x="1648" y="421"/>
                      </a:lnTo>
                      <a:lnTo>
                        <a:pt x="1683" y="441"/>
                      </a:lnTo>
                      <a:lnTo>
                        <a:pt x="1715" y="461"/>
                      </a:lnTo>
                      <a:lnTo>
                        <a:pt x="1686" y="445"/>
                      </a:lnTo>
                      <a:lnTo>
                        <a:pt x="1657" y="430"/>
                      </a:lnTo>
                      <a:lnTo>
                        <a:pt x="1626" y="416"/>
                      </a:lnTo>
                      <a:lnTo>
                        <a:pt x="1594" y="404"/>
                      </a:lnTo>
                      <a:lnTo>
                        <a:pt x="1560" y="393"/>
                      </a:lnTo>
                      <a:lnTo>
                        <a:pt x="1526" y="383"/>
                      </a:lnTo>
                      <a:lnTo>
                        <a:pt x="1490" y="374"/>
                      </a:lnTo>
                      <a:lnTo>
                        <a:pt x="1453" y="367"/>
                      </a:lnTo>
                      <a:lnTo>
                        <a:pt x="1415" y="360"/>
                      </a:lnTo>
                      <a:lnTo>
                        <a:pt x="1376" y="355"/>
                      </a:lnTo>
                      <a:lnTo>
                        <a:pt x="1336" y="352"/>
                      </a:lnTo>
                      <a:lnTo>
                        <a:pt x="1294" y="351"/>
                      </a:lnTo>
                      <a:lnTo>
                        <a:pt x="1253" y="350"/>
                      </a:lnTo>
                      <a:lnTo>
                        <a:pt x="1209" y="351"/>
                      </a:lnTo>
                      <a:lnTo>
                        <a:pt x="1165" y="353"/>
                      </a:lnTo>
                      <a:lnTo>
                        <a:pt x="1120" y="356"/>
                      </a:lnTo>
                      <a:lnTo>
                        <a:pt x="1094" y="359"/>
                      </a:lnTo>
                      <a:lnTo>
                        <a:pt x="1066" y="362"/>
                      </a:lnTo>
                      <a:lnTo>
                        <a:pt x="1040" y="367"/>
                      </a:lnTo>
                      <a:lnTo>
                        <a:pt x="1013" y="370"/>
                      </a:lnTo>
                      <a:lnTo>
                        <a:pt x="987" y="375"/>
                      </a:lnTo>
                      <a:lnTo>
                        <a:pt x="960" y="381"/>
                      </a:lnTo>
                      <a:lnTo>
                        <a:pt x="934" y="386"/>
                      </a:lnTo>
                      <a:lnTo>
                        <a:pt x="907" y="392"/>
                      </a:lnTo>
                      <a:lnTo>
                        <a:pt x="879" y="399"/>
                      </a:lnTo>
                      <a:lnTo>
                        <a:pt x="854" y="406"/>
                      </a:lnTo>
                      <a:lnTo>
                        <a:pt x="827" y="413"/>
                      </a:lnTo>
                      <a:lnTo>
                        <a:pt x="801" y="421"/>
                      </a:lnTo>
                      <a:lnTo>
                        <a:pt x="774" y="429"/>
                      </a:lnTo>
                      <a:lnTo>
                        <a:pt x="749" y="438"/>
                      </a:lnTo>
                      <a:lnTo>
                        <a:pt x="723" y="447"/>
                      </a:lnTo>
                      <a:lnTo>
                        <a:pt x="697" y="457"/>
                      </a:lnTo>
                      <a:lnTo>
                        <a:pt x="672" y="466"/>
                      </a:lnTo>
                      <a:lnTo>
                        <a:pt x="645" y="476"/>
                      </a:lnTo>
                      <a:lnTo>
                        <a:pt x="620" y="487"/>
                      </a:lnTo>
                      <a:lnTo>
                        <a:pt x="596" y="498"/>
                      </a:lnTo>
                      <a:lnTo>
                        <a:pt x="571" y="510"/>
                      </a:lnTo>
                      <a:lnTo>
                        <a:pt x="545" y="521"/>
                      </a:lnTo>
                      <a:lnTo>
                        <a:pt x="521" y="533"/>
                      </a:lnTo>
                      <a:lnTo>
                        <a:pt x="497" y="545"/>
                      </a:lnTo>
                      <a:lnTo>
                        <a:pt x="473" y="558"/>
                      </a:lnTo>
                      <a:lnTo>
                        <a:pt x="448" y="571"/>
                      </a:lnTo>
                      <a:lnTo>
                        <a:pt x="425" y="585"/>
                      </a:lnTo>
                      <a:lnTo>
                        <a:pt x="401" y="598"/>
                      </a:lnTo>
                      <a:lnTo>
                        <a:pt x="378" y="612"/>
                      </a:lnTo>
                      <a:lnTo>
                        <a:pt x="355" y="626"/>
                      </a:lnTo>
                      <a:lnTo>
                        <a:pt x="332" y="641"/>
                      </a:lnTo>
                      <a:lnTo>
                        <a:pt x="310" y="656"/>
                      </a:lnTo>
                      <a:lnTo>
                        <a:pt x="350" y="634"/>
                      </a:lnTo>
                      <a:lnTo>
                        <a:pt x="391" y="613"/>
                      </a:lnTo>
                      <a:lnTo>
                        <a:pt x="432" y="593"/>
                      </a:lnTo>
                      <a:lnTo>
                        <a:pt x="474" y="573"/>
                      </a:lnTo>
                      <a:lnTo>
                        <a:pt x="516" y="555"/>
                      </a:lnTo>
                      <a:lnTo>
                        <a:pt x="559" y="538"/>
                      </a:lnTo>
                      <a:lnTo>
                        <a:pt x="603" y="522"/>
                      </a:lnTo>
                      <a:lnTo>
                        <a:pt x="647" y="506"/>
                      </a:lnTo>
                      <a:lnTo>
                        <a:pt x="690" y="492"/>
                      </a:lnTo>
                      <a:lnTo>
                        <a:pt x="734" y="480"/>
                      </a:lnTo>
                      <a:lnTo>
                        <a:pt x="779" y="468"/>
                      </a:lnTo>
                      <a:lnTo>
                        <a:pt x="823" y="458"/>
                      </a:lnTo>
                      <a:lnTo>
                        <a:pt x="868" y="450"/>
                      </a:lnTo>
                      <a:lnTo>
                        <a:pt x="913" y="442"/>
                      </a:lnTo>
                      <a:lnTo>
                        <a:pt x="958" y="435"/>
                      </a:lnTo>
                      <a:lnTo>
                        <a:pt x="1003" y="430"/>
                      </a:lnTo>
                      <a:lnTo>
                        <a:pt x="1064" y="426"/>
                      </a:lnTo>
                      <a:lnTo>
                        <a:pt x="1124" y="423"/>
                      </a:lnTo>
                      <a:lnTo>
                        <a:pt x="1181" y="424"/>
                      </a:lnTo>
                      <a:lnTo>
                        <a:pt x="1237" y="428"/>
                      </a:lnTo>
                      <a:lnTo>
                        <a:pt x="1291" y="434"/>
                      </a:lnTo>
                      <a:lnTo>
                        <a:pt x="1341" y="442"/>
                      </a:lnTo>
                      <a:lnTo>
                        <a:pt x="1390" y="453"/>
                      </a:lnTo>
                      <a:lnTo>
                        <a:pt x="1436" y="466"/>
                      </a:lnTo>
                      <a:lnTo>
                        <a:pt x="1480" y="482"/>
                      </a:lnTo>
                      <a:lnTo>
                        <a:pt x="1521" y="499"/>
                      </a:lnTo>
                      <a:lnTo>
                        <a:pt x="1559" y="520"/>
                      </a:lnTo>
                      <a:lnTo>
                        <a:pt x="1594" y="542"/>
                      </a:lnTo>
                      <a:lnTo>
                        <a:pt x="1626" y="566"/>
                      </a:lnTo>
                      <a:lnTo>
                        <a:pt x="1655" y="593"/>
                      </a:lnTo>
                      <a:lnTo>
                        <a:pt x="1681" y="621"/>
                      </a:lnTo>
                      <a:lnTo>
                        <a:pt x="1703" y="651"/>
                      </a:lnTo>
                      <a:lnTo>
                        <a:pt x="2095" y="286"/>
                      </a:lnTo>
                      <a:lnTo>
                        <a:pt x="2074" y="268"/>
                      </a:lnTo>
                      <a:lnTo>
                        <a:pt x="2054" y="250"/>
                      </a:lnTo>
                      <a:lnTo>
                        <a:pt x="2032" y="233"/>
                      </a:lnTo>
                      <a:lnTo>
                        <a:pt x="2010" y="217"/>
                      </a:lnTo>
                      <a:lnTo>
                        <a:pt x="1987" y="201"/>
                      </a:lnTo>
                      <a:lnTo>
                        <a:pt x="1963" y="186"/>
                      </a:lnTo>
                      <a:lnTo>
                        <a:pt x="1938" y="171"/>
                      </a:lnTo>
                      <a:lnTo>
                        <a:pt x="1913" y="156"/>
                      </a:lnTo>
                      <a:lnTo>
                        <a:pt x="1888" y="142"/>
                      </a:lnTo>
                      <a:lnTo>
                        <a:pt x="1861" y="129"/>
                      </a:lnTo>
                      <a:lnTo>
                        <a:pt x="1835" y="117"/>
                      </a:lnTo>
                      <a:lnTo>
                        <a:pt x="1807" y="104"/>
                      </a:lnTo>
                      <a:lnTo>
                        <a:pt x="1778" y="94"/>
                      </a:lnTo>
                      <a:lnTo>
                        <a:pt x="1749" y="82"/>
                      </a:lnTo>
                      <a:lnTo>
                        <a:pt x="1719" y="72"/>
                      </a:lnTo>
                      <a:lnTo>
                        <a:pt x="1689" y="63"/>
                      </a:lnTo>
                      <a:lnTo>
                        <a:pt x="1659" y="53"/>
                      </a:lnTo>
                      <a:lnTo>
                        <a:pt x="1628" y="45"/>
                      </a:lnTo>
                      <a:lnTo>
                        <a:pt x="1596" y="38"/>
                      </a:lnTo>
                      <a:lnTo>
                        <a:pt x="1564" y="32"/>
                      </a:lnTo>
                      <a:lnTo>
                        <a:pt x="1530" y="25"/>
                      </a:lnTo>
                      <a:lnTo>
                        <a:pt x="1497" y="19"/>
                      </a:lnTo>
                      <a:lnTo>
                        <a:pt x="1464" y="14"/>
                      </a:lnTo>
                      <a:lnTo>
                        <a:pt x="1429" y="11"/>
                      </a:lnTo>
                      <a:lnTo>
                        <a:pt x="1394" y="6"/>
                      </a:lnTo>
                      <a:lnTo>
                        <a:pt x="1359" y="4"/>
                      </a:lnTo>
                      <a:lnTo>
                        <a:pt x="1322" y="2"/>
                      </a:lnTo>
                      <a:lnTo>
                        <a:pt x="1286" y="0"/>
                      </a:lnTo>
                      <a:lnTo>
                        <a:pt x="1249" y="0"/>
                      </a:lnTo>
                      <a:lnTo>
                        <a:pt x="1211" y="0"/>
                      </a:lnTo>
                      <a:lnTo>
                        <a:pt x="1173" y="2"/>
                      </a:lnTo>
                      <a:lnTo>
                        <a:pt x="1135" y="3"/>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2" name="" descr=""/>
              <p:cNvPicPr/>
              <p:nvPr/>
            </p:nvPicPr>
            <p:blipFill>
              <a:blip r:embed="rId3"/>
              <a:stretch/>
            </p:blipFill>
            <p:spPr>
              <a:xfrm>
                <a:off x="7289640" y="4253040"/>
                <a:ext cx="1269720" cy="674280"/>
              </a:xfrm>
              <a:prstGeom prst="rect">
                <a:avLst/>
              </a:prstGeom>
              <a:ln w="0">
                <a:noFill/>
              </a:ln>
            </p:spPr>
          </p:pic>
        </p:grpSp>
        <p:sp>
          <p:nvSpPr>
            <p:cNvPr id="133" name=""/>
            <p:cNvSpPr/>
            <p:nvPr/>
          </p:nvSpPr>
          <p:spPr>
            <a:xfrm flipV="1">
              <a:off x="2971800" y="3200040"/>
              <a:ext cx="838080" cy="685800"/>
            </a:xfrm>
            <a:prstGeom prst="line">
              <a:avLst/>
            </a:prstGeom>
            <a:ln w="5724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555600" y="3121560"/>
              <a:ext cx="680760" cy="842040"/>
            </a:xfrm>
            <a:prstGeom prst="line">
              <a:avLst/>
            </a:prstGeom>
            <a:ln w="57240">
              <a:solidFill>
                <a:srgbClr val="ffffff"/>
              </a:solidFill>
              <a:prstDash val="dash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1676160" y="579132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edicare Beneficiary</a:t>
              </a:r>
              <a:endParaRPr b="0" lang="en-US" sz="1800" spc="-1" strike="noStrike">
                <a:solidFill>
                  <a:srgbClr val="000000"/>
                </a:solidFill>
                <a:latin typeface="Times New Roman"/>
              </a:endParaRPr>
            </a:p>
          </p:txBody>
        </p:sp>
        <p:sp>
          <p:nvSpPr>
            <p:cNvPr id="136" name=""/>
            <p:cNvSpPr/>
            <p:nvPr/>
          </p:nvSpPr>
          <p:spPr>
            <a:xfrm>
              <a:off x="4327560" y="3657600"/>
              <a:ext cx="16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MCO</a:t>
              </a:r>
              <a:endParaRPr b="0" lang="en-US" sz="1800" spc="-1" strike="noStrike">
                <a:solidFill>
                  <a:srgbClr val="000000"/>
                </a:solidFill>
                <a:latin typeface="Times New Roman"/>
              </a:endParaRPr>
            </a:p>
          </p:txBody>
        </p:sp>
        <p:sp>
          <p:nvSpPr>
            <p:cNvPr id="137" name=""/>
            <p:cNvSpPr/>
            <p:nvPr/>
          </p:nvSpPr>
          <p:spPr>
            <a:xfrm>
              <a:off x="7070760" y="5958000"/>
              <a:ext cx="16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MS</a:t>
              </a:r>
              <a:endParaRPr b="0" lang="en-US" sz="1800" spc="-1" strike="noStrike">
                <a:solidFill>
                  <a:srgbClr val="000000"/>
                </a:solidFill>
                <a:latin typeface="Times New Roman"/>
              </a:endParaRPr>
            </a:p>
          </p:txBody>
        </p:sp>
      </p:grpSp>
      <p:sp>
        <p:nvSpPr>
          <p:cNvPr id="3" name="PlaceHolder 2"/>
          <p:cNvSpPr>
            <a:spLocks noGrp="1"/>
          </p:cNvSpPr>
          <p:nvPr>
            <p:ph type="sldNum" idx="1"/>
          </p:nvPr>
        </p:nvSpPr>
        <p:spPr/>
        <p:txBody>
          <a:bodyPr/>
          <a:p>
            <a:fld id="{CE97C27F-DD6E-439D-92EE-AA0D0D97BE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09320" y="7596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hat is the difference?</a:t>
            </a:r>
            <a:endParaRPr b="1" lang="en-US" sz="4400" spc="-1" strike="noStrike">
              <a:solidFill>
                <a:srgbClr val="ffffff"/>
              </a:solidFill>
              <a:latin typeface="Tahoma"/>
            </a:endParaRPr>
          </a:p>
        </p:txBody>
      </p:sp>
      <p:grpSp>
        <p:nvGrpSpPr>
          <p:cNvPr id="139" name=""/>
          <p:cNvGrpSpPr/>
          <p:nvPr/>
        </p:nvGrpSpPr>
        <p:grpSpPr>
          <a:xfrm>
            <a:off x="1219320" y="2144880"/>
            <a:ext cx="7772400" cy="3422160"/>
            <a:chOff x="1219320" y="2144880"/>
            <a:chExt cx="7772400" cy="3422160"/>
          </a:xfrm>
        </p:grpSpPr>
        <p:grpSp>
          <p:nvGrpSpPr>
            <p:cNvPr id="140" name=""/>
            <p:cNvGrpSpPr/>
            <p:nvPr/>
          </p:nvGrpSpPr>
          <p:grpSpPr>
            <a:xfrm>
              <a:off x="1219320" y="2144880"/>
              <a:ext cx="2438640" cy="609840"/>
              <a:chOff x="1219320" y="2144880"/>
              <a:chExt cx="2438640" cy="609840"/>
            </a:xfrm>
          </p:grpSpPr>
          <p:sp>
            <p:nvSpPr>
              <p:cNvPr id="141" name=""/>
              <p:cNvSpPr/>
              <p:nvPr/>
            </p:nvSpPr>
            <p:spPr>
              <a:xfrm>
                <a:off x="1219320" y="2144880"/>
                <a:ext cx="2438640" cy="609840"/>
              </a:xfrm>
              <a:prstGeom prst="rect">
                <a:avLst/>
              </a:prstGeom>
              <a:gradFill rotWithShape="0">
                <a:gsLst>
                  <a:gs pos="0">
                    <a:srgbClr val="ffcc00"/>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519200" y="222120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rollment</a:t>
                </a:r>
                <a:endParaRPr b="0" lang="en-US" sz="2400" spc="-1" strike="noStrike">
                  <a:solidFill>
                    <a:srgbClr val="000000"/>
                  </a:solidFill>
                  <a:latin typeface="Times New Roman"/>
                </a:endParaRPr>
              </a:p>
            </p:txBody>
          </p:sp>
        </p:grpSp>
        <p:grpSp>
          <p:nvGrpSpPr>
            <p:cNvPr id="143" name=""/>
            <p:cNvGrpSpPr/>
            <p:nvPr/>
          </p:nvGrpSpPr>
          <p:grpSpPr>
            <a:xfrm>
              <a:off x="1219320" y="2907000"/>
              <a:ext cx="2438640" cy="2660040"/>
              <a:chOff x="1219320" y="2907000"/>
              <a:chExt cx="2438640" cy="2660040"/>
            </a:xfrm>
          </p:grpSpPr>
          <p:sp>
            <p:nvSpPr>
              <p:cNvPr id="144" name=""/>
              <p:cNvSpPr/>
              <p:nvPr/>
            </p:nvSpPr>
            <p:spPr>
              <a:xfrm>
                <a:off x="1219320" y="2907000"/>
                <a:ext cx="2438640" cy="2590920"/>
              </a:xfrm>
              <a:prstGeom prst="rect">
                <a:avLst/>
              </a:prstGeom>
              <a:gradFill rotWithShape="0">
                <a:gsLst>
                  <a:gs pos="0">
                    <a:srgbClr val="ffffff"/>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447920" y="3135600"/>
                <a:ext cx="22100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edicare beneficiary        selects an MCO</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urrent commercial member becomes eligible for Medicare</a:t>
                </a:r>
                <a:endParaRPr b="0" lang="en-US" sz="1800" spc="-1" strike="noStrike">
                  <a:solidFill>
                    <a:srgbClr val="000000"/>
                  </a:solidFill>
                  <a:latin typeface="Times New Roman"/>
                </a:endParaRPr>
              </a:p>
            </p:txBody>
          </p:sp>
        </p:grpSp>
        <p:grpSp>
          <p:nvGrpSpPr>
            <p:cNvPr id="146" name=""/>
            <p:cNvGrpSpPr/>
            <p:nvPr/>
          </p:nvGrpSpPr>
          <p:grpSpPr>
            <a:xfrm>
              <a:off x="3886560" y="2144880"/>
              <a:ext cx="2446200" cy="609840"/>
              <a:chOff x="3886560" y="2144880"/>
              <a:chExt cx="2446200" cy="609840"/>
            </a:xfrm>
          </p:grpSpPr>
          <p:sp>
            <p:nvSpPr>
              <p:cNvPr id="147" name=""/>
              <p:cNvSpPr/>
              <p:nvPr/>
            </p:nvSpPr>
            <p:spPr>
              <a:xfrm>
                <a:off x="3886560" y="2144880"/>
                <a:ext cx="2438280" cy="609840"/>
              </a:xfrm>
              <a:prstGeom prst="rect">
                <a:avLst/>
              </a:prstGeom>
              <a:gradFill rotWithShape="0">
                <a:gsLst>
                  <a:gs pos="0">
                    <a:srgbClr val="ffcc00"/>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78720" y="2221200"/>
                <a:ext cx="23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enrollment</a:t>
                </a:r>
                <a:endParaRPr b="0" lang="en-US" sz="2400" spc="-1" strike="noStrike">
                  <a:solidFill>
                    <a:srgbClr val="000000"/>
                  </a:solidFill>
                  <a:latin typeface="Times New Roman"/>
                </a:endParaRPr>
              </a:p>
            </p:txBody>
          </p:sp>
        </p:grpSp>
        <p:grpSp>
          <p:nvGrpSpPr>
            <p:cNvPr id="149" name=""/>
            <p:cNvGrpSpPr/>
            <p:nvPr/>
          </p:nvGrpSpPr>
          <p:grpSpPr>
            <a:xfrm>
              <a:off x="3886560" y="2907000"/>
              <a:ext cx="2438280" cy="2590920"/>
              <a:chOff x="3886560" y="2907000"/>
              <a:chExt cx="2438280" cy="2590920"/>
            </a:xfrm>
          </p:grpSpPr>
          <p:sp>
            <p:nvSpPr>
              <p:cNvPr id="150" name=""/>
              <p:cNvSpPr/>
              <p:nvPr/>
            </p:nvSpPr>
            <p:spPr>
              <a:xfrm>
                <a:off x="3886560" y="2907000"/>
                <a:ext cx="2438280" cy="2590920"/>
              </a:xfrm>
              <a:prstGeom prst="rect">
                <a:avLst/>
              </a:prstGeom>
              <a:gradFill rotWithShape="0">
                <a:gsLst>
                  <a:gs pos="0">
                    <a:srgbClr val="ffffff"/>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059280"/>
                <a:ext cx="2210040" cy="230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Voluntarily elects to select another MCO</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nvoluntary MCO contract termin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152" name=""/>
            <p:cNvGrpSpPr/>
            <p:nvPr/>
          </p:nvGrpSpPr>
          <p:grpSpPr>
            <a:xfrm>
              <a:off x="6553440" y="2144880"/>
              <a:ext cx="2438280" cy="609840"/>
              <a:chOff x="6553440" y="2144880"/>
              <a:chExt cx="2438280" cy="609840"/>
            </a:xfrm>
          </p:grpSpPr>
          <p:sp>
            <p:nvSpPr>
              <p:cNvPr id="153" name=""/>
              <p:cNvSpPr/>
              <p:nvPr/>
            </p:nvSpPr>
            <p:spPr>
              <a:xfrm>
                <a:off x="6553440" y="2144880"/>
                <a:ext cx="2438280" cy="609840"/>
              </a:xfrm>
              <a:prstGeom prst="rect">
                <a:avLst/>
              </a:prstGeom>
              <a:gradFill rotWithShape="0">
                <a:gsLst>
                  <a:gs pos="0">
                    <a:srgbClr val="ffcc00"/>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899040" y="222120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rection</a:t>
                </a:r>
                <a:endParaRPr b="0" lang="en-US" sz="2400" spc="-1" strike="noStrike">
                  <a:solidFill>
                    <a:srgbClr val="000000"/>
                  </a:solidFill>
                  <a:latin typeface="Times New Roman"/>
                </a:endParaRPr>
              </a:p>
            </p:txBody>
          </p:sp>
        </p:grpSp>
        <p:grpSp>
          <p:nvGrpSpPr>
            <p:cNvPr id="155" name=""/>
            <p:cNvGrpSpPr/>
            <p:nvPr/>
          </p:nvGrpSpPr>
          <p:grpSpPr>
            <a:xfrm>
              <a:off x="6553440" y="2907000"/>
              <a:ext cx="2438280" cy="2590920"/>
              <a:chOff x="6553440" y="2907000"/>
              <a:chExt cx="2438280" cy="2590920"/>
            </a:xfrm>
          </p:grpSpPr>
          <p:sp>
            <p:nvSpPr>
              <p:cNvPr id="156" name=""/>
              <p:cNvSpPr/>
              <p:nvPr/>
            </p:nvSpPr>
            <p:spPr>
              <a:xfrm>
                <a:off x="6553440" y="2907000"/>
                <a:ext cx="2438280" cy="2590920"/>
              </a:xfrm>
              <a:prstGeom prst="rect">
                <a:avLst/>
              </a:prstGeom>
              <a:gradFill rotWithShape="0">
                <a:gsLst>
                  <a:gs pos="0">
                    <a:srgbClr val="ffffff"/>
                  </a:gs>
                  <a:gs pos="100000">
                    <a:srgbClr val="ffffff"/>
                  </a:gs>
                </a:gsLst>
                <a:lin ang="8100000"/>
              </a:gra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629760" y="3059280"/>
                <a:ext cx="220968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Submitted to annotate specific healthcare status inform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77118FF4-9D8F-4E7C-B2DD-C252FD48C3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05704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st-Based Submission Requirements</a:t>
            </a:r>
            <a:endParaRPr b="1" lang="en-US" sz="4400" spc="-1" strike="noStrike">
              <a:solidFill>
                <a:srgbClr val="ffffff"/>
              </a:solidFill>
              <a:latin typeface="Tahoma"/>
            </a:endParaRPr>
          </a:p>
        </p:txBody>
      </p:sp>
      <p:sp>
        <p:nvSpPr>
          <p:cNvPr id="159" name="PlaceHolder 2"/>
          <p:cNvSpPr>
            <a:spLocks noGrp="1"/>
          </p:cNvSpPr>
          <p:nvPr>
            <p:ph/>
          </p:nvPr>
        </p:nvSpPr>
        <p:spPr>
          <a:xfrm>
            <a:off x="1219320" y="1828800"/>
            <a:ext cx="77724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nrollmen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ffective date must be 1 to 3 months after the current date.</a:t>
            </a: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issenrollment</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ffective date must be the month following the month the request was received.</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f otherwise requested, effective date may be up to 3 months in advance. </a:t>
            </a: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rection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Does not apply to cost-based MCO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68E5C036-7C5C-44D9-B491-3FD084E250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362320" y="22824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C Enrollment Submission Requirements</a:t>
            </a:r>
            <a:endParaRPr b="1" lang="en-US" sz="3600" spc="-1" strike="noStrike">
              <a:solidFill>
                <a:srgbClr val="ffffff"/>
              </a:solidFill>
              <a:latin typeface="Tahoma"/>
            </a:endParaRPr>
          </a:p>
        </p:txBody>
      </p:sp>
      <p:graphicFrame>
        <p:nvGraphicFramePr>
          <p:cNvPr id="161" name=""/>
          <p:cNvGraphicFramePr/>
          <p:nvPr/>
        </p:nvGraphicFramePr>
        <p:xfrm>
          <a:off x="1295280" y="1676520"/>
          <a:ext cx="7467840" cy="4922640"/>
        </p:xfrm>
        <a:graphic>
          <a:graphicData uri="http://schemas.openxmlformats.org/drawingml/2006/table">
            <a:tbl>
              <a:tblPr/>
              <a:tblGrid>
                <a:gridCol w="1828800"/>
                <a:gridCol w="56390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Initial Coverage Period (ICEP)</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cc00"/>
                      </a:solidFill>
                    </a:lnR>
                    <a:lnT w="18720">
                      <a:solidFill>
                        <a:srgbClr val="ffcc00"/>
                      </a:solidFill>
                    </a:lnT>
                    <a:lnB w="18720">
                      <a:solidFill>
                        <a:srgbClr val="ffcc00"/>
                      </a:solidFill>
                    </a:lnB>
                    <a:solidFill>
                      <a:srgbClr val="ffffff"/>
                    </a:solidFill>
                  </a:tcPr>
                </a:tc>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3-month period prior to entitlement to Medicare Part A and Part B</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ffective the first day of the month of entitlement to Medicare Part A and Part B</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ffff"/>
                      </a:solidFill>
                    </a:lnR>
                    <a:lnT w="18720">
                      <a:solidFill>
                        <a:srgbClr val="ffffff"/>
                      </a:solidFill>
                    </a:lnT>
                    <a:lnB w="18720">
                      <a:solidFill>
                        <a:srgbClr val="ffffff"/>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Annual Election Period (AEP)</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cc00"/>
                      </a:solidFill>
                    </a:lnR>
                    <a:lnT w="18720">
                      <a:solidFill>
                        <a:srgbClr val="ffcc00"/>
                      </a:solidFill>
                    </a:lnT>
                    <a:lnB w="18720">
                      <a:solidFill>
                        <a:srgbClr val="ffcc00"/>
                      </a:solidFill>
                    </a:lnB>
                    <a:solidFill>
                      <a:srgbClr val="ffffff"/>
                    </a:solidFill>
                  </a:tcPr>
                </a:tc>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ccurs between November 15 and December 31</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ffective January 1 of the next year</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ffff"/>
                      </a:solidFill>
                    </a:lnR>
                    <a:lnT w="18720">
                      <a:solidFill>
                        <a:srgbClr val="ffffff"/>
                      </a:solidFill>
                    </a:lnT>
                    <a:lnB w="18720">
                      <a:solidFill>
                        <a:srgbClr val="ffffff"/>
                      </a:solidFill>
                    </a:lnB>
                    <a:noFill/>
                  </a:tcPr>
                </a:tc>
              </a:tr>
              <a:tr h="109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Special Election Period (SEP)</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cc00"/>
                      </a:solidFill>
                    </a:lnR>
                    <a:lnT w="18720">
                      <a:solidFill>
                        <a:srgbClr val="ffcc00"/>
                      </a:solidFill>
                    </a:lnT>
                    <a:lnB w="18720">
                      <a:solidFill>
                        <a:srgbClr val="ffcc00"/>
                      </a:solidFill>
                    </a:lnB>
                    <a:solidFill>
                      <a:srgbClr val="ffffff"/>
                    </a:solidFill>
                  </a:tcPr>
                </a:tc>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Occurs due to special circumstances</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ffective dates vary</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ffff"/>
                      </a:solidFill>
                    </a:lnR>
                    <a:lnT w="18720">
                      <a:solidFill>
                        <a:srgbClr val="ffffff"/>
                      </a:solidFill>
                    </a:lnT>
                    <a:lnB w="18720">
                      <a:solidFill>
                        <a:srgbClr val="ffffff"/>
                      </a:solidFill>
                    </a:lnB>
                    <a:noFill/>
                  </a:tcPr>
                </a:tc>
              </a:tr>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Open Enrollment Period (OEP)</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8720">
                      <a:solidFill>
                        <a:srgbClr val="ffcc00"/>
                      </a:solidFill>
                    </a:lnL>
                    <a:lnR w="18720">
                      <a:solidFill>
                        <a:srgbClr val="ffcc00"/>
                      </a:solidFill>
                    </a:lnR>
                    <a:lnT w="18720">
                      <a:solidFill>
                        <a:srgbClr val="ffcc00"/>
                      </a:solidFill>
                    </a:lnT>
                    <a:lnB w="18720">
                      <a:solidFill>
                        <a:srgbClr val="ffcc00"/>
                      </a:solidFill>
                    </a:lnB>
                    <a:solidFill>
                      <a:srgbClr val="ffffff"/>
                    </a:solidFill>
                  </a:tcPr>
                </a:tc>
                <a:tc>
                  <a:txBody>
                    <a:bodyPr lIns="90000" rIns="90000" tIns="46800" bIns="46800" anchor="t">
                      <a:noAutofit/>
                    </a:bodyPr>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Until January 2005 this may be any month</a:t>
                      </a:r>
                      <a:endParaRPr b="0" lang="en-US" sz="2000" spc="-1" strike="noStrike">
                        <a:solidFill>
                          <a:srgbClr val="000000"/>
                        </a:solidFill>
                        <a:latin typeface="Times New Roman"/>
                      </a:endParaRPr>
                    </a:p>
                    <a:p>
                      <a:pPr>
                        <a:lnSpc>
                          <a:spcPct val="10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ffective the first day of the month after signed application is received</a:t>
                      </a:r>
                      <a:endParaRPr b="0" lang="en-US" sz="2000" spc="-1" strike="noStrike">
                        <a:solidFill>
                          <a:srgbClr val="000000"/>
                        </a:solidFill>
                        <a:latin typeface="Times New Roman"/>
                      </a:endParaRPr>
                    </a:p>
                  </a:txBody>
                  <a:tcPr anchor="t" marL="90000" marR="90000">
                    <a:lnL w="18720">
                      <a:solidFill>
                        <a:srgbClr val="ffcc00"/>
                      </a:solidFill>
                    </a:lnL>
                    <a:lnR w="18720">
                      <a:solidFill>
                        <a:srgbClr val="ffffff"/>
                      </a:solidFill>
                    </a:lnR>
                    <a:lnT w="18720">
                      <a:solidFill>
                        <a:srgbClr val="ffffff"/>
                      </a:solidFill>
                    </a:lnT>
                    <a:lnB w="18720">
                      <a:solidFill>
                        <a:srgbClr val="ffffff"/>
                      </a:solidFill>
                    </a:lnB>
                    <a:noFill/>
                  </a:tcPr>
                </a:tc>
              </a:tr>
            </a:tbl>
          </a:graphicData>
        </a:graphic>
      </p:graphicFrame>
      <p:sp>
        <p:nvSpPr>
          <p:cNvPr id="3" name="PlaceHolder 2"/>
          <p:cNvSpPr>
            <a:spLocks noGrp="1"/>
          </p:cNvSpPr>
          <p:nvPr>
            <p:ph type="sldNum" idx="1"/>
          </p:nvPr>
        </p:nvSpPr>
        <p:spPr/>
        <p:txBody>
          <a:bodyPr/>
          <a:p>
            <a:fld id="{C5F08631-268E-4AC9-89BA-16D20A8C5B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5640" y="228240"/>
            <a:ext cx="6705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C Enrollment Submission Requirements</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16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s must be submitted by the cut off date for the current operating month.</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ffective date can be no earlier than the 1</a:t>
            </a:r>
            <a:r>
              <a:rPr b="0" lang="en-US" sz="2800" spc="-1" strike="noStrike" baseline="30000">
                <a:solidFill>
                  <a:srgbClr val="ffffff"/>
                </a:solidFill>
                <a:latin typeface="Tahoma"/>
              </a:rPr>
              <a:t>st</a:t>
            </a:r>
            <a:r>
              <a:rPr b="0" lang="en-US" sz="2800" spc="-1" strike="noStrike">
                <a:solidFill>
                  <a:srgbClr val="ffffff"/>
                </a:solidFill>
                <a:latin typeface="Tahoma"/>
              </a:rPr>
              <a:t> of month after the MCO receives the completed application.</a:t>
            </a:r>
            <a:endParaRPr b="0"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rollment request record may be submitted with an effective date of the current month and 3 months in the future.</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9557D238-44D9-4543-A8D3-46F5A936C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er Group Health Plan (EGHP).</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ive date can not precede signature da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ffective date may be up to 90 days prior to the current payment mont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2"/>
          <p:cNvSpPr>
            <a:spLocks noGrp="1"/>
          </p:cNvSpPr>
          <p:nvPr>
            <p:ph type="title"/>
          </p:nvPr>
        </p:nvSpPr>
        <p:spPr>
          <a:xfrm>
            <a:off x="2133720" y="228240"/>
            <a:ext cx="716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C Enrollment  Submission Requirements</a:t>
            </a:r>
            <a:r>
              <a:rPr b="1" lang="en-US" sz="2000" spc="-1" strike="noStrike">
                <a:solidFill>
                  <a:srgbClr val="ffffff"/>
                </a:solidFill>
                <a:latin typeface="Tahoma"/>
              </a:rPr>
              <a:t> (continued)</a:t>
            </a:r>
            <a:endParaRPr b="1" lang="en-US" sz="2000" spc="-1" strike="noStrike">
              <a:solidFill>
                <a:srgbClr val="ffffff"/>
              </a:solidFill>
              <a:latin typeface="Tahoma"/>
            </a:endParaRPr>
          </a:p>
        </p:txBody>
      </p:sp>
      <p:sp>
        <p:nvSpPr>
          <p:cNvPr id="4" name="PlaceHolder 3"/>
          <p:cNvSpPr>
            <a:spLocks noGrp="1"/>
          </p:cNvSpPr>
          <p:nvPr>
            <p:ph type="sldNum" idx="1"/>
          </p:nvPr>
        </p:nvSpPr>
        <p:spPr/>
        <p:txBody>
          <a:bodyPr/>
          <a:p>
            <a:fld id="{DC501DF3-C008-4690-B9B0-E471FCBC94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6T17:57:01Z</dcterms:created>
  <dc:creator>areddix</dc:creator>
  <dc:description/>
  <dc:language>en-US</dc:language>
  <cp:lastModifiedBy>CMS</cp:lastModifiedBy>
  <dcterms:modified xsi:type="dcterms:W3CDTF">2004-09-13T11:50:05Z</dcterms:modified>
  <cp:revision>45</cp:revision>
  <dc:subject/>
  <dc:title>PowerPoint Presentation</dc:title>
</cp:coreProperties>
</file>