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5629-7FD6-4235-B0FB-9AC6E42529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I will speak about the Privacy regs and their impact on health plans from Tufts HP’s perspectiv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Mass H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99360"/>
            <a:ext cx="914256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14120" y="6629400"/>
            <a:ext cx="1143000" cy="1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915840"/>
            <a:ext cx="87598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85040" y="6400800"/>
            <a:ext cx="265752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99360"/>
            <a:ext cx="914256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114120" y="6629400"/>
            <a:ext cx="1143000" cy="1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85040" y="6400800"/>
            <a:ext cx="2657520" cy="45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alth Insurance Portability and Accountability Ac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vacy Regulations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act on Health Plans</a:t>
            </a:r>
            <a:br>
              <a:rPr sz="2400"/>
            </a:br>
            <a:br>
              <a:rPr sz="3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dicare Managed Care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rollment and Payment Conference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eptember 18, 200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4571640"/>
            <a:ext cx="6400800" cy="1600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Anne Doyle, M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Compliance and Privacy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Tufts Health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333 Wyman Stre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Waltham, MA 02454-91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781-768-9323  Anne_Doyle@tufts-health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7632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vacy Regulation Impact on Tufts 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895480"/>
            <a:ext cx="2514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P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es and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066680"/>
            <a:ext cx="5334120" cy="1447920"/>
          </a:xfrm>
          <a:prstGeom prst="wedgeEllipseCallout">
            <a:avLst>
              <a:gd name="adj1" fmla="val 19078"/>
              <a:gd name="adj2" fmla="val 4254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0120" y="1219320"/>
            <a:ext cx="4177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ricted/permitted disclo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/amendment /accounting r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2438280"/>
            <a:ext cx="2895480" cy="2057400"/>
          </a:xfrm>
          <a:prstGeom prst="wedgeEllipseCallout">
            <a:avLst>
              <a:gd name="adj1" fmla="val -39416"/>
              <a:gd name="adj2" fmla="val 972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ssoc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4419720"/>
            <a:ext cx="4191120" cy="1828800"/>
          </a:xfrm>
          <a:prstGeom prst="wedgeEllipseCallout">
            <a:avLst>
              <a:gd name="adj1" fmla="val -11476"/>
              <a:gd name="adj2" fmla="val -2734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f Insured vs. fully In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P as an employer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666880"/>
            <a:ext cx="2895480" cy="1600200"/>
          </a:xfrm>
          <a:prstGeom prst="wedgeEllipseCallout">
            <a:avLst>
              <a:gd name="adj1" fmla="val 35962"/>
              <a:gd name="adj2" fmla="val -634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ssoc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95680" y="25146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3429000"/>
            <a:ext cx="4572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403848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95120" y="3429000"/>
            <a:ext cx="3812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act on Tufts HP of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s Related to Memb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w verification ste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tricted and permitted disclo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sonal representatives (health care proxies, durable powers of attorne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ice of Privacy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cy Officer telephone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w patient rights to access, amend and receive an accounting of disclo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jor Challen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ifting mindsets of members, business associates and employe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ny new policies and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eaking and adju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ily problem-s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going training, retraining and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eping material 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nitoring and enforc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nal Audit, Corporate Compliance, Depart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gration with HIPAA Security R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cy and security are inextricably link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fts Health Plan Overvie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nded in 1979 as a not-for-profit health maintenance orga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dicare contract since 19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arly 900,000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dicare + Choice: 80,000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MO, PPO, POS: 800,000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tional Committee for Quality Assurance (NCQA) awarded excellent accreditation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PAA Privacy Overview:  Agend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“Meaning” of Priv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act of privacy regulations on Tufts Health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eacefu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uthouse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ecting Priva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ility to protect an individual’s privacy i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mited by technolog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tu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mited by human 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“Meaning” of Priva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the eye of the b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trol:  Protect privacy as our members desire to have their privacy 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serving dig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’s not about secrec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vacy Regulation Approa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rivacy regulations recognize these realities and limitations and address them in very practical way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asonableness standar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igorous and extensive requirements (tempered by the reasonableness standar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forc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fts Health Plan Objectiv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lement HIPAA privacy regulation based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asonableness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derstanding of  industry standards regionally and natio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mber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17:57:47Z</dcterms:created>
  <dc:creator>Dan Tousignant</dc:creator>
  <dc:description/>
  <dc:language>en-US</dc:language>
  <cp:lastModifiedBy>cindyghatcher</cp:lastModifiedBy>
  <cp:lastPrinted>2002-06-06T22:24:20Z</cp:lastPrinted>
  <dcterms:modified xsi:type="dcterms:W3CDTF">2003-08-13T21:32:40Z</dcterms:modified>
  <cp:revision>171</cp:revision>
  <dc:subject/>
  <dc:title>HIPAA JAD Sessions</dc:title>
</cp:coreProperties>
</file>