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495-289C-4220-BFA7-AACFD0F00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000" y="715680"/>
            <a:ext cx="449748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209B-5FF5-4C11-B38F-3AE861388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3FAD-DDCB-470C-AF60-CBD21588F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228600" y="4368600"/>
            <a:ext cx="6400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52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D2FF-AE76-40B9-9166-EFFA1B3A4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16C-3DD9-4837-8A51-059BA438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465440" cy="3449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E345-F4A0-41FE-9AB0-088E60CA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9080" y="714240"/>
            <a:ext cx="4478400" cy="3462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50D-518F-44D0-B498-D44734BC0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DECB-0B18-45A4-8ABE-537FDE1BA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0511-B90D-4F12-9728-97797EC0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4EA4-6499-463F-B80D-3451DBE8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BE2A-D08B-43FD-8203-90FB1B7E3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79AB-E633-4239-B014-24D2295D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B65D-C95A-4537-A6BA-40D5D5EA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82600" y="717480"/>
            <a:ext cx="449100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5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772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0880" indent="-220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7162560"/>
            <a:ext cx="403848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455760"/>
            <a:ext cx="8683560" cy="66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880" y="7162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I. Page </a:t>
            </a:r>
            <a:fld id="{00C02A99-425C-4512-BE3A-86150A27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5160" y="716292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ms.hhs.gov/charts/series/default.asp" TargetMode="External"/><Relationship Id="rId2" Type="http://schemas.openxmlformats.org/officeDocument/2006/relationships/hyperlink" Target="http://www.cms.hhs.gov/charts/series/sec2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MSlogo" descr=""/>
          <p:cNvPicPr/>
          <p:nvPr/>
        </p:nvPicPr>
        <p:blipFill>
          <a:blip r:embed="rId1"/>
          <a:stretch/>
        </p:blipFill>
        <p:spPr>
          <a:xfrm>
            <a:off x="7794720" y="6477120"/>
            <a:ext cx="1780920" cy="77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7520" y="690480"/>
            <a:ext cx="8967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27280"/>
            <a:ext cx="10058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4800" y="258840"/>
            <a:ext cx="9472680" cy="423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RDIlogcol" descr=""/>
          <p:cNvPicPr/>
          <p:nvPr/>
        </p:nvPicPr>
        <p:blipFill>
          <a:blip r:embed="rId2"/>
          <a:stretch/>
        </p:blipFill>
        <p:spPr>
          <a:xfrm>
            <a:off x="471600" y="6559560"/>
            <a:ext cx="1288800" cy="663480"/>
          </a:xfrm>
          <a:prstGeom prst="rect">
            <a:avLst/>
          </a:prstGeom>
          <a:ln w="0">
            <a:noFill/>
          </a:ln>
        </p:spPr>
      </p:pic>
      <p:pic>
        <p:nvPicPr>
          <p:cNvPr id="55" name="WideCMS(800x75)" descr=""/>
          <p:cNvPicPr/>
          <p:nvPr/>
        </p:nvPicPr>
        <p:blipFill>
          <a:blip r:embed="rId3"/>
          <a:stretch/>
        </p:blipFill>
        <p:spPr>
          <a:xfrm>
            <a:off x="0" y="5354640"/>
            <a:ext cx="10058400" cy="971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gram Information</a:t>
            </a:r>
            <a:br>
              <a:rPr sz="3600"/>
            </a:br>
            <a:br>
              <a:rPr sz="1800"/>
            </a:b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on Medicare, Medicaid, SCHIP,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and other programs of the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enters for Medicar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&amp;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Medicai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7080" y="7167600"/>
            <a:ext cx="152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6920" y="1311120"/>
            <a:ext cx="223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8120" y="933480"/>
          <a:ext cx="714384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33480"/>
                    <a:ext cx="714384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012680" y="1225440"/>
            <a:ext cx="2239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68440"/>
            <a:ext cx="8550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39144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Other spending includes dentist services, other professional services, home health, durable medical products, over-the-counter medicines and sundries, public health, research and constr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9907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pital and physician spending accounts for more than half of all health spendin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579132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914400" y="1905120"/>
          <a:ext cx="859932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859932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1005840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ealth Services, by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896760" y="3562200"/>
            <a:ext cx="15541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7920" y="2462040"/>
            <a:ext cx="1671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2160" y="6781680"/>
            <a:ext cx="8380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Centers for Medicare &amp; Medicaid Services, Office of the Actuary, National 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5880" y="1314360"/>
            <a:ext cx="85867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recent years, the hospital share of total spending has decreased while the prescription drug share ha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14400" y="2233440"/>
          <a:ext cx="7961400" cy="39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33440"/>
                    <a:ext cx="79614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016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19840" y="372312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138096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45480" y="5076720"/>
            <a:ext cx="11797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e of N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678120"/>
            <a:ext cx="7380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90960" y="3943440"/>
            <a:ext cx="2523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851520" y="4836600"/>
            <a:ext cx="828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96120" y="723420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3082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ply rising prescription drug expenditure growth nationwide in the mid- to late 1990s caused noticeable growth in prescription drugs as a share of tot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64040" y="2819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0384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4960" y="3581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640" y="4724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87360" y="456840"/>
            <a:ext cx="739944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cription Drug Expenditure Growth and Share of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33720"/>
          <a:ext cx="47242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4724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995400" y="5730840"/>
            <a:ext cx="220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61960"/>
            <a:ext cx="85341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19720" y="1371600"/>
          <a:ext cx="5259240" cy="44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71600"/>
                    <a:ext cx="52592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67520" y="1989000"/>
            <a:ext cx="18334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981080"/>
            <a:ext cx="2011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7720" y="2344680"/>
            <a:ext cx="106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181120"/>
            <a:ext cx="7682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2440" y="274284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895120"/>
            <a:ext cx="182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3080" y="273492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03240" y="5174640"/>
            <a:ext cx="7876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433512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6800" y="6553440"/>
            <a:ext cx="85294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are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01916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financing of prescription drug expenditures has rapidly shifted from consumer out-of-pocket spending to private health insura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Prescription Drug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Prescription Drug Out-of-Pocket and Private Health Insuranc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54200" y="2244600"/>
          <a:ext cx="8550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44600"/>
                    <a:ext cx="8550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754200" y="690480"/>
            <a:ext cx="855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371600"/>
            <a:ext cx="8458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an effort to control rising drug spending, insurers implemented tiered co-pays that shifted part of spending growth back to consumers. This contributed to a smaller gap between the rate of out-of-pocket and private health insurance spending growth in recent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54200" y="517680"/>
            <a:ext cx="8550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06640" y="1697040"/>
          <a:ext cx="727524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697040"/>
                    <a:ext cx="7275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8640" y="23461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8640" y="28033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5760" y="11253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200" y="1415880"/>
            <a:ext cx="853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gher public payments have offset lower private payments in the past dec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4200" y="609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ospital Services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2057400" y="2057400"/>
          <a:ext cx="611496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6114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rot="16200000">
            <a:off x="1122120" y="3709800"/>
            <a:ext cx="17362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s per 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15000">
            <a:off x="7963200" y="3705120"/>
            <a:ext cx="57024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60240"/>
            <a:ext cx="85341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64008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This chart captures discharges and length of stay for all patients of all payers in non-federal hospitals with average lengths of stays of less than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.S National Center for Health Statistic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Vital and Health Statistic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Series 1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2193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implementation of the Medicare prospective payment system and the rise of man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re have contributed to a noticeable decline in both discharges and average length of st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Stay Hospitals: Discharges and Length of Stay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5480" y="2482920"/>
            <a:ext cx="957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5720" y="7140600"/>
            <a:ext cx="16621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9960" y="345960"/>
            <a:ext cx="855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200" y="1468440"/>
            <a:ext cx="8550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4080" y="1628640"/>
            <a:ext cx="795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33520"/>
            <a:ext cx="8534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523880" y="1905120"/>
          <a:ext cx="706608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6608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762120" y="655308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, and special hospitals whose activ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last 20 years there has been a significant shift in the composition of heal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ices as more treatments are performed in the outpatient set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39800" y="36331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Hospital Expenditure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atient and Outpatient Shares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43000" y="1863720"/>
          <a:ext cx="75531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3720"/>
                    <a:ext cx="75531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37880" y="6248520"/>
            <a:ext cx="123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40200" y="507960"/>
            <a:ext cx="203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5040" y="4114800"/>
            <a:ext cx="9666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5760" y="5257800"/>
            <a:ext cx="839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0000" y="2048040"/>
            <a:ext cx="1217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2589120"/>
            <a:ext cx="0" cy="11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2080" y="2733840"/>
            <a:ext cx="1216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6743160" y="30859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010280" y="3279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7120" y="1222200"/>
            <a:ext cx="8593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aged care contributed to the slower pace in inpatient expenditure growth and the continued move of services to outpatient settings that began with the introduction of Medicare P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720" y="6553080"/>
            <a:ext cx="823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 and special hospitals whose facil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461520"/>
            <a:ext cx="61722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Inpatient and Outpatient Expenditures in Community Hospitals for All Payers, 198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517680"/>
            <a:ext cx="8534160" cy="77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Funding for Freestand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sing Home Expenditures for All Payers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14400" y="1752480"/>
          <a:ext cx="8229600" cy="48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2296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2120" y="655956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Hospital-based Skilled Nursing Facilities are exclu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3200400"/>
            <a:ext cx="11588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22600" y="4191120"/>
            <a:ext cx="8064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8920" y="1974960"/>
            <a:ext cx="973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960" y="5715000"/>
            <a:ext cx="1084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Other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371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id remains the largest single payer of nursing home c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823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.  U.S. Health C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4200" y="380880"/>
            <a:ext cx="855000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Growth in Public and Private Sources of Home Health Spending:  CY 199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2057400"/>
          <a:ext cx="750384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50384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public spending for home health ceased in the late 1990s with the BBA’s interim payment system plus increased fraud and abuse efforts under Medi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880" y="6781680"/>
            <a:ext cx="856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  Note:  BBA indicates the Balanced Budget Act of 1997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062720" y="39657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5960" y="517680"/>
            <a:ext cx="72471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2439000"/>
            <a:ext cx="204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55760" y="1127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13716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decade, out-of-pocket payments declined while private insurance payment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38080" y="2133720"/>
          <a:ext cx="817272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1727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46784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of Expenditures for Physician and Clinical Service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376280" y="1752480"/>
          <a:ext cx="71452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1752480"/>
                    <a:ext cx="71452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62120" y="609480"/>
            <a:ext cx="853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6553080"/>
            <a:ext cx="85341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Percent change from the same period of previous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U.S. Department of Labor, Bureau of Labor Statistic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360" y="2724120"/>
            <a:ext cx="568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908600"/>
            <a:ext cx="114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370200" y="4145040"/>
            <a:ext cx="25092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951160" y="284940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155600"/>
            <a:ext cx="8534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upturn in health spending in 2000 is expected to continue in 2001, as reflec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ployment statistics; health care employment continues to increase while emplo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the overall economy fal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880920" y="3614040"/>
            <a:ext cx="1112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Total and Health Services Employmen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25440" y="1986120"/>
          <a:ext cx="7801200" cy="40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6120"/>
                    <a:ext cx="7801200" cy="40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632448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ominal: values expressed in current dollar terms (not adjusted for inflation). Real: values deflated by the GDP chain-weighted price inde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5945040"/>
            <a:ext cx="16207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848520" y="360468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685800"/>
            <a:ext cx="8535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839080" y="4648320"/>
            <a:ext cx="52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717040" y="4059360"/>
            <a:ext cx="1003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118200" y="2417400"/>
            <a:ext cx="0" cy="31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550360" y="4232160"/>
            <a:ext cx="3031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632440" y="4835520"/>
            <a:ext cx="25236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2320" y="1238400"/>
            <a:ext cx="8221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minal health expenditure growth is projected to exceed the growth of the mid- to late 1990s, but fall short of the growth experienced in the late 1980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1160" y="2168640"/>
            <a:ext cx="203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02520" y="250020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8760" y="250020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2514600"/>
          <a:ext cx="751032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2514600"/>
                    <a:ext cx="751032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57080" y="457200"/>
            <a:ext cx="8542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678960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51520" y="2325600"/>
            <a:ext cx="0" cy="35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2520" y="289404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2040" y="289404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371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tween 2001 and 2011, health spending is projected to grow 2.5 percent per year faster than GDP, so that by 2011 it will constitute 17 percent of GD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4200" y="6145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71600" y="312408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1"/>
          </p:cNvPr>
          <p:cNvSpPr/>
          <p:nvPr/>
        </p:nvSpPr>
        <p:spPr>
          <a:xfrm>
            <a:off x="12193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13890"/>
                </a:moveTo>
                <a:lnTo>
                  <a:pt x="17806" y="6883"/>
                </a:lnTo>
                <a:lnTo>
                  <a:pt x="17806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2"/>
          </p:cNvPr>
          <p:cNvSpPr/>
          <p:nvPr/>
        </p:nvSpPr>
        <p:spPr>
          <a:xfrm>
            <a:off x="83059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6883"/>
                </a:moveTo>
                <a:lnTo>
                  <a:pt x="17806" y="13890"/>
                </a:lnTo>
                <a:lnTo>
                  <a:pt x="3794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6172200"/>
            <a:ext cx="3733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turn to Main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WWW.CMS.HHS.GOV/CHARTS/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6324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Ch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918720"/>
            <a:ext cx="8550000" cy="464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90720" y="2573280"/>
          <a:ext cx="77324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73280"/>
                    <a:ext cx="77324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678960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7360" y="2379600"/>
            <a:ext cx="1597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elerate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344680"/>
            <a:ext cx="150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2268360"/>
            <a:ext cx="0" cy="354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29528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the health spending share of GDP stabilized beginning in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1905120"/>
          <a:ext cx="768816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768816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600200"/>
            <a:ext cx="6891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40080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eflated using the GDP chain weighted price index. Nominal: values expressed in current dollar terms (not adjusted for inflation). Real: values adjusted for economy-wide infl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943600"/>
            <a:ext cx="1619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207440" y="366804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0840" y="4800600"/>
            <a:ext cx="5274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4191120"/>
            <a:ext cx="10033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1980720"/>
            <a:ext cx="0" cy="371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772040" y="4419720"/>
            <a:ext cx="3049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029200"/>
            <a:ext cx="25236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90720"/>
            <a:ext cx="853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lth spending growth slowed between 1993 and 2000 to an average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f 5.6 percent, about half the rate of increase between 1980 and 199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4200" y="3049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905120" y="1676520"/>
          <a:ext cx="65530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5530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3840" y="441000"/>
            <a:ext cx="8535960" cy="77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Accounting for Growth in Personal Health Care</a:t>
            </a:r>
            <a:r>
              <a:rPr b="1" lang="en-US" sz="2000" spc="-1" strike="noStrike" baseline="42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Per Capi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3720" y="5129280"/>
            <a:ext cx="25066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Calendar Year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084320" y="3182760"/>
            <a:ext cx="25635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Annual Percen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280" y="1380960"/>
            <a:ext cx="88009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8480" y="2057400"/>
            <a:ext cx="24120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410080"/>
            <a:ext cx="87645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ersonal health care spending comprises therapeutic goods or services rendered to treat or prevent a specific disease or condition in a specific person.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tilization includes quantity, quality, and mix of services.  As a residual, this factor also includes any errors in measuring prices or total spe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Medical prices are calculated using the personal health care chain-type index constructed from the producer price inde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hospital care, nursing home input price index for nursing home care, and consumer price indexes specific to each of the remaining personal health care componen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171440"/>
            <a:ext cx="8534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ost important factor accounting for the slowdown in personal health care 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owth after 1993 was the decline in medical price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33720" y="1371600"/>
          <a:ext cx="700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700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08040" y="1122480"/>
            <a:ext cx="729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200" y="5962680"/>
            <a:ext cx="8542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ublic includes programs such as workers’ compensation, public health activity, Department of Defense, Department of Veterans Affairs, Indian Health Service, and State and local hospital subsidies and school heal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rivate includes industrial in-plant, privately funded construction, and non-patient revenues, including philanthro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umbers shown may not sum due to rou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276720"/>
            <a:ext cx="1441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99400" y="706104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1113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, Medicaid, and SCHIP account for one-third of nation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556272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Nation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43200" y="2690640"/>
            <a:ext cx="639720" cy="1729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61960"/>
            <a:ext cx="8534160" cy="6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nnual Growth in Per-Enroll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re and Private Health Insuranc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081160"/>
          <a:ext cx="789804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81160"/>
                    <a:ext cx="78980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rot="16200000">
            <a:off x="826200" y="392040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24560"/>
            <a:ext cx="1839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0200" y="2666880"/>
            <a:ext cx="1435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040" y="2666880"/>
            <a:ext cx="11534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819520"/>
            <a:ext cx="11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85840" y="28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3240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 grew slightly slower than private health insurance over the 30-year period, though growth rates diverged significantly in selected perio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54208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Aggregate Medicare Personal Health Car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66680" y="2216160"/>
          <a:ext cx="777888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16160"/>
                    <a:ext cx="777888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108800">
            <a:off x="880200" y="3844080"/>
            <a:ext cx="96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06668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llowing rapid growth in expenditures in the early 1990s, the Balanced Budget 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duced the rate of spending growth between 1997 and 1999.  The Balanced Budget Refinement Act contributed to a resurgence of spending in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53416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Medicaid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3882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SH is disproportionate share hospital. SCHIP is the State Children’s Health Insurance Program. For a discussion of changing eligibility policies, see K. Levit et al., “Health Spending in 1998: Signals of Change,”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Health Affair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Jan/Feb 2000): 124-13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 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3640" y="1852560"/>
          <a:ext cx="87026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852560"/>
                    <a:ext cx="8702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762120" y="9907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ing Medicaid eligibility rules and a spillover effect from outreach efforts under S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d to increasing Medicaid spending in 1998 and 1999 followed by stabilization in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5840" y="28195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fare to Work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374960" y="3276720"/>
            <a:ext cx="75960" cy="1218960"/>
          </a:xfrm>
          <a:custGeom>
            <a:avLst/>
            <a:gdLst/>
            <a:ahLst/>
            <a:rect l="l" t="t" r="r" b="b"/>
            <a:pathLst>
              <a:path w="60" h="696">
                <a:moveTo>
                  <a:pt x="0" y="0"/>
                </a:moveTo>
                <a:lnTo>
                  <a:pt x="60" y="6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668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in D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7040" y="2362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3352680"/>
            <a:ext cx="152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IP outreach and upper payment limit effects boosts s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908840" y="43434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5:16:25Z</dcterms:created>
  <dc:creator>HCFA Software Control</dc:creator>
  <dc:description/>
  <dc:language>en-US</dc:language>
  <cp:lastModifiedBy>CMS</cp:lastModifiedBy>
  <cp:lastPrinted>2002-03-29T22:39:14Z</cp:lastPrinted>
  <dcterms:modified xsi:type="dcterms:W3CDTF">2002-06-14T19:12:46Z</dcterms:modified>
  <cp:revision>377</cp:revision>
  <dc:subject/>
  <dc:title>Medicare and Medicaid Expenditures as a Percent of All National Health Expenditures, Calendar Year 1998</dc:title>
</cp:coreProperties>
</file>