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5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772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0880" indent="-220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7178400"/>
            <a:ext cx="2095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7162560"/>
            <a:ext cx="403848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4360" y="455760"/>
            <a:ext cx="8683560" cy="66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92400" y="7162920"/>
            <a:ext cx="21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III.C. Page </a:t>
            </a:r>
            <a:fld id="{91D573BD-1191-40B8-B8B6-39734EEA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s.hhs.gov/charts/series/default.asp" TargetMode="External"/><Relationship Id="rId2" Type="http://schemas.openxmlformats.org/officeDocument/2006/relationships/hyperlink" Target="http://www.cms.hhs.gov/charts/series/sec3-d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MSlogo" descr=""/>
          <p:cNvPicPr/>
          <p:nvPr/>
        </p:nvPicPr>
        <p:blipFill>
          <a:blip r:embed="rId1"/>
          <a:stretch/>
        </p:blipFill>
        <p:spPr>
          <a:xfrm>
            <a:off x="7794720" y="6477120"/>
            <a:ext cx="1780920" cy="77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7520" y="690480"/>
            <a:ext cx="8967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27280"/>
            <a:ext cx="10058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" y="258840"/>
            <a:ext cx="9472680" cy="423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RDIlogcol" descr=""/>
          <p:cNvPicPr/>
          <p:nvPr/>
        </p:nvPicPr>
        <p:blipFill>
          <a:blip r:embed="rId2"/>
          <a:stretch/>
        </p:blipFill>
        <p:spPr>
          <a:xfrm>
            <a:off x="471600" y="6559560"/>
            <a:ext cx="1288800" cy="663480"/>
          </a:xfrm>
          <a:prstGeom prst="rect">
            <a:avLst/>
          </a:prstGeom>
          <a:ln w="0">
            <a:noFill/>
          </a:ln>
        </p:spPr>
      </p:pic>
      <p:pic>
        <p:nvPicPr>
          <p:cNvPr id="48" name="WideCMS(800x75)" descr=""/>
          <p:cNvPicPr/>
          <p:nvPr/>
        </p:nvPicPr>
        <p:blipFill>
          <a:blip r:embed="rId3"/>
          <a:stretch/>
        </p:blipFill>
        <p:spPr>
          <a:xfrm>
            <a:off x="0" y="5354640"/>
            <a:ext cx="10058400" cy="971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gram Information</a:t>
            </a:r>
            <a:br>
              <a:rPr sz="3600"/>
            </a:br>
            <a:br>
              <a:rPr sz="1800"/>
            </a:b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on Medicare, Medicaid, SCHIP,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and other programs of the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enters for Medicar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&amp;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Medicai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7080" y="7167600"/>
            <a:ext cx="152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CFE60-509C-4033-8292-77C98A05BC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. Medicare Program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5053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038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Medicare Program S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7178760"/>
            <a:ext cx="2095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7086600"/>
            <a:ext cx="4038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80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553080"/>
            <a:ext cx="85723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Overall spending includes benefit dollars, administrative costs, and program integrity costs. Represents Federal spending onl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CMS, Office of the Actu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406520"/>
            <a:ext cx="8686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all Medicare spending grew from $3.3 billion in 1967 to nearly $241 billion in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22160" y="1641600"/>
          <a:ext cx="85172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641600"/>
                    <a:ext cx="85172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16200000">
            <a:off x="-54000" y="3482640"/>
            <a:ext cx="205884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lars in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r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FDF93-DA6D-4A60-B001-BDC1C2B54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550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the Medicare Claims Dollar Went, FY 2001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0440" y="1219320"/>
          <a:ext cx="852804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219320"/>
                    <a:ext cx="852804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590920" y="1919160"/>
            <a:ext cx="1523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atient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93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5043600"/>
            <a:ext cx="2135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pital Outpatient and Other Outpatient Facilitie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0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5195880"/>
            <a:ext cx="198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0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0844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d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2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4203720"/>
            <a:ext cx="198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p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5100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9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90060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lled Nur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3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09680"/>
            <a:ext cx="7391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6019920"/>
            <a:ext cx="853416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outpatient facilities include ESRD freestanding dialysis facilities, RHCs, outpatient rehabilitation facilities, and federally qualified health center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services include ambulatory surgical center facility costs and ambulance servic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Spending includes benefit dollars only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do not sum due to rounding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CMS, Office of the Actu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233360"/>
            <a:ext cx="7467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= $236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662360"/>
            <a:ext cx="25146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E, Supplies, Independent Labs and Other Services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6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37636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00400" y="397656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62520" y="4814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429000" y="4509720"/>
            <a:ext cx="230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714640" y="4966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629040" y="3139920"/>
            <a:ext cx="38268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48160" y="4509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6476760" y="4203720"/>
            <a:ext cx="22860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709A0-F756-483F-A6FB-9B5BF2775C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219320"/>
            <a:ext cx="8686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tal national personal health care spending in CY 2000 was $1.1 trillion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 accounted for 19 per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09640" y="1986120"/>
          <a:ext cx="756936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986120"/>
                    <a:ext cx="75693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229600" y="1905120"/>
            <a:ext cx="15876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1905120"/>
            <a:ext cx="52387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8040" y="2073240"/>
            <a:ext cx="15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412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3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70560" y="24177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286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2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94400" y="2763720"/>
            <a:ext cx="152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22 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2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9240" y="3108240"/>
            <a:ext cx="15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92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0200" y="3800520"/>
            <a:ext cx="152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39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12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22640" y="34545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60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5960" y="4145040"/>
            <a:ext cx="15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37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72080" y="4835520"/>
            <a:ext cx="152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31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2080" y="4491000"/>
            <a:ext cx="152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32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2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7840" y="5181480"/>
            <a:ext cx="15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9 Bill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care pays 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400800"/>
            <a:ext cx="85341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Medicare payments are from managed care plans only, since fee-for-service Medicare does not generally cover outpatient prescription dru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CMS, Office of the Actuary, National Health Statistic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743200"/>
            <a:ext cx="228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Personal Health Care Expenditures, by Type of Service and Percent Medicare Paid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B9FA9-2F6C-4912-AB28-40465C9C1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12193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13890"/>
                </a:moveTo>
                <a:lnTo>
                  <a:pt x="17806" y="6883"/>
                </a:lnTo>
                <a:lnTo>
                  <a:pt x="17806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/>
          </p:cNvPr>
          <p:cNvSpPr/>
          <p:nvPr/>
        </p:nvSpPr>
        <p:spPr>
          <a:xfrm>
            <a:off x="83059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6883"/>
                </a:moveTo>
                <a:lnTo>
                  <a:pt x="17806" y="13890"/>
                </a:lnTo>
                <a:lnTo>
                  <a:pt x="3794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248520"/>
            <a:ext cx="3733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turn to Main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WWW.CMS.HHS.GOV/CHARTS/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64008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Ch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7178760"/>
            <a:ext cx="2095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7086600"/>
            <a:ext cx="4038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5:16:25Z</dcterms:created>
  <dc:creator>HCFA Software Control</dc:creator>
  <dc:description/>
  <dc:language>en-US</dc:language>
  <cp:lastModifiedBy>cgodfrey</cp:lastModifiedBy>
  <cp:lastPrinted>2002-03-29T23:28:47Z</cp:lastPrinted>
  <dcterms:modified xsi:type="dcterms:W3CDTF">2002-06-10T21:11:58Z</dcterms:modified>
  <cp:revision>266</cp:revision>
  <dc:subject/>
  <dc:title>Medicare and Medicaid Expenditures as a Percent of All National Health Expenditures, Calendar Year 1998</dc:title>
</cp:coreProperties>
</file>