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88A-D6CA-4928-9A67-79F6143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1C5-2F7F-4E1C-9E46-CDF5BAC4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66E-9D9C-441D-86F2-B93D6751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4FF-55B9-4599-B2B4-1BEA6C0F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70F-9777-4F55-ACDF-1668B979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EF59-D45C-455D-BCC5-14AD4A0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0913-941C-4AB9-905B-BFD6F6C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7B8B-23ED-4376-9CF5-D1D184A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5417-C19A-4935-BB5A-9C81CCB3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21E-1450-4463-A1BF-2662FBAC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7DCF-CDF5-4B9D-995C-18EDF19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9C6-360A-41D7-A48F-41DC350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B3DA-7A25-4748-9B63-4441901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C3AA-6534-4651-A55B-27B91F8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81B-38B9-40EB-97F6-B6400C51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A24E-1A98-49F0-9123-E8567E0F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ACD8-1755-4DB3-8E05-4A7E5609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15E-9774-43F4-B205-1330544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EFF-34B3-4CEF-AF3B-25B249E3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291-D642-4603-A2B6-0415612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DFB-0834-4B5D-AC59-AD1F8CD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0FB-229C-4641-BB03-8DDF0EA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146-276D-455B-BA88-1AB134B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F71-F9B2-4B5B-8969-5A2E8AA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0A34-ABFD-4550-8ED0-8A89FDED8AB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000-9C86-4121-8623-CECFDACD675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MS%20ppt%20templ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23880" y="106668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otal and Per Capita Medicaid Expenditu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981080"/>
            <a:ext cx="3886200" cy="4496040"/>
          </a:xfrm>
          <a:prstGeom prst="rect">
            <a:avLst/>
          </a:prstGeom>
          <a:noFill/>
          <a:ln w="9360">
            <a:solidFill>
              <a:srgbClr val="3c5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2133720"/>
            <a:ext cx="1905120" cy="304560"/>
          </a:xfrm>
          <a:prstGeom prst="rect">
            <a:avLst/>
          </a:prstGeom>
          <a:noFill/>
          <a:ln w="9360">
            <a:solidFill>
              <a:srgbClr val="f9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1981080"/>
            <a:ext cx="4343400" cy="4496040"/>
          </a:xfrm>
          <a:prstGeom prst="rect">
            <a:avLst/>
          </a:prstGeom>
          <a:noFill/>
          <a:ln w="9360">
            <a:solidFill>
              <a:srgbClr val="3c5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1720" y="6048360"/>
          <a:ext cx="5294160" cy="344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1720" y="6048360"/>
                    <a:ext cx="52941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276720" y="41148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375,58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43434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3,32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45720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1,501,664,243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8006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73.80 %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0292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9,165,167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114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Persons Served (FY 2000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343400"/>
            <a:ext cx="350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*Average Medicaid Payment Per Person Served (FY 2000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4572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Net Reported Medicaid Expenditures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8006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Federal Medical Assistance Percentage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50292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DSH Expenditures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51814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42,763,233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54100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3,936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56386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227,628,103,171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58672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60.79 %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60958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15,854,175,832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181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Persons Serve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541008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*Average Medicaid Payment Per Person Serve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56386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Net Reported Medicaid Expenditur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58672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Federal Medical Assistance Percentag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6095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DSH Expenditur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5486400"/>
            <a:ext cx="365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Calculated using 2000 MSIS payment data and persons served. See Chart 29 for MSIS payments (not shown above). All other figures shown from CMS-64.  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Note</a:t>
            </a: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: Persons served are enrollees for whom a Medicaid claim was paid during the year or, beginning in 1998, on whose behalf Medicaid made premium payments to managed care entities or private health insurance organizations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3366"/>
                </a:solidFill>
                <a:latin typeface="Arial"/>
              </a:rPr>
              <a:t>Source:</a:t>
            </a:r>
            <a:r>
              <a:rPr b="0" i="1" lang="en-US" sz="700" spc="-1" strike="noStrike">
                <a:solidFill>
                  <a:srgbClr val="003366"/>
                </a:solidFill>
                <a:latin typeface="Arial"/>
              </a:rPr>
              <a:t> CMS/Office of Research, Development, and Information, MSIS and CMS‑64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States Tota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2133720"/>
            <a:ext cx="1752480" cy="304560"/>
          </a:xfrm>
          <a:prstGeom prst="rect">
            <a:avLst/>
          </a:prstGeom>
          <a:noFill/>
          <a:ln w="9360">
            <a:solidFill>
              <a:srgbClr val="f9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8360" y="1447920"/>
            <a:ext cx="530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For State-Specific Information, Choose A State From The Drop-Down Menu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CMS2cologotrans" descr=""/>
          <p:cNvPicPr/>
          <p:nvPr/>
        </p:nvPicPr>
        <p:blipFill>
          <a:blip r:embed="rId4"/>
          <a:stretch/>
        </p:blipFill>
        <p:spPr>
          <a:xfrm>
            <a:off x="6629400" y="228600"/>
            <a:ext cx="14320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3:08:53Z</dcterms:created>
  <dc:creator>.</dc:creator>
  <dc:description/>
  <dc:language>en-US</dc:language>
  <cp:lastModifiedBy>CMS</cp:lastModifiedBy>
  <dcterms:modified xsi:type="dcterms:W3CDTF">2004-04-05T19:29:05Z</dcterms:modified>
  <cp:revision>302</cp:revision>
  <dc:subject/>
  <dc:title>PowerPoint Presentation</dc:title>
</cp:coreProperties>
</file>